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325B0-3B5F-4627-A39A-CF8EAAECF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8"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9"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4AE7F-2F0A-46F9-9D21-227BCC0F8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4"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CC67D-0D86-4C0B-A9B3-2E1F5A2D8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6"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7"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8"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9"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0"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1"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C89A6-1373-44D1-910B-B16A4B1C7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8DE4B0-C287-4FD7-B3CD-A65984AEFB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49"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AD538-5FF8-4E76-9F5A-6B7BDA1F0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1"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73850-1402-4E44-AA18-419741556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3"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554AF-A517-4812-B2F4-9BE12D439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A926D-68E1-4581-AE22-A0C4A6445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030B8-EAE9-4E7B-9C0A-B0EC1D9A2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A35D0-AA61-49E7-8BD2-93F70F287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B5DF3-D2A2-4B85-AFB2-3F5329BC7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2"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3"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4"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54A99-ED7A-44F5-A7D9-EC972EAC8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8"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5C55E-D4D7-42AB-8A10-B89663FEC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0"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1"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B0873-6500-4F6F-A4FC-B7E6539E7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4"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6"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027007-F0A0-441E-A860-D4B4F4B87A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8"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9"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0"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1"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2"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3"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440BAC-B4FC-4D70-85B0-F430F138E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55F738-75F0-4BB7-8B00-2A6BBEE3C0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1"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F2667C-3396-4AE7-9FF6-C08FAD6B7E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3"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EFBE52-DDB1-4CA0-BCCC-979273315D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6"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92CC2F-8EEC-4C7E-852E-6CCDFEC4B6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216F56-3AE8-4F44-BB4B-A7B13B6824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AC9EC-6EA1-4CF2-9BC2-EEC263399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0782D8-B3AA-4ACF-B5EE-16682A342D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0"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1"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2"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5FCB34-8791-4C39-B19F-9C3861A676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4"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6"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A9A9D8-67FF-4C65-9496-2419799805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0"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268227-11B7-4470-98D4-1AE13323B0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2"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3"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8C47BD-C2B3-4621-8DC2-6A6CCB0D04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5"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7"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8"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816B91-A5BE-4596-94F1-25E1F57EEC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20"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1"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2"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3"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4"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5"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0917ED-FA60-4795-A136-4AF4EA3A22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CF7711-3A21-43E6-BFEE-037B012613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2"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B87935-D5F7-4511-ACA4-DD97A18A11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4"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E9ACC1-1273-4B4C-84C0-C2119A541A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5029D-87BC-4D72-8DD9-EE23CD168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6"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3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0AAF40-06E6-4E00-AC8C-DFAA192BCB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175EFD-FB02-4B49-87BB-3976556BDF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A0B0FA-CDA6-4C57-93C7-FBEEAF50F8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DC7C81-4CDC-41AD-A8A5-E4AFE161BE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7"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9CE485-F88A-4A6E-B186-B20514B305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9"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0"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1"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C4AAE0-3B9D-4AFB-BAAE-661E988317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3"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4"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4491BD-B19E-4B20-9881-AE7D346637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9"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A78CBC-3BB4-4845-BCE4-E9509A146C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1"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2"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3"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4"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5"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6"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1FA8D6-3701-417B-9692-A760F34FD5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C987C0-06F6-4D7C-B6F2-AFA381F181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BBF4E-5D33-41C7-A7CE-267D5E5D0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4"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75EF48-DA9A-44F3-AAC9-12C761CFBC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6"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88B7E7-2675-48AE-A83D-59D4174BE8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8"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B7EF5A-0CBC-47BC-9966-1529F9C326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ADFB06-2D65-44C3-A7C8-6755B44641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452F8E-3D4C-4626-BC17-3D6421AC30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0174B2-8969-4E8D-925F-B69C2073F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7"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8"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9"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AF2739-A56B-4776-9075-DD8BA945B3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3"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1D3C2D-0471-4708-909A-3A0BC61E4C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5"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6"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85964F-7663-4FF6-9533-6D7CC974E8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1"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5BE2B3-DDCB-48A5-8F7C-489AA31337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419A2-D214-4AFD-8A82-759D98149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3"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4"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5"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6"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7"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8"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DCC1AE-B5D1-492C-B8F9-55B74D9225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22A62-B120-4749-A473-F29AE16CC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1"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2"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C1859-FA59-4E5B-B1F5-26B635DE0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4"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6"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F7FD4-458B-43AA-A5E0-95EFCE43A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0" name="Rectangle 6"/>
          <p:cNvSpPr/>
          <p:nvPr/>
        </p:nvSpPr>
        <p:spPr>
          <a:xfrm>
            <a:off x="0" y="176040"/>
            <a:ext cx="9142560" cy="164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2"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3" name="PlaceHolder 3"/>
          <p:cNvSpPr>
            <a:spLocks noGrp="1"/>
          </p:cNvSpPr>
          <p:nvPr>
            <p:ph type="dt" idx="1"/>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 name="PlaceHolder 5"/>
          <p:cNvSpPr>
            <a:spLocks noGrp="1"/>
          </p:cNvSpPr>
          <p:nvPr>
            <p:ph type="sldNum" idx="3"/>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297DFB-0FB6-4564-8D8E-10BA2198C07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42" name="Rectangle 6"/>
          <p:cNvSpPr/>
          <p:nvPr/>
        </p:nvSpPr>
        <p:spPr>
          <a:xfrm>
            <a:off x="-4680" y="2058840"/>
            <a:ext cx="9147240" cy="182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4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44"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45" name="PlaceHolder 3"/>
          <p:cNvSpPr>
            <a:spLocks noGrp="1"/>
          </p:cNvSpPr>
          <p:nvPr>
            <p:ph type="dt" idx="4"/>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47" name="PlaceHolder 5"/>
          <p:cNvSpPr>
            <a:spLocks noGrp="1"/>
          </p:cNvSpPr>
          <p:nvPr>
            <p:ph type="sldNum" idx="6"/>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4F2133-E162-4B5A-B364-18E92E1B13C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4680" y="2058840"/>
            <a:ext cx="9147240" cy="1828800"/>
          </a:xfrm>
          <a:prstGeom prst="rect">
            <a:avLst/>
          </a:prstGeom>
          <a:solidFill>
            <a:srgbClr val="099b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8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orbel"/>
              </a:rPr>
              <a:t>Click to edit the title text format</a:t>
            </a:r>
            <a:endParaRPr b="0" lang="en-US" sz="4000" spc="-1" strike="noStrike">
              <a:solidFill>
                <a:srgbClr val="f2f2f2"/>
              </a:solidFill>
              <a:latin typeface="Corbel"/>
            </a:endParaRPr>
          </a:p>
        </p:txBody>
      </p:sp>
      <p:sp>
        <p:nvSpPr>
          <p:cNvPr id="86"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Click to edit the outline text format</a:t>
            </a:r>
            <a:endParaRPr b="0" lang="en-US" sz="2200" spc="-1" strike="noStrike">
              <a:solidFill>
                <a:srgbClr val="2c2c2c"/>
              </a:solidFill>
              <a:latin typeface="Corbel"/>
            </a:endParaRPr>
          </a:p>
          <a:p>
            <a:pPr lvl="1" marL="4111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cond Outline Level</a:t>
            </a:r>
            <a:endParaRPr b="0" lang="en-US" sz="2200" spc="-1" strike="noStrike">
              <a:solidFill>
                <a:srgbClr val="2c2c2c"/>
              </a:solidFill>
              <a:latin typeface="Corbel"/>
            </a:endParaRPr>
          </a:p>
          <a:p>
            <a:pPr lvl="2" marL="6397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Third Outline Level</a:t>
            </a:r>
            <a:endParaRPr b="0" lang="en-US" sz="2200" spc="-1" strike="noStrike">
              <a:solidFill>
                <a:srgbClr val="2c2c2c"/>
              </a:solidFill>
              <a:latin typeface="Corbel"/>
            </a:endParaRPr>
          </a:p>
          <a:p>
            <a:pPr lvl="3" marL="8683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ourth Outline Level</a:t>
            </a:r>
            <a:endParaRPr b="0" lang="en-US" sz="2200" spc="-1" strike="noStrike">
              <a:solidFill>
                <a:srgbClr val="2c2c2c"/>
              </a:solidFill>
              <a:latin typeface="Corbel"/>
            </a:endParaRPr>
          </a:p>
          <a:p>
            <a:pPr lvl="4"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ifth Outline Level</a:t>
            </a:r>
            <a:endParaRPr b="0" lang="en-US" sz="2200" spc="-1" strike="noStrike">
              <a:solidFill>
                <a:srgbClr val="2c2c2c"/>
              </a:solidFill>
              <a:latin typeface="Corbel"/>
            </a:endParaRPr>
          </a:p>
          <a:p>
            <a:pPr lvl="5"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ixth Outline Level</a:t>
            </a:r>
            <a:endParaRPr b="0" lang="en-US" sz="2200" spc="-1" strike="noStrike">
              <a:solidFill>
                <a:srgbClr val="2c2c2c"/>
              </a:solidFill>
              <a:latin typeface="Corbel"/>
            </a:endParaRPr>
          </a:p>
          <a:p>
            <a:pPr lvl="6"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venth Outline Level</a:t>
            </a:r>
            <a:endParaRPr b="0" lang="en-US" sz="2200" spc="-1" strike="noStrike">
              <a:solidFill>
                <a:srgbClr val="2c2c2c"/>
              </a:solidFill>
              <a:latin typeface="Corbel"/>
            </a:endParaRPr>
          </a:p>
        </p:txBody>
      </p:sp>
      <p:sp>
        <p:nvSpPr>
          <p:cNvPr id="87" name="PlaceHolder 3"/>
          <p:cNvSpPr>
            <a:spLocks noGrp="1"/>
          </p:cNvSpPr>
          <p:nvPr>
            <p:ph type="dt" idx="7"/>
          </p:nvPr>
        </p:nvSpPr>
        <p:spPr>
          <a:xfrm>
            <a:off x="681120" y="6423120"/>
            <a:ext cx="2595600" cy="365040"/>
          </a:xfrm>
          <a:prstGeom prst="rect">
            <a:avLst/>
          </a:prstGeom>
          <a:noFill/>
          <a:ln w="0">
            <a:noFill/>
          </a:ln>
        </p:spPr>
        <p:txBody>
          <a:bodyPr lIns="90000" rIns="4572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99bd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99bdd"/>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89" name="PlaceHolder 5"/>
          <p:cNvSpPr>
            <a:spLocks noGrp="1"/>
          </p:cNvSpPr>
          <p:nvPr>
            <p:ph type="sldNum" idx="9"/>
          </p:nvPr>
        </p:nvSpPr>
        <p:spPr>
          <a:xfrm>
            <a:off x="8264160" y="6423120"/>
            <a:ext cx="709560" cy="365040"/>
          </a:xfrm>
          <a:prstGeom prst="rect">
            <a:avLst/>
          </a:prstGeom>
          <a:noFill/>
          <a:ln w="0">
            <a:noFill/>
          </a:ln>
        </p:spPr>
        <p:txBody>
          <a:bodyPr lIns="4572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99bd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68DC0-4859-4625-8397-8C14861DFA59}" type="slidenum">
              <a:rPr b="0" lang="nl-NL" sz="1200" spc="-1" strike="noStrike">
                <a:solidFill>
                  <a:srgbClr val="099bd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27"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28" name="PlaceHolder 3"/>
          <p:cNvSpPr>
            <a:spLocks noGrp="1"/>
          </p:cNvSpPr>
          <p:nvPr>
            <p:ph type="dt" idx="10"/>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9" name="PlaceHolder 4"/>
          <p:cNvSpPr>
            <a:spLocks noGrp="1"/>
          </p:cNvSpPr>
          <p:nvPr>
            <p:ph type="ftr" idx="11"/>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30" name="PlaceHolder 5"/>
          <p:cNvSpPr>
            <a:spLocks noGrp="1"/>
          </p:cNvSpPr>
          <p:nvPr>
            <p:ph type="sldNum" idx="12"/>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6B97D9-1062-4A42-ACAF-58A51E13D86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67" name="Rectangle 6"/>
          <p:cNvSpPr/>
          <p:nvPr/>
        </p:nvSpPr>
        <p:spPr>
          <a:xfrm>
            <a:off x="6764400" y="0"/>
            <a:ext cx="20574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6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69"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70" name="PlaceHolder 3"/>
          <p:cNvSpPr>
            <a:spLocks noGrp="1"/>
          </p:cNvSpPr>
          <p:nvPr>
            <p:ph type="dt" idx="13"/>
          </p:nvPr>
        </p:nvSpPr>
        <p:spPr>
          <a:xfrm>
            <a:off x="628200" y="6423120"/>
            <a:ext cx="20574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1" name="PlaceHolder 4"/>
          <p:cNvSpPr>
            <a:spLocks noGrp="1"/>
          </p:cNvSpPr>
          <p:nvPr>
            <p:ph type="ftr" idx="14"/>
          </p:nvPr>
        </p:nvSpPr>
        <p:spPr>
          <a:xfrm>
            <a:off x="2832120" y="6423120"/>
            <a:ext cx="3209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72" name="PlaceHolder 5"/>
          <p:cNvSpPr>
            <a:spLocks noGrp="1"/>
          </p:cNvSpPr>
          <p:nvPr>
            <p:ph type="sldNum" idx="15"/>
          </p:nvPr>
        </p:nvSpPr>
        <p:spPr>
          <a:xfrm>
            <a:off x="6054840" y="6423120"/>
            <a:ext cx="66024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09AE91-203F-4948-9EE0-9E8AA8E20FA6}" type="slidenum">
              <a:rPr b="0" lang="nl-N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74680" y="2166480"/>
            <a:ext cx="8602560" cy="17384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99bdd"/>
                </a:solidFill>
                <a:latin typeface="Corbel"/>
              </a:rPr>
              <a:t>INTERVISIE</a:t>
            </a:r>
            <a:endParaRPr b="0" lang="en-US" sz="6000" spc="-1" strike="noStrike">
              <a:solidFill>
                <a:srgbClr val="099bdd"/>
              </a:solidFill>
              <a:latin typeface="Corbel"/>
            </a:endParaRPr>
          </a:p>
        </p:txBody>
      </p:sp>
      <p:sp>
        <p:nvSpPr>
          <p:cNvPr id="210" name="PlaceHolder 2"/>
          <p:cNvSpPr>
            <a:spLocks noGrp="1"/>
          </p:cNvSpPr>
          <p:nvPr>
            <p:ph type="subTitle"/>
          </p:nvPr>
        </p:nvSpPr>
        <p:spPr>
          <a:xfrm>
            <a:off x="1143000" y="3970440"/>
            <a:ext cx="6858000" cy="1309680"/>
          </a:xfrm>
          <a:prstGeom prst="rect">
            <a:avLst/>
          </a:prstGeom>
          <a:noFill/>
          <a:ln w="0">
            <a:noFill/>
          </a:ln>
        </p:spPr>
        <p:txBody>
          <a:bodyPr lIns="0" rIns="0" tIns="0" bIns="0"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Arial Bold"/>
              </a:rPr>
              <a:t>TOT SLOT</a:t>
            </a:r>
            <a:endParaRPr b="0" lang="en-US" sz="4000" spc="-1" strike="noStrike">
              <a:solidFill>
                <a:srgbClr val="099bdd"/>
              </a:solidFill>
              <a:latin typeface="Corbel"/>
            </a:endParaRPr>
          </a:p>
        </p:txBody>
      </p:sp>
      <p:sp>
        <p:nvSpPr>
          <p:cNvPr id="229" name=""/>
          <p:cNvSpPr txBox="1"/>
          <p:nvPr/>
        </p:nvSpPr>
        <p:spPr>
          <a:xfrm>
            <a:off x="539280" y="1989000"/>
            <a:ext cx="8015400" cy="3973680"/>
          </a:xfrm>
          <a:prstGeom prst="rect">
            <a:avLst/>
          </a:prstGeom>
          <a:noFill/>
          <a:ln w="0">
            <a:noFill/>
          </a:ln>
        </p:spPr>
        <p:txBody>
          <a:bodyPr anchor="t">
            <a:normAutofit/>
          </a:bodyPr>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Intervisie doe je voor jezelf</a:t>
            </a: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Je eigen kwaliteit en professionalisering is er mee gediend</a:t>
            </a: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Toon je enthousiasme en inzet voor een goed verloop van de intervisie en je groei als professional</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BRUIKBARE METHODEN</a:t>
            </a:r>
            <a:endParaRPr b="0" lang="en-US" sz="4000" spc="-1" strike="noStrike">
              <a:solidFill>
                <a:srgbClr val="099bdd"/>
              </a:solidFill>
              <a:latin typeface="Corbel"/>
            </a:endParaRPr>
          </a:p>
        </p:txBody>
      </p:sp>
      <p:sp>
        <p:nvSpPr>
          <p:cNvPr id="231"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Incident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Balint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Maar ook bijvoorbeel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5 stappen 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10 stappen 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Roddelmethode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nz.</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CIDENTMETHODE</a:t>
            </a:r>
            <a:endParaRPr b="0" lang="en-US" sz="4000" spc="-1" strike="noStrike">
              <a:solidFill>
                <a:srgbClr val="099bdd"/>
              </a:solidFill>
              <a:latin typeface="Corbel"/>
            </a:endParaRPr>
          </a:p>
        </p:txBody>
      </p:sp>
      <p:sp>
        <p:nvSpPr>
          <p:cNvPr id="233" name=""/>
          <p:cNvSpPr txBox="1"/>
          <p:nvPr/>
        </p:nvSpPr>
        <p:spPr>
          <a:xfrm>
            <a:off x="685800" y="2011320"/>
            <a:ext cx="7772400" cy="4206960"/>
          </a:xfrm>
          <a:prstGeom prst="rect">
            <a:avLst/>
          </a:prstGeom>
          <a:noFill/>
          <a:ln w="0">
            <a:noFill/>
          </a:ln>
        </p:spPr>
        <p:txBody>
          <a:bodyPr anchor="t">
            <a:normAutofit fontScale="91000"/>
          </a:bodyPr>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1. - Introductie en keuze van een praatpapier (1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2. - Schetsen van de situatie door de inbrenger (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3. - Noteren van vragen om informatie door de deelnemers (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4. - Informatieronde: stellen van de vragen aan de inbrenger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5. - Analyse van de situatie: deelnemers doen dit op papier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6. - Standpuntbepalingen uitwisselen in de groep (1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7. - Wat deed de inbrenger (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8. - Afsluitende discussie (1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9. - Evaluatie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TRODUCTIE </a:t>
            </a:r>
            <a:endParaRPr b="0" lang="en-US" sz="4000" spc="-1" strike="noStrike">
              <a:solidFill>
                <a:srgbClr val="099bdd"/>
              </a:solidFill>
              <a:latin typeface="Corbel"/>
            </a:endParaRPr>
          </a:p>
        </p:txBody>
      </p:sp>
      <p:sp>
        <p:nvSpPr>
          <p:cNvPr id="235"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an te voren afspraken maken over inbreng, wie wanneer een praatpapier enz.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Hoe gaan jullie om met iemand die een acuut probleem heef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SCHETSEN VAN DE SITUATIE</a:t>
            </a:r>
            <a:endParaRPr b="0" lang="en-US" sz="4000" spc="-1" strike="noStrike">
              <a:solidFill>
                <a:srgbClr val="099bdd"/>
              </a:solidFill>
              <a:latin typeface="Corbel"/>
            </a:endParaRPr>
          </a:p>
        </p:txBody>
      </p:sp>
      <p:sp>
        <p:nvSpPr>
          <p:cNvPr id="237"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e schets van degene die het probleem inbrengt, zonder dat zij bespreekt hoe zij de situatie “opgelost” heef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NOTEREN VRAGEN</a:t>
            </a:r>
            <a:endParaRPr b="0" lang="en-US" sz="4000" spc="-1" strike="noStrike">
              <a:solidFill>
                <a:srgbClr val="099bdd"/>
              </a:solidFill>
              <a:latin typeface="Corbel"/>
            </a:endParaRPr>
          </a:p>
        </p:txBody>
      </p:sp>
      <p:sp>
        <p:nvSpPr>
          <p:cNvPr id="23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Noteer vragen schriftelijk door een ieder individueel. Dit maakt dat je niet “afgeleid” wordt door de vragen van een ander. </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FORMATIERONDE</a:t>
            </a:r>
            <a:endParaRPr b="0" lang="en-US" sz="4000" spc="-1" strike="noStrike">
              <a:solidFill>
                <a:srgbClr val="099bdd"/>
              </a:solidFill>
              <a:latin typeface="Corbel"/>
            </a:endParaRPr>
          </a:p>
        </p:txBody>
      </p:sp>
      <p:sp>
        <p:nvSpPr>
          <p:cNvPr id="241"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Stel de vragen aan de inbrenger. Stel feitelijke vragen, niet suggestief of oplossen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en vraag per persoo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en discussie.</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ALYSE</a:t>
            </a:r>
            <a:endParaRPr b="0" lang="en-US" sz="4000" spc="-1" strike="noStrike">
              <a:solidFill>
                <a:srgbClr val="099bdd"/>
              </a:solidFill>
              <a:latin typeface="Corbel"/>
            </a:endParaRPr>
          </a:p>
        </p:txBody>
      </p:sp>
      <p:sp>
        <p:nvSpPr>
          <p:cNvPr id="243"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Ontrafelen wat er aan de hand is en de kern van het probleem helder wordt.</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Nog geen oplossingen en geen feitelijke vragen meer stellen aan inbrenger</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an het einde kan inbrenger kort reageren, aanvullen of corrigeren</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STANDPUNTBEPALING</a:t>
            </a:r>
            <a:endParaRPr b="0" lang="en-US" sz="4000" spc="-1" strike="noStrike">
              <a:solidFill>
                <a:srgbClr val="099bdd"/>
              </a:solidFill>
              <a:latin typeface="Corbel"/>
            </a:endParaRPr>
          </a:p>
        </p:txBody>
      </p:sp>
      <p:sp>
        <p:nvSpPr>
          <p:cNvPr id="245"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 omschrijven individueel wat jouw analyse is en hoe jij het zou oplosse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AT DEED DE INBRENGER?</a:t>
            </a:r>
            <a:endParaRPr b="0" lang="en-US" sz="4000" spc="-1" strike="noStrike">
              <a:solidFill>
                <a:srgbClr val="099bdd"/>
              </a:solidFill>
              <a:latin typeface="Corbel"/>
            </a:endParaRPr>
          </a:p>
        </p:txBody>
      </p:sp>
      <p:sp>
        <p:nvSpPr>
          <p:cNvPr id="247"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De inbrenger vertelt kort wat zij in de situatie heeft gedaa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PROGRAMMA VANDAAG</a:t>
            </a:r>
            <a:endParaRPr b="0" lang="en-US" sz="4000" spc="-1" strike="noStrike">
              <a:solidFill>
                <a:srgbClr val="099bdd"/>
              </a:solidFill>
              <a:latin typeface="Corbel"/>
            </a:endParaRPr>
          </a:p>
        </p:txBody>
      </p:sp>
      <p:sp>
        <p:nvSpPr>
          <p:cNvPr id="212"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e uitleg intervisie</a:t>
            </a:r>
            <a:endParaRPr b="0" lang="en-US" sz="22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Uitleg incidentmethode</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DISCUSSIE EN EVALUATIE</a:t>
            </a:r>
            <a:endParaRPr b="0" lang="en-US" sz="4000" spc="-1" strike="noStrike">
              <a:solidFill>
                <a:srgbClr val="099bdd"/>
              </a:solidFill>
              <a:latin typeface="Corbel"/>
            </a:endParaRPr>
          </a:p>
        </p:txBody>
      </p:sp>
      <p:sp>
        <p:nvSpPr>
          <p:cNvPr id="24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Iedereen geeft zijn analyse en oplossing</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Deze worden met elkaar besproken en bediscussieer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Tot slot evalueren jullie de bijeenkoms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1"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door bijvoorbeeld met:</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at bedoel je me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e deed da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e in het bijzond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anne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un je een concreet voorbeeld geven va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3"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door op generalisaties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ldt dat voor het hele projectteam?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l je zeggen dat je altij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n later: wie dan wel of wanneer in het bijzond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5"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om toelichting en concretisering bij vervormingen,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Ik heb met ze afgesproken dat….” Kan een vervorming zijn van: Ik heb ze opgedragen dat…. Of, ze hebben mij de taak/opdracht gegeven om….. Vraag: Hoe heb je dat afgesproke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7"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naar weggelaten woorden of zinsdelen,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Kritiek incasseren is moeilijk voor me.” Vraag: van wie en over wa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Het is verkeerd om…….” Vraag: wie vindt het voor wie verkeerd om?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DERE AANDACHTSPUNTEN</a:t>
            </a:r>
            <a:endParaRPr b="0" lang="en-US" sz="4000" spc="-1" strike="noStrike">
              <a:solidFill>
                <a:srgbClr val="099bdd"/>
              </a:solidFill>
              <a:latin typeface="Corbel"/>
            </a:endParaRPr>
          </a:p>
        </p:txBody>
      </p:sp>
      <p:sp>
        <p:nvSpPr>
          <p:cNvPr id="25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Laat de probleeminbrenger de keuze met welk probleem of deelaspect hij/zij het eerste wil doorgaa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Laat de probleeminbrenger het werk zoveel mogelijk zelf doe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bruik bij voorkeur voornaamwoorden als: wat, wie, wiens, welk, waar, wanneer, waartoe. Wees zuinig met hoe-vragen en vermijd waarom-vrage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DERE AANDACHTSPUNTEN</a:t>
            </a:r>
            <a:endParaRPr b="0" lang="en-US" sz="4000" spc="-1" strike="noStrike">
              <a:solidFill>
                <a:srgbClr val="099bdd"/>
              </a:solidFill>
              <a:latin typeface="Corbel"/>
            </a:endParaRPr>
          </a:p>
        </p:txBody>
      </p:sp>
      <p:sp>
        <p:nvSpPr>
          <p:cNvPr id="261"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Maak je eigen gedachten of waarnemingen expliciet. Bijvoorbeeld: “Ik heb de indruk dat onderwerp X een zijspoor is. Wat is voor jou het belang van onderwerp X voor je probleem Y?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Schenk aandacht aan je waarnemingen van non-verbale signalen (stemvolume, toon, gebaren, steeds naar de grond kijken). Als zulke signalen meer de aandacht vragen dan de inhoud van het gesprek, dan is het goed om die signalen aandacht te geve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nl-NL" sz="3600" spc="-1" strike="noStrike">
                <a:solidFill>
                  <a:srgbClr val="099bdd"/>
                </a:solidFill>
                <a:latin typeface="Corbel"/>
              </a:rPr>
              <a:t>WAAROM INTERVISIE?</a:t>
            </a:r>
            <a:br>
              <a:rPr sz="3600"/>
            </a:br>
            <a:endParaRPr b="0" lang="en-US" sz="3600" spc="-1" strike="noStrike">
              <a:solidFill>
                <a:srgbClr val="099bdd"/>
              </a:solidFill>
              <a:latin typeface="Corbel"/>
            </a:endParaRPr>
          </a:p>
        </p:txBody>
      </p:sp>
      <p:sp>
        <p:nvSpPr>
          <p:cNvPr id="214" name=""/>
          <p:cNvSpPr txBox="1"/>
          <p:nvPr/>
        </p:nvSpPr>
        <p:spPr>
          <a:xfrm>
            <a:off x="179280" y="1557000"/>
            <a:ext cx="8964720" cy="491004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Als Professional wordt van je verwacht dat je inzicht hebt in </a:t>
            </a:r>
            <a:r>
              <a:rPr b="0" lang="nl-NL" sz="2000" spc="-1" strike="noStrike">
                <a:solidFill>
                  <a:srgbClr val="ffffff"/>
                </a:solidFill>
                <a:latin typeface="Corbel"/>
              </a:rPr>
              <a:t>	</a:t>
            </a:r>
            <a:r>
              <a:rPr b="0" lang="nl-NL" sz="2000" spc="-1" strike="noStrike">
                <a:solidFill>
                  <a:srgbClr val="ffffff"/>
                </a:solidFill>
                <a:latin typeface="Corbel"/>
              </a:rPr>
              <a:t>de relatie tussen:</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professionele opvattingen over het beroep van leraar</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persoonlijke opvattingen over het beroep van leraar       </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en eigen handelen</a:t>
            </a: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eigen waarden en normen</a:t>
            </a: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eigen emoties</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
        <p:nvSpPr>
          <p:cNvPr id="215" name="Rechteraccolade 3"/>
          <p:cNvSpPr/>
          <p:nvPr/>
        </p:nvSpPr>
        <p:spPr>
          <a:xfrm>
            <a:off x="6732720" y="2637000"/>
            <a:ext cx="215640" cy="2087280"/>
          </a:xfrm>
          <a:custGeom>
            <a:avLst/>
            <a:gdLst>
              <a:gd name="textAreaLeft" fmla="*/ 0 w 215640"/>
              <a:gd name="textAreaRight" fmla="*/ 77760 w 215640"/>
              <a:gd name="textAreaTop" fmla="*/ 5400 h 2087280"/>
              <a:gd name="textAreaBottom" fmla="*/ 2081880 h 2087280"/>
            </a:gdLst>
            <a:ahLst/>
            <a:rect l="textAreaLeft" t="textAreaTop" r="textAreaRight" b="textAreaBottom"/>
            <a:pathLst>
              <a:path w="21600" h="21600">
                <a:moveTo>
                  <a:pt x="0" y="0"/>
                </a:moveTo>
                <a:cubicBezTo>
                  <a:pt x="5400" y="0"/>
                  <a:pt x="10800" y="93"/>
                  <a:pt x="10800" y="186"/>
                </a:cubicBezTo>
                <a:lnTo>
                  <a:pt x="10800" y="10614"/>
                </a:lnTo>
                <a:cubicBezTo>
                  <a:pt x="10800" y="10707"/>
                  <a:pt x="16200" y="10800"/>
                  <a:pt x="21600" y="10800"/>
                </a:cubicBezTo>
                <a:cubicBezTo>
                  <a:pt x="16200" y="10800"/>
                  <a:pt x="10800" y="10893"/>
                  <a:pt x="10800" y="10986"/>
                </a:cubicBezTo>
                <a:lnTo>
                  <a:pt x="10800" y="21414"/>
                </a:lnTo>
                <a:cubicBezTo>
                  <a:pt x="10800" y="21507"/>
                  <a:pt x="5400" y="21600"/>
                  <a:pt x="0" y="21600"/>
                </a:cubicBezTo>
              </a:path>
            </a:pathLst>
          </a:custGeom>
          <a:solidFill>
            <a:srgbClr val="ffc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39280" y="-36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99bdd"/>
                </a:solidFill>
                <a:latin typeface="Corbel"/>
              </a:rPr>
              <a:t>UITGANGSPUNTEN</a:t>
            </a:r>
            <a:endParaRPr b="0" lang="en-US" sz="4000" spc="-1" strike="noStrike">
              <a:solidFill>
                <a:srgbClr val="099bdd"/>
              </a:solidFill>
              <a:latin typeface="Corbel"/>
            </a:endParaRPr>
          </a:p>
        </p:txBody>
      </p:sp>
      <p:sp>
        <p:nvSpPr>
          <p:cNvPr id="217" name=""/>
          <p:cNvSpPr txBox="1"/>
          <p:nvPr/>
        </p:nvSpPr>
        <p:spPr>
          <a:xfrm>
            <a:off x="179280" y="1557000"/>
            <a:ext cx="8856720" cy="491004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1. Centraal staat: jij als professional en jouw handelen. </a:t>
            </a: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Corbel"/>
              </a:rPr>
              <a:t>Het probleem dat wordt ingebracht is een aanleiding.</a:t>
            </a:r>
            <a:endParaRPr b="0" lang="en-US" sz="18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2. In principe worden geen kant en klare oplossingen of oordelen gegev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3. Gespreksleider bewaakt de fasering van de intervisie.</a:t>
            </a: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DOELSTELLINGEN INTERVISIE</a:t>
            </a:r>
            <a:endParaRPr b="0" lang="en-US" sz="4000" spc="-1" strike="noStrike">
              <a:solidFill>
                <a:srgbClr val="099bdd"/>
              </a:solidFill>
              <a:latin typeface="Corbel"/>
            </a:endParaRPr>
          </a:p>
        </p:txBody>
      </p:sp>
      <p:sp>
        <p:nvSpPr>
          <p:cNvPr id="219" name=""/>
          <p:cNvSpPr txBox="1"/>
          <p:nvPr/>
        </p:nvSpPr>
        <p:spPr>
          <a:xfrm>
            <a:off x="685800" y="2011320"/>
            <a:ext cx="7772400" cy="4206960"/>
          </a:xfrm>
          <a:prstGeom prst="rect">
            <a:avLst/>
          </a:prstGeom>
          <a:noFill/>
          <a:ln w="0">
            <a:noFill/>
          </a:ln>
        </p:spPr>
        <p:txBody>
          <a:bodyPr anchor="t">
            <a:normAutofit fontScale="99000"/>
          </a:bodyPr>
          <a:p>
            <a:pPr marL="180360" indent="-18036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Arial"/>
              </a:rPr>
              <a:t>Vergroten van inzicht in je eigen mogelijkheden en onmogelijkheden als Leraar G&amp;W. (</a:t>
            </a:r>
            <a:r>
              <a:rPr b="0" lang="nl-NL" sz="1800" spc="-1" strike="noStrike">
                <a:solidFill>
                  <a:srgbClr val="ffffff"/>
                </a:solidFill>
                <a:latin typeface="Corbel"/>
                <a:ea typeface="Arial"/>
              </a:rPr>
              <a:t>Dit doe je door middel van het bespreken van probleemsituaties die je ervaart in onderwijssituaties en begeleidingssituaties van leerlingen en groepen.</a:t>
            </a:r>
            <a:endParaRPr b="0" lang="en-US" sz="18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Bieden van een nieuw perspectief op / inzicht in een situatie</a:t>
            </a: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Probleem kan verder of op een andere wijze worden aangepakt of benaderd</a:t>
            </a: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Leren en professionaliseren met, door en van elkaar</a:t>
            </a:r>
            <a:endParaRPr b="0" lang="en-US" sz="20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99bdd"/>
                </a:solidFill>
                <a:latin typeface="Corbel"/>
              </a:rPr>
              <a:t>KERNPROBLEMEN STAAN CENTRAAL</a:t>
            </a:r>
            <a:endParaRPr b="0" lang="en-US" sz="3200" spc="-1" strike="noStrike">
              <a:solidFill>
                <a:srgbClr val="099bdd"/>
              </a:solidFill>
              <a:latin typeface="Corbel"/>
            </a:endParaRPr>
          </a:p>
        </p:txBody>
      </p:sp>
      <p:sp>
        <p:nvSpPr>
          <p:cNvPr id="221" name=""/>
          <p:cNvSpPr txBox="1"/>
          <p:nvPr/>
        </p:nvSpPr>
        <p:spPr>
          <a:xfrm>
            <a:off x="324000" y="1341360"/>
            <a:ext cx="8496000" cy="496728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Kernproblemen zij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kenmerkende en centrale beroepssituaties waarin een reactie gevraagd wordt op die situatie</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in principe niet oplosbaar (ze blijven altijd voorkom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Een continue spanningsveld waarin je je als beroepsbeoefenaar bevindt en waarin je steeds opnieuw keuzes moeten maken</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72216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INTERACTIEVOORWAARDEN</a:t>
            </a:r>
            <a:endParaRPr b="0" lang="en-US" sz="4000" spc="-1" strike="noStrike">
              <a:solidFill>
                <a:srgbClr val="099bdd"/>
              </a:solidFill>
              <a:latin typeface="Corbel"/>
            </a:endParaRPr>
          </a:p>
        </p:txBody>
      </p:sp>
      <p:sp>
        <p:nvSpPr>
          <p:cNvPr id="223" name=""/>
          <p:cNvSpPr txBox="1"/>
          <p:nvPr/>
        </p:nvSpPr>
        <p:spPr>
          <a:xfrm>
            <a:off x="324000" y="1557360"/>
            <a:ext cx="8496000" cy="439272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echtheid</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open staan voor elkaar</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goed luister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vragen om verduidelijking</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ik-taal</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stil kunnen zijn (nadenken / bezinning)</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elkaar uit laten prat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ook non-verbale signalen opvang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inhoud van de intervisie bespreking blijft binnen de intervisiegroep</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2520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4000" spc="-1" strike="noStrike">
                <a:solidFill>
                  <a:srgbClr val="099bdd"/>
                </a:solidFill>
                <a:latin typeface="Corbel"/>
              </a:rPr>
              <a:t>AANDACHT VOOR</a:t>
            </a:r>
            <a:endParaRPr b="0" lang="en-US" sz="4000" spc="-1" strike="noStrike">
              <a:solidFill>
                <a:srgbClr val="099bdd"/>
              </a:solidFill>
              <a:latin typeface="Corbel"/>
            </a:endParaRPr>
          </a:p>
        </p:txBody>
      </p:sp>
      <p:sp>
        <p:nvSpPr>
          <p:cNvPr id="225" name=""/>
          <p:cNvSpPr txBox="1"/>
          <p:nvPr/>
        </p:nvSpPr>
        <p:spPr>
          <a:xfrm>
            <a:off x="539280" y="1471320"/>
            <a:ext cx="8015400" cy="4405320"/>
          </a:xfrm>
          <a:prstGeom prst="rect">
            <a:avLst/>
          </a:prstGeom>
          <a:noFill/>
          <a:ln w="0">
            <a:noFill/>
          </a:ln>
        </p:spPr>
        <p:txBody>
          <a:bodyPr anchor="t">
            <a:normAutofit/>
          </a:bodyPr>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contract</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basisstructuur, doelgericht, systematisch</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motivatie</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veiligheid, onderling vertrouwen</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geloof in eigen kunnen</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herkenning</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betrouwbaarheid, integriteit</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gelijkwaardigheid</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verantwoordelijkheid</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tijd, ruimte, aantal deelnemers</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AFSPRAKEN INTERVISIEGROEP</a:t>
            </a:r>
            <a:endParaRPr b="0" lang="en-US" sz="4000" spc="-1" strike="noStrike">
              <a:solidFill>
                <a:srgbClr val="099bdd"/>
              </a:solidFill>
              <a:latin typeface="Corbel"/>
            </a:endParaRPr>
          </a:p>
        </p:txBody>
      </p:sp>
      <p:sp>
        <p:nvSpPr>
          <p:cNvPr id="227" name=""/>
          <p:cNvSpPr txBox="1"/>
          <p:nvPr/>
        </p:nvSpPr>
        <p:spPr>
          <a:xfrm>
            <a:off x="539280" y="1471320"/>
            <a:ext cx="8015400" cy="5126040"/>
          </a:xfrm>
          <a:prstGeom prst="rect">
            <a:avLst/>
          </a:prstGeom>
          <a:noFill/>
          <a:ln w="0">
            <a:noFill/>
          </a:ln>
        </p:spPr>
        <p:txBody>
          <a:bodyPr anchor="t">
            <a:normAutofit/>
          </a:bodyPr>
          <a:p>
            <a:pPr marL="457200" indent="-457200">
              <a:lnSpc>
                <a:spcPct val="7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Aantal deelnemers </a:t>
            </a:r>
            <a:r>
              <a:rPr b="0" lang="nl-NL" sz="1900" spc="-1" strike="noStrike">
                <a:solidFill>
                  <a:srgbClr val="ffffff"/>
                </a:solidFill>
                <a:latin typeface="Corbel"/>
                <a:ea typeface="Arial"/>
              </a:rPr>
              <a:t>per intervisiegroep: minimaal 5, maximaal 8</a:t>
            </a:r>
            <a:endParaRPr b="0" lang="en-US" sz="19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Werkwijze: </a:t>
            </a:r>
            <a:endParaRPr b="0" lang="en-US" sz="2200" spc="-1" strike="noStrike">
              <a:solidFill>
                <a:srgbClr val="ffffff"/>
              </a:solidFill>
              <a:latin typeface="Corbel"/>
            </a:endParaRPr>
          </a:p>
          <a:p>
            <a:pPr lvl="1" marL="411120" indent="-182520">
              <a:lnSpc>
                <a:spcPct val="7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Corbel"/>
                <a:ea typeface="Arial"/>
              </a:rPr>
              <a:t>  </a:t>
            </a:r>
            <a:r>
              <a:rPr b="0" lang="nl-NL" sz="1900" spc="-1" strike="noStrike">
                <a:solidFill>
                  <a:srgbClr val="ffffff"/>
                </a:solidFill>
                <a:latin typeface="Corbel"/>
                <a:ea typeface="Arial"/>
              </a:rPr>
              <a:t>Incidentmethode </a:t>
            </a:r>
            <a:endParaRPr b="0" lang="en-US" sz="1900" spc="-1" strike="noStrike">
              <a:solidFill>
                <a:srgbClr val="ffffff"/>
              </a:solidFill>
              <a:latin typeface="Corbel"/>
            </a:endParaRPr>
          </a:p>
          <a:p>
            <a:pPr lvl="1" marL="411120" indent="-182520">
              <a:lnSpc>
                <a:spcPct val="7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Corbel"/>
                <a:ea typeface="Arial"/>
              </a:rPr>
              <a:t>Balintmethode</a:t>
            </a:r>
            <a:endParaRPr b="0" lang="en-US" sz="1900" spc="-1" strike="noStrike">
              <a:solidFill>
                <a:srgbClr val="ffffff"/>
              </a:solidFill>
              <a:latin typeface="Corbel"/>
            </a:endParaRPr>
          </a:p>
          <a:p>
            <a:pPr lvl="1" marL="411120" indent="-182520">
              <a:lnSpc>
                <a:spcPct val="7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Arial"/>
              </a:rPr>
              <a:t>Werkafspraken in groep</a:t>
            </a:r>
            <a:endParaRPr b="0" lang="en-US" sz="20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aanwezigheid</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inbre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verslagleggi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planni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evaluatie</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contactpersoon</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7T08:26:44Z</dcterms:created>
  <dc:creator>Saskia Lavooij</dc:creator>
  <dc:description/>
  <dc:language>en-US</dc:language>
  <cp:lastModifiedBy>Charlene Santos</cp:lastModifiedBy>
  <dcterms:modified xsi:type="dcterms:W3CDTF">2020-11-18T22:05:07Z</dcterms:modified>
  <cp:revision>10</cp:revision>
  <dc:subject/>
  <dc:title>Intervisie</dc:title>
</cp:coreProperties>
</file>