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6E3-FE13-4D30-AC06-E194719A5C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5565-22D0-4525-A0D4-901F347890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33C-781B-4E7B-A37D-7332AEB299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02C7-706A-45EA-AE17-FB76B5B961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D650-0A59-4D11-81C4-559ECB108B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11D0-6203-427F-8153-1B72DC7C01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D82-3484-44B3-AFDD-3062C1B580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10C-A889-483F-8F92-C2E61C1FFB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5BED-81DF-43E2-85CD-67A24310A3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051-B20C-44EB-9E2F-08410C314F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402-0E35-4632-91AC-0F160889CB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647B-CF7D-4AAD-9008-B11C8911DE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1693-B2EF-46A0-8B81-DC497F1FE8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611-32C0-4F18-BAD8-C840D3E758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1705-6568-4DA9-90AE-9C04F07187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54C-BB36-4B69-A6D0-9A23AFBDB7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D47-A006-475A-B02C-EE4AB8EC00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E4A-A7DB-4FC4-86C8-966094D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2EF-9DAF-4453-AAB4-36269B3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9D9-4B2E-43E7-B6C1-3498E37A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C4A-4086-4819-B7C7-731B25E9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7A3-79A3-4E23-89D0-6429E7C1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EEE-93F1-4AD3-89A5-B08884E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250-B3B4-4E1F-B520-284EEAA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C94-34A9-4204-B27B-9081B1B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46D-9FF1-4433-B769-322C55A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91E-E431-4C0A-AB33-FCDC516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C4B-47D1-4195-B921-0EC7B34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DE4-D3B1-44F4-9C5D-0912DCF1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54D-DD30-4F43-8A19-A68170B754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90pZYZpZRNMwM&amp;tbnid=UCUVqdmk2JBFuM:&amp;ved=0CAUQjRw&amp;url=http%3A%2F%2Fblog.geld.nl%2FZorgverzekering%2FVergoeding_ziekte_pompe_toch_uit_basispakket.aspx&amp;ei=zRudUfq0HsfP0QWHz4GoDw&amp;psig=AFQjCNH_-30OdEhLuG0OAOk-DZCMmNuw2Q&amp;ust=13693371422326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h01l4x2RmXImM&amp;tbnid=-Hx__0Odl7BSrM:&amp;ved=0CAUQjRw&amp;url=http%3A%2F%2Fwww.umcutrecht.nl%2Fsubsite%2Fdietetiek%2FZorg-voor-volwassenen%2FLongziekten%2FCystic-Fibrosis%2Fenzymsuppletie%2F&amp;ei=ZLZyUvPdLOmY0QW23YHoCQ&amp;bvm=bv.55819444,d.d2k&amp;psig=AFQjCNGXH8UIDiBTI-QbBPCjA6JCyOuV6g&amp;ust=1383335890302834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0OarcxnkpujFmM&amp;tbnid=zNxKcmpdrkRDtM:&amp;ved=0CAUQjRw&amp;url=http%3A%2F%2Fwww.newpharma.be%2Fapotheek%2Freckitt-benckiser-healthcare%2F188302%2Fgaviscon-suspensie-voor-oraal-gebruik-muntsmaak-500ml.html&amp;ei=9AZpUtbHAYnM0QW6yIGwAw&amp;bvm=bv.55123115,d.d2k&amp;psig=AFQjCNEPXaDYe-9q2aBxzs1l9NZ5cKFjNg&amp;ust=1382701166124422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LZPPAQNF8vkSLM&amp;tbnid=UrSgQj8G0jcexM:&amp;ved=0CAUQjRw&amp;url=http%3A%2F%2Fwww.wondbedekkers.nl%2Fkeuzetabel%2Fwondzorg%2Feusolparaffine.htm&amp;ei=WAhpUt2wBOnJ0QXfiYG4CQ&amp;bvm=bv.55123115,d.d2k&amp;psig=AFQjCNEDVee_uaGZ5iNc7TQtG29lY1M_Uw&amp;ust=138270148982448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GD4-QKEMGaXeM&amp;tbnid=5j8lUd1NTqhRiM:&amp;ved=0CAUQjRw&amp;url=http%3A%2F%2Fcommons.wikimedia.org%2Fwiki%2FFile%3ADuratears_oogdruppels_voor_droge_ogen.jpg&amp;ei=VglpUvnUHojA0QWh44GAAw&amp;bvm=bv.55123115,d.d2k&amp;psig=AFQjCNEnouqeegvjGJUizWdklRAlLvI2vA&amp;ust=1382701658702454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QkMCvi2TNsZaqM&amp;tbnid=7DnFCQCihu2ufM:&amp;ved=0CAUQjRw&amp;url=http%3A%2F%2Fwww.aambeien.com%2Faambeien-zalf&amp;ei=lgtpUuDmLoOm0AXrhYHQBw&amp;bvm=bv.55123115,d.d2k&amp;psig=AFQjCNGIgGxTnJtKWouY76Vkp3J7ymbiBA&amp;ust=1382702345393825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VMIfUJt_RvrWM&amp;tbnid=Jn13FEGZXB1N7M:&amp;ved=0CAUQjRw&amp;url=http%3A%2F%2Fwww.helpjehuidvooruit.nl%2Fhuidverzorging%2Feczeem-hoe-ik-het-nu-onderdruk%2F&amp;ei=2QxpUovfJame0QWuhICgCQ&amp;bvm=bv.55123115,d.d2k&amp;psig=AFQjCNFvAXbECrJDeOOdQwnp0qfXx-5kng&amp;ust=1382702537863604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GrZCkPDlCzCi8M&amp;tbnid=TD3rE99Z0narAM:&amp;ved=0CAUQjRw&amp;url=http%3A%2F%2Fwww.aposite.be%2Fsollie%2F%3Fpage%3Ditem%26cnk%3D1278332%26denom%3DDUROGESIC%2520PL%2520EMP%2520%25205X%252025MCG%252FHEURE%252FUUR&amp;ei=nw5pUsrmNo-Z0AXI-IDoAQ&amp;bvm=bv.55123115,d.d2k&amp;psig=AFQjCNHmM4CMhUOL_9ETjNJiBpRLahYD0A&amp;ust=1382703084551460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MEeTAm4dZsaqnM&amp;tbnid=vvs7az5519ZtPM:&amp;ved=0CAUQjRw&amp;url=http%3A%2F%2Fwww.denhaagdirect.nl%2Fhaagse-arabesken-nr-9-3%2Fzetpil%2F&amp;ei=PRRpUqzJOKnB0gXJpoHIDA&amp;bvm=bv.55123115,d.d2k&amp;psig=AFQjCNGWB638ndSqpu0Ww2GEA3jnmNzj6A&amp;ust=1382704424892718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0XqjFr_wNdu4M&amp;tbnid=mHwtebEuynHPWM:&amp;ved=0CAUQjRw&amp;url=http%3A%2F%2Fwww.homeopathienetwerk.nl%2Ftegenstanders-homeopathie-nemen-overdosis-pillen%2F&amp;ei=uK5yUsjKGKK90QX3mIDgAQ&amp;bvm=bv.55819444,d.d2k&amp;psig=AFQjCNGu_xlXi-2kFwNG0G13nRnqzs5lAw&amp;ust=138333393790773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w5t3AvS2f8E-7M&amp;tbnid=SzS7MvrP_270pM:&amp;ved=0CAUQjRw&amp;url=http%3A%2F%2Fmembers.upc.nl%2Fbennekumfajv%2Finfo-ascal-cardio.htm&amp;ei=Rv1oUpTVKOLv0gWF-YDIAg&amp;bvm=bv.55123115,d.d2k&amp;psig=AFQjCNHs_QTeFr6ChZXj24-bsSXJFaF1eg&amp;ust=138269866873866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ln_SEi_4t6DdNM&amp;tbnid=MkiB_nBUWeCbAM:&amp;ved=0CAUQjRw&amp;url=http%3A%2F%2Fretecool.com%2Fforum%2F4%2Fflipper%2F1%2F&amp;ei=-wBpUtDAH6TG0QXuvICwDA&amp;psig=AFQjCNFAPrUHRQY6ZtpojNUlrvu27eqeXA&amp;ust=138269961188619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docid=spPeDsapWyPwFM&amp;tbnid=fW34jR8dqmwxkM:&amp;ved=0CAUQjRw&amp;url=http%3A%2F%2Fmens-en-gezondheid.infonu.nl%2Fdiversen%2F84336-tablet-capsule-dragee-pil-kenmerken-en-verschillen.html&amp;ei=NQFpUuXBMIua0QXCr4CQCA&amp;psig=AFQjCNHhVPlu1GF3Fbv8BFnw54oVrABzPQ&amp;ust=138269969072628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nl/url?sa=i&amp;rct=j&amp;q=&amp;esrc=s&amp;frm=1&amp;source=images&amp;cd=&amp;cad=rja&amp;docid=a1-gTScOlmt7dM&amp;tbnid=kp5bsW3PI-aGBM:&amp;ved=0CAUQjRw&amp;url=http%3A%2F%2Fwww.gezonderworden.nl%2Fcategory%2Fparkinson%2F&amp;ei=-gFpUqqOOqLO0QWO2YH4Bw&amp;psig=AFQjCNGMXmOxs1_ylRw6OC1RBCrMN2VQoA&amp;ust=1382699867418178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YJL5kOQkXrpjM&amp;tbnid=nKdgF1E8t68bIM:&amp;ved=0CAUQjRw&amp;url=http%3A%2F%2Fwww.bhumitpharma.com%2Fabout_us.aspx&amp;ei=N69yUpzgIuic0QXWqoDIBA&amp;bvm=bv.55819444,d.d2k&amp;psig=AFQjCNGqbA8TtYJOLK7nlOEFEgz5X3mLvw&amp;ust=138333404659775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http://staticgeld.nl/blog/files/images/medic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289080" y="9507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500" spc="-1" strike="noStrike">
                <a:solidFill>
                  <a:srgbClr val="000000"/>
                </a:solidFill>
                <a:latin typeface="Arial"/>
              </a:rPr>
              <a:t>medicati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umcutrecht.nl/NR/rdonlyres/DE1D8D9E-0DA5-47A2-A8B6-A98160F8D40A/38108/enzyme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19320"/>
            <a:ext cx="8109000" cy="1798560"/>
          </a:xfrm>
          <a:prstGeom prst="rect">
            <a:avLst/>
          </a:prstGeom>
          <a:ln w="0">
            <a:noFill/>
          </a:ln>
        </p:spPr>
      </p:pic>
      <p:sp>
        <p:nvSpPr>
          <p:cNvPr id="79" name="Tekstvak 1"/>
          <p:cNvSpPr/>
          <p:nvPr/>
        </p:nvSpPr>
        <p:spPr>
          <a:xfrm>
            <a:off x="647640" y="3809880"/>
            <a:ext cx="75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mag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opend worden, korrels mogen echter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malen worden (ook niet op kauw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hthoek 1"/>
          <p:cNvSpPr/>
          <p:nvPr/>
        </p:nvSpPr>
        <p:spPr>
          <a:xfrm>
            <a:off x="228600" y="8380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Medicatie met verlengde we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"/>
          <p:cNvSpPr/>
          <p:nvPr/>
        </p:nvSpPr>
        <p:spPr>
          <a:xfrm>
            <a:off x="419040" y="1752480"/>
            <a:ext cx="838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dicatie waarbij de werkzame stof langzaam aan het lichaam wordt afge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taat in dragee en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malen en kauwen (wel b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te afkortingen: ZOC, OROS, slow release, re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2"/>
          <p:cNvSpPr/>
          <p:nvPr/>
        </p:nvSpPr>
        <p:spPr>
          <a:xfrm>
            <a:off x="415800" y="1598760"/>
            <a:ext cx="849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plossing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het geneesmiddel is opgelost en een geschikt oplosmiddel (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s homogeen verdeeld (hoeft dus niet geschud te wo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Kaliumdrank, Fosfaat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2"/>
          <p:cNvSpPr/>
          <p:nvPr/>
        </p:nvSpPr>
        <p:spPr>
          <a:xfrm>
            <a:off x="316080" y="1116000"/>
            <a:ext cx="5932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uspensi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neesmiddel kan niet worden opgelost in een vloeist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oplosvloeistof wordt stroperig gemaakt zodat het geneesmiddel minder naar beneden z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schudden voor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cnt.newpharma.be/images/products/nl/500/gaviscon-suspensie-voor-oraal-gebruik-muntsmaak-500m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05120"/>
            <a:ext cx="1838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kstvak 2"/>
          <p:cNvSpPr/>
          <p:nvPr/>
        </p:nvSpPr>
        <p:spPr>
          <a:xfrm>
            <a:off x="316080" y="1116000"/>
            <a:ext cx="5932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emulsi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erdeling van oliedruppels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bilisator (emulgator) toegevoegd om te voorkomen dat olie en water sch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schudden voor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www.wondbedekkers.nl/antibacterieel/eusolparaff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7120" y="441360"/>
            <a:ext cx="26002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kstvak 1"/>
          <p:cNvSpPr/>
          <p:nvPr/>
        </p:nvSpPr>
        <p:spPr>
          <a:xfrm>
            <a:off x="378360" y="40788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uppe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2"/>
          <p:cNvSpPr/>
          <p:nvPr/>
        </p:nvSpPr>
        <p:spPr>
          <a:xfrm>
            <a:off x="380880" y="1573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lossingen waarbij het geneesmiddel in sterk geconcentreerde vorm is 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g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r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us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uppels voor oraal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upload.wikimedia.org/wikipedia/commons/thumb/8/8e/Duratears_oogdruppels_voor_droge_ogen.jpg/800px-Duratears_oogdruppels_voor_droge_og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3000" y="3714840"/>
            <a:ext cx="27190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kstvak 1"/>
          <p:cNvSpPr/>
          <p:nvPr/>
        </p:nvSpPr>
        <p:spPr>
          <a:xfrm>
            <a:off x="371520" y="40788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zal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2"/>
          <p:cNvSpPr/>
          <p:nvPr/>
        </p:nvSpPr>
        <p:spPr>
          <a:xfrm>
            <a:off x="380880" y="1573200"/>
            <a:ext cx="815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bepaalde hoeveelheid vet of olie waar een geneesmiddel (poeder) doorheen gemen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de hoeveelheid poeder 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meer is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tale gewicht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aambeien.com/wp-content/uploads/2011/05/aambeienza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4400" y="2760840"/>
            <a:ext cx="2857320" cy="227628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1"/>
          <p:cNvSpPr/>
          <p:nvPr/>
        </p:nvSpPr>
        <p:spPr>
          <a:xfrm>
            <a:off x="7326000" y="42940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ambeienz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kstvak 1"/>
          <p:cNvSpPr/>
          <p:nvPr/>
        </p:nvSpPr>
        <p:spPr>
          <a:xfrm>
            <a:off x="376200" y="40788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crè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380880" y="157320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mengsel van olie en water + emulg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crème kan een geneesmiddel (poeder) worden opge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aanbrengen verdam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watergedeel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lie en geneesmid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ijven 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www.helpjehuidvooruit.nl/wp-content/uploads/2013/02/20130220_160834_L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049640"/>
            <a:ext cx="303516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kstvak 1"/>
          <p:cNvSpPr/>
          <p:nvPr/>
        </p:nvSpPr>
        <p:spPr>
          <a:xfrm>
            <a:off x="377280" y="40788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ple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2"/>
          <p:cNvSpPr/>
          <p:nvPr/>
        </p:nvSpPr>
        <p:spPr>
          <a:xfrm>
            <a:off x="380880" y="11160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pleister bevat een kleine hoeveelheid van een sterk werkend genees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brengen op de h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ij voorkeur waar de h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l te dik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neesmiddel word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durende langere tij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ia de huid in de bloedb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media.medipim.be/450-450-80/c/8/a/f/c8af0da39681df2270871032c9eb68f1108bed20ffa8188adf11bd14dc610ae4330958c5fcdc2a5cfdf59c549b9549183bd7fb9b13d2b61c4bf2ef7c7da4d7c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5040" y="2819520"/>
            <a:ext cx="2725920" cy="27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kstvak 1"/>
          <p:cNvSpPr/>
          <p:nvPr/>
        </p:nvSpPr>
        <p:spPr>
          <a:xfrm>
            <a:off x="373680" y="4078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zetp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380880" y="157320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rpedovormig stukje vet. Geneesmiddel (poeder) wordt met het gesmolten vet vermen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melt bij lichaams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denhaagdirect.nl/wp-content/uploads/2012/04/zetpi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619520"/>
            <a:ext cx="41911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esdoel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v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capsules, dragees, tabletten, poe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dr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dru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zalf en cr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ple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zet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Lokale en systemische toedi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Inhalatie en oogdru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toedieningswegen </a:t>
            </a:r>
            <a:br>
              <a:rPr sz="6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en </a:t>
            </a:r>
            <a:br>
              <a:rPr sz="6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toedieningsvorme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lokale toedi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ystemische toedi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okal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lokale (plaatselijke) toediening gaat het erom het geneesmiddel direct op de plaats waar het moet werken wordt toeged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medicatie op de huid (crèmes, zalv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inha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oog-en oor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neusdrup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zuigtabl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voordelen lokal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irect op de plaats waarop het moet inwer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rest van het lichaam zal daar meestal niets van m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benodigde hoeveelheid geneesmiddel is meestal veel kleiner dan bij andere toedienings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ans op bijwerkingen is kle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systemische toediening wordt het geneesmiddel via de bloedbaan naar de plaats gebracht waar het moet inwerken. Het geneesmiddel moet dus eerst in het bloed worden opgen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at kan do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treeks in de bloedbaan te spui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a de mond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opname dunne darm naar bloedb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ia de mo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atie wordt voornamelijk in de dunne darm geresorbeerd (opgen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wezigheid van voedsel vertraagt vaak de resorp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lossen van het medicijn, een lege maag, of alcohol kan de resorptie versn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1"/>
          <p:cNvSpPr/>
          <p:nvPr/>
        </p:nvSpPr>
        <p:spPr>
          <a:xfrm>
            <a:off x="228600" y="236232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Filmpje toedienen oogdrupp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ttp://www.youtube.com/watch?v=ZEinFUPfn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hthoek 1"/>
          <p:cNvSpPr/>
          <p:nvPr/>
        </p:nvSpPr>
        <p:spPr>
          <a:xfrm>
            <a:off x="293760" y="3808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ite over inha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ttp://www.apotheek.nl/Medische_informatie/Medicijnen/Medicijnen/Instructiefilmpje/Instructie/Inhalatie_instructies.aspx?mId=10703&amp;rId=2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kstvak 2"/>
          <p:cNvSpPr/>
          <p:nvPr/>
        </p:nvSpPr>
        <p:spPr>
          <a:xfrm>
            <a:off x="762120" y="3532320"/>
            <a:ext cx="814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inhalaties altijd beginnen met de luchtwegverwijdera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a onstekingsremmers altijd de mond spoel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kstvak 1"/>
          <p:cNvSpPr/>
          <p:nvPr/>
        </p:nvSpPr>
        <p:spPr>
          <a:xfrm>
            <a:off x="279360" y="68580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oeger had je pillen; deze zijn allemaal vervangen door  capsules, dragees, tabletten en poe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term pillen wordt nog wel vaak gebuikt, maar dus als verzamelna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www.homeopathienetwerk.nl/wp-content/uploads/pill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5400" y="379872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members.upc.nl/bennekumfajv/images/asc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962520"/>
            <a:ext cx="4021200" cy="2295360"/>
          </a:xfrm>
          <a:prstGeom prst="rect">
            <a:avLst/>
          </a:prstGeom>
          <a:ln w="0">
            <a:noFill/>
          </a:ln>
        </p:spPr>
      </p:pic>
      <p:sp>
        <p:nvSpPr>
          <p:cNvPr id="56" name="Tekstvak 1"/>
          <p:cNvSpPr/>
          <p:nvPr/>
        </p:nvSpPr>
        <p:spPr>
          <a:xfrm>
            <a:off x="377640" y="4078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Poe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kstvak 2"/>
          <p:cNvSpPr/>
          <p:nvPr/>
        </p:nvSpPr>
        <p:spPr>
          <a:xfrm>
            <a:off x="380880" y="15732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et vaak opgelost worden i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adeel kan zijn dat het een vieze smaak in de mond g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vak 1"/>
          <p:cNvSpPr/>
          <p:nvPr/>
        </p:nvSpPr>
        <p:spPr>
          <a:xfrm>
            <a:off x="357480" y="40788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Tabl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2"/>
          <p:cNvSpPr/>
          <p:nvPr/>
        </p:nvSpPr>
        <p:spPr>
          <a:xfrm>
            <a:off x="380880" y="1573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ablet = samengeperst poe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www.welt.de/multimedia/archive/00554/paracetamol_DW_Wiss_554801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7432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kstvak 1"/>
          <p:cNvSpPr/>
          <p:nvPr/>
        </p:nvSpPr>
        <p:spPr>
          <a:xfrm>
            <a:off x="377640" y="40788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g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2"/>
          <p:cNvSpPr/>
          <p:nvPr/>
        </p:nvSpPr>
        <p:spPr>
          <a:xfrm>
            <a:off x="380880" y="157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agee = tablet met een suikerlaagje of een laklaag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http://mens-en-gezondheid.infonu.nl/artikel-fotos/lexia/401020114010-thumb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359080"/>
            <a:ext cx="3900240" cy="335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www.gezonderworden.nl/wp-content/uploads/2011/03/ibuprofe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040" y="3009960"/>
            <a:ext cx="333396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6"/>
          <p:cNvSpPr/>
          <p:nvPr/>
        </p:nvSpPr>
        <p:spPr>
          <a:xfrm>
            <a:off x="4645800" y="590724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aklaagje / zuurbestendig laag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7"/>
          <p:cNvSpPr/>
          <p:nvPr/>
        </p:nvSpPr>
        <p:spPr>
          <a:xfrm>
            <a:off x="1334160" y="47862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laag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1"/>
          <p:cNvSpPr/>
          <p:nvPr/>
        </p:nvSpPr>
        <p:spPr>
          <a:xfrm>
            <a:off x="228600" y="4842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maagsapresistente drag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vak 2"/>
          <p:cNvSpPr/>
          <p:nvPr/>
        </p:nvSpPr>
        <p:spPr>
          <a:xfrm>
            <a:off x="419040" y="1600200"/>
            <a:ext cx="83822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agees met een maagzuurbestendig laag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gslijmvlies kan door geneesmiddel niet worden aanget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te afkortingen: EC, maagsapresistent, enteric coated, M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eken, malen en op ka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kstvak 1"/>
          <p:cNvSpPr/>
          <p:nvPr/>
        </p:nvSpPr>
        <p:spPr>
          <a:xfrm>
            <a:off x="379080" y="40788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Caps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2"/>
          <p:cNvSpPr/>
          <p:nvPr/>
        </p:nvSpPr>
        <p:spPr>
          <a:xfrm>
            <a:off x="380880" y="1384200"/>
            <a:ext cx="762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bestaat uit twee hulsjes van gelatine, geneesmiddel en eventueel een vul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latine lost in de maag direct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mag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open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://www.bhumitpharma.com/images/Capsu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038480"/>
            <a:ext cx="31525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02:18Z</dcterms:created>
  <dc:creator>Roberte</dc:creator>
  <dc:description/>
  <dc:language>en-US</dc:language>
  <cp:lastModifiedBy>Jolanda Vermeulen</cp:lastModifiedBy>
  <cp:lastPrinted>2013-10-31T20:39:51Z</cp:lastPrinted>
  <dcterms:modified xsi:type="dcterms:W3CDTF">2020-11-27T19:31:37Z</dcterms:modified>
  <cp:revision>131</cp:revision>
  <dc:subject/>
  <dc:title>Dia 1</dc:title>
</cp:coreProperties>
</file>