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5AF-EA9D-4D3F-8D6B-4939E8B1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8AD-FE80-4EE3-AA62-D3DE5AA0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286-6292-4796-AC20-690CE02E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D17-FB7C-42F4-B029-45AB0EF0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747-53E2-4D3E-9A1B-890D1D73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7E1-D6E1-44E2-8157-15BF1D12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7D6-358F-45D2-8025-73E34956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0C3-A2C7-48E7-A05E-082ABC45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15B-76A3-4BA9-9926-6D8EFA70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5C5-C832-4641-9D8A-7185D157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980-1D7D-44D0-949F-47F0B0E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4D2-8FB2-45C4-A581-F875A404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7DF6-01FD-4DE2-BC8E-7791C03BA68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ic-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Cathelijn\Documents\gastro1L.jpg"/>
          <p:cNvPicPr/>
          <p:nvPr/>
        </p:nvPicPr>
        <p:blipFill>
          <a:blip r:embed="rId1"/>
          <a:stretch/>
        </p:blipFill>
        <p:spPr>
          <a:xfrm>
            <a:off x="0" y="1197000"/>
            <a:ext cx="5905440" cy="400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2.bp.blogspot.com/_50MFvkysTmc/SV2dHwWPbHI/AAAAAAAAAFg/QMl6IjoVFx4/s320/mickey.jpg"/>
          <p:cNvPicPr/>
          <p:nvPr/>
        </p:nvPicPr>
        <p:blipFill>
          <a:blip r:embed="rId2"/>
          <a:stretch/>
        </p:blipFill>
        <p:spPr>
          <a:xfrm>
            <a:off x="5940360" y="191628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t is een Mic-k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is een voedingssonde die door de buikwand, via het al bestaande fistel in de maag geplaatst word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kan alleen wanneer het kind al een PEG-sonde heeft ge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c-key is de merkna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arom een Mic-k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kinderen die vaak op de buik sla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kinderen die veel bewe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kinderen die de neiging hebben de sonde eruit te tre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uder kan zelf de mic-key verva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aruit bestaat de Mic-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allonvent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voedingsp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externe d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bal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formatie Mic-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amc.nl/web/Zorg/Kind-Ouder/Afspraak-op-de-polikliniek/Gastroenterologie/Patienteninformatie/MICKEYbutton-informatie-voor-ouders-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Film plaatsing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t is 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ercutane endoscopische gastros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Cathelijn\Documents\PEG.jpg"/>
          <p:cNvPicPr/>
          <p:nvPr/>
        </p:nvPicPr>
        <p:blipFill>
          <a:blip r:embed="rId1"/>
          <a:stretch/>
        </p:blipFill>
        <p:spPr>
          <a:xfrm>
            <a:off x="826920" y="2492280"/>
            <a:ext cx="8101080" cy="2659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upload.wikimedia.org/wikipedia/commons/thumb/4/42/PEG_01.jpg/200px-PEG_01.jpg"/>
          <p:cNvPicPr/>
          <p:nvPr/>
        </p:nvPicPr>
        <p:blipFill>
          <a:blip r:embed="rId2"/>
          <a:stretch/>
        </p:blipFill>
        <p:spPr>
          <a:xfrm>
            <a:off x="468360" y="4292640"/>
            <a:ext cx="2863800" cy="214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gerrykram.weblog.nl/files/2006/07/c4cc930e50"/>
          <p:cNvPicPr/>
          <p:nvPr/>
        </p:nvPicPr>
        <p:blipFill>
          <a:blip r:embed="rId3"/>
          <a:stretch/>
        </p:blipFill>
        <p:spPr>
          <a:xfrm>
            <a:off x="6659640" y="3673440"/>
            <a:ext cx="2265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t is 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is een eenvoudige chirurgisch ingr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behulp van een endoscoop wordt via de huid (percutaan) een kleine opening in de maagwand gemaa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zorgvrager wordt lokaal verdoofd/roes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kinderen wordt wel narcose gebruikt. De endoscoop kan een bedreiging z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de arts zet deze P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zorgvrager die sondevoeding voor langere tijd moet krijgen, langer dan 6 we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mensen die nooit meer van de sondevoeding af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rologische patiënten/slikklach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handicapten/zwakbegaaf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hronisch zie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rugkomende aspiratie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ontroler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mag pas gegeven worden wanneer er een ph-meting heeft plaatsgevo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zorging van 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 de ingreep is extra aandacht voor goede wondgenezing van bela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 de ingreep moet een fistelvorming worden bevorderd. Dit duurt 1-2 we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peg wordt de eerste 24 uur strak tegen de buikwand bevestig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 24 uur mag er een y-gaasje tussen geplaatst wor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Je observeert op pijn, lekkage van de fistel, irritatie van de huid en verschuiven van de 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zorging van 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huid moet dagelijks gereinigd worden met een desinfecterend 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n alcohol gebruiken. Dit tast de sonde 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5 a 6 dagen is de wond genez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houden met water en z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Eerste week 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spuiten voor en na toediening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nneer je geen voeding gebruikt met 20-30 ml water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voorkomt daarmee versto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de huid rondom de insteek en het fixatieschijfje schoon met desinfect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weeg de PEG zo min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g wel douchen maar niet in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zorgen 7-10 d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spuiten: 3-4x daags wanneer de sonde niet wordt gebrui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: met water en zeep. Goed dr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onddraaien: 1x per dag ronddraaien van de s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pelen: schijfje 2 cm van de buikhuid af en beweeg de sonde op en n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chtingen mogen nu verwijderd wo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6:53:11Z</dcterms:created>
  <dc:creator>Cathelijn</dc:creator>
  <dc:description/>
  <dc:language>en-US</dc:language>
  <cp:lastModifiedBy>Cathelijn</cp:lastModifiedBy>
  <dcterms:modified xsi:type="dcterms:W3CDTF">2012-11-05T18:22:21Z</dcterms:modified>
  <cp:revision>4</cp:revision>
  <dc:subject/>
  <dc:title>De PEG-sonde</dc:title>
</cp:coreProperties>
</file>