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F00-F881-47D1-AB8C-CE796481324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E429-50BC-4628-A23E-1D3CEE4FAE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073E-990C-4C38-BAF9-6A01BC2134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974-0FBA-45BD-8CDC-115AB9E42E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8EE-0069-44EA-AB68-5022855F91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05D-AC7D-4CF6-A80B-94247346E5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32AC-3D8B-44FF-979B-E27E9C8BEB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C138-D4D0-4548-ACF8-7A2D1802FC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EF4-D75B-4BE4-B690-5CEA52389D8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269-C9CB-4476-9D9A-F15973E8A7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6BA-2A49-4233-8524-6C05AEC48C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FDC-FED5-4001-A79F-D960471984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52BB-7EA2-4991-BB80-2379964147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DF9D-CD62-4358-AD22-3E1E307E86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D115-451A-475C-81B5-F8DB37E25F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37CF-2CAB-4198-AE98-EC89347CD20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A2A-6D51-414B-9EA8-F602E357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87-D0FA-4F85-9334-81BFCBE7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05C-EC6F-4208-A295-8587B490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AB1-B5B6-4DF5-8C7B-218AEB04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8ACE-0E41-4816-A9F7-CF8A6F79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A962-F617-4050-979A-9E5D2D7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255E-FC55-4D58-AF66-C402FF3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164-5458-4D31-AA96-86731F2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AAD-F16F-42CF-9D9D-04AABD37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E5D-4716-4786-AC39-05ECA062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04A-BCA9-4564-8686-D243204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50C-F54A-41B7-AEC5-968A9FF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DB60-0CF4-4B7F-9C9C-4B7C1AE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1B80-5B0F-4A33-8C01-E49E452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4D0-469D-42F4-A849-C9465E77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1D7A-FC4A-4A84-9431-5AACAD60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184A-0777-4C6C-A76E-56A18B9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77F-23F2-4518-B74C-83201B33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DED-FA4E-43A5-9454-8068CAA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2C2-1D2F-459E-936A-6B5DD82A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A6B-8D6D-42CC-83E9-0049DB84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A59-7B84-43BE-BAC2-0AF68A57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553-9E2B-4427-91BA-9A3FF79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717-6BDA-4ADA-B783-B766C04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6A3B-DEF3-4955-A8DC-E523F60970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am. opleiding Pantein;                                                                                         Saskia v.d. Akker/Bianca Heij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4455-CF69-4BB3-89BA-E515A2D705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h90pZYZpZRNMwM&amp;tbnid=UCUVqdmk2JBFuM:&amp;ved=0CAUQjRw&amp;url=http%3A%2F%2Fblog.geld.nl%2FZorgverzekering%2FVergoeding_ziekte_pompe_toch_uit_basispakket.aspx&amp;ei=zRudUfq0HsfP0QWHz4GoDw&amp;psig=AFQjCNH_-30OdEhLuG0OAOk-DZCMmNuw2Q&amp;ust=13693371422326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yNO3LXMw_ZmxM&amp;tbnid=JlcymjO6uSSfUM:&amp;ved=0CAUQjRw&amp;url=http%3A%2F%2Fwww.careality.nl%2Fsite%2F2012%2F06%2F23%2Fcanesten-gyno-creme-en-tablet-tegen-vaginale-schimmelinfectie%2F&amp;ei=xBBkUu_RJoOL0AWDroGwBQ&amp;psig=AFQjCNFjPzaBz48WBbZP4zlTbLlg55_9ew&amp;ust=1382375966697083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nl/url?sa=i&amp;rct=j&amp;q=&amp;esrc=s&amp;frm=1&amp;source=images&amp;cd=&amp;cad=rja&amp;docid=2HfDN8y0QWWXkM&amp;tbnid=y2VN3emmoOPO_M:&amp;ved=0CAUQjRw&amp;url=http%3A%2F%2Fwww.openapotheek.nl%2Fimodium-smelttablet-orodisp-tablet-2mg-10st%2F&amp;ei=VRFkUqKKFaaI0AW4rIHYDQ&amp;psig=AFQjCNEvvGIdpiUCCReKSgik63Mw8iOrfA&amp;ust=1382376141211250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docid=4xHexeiJSJ2cwM&amp;tbnid=Q6Qvvp5hpMBXuM:&amp;ved=0CAUQjRw&amp;url=http%3A%2F%2Fmedischcontact.artsennet.nl%2Farchief-6%2Ftijdschriftartikel%2F136743%2Fexit-receptblok.htm&amp;ei=QBJkUo7_NIOx0QWlyoGIBg&amp;psig=AFQjCNHTlT5ZfChRBLXt4eJMyTNVnS6LJA&amp;ust=1382376276654543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tZB1Sedg0pr0IM&amp;tbnid=NP6NjLFF3YLUtM:&amp;ved=0CAUQjRw&amp;url=http%3A%2F%2Flerenenmotiveren.infoplatform.nl%2Fkennisbank%2Fmedicijnen-in-het-verkeer%2F&amp;ei=XR1kUoaiNufJ0QX0xID4Cw&amp;bvm=bv.54934254,d.d2k&amp;psig=AFQjCNHXK5nfFZQKUQbNUP-T8Vc6cCXMEg&amp;ust=1382379187046302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OW16bfk1xuk8M&amp;tbnid=5AXfDRcB-V7UVM:&amp;ved=0CAUQjRw&amp;url=http%3A%2F%2Fwww.spruyt-hillen.nl%2Fcatalogue%2Fverpak%2Fstickers&amp;ei=EBZkUpCnII2Y1AWy9ICQAw&amp;psig=AFQjCNHvbPP5uoLNGZs_6bJx2PX2TWVF5A&amp;ust=138237724301948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tZB1Sedg0pr0IM&amp;tbnid=aWETr0tkQI1wJM:&amp;ved=0CAUQjRw&amp;url=http%3A%2F%2Flerenenmotiveren.infoplatform.nl%2Fkennisbank%2Fmedicijnen-in-het-verkeer%2F&amp;ei=PB1kUpepOaLH0QXI_YHICw&amp;bvm=bv.54934254,d.d2k&amp;psig=AFQjCNHXK5nfFZQKUQbNUP-T8Vc6cCXMEg&amp;ust=1382379187046302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s1LGO2-olLDOM&amp;tbnid=QWw-19JhB9urAM:&amp;ved=0CAUQjRw&amp;url=http%3A%2F%2Fnl.wikipedia.org%2Fwiki%2FMethylfenidaat&amp;ei=8R1kUtvmCeeV0QXP_IHIAw&amp;psig=AFQjCNHXK5nfFZQKUQbNUP-T8Vc6cCXMEg&amp;ust=1382379187046302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6DmTVczwfcCKM&amp;tbnid=EuXXf9A6SbNdEM:&amp;ved=0CAUQjRw&amp;url=http%3A%2F%2Fjaarbeeld2011.sheerenloo.nl%2Fnl%2Fmagazine%2F2612%2F681645%2F.html&amp;ei=vxhkUq-VG-mb0QWm0oDABw&amp;psig=AFQjCNFW6O4MKrLVi7GhNl3gO_F9Oh78zA&amp;ust=138237799710332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_UBWw3p6s9pjIM&amp;tbnid=Ch-1cUJCdDSIGM:&amp;ved=0CAUQjRw&amp;url=http%3A%2F%2Fwww.medicijnkar.nl%2Fmedicijnkarren%2Fmedicijnwagen-baxtergeschikt%2F&amp;ei=ZxlkUqbYG4_z0gWsooGYCQ&amp;psig=AFQjCNFW6O4MKrLVi7GhNl3gO_F9Oh78zA&amp;ust=138237799710332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oiz3uKOVITjWOM&amp;tbnid=4b4xjr5KgN3vpM:&amp;ved=0CAUQjRw&amp;url=http%3A%2F%2Fwww.megapoint.nl%2Fcontents%2Fnl%2Fd36_Flesjes_Potjes.html&amp;ei=yRxkUqnvKaWV0QXdpYDoBQ&amp;bvm=bv.54934254,d.d2k&amp;psig=AFQjCNFpd1EvsKLQB0IiNx5YiW1ClLbygg&amp;ust=1382379074269989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nl/url?sa=i&amp;rct=j&amp;q=&amp;esrc=s&amp;frm=1&amp;source=images&amp;cd=&amp;cad=rja&amp;docid=oCq9KC49grywgM&amp;tbnid=2TdrA_p_FuRfrM:&amp;ved=0CAUQjRw&amp;url=http%3A%2F%2Fwww.zorginbeeld.nl%2Ftag%2Fmedicatiedoosje%2F&amp;ei=5xxkUofqBebW0QW3zYHICg&amp;bvm=bv.54934254,d.d2k&amp;psig=AFQjCNFpd1EvsKLQB0IiNx5YiW1ClLbygg&amp;ust=1382379074269989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fabI-pSpl-n2M&amp;tbnid=suoupLGeejdW5M:&amp;ved=0CAUQjRw&amp;url=http%3A%2F%2Fpantos-pharmacy.com%2Fproducts.php%3Fproduct%3DValium-10mg%257B47%257D2ml-by-Roche-x-100-Amp&amp;ei=9NJjUrXGMOPX0QWekIHAAg&amp;bvm=bv.54934254,d.d2k&amp;psig=AFQjCNGPGga01HM-v0mrTtflU54zCkQ4SQ&amp;ust=138236016374755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u9pukOgDBlY6HM&amp;tbnid=j8BFBVKEOuCjoM:&amp;ved=0CAUQjRw&amp;url=http%3A%2F%2Fzelfzorg.nl%2Fproduct%2Fibuprofen-400-mg-omhulde-tabletten-samenwerkende-apothekers%2F&amp;ei=mNNjUpmPCI6X0AWn1oGIDw&amp;bvm=bv.54934254,d.d2k&amp;psig=AFQjCNGq6xfVDxVkKgRMXbo6PtlP1PFMSw&amp;ust=138236033416851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nl/url?sa=i&amp;rct=j&amp;q=&amp;esrc=s&amp;frm=1&amp;source=images&amp;cd=&amp;cad=rja&amp;docid=cf6NZtcZjGWm5M&amp;tbnid=jtw7oy0Q8N5psM:&amp;ved=0CAUQjRw&amp;url=http%3A%2F%2Fwww.beautybody.nl%2FshopItemPage.asp%3FcatID%3D3%26productID%3D1804%26cs%3D1&amp;ei=zdNjUtiLC-bW0QW3zYHICg&amp;psig=AFQjCNGq6xfVDxVkKgRMXbo6PtlP1PFMSw&amp;ust=1382360334168515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url?sa=i&amp;rct=j&amp;q=&amp;esrc=s&amp;frm=1&amp;source=images&amp;cd=&amp;cad=rja&amp;docid=ko2z4Hrqc1Up0M&amp;tbnid=Wquxh0iIuGcawM:&amp;ved=0CAUQjRw&amp;url=http%3A%2F%2Fzelfzorg.nl%2Fproduct%2Fsarixell%2F&amp;ei=I9RjUrS_KYOm0QXC6oGIBw&amp;psig=AFQjCNFDZCkQoL2A0bIpu1RNEI4GaOLlZw&amp;ust=138236047186728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oogle.nl/url?sa=i&amp;rct=j&amp;q=&amp;esrc=s&amp;frm=1&amp;source=images&amp;cd=&amp;cad=rja&amp;docid=T3T9MOq21zSOxM&amp;tbnid=cIl2Incm9d6FUM:&amp;ved=0CAUQjRw&amp;url=http%3A%2F%2Fwww.zelfzorgwereld.com%2Fproducts%2F1049%2Fsarixell-20-st.aspx&amp;ei=VtRjUu3dLcPH0QXGhoDoAw&amp;psig=AFQjCNFDZCkQoL2A0bIpu1RNEI4GaOLlZw&amp;ust=1382360471867282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9" descr="http://staticgeld.nl/blog/files/images/medic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289080" y="9507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500" spc="-1" strike="noStrike">
                <a:solidFill>
                  <a:srgbClr val="000000"/>
                </a:solidFill>
                <a:latin typeface="Arial"/>
              </a:rPr>
              <a:t>medicati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</a:rPr>
              <a:t>Informatie over geneesmid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bij degene die de medicijnen voorschrij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bij de apothe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de bij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via naslagwerk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Farmacotherapeutisch Kompas en Reper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kstvak 1"/>
          <p:cNvSpPr/>
          <p:nvPr/>
        </p:nvSpPr>
        <p:spPr>
          <a:xfrm>
            <a:off x="304920" y="304920"/>
            <a:ext cx="815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Medicijnen worden vaak ingedeeld naar het orgaansysteem waarop ze invloed heb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Per orgaansysteem zijn ze dan weer ingedeeld naar hun effect of toepassing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 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indicati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(reden om een medicijn te geve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Bij elk medicijn worden ook situaties beschreven die aanleiding kunnen zijn om het medicijn niet te gev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contra-indica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hthoek 1"/>
          <p:cNvSpPr/>
          <p:nvPr/>
        </p:nvSpPr>
        <p:spPr>
          <a:xfrm>
            <a:off x="330120" y="190512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Site voor alle geneesmiddelen met stofnaam en merkna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http://www.menselijk-lichaam.com/algemeen/stof-en-merknaam-van-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kstvak 1"/>
          <p:cNvSpPr/>
          <p:nvPr/>
        </p:nvSpPr>
        <p:spPr>
          <a:xfrm>
            <a:off x="533520" y="14461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en zijn vrij verkrijgbaar (drogist / apoth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www.careality.nl/site/wp-content/uploads/2012/06/Bayer-Groepspackshot-Canesten-Gy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5640" y="4724280"/>
            <a:ext cx="4573440" cy="187020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2"/>
          <p:cNvSpPr/>
          <p:nvPr/>
        </p:nvSpPr>
        <p:spPr>
          <a:xfrm>
            <a:off x="871920" y="31104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Hoe kun je medicijnen krij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static.openapotheek.nl/media/catalog/product/cache/1/image/5e06319eda06f020e43594a9c230972d/i/m/imodium_smelttablet_orodisp_tablet_2mg/imodium-smelttablet-orodisp-tablet-2mg-10st-openapotheek.n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200400"/>
            <a:ext cx="378144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kstvak 1"/>
          <p:cNvSpPr/>
          <p:nvPr/>
        </p:nvSpPr>
        <p:spPr>
          <a:xfrm>
            <a:off x="533520" y="14461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en verkrijgbaar met re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871920" y="31104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Hoe kun je medicijnen krij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medischcontact.artsennet.nl/upload/c71bd9e3-5fed-43fd-81fb-00a7f65bedfe_recept_25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057400"/>
            <a:ext cx="41529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Verdana"/>
              </a:rPr>
              <a:t>Wat staat er vermeld op een re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000" y="1295280"/>
            <a:ext cx="90676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, voorletters en het adres van de voorschrijvend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atum van voor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het geneesmiddel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(generieke n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terkte van het medic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boortedatum van de zorgvr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, voorletters en het adres van de zorgvr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ijze van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ndtekening voorschrijvend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</a:rPr>
              <a:t>Wat staat er vermeld op een etiket</a:t>
            </a:r>
            <a:br>
              <a:rPr sz="3600"/>
            </a:br>
            <a:r>
              <a:rPr b="1" lang="nl-NL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de apotheek en apothe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leverings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, adres en geboortedatum van degene voor wie het geneesmiddel bestem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het geneesmiddel en sterkte van het medic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bruik- en bewaarvoorsch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de arts die de medicatie heeft voorgeschr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lerenenmotiveren.infoplatform.nl/media/images/geneesmiddelen0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8288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kstvak 1"/>
          <p:cNvSpPr/>
          <p:nvPr/>
        </p:nvSpPr>
        <p:spPr>
          <a:xfrm>
            <a:off x="791280" y="28728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Medicatie bewa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www.spruyt-hillen.nl/media/images/catalogue/06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800600"/>
            <a:ext cx="240516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Tekstvak 2"/>
          <p:cNvSpPr/>
          <p:nvPr/>
        </p:nvSpPr>
        <p:spPr>
          <a:xfrm>
            <a:off x="220680" y="12193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 die in de koelkast bewaard moet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 die in het donker bewaard moet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 die een beperkte houdbaarheid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kstvak 3"/>
          <p:cNvSpPr/>
          <p:nvPr/>
        </p:nvSpPr>
        <p:spPr>
          <a:xfrm>
            <a:off x="380880" y="49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Verdana"/>
                <a:ea typeface="Verdana"/>
              </a:rPr>
              <a:t>Andere stickers op etik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lerenenmotiveren.infoplatform.nl/media/images/geneesmiddelen0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33560" y="2286000"/>
            <a:ext cx="4924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Lesdoel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Wat is farmacothera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De 3 namen van 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Wet geneesmiddelen voorzi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Waar vindt je informatie over 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Recept en eti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Medicatie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Medicatiedistributie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De regel va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Medicijndistributie syste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Voorraa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Levering medi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Uitzetten en verstekken med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Registratie, administratie en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edicijnen"/>
          <p:cNvPicPr/>
          <p:nvPr/>
        </p:nvPicPr>
        <p:blipFill>
          <a:blip r:embed="rId1"/>
          <a:stretch/>
        </p:blipFill>
        <p:spPr>
          <a:xfrm>
            <a:off x="3505320" y="4114800"/>
            <a:ext cx="3809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s://encrypted-tbn2.gstatic.com/images?q=tbn:ANd9GcT_a4N81qZ2MT1AI6cMWshmMzUOvXAfXoryLKh36penGTeDhrpl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60948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Voorraadbeh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p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potheek binnen een in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atie ‘kamer’ binnen een instelling of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Levering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direct uit apotheek (extern of inter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http://upload.wikimedia.org/wikipedia/commons/d/d6/Methylfenidaat_N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5909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Levering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angeleverd per bewoner, per tijd, per dag in voorverpa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jaarbeeld2011.sheerenloo.nl/userfiles/usersdata/961/library/2612/slide7/baxter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806560"/>
            <a:ext cx="5181480" cy="350532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1"/>
          <p:cNvSpPr/>
          <p:nvPr/>
        </p:nvSpPr>
        <p:spPr>
          <a:xfrm>
            <a:off x="410040" y="596916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baxter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Uitzetten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://www.medicijnkar.nl/wp-content/uploads/2013/04/008-768x10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362320"/>
            <a:ext cx="4572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Uitzetten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atiecass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ttp://www.megapoint.nl/contents/media/medicatiedoosj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362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ww.zorginbeeld.nl/wp-content/gallery/zorginbeeld/Thuiszorg-pillen%2060-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276720"/>
            <a:ext cx="3581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Uitzetten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Baxter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apotheekdeuithof.weebly.com/uploads/7/8/2/1/7821602/6496097.jpg"/>
          <p:cNvPicPr/>
          <p:nvPr/>
        </p:nvPicPr>
        <p:blipFill>
          <a:blip r:embed="rId1"/>
          <a:stretch/>
        </p:blipFill>
        <p:spPr>
          <a:xfrm>
            <a:off x="4114800" y="1554120"/>
            <a:ext cx="46483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Verstrekken van medicatie en administr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klapper (tegenwoordig steeds meer digita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s://encrypted-tbn1.gstatic.com/images?q=tbn:ANd9GcShHIMCR7eQa1vz71e-4HntomUFT6iy4mOk4vyHJSpRoaknXMzz"/>
          <p:cNvPicPr/>
          <p:nvPr/>
        </p:nvPicPr>
        <p:blipFill>
          <a:blip r:embed="rId1"/>
          <a:stretch/>
        </p:blipFill>
        <p:spPr>
          <a:xfrm>
            <a:off x="2438280" y="2895480"/>
            <a:ext cx="5486400" cy="37339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8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hthoek 1"/>
          <p:cNvSpPr/>
          <p:nvPr/>
        </p:nvSpPr>
        <p:spPr>
          <a:xfrm>
            <a:off x="457200" y="762120"/>
            <a:ext cx="800100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ffff00"/>
                </a:solidFill>
                <a:uFillTx/>
                <a:latin typeface="Verdana"/>
                <a:ea typeface="Verdana"/>
              </a:rPr>
              <a:t>Regel van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ti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persoo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Het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medicij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osi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04920" y="7617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neesmiddel heeft altijd 3 na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hemische na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neriek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rknaam (handels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hthoek 1"/>
          <p:cNvSpPr/>
          <p:nvPr/>
        </p:nvSpPr>
        <p:spPr>
          <a:xfrm>
            <a:off x="228600" y="83808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hemische naam = benzodiaze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neriek naam = diaze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rknaam = Valium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pantos-pharmacy.com/product_images/i/378/Pakistan_Valium_10mg2010720458121__76235_z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819600"/>
            <a:ext cx="4495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hoek 1"/>
          <p:cNvSpPr/>
          <p:nvPr/>
        </p:nvSpPr>
        <p:spPr>
          <a:xfrm>
            <a:off x="309600" y="838080"/>
            <a:ext cx="8763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hemische naam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(RS)-2-(p-isobutylfenyl)propionz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eneriek naam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ibupro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rknaam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= Sarixell®, Advill®, Brufen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zelfzorg.nl/wp-content/zelfzorg/img/thumb_ibuprofen_400_mg_omhulde_tabletten_samenwerkende_apothekers.jpg">
            <a:hlinkClick r:id="rId1"/>
          </p:cNvPr>
          <p:cNvPicPr/>
          <p:nvPr/>
        </p:nvPicPr>
        <p:blipFill>
          <a:blip r:embed="rId2"/>
          <a:stretch/>
        </p:blipFill>
        <p:spPr>
          <a:xfrm rot="20476200">
            <a:off x="814320" y="975960"/>
            <a:ext cx="4097520" cy="233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ww.beautybody.nl/images/produkt/6112011121838_8710552304915.jpg">
            <a:hlinkClick r:id="rId3"/>
          </p:cNvPr>
          <p:cNvPicPr/>
          <p:nvPr/>
        </p:nvPicPr>
        <p:blipFill>
          <a:blip r:embed="rId4"/>
          <a:stretch/>
        </p:blipFill>
        <p:spPr>
          <a:xfrm rot="684000">
            <a:off x="6224400" y="4334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zelfzorg.nl/wp-content/zelfzorg/img/thumb_sarixell.jpg">
            <a:hlinkClick r:id="rId5"/>
          </p:cNvPr>
          <p:cNvPicPr/>
          <p:nvPr/>
        </p:nvPicPr>
        <p:blipFill>
          <a:blip r:embed="rId6"/>
          <a:stretch/>
        </p:blipFill>
        <p:spPr>
          <a:xfrm rot="809400">
            <a:off x="3200400" y="3809520"/>
            <a:ext cx="4876920" cy="240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www.zelfzorgwereld.com/images/thumbs/0002016_166_226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343400"/>
            <a:ext cx="1295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1"/>
          <p:cNvSpPr/>
          <p:nvPr/>
        </p:nvSpPr>
        <p:spPr>
          <a:xfrm>
            <a:off x="3510720" y="6031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2"/>
          <p:cNvSpPr/>
          <p:nvPr/>
        </p:nvSpPr>
        <p:spPr>
          <a:xfrm>
            <a:off x="554760" y="762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3"/>
          <p:cNvSpPr/>
          <p:nvPr/>
        </p:nvSpPr>
        <p:spPr>
          <a:xfrm>
            <a:off x="6863400" y="3048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,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kstvak 1"/>
          <p:cNvSpPr/>
          <p:nvPr/>
        </p:nvSpPr>
        <p:spPr>
          <a:xfrm>
            <a:off x="304920" y="304920"/>
            <a:ext cx="8610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locopreparaa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= medicijn van het eigen merk van een apotheek (merklo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na het verlopen van het octrooi (patent), mag iedere fabrikant het geneesmiddel met dezelfde stofnaam, maar dus een andere merknaam op de markt brengen =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generiek geneesmid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®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een merknaam die in Nederland geregistreer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kstvak 1"/>
          <p:cNvSpPr/>
          <p:nvPr/>
        </p:nvSpPr>
        <p:spPr>
          <a:xfrm>
            <a:off x="304920" y="29052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Verdana"/>
                <a:ea typeface="Verdana"/>
              </a:rPr>
              <a:t>Wet geneesmiddelen voorzi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lle geneesmiddelen moeten ingeschreven worden in het register (®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‘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Farmaceutische verzorging ziekenhuiz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Opiumwet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opiaten bewaren in afgesloten ruim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4:02:18Z</dcterms:created>
  <dc:creator>Roberte</dc:creator>
  <dc:description/>
  <dc:language>en-US</dc:language>
  <cp:lastModifiedBy>Jolanda Vermeulen</cp:lastModifiedBy>
  <cp:lastPrinted>2013-10-21T18:06:42Z</cp:lastPrinted>
  <dcterms:modified xsi:type="dcterms:W3CDTF">2020-11-27T19:29:06Z</dcterms:modified>
  <cp:revision>92</cp:revision>
  <dc:subject/>
  <dc:title>Dia 1</dc:title>
</cp:coreProperties>
</file>