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6019-0AC7-4538-8747-456E22BE7F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leiding: Je komt wel eens een zorgvragers tegen die zich niet lekker voelen. Ze hebben bijv. een rood gelaat, en hebben in die nacht erg gezweet. Wat ga je als verzorgende ondernem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6D74-6DA5-48AD-AD85-092B4D1D022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oed vervoert dit naar het gehele licha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D1E6-E61D-413D-B605-77CDDD4CDA4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meet de pols wanneer er een stoornis is in de hartfunctie. Of wanneer er medicatie is gest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3D44-619E-4F6F-95DC-4BB910C3AFF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245D-8C5F-46D9-93DE-303B41F7D3C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088-3DE2-4E78-9EA9-2457A36C64F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R is het hoogst wanneer de hartkamer samentrekt om het bloed in de slagaders te pompen (systolische druk) Wanneer de hartkamer ontspant is RR laag (diastol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53D9-F040-4A83-9A52-F312113E100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m hg ( millimeter kwikdru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1A28-46A4-44DB-8DB3-02E3E4846C8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bewaakt de vitale functies door te observeren, te meten en te  vergelijken. Hoe voelt de huid aan: koud, warm, droog? Je kijkt bijv. naar de nagels (bij blauwe  verkleuring 02 tekort) Zorgvrager met overgewicht heeft een rode kleur. Mogelijk verhoogde R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3AE4-0F3C-46CC-A7BE-6A4704D60CF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langrijk is om in de ochtend en in de avond te meten. Stofwisseling is dan op een ander pe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F612-CAD1-4506-93BC-DB2F8C5945B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temperatuur kan ook bij infectie. Je meet wanneer je afwijkingen ziet. Rood en warm aanvoelen. Baby’s kunnen lichaamstemperatuur niet reguleren. Ze verliezen door groot oppervlak veel warm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9043-C026-499F-B862-46616DD1B5E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rips zijn minder nauwkeurig. Wanneer je klaar bent rapport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4968-FD8F-4111-AC59-B4E844BFFBC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rg er dus voor dat je altijd op de hoogte bent van de beginwaarden van een zorgvrager/patient/cl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FDED-9CDD-46C4-BA62-20562E4D3A0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tensie: strekken van ledematen. Staan op blz 274 van het b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740E-CC23-44EC-B5EC-51995FA6455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er niet over nadenkt d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119C-D654-40F9-83C9-CFBF8B8A704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3116-ACA1-4241-9E40-875765A5A09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A0E-BC3E-4399-B93A-4335E9B4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586-6A85-4EAC-8EEB-6BDF22DD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97D-6978-4F12-AE92-307936F0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EED-F372-4ABD-9264-4148BB70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26B-0ADD-4B70-B57B-3174213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EC4-08DE-4401-8E96-AEFC279F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069-D90C-482C-BA86-717B3778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BD2-87FA-4757-97F2-84D816D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5F6-A506-4945-9260-99D37C7A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28A-7394-41C8-969B-1DE50985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1D7-A187-41F4-814F-CB7C9B1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612-E4CE-44E9-A0B2-70E44EE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B9BA-B37A-4EA4-86D1-1F7EB2CE350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Persoonlijke verzorg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Het bewaken van de vitale functi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Normale of afwijkende waarden van vitale functi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Observatiepunten afwijkende ademhaling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280" y="1483920"/>
            <a:ext cx="8147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requentie: is verhoogd of verlaag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iepte en gelijkmatigheid: oppervlakkig, heel diep of onregelmat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Ritme en regelmaa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uzes tussen de ademhalingen zijn wisselend, onregelmat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luid: hijgend, snurkend, rochelend of piepe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leur: blauwe lippen en vingertoppen, de neus is spits en w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Hulpademhalingsspiere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Gebruikt men bij ademhalingsmoeilijkhede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Gebruik alle spieren die aan de borstkast zijn bevestigd: spieren in de hals en de neusvleuge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Circulati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loed vervoer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zuurst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oedingsstoff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fvalstoff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eoordelen d.m.v. de hartslag en de bloeddru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eft oordeel over functioneren hart en bloedv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Polssla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innenkant po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Andere plaatsen waar slagaders aan de oppervlakte van het lichaam lopen: hals, lies, kniehol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Wordt geregeld door het autonome zenuwstelsel. Hier heb je zelf geen invloed o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Afbeelding 3" descr="Les-4-info.gif"/>
          <p:cNvPicPr/>
          <p:nvPr/>
        </p:nvPicPr>
        <p:blipFill>
          <a:blip r:embed="rId1"/>
          <a:stretch/>
        </p:blipFill>
        <p:spPr>
          <a:xfrm>
            <a:off x="6072120" y="214200"/>
            <a:ext cx="24955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Observatie van normale polssla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91628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requentie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: 60-80 slagen per minuu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lijkmatighei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: alle slagen zijn even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kracht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Ritme/regelmaat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: pauzes zijn even lang en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regelmat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panning en volume: hartslag is goed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voelbaar, krachtig en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                                 gevu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Calibri"/>
              </a:rPr>
              <a:t>Observatiepunten afwijkende polsslag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requentie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erhoogd of verlaag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lijkmatighei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lagen worden niet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                            allemaal even krachtig 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            uitgevoe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Ritme/ regelmaat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uzes tussen de slagen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                            zijn 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                            wisselend,onregelmat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panning en volume hartslag is week of voelt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juist erg hard a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Bloeddruk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168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e druk waarmee het bloed door de vaten stroomt, de druk in de slagad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meten aan de bovena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loeddruk verdeeld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ystolische bloeddruk of bovendru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iastolische bloeddruk of onderdru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e hoogte van de bloeddruk is afhankelijk van leeftijd, geslacht, toestand hart- en bloedv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Calibri"/>
              </a:rPr>
              <a:t>Bloeddruk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yrnF2E_DnX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ilmpj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s://www.youtube.com/watch?v=N9Uo00EgTT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Bloeddruk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iet beïnvloedba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ovendruk kan verhoogd worden door inspanning, stress of koor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ordt lager tijdens de slaa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ordt verhoogd door sterke emoties of lichamelijke beweg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oorkeur meten in ru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eft informatie over de toestand van de circulatie, functioneren van hart en bloedv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Calibri"/>
              </a:rPr>
              <a:t>Vitale functies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Zijn van levensbel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ven de gezondheidstoestand van de zorgvrager a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eft aanwijzingen over gezondheidsproblem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demhaling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lon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ewustzijn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erse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irculatie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a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Soort bloeddrukmeter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wikbloeddruk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chadelijk voor milieu en jezel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lokbloeddruk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igitale bloeddrukme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manchet om arm of po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Afbeelding 3" descr="131116774252365462.jpg"/>
          <p:cNvPicPr/>
          <p:nvPr/>
        </p:nvPicPr>
        <p:blipFill>
          <a:blip r:embed="rId1"/>
          <a:stretch/>
        </p:blipFill>
        <p:spPr>
          <a:xfrm>
            <a:off x="6608880" y="1143000"/>
            <a:ext cx="2101680" cy="2857680"/>
          </a:xfrm>
          <a:prstGeom prst="rect">
            <a:avLst/>
          </a:prstGeom>
          <a:ln w="0">
            <a:noFill/>
          </a:ln>
        </p:spPr>
      </p:pic>
      <p:pic>
        <p:nvPicPr>
          <p:cNvPr id="93" name="Afbeelding 4" descr="M-00_09_237.jpg"/>
          <p:cNvPicPr/>
          <p:nvPr/>
        </p:nvPicPr>
        <p:blipFill>
          <a:blip r:embed="rId2"/>
          <a:stretch/>
        </p:blipFill>
        <p:spPr>
          <a:xfrm>
            <a:off x="5072040" y="3143160"/>
            <a:ext cx="147312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5" descr="215300-G.jpg"/>
          <p:cNvPicPr/>
          <p:nvPr/>
        </p:nvPicPr>
        <p:blipFill>
          <a:blip r:embed="rId3"/>
          <a:stretch/>
        </p:blipFill>
        <p:spPr>
          <a:xfrm>
            <a:off x="6286680" y="450072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Meten RR (Riva Rocci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p de hoogte zijn vorige R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eten aan welke kant je moet me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eten of je liggend of staand moet me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ndere arm als men een borstamputatie/shunt of afwijkingen heef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oms is er verschil tussen links en rechts of liggend en sta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Hoe meet je de RR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Manchet glad om de arm of de po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M.b.v. het pompje, pomp je het manchet op totdat de slagader wordt dichtgedrukt. Dit kun je aan de polsslag voelen of horen m.b.v. een stethosco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ierna manchet langzaam leeg lop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p moment dat de pols voor het eerst weer hoorbaar of voelbaar is, lees je de waarde van de RR op de meter: systolische bloeddru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Hoe meet je de RR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aarna laat je de manchet langzaam verder leeglopen, hartslag niet meer hoorbaar: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iastolische bloeddru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RR wordt weergegeven in “mm Hg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Verschillende waarde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Licht verhoogde bloeddruk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iastole: 95-99 mm H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Matig verhoogde bloeddruk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iastole: 100-104 mm H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Ernstig verhoogde bloeddruk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iastole hoger dan 105 mm H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oge bloeddruk / Hypertensi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iastolische druk belangrij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Verhoogde diastolische bloeddruk wordt voornamelijk veroorzaakt door lichamelijke problem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Verlaagde bloeddruk / hypotensi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Sho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Ernstige bloe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Temperatuurregulati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Wordt geregeld vanuit de hersenen: hypothalamu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ij stijging temperatuur </a:t>
            </a:r>
            <a:r>
              <a:rPr b="1" lang="nl-NL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verwijden van bloedvaten van de huid </a:t>
            </a:r>
            <a:r>
              <a:rPr b="1" lang="nl-NL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warmteafgifte wordt vergroo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zorgt ervoor dat de ademhaling sneller gaat zodat je meer warmte afgeef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Lichaamstemperatuu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1680" y="16430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Lichaam produceert warmte (verbranding voedingsstoffen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Verliezen van warmte door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Transpirati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Uitadem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Uitscheiding van urine en ontlast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Wat zegt de lichaamstemperatuur iets over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alans warmteproductie en warmteverl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eel verbra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Te hoge schildklierwer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accinat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llergische react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Te veel warmteverlies ( t.g.v. langdurig in een koude omgev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Te weinig warmteverlies t.g.v. uitdrog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Bewaken vitale functies, vijf aspecte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artsla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loeddru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Lichaamstemperatu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demhal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ewustz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Normaalwaarde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Volwassenen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: 36 -37,5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Kinderen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: 36,5 – 37,5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 ochtends temperatuur lager dan ‘s avonds. Dit komt omdat de stofwisseling ‘s nachts op een lager peil ligt </a:t>
            </a:r>
            <a:r>
              <a:rPr b="1" lang="nl-NL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produceert minder warm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Afwijkende waarde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Verhoging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&gt;37,5 – 38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Koorts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&gt; 38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Ondertemperatuur: bij volwassene lager dan 36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bij kind lager dan 36,5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Calibri"/>
              </a:rPr>
              <a:t>Plaatsen temperatuurmeting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Rectum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 de an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xillair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nder de oks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raal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 de mo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tra-auraal of tympanisch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 het o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Verschillende soorten thermometer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wikthermo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igitale thermome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orthermome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trips voorhoofd of onder de tong bij kinder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Afbeelding 3" descr="oorthermometer.jpg"/>
          <p:cNvPicPr/>
          <p:nvPr/>
        </p:nvPicPr>
        <p:blipFill>
          <a:blip r:embed="rId1"/>
          <a:stretch/>
        </p:blipFill>
        <p:spPr>
          <a:xfrm>
            <a:off x="6215040" y="2714760"/>
            <a:ext cx="2524320" cy="2333520"/>
          </a:xfrm>
          <a:prstGeom prst="rect">
            <a:avLst/>
          </a:prstGeom>
          <a:ln w="0">
            <a:noFill/>
          </a:ln>
        </p:spPr>
      </p:pic>
      <p:pic>
        <p:nvPicPr>
          <p:cNvPr id="122" name="Afbeelding 4" descr="1297734955g3B42W.jpg"/>
          <p:cNvPicPr/>
          <p:nvPr/>
        </p:nvPicPr>
        <p:blipFill>
          <a:blip r:embed="rId2"/>
          <a:stretch/>
        </p:blipFill>
        <p:spPr>
          <a:xfrm>
            <a:off x="5500800" y="142884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23" name="Afbeelding 5" descr="BEURER%20FT%2015%20DIGITALE%20THERMOMETER%20MET%20FLEXIBELE%20TIP.jpg"/>
          <p:cNvPicPr/>
          <p:nvPr/>
        </p:nvPicPr>
        <p:blipFill>
          <a:blip r:embed="rId3"/>
          <a:stretch/>
        </p:blipFill>
        <p:spPr>
          <a:xfrm>
            <a:off x="4143240" y="278604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Meten vitale functie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In rust mete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Regelmatig meten om te kunnen vergelijke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Normaal waarden kunnen per zorgvrager verschille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Bewustzij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267920"/>
            <a:ext cx="8362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Een helder en duidelijk besef hebb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Bewustzijnsdaling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Toestand waarin de scherpte van de waarneming en de reactiesnelheid verminder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Observeren bewustzij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(verwachting) stoornis in bewustzij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Hersenlets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Ernstig zieke zv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Zv. die hard op zijn hoofd is gevall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Observeren m.b.v.  Glasgow comaschaal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15 punten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: volledig bij bewustzij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≤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: diep comate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Afbeelding 3" descr="imagesCAKZSK2W.jpg"/>
          <p:cNvPicPr/>
          <p:nvPr/>
        </p:nvPicPr>
        <p:blipFill>
          <a:blip r:embed="rId1"/>
          <a:stretch/>
        </p:blipFill>
        <p:spPr>
          <a:xfrm>
            <a:off x="6775560" y="19080"/>
            <a:ext cx="23335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Glasgow comaschaal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Tijdelijke aanduiding voor inhoud 3" descr="glasgow%20coma%20scale.jpg"/>
          <p:cNvPicPr/>
          <p:nvPr/>
        </p:nvPicPr>
        <p:blipFill>
          <a:blip r:embed="rId1"/>
          <a:stretch/>
        </p:blipFill>
        <p:spPr>
          <a:xfrm>
            <a:off x="1835280" y="1484280"/>
            <a:ext cx="5538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Calibri"/>
              </a:rPr>
              <a:t>Ademhaling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341360"/>
            <a:ext cx="82915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ia de longblaasjes wordt zuurstof uit de buitenlucht opgenomen in de bloedbaan en worden afvalstoffen als kooldioxide vanuit de bloedbaan afgegeven aan de lucht die wordt uitgeadem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ansturing door hersenen, dit gebeurt onbewu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toornis in de ademhaling kan voorkomen bij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Longziek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artproblem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ersenlets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Afbeelding 3" descr="imagesCALELQYX.jpg"/>
          <p:cNvPicPr/>
          <p:nvPr/>
        </p:nvPicPr>
        <p:blipFill>
          <a:blip r:embed="rId1"/>
          <a:stretch/>
        </p:blipFill>
        <p:spPr>
          <a:xfrm>
            <a:off x="6443640" y="4653000"/>
            <a:ext cx="259560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080" y="2924280"/>
            <a:ext cx="3809880" cy="37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851280" y="-3240"/>
            <a:ext cx="52750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Calibri"/>
              </a:rPr>
              <a:t>Observatiepunten ademhaling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700280"/>
            <a:ext cx="8351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Frequentie, volwassen 14-18 maal per minuut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Diepte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Gelijkmatigheid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Ritme en regelmaat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Geluiden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Kleur, geen verkleuring (cyanose) van de vingertoppen, lippen en neus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Tellen ademhaling: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Of alleen de inademen of alleen de uitademingen tellen, niet beiden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8:26:16Z</dcterms:created>
  <dc:creator>m.martin</dc:creator>
  <dc:description/>
  <dc:language>en-US</dc:language>
  <cp:lastModifiedBy>Jolanda Vermeulen</cp:lastModifiedBy>
  <dcterms:modified xsi:type="dcterms:W3CDTF">2020-11-24T21:35:12Z</dcterms:modified>
  <cp:revision>53</cp:revision>
  <dc:subject/>
  <dc:title>Persoonlijke verzorging</dc:title>
</cp:coreProperties>
</file>