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B55-2BE2-4557-9981-3EF58D78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BF6-E3FE-4712-AE5B-60BFE57C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B55-C16D-43F7-AB19-57477377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838-B634-4927-A766-8577C45D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137-8111-4B5B-B3FA-C6ACCF46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654-9830-45EE-B10D-A2579586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1FF-29EF-44B9-83FE-D44C6A91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F4F-D812-4A57-8D1F-7DFB384C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C4C-44F6-482D-A7C8-7CA83684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FA7-B9EE-4DC1-A921-09A2E47F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0BD-8013-4776-98E4-A7F9FCB2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746-B4C5-4597-B6D6-7493CAE0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D4CA-0D9A-40EB-99F2-39093FB1CA2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rendakluijver.nl/Documents/Specials/Nursingsondevoeding0001.pdf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utriciaflocare.com/flocare_page.php?data=infinity" TargetMode="External"/><Relationship Id="rId2" Type="http://schemas.openxmlformats.org/officeDocument/2006/relationships/hyperlink" Target="http://www.nutriciaflocare.com/flocare_page.php?data=infinity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Het inbrengen en verzorgen van de maagsonde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Het toedienen van sondevoe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Kiezen van de juist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ze voor dikte en de soort sonde hangt af v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grootte van de zorgvr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den waarom de sonde moet worden ingebra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kte wordt uitgedrukt in charriere (ch)= 1/3 mm di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0 charriere wordt voor volwassenen gebrui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engte is vaak 11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Soorten maagson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VC:  polyvinylchloride. Voor kortdurend gebruik. 7 dagen. Aantasting door maagz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UR: poly-urethaan. Voor langdurig gebruik. Soepel en glad. Geen aantasting door maagz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iliconen: geschikt voor langdurig gebru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Soorten maagson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91520" cy="4092480"/>
        </p:xfrm>
        <a:graphic>
          <a:graphicData uri="http://schemas.openxmlformats.org/drawingml/2006/table">
            <a:tbl>
              <a:tblPr/>
              <a:tblGrid>
                <a:gridCol w="2073240"/>
                <a:gridCol w="2071800"/>
                <a:gridCol w="2073240"/>
                <a:gridCol w="2073240"/>
              </a:tblGrid>
              <a:tr h="67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V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icon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ruiks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wek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weken of lan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and tegen maagz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lij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itstek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itstek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k materia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lijk ste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w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 diame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er gro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Kiezen van de juist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Éénlumensonde heeft één kanaal. Voor toediening van voeding of diagnostisch onderzo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Microsonde 3-6 ch met een open tip. Geeft minder irritaties aan de neus en keelhol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ubbellumensonde. Voor het spoelen van de maag. Een kanaal om materiaal eruit te halen, door de andere wordt spoelvloeistof toegediend. Deze sonde is het groot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onde uit de bak laten zi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Kiezen van de juist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g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us-duodenumsonde (12-vingerige d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us- jejunumsonde (gedeelte van de dunne darm na het duoden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EG-sonde: percutane Endoscopische Gastros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nunostomie: sonde rechtstreeks via laparotomie in jejunum bijv. ivm maagoperat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Cathelijn\Documents\Bengmark.jpg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27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Cathelijn\Documents\PEG.jpg"/>
          <p:cNvPicPr/>
          <p:nvPr/>
        </p:nvPicPr>
        <p:blipFill>
          <a:blip r:embed="rId2"/>
          <a:stretch/>
        </p:blipFill>
        <p:spPr>
          <a:xfrm>
            <a:off x="684360" y="3573360"/>
            <a:ext cx="80643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Voorbereiding op het inbrengen van een son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orgverlener en zorgvrager moeten samenwerk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p de hoogte brengen van wat er gaat gebeu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preek wat de zorgvrager zelf kan doen. Dit bijv. met het vasthouden van bekertje water, rietje, op het moment van slikken water n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ij intoxicatie of maagbloeding moet sonde acuut worden ingebracht. Je geeft kort en bondig informati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Maak een keuze van de dikte van de so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Kijk in het zorgdossier wanneer iemand al eerder een sonde heeft ge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preek een stopteken 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Inbrengen voedings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91520" cy="380376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aturen en zuigeling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tot 6 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der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 of 10 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3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lwassen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t/m 12 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 vezelrijke voeding (hoge viscositeit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t/m 12 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elke materialen heb je nodi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o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kkent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 glas wa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Niet-steriele handschoen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5 cc spu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h stri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vestigingsmateriaal: neuspleister, veiligheidspe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cha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Celstofmat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issue of zakdoe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et inbrengen van d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lfzittende houding aan laten nemen. Dit ontspant meer dan rechtopzitt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de neus sn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raag aan welke kant de zorgvrager de sonde wil heb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de zorgvrager door het ene neusgat en dan door het andere neusgat ademen, om te kijken welke ruimte groter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t is een maags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is een lange, flexibele buis die in de 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bracht wordt om vocht aan of af te voeren. 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rt de handeling uit in opdracht van de 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et inbrengen van d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paal de leng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rkeer de juiste plaats 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de sonde nat. Warm water maakt buigzaam. Mag gewoon met leiding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ndeling is hygiënisch maar niet ster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rg dat je de pleister hebt afgeknipt die je wil gebrui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ndig het inbrengen a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et inbrengen van de maag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de zorgvrager voor het inbrengen van het eerste gedeelte van de sonde het hoofd iets naar achteren gebogen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zorgvrager kan kokhalsneigingen krij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u het hoofd iets naar voren laten buigen en vraag hem te sli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zorgvrager kan soms gemakkelijker slikken als hij slokjes water dri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et inbrengen van de maag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roleer de sonde of deze op de juiste plaats ligt door 5 cc in de sonde te spuit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Met de stethoscoop op de maag luister je naar borrelgeluiden en trek je maaginhoud 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h strip: normale waarde maag 1,35 – 3,50. De ph waarde &lt; 5,5 is meestal maagligg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e een huidvriendelijke pleister op de ne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Je moet ervoor zorgen dat de sonde de binnenzijde van het neusgat niet raakt. Dit kan drukplekken veroorzak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ixeer op de kleding met veiligheidsp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et erop dat de zorgvrager zijn hoofd nog kan bewe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Tijdelijke aanduiding voor inhoud 3" descr="ph_indicators.jpg"/>
          <p:cNvPicPr/>
          <p:nvPr/>
        </p:nvPicPr>
        <p:blipFill>
          <a:blip r:embed="rId1"/>
          <a:stretch/>
        </p:blipFill>
        <p:spPr>
          <a:xfrm>
            <a:off x="684360" y="549360"/>
            <a:ext cx="4014720" cy="40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medischcontact.artsennet.nl/upload/1b77f338-1552-4627-8220-38140b1f1713_Gezien.Neusmaagsonde%20bew%20250px.jpg"/>
          <p:cNvPicPr/>
          <p:nvPr/>
        </p:nvPicPr>
        <p:blipFill>
          <a:blip r:embed="rId2"/>
          <a:stretch/>
        </p:blipFill>
        <p:spPr>
          <a:xfrm>
            <a:off x="4356000" y="3284640"/>
            <a:ext cx="4656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ikel van de nur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http://www.brendakluijver.nl/Documents/Specials/Nursingsondevoeding0001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nursing.nl/verpleegkunde/richtlijnen-en-protocollen/article/7448/neusmaag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De verzorging van een zorgvrager met een son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 de goede tijden verwisselen, om irritaties te voorko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et op de fixatie. Dit kan ook gaan irrite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sonde mag niet tegen de binnenwand aanliggen, omdat dit drukplekken kan veroorzak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eister moet dagelijks verschoond wor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Regelmatig de neus laten reinigen/verzor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 kriebelhoest, controleer je de sonde of deze nog op de juiste plaats z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et verwijderen van d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nne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 het wisselen van de son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Therapie wordt gestaak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andachtspunt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Informeer de zorgvrag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raak- en kokhalsneigingen en traanogen kunnen optre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alfzittende houding aan laten n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aat de zorgvrager diep inadem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et verwijderen van d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s losh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niet-steriele handschoenen a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et de sonde dicht, voorkom hiermee aspi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zorgvrager enkele malen zuch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wijder de sonde bij de inademing. De verkleint hierdoor aspiratie van vocht/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met een vloeiende bewe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teed aandacht aan de neus. Verzorg met vochtige ga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Problemen bij het inbre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nauwdheid en hoesten. Je zit dan vaak in de luchtpij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aakneigingen. Je onderbreekt de 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krullen van de sonde. Inspecteer de mo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verder kunnen schuiven van de sonde. Forceer noo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Wat is sondevoeding/enterale voeding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Is een volwaardige, vloeibare 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ant en klaar prepara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ervangt de normale voeding of vult deze gedurende korte of lange tijd a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erschillende soorten: energierijk, eiwitrijk en eiwitbeperk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ia maagson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ia jejunumson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-son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sonde 1.jpg"/>
          <p:cNvPicPr/>
          <p:nvPr/>
        </p:nvPicPr>
        <p:blipFill>
          <a:blip r:embed="rId1"/>
          <a:stretch/>
        </p:blipFill>
        <p:spPr>
          <a:xfrm>
            <a:off x="4427640" y="620640"/>
            <a:ext cx="3916440" cy="273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ts1.mm.bing.net/th?id=H.4912524222859144&amp;pid=15.1"/>
          <p:cNvPicPr/>
          <p:nvPr/>
        </p:nvPicPr>
        <p:blipFill>
          <a:blip r:embed="rId2"/>
          <a:stretch/>
        </p:blipFill>
        <p:spPr>
          <a:xfrm>
            <a:off x="179280" y="115920"/>
            <a:ext cx="3416400" cy="28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ts4.mm.bing.net/th?id=H.4912524222859143&amp;pid=15.1"/>
          <p:cNvPicPr/>
          <p:nvPr/>
        </p:nvPicPr>
        <p:blipFill>
          <a:blip r:embed="rId3"/>
          <a:stretch/>
        </p:blipFill>
        <p:spPr>
          <a:xfrm>
            <a:off x="539640" y="3357720"/>
            <a:ext cx="3328920" cy="2787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ietetiek Isala klinieken Zwolle"/>
          <p:cNvPicPr/>
          <p:nvPr/>
        </p:nvPicPr>
        <p:blipFill>
          <a:blip r:embed="rId4"/>
          <a:stretch/>
        </p:blipFill>
        <p:spPr>
          <a:xfrm>
            <a:off x="4140360" y="364500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Tijdelijke aanduiding voor inhoud 3" descr="sondevoeding.bmp"/>
          <p:cNvPicPr/>
          <p:nvPr/>
        </p:nvPicPr>
        <p:blipFill>
          <a:blip r:embed="rId1"/>
          <a:stretch/>
        </p:blipFill>
        <p:spPr>
          <a:xfrm>
            <a:off x="539640" y="549360"/>
            <a:ext cx="3606840" cy="31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ttp://icu.be/images/sondevoeding.jpg"/>
          <p:cNvPicPr/>
          <p:nvPr/>
        </p:nvPicPr>
        <p:blipFill>
          <a:blip r:embed="rId2"/>
          <a:stretch/>
        </p:blipFill>
        <p:spPr>
          <a:xfrm>
            <a:off x="6156360" y="260280"/>
            <a:ext cx="2790720" cy="446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Nutrini� Peptisorb"/>
          <p:cNvPicPr/>
          <p:nvPr/>
        </p:nvPicPr>
        <p:blipFill>
          <a:blip r:embed="rId3"/>
          <a:stretch/>
        </p:blipFill>
        <p:spPr>
          <a:xfrm>
            <a:off x="2195640" y="4000680"/>
            <a:ext cx="2190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Indicaties voor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Moet bij iemand die 7-10 dagen onvoldoende tot niet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innen heeft gekreg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assage en resorptie moeten goed zij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Gestoorde slikfunc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estand van verminderend bewustzij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andoening in mond-, keelholte, slokdarm en de maa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eer slechte algehele toest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inig eetlu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rnstige depressivite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bstructies in maagdarmkana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peraties maagdarmkana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Contra-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obstructie van het maagdarmkanaal, zoals ileus (darmkron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of onvoldoende functioneren van het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eritonitis (buikvliesontstek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renterale voeding wordt dan geko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Keuze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eding is afhankelijk van de leeftijd, aandoening en dieet van de zorgvr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Taken van de diëtist zij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et bepalen van de voedingsbehoefte van de zorgvrager en deze omzetten in sonde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epalen of er een opklimschema nodig 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 het opklimschema laat je de zorgvrager stapsgewijs wennen aan de 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r dag wordt dit verhoog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Klachten bij het opklim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en vol gevoel of pijn in de ma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Misselijkheid of brak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en afwijkend ontlastingpatro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fwijkende diurese (urinevorm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eding is 24 uur houdba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ant en klare voeding mag je bewaren op kamertemperatuu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nneer je voor een dag klaarmaakt, bewaren in de koelka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De voorbereiding op het toedienen van sondevoe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et kan nodig zijn dat je informatie geeft ov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reden van de sonde en de sonde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t sondevoeding voor soort voeding 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manier waarop je sondevoeding toedi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elke hulpmiddelen je kunt gebruiken bij het geven van sonde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mogelijke complicaties of bijwerkingen van sonde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t kan de zorgvrager zelf doen/participeren/foldermateria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Voorbereiding op het toedienen van sondevoe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in het zorgdossier en je controlee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lke voeding is afgesp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nier van toedie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s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 aan de verpak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moet de juiste temperatuur hebben. Koude voeding kan krampen ge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Voorbereiding op het toedienen van sondevoe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rme voeding geeft weefsel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a een druppelsysteem geef je sondevoeding op kamer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per portie moet ongeveer 37 graden zij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sondevoeding kan je verwarmen in een bak met water. Magnetr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controleert aan de binnenzijde van je p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Toediening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inue toedienen: je geeft de voeding gespreid over 24 uur. Je gebruikt voedingspomp of toedieningsysteem met rolregelk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de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 belastend zijn voor de zorgvrager. 24 uur per dag met zich meedra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eet nooit gedurende de hele dag. Je benadert niet het normale eetpatr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Toediening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mitterende methode: volgens een vast voedingsschema enkele keren per dag een grote hoeveelheid sonde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edienen met behulp van spuit en trechter die je rechtstreeks aan de maagsonde koppe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hoger de trechter hoe sneller de voeding inloo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bruik regelmatig de kocher om de sonde af te klemmen. Zo voorkom je instroom van lu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ar wordt de sonde ingebrac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de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a de slokd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in de m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2 vingerige d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Tijdelijke aanduiding voor inhoud 3" descr="Flocare_Infinity.png"/>
          <p:cNvPicPr/>
          <p:nvPr/>
        </p:nvPicPr>
        <p:blipFill>
          <a:blip r:embed="rId1"/>
          <a:stretch/>
        </p:blipFill>
        <p:spPr>
          <a:xfrm>
            <a:off x="2340000" y="-531720"/>
            <a:ext cx="2732040" cy="4098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www.nutriciaflocare.com/images/sets/Pack_Set.jpg"/>
          <p:cNvPicPr/>
          <p:nvPr/>
        </p:nvPicPr>
        <p:blipFill>
          <a:blip r:embed="rId2"/>
          <a:stretch/>
        </p:blipFill>
        <p:spPr>
          <a:xfrm>
            <a:off x="179280" y="0"/>
            <a:ext cx="1714680" cy="571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Cathelijn\Documents\flocare_800_banner.jpg"/>
          <p:cNvPicPr/>
          <p:nvPr/>
        </p:nvPicPr>
        <p:blipFill>
          <a:blip r:embed="rId3"/>
          <a:stretch/>
        </p:blipFill>
        <p:spPr>
          <a:xfrm>
            <a:off x="2050920" y="2637000"/>
            <a:ext cx="6589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Toedien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intermitterende methode kun je gebru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ken van de voedingspomp. Je geeft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per portie/bo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aat tussendoor met de zorgvrager wanneer je een spuit/trechter gebrui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voorkomt hiermee sociaal iso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naspoel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rijf dit op de vochtba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Toedien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de spuit/trechter goed schoon. Om de 8 uur verwiss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ssystemen elke 24 uur vervangen. Contaminatie kan plaatsvinden v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lu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rect contact en via de lucht tijdens het aansluiten van de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maag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Pomp uitl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http://www.nutriciaflocare.com/flocare_page.php?data=pump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eb8803"/>
                </a:solidFill>
                <a:uFillTx/>
                <a:latin typeface="Calibri"/>
                <a:hlinkClick r:id="rId2"/>
              </a:rPr>
              <a:t>http://www.nutriciaflocare.com/flocare_page.php?data=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nutriciaflocare.com/pumptrain.php?pump=flocare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Het toedienen van medicijnen via een son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Je moet hiermee uiterst zorgvuldig z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loeibare medicijnen zijn geen proble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et op medicatie die een bepaalde opnametijd hebben, of medicatie die pas in de dikke darm opgenomen worden. Deze mag je niet fijnmal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nk aan dragee of caps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os je deze medicatie op dan kunnen ze de maag irrite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Ze verliezen de werking door inwerking van maags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Het toedienen van medicijnen via een sond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ees goed op de hoogte van het soort medicijn dat moet worden toegedien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ijk bijvoorbeeld op het handboek enteral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In overleg met de arts kijk je naar een andere oplossing. Bijv. parenteraal of recta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 uitzondering maak je een “medicijnpapje” van medicatie e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oel de sonde altijd door met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sonde kan verstopt raken. Gebruik koolzuurhoudend bron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et op de vochtbalan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Verpleegkundige aandachtspunt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greten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spi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toord defecatiepatr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blemen in het mondgeb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Maagretentie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l gevo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r blijft voeding achter in de maag en verteert niet zoals zou moet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iervan wordt gesproken als er één uur nadat de voeding is gegeven nog 50% in de maag aanwezig 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an optreden door vertraagde werking van de ma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an optreden door te grote hoeveelheid sondevoeding of verkeerde samenstel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Maagretenti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ij misselijk en braken staak je de voe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Je past de hoeveelheid aan in overleg met arts of diëtist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Je maakt een nieuw opklimschem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Je verhoogt de voeding pas wanneer retentie minder 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Voor iedere voeding retentie met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puit van 60 ml op de verbinding plaats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rek rustig aan de spuit, voorkom vacuü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pgetrokken maaginhoud langzaam terug spuit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poel de maagsonde 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ij continue voeding, staak je voor één uur de voe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Aspir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sel, speeksel uit de mond, neusholte of keelholte komt in de longen tere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spiratiepneumonie kan ontsta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zorgvrager kan sondevoeding aspireren door reflux: het terugvloeien van voeding tegen de normale stroomrich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tip van de sonde zit niet meer go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edienen van voedings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agnose ste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voeren van maaginhoud om de maag leeg te houden (maaghevel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oelen van de m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Onopvallende symp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achypnoe (versnelde ademhal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achycardie (versnelde hartsla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or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ypoxie (zuurstoftek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gewone rochelende ademgelui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staakt direct de voeding en waarschuw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rt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Aspiratie voork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org de zorgvrager in een halfzittende pos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er de plaats van de maagsonde voordat je voeding gaat toedie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er voor toediening of de fixatie aan de neus nog goed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 toediening minimaal 45 minuten in een halfzittende pos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er regelmat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Gestoord defecatiepatr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iarree of obstipat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ventueel veranderingen in voeding moet plaatsvin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 obstipatie vezelrijke sonde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iaree kan door te snelle inlooptijd, een te groot volume per portie of een te hoge osmolariteit van de voeding ontsta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en te hoog concentratie van de voeding trekt vocht in het maagdarmkana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ndere oorzaken: koude voeding, bacteriële infect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Let o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it de houdbaarheidsdatum overschrij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teriele, industrieel bereide sondevoeding gebruik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Iedere 24 uur het toedieningssysteem verva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septisch werken (zo schoon mogelijk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eg een vochtbalans aan wanneer iemand langer dan 24 uur last heeft van diarre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et op dehydratie. Vocht kan ook via sonde gegeven wor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Problemen in het mondgebi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er kans op ontstekingen van speekselklieren, tandvlees en mondslijmv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immelinfectie ka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slijmvlies droogt uit vanwege de verminderde kauwfun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Maatregel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 de mond vocht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gelmatig de tanden poets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unstgebit ‘s nachts uitl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viseer om kauwgom te kauwen bij voorkeur suikervri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er de monde regelmatig op wondj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akel mondhygiëniste 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Psychische klach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imuleer de zorgvrager zich te 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uister naar de zorgvr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de zorgvrager zo zelfstandig mogelijk function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js mensen op de stichting RET (registratie enterale en parenterale voeding thu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Som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a de pom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zorgvrager moet gedurende de dag (24 uur) 2000 m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krijg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welke stand moet de pomp ingest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d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oet 500 ml sondevoeding in 2,5 uur tijd geven. Wat moet de druppelsnelheid wo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Toedienen van voedingsstoff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(voldoende) kunnen eten en drinken, bijv. bij obstructie door een tumor in de slokdarm. Slikproblemen door radio- of chemotherap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mogen eten/drinken, bijv. direct na operatie in het gastro-intestinale geb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willen eten bijv. anorexia nervo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Diagnose ste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a de sonde kan contrastmiddel wor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egedie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gsappen kunnen worden opgez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viprep/cleanprep kan worden toegedi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Maaginhoud verwijde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ginhoud hevelen, passief of actief na operatie. Spijsverteringskanaal kan tot rust 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spoelen van de maag na intoxicat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Contra-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okdarm vari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okdarm carcin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okdarm sten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08:34:19Z</dcterms:created>
  <dc:creator>ROC</dc:creator>
  <dc:description/>
  <dc:language>en-US</dc:language>
  <cp:lastModifiedBy>Cathelijn Strijbosch</cp:lastModifiedBy>
  <dcterms:modified xsi:type="dcterms:W3CDTF">2014-11-18T08:30:09Z</dcterms:modified>
  <cp:revision>50</cp:revision>
  <dc:subject/>
  <dc:title>Het inbrengen en verzorgen van de maagsonde Het toedienen van sondevoeding</dc:title>
</cp:coreProperties>
</file>