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79E7-C450-4266-A0C7-A7848E785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leiding: Je komt wel eens een zorgvragers tegen die zich niet lekker voelen. Ze hebben bijv. een rood gelaat, en hebben in die nacht erg gezweet. Wat ga je als verzorgende ondernem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05E3-67ED-4CF4-9282-76C61BB1E63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oed vervoert dit naar het gehele licha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F60D-FF3B-4580-AB40-5EB94972732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meet de pols wanneer er een stoornis is in de hartfunctie. Of wanneer er medicatie is gest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391-76DC-4D2D-B21C-CD1BBC80C00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C0C-E6E5-4C46-9705-BEBE7DA8B6B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3B0C-3F62-4248-A5EA-887614DAD43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R is het hoogst wanneer de hartkamer samentrekt om het bloed in de slagaders te pompen (systolische druk) Wanneer de hartkamer ontspant is RR laag (diastol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829C-5000-4197-A57A-CC315C1EF7F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m hg ( millimeter kwikdru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566-9939-4577-B789-086FCDC3DD7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bewaakt de vitale functies door te observeren, te meten en te  vergelijken. Hoe voelt de huid aan: koud, warm, droog? Je kijkt bijv. naar de nagels (bij blauwe  verkleuring 02 tekort) Zorgvrager met overgewicht heeft een rode kleur. Mogelijk verhoogde R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A00-02AE-4F0E-962A-917518D2A88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langrijk is om in de ochtend en in de avond te meten. Stofwisseling is dan op een ander pe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980-CD53-4E46-9205-0F56D15F191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temperatuur kan ook bij infectie. Je meet wanneer je afwijkingen ziet. Rood en warm aanvoelen. Baby’s kunnen lichaamstemperatuur niet reguleren. Ze verliezen door groot oppervlak veel war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E8F-FE63-434B-AA8A-2D1013A4E76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rips zijn minder nauwkeurig. Wanneer je klaar bent rapport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BD68-1801-4B59-A4DD-2829558B180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rg er dus voor dat je altijd op de hoogte bent van de beginwaarden van een zorgvrager/patient/cl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2669-139D-4B4A-A74F-5A3B5F6E621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tensie: strekken van ledematen. Staan op blz 274 van het b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EB89-A233-4CD3-8671-5440CA4A5C3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er niet over nadenkt d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FB2-1120-4BD5-A3C7-4B3F4DD14EB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C2D0-10B6-4EFF-8FFA-234998BEE4E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8CE-2035-40D0-8512-4ADEF33C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770-EB30-441D-8C20-7F2C49BC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80F-151B-45A7-AF2B-8D71E2AB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181-DAF6-4FC7-A377-1029880C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B26-D75B-466A-9505-6F1158A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B0B-C545-4A67-93EE-3F8D3DF6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72E-4341-4DE4-94B4-9B9ADF9B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9D9-FE80-4112-8D04-0F6802A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98C-B940-42CD-A0E8-0BC058C2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2C9-5E1B-4E02-A6EF-16F509F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9EA-C18B-4AAF-A2FA-0ADF07E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3FE-7E24-4279-A8F7-D614BF7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6F6-6EB4-4D58-A7EB-4B272C54C55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Persoonlijke verzorg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Het bewaken van de vitale funct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Normale of afwijkende waarden van vitale funct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Observatiepunten afwijkende ademhaling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483920"/>
            <a:ext cx="8147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: is verhoogd of verlaag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epte en gelijkmatigheid: oppervlakkig, heel diep of 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 en regelmaa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uzes tussen de ademhalingen zijn wisselend, 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uid: hijgend, snurkend, rochelend of piep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leur: blauwe lippen en vingertoppen, de neus is spits en w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ulpademhalingsspier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Gebruikt men bij ademhalingsmoeilijkhed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Gebruik alle spieren die aan de borstkast zijn bevestigd: spieren in de hals en de neusvleuge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Circulat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 vervoer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zuurst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oedingsstoff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fvalstoff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oordelen d.m.v. de hartslag en de 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oordeel over functioneren hart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Polssla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innenkant po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Andere plaatsen waar slagaders aan de oppervlakte van het lichaam lopen: hals, lies, kniehol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ordt geregeld door het autonome zenuwstelsel. Hier heb je zelf geen invloed o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Afbeelding 3" descr="Les-4-info.gif"/>
          <p:cNvPicPr/>
          <p:nvPr/>
        </p:nvPicPr>
        <p:blipFill>
          <a:blip r:embed="rId1"/>
          <a:stretch/>
        </p:blipFill>
        <p:spPr>
          <a:xfrm>
            <a:off x="6072120" y="214200"/>
            <a:ext cx="249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Observatie van normale polssla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916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60-80 slagen per minu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alle slagen zijn eve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krach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/regelmaat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: pauzes zijn even lang 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panning en volume: hartslag is goed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voelbaar, krachtig 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     gevu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Observatiepunten afwijkende polssla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requen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hoogd of verlaag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lagen worden niet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allemaal even krachtig 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uitgevoe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itme/ regelmaat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uzes tussen de sla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zijn 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                            wisselend,onregelmati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panning en volume hartslag is week of voelt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juist erg hard a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e druk waarmee het bloed door de vaten stroomt, de druk in de slagad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eten aan de bovena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druk verdeel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ystolische bloeddruk of boven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astolische bloeddruk of onder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e hoogte van de bloeddruk is afhankelijk van leeftijd, geslacht, toestand hart-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yrnF2E_DnX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ilmpj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s://www.youtube.com/watch?v=N9Uo00EgTT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eïnvloedba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ovendruk kan verhoogd worden door inspanning, stress of koor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ordt lager tijdens de slaa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ordt verhoogd door sterke emoties of lichamelijke beweg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oorkeur meten in ru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informatie over de toestand van de circulatie, functioneren van hart en bloedv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Calibri"/>
              </a:rPr>
              <a:t>Vitale functie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Zijn van levensbe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ven de gezondheidstoestand van de zorgvrager a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Geeft aanwijzingen over gezondheidsproblem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emhaling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o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wustzijn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erse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irculatie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Soort bloeddrukmeter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wikbloeddruk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chadelijk voor milieu en jezel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lokbloeddruk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gitale bloeddruk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anchet om arm of p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Afbeelding 3" descr="131116774252365462.jpg"/>
          <p:cNvPicPr/>
          <p:nvPr/>
        </p:nvPicPr>
        <p:blipFill>
          <a:blip r:embed="rId1"/>
          <a:stretch/>
        </p:blipFill>
        <p:spPr>
          <a:xfrm>
            <a:off x="6608880" y="1143000"/>
            <a:ext cx="210168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Afbeelding 4" descr="M-00_09_237.jpg"/>
          <p:cNvPicPr/>
          <p:nvPr/>
        </p:nvPicPr>
        <p:blipFill>
          <a:blip r:embed="rId2"/>
          <a:stretch/>
        </p:blipFill>
        <p:spPr>
          <a:xfrm>
            <a:off x="5072040" y="3143160"/>
            <a:ext cx="147312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5" descr="215300-G.jpg"/>
          <p:cNvPicPr/>
          <p:nvPr/>
        </p:nvPicPr>
        <p:blipFill>
          <a:blip r:embed="rId3"/>
          <a:stretch/>
        </p:blipFill>
        <p:spPr>
          <a:xfrm>
            <a:off x="6286680" y="450072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Meten RR (Riva Rocci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p de hoogte zijn vorige R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eten aan welke kant je moet me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eten of je liggend of staand moet me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ndere arm als men een borstamputatie/shunt of afwijkingen heef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oms is er verschil tussen links en rechts of liggend en sta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oe meet je de RR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anchet glad om de arm of de po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M.b.v. het pompje, pomp je het manchet op totdat de slagader wordt dichtgedrukt. Dit kun je aan de polsslag voelen of horen m.b.v. een stethosco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ierna manchet langzaam leeg lop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p moment dat de pols voor het eerst weer hoorbaar of voelbaar is, lees je de waarde van de RR op de meter: systolische 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Hoe meet je de RR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aarna laat je de manchet langzaam verder leeglopen, hartslag niet meer hoorbaar: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ische bloeddru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RR wordt weergegeven in “mm Hg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schillende 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Licht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: 95-99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Matig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: 100-104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Ernstig verhoogde bloeddruk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e hoger dan 105 mm H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Hoge bloeddruk / Hypertensi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iastolische druk belangrij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erhoogde diastolische bloeddruk wordt voornamelijk veroorzaakt door lichamelijke problem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laagde bloeddruk / hypotens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Ernstige bloe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Temperatuurregulati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ordt geregeld vanuit de hersenen: hypothalamu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ij stijging temperatuur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verwijden van bloedvaten van de huid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warmteafgifte wordt vergroo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zorgt ervoor dat de ademhaling sneller gaat zodat je meer warmte afgeef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Lichaamstemperatuu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16430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Lichaam produceert warmte (verbranding voedingsstoffe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Verliezen van warmte do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Transpirati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Uitadem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Uitscheiding van urine en ontlas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Wat zegt de lichaamstemperatuur iets over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alans warmteproductie en warmteverl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el verbr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hoge schildklierwer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accina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llergische react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veel warmteverlies ( t.g.v. langdurig in een koude omgev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e weinig warmteverlies t.g.v. uitdrog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ewaken vitale functies, vijf aspect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sla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loeddru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ichaamstemperatu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Bewustz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Normaal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olwassenen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: 36 -37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Kinderen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: 36,5 – 37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 ochtends temperatuur lager dan ‘s avonds. Dit komt omdat de stofwisseling ‘s nachts op een lager peil ligt </a:t>
            </a:r>
            <a:r>
              <a:rPr b="1" lang="nl-N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produceert minder warm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Afwijkende waarde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Verhoging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&gt;37,5 – 38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Koorts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&gt; 38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Ondertemperatuur: bij volwassene lager dan 36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bij kind lager dan 36,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Plaatsen temperatuurmet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Rectum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de an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xillair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nder de oks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aal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de mo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tra-auraal of tympanisch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 het 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Verschillende soorten thermometer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wikthermo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Digitale thermo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orthermome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rips voorhoofd of onder de tong bij kinder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Afbeelding 3" descr="oorthermometer.jpg"/>
          <p:cNvPicPr/>
          <p:nvPr/>
        </p:nvPicPr>
        <p:blipFill>
          <a:blip r:embed="rId1"/>
          <a:stretch/>
        </p:blipFill>
        <p:spPr>
          <a:xfrm>
            <a:off x="6215040" y="2714760"/>
            <a:ext cx="2524320" cy="2333520"/>
          </a:xfrm>
          <a:prstGeom prst="rect">
            <a:avLst/>
          </a:prstGeom>
          <a:ln w="0">
            <a:noFill/>
          </a:ln>
        </p:spPr>
      </p:pic>
      <p:pic>
        <p:nvPicPr>
          <p:cNvPr id="122" name="Afbeelding 4" descr="1297734955g3B42W.jpg"/>
          <p:cNvPicPr/>
          <p:nvPr/>
        </p:nvPicPr>
        <p:blipFill>
          <a:blip r:embed="rId2"/>
          <a:stretch/>
        </p:blipFill>
        <p:spPr>
          <a:xfrm>
            <a:off x="5500800" y="142884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5" descr="BEURER%20FT%2015%20DIGITALE%20THERMOMETER%20MET%20FLEXIBELE%20TIP.jpg"/>
          <p:cNvPicPr/>
          <p:nvPr/>
        </p:nvPicPr>
        <p:blipFill>
          <a:blip r:embed="rId3"/>
          <a:stretch/>
        </p:blipFill>
        <p:spPr>
          <a:xfrm>
            <a:off x="4143240" y="27860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Meten vitale functie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In rust met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Regelmatig meten om te kunnen vergelijk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Normaal waarden kunnen per zorgvrager verschille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Bewustzij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267920"/>
            <a:ext cx="8362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Een helder en duidelijk besef hebb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Bewustzijnsdaling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Toestand waarin de scherpte van de waarneming en de reactiesnelheid verminder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Observeren bewustzij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(verwachting) stoornis in bewustzij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Hersenlets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Ernstig zieke zv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Zv. die hard op zijn hoofd is geval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Observeren m.b.v.  Glasgow comaschaal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 punten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: volledig bij bewustzij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: diep comat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Afbeelding 3" descr="imagesCAKZSK2W.jpg"/>
          <p:cNvPicPr/>
          <p:nvPr/>
        </p:nvPicPr>
        <p:blipFill>
          <a:blip r:embed="rId1"/>
          <a:stretch/>
        </p:blipFill>
        <p:spPr>
          <a:xfrm>
            <a:off x="6775560" y="19080"/>
            <a:ext cx="2333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alibri"/>
              </a:rPr>
              <a:t>Glasgow comaschaal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Tijdelijke aanduiding voor inhoud 3" descr="glasgow%20coma%20scale.jpg"/>
          <p:cNvPicPr/>
          <p:nvPr/>
        </p:nvPicPr>
        <p:blipFill>
          <a:blip r:embed="rId1"/>
          <a:stretch/>
        </p:blipFill>
        <p:spPr>
          <a:xfrm>
            <a:off x="1835280" y="1484280"/>
            <a:ext cx="553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Calibri"/>
              </a:rPr>
              <a:t>Ademhaling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360"/>
            <a:ext cx="82915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ia de longblaasjes wordt zuurstof uit de buitenlucht opgenomen in de bloedbaan en worden afvalstoffen als kooldioxide vanuit de bloedbaan afgegeven aan de lucht die wordt uitgeadem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ansturing door hersenen, dit gebeurt onbewu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oornis in de ademhaling kan voorkomen bij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Longziek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Hersenlets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Afbeelding 3" descr="imagesCALELQYX.jpg"/>
          <p:cNvPicPr/>
          <p:nvPr/>
        </p:nvPicPr>
        <p:blipFill>
          <a:blip r:embed="rId1"/>
          <a:stretch/>
        </p:blipFill>
        <p:spPr>
          <a:xfrm>
            <a:off x="6443640" y="4653000"/>
            <a:ext cx="259560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080" y="2924280"/>
            <a:ext cx="3809880" cy="37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851280" y="-3240"/>
            <a:ext cx="5275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Calibri"/>
              </a:rPr>
              <a:t>Observatiepunten ademhal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700280"/>
            <a:ext cx="835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Frequentie, volwassen 14-18 maal per minuut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Diepte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Gelijkmatigheid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Ritme en regelmaat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Geluide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Kleur, geen verkleuring (cyanose) van de vingertoppen, lippen en neus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Tellen ademhaling: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000000"/>
                </a:solidFill>
                <a:latin typeface="Calibri"/>
              </a:rPr>
              <a:t>Of alleen de inademen of alleen de uitademingen tellen, niet beide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8:26:16Z</dcterms:created>
  <dc:creator>m.martin</dc:creator>
  <dc:description/>
  <dc:language>en-US</dc:language>
  <cp:lastModifiedBy>Jolanda Vermeulen</cp:lastModifiedBy>
  <dcterms:modified xsi:type="dcterms:W3CDTF">2020-11-24T21:35:12Z</dcterms:modified>
  <cp:revision>53</cp:revision>
  <dc:subject/>
  <dc:title>Persoonlijke verzorging</dc:title>
</cp:coreProperties>
</file>