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2680-479C-405B-BDE3-198144C64E1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C6F6-2683-438B-9109-14D947E7761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ijdelijke aanduiding voor voettekst 3"/>
          <p:cNvSpPr/>
          <p:nvPr/>
        </p:nvSpPr>
        <p:spPr>
          <a:xfrm>
            <a:off x="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eam. Opleiding Pantein;                                                        Saskia v.d.Akker/Bianca Heij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dianummer 4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D560-453C-4922-9A43-222EAD2925C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jdelijke aanduiding voor voettekst 3"/>
          <p:cNvSpPr/>
          <p:nvPr/>
        </p:nvSpPr>
        <p:spPr>
          <a:xfrm>
            <a:off x="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eam. Opleiding Pantein;                                                        Saskia v.d.Akker/Bianca Heij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jdelijke aanduiding voor dianummer 4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F2D4-8CCC-4610-9CF5-F0325AF7CAB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jdelijke aanduiding voor voettekst 3"/>
          <p:cNvSpPr/>
          <p:nvPr/>
        </p:nvSpPr>
        <p:spPr>
          <a:xfrm>
            <a:off x="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eam. Opleiding Pantein;                                                        Saskia v.d.Akker/Bianca Heij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jdelijke aanduiding voor dianummer 4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82D4-4422-42AA-AA8D-27F6942F872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3D54-0862-4BAB-8FFE-400CB75EFA7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4E74-E339-4AF6-8696-DA125D4F3AD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21E5-E226-4653-B9AA-DC5AB3E22B9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9B9F-1BCB-43A1-9722-47E5D5BE15B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44F4-72DF-4A96-8526-90E98793CB1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3BC4-93A1-40E5-9666-BD17DAF03DA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56F6-69E8-4CA1-8900-C546A415C7E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53FF-DE0F-44F5-ABD7-05C30AC8597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661E-D068-4D3F-B43C-87D00FECED2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voettekst 3"/>
          <p:cNvSpPr/>
          <p:nvPr/>
        </p:nvSpPr>
        <p:spPr>
          <a:xfrm>
            <a:off x="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eam. Opleiding Pantein;                                                        Saskia v.d.Akker/Bianca Heij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jdelijke aanduiding voor dianummer 4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93AE-1C00-4095-8604-E513B7B8632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4EDE-9C0E-422C-9E16-3DF1A9EC8D5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ADE-D799-411A-AAC3-D72BC3DF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8E4D-20B6-499A-9AFA-7DFA31A6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24E-A709-436D-9DE3-85418A1B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A84-256F-44ED-99E2-ECA28E14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7BE2-2CF1-4912-A4F1-3C9410D4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AEC5-0CE0-4608-B666-8CC50E5E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7C27-2528-4833-8F0F-3863E20F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76F5-F8F2-44BB-B9AB-D2CB5F19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441D-E5E7-4EAD-A99D-78F436BD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7F99-C7E3-4E31-8200-40F62FAF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8235-45E5-4F9D-9F5B-13164492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4E6-34A1-41F6-9AAB-E6A094FD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ADBE-D0A1-476B-AC74-34277AF6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19D1-E91F-42CF-9B1A-97B7FDA3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777D-97DE-41E2-9A44-052D39C1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9CFB-7A3D-4383-8F89-67DA53C9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680D-2C57-4EFF-A31A-3CB0B7A3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6511-1F58-46FF-9276-7D65AC8C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8E9-C3E8-4353-9440-3F16D2E7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34F-624B-4BDB-87EF-29D30DC1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55D2-667D-4E8D-AE66-96281A5A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EF6-0675-4CE8-BB88-4E21244A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C23-A14A-4559-AAFA-8DD54F47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A402-FCC0-4478-94BB-0D1C2377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05AD-67D5-438A-8728-DEA7554C9F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eam. opleiding Pantein;                                                                                         Saskia v.d. Akker/Bianca Heij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CE22-0404-4ACC-A38C-719374B905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h90pZYZpZRNMwM&amp;tbnid=UCUVqdmk2JBFuM:&amp;ved=0CAUQjRw&amp;url=http%3A%2F%2Fblog.geld.nl%2FZorgverzekering%2FVergoeding_ziekte_pompe_toch_uit_basispakket.aspx&amp;ei=zRudUfq0HsfP0QWHz4GoDw&amp;psig=AFQjCNH_-30OdEhLuG0OAOk-DZCMmNuw2Q&amp;ust=13693371422326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XyNO3LXMw_ZmxM&amp;tbnid=JlcymjO6uSSfUM:&amp;ved=0CAUQjRw&amp;url=http%3A%2F%2Fwww.careality.nl%2Fsite%2F2012%2F06%2F23%2Fcanesten-gyno-creme-en-tablet-tegen-vaginale-schimmelinfectie%2F&amp;ei=xBBkUu_RJoOL0AWDroGwBQ&amp;psig=AFQjCNFjPzaBz48WBbZP4zlTbLlg55_9ew&amp;ust=1382375966697083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google.nl/url?sa=i&amp;rct=j&amp;q=&amp;esrc=s&amp;frm=1&amp;source=images&amp;cd=&amp;cad=rja&amp;docid=2HfDN8y0QWWXkM&amp;tbnid=y2VN3emmoOPO_M:&amp;ved=0CAUQjRw&amp;url=http%3A%2F%2Fwww.openapotheek.nl%2Fimodium-smelttablet-orodisp-tablet-2mg-10st%2F&amp;ei=VRFkUqKKFaaI0AW4rIHYDQ&amp;psig=AFQjCNEvvGIdpiUCCReKSgik63Mw8iOrfA&amp;ust=1382376141211250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docid=4xHexeiJSJ2cwM&amp;tbnid=Q6Qvvp5hpMBXuM:&amp;ved=0CAUQjRw&amp;url=http%3A%2F%2Fmedischcontact.artsennet.nl%2Farchief-6%2Ftijdschriftartikel%2F136743%2Fexit-receptblok.htm&amp;ei=QBJkUo7_NIOx0QWlyoGIBg&amp;psig=AFQjCNHTlT5ZfChRBLXt4eJMyTNVnS6LJA&amp;ust=1382376276654543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tZB1Sedg0pr0IM&amp;tbnid=NP6NjLFF3YLUtM:&amp;ved=0CAUQjRw&amp;url=http%3A%2F%2Flerenenmotiveren.infoplatform.nl%2Fkennisbank%2Fmedicijnen-in-het-verkeer%2F&amp;ei=XR1kUoaiNufJ0QX0xID4Cw&amp;bvm=bv.54934254,d.d2k&amp;psig=AFQjCNHXK5nfFZQKUQbNUP-T8Vc6cCXMEg&amp;ust=1382379187046302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cOW16bfk1xuk8M&amp;tbnid=5AXfDRcB-V7UVM:&amp;ved=0CAUQjRw&amp;url=http%3A%2F%2Fwww.spruyt-hillen.nl%2Fcatalogue%2Fverpak%2Fstickers&amp;ei=EBZkUpCnII2Y1AWy9ICQAw&amp;psig=AFQjCNHvbPP5uoLNGZs_6bJx2PX2TWVF5A&amp;ust=1382377243019481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tZB1Sedg0pr0IM&amp;tbnid=aWETr0tkQI1wJM:&amp;ved=0CAUQjRw&amp;url=http%3A%2F%2Flerenenmotiveren.infoplatform.nl%2Fkennisbank%2Fmedicijnen-in-het-verkeer%2F&amp;ei=PB1kUpepOaLH0QXI_YHICw&amp;bvm=bv.54934254,d.d2k&amp;psig=AFQjCNHXK5nfFZQKUQbNUP-T8Vc6cCXMEg&amp;ust=1382379187046302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xs1LGO2-olLDOM&amp;tbnid=QWw-19JhB9urAM:&amp;ved=0CAUQjRw&amp;url=http%3A%2F%2Fnl.wikipedia.org%2Fwiki%2FMethylfenidaat&amp;ei=8R1kUtvmCeeV0QXP_IHIAw&amp;psig=AFQjCNHXK5nfFZQKUQbNUP-T8Vc6cCXMEg&amp;ust=1382379187046302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c6DmTVczwfcCKM&amp;tbnid=EuXXf9A6SbNdEM:&amp;ved=0CAUQjRw&amp;url=http%3A%2F%2Fjaarbeeld2011.sheerenloo.nl%2Fnl%2Fmagazine%2F2612%2F681645%2F.html&amp;ei=vxhkUq-VG-mb0QWm0oDABw&amp;psig=AFQjCNFW6O4MKrLVi7GhNl3gO_F9Oh78zA&amp;ust=138237799710332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_UBWw3p6s9pjIM&amp;tbnid=Ch-1cUJCdDSIGM:&amp;ved=0CAUQjRw&amp;url=http%3A%2F%2Fwww.medicijnkar.nl%2Fmedicijnkarren%2Fmedicijnwagen-baxtergeschikt%2F&amp;ei=ZxlkUqbYG4_z0gWsooGYCQ&amp;psig=AFQjCNFW6O4MKrLVi7GhNl3gO_F9Oh78zA&amp;ust=138237799710332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oiz3uKOVITjWOM&amp;tbnid=4b4xjr5KgN3vpM:&amp;ved=0CAUQjRw&amp;url=http%3A%2F%2Fwww.megapoint.nl%2Fcontents%2Fnl%2Fd36_Flesjes_Potjes.html&amp;ei=yRxkUqnvKaWV0QXdpYDoBQ&amp;bvm=bv.54934254,d.d2k&amp;psig=AFQjCNFpd1EvsKLQB0IiNx5YiW1ClLbygg&amp;ust=1382379074269989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google.nl/url?sa=i&amp;rct=j&amp;q=&amp;esrc=s&amp;frm=1&amp;source=images&amp;cd=&amp;cad=rja&amp;docid=oCq9KC49grywgM&amp;tbnid=2TdrA_p_FuRfrM:&amp;ved=0CAUQjRw&amp;url=http%3A%2F%2Fwww.zorginbeeld.nl%2Ftag%2Fmedicatiedoosje%2F&amp;ei=5xxkUofqBebW0QW3zYHICg&amp;bvm=bv.54934254,d.d2k&amp;psig=AFQjCNFpd1EvsKLQB0IiNx5YiW1ClLbygg&amp;ust=1382379074269989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cfabI-pSpl-n2M&amp;tbnid=suoupLGeejdW5M:&amp;ved=0CAUQjRw&amp;url=http%3A%2F%2Fpantos-pharmacy.com%2Fproducts.php%3Fproduct%3DValium-10mg%257B47%257D2ml-by-Roche-x-100-Amp&amp;ei=9NJjUrXGMOPX0QWekIHAAg&amp;bvm=bv.54934254,d.d2k&amp;psig=AFQjCNGPGga01HM-v0mrTtflU54zCkQ4SQ&amp;ust=1382360163747558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u9pukOgDBlY6HM&amp;tbnid=j8BFBVKEOuCjoM:&amp;ved=0CAUQjRw&amp;url=http%3A%2F%2Fzelfzorg.nl%2Fproduct%2Fibuprofen-400-mg-omhulde-tabletten-samenwerkende-apothekers%2F&amp;ei=mNNjUpmPCI6X0AWn1oGIDw&amp;bvm=bv.54934254,d.d2k&amp;psig=AFQjCNGq6xfVDxVkKgRMXbo6PtlP1PFMSw&amp;ust=1382360334168515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google.nl/url?sa=i&amp;rct=j&amp;q=&amp;esrc=s&amp;frm=1&amp;source=images&amp;cd=&amp;cad=rja&amp;docid=cf6NZtcZjGWm5M&amp;tbnid=jtw7oy0Q8N5psM:&amp;ved=0CAUQjRw&amp;url=http%3A%2F%2Fwww.beautybody.nl%2FshopItemPage.asp%3FcatID%3D3%26productID%3D1804%26cs%3D1&amp;ei=zdNjUtiLC-bW0QW3zYHICg&amp;psig=AFQjCNGq6xfVDxVkKgRMXbo6PtlP1PFMSw&amp;ust=1382360334168515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google.nl/url?sa=i&amp;rct=j&amp;q=&amp;esrc=s&amp;frm=1&amp;source=images&amp;cd=&amp;cad=rja&amp;docid=ko2z4Hrqc1Up0M&amp;tbnid=Wquxh0iIuGcawM:&amp;ved=0CAUQjRw&amp;url=http%3A%2F%2Fzelfzorg.nl%2Fproduct%2Fsarixell%2F&amp;ei=I9RjUrS_KYOm0QXC6oGIBw&amp;psig=AFQjCNFDZCkQoL2A0bIpu1RNEI4GaOLlZw&amp;ust=1382360471867282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google.nl/url?sa=i&amp;rct=j&amp;q=&amp;esrc=s&amp;frm=1&amp;source=images&amp;cd=&amp;cad=rja&amp;docid=T3T9MOq21zSOxM&amp;tbnid=cIl2Incm9d6FUM:&amp;ved=0CAUQjRw&amp;url=http%3A%2F%2Fwww.zelfzorgwereld.com%2Fproducts%2F1049%2Fsarixell-20-st.aspx&amp;ei=VtRjUu3dLcPH0QXGhoDoAw&amp;psig=AFQjCNFDZCkQoL2A0bIpu1RNEI4GaOLlZw&amp;ust=1382360471867282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9" descr="http://staticgeld.nl/blog/files/images/medicat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289080" y="9507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500" spc="-1" strike="noStrike">
                <a:solidFill>
                  <a:srgbClr val="000000"/>
                </a:solidFill>
                <a:latin typeface="Arial"/>
              </a:rPr>
              <a:t>medicati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Verdana"/>
              </a:rPr>
              <a:t>Informatie over geneesmidde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bij degene die de medicijnen voorschrij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bij de apothe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de bijsl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via naslagwerken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Farmacotherapeutisch Kompas en Reperto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via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kstvak 1"/>
          <p:cNvSpPr/>
          <p:nvPr/>
        </p:nvSpPr>
        <p:spPr>
          <a:xfrm>
            <a:off x="304920" y="304920"/>
            <a:ext cx="8153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Medicijnen worden vaak ingedeeld naar het orgaansysteem waarop ze invloed hebb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Per orgaansysteem zijn ze dan weer ingedeeld naar hun effect of toepassing </a:t>
            </a: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  </a:t>
            </a:r>
            <a:r>
              <a:rPr b="1" lang="nl-NL" sz="28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indicatie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(reden om een medicijn te geve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Bij elk medicijn worden ook situaties beschreven die aanleiding kunnen zijn om het medicijn niet te geven </a:t>
            </a: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1" lang="nl-NL" sz="28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contra-indica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hthoek 1"/>
          <p:cNvSpPr/>
          <p:nvPr/>
        </p:nvSpPr>
        <p:spPr>
          <a:xfrm>
            <a:off x="330120" y="190512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Site voor alle geneesmiddelen met stofnaam en merkna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http://www.menselijk-lichaam.com/algemeen/stof-en-merknaam-van-genee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kstvak 1"/>
          <p:cNvSpPr/>
          <p:nvPr/>
        </p:nvSpPr>
        <p:spPr>
          <a:xfrm>
            <a:off x="533520" y="144612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Medicijnen zijn vrij verkrijgbaar (drogist / apothe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www.careality.nl/site/wp-content/uploads/2012/06/Bayer-Groepspackshot-Canesten-Gyn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5640" y="4724280"/>
            <a:ext cx="4573440" cy="1870200"/>
          </a:xfrm>
          <a:prstGeom prst="rect">
            <a:avLst/>
          </a:prstGeom>
          <a:ln w="0">
            <a:noFill/>
          </a:ln>
        </p:spPr>
      </p:pic>
      <p:sp>
        <p:nvSpPr>
          <p:cNvPr id="113" name="Tekstvak 2"/>
          <p:cNvSpPr/>
          <p:nvPr/>
        </p:nvSpPr>
        <p:spPr>
          <a:xfrm>
            <a:off x="871920" y="311040"/>
            <a:ext cx="70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Verdana"/>
                <a:ea typeface="Verdana"/>
              </a:rPr>
              <a:t>Hoe kun je medicijnen krij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http://static.openapotheek.nl/media/catalog/product/cache/1/image/5e06319eda06f020e43594a9c230972d/i/m/imodium_smelttablet_orodisp_tablet_2mg/imodium-smelttablet-orodisp-tablet-2mg-10st-openapotheek.n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3200400"/>
            <a:ext cx="378144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kstvak 1"/>
          <p:cNvSpPr/>
          <p:nvPr/>
        </p:nvSpPr>
        <p:spPr>
          <a:xfrm>
            <a:off x="533520" y="144612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Medicijnen verkrijgbaar met re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vak 2"/>
          <p:cNvSpPr/>
          <p:nvPr/>
        </p:nvSpPr>
        <p:spPr>
          <a:xfrm>
            <a:off x="871920" y="311040"/>
            <a:ext cx="70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Verdana"/>
                <a:ea typeface="Verdana"/>
              </a:rPr>
              <a:t>Hoe kun je medicijnen krij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http://medischcontact.artsennet.nl/upload/c71bd9e3-5fed-43fd-81fb-00a7f65bedfe_recept_250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2057400"/>
            <a:ext cx="415296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Verdana"/>
              </a:rPr>
              <a:t>Wat staat er vermeld op een re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1000" y="1295280"/>
            <a:ext cx="90676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naam, voorletters en het adres van de voorschrijvende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atum van voorschr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naam van het geneesmiddel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(generieke n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terkte van het medica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geboortedatum van de zorgvr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naam, voorletters en het adres van de zorgvr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wijze van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handtekening voorschrijvende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Verdana"/>
              </a:rPr>
              <a:t>Wat staat er vermeld op een etiket</a:t>
            </a:r>
            <a:br>
              <a:rPr sz="3600"/>
            </a:br>
            <a:r>
              <a:rPr b="1" lang="nl-NL" sz="3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naam van de apotheek en apothe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fleveringsda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naam, adres en geboortedatum van degene voor wie het geneesmiddel bestem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naam van het geneesmiddel en sterkte van het medic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gebruik- en bewaarvoorschr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naam van de arts die de medicatie heeft voorgeschr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http://lerenenmotiveren.infoplatform.nl/media/images/geneesmiddelen01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828800"/>
            <a:ext cx="6858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kstvak 1"/>
          <p:cNvSpPr/>
          <p:nvPr/>
        </p:nvSpPr>
        <p:spPr>
          <a:xfrm>
            <a:off x="791280" y="28728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Verdana"/>
                <a:ea typeface="Verdana"/>
              </a:rPr>
              <a:t>Medicatie bewa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http://www.spruyt-hillen.nl/media/images/catalogue/063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800600"/>
            <a:ext cx="2405160" cy="1657440"/>
          </a:xfrm>
          <a:prstGeom prst="rect">
            <a:avLst/>
          </a:prstGeom>
          <a:ln w="0">
            <a:noFill/>
          </a:ln>
        </p:spPr>
      </p:pic>
      <p:sp>
        <p:nvSpPr>
          <p:cNvPr id="125" name="Tekstvak 2"/>
          <p:cNvSpPr/>
          <p:nvPr/>
        </p:nvSpPr>
        <p:spPr>
          <a:xfrm>
            <a:off x="220680" y="12193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Geneesmiddelen die in de koelkast bewaard moet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Geneesmiddelen die in het donker bewaard moet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Geneesmiddelen die een beperkte houdbaarheid heb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kstvak 3"/>
          <p:cNvSpPr/>
          <p:nvPr/>
        </p:nvSpPr>
        <p:spPr>
          <a:xfrm>
            <a:off x="380880" y="498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Verdana"/>
                <a:ea typeface="Verdana"/>
              </a:rPr>
              <a:t>Andere stickers op etik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lerenenmotiveren.infoplatform.nl/media/images/geneesmiddelen02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33560" y="2286000"/>
            <a:ext cx="4924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Lesdoel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aede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edef"/>
                </a:solidFill>
                <a:latin typeface="Verdana"/>
                <a:ea typeface="Verdana"/>
              </a:rPr>
              <a:t>Wat is farmacothera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aede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edef"/>
                </a:solidFill>
                <a:latin typeface="Verdana"/>
                <a:ea typeface="Verdana"/>
              </a:rPr>
              <a:t>De 3 namen van genee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aede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edef"/>
                </a:solidFill>
                <a:latin typeface="Verdana"/>
                <a:ea typeface="Verdana"/>
              </a:rPr>
              <a:t>Wet geneesmiddelen voorzi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aede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edef"/>
                </a:solidFill>
                <a:latin typeface="Verdana"/>
                <a:ea typeface="Verdana"/>
              </a:rPr>
              <a:t>Waar vindt je informatie over genee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aede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edef"/>
                </a:solidFill>
                <a:latin typeface="Verdana"/>
                <a:ea typeface="Verdana"/>
              </a:rPr>
              <a:t>Recept en eti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aede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edef"/>
                </a:solidFill>
                <a:latin typeface="Verdana"/>
                <a:ea typeface="Verdana"/>
              </a:rPr>
              <a:t>Medicatie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aede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edef"/>
                </a:solidFill>
                <a:latin typeface="Verdana"/>
                <a:ea typeface="Verdana"/>
              </a:rPr>
              <a:t>Medicatiedistributiesy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aede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edef"/>
                </a:solidFill>
                <a:latin typeface="Verdana"/>
                <a:ea typeface="Verdana"/>
              </a:rPr>
              <a:t>De regel van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de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ede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Verdana"/>
                <a:ea typeface="Verdana"/>
              </a:rPr>
              <a:t>Medicijndistributie syste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Voorraad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Levering medic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Uitzetten en verstekken med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Registratie, administratie en cont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medicijnen"/>
          <p:cNvPicPr/>
          <p:nvPr/>
        </p:nvPicPr>
        <p:blipFill>
          <a:blip r:embed="rId1"/>
          <a:stretch/>
        </p:blipFill>
        <p:spPr>
          <a:xfrm>
            <a:off x="3505320" y="4114800"/>
            <a:ext cx="38098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s://encrypted-tbn2.gstatic.com/images?q=tbn:ANd9GcT_a4N81qZ2MT1AI6cMWshmMzUOvXAfXoryLKh36penGTeDhrpl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609480" y="38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Verdana"/>
                <a:ea typeface="Verdana"/>
              </a:rPr>
              <a:t>Voorraadbeh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Apoth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Apotheek binnen een inst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Medicatie ‘kamer’ binnen een instelling of af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Levering van medic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direct uit apotheek (extern of inter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http://upload.wikimedia.org/wikipedia/commons/d/d6/Methylfenidaat_N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5909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Levering van medic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aangeleverd per bewoner, per tijd, per dag in voorverpak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http://jaarbeeld2011.sheerenloo.nl/userfiles/usersdata/961/library/2612/slide7/baxter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2806560"/>
            <a:ext cx="5181480" cy="3505320"/>
          </a:xfrm>
          <a:prstGeom prst="rect">
            <a:avLst/>
          </a:prstGeom>
          <a:ln w="0">
            <a:noFill/>
          </a:ln>
        </p:spPr>
      </p:pic>
      <p:sp>
        <p:nvSpPr>
          <p:cNvPr id="140" name="Tekstvak 1"/>
          <p:cNvSpPr/>
          <p:nvPr/>
        </p:nvSpPr>
        <p:spPr>
          <a:xfrm>
            <a:off x="410040" y="596916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baxtersy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Uitzetten van medic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medicijnk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http://www.medicijnkar.nl/wp-content/uploads/2013/04/008-768x102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2362320"/>
            <a:ext cx="4572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Uitzetten van medic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medicatiecass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http://www.megapoint.nl/contents/media/medicatiedoosj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3623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www.zorginbeeld.nl/wp-content/gallery/zorginbeeld/Thuiszorg-pillen%2060-0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3276720"/>
            <a:ext cx="35812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Uitzetten van medic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Baxtersyst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apotheekdeuithof.weebly.com/uploads/7/8/2/1/7821602/6496097.jpg"/>
          <p:cNvPicPr/>
          <p:nvPr/>
        </p:nvPicPr>
        <p:blipFill>
          <a:blip r:embed="rId1"/>
          <a:stretch/>
        </p:blipFill>
        <p:spPr>
          <a:xfrm>
            <a:off x="4114800" y="1554120"/>
            <a:ext cx="46483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Verstrekken van medicatie en administr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Medicijnklapper (tegenwoordig steeds meer digita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https://encrypted-tbn1.gstatic.com/images?q=tbn:ANd9GcShHIMCR7eQa1vz71e-4HntomUFT6iy4mOk4vyHJSpRoaknXMzz"/>
          <p:cNvPicPr/>
          <p:nvPr/>
        </p:nvPicPr>
        <p:blipFill>
          <a:blip r:embed="rId1"/>
          <a:stretch/>
        </p:blipFill>
        <p:spPr>
          <a:xfrm>
            <a:off x="2438280" y="2895480"/>
            <a:ext cx="5486400" cy="37339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8"/>
          <p:cNvSpPr/>
          <p:nvPr/>
        </p:nvSpPr>
        <p:spPr>
          <a:xfrm>
            <a:off x="63360" y="-384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hthoek 1"/>
          <p:cNvSpPr/>
          <p:nvPr/>
        </p:nvSpPr>
        <p:spPr>
          <a:xfrm>
            <a:off x="457200" y="762120"/>
            <a:ext cx="8001000" cy="55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ffff00"/>
                </a:solidFill>
                <a:uFillTx/>
                <a:latin typeface="Verdana"/>
                <a:ea typeface="Verdana"/>
              </a:rPr>
              <a:t>Regel van 5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De juiste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tij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De juiste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persoon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Het juiste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medicijn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De juiste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dosi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De juiste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  <a:ea typeface="Verdana"/>
              </a:rPr>
              <a:t>toedieningswij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04920" y="7617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en geneesmiddel heeft altijd 3 nam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hemische na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neriek n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rknaam (handelsna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hthoek 1"/>
          <p:cNvSpPr/>
          <p:nvPr/>
        </p:nvSpPr>
        <p:spPr>
          <a:xfrm>
            <a:off x="228600" y="838080"/>
            <a:ext cx="8763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hemische naam = benzodiazep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neriek naam = diazep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rknaam = Valium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pantos-pharmacy.com/product_images/i/378/Pakistan_Valium_10mg2010720458121__76235_zoo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819600"/>
            <a:ext cx="44956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hthoek 1"/>
          <p:cNvSpPr/>
          <p:nvPr/>
        </p:nvSpPr>
        <p:spPr>
          <a:xfrm>
            <a:off x="309600" y="838080"/>
            <a:ext cx="8763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chemische naam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= (RS)-2-(p-isobutylfenyl)propionzu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generiek naam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= ibupro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merknaam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= Sarixell®, Advill®, Brufen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zelfzorg.nl/wp-content/zelfzorg/img/thumb_ibuprofen_400_mg_omhulde_tabletten_samenwerkende_apothekers.jpg">
            <a:hlinkClick r:id="rId1"/>
          </p:cNvPr>
          <p:cNvPicPr/>
          <p:nvPr/>
        </p:nvPicPr>
        <p:blipFill>
          <a:blip r:embed="rId2"/>
          <a:stretch/>
        </p:blipFill>
        <p:spPr>
          <a:xfrm rot="20476200">
            <a:off x="814320" y="975960"/>
            <a:ext cx="4097520" cy="233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www.beautybody.nl/images/produkt/6112011121838_8710552304915.jpg">
            <a:hlinkClick r:id="rId3"/>
          </p:cNvPr>
          <p:cNvPicPr/>
          <p:nvPr/>
        </p:nvPicPr>
        <p:blipFill>
          <a:blip r:embed="rId4"/>
          <a:stretch/>
        </p:blipFill>
        <p:spPr>
          <a:xfrm rot="684000">
            <a:off x="6224400" y="43344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zelfzorg.nl/wp-content/zelfzorg/img/thumb_sarixell.jpg">
            <a:hlinkClick r:id="rId5"/>
          </p:cNvPr>
          <p:cNvPicPr/>
          <p:nvPr/>
        </p:nvPicPr>
        <p:blipFill>
          <a:blip r:embed="rId6"/>
          <a:stretch/>
        </p:blipFill>
        <p:spPr>
          <a:xfrm rot="809400">
            <a:off x="3200400" y="3809520"/>
            <a:ext cx="4876920" cy="2403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www.zelfzorgwereld.com/images/thumbs/0002016_166_226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43000" y="4343400"/>
            <a:ext cx="1295280" cy="1763640"/>
          </a:xfrm>
          <a:prstGeom prst="rect">
            <a:avLst/>
          </a:prstGeom>
          <a:ln w="0">
            <a:noFill/>
          </a:ln>
        </p:spPr>
      </p:pic>
      <p:sp>
        <p:nvSpPr>
          <p:cNvPr id="102" name="Tekstvak 1"/>
          <p:cNvSpPr/>
          <p:nvPr/>
        </p:nvSpPr>
        <p:spPr>
          <a:xfrm>
            <a:off x="3510720" y="60310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€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6,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kstvak 2"/>
          <p:cNvSpPr/>
          <p:nvPr/>
        </p:nvSpPr>
        <p:spPr>
          <a:xfrm>
            <a:off x="554760" y="7621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€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,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kstvak 3"/>
          <p:cNvSpPr/>
          <p:nvPr/>
        </p:nvSpPr>
        <p:spPr>
          <a:xfrm>
            <a:off x="6863400" y="30481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€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4,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kstvak 1"/>
          <p:cNvSpPr/>
          <p:nvPr/>
        </p:nvSpPr>
        <p:spPr>
          <a:xfrm>
            <a:off x="304920" y="304920"/>
            <a:ext cx="8610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locopreparaat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 = medicijn van het eigen merk van een apotheek (merklo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na het verlopen van het octrooi (patent), mag iedere fabrikant het geneesmiddel met dezelfde stofnaam, maar dus een andere merknaam op de markt brengen =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generiek geneesmid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®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 een merknaam die in Nederland geregistreer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kstvak 1"/>
          <p:cNvSpPr/>
          <p:nvPr/>
        </p:nvSpPr>
        <p:spPr>
          <a:xfrm>
            <a:off x="304920" y="290520"/>
            <a:ext cx="83818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Verdana"/>
                <a:ea typeface="Verdana"/>
              </a:rPr>
              <a:t>Wet geneesmiddelen voorzie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Alle geneesmiddelen moeten ingeschreven worden in het register (®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‘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Farmaceutische verzorging ziekenhuizen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Opiumwet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  <a:ea typeface="Verdana"/>
              </a:rPr>
              <a:t> opiaten bewaren in afgesloten ruim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4:02:18Z</dcterms:created>
  <dc:creator>Roberte</dc:creator>
  <dc:description/>
  <dc:language>en-US</dc:language>
  <cp:lastModifiedBy>Jolanda Vermeulen</cp:lastModifiedBy>
  <cp:lastPrinted>2013-10-21T18:06:42Z</cp:lastPrinted>
  <dcterms:modified xsi:type="dcterms:W3CDTF">2020-11-27T19:29:06Z</dcterms:modified>
  <cp:revision>92</cp:revision>
  <dc:subject/>
  <dc:title>Dia 1</dc:title>
</cp:coreProperties>
</file>