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4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31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carbrake.wav" ContentType="audio/x-wav"/>
  <Override PartName="/ppt/media/image17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3.jpeg" ContentType="image/jpeg"/>
  <Override PartName="/ppt/media/image23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B64F4-BA4C-4F4F-86A3-FE5D047315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4FEE7-B303-4B83-86B0-F418F8F3EFF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D9C22-C069-48AC-9475-88EB0D911D9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EE07A-F28E-45DA-9A3D-2DE73766F9B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2E1-2ABE-4E7E-A6E1-EE50EE70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8EF-6B1A-49D4-AB9F-DD1DA2C7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49D-FC14-4F71-BB8B-1980026D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2110-664C-48AF-9850-19392376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DB47-7B05-4C16-B7CD-FD57DA2E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41CD-D427-4F2F-83DA-64836738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E94B-564E-4C41-9C96-AB7BE8D8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732F-FB04-4909-91C8-B40763DE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40EE-11D1-4BD7-B688-E0513F0F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633F-4F96-4138-A51D-0A004C9F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5FFB-F622-430D-8E13-5D8DC672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0172-7E25-4C99-AFD2-B853E8D5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A453-A719-48B6-A751-03C9A3F5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749B-D3A4-4C07-A74A-67BF5226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2883-592B-4356-B9AB-BA343450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B246-EF98-4D5B-ADD6-21D2669E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3C5B-575D-4CE4-9F39-4ECFC3D0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2E411-377D-40F5-B8AC-D693ACC7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65AA8-FAB4-436C-B614-BB45099F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1400-5C4B-462C-B583-E70828A3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60774-E6E1-4302-8696-442052A6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37AB4-FE6C-4A90-9724-1EC1A569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C4A0-EBBB-4581-9151-3BEA7739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9AC1F-C19F-4DAE-A2DF-024C7209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2E57F-9976-485B-AFAF-71F28507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6C9BB-8E14-4962-A675-08883DF4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583CB-08C8-4817-9871-F28E137E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D0E51-3DDB-42FD-AD89-3350B478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DA52B-0CB5-4841-B381-1BBC11FF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4AA14-C9AC-4514-A58E-C5C27DB9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8F3AB-47F9-4411-8F98-24308026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35313-30E8-4F16-81F3-F23AA09F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FBEC6-A63E-4050-BE9F-0E9560EB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8836-E475-4C1E-A270-0015FBDD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00F2C-9C09-4C54-8E95-AAB4989D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FF372-A252-42C9-99B4-FA04299A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14907-05C9-4AE1-98ED-3CF5E529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BB475-5A58-491D-B1EB-5E93B237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4CFA8-31D6-4DD9-9EA8-2496FFDA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1FD47-B15E-4D2E-AF7C-1678C8C9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94A75-DF9E-413B-A0D8-04BC46FC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B6099-0894-4CCC-AC2B-8A49F178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64606-3F19-41BD-9023-DF7888C8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5341-2729-42FA-8742-C6BA61E6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520-C85B-473F-8C10-34FF45EA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3CE6-8028-4EC8-9784-C62726F2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176-4946-4092-903E-5E93DA66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A48F-8EEF-49F7-BB9E-82CF6E94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5890A-5E8E-47BC-8FDB-A4F766C60DCA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115F4-1032-48F7-90C3-63F873A9F4C8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3A9CC-E137-4BF9-89D3-BF1E0BEB7756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7548A-5B9F-487E-AC72-C01AC4AF8203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youtube.com/watch?v=vdmFaO5-im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b.socrative.com/login/student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Cerebro Vasculair Accident CVA</a:t>
            </a:r>
            <a:br>
              <a:rPr sz="3600"/>
            </a:br>
            <a:br>
              <a:rPr sz="3600"/>
            </a:br>
            <a:r>
              <a:rPr b="0" lang="nl-NL" sz="2500" spc="-1" strike="noStrike">
                <a:solidFill>
                  <a:srgbClr val="ff0000"/>
                </a:solidFill>
                <a:latin typeface="Trebuchet MS"/>
              </a:rPr>
              <a:t>Literatuur: Zie Gedeelde documenten PAAF beginner/thema 3/literatuur</a:t>
            </a: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Trebuchet MS"/>
              </a:rPr>
              <a:t>http://www.hartstichting.nl/hart_en_vaten/beroerte/filmpjes_beroerte/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Trombo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oor beschadiging - en daarna ‘reparatie’ van een bloedva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oor onvoldoende bloeddoorstroming (bedrust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Afbeelding 1" descr=""/>
          <p:cNvPicPr/>
          <p:nvPr/>
        </p:nvPicPr>
        <p:blipFill>
          <a:blip r:embed="rId1"/>
          <a:stretch/>
        </p:blipFill>
        <p:spPr>
          <a:xfrm>
            <a:off x="2306520" y="3357720"/>
            <a:ext cx="48405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mboli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embolie is eigenlijk een losgescheurd stukje van een trombus dat verderop in de bloedsomloop vast komt te zitt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Afbeelding 2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42577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rsenbloeding (1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20% van alle CVA’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‘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Bloedig’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Scheurtje in een bloedvat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bloed in of rond de herse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Bloed drukt hersenweefsel weg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schad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rsenbloeding (2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707760"/>
            <a:ext cx="9144000" cy="61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orzaken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Aneurysma (verzwakking van de vaatwand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Misvorming van de bloedvat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nbekend: </a:t>
            </a:r>
            <a:r>
              <a:rPr b="0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vaak al langer hogere bloeddruk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Afbeelding 2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2646360" cy="2004840"/>
          </a:xfrm>
          <a:prstGeom prst="rect">
            <a:avLst/>
          </a:prstGeom>
          <a:ln w="0">
            <a:noFill/>
          </a:ln>
        </p:spPr>
      </p:pic>
      <p:pic>
        <p:nvPicPr>
          <p:cNvPr id="263" name="Afbeelding 3" descr=""/>
          <p:cNvPicPr/>
          <p:nvPr/>
        </p:nvPicPr>
        <p:blipFill>
          <a:blip r:embed="rId2"/>
          <a:stretch/>
        </p:blipFill>
        <p:spPr>
          <a:xfrm>
            <a:off x="4632480" y="1778040"/>
            <a:ext cx="3492360" cy="2004840"/>
          </a:xfrm>
          <a:prstGeom prst="rect">
            <a:avLst/>
          </a:prstGeom>
          <a:ln w="0">
            <a:noFill/>
          </a:ln>
        </p:spPr>
      </p:pic>
      <p:pic>
        <p:nvPicPr>
          <p:cNvPr id="264" name="Afbeelding 4" descr=""/>
          <p:cNvPicPr/>
          <p:nvPr/>
        </p:nvPicPr>
        <p:blipFill>
          <a:blip r:embed="rId3"/>
          <a:srcRect l="6080" t="3296" r="6227" b="7782"/>
          <a:stretch/>
        </p:blipFill>
        <p:spPr>
          <a:xfrm>
            <a:off x="2421000" y="4395960"/>
            <a:ext cx="1365120" cy="1290600"/>
          </a:xfrm>
          <a:prstGeom prst="rect">
            <a:avLst/>
          </a:prstGeom>
          <a:ln w="0">
            <a:noFill/>
          </a:ln>
        </p:spPr>
      </p:pic>
      <p:pic>
        <p:nvPicPr>
          <p:cNvPr id="265" name="Afbeelding 5" descr=""/>
          <p:cNvPicPr/>
          <p:nvPr/>
        </p:nvPicPr>
        <p:blipFill>
          <a:blip r:embed="rId4"/>
          <a:stretch/>
        </p:blipFill>
        <p:spPr>
          <a:xfrm>
            <a:off x="6012000" y="4221000"/>
            <a:ext cx="19364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Hersenvliezen (meningen)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052640"/>
            <a:ext cx="8686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 u="sng">
                <a:solidFill>
                  <a:srgbClr val="404040"/>
                </a:solidFill>
                <a:uFillTx/>
                <a:latin typeface="Trebuchet MS"/>
              </a:rPr>
              <a:t>Meningen (van buiten naar binn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ura mater (harde hersenvlies)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scherm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Epidur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Subdur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rachnoïd (spinnenwebvlies)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ubarachnoïd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ia mater (zachte hersenvlies)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voed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 u="sng">
                <a:solidFill>
                  <a:srgbClr val="404040"/>
                </a:solidFill>
                <a:uFillTx/>
                <a:latin typeface="Trebuchet MS"/>
                <a:ea typeface="Times New Roman"/>
              </a:rPr>
              <a:t>Liquor (hersenvocht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Functie liquo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Stootkuss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Warmtebuffe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Voeding herse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Vervoer afvalstoff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4716360" y="3668760"/>
            <a:ext cx="377532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5fcbef"/>
                </a:solidFill>
                <a:latin typeface="Trebuchet MS"/>
              </a:rPr>
              <a:t>Hersenbloeding (3)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07920"/>
            <a:ext cx="896472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Hersenbloedingen komen voor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 de hersenen (intracerebraal)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rond de hersen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barachnoïd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bdur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pidur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0" y="-1000080"/>
            <a:ext cx="2857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Picture 11" descr="http://www.stlucas.be/info_studenten/Deelwebsites/NeuroReva/images/hersenbloeding.gif"/>
          <p:cNvPicPr/>
          <p:nvPr/>
        </p:nvPicPr>
        <p:blipFill>
          <a:blip r:embed="rId1"/>
          <a:stretch/>
        </p:blipFill>
        <p:spPr>
          <a:xfrm>
            <a:off x="3419640" y="1973160"/>
            <a:ext cx="572436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e eerste verschijnselen van </a:t>
            </a: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CVA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AST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5" name="Picture 5" descr="http://www.slotervaartziekenhuis.nl/portals/67/FAST%20-%20Arm.png"/>
          <p:cNvPicPr/>
          <p:nvPr/>
        </p:nvPicPr>
        <p:blipFill>
          <a:blip r:embed="rId1"/>
          <a:stretch/>
        </p:blipFill>
        <p:spPr>
          <a:xfrm>
            <a:off x="5364000" y="2276640"/>
            <a:ext cx="2197440" cy="1800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http://www.slotervaartziekenhuis.nl/portals/67/FAST%20-%20Spraak.png"/>
          <p:cNvPicPr/>
          <p:nvPr/>
        </p:nvPicPr>
        <p:blipFill>
          <a:blip r:embed="rId2"/>
          <a:stretch/>
        </p:blipFill>
        <p:spPr>
          <a:xfrm>
            <a:off x="1617840" y="4797360"/>
            <a:ext cx="2160360" cy="1770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http://www.slotervaartziekenhuis.nl/portals/67/FAST%20-%20Tijd.png"/>
          <p:cNvPicPr/>
          <p:nvPr/>
        </p:nvPicPr>
        <p:blipFill>
          <a:blip r:embed="rId3"/>
          <a:stretch/>
        </p:blipFill>
        <p:spPr>
          <a:xfrm>
            <a:off x="5508720" y="4508640"/>
            <a:ext cx="2158920" cy="1769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www.slotervaartziekenhuis.nl/portals/67/FAST%20-%20Mond.png"/>
          <p:cNvPicPr/>
          <p:nvPr/>
        </p:nvPicPr>
        <p:blipFill>
          <a:blip r:embed="rId4"/>
          <a:stretch/>
        </p:blipFill>
        <p:spPr>
          <a:xfrm>
            <a:off x="1619280" y="1989000"/>
            <a:ext cx="21589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1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1" name="Picture 13" descr="Breoerte: linker- en rechterkant"/>
          <p:cNvPicPr/>
          <p:nvPr/>
        </p:nvPicPr>
        <p:blipFill>
          <a:blip r:embed="rId1"/>
          <a:stretch/>
        </p:blipFill>
        <p:spPr>
          <a:xfrm>
            <a:off x="1187280" y="2038320"/>
            <a:ext cx="59342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2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79280" y="1125000"/>
            <a:ext cx="8785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toornissen op het gebied van…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Motoriek (beweging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ensoriek (gevoel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piertonus (= spanning) (eerste 4 weken: slappe verlamming, daarna vaak: spastische verlamming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Visus (gezichtsveld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Cognitie (het denken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Emoti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3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0800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emi…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arese (gedeeltelijke uitval, krachtsvermindering aan  één lichaamszijd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aralyse (volledige uitval aan één lichaamszijd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nopsie (‘buiten gebruik’ zijn van het netvlies (één zijde)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neglectie (verwaarlozing (één zijde)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fas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(begrip en/of uiten van taal is verstoor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Dysartr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uitspraakstoorn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prax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moeite met uitvoeren van handeling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tax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coördinatiesorrnis van de spi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gnos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niet herken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6" name="Picture 13" descr="http://t2.gstatic.com/images?q=tbn:ANd9GcQ7SnWVoT2yk5ytovyNF963QFH2kHMGsKqo5B5aMyuAL9H1PscV"/>
          <p:cNvPicPr/>
          <p:nvPr/>
        </p:nvPicPr>
        <p:blipFill>
          <a:blip r:embed="rId1"/>
          <a:stretch/>
        </p:blipFill>
        <p:spPr>
          <a:xfrm>
            <a:off x="7122960" y="4830840"/>
            <a:ext cx="20289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nkele begrippen m.b.t. CVA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Niet aangeboren (verworven) hersenletsel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eroerte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loeding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‘bloedig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Infarct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‘onbloedig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Verwerking in de hersenen van </a:t>
            </a: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beeld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Trebuchet MS"/>
              </a:rPr>
              <a:t>Link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gezichtsveld van beide ogen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→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echt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nl-NL" sz="2800" spc="-1" strike="noStrike">
                <a:solidFill>
                  <a:srgbClr val="009999"/>
                </a:solidFill>
                <a:latin typeface="Trebuchet MS"/>
              </a:rPr>
              <a:t>Rechter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 gezichtsveld van beide ogen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→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9999"/>
                </a:solidFill>
                <a:latin typeface="Trebuchet MS"/>
                <a:ea typeface="Times New Roman"/>
              </a:rPr>
              <a:t>	</a:t>
            </a:r>
            <a:r>
              <a:rPr b="0" lang="nl-NL" sz="2800" spc="-1" strike="noStrike">
                <a:solidFill>
                  <a:srgbClr val="009999"/>
                </a:solidFill>
                <a:latin typeface="Trebuchet MS"/>
                <a:ea typeface="Times New Roman"/>
              </a:rPr>
              <a:t>Link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0" name="Picture 6" descr="http://www.gesichtsfeldausfall-selbsthilfegruppe.de/fotos/Sehbahn1.jpg"/>
          <p:cNvPicPr/>
          <p:nvPr/>
        </p:nvPicPr>
        <p:blipFill>
          <a:blip r:embed="rId1"/>
          <a:stretch/>
        </p:blipFill>
        <p:spPr>
          <a:xfrm>
            <a:off x="4643280" y="907920"/>
            <a:ext cx="380052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OogfondsillNetvlieslos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4914720"/>
          </a:xfrm>
          <a:prstGeom prst="rect">
            <a:avLst/>
          </a:prstGeom>
          <a:ln w="0">
            <a:noFill/>
          </a:ln>
        </p:spPr>
      </p:pic>
      <p:sp>
        <p:nvSpPr>
          <p:cNvPr id="292" name="Rechthoek 2"/>
          <p:cNvSpPr/>
          <p:nvPr/>
        </p:nvSpPr>
        <p:spPr>
          <a:xfrm>
            <a:off x="2195640" y="5950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 u="sng">
                <a:solidFill>
                  <a:srgbClr val="3fcde7"/>
                </a:solidFill>
                <a:uFillTx/>
                <a:latin typeface="Times New Roman"/>
                <a:hlinkClick r:id="rId2"/>
              </a:rPr>
              <a:t>http://www.youtube.com/watch?v=vdmFaO5-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de lange termijn (4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Karakter- en gedragsveranderingen door beschadigingen in de frontaalkwab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5" name="Afbeelding 3" descr=""/>
          <p:cNvPicPr/>
          <p:nvPr/>
        </p:nvPicPr>
        <p:blipFill>
          <a:blip r:embed="rId1"/>
          <a:stretch/>
        </p:blipFill>
        <p:spPr>
          <a:xfrm>
            <a:off x="1806480" y="2637000"/>
            <a:ext cx="553104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en ‘grove’ indelin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39960" y="2925360"/>
            <a:ext cx="40003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Rechter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219640" y="3860280"/>
            <a:ext cx="22320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aal/spraa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eze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rijv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01920" y="2997360"/>
            <a:ext cx="4041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Linker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00000" y="3789360"/>
            <a:ext cx="24465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uimtelijk inzich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ijdsbese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oti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1" name="Picture 15" descr="http://www.brainquest.nl/wp-content/uploads/2009/07/brein.JPG"/>
          <p:cNvPicPr/>
          <p:nvPr/>
        </p:nvPicPr>
        <p:blipFill>
          <a:blip r:embed="rId1"/>
          <a:stretch/>
        </p:blipFill>
        <p:spPr>
          <a:xfrm>
            <a:off x="3708360" y="1052640"/>
            <a:ext cx="17398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5fcbef"/>
                </a:solidFill>
                <a:latin typeface="Trebuchet MS"/>
              </a:rPr>
              <a:t>Twee bijzondere functiegebieden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bied van Broc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 de motorische schors (= cortex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otorisch spraakcentru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dien verstoord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000" spc="-1" strike="noStrike">
                <a:solidFill>
                  <a:srgbClr val="ff0000"/>
                </a:solidFill>
                <a:latin typeface="Trebuchet MS"/>
              </a:rPr>
              <a:t>motorische afas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bied van Wernick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 de sensorische schors (= cortex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ensorisch spraakcentru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dien verstoord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ff0000"/>
                </a:solidFill>
                <a:latin typeface="Trebuchet MS"/>
              </a:rPr>
              <a:t>sensorische afasi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4" name="Picture 5" descr="http://www.webklik.nl/user_files/2011_03/234611/Hersenen.JPG"/>
          <p:cNvPicPr/>
          <p:nvPr/>
        </p:nvPicPr>
        <p:blipFill>
          <a:blip r:embed="rId1"/>
          <a:srcRect l="6576" t="0" r="0" b="0"/>
          <a:stretch/>
        </p:blipFill>
        <p:spPr>
          <a:xfrm>
            <a:off x="4932360" y="2378160"/>
            <a:ext cx="40687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Afasi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tor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50920" y="2736360"/>
            <a:ext cx="42465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xpressief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ordvindproble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grip intact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kunnen l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86712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ensor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67120" y="2736360"/>
            <a:ext cx="3090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ceptief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grip is verstoord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niet kunnen l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t, maar ‘onsamenhangend’ pra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ocrative Quiz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 naar </a:t>
            </a:r>
            <a:r>
              <a:rPr b="0" lang="nl-NL" sz="1800" spc="-1" strike="noStrike" u="sng">
                <a:solidFill>
                  <a:srgbClr val="3fcde7"/>
                </a:solidFill>
                <a:uFillTx/>
                <a:latin typeface="Trebuchet MS"/>
                <a:hlinkClick r:id="rId1"/>
              </a:rPr>
              <a:t>https://b.socrative.com/login/student/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amernummer: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794B18B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Afbeelding 3" descr=""/>
          <p:cNvPicPr/>
          <p:nvPr/>
        </p:nvPicPr>
        <p:blipFill>
          <a:blip r:embed="rId1"/>
          <a:stretch/>
        </p:blipFill>
        <p:spPr>
          <a:xfrm>
            <a:off x="1290600" y="115920"/>
            <a:ext cx="47941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illberoerte"/>
          <p:cNvPicPr/>
          <p:nvPr/>
        </p:nvPicPr>
        <p:blipFill>
          <a:blip r:embed="rId1"/>
          <a:stretch/>
        </p:blipFill>
        <p:spPr>
          <a:xfrm>
            <a:off x="457200" y="1981080"/>
            <a:ext cx="83818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://t3.gstatic.com/images?q=tbn:ANd9GcRxCcbAtVItZd3p9B7PGvYnTT0IlsA3YeINQr7Uvj-_sh63Bzki"/>
          <p:cNvPicPr/>
          <p:nvPr/>
        </p:nvPicPr>
        <p:blipFill>
          <a:blip r:embed="rId1"/>
          <a:stretch/>
        </p:blipFill>
        <p:spPr>
          <a:xfrm>
            <a:off x="3564000" y="2392200"/>
            <a:ext cx="5292720" cy="42008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Bloedvoorziening van de hersenen </a:t>
            </a: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Trebuchet MS"/>
              </a:rPr>
              <a:t>De cirkel van Willis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26" name="Picture 4" descr="http://upload.wikimedia.org/wikipedia/commons/thumb/e/e5/Circle_of_Willis_la.svg/264px-Circle_of_Willis_la.svg.png"/>
          <p:cNvPicPr/>
          <p:nvPr/>
        </p:nvPicPr>
        <p:blipFill>
          <a:blip r:embed="rId2"/>
          <a:stretch/>
        </p:blipFill>
        <p:spPr>
          <a:xfrm>
            <a:off x="539640" y="2492280"/>
            <a:ext cx="2514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5fcbef"/>
                </a:solidFill>
                <a:latin typeface="Trebuchet MS"/>
              </a:rPr>
              <a:t>Herseninfarct (1) – verschillende soorten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8000" y="1052640"/>
            <a:ext cx="9036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TIA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ransient Ischemic Attack; max. 24 uur na het begin van de klachten zijn de klachten verdwenen. Vaak een ‘voorbode’ van een infarc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V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lachten duren langer dan 24 uur en zijn vaak blijv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6732720" y="2697120"/>
            <a:ext cx="2411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infarc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Arterioscleros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romb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boli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Trebuchet MS"/>
              </a:rPr>
              <a:t>A. carotis (halsslagader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Trebuchet MS"/>
              </a:rPr>
              <a:t>Vanuit het hart (ritmestoornissen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716360" y="814320"/>
            <a:ext cx="3770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Wat is atherosclerose?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5796000" y="3284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35" name="Afbeelding 4" descr=""/>
          <p:cNvPicPr/>
          <p:nvPr/>
        </p:nvPicPr>
        <p:blipFill>
          <a:blip r:embed="rId2"/>
          <a:stretch/>
        </p:blipFill>
        <p:spPr>
          <a:xfrm>
            <a:off x="250920" y="1766880"/>
            <a:ext cx="50799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atherosclero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6" descr="rsg kapsalon de has"/>
          <p:cNvPicPr/>
          <p:nvPr/>
        </p:nvPicPr>
        <p:blipFill>
          <a:blip r:embed="rId1"/>
          <a:stretch/>
        </p:blipFill>
        <p:spPr>
          <a:xfrm>
            <a:off x="1596960" y="925560"/>
            <a:ext cx="2975040" cy="1519200"/>
          </a:xfrm>
          <a:prstGeom prst="rect">
            <a:avLst/>
          </a:prstGeom>
          <a:ln w="0">
            <a:noFill/>
          </a:ln>
        </p:spPr>
      </p:pic>
      <p:pic>
        <p:nvPicPr>
          <p:cNvPr id="239" name="Afbeelding 5" descr=""/>
          <p:cNvPicPr/>
          <p:nvPr/>
        </p:nvPicPr>
        <p:blipFill>
          <a:blip r:embed="rId2"/>
          <a:stretch/>
        </p:blipFill>
        <p:spPr>
          <a:xfrm>
            <a:off x="6154560" y="638280"/>
            <a:ext cx="2532240" cy="1677960"/>
          </a:xfrm>
          <a:prstGeom prst="rect">
            <a:avLst/>
          </a:prstGeom>
          <a:ln w="0">
            <a:noFill/>
          </a:ln>
        </p:spPr>
      </p:pic>
      <p:pic>
        <p:nvPicPr>
          <p:cNvPr id="240" name="Afbeelding 1" descr=""/>
          <p:cNvPicPr/>
          <p:nvPr/>
        </p:nvPicPr>
        <p:blipFill>
          <a:blip r:embed="rId3"/>
          <a:stretch/>
        </p:blipFill>
        <p:spPr>
          <a:xfrm>
            <a:off x="1476360" y="4726080"/>
            <a:ext cx="2102040" cy="220500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2" descr=""/>
          <p:cNvPicPr/>
          <p:nvPr/>
        </p:nvPicPr>
        <p:blipFill>
          <a:blip r:embed="rId4"/>
          <a:stretch/>
        </p:blipFill>
        <p:spPr>
          <a:xfrm>
            <a:off x="4788000" y="4986360"/>
            <a:ext cx="2527200" cy="16844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7"/>
          <p:cNvSpPr/>
          <p:nvPr/>
        </p:nvSpPr>
        <p:spPr>
          <a:xfrm>
            <a:off x="12060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2728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Afbeelding 5" descr=""/>
          <p:cNvPicPr/>
          <p:nvPr/>
        </p:nvPicPr>
        <p:blipFill>
          <a:blip r:embed="rId5"/>
          <a:stretch/>
        </p:blipFill>
        <p:spPr>
          <a:xfrm>
            <a:off x="5003640" y="2658960"/>
            <a:ext cx="2957760" cy="197964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12"/>
          <p:cNvSpPr/>
          <p:nvPr/>
        </p:nvSpPr>
        <p:spPr>
          <a:xfrm>
            <a:off x="4255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Afbeelding 2" descr=""/>
          <p:cNvPicPr/>
          <p:nvPr/>
        </p:nvPicPr>
        <p:blipFill>
          <a:blip r:embed="rId6"/>
          <a:stretch/>
        </p:blipFill>
        <p:spPr>
          <a:xfrm>
            <a:off x="243000" y="2597040"/>
            <a:ext cx="31748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infarc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83664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Trebuchet MS"/>
              </a:rPr>
              <a:t>Arterioscleros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Tromb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Emboli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. carotis (halsslagad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anuit het hart (ritmestoornisse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4211640" y="3429000"/>
            <a:ext cx="3770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09:36:08Z</dcterms:created>
  <dc:creator>alx-olc</dc:creator>
  <dc:description/>
  <dc:language>en-US</dc:language>
  <cp:lastModifiedBy>Els Beemer</cp:lastModifiedBy>
  <dcterms:modified xsi:type="dcterms:W3CDTF">2021-01-07T16:08:45Z</dcterms:modified>
  <cp:revision>366</cp:revision>
  <dc:subject/>
  <dc:title>CHIRURG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38773F0E0F2114B8273CBAACEEB1AF8</vt:lpwstr>
  </property>
</Properties>
</file>