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19.jpeg" ContentType="image/jpeg"/>
  <Override PartName="/ppt/media/image24.png" ContentType="image/png"/>
  <Override PartName="/ppt/media/image1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4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31.jpeg" ContentType="image/jpeg"/>
  <Override PartName="/ppt/media/image32.jpeg" ContentType="image/jpe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carbrake.wav" ContentType="audio/x-wav"/>
  <Override PartName="/ppt/media/image17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13.jpeg" ContentType="image/jpeg"/>
  <Override PartName="/ppt/media/image23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738959-6D08-4EEA-81B3-5E66AA1439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9DEFA0-C80C-4F8C-88DA-79E323E490A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295A84-A5EA-4319-B289-44C4EE939E1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48A827-D1D6-4024-9826-17BA2120B2A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46E9-9C43-4E45-AF8F-D7B18CC29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FDFD-FD94-45FA-BF35-F11EE570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A11E-6DB3-4846-A535-633BDC91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F052-F096-4CF9-B2DB-7FEAEBA8E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87E3-980C-40D8-9ADD-C8B395E54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AB99-AD77-4564-9E0B-854CF1CF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402A-C629-43A8-B1E7-6CB4A2F0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CB8E-FA8F-45FF-AB70-E61834C1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6065-6BC7-4EE4-9CA4-26D27798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09A9-E738-43DE-A784-34884866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BAA3-F513-4DA8-BA36-AF291910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C297-E52A-4F3A-B22A-3F10B04C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015B-9CC5-45F2-AB86-A40BF09E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7F8D-40BA-46DD-9B34-B6DE15F5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C016-D39A-4407-A3BE-5484D948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CB00-8F85-4A84-91ED-6FA515EA1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E4CA-C6C4-4256-BC62-5CFE534B4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64DC1-C557-40B5-8F10-5236EEB7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37BFB-28A2-45B1-BD4D-2401CC4F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1F899-AAEF-4AD5-BC0D-6DE9F418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DD741-EFA9-406E-AF89-9825DBCF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C1D31-1BE8-47D9-B406-5BA3562D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1DA6-5A1E-403E-80ED-053F1E80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BF40E-A218-43C0-B973-AE72C0D2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72A88-1328-4C18-A295-B4911D12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0905C-FAD1-4CAC-B7D3-B30A27EC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3E6CD-CD3E-4CAE-8491-40454962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21B59-9DE0-49D2-8307-C6051226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DB0F3-8FAB-4341-8255-FE0729B6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3D471-D8C9-44BE-A22C-B114F6CB4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B127C-49BD-422F-9DD2-F8CB47829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FF0A5-B3F2-4556-99C3-C95548DB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BB289-7018-4BD7-9D74-0C39B917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52C5-F5D0-4931-858E-F1D3DF1B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C8AE3-7485-49A1-8D0D-BEA5226A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F7008-FB81-49E8-9595-95498012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1515B-92D0-4B97-9446-D50034AC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E8465-6633-489B-B471-BA103479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7B08C-6ADC-4202-84C6-17FFA67A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A9EB9-355E-4918-846B-D5C8ADB5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B8B98-325E-404C-B078-32695AFE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BC41D-E3B5-47D9-B72D-BA173175A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4AA66-7175-4E59-A07B-536D384DB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8680-7698-4593-AC58-E0B40F82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C4B7-BBE5-42B2-988A-28C75ACC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FD5F-2734-456A-9CD1-2CF2AD88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8380-1110-4457-AD9E-D82A659E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18D4-BF2C-4A09-8366-465E9B13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95CA8D-3642-4BD4-A06C-D96FA86E07A5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B52F91-27D0-40DB-A5B9-7F5779B946D2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FEB00D-9D30-4D23-8286-8C3DE2632238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CD4EF1-448E-4DD3-A666-E90F08F3C2AE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youtube.com/watch?v=vdmFaO5-im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s://b.socrative.com/login/student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Cerebro Vasculair Accident CVA</a:t>
            </a:r>
            <a:br>
              <a:rPr sz="3600"/>
            </a:br>
            <a:br>
              <a:rPr sz="3600"/>
            </a:br>
            <a:r>
              <a:rPr b="0" lang="nl-NL" sz="2500" spc="-1" strike="noStrike">
                <a:solidFill>
                  <a:srgbClr val="ff0000"/>
                </a:solidFill>
                <a:latin typeface="Trebuchet MS"/>
              </a:rPr>
              <a:t>Literatuur: Zie Gedeelde documenten PAAF beginner/thema 3/literatuur</a:t>
            </a:r>
            <a:br>
              <a:rPr sz="2500"/>
            </a:b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500" spc="-1" strike="noStrike">
                <a:solidFill>
                  <a:srgbClr val="ffffff"/>
                </a:solidFill>
                <a:latin typeface="Trebuchet MS"/>
              </a:rPr>
              <a:t>http://www.hartstichting.nl/hart_en_vaten/beroerte/filmpjes_beroerte/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Trombos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oor beschadiging - en daarna ‘reparatie’ van een bloedvat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oor onvoldoende bloeddoorstroming (bedrust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Afbeelding 1" descr=""/>
          <p:cNvPicPr/>
          <p:nvPr/>
        </p:nvPicPr>
        <p:blipFill>
          <a:blip r:embed="rId1"/>
          <a:stretch/>
        </p:blipFill>
        <p:spPr>
          <a:xfrm>
            <a:off x="2306520" y="3357720"/>
            <a:ext cx="48405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mboli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en embolie is eigenlijk een losgescheurd stukje van een trombus dat verderop in de bloedsomloop vast komt te zitt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-31680" y="-15228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6" name="Afbeelding 2" descr=""/>
          <p:cNvPicPr/>
          <p:nvPr/>
        </p:nvPicPr>
        <p:blipFill>
          <a:blip r:embed="rId1"/>
          <a:stretch/>
        </p:blipFill>
        <p:spPr>
          <a:xfrm>
            <a:off x="2556000" y="3789360"/>
            <a:ext cx="42577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ersenbloeding (1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20% van alle CVA’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‘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Bloedig’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Scheurtje in een bloedvat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 bloed in of rond de hersen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Bloed drukt hersenweefsel weg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 schad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ersenbloeding (2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707760"/>
            <a:ext cx="9144000" cy="61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Oorzaken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Aneurysma (verzwakking van de vaatwand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Misvorming van de bloedvate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Onbekend: </a:t>
            </a:r>
            <a:r>
              <a:rPr b="0" lang="nl-NL" sz="2800" spc="-1" strike="noStrike">
                <a:solidFill>
                  <a:srgbClr val="ff0000"/>
                </a:solidFill>
                <a:latin typeface="Arial"/>
                <a:ea typeface="Arial"/>
              </a:rPr>
              <a:t>vaak al langer hogere bloeddruk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AutoShape 5"/>
          <p:cNvSpPr/>
          <p:nvPr/>
        </p:nvSpPr>
        <p:spPr>
          <a:xfrm>
            <a:off x="-31680" y="-15228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2" name="Afbeelding 2" descr=""/>
          <p:cNvPicPr/>
          <p:nvPr/>
        </p:nvPicPr>
        <p:blipFill>
          <a:blip r:embed="rId1"/>
          <a:stretch/>
        </p:blipFill>
        <p:spPr>
          <a:xfrm>
            <a:off x="457200" y="1762200"/>
            <a:ext cx="2646360" cy="2004840"/>
          </a:xfrm>
          <a:prstGeom prst="rect">
            <a:avLst/>
          </a:prstGeom>
          <a:ln w="0">
            <a:noFill/>
          </a:ln>
        </p:spPr>
      </p:pic>
      <p:pic>
        <p:nvPicPr>
          <p:cNvPr id="263" name="Afbeelding 3" descr=""/>
          <p:cNvPicPr/>
          <p:nvPr/>
        </p:nvPicPr>
        <p:blipFill>
          <a:blip r:embed="rId2"/>
          <a:stretch/>
        </p:blipFill>
        <p:spPr>
          <a:xfrm>
            <a:off x="4632480" y="1778040"/>
            <a:ext cx="3492360" cy="2004840"/>
          </a:xfrm>
          <a:prstGeom prst="rect">
            <a:avLst/>
          </a:prstGeom>
          <a:ln w="0">
            <a:noFill/>
          </a:ln>
        </p:spPr>
      </p:pic>
      <p:pic>
        <p:nvPicPr>
          <p:cNvPr id="264" name="Afbeelding 4" descr=""/>
          <p:cNvPicPr/>
          <p:nvPr/>
        </p:nvPicPr>
        <p:blipFill>
          <a:blip r:embed="rId3"/>
          <a:srcRect l="6080" t="3296" r="6227" b="7782"/>
          <a:stretch/>
        </p:blipFill>
        <p:spPr>
          <a:xfrm>
            <a:off x="2421000" y="4395960"/>
            <a:ext cx="1365120" cy="1290600"/>
          </a:xfrm>
          <a:prstGeom prst="rect">
            <a:avLst/>
          </a:prstGeom>
          <a:ln w="0">
            <a:noFill/>
          </a:ln>
        </p:spPr>
      </p:pic>
      <p:pic>
        <p:nvPicPr>
          <p:cNvPr id="265" name="Afbeelding 5" descr=""/>
          <p:cNvPicPr/>
          <p:nvPr/>
        </p:nvPicPr>
        <p:blipFill>
          <a:blip r:embed="rId4"/>
          <a:stretch/>
        </p:blipFill>
        <p:spPr>
          <a:xfrm>
            <a:off x="6012000" y="4221000"/>
            <a:ext cx="193644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5fcbef"/>
                </a:solidFill>
                <a:latin typeface="Trebuchet MS"/>
              </a:rPr>
              <a:t>Hersenvliezen (meningen)</a:t>
            </a:r>
            <a:br>
              <a:rPr sz="3200"/>
            </a:b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052640"/>
            <a:ext cx="86868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 u="sng">
                <a:solidFill>
                  <a:srgbClr val="404040"/>
                </a:solidFill>
                <a:uFillTx/>
                <a:latin typeface="Trebuchet MS"/>
              </a:rPr>
              <a:t>Meningen (van buiten naar binnen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ura mater (harde hersenvlies)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bescherm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Epidurale ruimt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Subdurale ruimt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Arachnoïd (spinnenwebvlies)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ubarachnoïdale ruimt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ia mater (zachte hersenvlies)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voed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 u="sng">
                <a:solidFill>
                  <a:srgbClr val="404040"/>
                </a:solidFill>
                <a:uFillTx/>
                <a:latin typeface="Trebuchet MS"/>
                <a:ea typeface="Times New Roman"/>
              </a:rPr>
              <a:t>Liquor (hersenvocht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Functie liquor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Stootkuss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Warmtebuffer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Voeding hersen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Vervoer afvalstoff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4716360" y="3668760"/>
            <a:ext cx="377532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5fcbef"/>
                </a:solidFill>
                <a:latin typeface="Trebuchet MS"/>
              </a:rPr>
              <a:t>Hersenbloeding (3)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907920"/>
            <a:ext cx="896472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Hersenbloedingen komen voor: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in de hersenen (intracerebraal)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rond de hersene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ubarachnoïda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ubdura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pidura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0" y="-1000080"/>
            <a:ext cx="2857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2" name="Picture 11" descr="http://www.stlucas.be/info_studenten/Deelwebsites/NeuroReva/images/hersenbloeding.gif"/>
          <p:cNvPicPr/>
          <p:nvPr/>
        </p:nvPicPr>
        <p:blipFill>
          <a:blip r:embed="rId1"/>
          <a:stretch/>
        </p:blipFill>
        <p:spPr>
          <a:xfrm>
            <a:off x="3419640" y="1973160"/>
            <a:ext cx="572436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De eerste verschijnselen van </a:t>
            </a:r>
            <a:br>
              <a:rPr sz="3600"/>
            </a:b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 CVA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4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FAST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5" name="Picture 5" descr="http://www.slotervaartziekenhuis.nl/portals/67/FAST%20-%20Arm.png"/>
          <p:cNvPicPr/>
          <p:nvPr/>
        </p:nvPicPr>
        <p:blipFill>
          <a:blip r:embed="rId1"/>
          <a:stretch/>
        </p:blipFill>
        <p:spPr>
          <a:xfrm>
            <a:off x="5364000" y="2276640"/>
            <a:ext cx="2197440" cy="1800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http://www.slotervaartziekenhuis.nl/portals/67/FAST%20-%20Spraak.png"/>
          <p:cNvPicPr/>
          <p:nvPr/>
        </p:nvPicPr>
        <p:blipFill>
          <a:blip r:embed="rId2"/>
          <a:stretch/>
        </p:blipFill>
        <p:spPr>
          <a:xfrm>
            <a:off x="1617840" y="4797360"/>
            <a:ext cx="2160360" cy="17701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http://www.slotervaartziekenhuis.nl/portals/67/FAST%20-%20Tijd.png"/>
          <p:cNvPicPr/>
          <p:nvPr/>
        </p:nvPicPr>
        <p:blipFill>
          <a:blip r:embed="rId3"/>
          <a:stretch/>
        </p:blipFill>
        <p:spPr>
          <a:xfrm>
            <a:off x="5508720" y="4508640"/>
            <a:ext cx="2158920" cy="17697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http://www.slotervaartziekenhuis.nl/portals/67/FAST%20-%20Mond.png"/>
          <p:cNvPicPr/>
          <p:nvPr/>
        </p:nvPicPr>
        <p:blipFill>
          <a:blip r:embed="rId4"/>
          <a:stretch/>
        </p:blipFill>
        <p:spPr>
          <a:xfrm>
            <a:off x="1619280" y="1989000"/>
            <a:ext cx="215892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Symptomen op langere termijn (1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1" name="Picture 13" descr="Breoerte: linker- en rechterkant"/>
          <p:cNvPicPr/>
          <p:nvPr/>
        </p:nvPicPr>
        <p:blipFill>
          <a:blip r:embed="rId1"/>
          <a:stretch/>
        </p:blipFill>
        <p:spPr>
          <a:xfrm>
            <a:off x="1187280" y="2038320"/>
            <a:ext cx="593424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Symptomen op langere termijn (2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79280" y="1125000"/>
            <a:ext cx="8785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Stoornissen op het gebied van…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Motoriek (beweging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Sensoriek (gevoel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Spiertonus (= spanning) (eerste 4 weken: slappe verlamming, daarna vaak: spastische verlamming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Visus (gezichtsveld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Cognitie (het denken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Emotie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Symptomen op langere termijn (3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08000" y="907920"/>
            <a:ext cx="9036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Hemi…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… 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parese (gedeeltelijke uitval, krachtsvermindering aan  één lichaamszijde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… 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paralyse (volledige uitval aan één lichaamszijde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… 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nopsie (‘buiten gebruik’ zijn van het netvlies (één zijde)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… 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neglectie (verwaarlozing (één zijde)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fasie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 (begrip en/of uiten van taal is verstoord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Dysartrie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uitspraakstoorni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praxie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moeite met uitvoeren van handeling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taxie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 coördinatiesorrnis van de spie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gnosie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 niet herkenn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6" name="Picture 13" descr="http://t2.gstatic.com/images?q=tbn:ANd9GcQ7SnWVoT2yk5ytovyNF963QFH2kHMGsKqo5B5aMyuAL9H1PscV"/>
          <p:cNvPicPr/>
          <p:nvPr/>
        </p:nvPicPr>
        <p:blipFill>
          <a:blip r:embed="rId1"/>
          <a:stretch/>
        </p:blipFill>
        <p:spPr>
          <a:xfrm>
            <a:off x="7122960" y="4830840"/>
            <a:ext cx="20289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10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2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1000" fill="hold"/>
                                        <p:tgtEl>
                                          <p:spTgt spid="2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nkele begrippen m.b.t. CVA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Niet aangeboren (verworven) hersenletsel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‘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Beroerte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Bloeding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‘bloedig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Infarct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‘onbloedig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Verwerking in de hersenen van </a:t>
            </a:r>
            <a:br>
              <a:rPr sz="3600"/>
            </a:b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beelde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nl-NL" sz="2800" spc="-1" strike="noStrike">
                <a:solidFill>
                  <a:srgbClr val="ff0000"/>
                </a:solidFill>
                <a:latin typeface="Trebuchet MS"/>
              </a:rPr>
              <a:t>Linker </a:t>
            </a: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gezichtsveld van beide ogen </a:t>
            </a:r>
            <a:r>
              <a:rPr b="0" lang="nl-NL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→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	</a:t>
            </a:r>
            <a:r>
              <a:rPr b="0" lang="nl-NL" sz="2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Rechter </a:t>
            </a:r>
            <a:r>
              <a:rPr b="0" lang="nl-NL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hersenhelf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nl-NL" sz="2800" spc="-1" strike="noStrike">
                <a:solidFill>
                  <a:srgbClr val="009999"/>
                </a:solidFill>
                <a:latin typeface="Trebuchet MS"/>
              </a:rPr>
              <a:t>Rechter</a:t>
            </a: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 gezichtsveld van beide ogen </a:t>
            </a:r>
            <a:r>
              <a:rPr b="0" lang="nl-NL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→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9999"/>
                </a:solidFill>
                <a:latin typeface="Trebuchet MS"/>
                <a:ea typeface="Times New Roman"/>
              </a:rPr>
              <a:t>	</a:t>
            </a:r>
            <a:r>
              <a:rPr b="0" lang="nl-NL" sz="2800" spc="-1" strike="noStrike">
                <a:solidFill>
                  <a:srgbClr val="009999"/>
                </a:solidFill>
                <a:latin typeface="Trebuchet MS"/>
                <a:ea typeface="Times New Roman"/>
              </a:rPr>
              <a:t>Linker </a:t>
            </a:r>
            <a:r>
              <a:rPr b="0" lang="nl-NL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hersenhelf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0" name="Picture 6" descr="http://www.gesichtsfeldausfall-selbsthilfegruppe.de/fotos/Sehbahn1.jpg"/>
          <p:cNvPicPr/>
          <p:nvPr/>
        </p:nvPicPr>
        <p:blipFill>
          <a:blip r:embed="rId1"/>
          <a:stretch/>
        </p:blipFill>
        <p:spPr>
          <a:xfrm>
            <a:off x="4643280" y="907920"/>
            <a:ext cx="380052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5" descr="OogfondsillNetvlieslos"/>
          <p:cNvPicPr/>
          <p:nvPr/>
        </p:nvPicPr>
        <p:blipFill>
          <a:blip r:embed="rId1"/>
          <a:stretch/>
        </p:blipFill>
        <p:spPr>
          <a:xfrm>
            <a:off x="1295280" y="762120"/>
            <a:ext cx="6553440" cy="4914720"/>
          </a:xfrm>
          <a:prstGeom prst="rect">
            <a:avLst/>
          </a:prstGeom>
          <a:ln w="0">
            <a:noFill/>
          </a:ln>
        </p:spPr>
      </p:pic>
      <p:sp>
        <p:nvSpPr>
          <p:cNvPr id="292" name="Rechthoek 2"/>
          <p:cNvSpPr/>
          <p:nvPr/>
        </p:nvSpPr>
        <p:spPr>
          <a:xfrm>
            <a:off x="2195640" y="59500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 u="sng">
                <a:solidFill>
                  <a:srgbClr val="3fcde7"/>
                </a:solidFill>
                <a:uFillTx/>
                <a:latin typeface="Times New Roman"/>
                <a:hlinkClick r:id="rId2"/>
              </a:rPr>
              <a:t>http://www.youtube.com/watch?v=vdmFaO5-im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Symptomen op de lange termijn (4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Karakter- en gedragsveranderingen door beschadigingen in de frontaalkwab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5" name="Afbeelding 3" descr=""/>
          <p:cNvPicPr/>
          <p:nvPr/>
        </p:nvPicPr>
        <p:blipFill>
          <a:blip r:embed="rId1"/>
          <a:stretch/>
        </p:blipFill>
        <p:spPr>
          <a:xfrm>
            <a:off x="1806480" y="2637000"/>
            <a:ext cx="553104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en ‘grove’ indeling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39960" y="2925360"/>
            <a:ext cx="40003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Rechterhersenhelf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219640" y="3860280"/>
            <a:ext cx="223200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aal/spraak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Lezen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chrijv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101920" y="2997360"/>
            <a:ext cx="4041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Linkerhersenhelf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900000" y="3789360"/>
            <a:ext cx="244656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Ruimtelijk inzich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ijdsbesef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moti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01" name="Picture 15" descr="http://www.brainquest.nl/wp-content/uploads/2009/07/brein.JPG"/>
          <p:cNvPicPr/>
          <p:nvPr/>
        </p:nvPicPr>
        <p:blipFill>
          <a:blip r:embed="rId1"/>
          <a:stretch/>
        </p:blipFill>
        <p:spPr>
          <a:xfrm>
            <a:off x="3708360" y="1052640"/>
            <a:ext cx="173988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5fcbef"/>
                </a:solidFill>
                <a:latin typeface="Trebuchet MS"/>
              </a:rPr>
              <a:t>Twee bijzondere functiegebieden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bied van Broc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 de motorische schors (= cortex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otorisch spraakcentrum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dien verstoord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000" spc="-1" strike="noStrike">
                <a:solidFill>
                  <a:srgbClr val="ff0000"/>
                </a:solidFill>
                <a:latin typeface="Trebuchet MS"/>
              </a:rPr>
              <a:t>motorische afasi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bied van Wernick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 de sensorische schors (= cortex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ensorisch spraakcentrum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dien verstoord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900" spc="-1" strike="noStrike">
                <a:solidFill>
                  <a:srgbClr val="ff0000"/>
                </a:solidFill>
                <a:latin typeface="Trebuchet MS"/>
              </a:rPr>
              <a:t>sensorische afasie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04" name="Picture 5" descr="http://www.webklik.nl/user_files/2011_03/234611/Hersenen.JPG"/>
          <p:cNvPicPr/>
          <p:nvPr/>
        </p:nvPicPr>
        <p:blipFill>
          <a:blip r:embed="rId1"/>
          <a:srcRect l="6576" t="0" r="0" b="0"/>
          <a:stretch/>
        </p:blipFill>
        <p:spPr>
          <a:xfrm>
            <a:off x="4932360" y="2378160"/>
            <a:ext cx="40687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1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1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10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10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10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10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10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10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1000" fill="hold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1000" fill="hold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1000" fill="hold"/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1000" fill="hold"/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1000" fill="hold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1000" fill="hold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1000" fill="hold"/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Afasi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2160720"/>
            <a:ext cx="30909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otorisch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50920" y="2736360"/>
            <a:ext cx="42465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‘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xpressief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oordvindproble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grip intact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kunnen lez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867120" y="2160720"/>
            <a:ext cx="30909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ensorisch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67120" y="2736360"/>
            <a:ext cx="30909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‘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eceptief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grip is verstoord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niet kunnen lez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lot, maar ‘onsamenhangend’ pra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Socrative Quiz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a naar </a:t>
            </a:r>
            <a:r>
              <a:rPr b="0" lang="nl-NL" sz="1800" spc="-1" strike="noStrike" u="sng">
                <a:solidFill>
                  <a:srgbClr val="3fcde7"/>
                </a:solidFill>
                <a:uFillTx/>
                <a:latin typeface="Trebuchet MS"/>
                <a:hlinkClick r:id="rId1"/>
              </a:rPr>
              <a:t>https://b.socrative.com/login/student/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amernummer: 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794B18B4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Afbeelding 3" descr=""/>
          <p:cNvPicPr/>
          <p:nvPr/>
        </p:nvPicPr>
        <p:blipFill>
          <a:blip r:embed="rId1"/>
          <a:stretch/>
        </p:blipFill>
        <p:spPr>
          <a:xfrm>
            <a:off x="1290600" y="115920"/>
            <a:ext cx="479412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" descr="illberoerte"/>
          <p:cNvPicPr/>
          <p:nvPr/>
        </p:nvPicPr>
        <p:blipFill>
          <a:blip r:embed="rId1"/>
          <a:stretch/>
        </p:blipFill>
        <p:spPr>
          <a:xfrm>
            <a:off x="457200" y="1981080"/>
            <a:ext cx="838188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http://t3.gstatic.com/images?q=tbn:ANd9GcRxCcbAtVItZd3p9B7PGvYnTT0IlsA3YeINQr7Uvj-_sh63Bzki"/>
          <p:cNvPicPr/>
          <p:nvPr/>
        </p:nvPicPr>
        <p:blipFill>
          <a:blip r:embed="rId1"/>
          <a:stretch/>
        </p:blipFill>
        <p:spPr>
          <a:xfrm>
            <a:off x="3564000" y="2392200"/>
            <a:ext cx="5292720" cy="420084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5fcbef"/>
                </a:solidFill>
                <a:latin typeface="Trebuchet MS"/>
              </a:rPr>
              <a:t>Bloedvoorziening van de hersenen </a:t>
            </a:r>
            <a:br>
              <a:rPr sz="3200"/>
            </a:br>
            <a:r>
              <a:rPr b="0" lang="nl-NL" sz="3200" spc="-1" strike="noStrike">
                <a:solidFill>
                  <a:srgbClr val="ff0000"/>
                </a:solidFill>
                <a:latin typeface="Trebuchet MS"/>
              </a:rPr>
              <a:t>De cirkel van Willis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26" name="Picture 4" descr="http://upload.wikimedia.org/wikipedia/commons/thumb/e/e5/Circle_of_Willis_la.svg/264px-Circle_of_Willis_la.svg.png"/>
          <p:cNvPicPr/>
          <p:nvPr/>
        </p:nvPicPr>
        <p:blipFill>
          <a:blip r:embed="rId2"/>
          <a:stretch/>
        </p:blipFill>
        <p:spPr>
          <a:xfrm>
            <a:off x="539640" y="2492280"/>
            <a:ext cx="25146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5fcbef"/>
                </a:solidFill>
                <a:latin typeface="Trebuchet MS"/>
              </a:rPr>
              <a:t>Herseninfarct (1) – verschillende soorten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08000" y="1052640"/>
            <a:ext cx="90360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TIA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ransient Ischemic Attack; max. 24 uur na het begin van de klachten zijn de klachten verdwenen. Vaak een ‘voorbode’ van een infarc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V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lachten duren langer dan 24 uur en zijn vaak blijve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6732720" y="2697120"/>
            <a:ext cx="241128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Oorzaken infarc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836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rebuchet MS"/>
              </a:rPr>
              <a:t>Arterioscleros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rombo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mboli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Trebuchet MS"/>
              </a:rPr>
              <a:t>A. carotis (halsslagader)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Trebuchet MS"/>
              </a:rPr>
              <a:t>Vanuit het hart (ritmestoornissen)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4716360" y="814320"/>
            <a:ext cx="37702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Wat is atherosclerose?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34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5796000" y="32846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35" name="Afbeelding 4" descr=""/>
          <p:cNvPicPr/>
          <p:nvPr/>
        </p:nvPicPr>
        <p:blipFill>
          <a:blip r:embed="rId2"/>
          <a:stretch/>
        </p:blipFill>
        <p:spPr>
          <a:xfrm>
            <a:off x="250920" y="1766880"/>
            <a:ext cx="507996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Oorzaken atheroscleros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-31680" y="-15228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Picture 6" descr="rsg kapsalon de has"/>
          <p:cNvPicPr/>
          <p:nvPr/>
        </p:nvPicPr>
        <p:blipFill>
          <a:blip r:embed="rId1"/>
          <a:stretch/>
        </p:blipFill>
        <p:spPr>
          <a:xfrm>
            <a:off x="1596960" y="925560"/>
            <a:ext cx="2975040" cy="1519200"/>
          </a:xfrm>
          <a:prstGeom prst="rect">
            <a:avLst/>
          </a:prstGeom>
          <a:ln w="0">
            <a:noFill/>
          </a:ln>
        </p:spPr>
      </p:pic>
      <p:pic>
        <p:nvPicPr>
          <p:cNvPr id="239" name="Afbeelding 5" descr=""/>
          <p:cNvPicPr/>
          <p:nvPr/>
        </p:nvPicPr>
        <p:blipFill>
          <a:blip r:embed="rId2"/>
          <a:stretch/>
        </p:blipFill>
        <p:spPr>
          <a:xfrm>
            <a:off x="6154560" y="638280"/>
            <a:ext cx="2532240" cy="1677960"/>
          </a:xfrm>
          <a:prstGeom prst="rect">
            <a:avLst/>
          </a:prstGeom>
          <a:ln w="0">
            <a:noFill/>
          </a:ln>
        </p:spPr>
      </p:pic>
      <p:pic>
        <p:nvPicPr>
          <p:cNvPr id="240" name="Afbeelding 1" descr=""/>
          <p:cNvPicPr/>
          <p:nvPr/>
        </p:nvPicPr>
        <p:blipFill>
          <a:blip r:embed="rId3"/>
          <a:stretch/>
        </p:blipFill>
        <p:spPr>
          <a:xfrm>
            <a:off x="1476360" y="4726080"/>
            <a:ext cx="2102040" cy="2205000"/>
          </a:xfrm>
          <a:prstGeom prst="rect">
            <a:avLst/>
          </a:prstGeom>
          <a:ln w="0">
            <a:noFill/>
          </a:ln>
        </p:spPr>
      </p:pic>
      <p:pic>
        <p:nvPicPr>
          <p:cNvPr id="241" name="Afbeelding 2" descr=""/>
          <p:cNvPicPr/>
          <p:nvPr/>
        </p:nvPicPr>
        <p:blipFill>
          <a:blip r:embed="rId4"/>
          <a:stretch/>
        </p:blipFill>
        <p:spPr>
          <a:xfrm>
            <a:off x="4788000" y="4986360"/>
            <a:ext cx="2527200" cy="168444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7"/>
          <p:cNvSpPr/>
          <p:nvPr/>
        </p:nvSpPr>
        <p:spPr>
          <a:xfrm>
            <a:off x="12060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AutoShape 9"/>
          <p:cNvSpPr/>
          <p:nvPr/>
        </p:nvSpPr>
        <p:spPr>
          <a:xfrm>
            <a:off x="2728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4" name="Afbeelding 5" descr=""/>
          <p:cNvPicPr/>
          <p:nvPr/>
        </p:nvPicPr>
        <p:blipFill>
          <a:blip r:embed="rId5"/>
          <a:stretch/>
        </p:blipFill>
        <p:spPr>
          <a:xfrm>
            <a:off x="5003640" y="2658960"/>
            <a:ext cx="2957760" cy="1979640"/>
          </a:xfrm>
          <a:prstGeom prst="rect">
            <a:avLst/>
          </a:prstGeom>
          <a:ln w="0">
            <a:noFill/>
          </a:ln>
        </p:spPr>
      </p:pic>
      <p:sp>
        <p:nvSpPr>
          <p:cNvPr id="245" name="AutoShape 12"/>
          <p:cNvSpPr/>
          <p:nvPr/>
        </p:nvSpPr>
        <p:spPr>
          <a:xfrm>
            <a:off x="4255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Afbeelding 2" descr=""/>
          <p:cNvPicPr/>
          <p:nvPr/>
        </p:nvPicPr>
        <p:blipFill>
          <a:blip r:embed="rId6"/>
          <a:stretch/>
        </p:blipFill>
        <p:spPr>
          <a:xfrm>
            <a:off x="243000" y="2597040"/>
            <a:ext cx="31748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Oorzaken infarc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83664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Trebuchet MS"/>
              </a:rPr>
              <a:t>Arterioscleros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rebuchet MS"/>
              </a:rPr>
              <a:t>Trombo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rebuchet MS"/>
              </a:rPr>
              <a:t>Emboli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. carotis (halsslagad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anuit het hart (ritmestoornissen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4211640" y="3429000"/>
            <a:ext cx="37702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09:36:08Z</dcterms:created>
  <dc:creator>alx-olc</dc:creator>
  <dc:description/>
  <dc:language>en-US</dc:language>
  <cp:lastModifiedBy>Els Beemer</cp:lastModifiedBy>
  <dcterms:modified xsi:type="dcterms:W3CDTF">2021-01-07T16:08:45Z</dcterms:modified>
  <cp:revision>366</cp:revision>
  <dc:subject/>
  <dc:title>CHIRURGI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38773F0E0F2114B8273CBAACEEB1AF8</vt:lpwstr>
  </property>
</Properties>
</file>