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4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carbrake.wav" ContentType="audio/x-wav"/>
  <Override PartName="/ppt/media/image17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23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1AC88-18FD-4FBD-B923-0B72513684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D4E6E-EB71-4E97-ACC7-46696FA3AC3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95DA4-39E8-4F86-8ECD-32700800A60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8755F-CCF3-4398-A1ED-DEC1DD6C122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82A-5FE0-46FE-A8FA-40DAD736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74F-1F8B-4643-9BFD-022523EA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FED-69CE-48FF-A86F-C2364182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D1B-BED1-4F59-BB44-9D293785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4CCA-C614-4D59-B584-D0ABAD22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45EC-FD84-4EFD-BDAD-1C29C8C9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9910-7F49-4629-A48A-509C83F0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D334-F8A4-47B3-B9B5-7E6CCE2D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5CA7-F82B-4D07-839B-9CBFEF23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1189-A844-4278-A818-5B5C7E07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BC59-C516-4485-A8EF-7FAF0ADA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385-7027-4CE0-B46B-9AB3EF50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0ACA-378F-45D0-9231-C0B5898A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CAE9-F013-48D4-9B14-79EEC130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5448-D8F7-43A5-8BC3-2BB7F528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3FF8-4C2E-40B8-AD6C-CEDE9E97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CFDC-DF88-49B6-935A-20DB9B44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A5FB-1943-4EEF-AB3B-EC1CAB4B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9B825-C9B4-47C4-9E70-BED6CCE5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A1E3-01D5-43F2-9A0C-A5BED265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88D2-2F9F-4541-A554-48601ECD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6DE6-2AF4-40EA-9939-EF4F1B67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180-30D4-4689-A4F4-479CABE6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D4DE-7A8E-456C-8334-39D63716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69581-3FF4-43EA-8902-73108B7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1F04-3F13-4D35-A801-4A97263C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A64A-B45E-47BC-A689-DF514044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9791-AB12-4768-A689-79FC7827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922B-99F6-40EA-9890-E5818758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7E90-0D5E-4423-A730-3ABE8F4F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B546-4518-466D-A6CE-C8DBAD1B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A9DFB-4A77-4879-B67F-3302934D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8715-48B6-46B8-91C2-C69EAE6C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68E-A159-4A4D-8291-BC42ABDD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FB0C5-F2B0-480A-AE7B-49F19E85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BCB7-9A6A-4B41-A22A-763C20B2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85C91-E1B5-453F-82CF-246BE5C9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B9B8-E154-43E5-8DBB-ED75F12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215E4-EAC0-4654-A42F-79331FD6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4A81-E9F3-48AA-A778-04C40CC3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C768-0529-45D5-9BA9-6043636C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452EB-A8BF-4484-B8DE-4DAA5120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504B8-E1DA-41B5-A7F9-E48D73BE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EB7-5DF9-4A4E-BFFA-38925927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89D-D47A-44DB-B290-E20E3AB8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F24-3852-440E-A4F8-21689835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F3C-3E4B-4A8F-A6B8-19AF2E11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542-6493-4144-BE6C-2E6A23CB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8DEDE-7E12-409D-B953-21546928350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FDC7E-158B-42AE-B6B9-B4628813012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E4A03-655C-4B1A-B9EB-FF59E1E51E0B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910D8-332F-44E9-BC05-D321232FC44C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youtube.com/watch?v=vdmFaO5-im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b.socrative.com/login/student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Cerebro Vasculair Accident CVA</a:t>
            </a:r>
            <a:br>
              <a:rPr sz="3600"/>
            </a:br>
            <a:br>
              <a:rPr sz="3600"/>
            </a:br>
            <a:r>
              <a:rPr b="0" lang="nl-NL" sz="2500" spc="-1" strike="noStrike">
                <a:solidFill>
                  <a:srgbClr val="ff0000"/>
                </a:solidFill>
                <a:latin typeface="Trebuchet MS"/>
              </a:rPr>
              <a:t>Literatuur: Zie Gedeelde documenten PAAF beginner/thema 3/literatuur</a:t>
            </a: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Trebuchet MS"/>
              </a:rPr>
              <a:t>http://www.hartstichting.nl/hart_en_vaten/beroerte/filmpjes_beroerte/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romb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beschadiging - en daarna ‘reparatie’ van een bloedvat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oor onvoldoende bloeddoorstroming (bedrust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1" descr=""/>
          <p:cNvPicPr/>
          <p:nvPr/>
        </p:nvPicPr>
        <p:blipFill>
          <a:blip r:embed="rId1"/>
          <a:stretch/>
        </p:blipFill>
        <p:spPr>
          <a:xfrm>
            <a:off x="2306520" y="3357720"/>
            <a:ext cx="48405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mbol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en embolie is eigenlijk een losgescheurd stukje van een trombus dat verderop in de bloedsomloop vast komt te zitt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Afbeelding 2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4257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20% van alle CVA’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ig’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Scheurtje in een bloedvat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bloed in of rond de herse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Bloed drukt hersenweefsel weg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schad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rsenbloeding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707760"/>
            <a:ext cx="91440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orzaken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Aneurysma (verzwakking van de vaatwan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isvorming van de bloedvat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Onbekend: </a:t>
            </a:r>
            <a:r>
              <a:rPr b="0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vaak al langer hogere bloeddruk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Afbeelding 2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2646360" cy="2004840"/>
          </a:xfrm>
          <a:prstGeom prst="rect">
            <a:avLst/>
          </a:prstGeom>
          <a:ln w="0">
            <a:noFill/>
          </a:ln>
        </p:spPr>
      </p:pic>
      <p:pic>
        <p:nvPicPr>
          <p:cNvPr id="263" name="Afbeelding 3" descr=""/>
          <p:cNvPicPr/>
          <p:nvPr/>
        </p:nvPicPr>
        <p:blipFill>
          <a:blip r:embed="rId2"/>
          <a:stretch/>
        </p:blipFill>
        <p:spPr>
          <a:xfrm>
            <a:off x="4632480" y="1778040"/>
            <a:ext cx="3492360" cy="2004840"/>
          </a:xfrm>
          <a:prstGeom prst="rect">
            <a:avLst/>
          </a:prstGeom>
          <a:ln w="0">
            <a:noFill/>
          </a:ln>
        </p:spPr>
      </p:pic>
      <p:pic>
        <p:nvPicPr>
          <p:cNvPr id="264" name="Afbeelding 4" descr=""/>
          <p:cNvPicPr/>
          <p:nvPr/>
        </p:nvPicPr>
        <p:blipFill>
          <a:blip r:embed="rId3"/>
          <a:srcRect l="6080" t="3296" r="6227" b="7782"/>
          <a:stretch/>
        </p:blipFill>
        <p:spPr>
          <a:xfrm>
            <a:off x="2421000" y="4395960"/>
            <a:ext cx="1365120" cy="1290600"/>
          </a:xfrm>
          <a:prstGeom prst="rect">
            <a:avLst/>
          </a:prstGeom>
          <a:ln w="0">
            <a:noFill/>
          </a:ln>
        </p:spPr>
      </p:pic>
      <p:pic>
        <p:nvPicPr>
          <p:cNvPr id="265" name="Afbeelding 5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1936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Hersenvliezen (meningen)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052640"/>
            <a:ext cx="8686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</a:rPr>
              <a:t>Meningen (van buiten naar binnen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ura mater (hard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bescherm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Epi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ubdur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Arachnoïd (spinnenwebvlies)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Subarachnoïdale ruim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Pia mater (zachte hersenvlies) </a:t>
            </a:r>
            <a:r>
              <a:rPr b="0" lang="nl-NL" sz="2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 voeding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 u="sng">
                <a:solidFill>
                  <a:srgbClr val="404040"/>
                </a:solidFill>
                <a:uFillTx/>
                <a:latin typeface="Trebuchet MS"/>
                <a:ea typeface="Times New Roman"/>
              </a:rPr>
              <a:t>Liquor (hersenvocht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Functie liqu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Stootkuss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Warmtebuffe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oeding hersen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Vervoer afvalstoff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4716360" y="3668760"/>
            <a:ext cx="37753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Hersenbloeding (3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07920"/>
            <a:ext cx="896472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Hersenbloedingen komen voor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in de hersenen (intracerebraal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ond de hersene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arachnoïd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ub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pidura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0" y="-1000080"/>
            <a:ext cx="2857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11" descr="http://www.stlucas.be/info_studenten/Deelwebsites/NeuroReva/images/hersenbloeding.gif"/>
          <p:cNvPicPr/>
          <p:nvPr/>
        </p:nvPicPr>
        <p:blipFill>
          <a:blip r:embed="rId1"/>
          <a:stretch/>
        </p:blipFill>
        <p:spPr>
          <a:xfrm>
            <a:off x="3419640" y="1973160"/>
            <a:ext cx="57243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e eerste verschijnsel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ST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5" name="Picture 5" descr="http://www.slotervaartziekenhuis.nl/portals/67/FAST%20-%20Arm.png"/>
          <p:cNvPicPr/>
          <p:nvPr/>
        </p:nvPicPr>
        <p:blipFill>
          <a:blip r:embed="rId1"/>
          <a:stretch/>
        </p:blipFill>
        <p:spPr>
          <a:xfrm>
            <a:off x="5364000" y="2276640"/>
            <a:ext cx="2197440" cy="1800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slotervaartziekenhuis.nl/portals/67/FAST%20-%20Spraak.png"/>
          <p:cNvPicPr/>
          <p:nvPr/>
        </p:nvPicPr>
        <p:blipFill>
          <a:blip r:embed="rId2"/>
          <a:stretch/>
        </p:blipFill>
        <p:spPr>
          <a:xfrm>
            <a:off x="1617840" y="4797360"/>
            <a:ext cx="2160360" cy="177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http://www.slotervaartziekenhuis.nl/portals/67/FAST%20-%20Tijd.png"/>
          <p:cNvPicPr/>
          <p:nvPr/>
        </p:nvPicPr>
        <p:blipFill>
          <a:blip r:embed="rId3"/>
          <a:stretch/>
        </p:blipFill>
        <p:spPr>
          <a:xfrm>
            <a:off x="5508720" y="4508640"/>
            <a:ext cx="2158920" cy="1769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www.slotervaartziekenhuis.nl/portals/67/FAST%20-%20Mond.png"/>
          <p:cNvPicPr/>
          <p:nvPr/>
        </p:nvPicPr>
        <p:blipFill>
          <a:blip r:embed="rId4"/>
          <a:stretch/>
        </p:blipFill>
        <p:spPr>
          <a:xfrm>
            <a:off x="1619280" y="1989000"/>
            <a:ext cx="2158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1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1" name="Picture 13" descr="Breoerte: linker- en rechterkant"/>
          <p:cNvPicPr/>
          <p:nvPr/>
        </p:nvPicPr>
        <p:blipFill>
          <a:blip r:embed="rId1"/>
          <a:stretch/>
        </p:blipFill>
        <p:spPr>
          <a:xfrm>
            <a:off x="1187280" y="2038320"/>
            <a:ext cx="59342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2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125000"/>
            <a:ext cx="878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toornissen op het gebied van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Motoriek (beweg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ensoriek (gevoe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Spiertonus (= spanning) (eerste 4 weken: slappe verlamming, daarna vaak: spastische verlamming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Visus (gezichtsveld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Cognitie (het denken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Arial"/>
                <a:ea typeface="Arial"/>
              </a:rPr>
              <a:t>Emoti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langere termijn (3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Hemi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ese (gedeeltelijke uitval, krachtsvermindering aan 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paralyse (volledige uitval aan één lichaamszijde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nopsie (‘buiten gebruik’ zijn van het netvlies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… 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neglectie (verwaarlozing (één zijde)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fa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(begrip en/of uiten van taal is verstoord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Dysartr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uitspraakstoorn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pr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moeite met uitvoeren van handeling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tax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coördinatiesorrnis van de spi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Agnosie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Arial"/>
                <a:ea typeface="Arial"/>
              </a:rPr>
              <a:t> niet herken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6" name="Picture 13" descr="http://t2.gstatic.com/images?q=tbn:ANd9GcQ7SnWVoT2yk5ytovyNF963QFH2kHMGsKqo5B5aMyuAL9H1PscV"/>
          <p:cNvPicPr/>
          <p:nvPr/>
        </p:nvPicPr>
        <p:blipFill>
          <a:blip r:embed="rId1"/>
          <a:stretch/>
        </p:blipFill>
        <p:spPr>
          <a:xfrm>
            <a:off x="7122960" y="4830840"/>
            <a:ext cx="20289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kele begrippen m.b.t. CVA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Niet aangeboren (verworven) hersenletsel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eroerte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Bloeding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Infar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Arial"/>
                <a:ea typeface="Arial"/>
              </a:rPr>
              <a:t> ‘onbloedig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Verwerking in de hersenen van </a:t>
            </a:r>
            <a:br>
              <a:rPr sz="3600"/>
            </a:b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eeld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Recht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</a:rPr>
              <a:t>Rechter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 gezichtsveld van beide ogen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→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	</a:t>
            </a:r>
            <a:r>
              <a:rPr b="0" lang="nl-NL" sz="2800" spc="-1" strike="noStrike">
                <a:solidFill>
                  <a:srgbClr val="009999"/>
                </a:solidFill>
                <a:latin typeface="Trebuchet MS"/>
                <a:ea typeface="Times New Roman"/>
              </a:rPr>
              <a:t>Linker </a:t>
            </a:r>
            <a:r>
              <a:rPr b="0" lang="nl-NL" sz="28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0" name="Picture 6" descr="http://www.gesichtsfeldausfall-selbsthilfegruppe.de/fotos/Sehbahn1.jpg"/>
          <p:cNvPicPr/>
          <p:nvPr/>
        </p:nvPicPr>
        <p:blipFill>
          <a:blip r:embed="rId1"/>
          <a:stretch/>
        </p:blipFill>
        <p:spPr>
          <a:xfrm>
            <a:off x="4643280" y="907920"/>
            <a:ext cx="38005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OogfondsillNetvlieslos"/>
          <p:cNvPicPr/>
          <p:nvPr/>
        </p:nvPicPr>
        <p:blipFill>
          <a:blip r:embed="rId1"/>
          <a:stretch/>
        </p:blipFill>
        <p:spPr>
          <a:xfrm>
            <a:off x="1295280" y="762120"/>
            <a:ext cx="6553440" cy="4914720"/>
          </a:xfrm>
          <a:prstGeom prst="rect">
            <a:avLst/>
          </a:prstGeom>
          <a:ln w="0">
            <a:noFill/>
          </a:ln>
        </p:spPr>
      </p:pic>
      <p:sp>
        <p:nvSpPr>
          <p:cNvPr id="292" name="Rechthoek 2"/>
          <p:cNvSpPr/>
          <p:nvPr/>
        </p:nvSpPr>
        <p:spPr>
          <a:xfrm>
            <a:off x="2195640" y="5950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3fcde7"/>
                </a:solidFill>
                <a:uFillTx/>
                <a:latin typeface="Times New Roman"/>
                <a:hlinkClick r:id="rId2"/>
              </a:rPr>
              <a:t>http://www.youtube.com/watch?v=vdmFaO5-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ymptomen op de lange termijn (4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arakter- en gedragsveranderingen door beschadigingen in de frontaalkwab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Afbeelding 3" descr=""/>
          <p:cNvPicPr/>
          <p:nvPr/>
        </p:nvPicPr>
        <p:blipFill>
          <a:blip r:embed="rId1"/>
          <a:stretch/>
        </p:blipFill>
        <p:spPr>
          <a:xfrm>
            <a:off x="1806480" y="2637000"/>
            <a:ext cx="553104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en ‘grove’ indel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39960" y="2925360"/>
            <a:ext cx="40003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Recht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219640" y="3860280"/>
            <a:ext cx="2232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aal/spraak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eze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rijv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01920" y="2997360"/>
            <a:ext cx="4041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404040"/>
                </a:solidFill>
                <a:latin typeface="Trebuchet MS"/>
              </a:rPr>
              <a:t>Linkerhersenhelf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00000" y="3789360"/>
            <a:ext cx="24465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uimtelijk inzich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ijdsbese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oti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1" name="Picture 15" descr="http://www.brainquest.nl/wp-content/uploads/2009/07/brein.JPG"/>
          <p:cNvPicPr/>
          <p:nvPr/>
        </p:nvPicPr>
        <p:blipFill>
          <a:blip r:embed="rId1"/>
          <a:stretch/>
        </p:blipFill>
        <p:spPr>
          <a:xfrm>
            <a:off x="3708360" y="1052640"/>
            <a:ext cx="1739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5fcbef"/>
                </a:solidFill>
                <a:latin typeface="Trebuchet MS"/>
              </a:rPr>
              <a:t>Twee bijzondere functiegebied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Broc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mot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Mot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Trebuchet MS"/>
              </a:rPr>
              <a:t>motorische afasi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bied van Wernick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 de sensorische schors (= cortex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nsorisch spraakcentrum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dien verstoord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900" spc="-1" strike="noStrike">
                <a:solidFill>
                  <a:srgbClr val="ff0000"/>
                </a:solidFill>
                <a:latin typeface="Trebuchet MS"/>
              </a:rPr>
              <a:t>sensorische afasi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4" name="Picture 5" descr="http://www.webklik.nl/user_files/2011_03/234611/Hersenen.JPG"/>
          <p:cNvPicPr/>
          <p:nvPr/>
        </p:nvPicPr>
        <p:blipFill>
          <a:blip r:embed="rId1"/>
          <a:srcRect l="6576" t="0" r="0" b="0"/>
          <a:stretch/>
        </p:blipFill>
        <p:spPr>
          <a:xfrm>
            <a:off x="4932360" y="2378160"/>
            <a:ext cx="4068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Afasi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ot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2736360"/>
            <a:ext cx="42465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xpress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ordvind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ntact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67120" y="2160720"/>
            <a:ext cx="30909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ensorisch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67120" y="2736360"/>
            <a:ext cx="3090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‘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ceptief’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grip is verstoord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niet kunnen l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t, maar ‘onsamenhangend’ pra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ocrative Quiz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 naar </a:t>
            </a:r>
            <a:r>
              <a:rPr b="0" lang="nl-NL" sz="18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s://b.socrative.com/login/student/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mernummer: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794B18B4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3" descr=""/>
          <p:cNvPicPr/>
          <p:nvPr/>
        </p:nvPicPr>
        <p:blipFill>
          <a:blip r:embed="rId1"/>
          <a:stretch/>
        </p:blipFill>
        <p:spPr>
          <a:xfrm>
            <a:off x="1290600" y="115920"/>
            <a:ext cx="479412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illberoerte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t3.gstatic.com/images?q=tbn:ANd9GcRxCcbAtVItZd3p9B7PGvYnTT0IlsA3YeINQr7Uvj-_sh63Bzki"/>
          <p:cNvPicPr/>
          <p:nvPr/>
        </p:nvPicPr>
        <p:blipFill>
          <a:blip r:embed="rId1"/>
          <a:stretch/>
        </p:blipFill>
        <p:spPr>
          <a:xfrm>
            <a:off x="3564000" y="2392200"/>
            <a:ext cx="5292720" cy="4200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loedvoorziening van de hersenen </a:t>
            </a: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De cirkel van Willis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26" name="Picture 4" descr="http://upload.wikimedia.org/wikipedia/commons/thumb/e/e5/Circle_of_Willis_la.svg/264px-Circle_of_Willis_la.svg.png"/>
          <p:cNvPicPr/>
          <p:nvPr/>
        </p:nvPicPr>
        <p:blipFill>
          <a:blip r:embed="rId2"/>
          <a:stretch/>
        </p:blipFill>
        <p:spPr>
          <a:xfrm>
            <a:off x="539640" y="2492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5fcbef"/>
                </a:solidFill>
                <a:latin typeface="Trebuchet MS"/>
              </a:rPr>
              <a:t>Herseninfarct (1) – verschillende soorten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8000" y="1052640"/>
            <a:ext cx="9036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TIA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ransient Ischemic Attack; max. 24 uur na het begin van de klachten zijn de klachten verdwenen. Vaak een ‘voorbode’ van een infarc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V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lachten duren langer dan 24 uur en zijn vaak blijv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732720" y="2697120"/>
            <a:ext cx="2411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2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716360" y="81432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Wat is atherosclerose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35" name="Afbeelding 4" descr=""/>
          <p:cNvPicPr/>
          <p:nvPr/>
        </p:nvPicPr>
        <p:blipFill>
          <a:blip r:embed="rId2"/>
          <a:stretch/>
        </p:blipFill>
        <p:spPr>
          <a:xfrm>
            <a:off x="250920" y="1766880"/>
            <a:ext cx="50799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atherosclero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-31680" y="-15228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rsg kapsalon de has"/>
          <p:cNvPicPr/>
          <p:nvPr/>
        </p:nvPicPr>
        <p:blipFill>
          <a:blip r:embed="rId1"/>
          <a:stretch/>
        </p:blipFill>
        <p:spPr>
          <a:xfrm>
            <a:off x="1596960" y="925560"/>
            <a:ext cx="2975040" cy="1519200"/>
          </a:xfrm>
          <a:prstGeom prst="rect">
            <a:avLst/>
          </a:prstGeom>
          <a:ln w="0">
            <a:noFill/>
          </a:ln>
        </p:spPr>
      </p:pic>
      <p:pic>
        <p:nvPicPr>
          <p:cNvPr id="239" name="Afbeelding 5" descr=""/>
          <p:cNvPicPr/>
          <p:nvPr/>
        </p:nvPicPr>
        <p:blipFill>
          <a:blip r:embed="rId2"/>
          <a:stretch/>
        </p:blipFill>
        <p:spPr>
          <a:xfrm>
            <a:off x="6154560" y="638280"/>
            <a:ext cx="2532240" cy="1677960"/>
          </a:xfrm>
          <a:prstGeom prst="rect">
            <a:avLst/>
          </a:prstGeom>
          <a:ln w="0">
            <a:noFill/>
          </a:ln>
        </p:spPr>
      </p:pic>
      <p:pic>
        <p:nvPicPr>
          <p:cNvPr id="240" name="Afbeelding 1" descr=""/>
          <p:cNvPicPr/>
          <p:nvPr/>
        </p:nvPicPr>
        <p:blipFill>
          <a:blip r:embed="rId3"/>
          <a:stretch/>
        </p:blipFill>
        <p:spPr>
          <a:xfrm>
            <a:off x="1476360" y="4726080"/>
            <a:ext cx="2102040" cy="220500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2" descr=""/>
          <p:cNvPicPr/>
          <p:nvPr/>
        </p:nvPicPr>
        <p:blipFill>
          <a:blip r:embed="rId4"/>
          <a:stretch/>
        </p:blipFill>
        <p:spPr>
          <a:xfrm>
            <a:off x="4788000" y="4986360"/>
            <a:ext cx="2527200" cy="16844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12060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2728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Afbeelding 5" descr=""/>
          <p:cNvPicPr/>
          <p:nvPr/>
        </p:nvPicPr>
        <p:blipFill>
          <a:blip r:embed="rId5"/>
          <a:stretch/>
        </p:blipFill>
        <p:spPr>
          <a:xfrm>
            <a:off x="5003640" y="2658960"/>
            <a:ext cx="2957760" cy="19796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2"/>
          <p:cNvSpPr/>
          <p:nvPr/>
        </p:nvSpPr>
        <p:spPr>
          <a:xfrm>
            <a:off x="4255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Afbeelding 2" descr=""/>
          <p:cNvPicPr/>
          <p:nvPr/>
        </p:nvPicPr>
        <p:blipFill>
          <a:blip r:embed="rId6"/>
          <a:stretch/>
        </p:blipFill>
        <p:spPr>
          <a:xfrm>
            <a:off x="243000" y="2597040"/>
            <a:ext cx="3174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Oorzaken infarc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83664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Trebuchet MS"/>
              </a:rPr>
              <a:t>Arterioscleros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Tromb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rebuchet MS"/>
              </a:rPr>
              <a:t>Emboli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. carotis (halsslagad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anuit het hart (ritmestoornisse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4211640" y="3429000"/>
            <a:ext cx="3770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09:36:08Z</dcterms:created>
  <dc:creator>alx-olc</dc:creator>
  <dc:description/>
  <dc:language>en-US</dc:language>
  <cp:lastModifiedBy>Els Beemer</cp:lastModifiedBy>
  <dcterms:modified xsi:type="dcterms:W3CDTF">2021-01-07T16:08:45Z</dcterms:modified>
  <cp:revision>366</cp:revision>
  <dc:subject/>
  <dc:title>CHIRURG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8773F0E0F2114B8273CBAACEEB1AF8</vt:lpwstr>
  </property>
</Properties>
</file>