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4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31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carbrake.wav" ContentType="audio/x-wav"/>
  <Override PartName="/ppt/media/image17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3.jpeg" ContentType="image/jpeg"/>
  <Override PartName="/ppt/media/image23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29E0F-7DBB-425D-9C8E-E470453C52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BBA66-9F7D-49C4-9296-5E44DAF22AB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0723A8-ED4E-448C-A1A7-F9BBF13FC7B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28CA2-7FDE-44C4-A735-1BB3A7B7AA3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E3A-1E7A-4614-BEAB-DC76B2ED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1767-53EF-4052-BA3D-BE6C4E07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AE1B-7ABA-4689-A53F-B28C8C19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44C-4FCE-44AD-A4D6-1190EABA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CD31-BDBB-40E6-929A-F13D80DB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7EDC-B095-467F-AB60-1B9A91DF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474D-FCE5-4D26-9701-2203EEF8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A262-82FC-4E0F-97E8-E7292B9F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F50A-ABE9-4F01-8350-DF281018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CAE4-E64A-4B0A-A757-1B87A9A7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DCAF-C573-426A-AD9F-92F82FFA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7DA-CF9A-4163-A297-7390A3BA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0FDE-F40A-4981-97A2-57E06C48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436B-E195-4949-9ED9-7824787A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DA68-D9AC-4CD3-AD36-AF53EB6E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38D6-53DB-49C2-A34C-B58A01FF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35CD-6E93-4D93-95F5-B827239E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AE496-E614-46CB-8B83-79335F10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62319-F85A-44DC-A724-00D32159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592F4-FC9D-4A17-9767-1A229047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6DBF9-01ED-4E7F-AA98-0CE353F0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174D0-9C49-4507-AB4A-5D0FDDA6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887B-A2E3-462A-AC5E-C1706F81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B5177-C15E-4331-911E-66ED50D0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B23B1-1A13-44D7-8DA6-36DE2923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780AC-0EBF-45A9-A5B6-38312939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6CACB-CDF8-4CF8-A5B1-B925103F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3B007-452E-4B60-B909-81E3C711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29293-A9AF-4051-A1B3-836D33E4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EEC64-D9DF-4806-A94C-3330034C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CDD58-AB87-4DAB-AEB1-0FCF0B79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20383-9083-4FAB-B722-8AE4955F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9DA7B-64CC-4A91-AEBC-33EB8144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9C4-8506-4ED7-A64B-8676B46B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E82BD-F37E-44EA-8A64-E72B5167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8A854-8904-4BF6-B376-2CD5DB3A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77C92-5292-4845-ABE3-238C8F71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C950F-B4A2-4DA4-9F7B-7181368A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1E4E4-1B7E-4060-8D5A-40AE9486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DDFC3-9FD6-4535-B6FC-28818F36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2A35C-EFEE-4884-BFDD-25730D75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21BFC-A39D-4C31-8868-84FA2F54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6381B-15E2-46A7-8574-EF713794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245-7CD9-4240-A32A-3D788AEE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044-430D-45E9-9A4A-E4B5AF6C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9520-2F51-4EE4-816E-EDEAE41F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217-F750-48E6-A018-305708E8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C1BF-33C7-4676-AE42-EE10BDA5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9ACAE-76F6-4220-8378-3026A1EC6EDF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46026-2179-4531-B722-52EB2926E998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EA782A-899F-48DA-91E6-F8DEBD614634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AF25C-060B-460B-A96A-B0CA73CD6627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youtube.com/watch?v=vdmFaO5-im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b.socrative.com/login/student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Cerebro Vasculair Accident CVA</a:t>
            </a:r>
            <a:br>
              <a:rPr sz="3600"/>
            </a:br>
            <a:br>
              <a:rPr sz="3600"/>
            </a:br>
            <a:r>
              <a:rPr b="0" lang="nl-NL" sz="2500" spc="-1" strike="noStrike">
                <a:solidFill>
                  <a:srgbClr val="ff0000"/>
                </a:solidFill>
                <a:latin typeface="Trebuchet MS"/>
              </a:rPr>
              <a:t>Literatuur: Zie Gedeelde documenten PAAF beginner/thema 3/literatuur</a:t>
            </a: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Trebuchet MS"/>
              </a:rPr>
              <a:t>http://www.hartstichting.nl/hart_en_vaten/beroerte/filmpjes_beroerte/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Trombo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oor beschadiging - en daarna ‘reparatie’ van een bloedva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oor onvoldoende bloeddoorstroming (bedrust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Afbeelding 1" descr=""/>
          <p:cNvPicPr/>
          <p:nvPr/>
        </p:nvPicPr>
        <p:blipFill>
          <a:blip r:embed="rId1"/>
          <a:stretch/>
        </p:blipFill>
        <p:spPr>
          <a:xfrm>
            <a:off x="2306520" y="3357720"/>
            <a:ext cx="48405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mboli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embolie is eigenlijk een losgescheurd stukje van een trombus dat verderop in de bloedsomloop vast komt te zitt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Afbeelding 2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42577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rsenbloeding (1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20% van alle CVA’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‘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Bloedig’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Scheurtje in een bloedvat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bloed in of rond de herse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Bloed drukt hersenweefsel weg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schad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rsenbloeding (2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707760"/>
            <a:ext cx="9144000" cy="61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orzaken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Aneurysma (verzwakking van de vaatwand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Misvorming van de bloedvat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nbekend: </a:t>
            </a:r>
            <a:r>
              <a:rPr b="0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vaak al langer hogere bloeddruk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Afbeelding 2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2646360" cy="2004840"/>
          </a:xfrm>
          <a:prstGeom prst="rect">
            <a:avLst/>
          </a:prstGeom>
          <a:ln w="0">
            <a:noFill/>
          </a:ln>
        </p:spPr>
      </p:pic>
      <p:pic>
        <p:nvPicPr>
          <p:cNvPr id="263" name="Afbeelding 3" descr=""/>
          <p:cNvPicPr/>
          <p:nvPr/>
        </p:nvPicPr>
        <p:blipFill>
          <a:blip r:embed="rId2"/>
          <a:stretch/>
        </p:blipFill>
        <p:spPr>
          <a:xfrm>
            <a:off x="4632480" y="1778040"/>
            <a:ext cx="3492360" cy="2004840"/>
          </a:xfrm>
          <a:prstGeom prst="rect">
            <a:avLst/>
          </a:prstGeom>
          <a:ln w="0">
            <a:noFill/>
          </a:ln>
        </p:spPr>
      </p:pic>
      <p:pic>
        <p:nvPicPr>
          <p:cNvPr id="264" name="Afbeelding 4" descr=""/>
          <p:cNvPicPr/>
          <p:nvPr/>
        </p:nvPicPr>
        <p:blipFill>
          <a:blip r:embed="rId3"/>
          <a:srcRect l="6080" t="3296" r="6227" b="7782"/>
          <a:stretch/>
        </p:blipFill>
        <p:spPr>
          <a:xfrm>
            <a:off x="2421000" y="4395960"/>
            <a:ext cx="1365120" cy="1290600"/>
          </a:xfrm>
          <a:prstGeom prst="rect">
            <a:avLst/>
          </a:prstGeom>
          <a:ln w="0">
            <a:noFill/>
          </a:ln>
        </p:spPr>
      </p:pic>
      <p:pic>
        <p:nvPicPr>
          <p:cNvPr id="265" name="Afbeelding 5" descr=""/>
          <p:cNvPicPr/>
          <p:nvPr/>
        </p:nvPicPr>
        <p:blipFill>
          <a:blip r:embed="rId4"/>
          <a:stretch/>
        </p:blipFill>
        <p:spPr>
          <a:xfrm>
            <a:off x="6012000" y="4221000"/>
            <a:ext cx="19364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Hersenvliezen (meningen)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052640"/>
            <a:ext cx="8686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 u="sng">
                <a:solidFill>
                  <a:srgbClr val="404040"/>
                </a:solidFill>
                <a:uFillTx/>
                <a:latin typeface="Trebuchet MS"/>
              </a:rPr>
              <a:t>Meningen (van buiten naar binn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ura mater (harde hersenvlies)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scherm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Epidur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Subdur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rachnoïd (spinnenwebvlies)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ubarachnoïd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ia mater (zachte hersenvlies)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voed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 u="sng">
                <a:solidFill>
                  <a:srgbClr val="404040"/>
                </a:solidFill>
                <a:uFillTx/>
                <a:latin typeface="Trebuchet MS"/>
                <a:ea typeface="Times New Roman"/>
              </a:rPr>
              <a:t>Liquor (hersenvocht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Functie liquo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Stootkuss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Warmtebuffe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Voeding herse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Vervoer afvalstoff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4716360" y="3668760"/>
            <a:ext cx="377532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5fcbef"/>
                </a:solidFill>
                <a:latin typeface="Trebuchet MS"/>
              </a:rPr>
              <a:t>Hersenbloeding (3)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07920"/>
            <a:ext cx="896472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Hersenbloedingen komen voor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 de hersenen (intracerebraal)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rond de hersen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barachnoïd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bdur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pidur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0" y="-1000080"/>
            <a:ext cx="2857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Picture 11" descr="http://www.stlucas.be/info_studenten/Deelwebsites/NeuroReva/images/hersenbloeding.gif"/>
          <p:cNvPicPr/>
          <p:nvPr/>
        </p:nvPicPr>
        <p:blipFill>
          <a:blip r:embed="rId1"/>
          <a:stretch/>
        </p:blipFill>
        <p:spPr>
          <a:xfrm>
            <a:off x="3419640" y="1973160"/>
            <a:ext cx="572436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e eerste verschijnselen van </a:t>
            </a: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CVA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FAST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5" name="Picture 5" descr="http://www.slotervaartziekenhuis.nl/portals/67/FAST%20-%20Arm.png"/>
          <p:cNvPicPr/>
          <p:nvPr/>
        </p:nvPicPr>
        <p:blipFill>
          <a:blip r:embed="rId1"/>
          <a:stretch/>
        </p:blipFill>
        <p:spPr>
          <a:xfrm>
            <a:off x="5364000" y="2276640"/>
            <a:ext cx="2197440" cy="1800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http://www.slotervaartziekenhuis.nl/portals/67/FAST%20-%20Spraak.png"/>
          <p:cNvPicPr/>
          <p:nvPr/>
        </p:nvPicPr>
        <p:blipFill>
          <a:blip r:embed="rId2"/>
          <a:stretch/>
        </p:blipFill>
        <p:spPr>
          <a:xfrm>
            <a:off x="1617840" y="4797360"/>
            <a:ext cx="2160360" cy="1770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http://www.slotervaartziekenhuis.nl/portals/67/FAST%20-%20Tijd.png"/>
          <p:cNvPicPr/>
          <p:nvPr/>
        </p:nvPicPr>
        <p:blipFill>
          <a:blip r:embed="rId3"/>
          <a:stretch/>
        </p:blipFill>
        <p:spPr>
          <a:xfrm>
            <a:off x="5508720" y="4508640"/>
            <a:ext cx="2158920" cy="1769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www.slotervaartziekenhuis.nl/portals/67/FAST%20-%20Mond.png"/>
          <p:cNvPicPr/>
          <p:nvPr/>
        </p:nvPicPr>
        <p:blipFill>
          <a:blip r:embed="rId4"/>
          <a:stretch/>
        </p:blipFill>
        <p:spPr>
          <a:xfrm>
            <a:off x="1619280" y="1989000"/>
            <a:ext cx="21589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1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1" name="Picture 13" descr="Breoerte: linker- en rechterkant"/>
          <p:cNvPicPr/>
          <p:nvPr/>
        </p:nvPicPr>
        <p:blipFill>
          <a:blip r:embed="rId1"/>
          <a:stretch/>
        </p:blipFill>
        <p:spPr>
          <a:xfrm>
            <a:off x="1187280" y="2038320"/>
            <a:ext cx="59342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2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79280" y="1125000"/>
            <a:ext cx="8785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toornissen op het gebied van…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Motoriek (beweging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ensoriek (gevoel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piertonus (= spanning) (eerste 4 weken: slappe verlamming, daarna vaak: spastische verlamming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Visus (gezichtsveld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Cognitie (het denken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Emoti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3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08000" y="907920"/>
            <a:ext cx="903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emi…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arese (gedeeltelijke uitval, krachtsvermindering aan  één lichaamszijd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aralyse (volledige uitval aan één lichaamszijd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nopsie (‘buiten gebruik’ zijn van het netvlies (één zijde)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neglectie (verwaarlozing (één zijde)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fas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(begrip en/of uiten van taal is verstoord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Dysartr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uitspraakstoorn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prax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moeite met uitvoeren van handeling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tax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coördinatiesorrnis van de spi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gnos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niet herken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6" name="Picture 13" descr="http://t2.gstatic.com/images?q=tbn:ANd9GcQ7SnWVoT2yk5ytovyNF963QFH2kHMGsKqo5B5aMyuAL9H1PscV"/>
          <p:cNvPicPr/>
          <p:nvPr/>
        </p:nvPicPr>
        <p:blipFill>
          <a:blip r:embed="rId1"/>
          <a:stretch/>
        </p:blipFill>
        <p:spPr>
          <a:xfrm>
            <a:off x="7122960" y="4830840"/>
            <a:ext cx="20289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nkele begrippen m.b.t. CVA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Niet aangeboren (verworven) hersenletsel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eroerte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loeding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‘bloedig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Infarct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‘onbloedig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Verwerking in de hersenen van </a:t>
            </a: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beeld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nl-NL" sz="2800" spc="-1" strike="noStrike">
                <a:solidFill>
                  <a:srgbClr val="ff0000"/>
                </a:solidFill>
                <a:latin typeface="Trebuchet MS"/>
              </a:rPr>
              <a:t>Link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gezichtsveld van beide ogen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→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	</a:t>
            </a:r>
            <a:r>
              <a:rPr b="0" lang="nl-NL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echt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nl-NL" sz="2800" spc="-1" strike="noStrike">
                <a:solidFill>
                  <a:srgbClr val="009999"/>
                </a:solidFill>
                <a:latin typeface="Trebuchet MS"/>
              </a:rPr>
              <a:t>Rechter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 gezichtsveld van beide ogen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→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9999"/>
                </a:solidFill>
                <a:latin typeface="Trebuchet MS"/>
                <a:ea typeface="Times New Roman"/>
              </a:rPr>
              <a:t>	</a:t>
            </a:r>
            <a:r>
              <a:rPr b="0" lang="nl-NL" sz="2800" spc="-1" strike="noStrike">
                <a:solidFill>
                  <a:srgbClr val="009999"/>
                </a:solidFill>
                <a:latin typeface="Trebuchet MS"/>
                <a:ea typeface="Times New Roman"/>
              </a:rPr>
              <a:t>Link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0" name="Picture 6" descr="http://www.gesichtsfeldausfall-selbsthilfegruppe.de/fotos/Sehbahn1.jpg"/>
          <p:cNvPicPr/>
          <p:nvPr/>
        </p:nvPicPr>
        <p:blipFill>
          <a:blip r:embed="rId1"/>
          <a:stretch/>
        </p:blipFill>
        <p:spPr>
          <a:xfrm>
            <a:off x="4643280" y="907920"/>
            <a:ext cx="380052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OogfondsillNetvlieslos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4914720"/>
          </a:xfrm>
          <a:prstGeom prst="rect">
            <a:avLst/>
          </a:prstGeom>
          <a:ln w="0">
            <a:noFill/>
          </a:ln>
        </p:spPr>
      </p:pic>
      <p:sp>
        <p:nvSpPr>
          <p:cNvPr id="292" name="Rechthoek 2"/>
          <p:cNvSpPr/>
          <p:nvPr/>
        </p:nvSpPr>
        <p:spPr>
          <a:xfrm>
            <a:off x="2195640" y="5950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 u="sng">
                <a:solidFill>
                  <a:srgbClr val="3fcde7"/>
                </a:solidFill>
                <a:uFillTx/>
                <a:latin typeface="Times New Roman"/>
                <a:hlinkClick r:id="rId2"/>
              </a:rPr>
              <a:t>http://www.youtube.com/watch?v=vdmFaO5-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de lange termijn (4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Karakter- en gedragsveranderingen door beschadigingen in de frontaalkwab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5" name="Afbeelding 3" descr=""/>
          <p:cNvPicPr/>
          <p:nvPr/>
        </p:nvPicPr>
        <p:blipFill>
          <a:blip r:embed="rId1"/>
          <a:stretch/>
        </p:blipFill>
        <p:spPr>
          <a:xfrm>
            <a:off x="1806480" y="2637000"/>
            <a:ext cx="553104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en ‘grove’ indelin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39960" y="2925360"/>
            <a:ext cx="40003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Rechter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219640" y="3860280"/>
            <a:ext cx="22320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aal/spraa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eze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rijv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01920" y="2997360"/>
            <a:ext cx="4041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Linker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00000" y="3789360"/>
            <a:ext cx="24465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uimtelijk inzich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ijdsbese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oti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1" name="Picture 15" descr="http://www.brainquest.nl/wp-content/uploads/2009/07/brein.JPG"/>
          <p:cNvPicPr/>
          <p:nvPr/>
        </p:nvPicPr>
        <p:blipFill>
          <a:blip r:embed="rId1"/>
          <a:stretch/>
        </p:blipFill>
        <p:spPr>
          <a:xfrm>
            <a:off x="3708360" y="1052640"/>
            <a:ext cx="17398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5fcbef"/>
                </a:solidFill>
                <a:latin typeface="Trebuchet MS"/>
              </a:rPr>
              <a:t>Twee bijzondere functiegebieden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bied van Broc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 de motorische schors (= cortex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otorisch spraakcentru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dien verstoord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000" spc="-1" strike="noStrike">
                <a:solidFill>
                  <a:srgbClr val="ff0000"/>
                </a:solidFill>
                <a:latin typeface="Trebuchet MS"/>
              </a:rPr>
              <a:t>motorische afas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bied van Wernick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 de sensorische schors (= cortex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ensorisch spraakcentru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dien verstoord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ff0000"/>
                </a:solidFill>
                <a:latin typeface="Trebuchet MS"/>
              </a:rPr>
              <a:t>sensorische afasi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4" name="Picture 5" descr="http://www.webklik.nl/user_files/2011_03/234611/Hersenen.JPG"/>
          <p:cNvPicPr/>
          <p:nvPr/>
        </p:nvPicPr>
        <p:blipFill>
          <a:blip r:embed="rId1"/>
          <a:srcRect l="6576" t="0" r="0" b="0"/>
          <a:stretch/>
        </p:blipFill>
        <p:spPr>
          <a:xfrm>
            <a:off x="4932360" y="2378160"/>
            <a:ext cx="40687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Afasi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tor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50920" y="2736360"/>
            <a:ext cx="42465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xpressief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ordvindproble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grip intact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kunnen l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86712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ensor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67120" y="2736360"/>
            <a:ext cx="3090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ceptief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grip is verstoord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niet kunnen l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t, maar ‘onsamenhangend’ pra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ocrative Quiz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 naar </a:t>
            </a:r>
            <a:r>
              <a:rPr b="0" lang="nl-NL" sz="1800" spc="-1" strike="noStrike" u="sng">
                <a:solidFill>
                  <a:srgbClr val="3fcde7"/>
                </a:solidFill>
                <a:uFillTx/>
                <a:latin typeface="Trebuchet MS"/>
                <a:hlinkClick r:id="rId1"/>
              </a:rPr>
              <a:t>https://b.socrative.com/login/student/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amernummer: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794B18B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Afbeelding 3" descr=""/>
          <p:cNvPicPr/>
          <p:nvPr/>
        </p:nvPicPr>
        <p:blipFill>
          <a:blip r:embed="rId1"/>
          <a:stretch/>
        </p:blipFill>
        <p:spPr>
          <a:xfrm>
            <a:off x="1290600" y="115920"/>
            <a:ext cx="47941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illberoerte"/>
          <p:cNvPicPr/>
          <p:nvPr/>
        </p:nvPicPr>
        <p:blipFill>
          <a:blip r:embed="rId1"/>
          <a:stretch/>
        </p:blipFill>
        <p:spPr>
          <a:xfrm>
            <a:off x="457200" y="1981080"/>
            <a:ext cx="83818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://t3.gstatic.com/images?q=tbn:ANd9GcRxCcbAtVItZd3p9B7PGvYnTT0IlsA3YeINQr7Uvj-_sh63Bzki"/>
          <p:cNvPicPr/>
          <p:nvPr/>
        </p:nvPicPr>
        <p:blipFill>
          <a:blip r:embed="rId1"/>
          <a:stretch/>
        </p:blipFill>
        <p:spPr>
          <a:xfrm>
            <a:off x="3564000" y="2392200"/>
            <a:ext cx="5292720" cy="42008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Bloedvoorziening van de hersenen </a:t>
            </a: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Trebuchet MS"/>
              </a:rPr>
              <a:t>De cirkel van Willis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26" name="Picture 4" descr="http://upload.wikimedia.org/wikipedia/commons/thumb/e/e5/Circle_of_Willis_la.svg/264px-Circle_of_Willis_la.svg.png"/>
          <p:cNvPicPr/>
          <p:nvPr/>
        </p:nvPicPr>
        <p:blipFill>
          <a:blip r:embed="rId2"/>
          <a:stretch/>
        </p:blipFill>
        <p:spPr>
          <a:xfrm>
            <a:off x="539640" y="2492280"/>
            <a:ext cx="2514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5fcbef"/>
                </a:solidFill>
                <a:latin typeface="Trebuchet MS"/>
              </a:rPr>
              <a:t>Herseninfarct (1) – verschillende soorten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8000" y="1052640"/>
            <a:ext cx="9036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TIA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ransient Ischemic Attack; max. 24 uur na het begin van de klachten zijn de klachten verdwenen. Vaak een ‘voorbode’ van een infarc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V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lachten duren langer dan 24 uur en zijn vaak blijv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6732720" y="2697120"/>
            <a:ext cx="2411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infarc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Arterioscleros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romb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boli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Trebuchet MS"/>
              </a:rPr>
              <a:t>A. carotis (halsslagader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Trebuchet MS"/>
              </a:rPr>
              <a:t>Vanuit het hart (ritmestoornissen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716360" y="814320"/>
            <a:ext cx="3770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Wat is atherosclerose?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5796000" y="3284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35" name="Afbeelding 4" descr=""/>
          <p:cNvPicPr/>
          <p:nvPr/>
        </p:nvPicPr>
        <p:blipFill>
          <a:blip r:embed="rId2"/>
          <a:stretch/>
        </p:blipFill>
        <p:spPr>
          <a:xfrm>
            <a:off x="250920" y="1766880"/>
            <a:ext cx="50799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atherosclero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6" descr="rsg kapsalon de has"/>
          <p:cNvPicPr/>
          <p:nvPr/>
        </p:nvPicPr>
        <p:blipFill>
          <a:blip r:embed="rId1"/>
          <a:stretch/>
        </p:blipFill>
        <p:spPr>
          <a:xfrm>
            <a:off x="1596960" y="925560"/>
            <a:ext cx="2975040" cy="1519200"/>
          </a:xfrm>
          <a:prstGeom prst="rect">
            <a:avLst/>
          </a:prstGeom>
          <a:ln w="0">
            <a:noFill/>
          </a:ln>
        </p:spPr>
      </p:pic>
      <p:pic>
        <p:nvPicPr>
          <p:cNvPr id="239" name="Afbeelding 5" descr=""/>
          <p:cNvPicPr/>
          <p:nvPr/>
        </p:nvPicPr>
        <p:blipFill>
          <a:blip r:embed="rId2"/>
          <a:stretch/>
        </p:blipFill>
        <p:spPr>
          <a:xfrm>
            <a:off x="6154560" y="638280"/>
            <a:ext cx="2532240" cy="1677960"/>
          </a:xfrm>
          <a:prstGeom prst="rect">
            <a:avLst/>
          </a:prstGeom>
          <a:ln w="0">
            <a:noFill/>
          </a:ln>
        </p:spPr>
      </p:pic>
      <p:pic>
        <p:nvPicPr>
          <p:cNvPr id="240" name="Afbeelding 1" descr=""/>
          <p:cNvPicPr/>
          <p:nvPr/>
        </p:nvPicPr>
        <p:blipFill>
          <a:blip r:embed="rId3"/>
          <a:stretch/>
        </p:blipFill>
        <p:spPr>
          <a:xfrm>
            <a:off x="1476360" y="4726080"/>
            <a:ext cx="2102040" cy="220500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2" descr=""/>
          <p:cNvPicPr/>
          <p:nvPr/>
        </p:nvPicPr>
        <p:blipFill>
          <a:blip r:embed="rId4"/>
          <a:stretch/>
        </p:blipFill>
        <p:spPr>
          <a:xfrm>
            <a:off x="4788000" y="4986360"/>
            <a:ext cx="2527200" cy="16844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7"/>
          <p:cNvSpPr/>
          <p:nvPr/>
        </p:nvSpPr>
        <p:spPr>
          <a:xfrm>
            <a:off x="12060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2728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Afbeelding 5" descr=""/>
          <p:cNvPicPr/>
          <p:nvPr/>
        </p:nvPicPr>
        <p:blipFill>
          <a:blip r:embed="rId5"/>
          <a:stretch/>
        </p:blipFill>
        <p:spPr>
          <a:xfrm>
            <a:off x="5003640" y="2658960"/>
            <a:ext cx="2957760" cy="197964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12"/>
          <p:cNvSpPr/>
          <p:nvPr/>
        </p:nvSpPr>
        <p:spPr>
          <a:xfrm>
            <a:off x="4255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Afbeelding 2" descr=""/>
          <p:cNvPicPr/>
          <p:nvPr/>
        </p:nvPicPr>
        <p:blipFill>
          <a:blip r:embed="rId6"/>
          <a:stretch/>
        </p:blipFill>
        <p:spPr>
          <a:xfrm>
            <a:off x="243000" y="2597040"/>
            <a:ext cx="31748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infarc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83664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Trebuchet MS"/>
              </a:rPr>
              <a:t>Arterioscleros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Tromb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Emboli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. carotis (halsslagad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anuit het hart (ritmestoornisse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4211640" y="3429000"/>
            <a:ext cx="3770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09:36:08Z</dcterms:created>
  <dc:creator>alx-olc</dc:creator>
  <dc:description/>
  <dc:language>en-US</dc:language>
  <cp:lastModifiedBy>Els Beemer</cp:lastModifiedBy>
  <dcterms:modified xsi:type="dcterms:W3CDTF">2021-01-07T16:08:45Z</dcterms:modified>
  <cp:revision>366</cp:revision>
  <dc:subject/>
  <dc:title>CHIRURG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38773F0E0F2114B8273CBAACEEB1AF8</vt:lpwstr>
  </property>
</Properties>
</file>