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D0CEA-CB09-47C1-A9CF-6A911EA6767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gesteld feb 2018 HMM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379FB-BF1E-4D68-82D3-E820F803762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A8570-CB6A-4F15-BE4C-5783F1C241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09CF2-B841-445D-BE15-1BC7512A07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2F5D8-C463-419F-AA74-EF8914075C1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D0C9A-9E0E-4453-A9AC-7B7BB318CB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edingsstoffen in de l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190CD-3035-4A23-B44A-21D4B5CB78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00256-C71B-4E4B-ACD3-6676E51015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C8C0A-FE14-4FD3-B5A3-AE198A11F64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5F469-3BF6-4B22-AF18-110D2977A94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4B1ED-7EC5-4033-9E5C-3D6B48BE051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4C345-BB98-4EE0-B478-9E05EAC7A4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58433-4A3E-4A93-85F5-D2C708ECD6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2A38B-5BD0-4586-9D96-0AE40EB948B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48C97-B5FA-4A3A-8781-BCECCDD6100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084AE-992B-41A2-AE60-EB086E32739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E7007-BE75-4138-9B0F-E4DA7037CA1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6F802-C2EE-4559-B04E-0E82CFAD51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2A0C1-C33A-4EE7-B0DE-B3124B9FF1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005A9-3867-4049-AFB4-16456435B6A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708A6-10F6-4E30-B636-910FBAE7A18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0CC39-9CF6-4642-92CC-BBCB654C02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CD2-0598-4CDD-A9AA-DB126DF6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397-9FDA-4BDA-A0F6-0C7A1BC8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412-2A59-42FC-9CA6-CEECC8B3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3AD-53F6-4872-BF70-D7A8DDB8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AB82-3278-49E9-ACD5-41AD92AF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E180-BF2A-4DA2-862D-5419ACE8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07EB-FF6B-485F-B44F-58C6F632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46E0-E151-4B29-9518-DFBDEFBF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CD68-65AB-46D7-8F20-85009544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77FD-EF6C-4531-AEDB-9604C9EB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0836-D189-4F9D-AC11-8D64794D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65B-E9FD-4082-AB7E-DA3A1DF5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C056-1C55-4665-91ED-85415470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8FB8-98A4-4C24-AC26-6421B594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CF0B-D7E8-4688-A08D-A7575783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217E-BDAD-4A14-88B0-B3564CFA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D9D1-75C4-4DA3-B323-5A72A8AE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61C6E-B694-44B3-8E60-303FBA5D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679D-F746-4820-A140-E621CD3D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C73B-3A74-48D6-90E0-0D6CFC2C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B6F79-F77E-48F5-823D-C46D0D53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25505-90DC-43F9-9075-63A21592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4CC-AC1F-4054-9135-BD75614F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B870-565C-4B4B-B99C-2ED3CF5B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816B6-C9CD-4FDF-B6A7-D9487092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352C-D6DD-4D6E-969E-204B2997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6B29-A97A-4888-95CF-2497DB99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8F1B-8AC7-4C3D-8004-2A2023B6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25232-37ED-4B03-B3E1-F5FAE035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1A76-F4F4-4F74-8E6E-89F1B5BF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57BB-5C12-41B5-AC6F-C38B82B1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1227A-85DB-44C8-B62A-AD427278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B7429-84FC-4F49-8BD1-58E0504B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115-1BF0-410B-B105-F2188689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634C0-0457-4E79-891E-DAB19871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DB5F-71AB-4583-8259-56FEED94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E87A8-9D0C-4763-8216-0F3A5AB4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0CD85-7479-4ED8-9AB7-528F25C4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7D2F8-A5A3-4998-B75F-AC2BAFCB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A6A1-6E9B-4A41-B132-7B1A9E8B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DA7B-36F1-448A-BF01-673D9CEB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7823-F550-4590-BF8F-99B08849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F91C-CB15-4B49-8DD6-93D7C3A2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D60F6-0B30-4FF1-B7A3-4AE95FE6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E3F-2FC7-43B5-ADEC-497811FE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8A877-EE98-41C0-9252-641605C3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5A6CD-9F62-4C21-82DC-4B1D641C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96203-DB49-4D5C-9775-CA4F462E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2D546-E214-4AC7-A4E9-108FC802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D6024-5ACD-448B-8F4E-0698957F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B32CE-7AE6-4984-AC9C-60960537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9A12-1BC7-4B0F-A436-ACE464B9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812B9-1C28-4759-AE4D-E771EB48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0EC08-7973-4217-A9D3-F15A9596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29D34-6808-4AC3-AF58-01D83B0F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75C-9B4A-4606-A0C3-AB652875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96CF9-DE34-455F-82B4-7A4CE5E4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AB040-7D86-46D5-B470-C22681B4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7D434-D2A8-404E-83DD-96C049BF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F9DEA-E900-4274-94A5-CEDD8EED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9E6FE-5F41-4C49-BF80-9921087E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BB429-BC31-4B60-9F33-FD690420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1EF5E-9244-4148-A268-4FFADF37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C619C-2E1F-46EE-B088-5C08D73B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149F3-F9DD-491C-8E84-D20155BD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1C886-6431-4D00-9C37-B17B8F5E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783-EF9C-4333-B758-A132A086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83BA8-6E7D-4D95-90A9-ED150B5D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93DB3-00E4-4879-9152-5A417F09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814CB-7D71-4CC0-8403-5F4114E0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E3B-64B1-44BF-822C-F668F54C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99A-5B8A-4F38-95AD-30E4B826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5AA0A-A374-451D-AEE9-4B21F049F85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AE386-51C7-4F9F-B05D-C791DC13BEED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A970B-AA36-4C21-B430-A47E0A0E69A7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583CB-5D90-4DCD-86B6-C170B910E76C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E0560-7E0F-4154-9BEF-01A6719EECB1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07F80-DF74-4E56-BE1D-0D296453BAAF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6920" y="4681080"/>
            <a:ext cx="44643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Spijsvertering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24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547640" y="668160"/>
            <a:ext cx="5472360" cy="3648240"/>
          </a:xfrm>
          <a:prstGeom prst="rect">
            <a:avLst/>
          </a:prstGeom>
          <a:ln w="0">
            <a:noFill/>
          </a:ln>
        </p:spPr>
      </p:pic>
      <p:sp>
        <p:nvSpPr>
          <p:cNvPr id="325" name="Tekstvak 1"/>
          <p:cNvSpPr/>
          <p:nvPr/>
        </p:nvSpPr>
        <p:spPr>
          <a:xfrm>
            <a:off x="1835280" y="4724280"/>
            <a:ext cx="4897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400" spc="-1" strike="noStrike">
                <a:solidFill>
                  <a:srgbClr val="5fcbef"/>
                </a:solidFill>
                <a:latin typeface="Trebuchet MS"/>
              </a:rPr>
              <a:t>Anatomie &amp; Fysiologie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6800" y="31284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Slok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28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1" name="Afbeelding 1" descr=""/>
          <p:cNvPicPr/>
          <p:nvPr/>
        </p:nvPicPr>
        <p:blipFill>
          <a:blip r:embed="rId1"/>
          <a:stretch/>
        </p:blipFill>
        <p:spPr>
          <a:xfrm>
            <a:off x="179280" y="1498680"/>
            <a:ext cx="8460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aa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74320" y="162864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sla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neden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fbraak van voedsel door middel van enzymen (pepsine) die in een zuur milieu moeten werken (zoutzuu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rinsic factor = stof die bindt aan vitamine B12 anders kan deze niet door de darmwa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lijmlaag om de maag te beschermen tegen het maagzuu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De maag"/>
          <p:cNvPicPr/>
          <p:nvPr/>
        </p:nvPicPr>
        <p:blipFill>
          <a:blip r:embed="rId1"/>
          <a:stretch/>
        </p:blipFill>
        <p:spPr>
          <a:xfrm>
            <a:off x="4356000" y="2060640"/>
            <a:ext cx="4608720" cy="447048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1"/>
          <p:cNvSpPr/>
          <p:nvPr/>
        </p:nvSpPr>
        <p:spPr>
          <a:xfrm>
            <a:off x="396720" y="1459080"/>
            <a:ext cx="41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laat steeds een beetje voedsel door naar de twaalfvingerige dar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oms vloeit er maagsap naar de slokdarm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zuurbran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istaltiek gaat van slokdarm naar maag, soms andersom dan gaat iemand brak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042920" y="460440"/>
            <a:ext cx="2081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MAA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De twaalfvingerig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4000" y="1270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en alvleesklierbuis monden hierin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t grootste gedeelte van de vertering vindt hier plaats omdat de gal- en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sappen hier bij het voedsel k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is verbinding tussen lever, galblaas en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Afbeelding 2" descr=""/>
          <p:cNvPicPr/>
          <p:nvPr/>
        </p:nvPicPr>
        <p:blipFill>
          <a:blip r:embed="rId1"/>
          <a:stretch/>
        </p:blipFill>
        <p:spPr>
          <a:xfrm>
            <a:off x="1403280" y="3365640"/>
            <a:ext cx="52563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Alvleesklier (pancreas)</a:t>
            </a:r>
            <a:br>
              <a:rPr sz="2900"/>
            </a:br>
            <a:r>
              <a:rPr b="0" lang="nl-NL" sz="2500" spc="-1" strike="noStrike">
                <a:solidFill>
                  <a:srgbClr val="5fcbef"/>
                </a:solidFill>
                <a:latin typeface="Trebuchet MS"/>
              </a:rPr>
              <a:t>	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4000" y="1700280"/>
            <a:ext cx="73134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ia alvleesklierbuis gaan de stoffen naar de twaalfvingerige da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 functie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spijsverteringsenzymen in alvleeskliersa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hormonen die meteen naar de bloedbaan gaan (insuline en glucag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Lev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3" name="Picture 3" descr="de lever kopie"/>
          <p:cNvPicPr/>
          <p:nvPr/>
        </p:nvPicPr>
        <p:blipFill>
          <a:blip r:embed="rId1"/>
          <a:stretch/>
        </p:blipFill>
        <p:spPr>
          <a:xfrm>
            <a:off x="885960" y="2160720"/>
            <a:ext cx="57960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Lever (&amp; galblaas)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00" y="1699920"/>
            <a:ext cx="7313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vangen voedingsstoffen via poortader en verwerkt deze 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olhydraatstofwisseling: Suikers worden omgezet in gluco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el van glucose wordt opgesla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glycogeen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 nog overblijft wordt omgezet in vet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anmaak cholesterol (bouwsteen voor lichaamscellen en hormon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ver maakt ga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naar galbla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indikken en opslaa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al wordt naar twaalfvingerige darm gebracht om vetten te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giftende werking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afvalstoffen naar nier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uitsche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Poortader met vertakkingen Diagram | Quizlet"/>
          <p:cNvPicPr/>
          <p:nvPr/>
        </p:nvPicPr>
        <p:blipFill>
          <a:blip r:embed="rId2"/>
          <a:stretch/>
        </p:blipFill>
        <p:spPr>
          <a:xfrm>
            <a:off x="609480" y="609480"/>
            <a:ext cx="6126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1" name="Picture 1032" descr="kronkeldarm"/>
          <p:cNvPicPr/>
          <p:nvPr/>
        </p:nvPicPr>
        <p:blipFill>
          <a:blip r:embed="rId1"/>
          <a:srcRect l="22585" t="217" r="-22582" b="-213"/>
          <a:stretch/>
        </p:blipFill>
        <p:spPr>
          <a:xfrm>
            <a:off x="1136520" y="1577880"/>
            <a:ext cx="58327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9120" y="1488960"/>
            <a:ext cx="634860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pieren (peristaltiek) en slijmvlieslaag (met darmvlokk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terin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van voedingsstoffen met behulp van darmvlo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5fcbef"/>
                </a:solidFill>
                <a:latin typeface="Trebuchet MS"/>
              </a:rPr>
              <a:t>De spijsverteringsorgan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5840" y="2349360"/>
            <a:ext cx="731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ok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waalfvingerige dar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nn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k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7417080" cy="11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innenkant van de dunne darm (ileum)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684360" y="1558800"/>
            <a:ext cx="71276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ikk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41520" y="2160720"/>
            <a:ext cx="62848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ikk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13716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verteerbare voedingsresten verder stuw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verteerbare voedingsresten indikken door water eraan te onttrek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vitamine K door vertering reststoffen door darmflora (bacterië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tie methaan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windjes/flatul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del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2" name="Picture 2" descr="http://www.natuurinformatie.nl/sites/nnm.dossiers/contents/i003643/anustekst_250.jpg"/>
          <p:cNvPicPr/>
          <p:nvPr/>
        </p:nvPicPr>
        <p:blipFill>
          <a:blip r:embed="rId1"/>
          <a:stretch/>
        </p:blipFill>
        <p:spPr>
          <a:xfrm>
            <a:off x="250920" y="1689120"/>
            <a:ext cx="54496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Het spijsverteringsstelsel"/>
          <p:cNvPicPr/>
          <p:nvPr/>
        </p:nvPicPr>
        <p:blipFill>
          <a:blip r:embed="rId1"/>
          <a:stretch/>
        </p:blipFill>
        <p:spPr>
          <a:xfrm>
            <a:off x="324000" y="14400"/>
            <a:ext cx="6221160" cy="6694200"/>
          </a:xfrm>
          <a:prstGeom prst="rect">
            <a:avLst/>
          </a:prstGeom>
          <a:ln w="0">
            <a:noFill/>
          </a:ln>
        </p:spPr>
      </p:pic>
      <p:sp>
        <p:nvSpPr>
          <p:cNvPr id="329" name="Rechte verbindingslijn 2"/>
          <p:cNvSpPr/>
          <p:nvPr/>
        </p:nvSpPr>
        <p:spPr>
          <a:xfrm>
            <a:off x="1403280" y="4724280"/>
            <a:ext cx="1728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Tekstvak 4"/>
          <p:cNvSpPr/>
          <p:nvPr/>
        </p:nvSpPr>
        <p:spPr>
          <a:xfrm>
            <a:off x="395280" y="450864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12 vingerige dar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Functie spijsverter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48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opne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fijn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ver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afbreken en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ingsstoffen voor de lichaamscellen afgeven aan het blo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verteerbare voedselbestanddelen af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Bestand:Triosephosphate isomerase.jpg"/>
          <p:cNvPicPr/>
          <p:nvPr/>
        </p:nvPicPr>
        <p:blipFill>
          <a:blip r:embed="rId1"/>
          <a:stretch/>
        </p:blipFill>
        <p:spPr>
          <a:xfrm>
            <a:off x="90000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hthoek 1"/>
          <p:cNvSpPr/>
          <p:nvPr/>
        </p:nvSpPr>
        <p:spPr>
          <a:xfrm>
            <a:off x="603360" y="1442880"/>
            <a:ext cx="736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nzymen zijn nodig bij de vertering van voedingsstoff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Werken optimaal bij 37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º 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zymen knippen grotere voedingssstoffen op in kleinere                   stukj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or de opbouw van enzymen zijn v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vitaminen nodi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ebben een eigen pH-waarde (zuurtegraad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indigen meestal op –ase (of -ine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Enzymen komen voor in speeksel, maagsap, dunne darmsap en sap uit de alvleesklie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1116000" y="333360"/>
            <a:ext cx="250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organen spijsvertering"/>
          <p:cNvPicPr/>
          <p:nvPr/>
        </p:nvPicPr>
        <p:blipFill>
          <a:blip r:embed="rId1"/>
          <a:srcRect l="1551" t="0" r="0" b="0"/>
          <a:stretch/>
        </p:blipFill>
        <p:spPr>
          <a:xfrm>
            <a:off x="3720960" y="973080"/>
            <a:ext cx="2337120" cy="56610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/>
          <p:cNvSpPr/>
          <p:nvPr/>
        </p:nvSpPr>
        <p:spPr>
          <a:xfrm>
            <a:off x="324000" y="120600"/>
            <a:ext cx="28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Rechthoek 4"/>
          <p:cNvSpPr/>
          <p:nvPr/>
        </p:nvSpPr>
        <p:spPr>
          <a:xfrm>
            <a:off x="1258920" y="1476360"/>
            <a:ext cx="224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peeksel:Amyl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Rechthoek 5"/>
          <p:cNvSpPr/>
          <p:nvPr/>
        </p:nvSpPr>
        <p:spPr>
          <a:xfrm>
            <a:off x="6058080" y="3357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agsap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Tekstvak 1"/>
          <p:cNvSpPr/>
          <p:nvPr/>
        </p:nvSpPr>
        <p:spPr>
          <a:xfrm>
            <a:off x="1052640" y="258120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reekt zetmeel en koolhydraten a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1" name="Gebogen verbindingslijn 4"/>
          <p:cNvCxnSpPr/>
          <p:nvPr/>
        </p:nvCxnSpPr>
        <p:spPr>
          <a:xfrm rot="5400000">
            <a:off x="2145600" y="2007360"/>
            <a:ext cx="621000" cy="358920"/>
          </a:xfrm>
          <a:prstGeom prst="bentConnector3">
            <a:avLst>
              <a:gd name="adj1" fmla="val 50000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342" name="Tekstvak 6"/>
          <p:cNvSpPr/>
          <p:nvPr/>
        </p:nvSpPr>
        <p:spPr>
          <a:xfrm>
            <a:off x="6162840" y="4022640"/>
            <a:ext cx="165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Afbreken van eiwitten tot kleinere deeltje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3" name="Gebogen verbindingslijn 8"/>
          <p:cNvCxnSpPr>
            <a:endCxn id="342" idx="0"/>
          </p:cNvCxnSpPr>
          <p:nvPr/>
        </p:nvCxnSpPr>
        <p:spPr>
          <a:xfrm flipH="1" rot="16200000">
            <a:off x="6422040" y="3454200"/>
            <a:ext cx="597600" cy="540360"/>
          </a:xfrm>
          <a:prstGeom prst="bentConnector3">
            <a:avLst>
              <a:gd name="adj1" fmla="val 49969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on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0948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e bewerking van voedsel: vermalen en kauwen van voed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voegen van speeksel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soep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jsverteringsenzym amylase, breekt zetmeel en koolhydraten a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Keelholt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47400" y="1628640"/>
            <a:ext cx="60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ijdens slikken luchtweg naar neus (door huig en gehemelte) en luchtpijp (door strottenklepje) afgeslo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8" name="Afbeelding 1" descr=""/>
          <p:cNvPicPr/>
          <p:nvPr/>
        </p:nvPicPr>
        <p:blipFill>
          <a:blip r:embed="rId1"/>
          <a:stretch/>
        </p:blipFill>
        <p:spPr>
          <a:xfrm>
            <a:off x="609480" y="2924280"/>
            <a:ext cx="5558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3:57:51Z</dcterms:created>
  <dc:creator>BAHR</dc:creator>
  <dc:description/>
  <dc:language>en-US</dc:language>
  <cp:lastModifiedBy>Kievit, Eline</cp:lastModifiedBy>
  <dcterms:modified xsi:type="dcterms:W3CDTF">2021-01-12T17:57:09Z</dcterms:modified>
  <cp:revision>78</cp:revision>
  <dc:subject/>
  <dc:title>Dia 1</dc:title>
</cp:coreProperties>
</file>