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5"/>
          </p:nvPr>
        </p:nvSpPr>
        <p:spPr>
          <a:xfrm>
            <a:off x="383328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26"/>
          </p:nvPr>
        </p:nvSpPr>
        <p:spPr>
          <a:xfrm>
            <a:off x="-36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 type="sldNum" idx="27"/>
          </p:nvPr>
        </p:nvSpPr>
        <p:spPr>
          <a:xfrm>
            <a:off x="383328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6A333-A314-4AF6-9DEB-CCB75B7FAC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3E73B-DD34-4BF0-AD00-4EFF761148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BFE43-C170-4066-92D7-5027F8B7622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7592F-F61E-46B8-934E-71509EABF4F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29CC2-7030-42DF-B32D-1677EE194A0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Regeling hoeveelheid glucose in het blo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eveelheid glucose in het bloed moet zoveel mogelijk constant blijven.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us niet afhankelijk van of je net gegeten heb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regeld via hormonen uit de </a:t>
            </a: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eilandjes van Langerhans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in de alvleeskli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Insulin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maakt als er na het eten veel glucose in je bloed kom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</a:t>
            </a: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verlaagt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de hoeveelheid glucose doordat onder invloed van insuline: de lever (en spieren) zetten glucose om in glycogeen (soort zetmeel).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Glycogee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wordt opgeslagen in de lever (en de spier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Glucago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maakt als de hoeveelheid glucose in je bloed te laag wordt.</a:t>
            </a:r>
            <a:br>
              <a:rPr sz="1200"/>
            </a:b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Bijvoorbeeld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oordat je veel glucose verbrand heb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Verhoogt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de hoeveelheid glucose doordat onder invloed van glucagon: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lever zet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glycogee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weer om in glucose.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ze glucose wordt afgegeven aan het blo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Suikerziekte (diabetes) :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eilandjes van Langerhans werken niet goed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* Er wordt geen of te weinig insuline gemaakt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* Patiënten moeten extra insuline inspui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D80EE-D05F-41B2-A9F7-FF0750D3E0F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BDA0E-7831-4909-BA92-77EA5D073BF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AB78A-0C11-4E51-9C3E-E1020DD5A86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F7002-CCEC-4DE4-B1BE-CBEBC317A78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87ECF-0916-4FE9-B663-B6EDD682E6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4F6B1-C9FA-4952-A7C5-FF31919C87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A1001-90BC-44BC-86C0-B3961980CCC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24DEA-318F-4759-96EB-77DFF5E45B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2719B-7043-4E6F-B743-8236D8C894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541A7-E840-4ACF-AF0A-7A82928586F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CB2E4-2443-40C9-A73B-A2B4B073BB1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F4727-A3BB-4612-817E-CF22712B398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46F-C601-40A1-BFEB-4AD9A91A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A6F-4E41-46CD-A6F5-4A7B26AF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424-4A04-42E3-B059-CA766CD1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E48-447E-423E-882E-7B13185F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B3A8-88A9-451C-ACAF-3DBD7A41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9DD8-0C97-4E40-9B3D-203D2092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1E40-D95F-4981-B0B8-FB3163A0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BBAA-ECB8-43B8-BBE7-7A968571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6FAC-D625-4A17-B401-43ACA902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9656-B38B-4800-9ABB-F43CD8FC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8E57-316A-4790-9B88-AF0EEC7A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C47F-338B-49C6-A289-97074719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C8AD-B05C-48D9-B484-555BFF0E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DC77-3120-4DF8-AB10-C4642C85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BEB4-7428-43E2-9ECF-05D0E7C1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4619-F1C6-487C-9BEC-C8020872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65C7-A955-4E06-9CCE-A1528AF0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D3691-D3AA-4828-98FD-35BFAD1E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BC47F-D3A4-4BA0-8D5F-2E401CF9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EDB15-B8C4-4462-845A-8ED6EB79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B13CB-86A3-456A-9064-9A74C36B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8E4CF-D894-495D-8755-EE7BF349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4C1-6409-4BF0-B241-3C64017D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ED4D8-6AE1-4CE4-A15B-19F42745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0FC99-819C-4950-8051-492CA009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ECA02-9CA1-419E-A067-6BE4F6FC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A097D-974C-436C-9FB1-D5ACB6F6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E5722-8B08-40D9-8CB9-F594A546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E35FB-FC3B-4215-918F-3CEA41B3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5056A-0D96-4B46-9346-A81BBEF4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0CB62-7120-45B8-AF8C-50CF3031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CF88E-640D-40FB-AC43-E66BBDD4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26B93-D005-4986-B5D3-322E2EA4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386-C7BE-43BD-ABC2-DEBF8BA6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95D7C-5450-4DF0-9320-55B4E657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9588E-D74B-44CF-BD45-3C3AE742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2C54D-B623-4701-A443-00D802EB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2377D-EC83-443A-8B25-26B634EE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EC4E0-DDEB-4C7D-ADB4-D1D414FD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138D1-8353-45B9-9FFD-E670D164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7C066-18D8-49DE-8535-F3C32816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747E7-6F7B-47DF-B642-70D1E268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11706-DC03-4567-8F95-C8CA0D6C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664C6-E68E-4B6C-A6D0-F9C4CB37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945-1FC4-4681-899B-57B7487A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DBE2E-59F5-4C98-9520-90613AE0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C7E3D-773B-45F3-92FC-EFFCB2E7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9E19C-8E2D-44A2-93B2-E00702E0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D525B-5933-495B-B015-9107FD83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B3DE8-DF0C-40C6-BCED-D3514899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5924B-F05D-4C76-A108-D569245E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7A9E9-7677-40CB-AB0C-E199858D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2FE98-38C7-41A6-B9A0-2403506D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9B2F2-8714-49AE-81ED-45545065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E9181-89EA-45BA-BDCC-52E29428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4B03-772A-4A0A-9880-FEDA74BF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2C654-E096-4A04-AFB4-22E5AE3F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AC553-0BA5-4273-A566-2E9ABA6A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7262E-4807-47CD-83FB-7037D783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70795-C385-46E0-A5C8-1F440DCC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38E19-5577-4C7C-AF76-94DEEAC4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5332F-E22A-46CF-B439-844F941E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250A3-64AD-4D33-8D74-7572120E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8A030-918C-4C39-B5A6-79AAFA90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6F7FA-6AC2-4937-A794-2E5F9135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6EA90-DF42-4BC1-8B4B-111B183D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1155-A394-4B45-B017-B8F84618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B6C41-85E6-4E73-AA10-BBFDDBE3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F20BF-2D83-4096-829C-2AD1CC00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3E095-8CEF-4B14-80D6-8970A762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4BD06-C220-4C2F-8C30-17D6AB38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E17EB-C8A6-4CA0-A1D9-94AFFF7B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31702-CD0A-4F71-AFE7-5C90ECB3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4A938-6D1B-452B-A75E-647641C3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A51C8-A23E-4092-89DD-A3D49D20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AFB67-DA36-4435-894A-1CE2ABEA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F227D-E4FC-4EB6-8F29-B0172868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21B1-D768-43A9-879D-246CA030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5F69A-4905-4307-9B09-ADB20B07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2946C-0A95-4774-9DA8-A9E2089D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A4E2D-73FB-4BD4-A6F9-B4FD2A17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874E3-2FFB-4B10-ADFC-C25D2E60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02E43-9F58-437F-A3DE-2B3D861C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9FA21-D1E2-4AEC-A1C3-AE6C1DF5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59D37-A774-432D-AEA5-7472C31A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B231B-1D96-4F65-9686-91409D29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7C273-77DB-40C5-A00A-E8BC9AB0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DD8DF-F632-410C-B3D4-E7A35829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380-87FF-4F02-BB32-EFFBC36E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E7677-10A5-44E1-82A0-03A2BA16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41DE6-AD73-491A-AD8E-B2E263B6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D9857-32BB-4D9B-A2C4-86081BE4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254FB-56FE-42F9-B2EE-C47574AB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81142-38BB-46CB-94D2-B1B8E11D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0A51E-A154-4061-A86A-B07DA6C6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C27EA-12B5-42BA-B32D-92138E31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10096-11F0-4A7D-BB5E-0C81980481BD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64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5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F4112-A06F-4559-94BC-C4EC663E9F76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4E4DD-3201-4573-B263-B9A0771272A6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6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B7336-03F5-44D4-A942-884CF70D3532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2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4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9CA48-2108-4423-B8FA-C5588BEB064F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7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5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6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84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8AF41-C0F9-4D6D-A542-ECE75EC9A0C5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2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9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6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7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DA258-5F7D-45DD-931C-CD09E163737C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8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1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8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9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3B429-8AC7-4865-B3D0-5A3DC3B641F9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606760" y="4797360"/>
            <a:ext cx="296208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236292"/>
                </a:solidFill>
                <a:latin typeface="Trebuchet MS"/>
              </a:rPr>
              <a:t>Anatomie &amp; Fysiologie</a:t>
            </a:r>
            <a:br>
              <a:rPr sz="2100"/>
            </a:br>
            <a:r>
              <a:rPr b="0" lang="nl-NL" sz="2100" spc="-1" strike="noStrike">
                <a:solidFill>
                  <a:srgbClr val="236292"/>
                </a:solidFill>
                <a:latin typeface="Trebuchet MS"/>
              </a:rPr>
              <a:t>Hormonen </a:t>
            </a:r>
            <a:endParaRPr b="0" lang="en-US" sz="21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39" name="Picture 2" descr="Anatomische, Anatomie, Het Lichaam, Gut, Gezondheid"/>
          <p:cNvPicPr/>
          <p:nvPr/>
        </p:nvPicPr>
        <p:blipFill>
          <a:blip r:embed="rId1"/>
          <a:stretch/>
        </p:blipFill>
        <p:spPr>
          <a:xfrm>
            <a:off x="1658880" y="1077840"/>
            <a:ext cx="48564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0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childklier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000" y="1170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indervormig orgaan in de hals; onder strottenhoofd, boven borstbeen tegen de luchtpij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ildklier produceert schildklierhormo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ze hormonen stimuleren de stofwisseling en de groe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3" name="Tijdelijke aanduiding voor inhoud 4" descr=""/>
          <p:cNvPicPr/>
          <p:nvPr/>
        </p:nvPicPr>
        <p:blipFill>
          <a:blip r:embed="rId1"/>
          <a:srcRect l="0" t="0" r="33855" b="0"/>
          <a:stretch/>
        </p:blipFill>
        <p:spPr>
          <a:xfrm>
            <a:off x="4473720" y="1270080"/>
            <a:ext cx="43891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Zwezerik ( thymus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640" y="1189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e zwezerik is een orgaan in de borstkas. De thymus ligt vlak achter het borstbeen en vlak bij het har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e zwezerik is vooral actief bij kinderen, tot de pubertijd. Daarna verschrompelt de zwezerik langzaam en wordt de klier vervangen door vetweefs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langrijke rol in ons afweersystee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6" name="Tijdelijke aanduiding voor inhoud 4" descr=""/>
          <p:cNvPicPr/>
          <p:nvPr/>
        </p:nvPicPr>
        <p:blipFill>
          <a:blip r:embed="rId1"/>
          <a:srcRect l="0" t="0" r="9282" b="0"/>
          <a:stretch/>
        </p:blipFill>
        <p:spPr>
          <a:xfrm>
            <a:off x="4809960" y="1160640"/>
            <a:ext cx="38530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Bijnier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518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Adrenali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t gemaakt in de bijnier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uchthormoon/Stresshormo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omt vrij als je lichaam plotseling in actie moet kom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der invloed van adrenaline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aat je hart sneller klopp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a je sneller ademhal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t glycogeen omgezet in gluc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9" name="Afbeelding 5" descr=""/>
          <p:cNvPicPr/>
          <p:nvPr/>
        </p:nvPicPr>
        <p:blipFill>
          <a:blip r:embed="rId1"/>
          <a:stretch/>
        </p:blipFill>
        <p:spPr>
          <a:xfrm>
            <a:off x="5470560" y="1467000"/>
            <a:ext cx="3378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42520" y="198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landjes van Langerhan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5280" y="1341360"/>
            <a:ext cx="4897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iggen in de alvleeskli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oducer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insuline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glucagon;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suline zet glucose om in glycoge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lucagon zet glycogeen om in gluc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udt hiermee de bloedsuikerspiegel in bala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2" name="Afbeelding 1" descr=""/>
          <p:cNvPicPr/>
          <p:nvPr/>
        </p:nvPicPr>
        <p:blipFill>
          <a:blip r:embed="rId1"/>
          <a:stretch/>
        </p:blipFill>
        <p:spPr>
          <a:xfrm>
            <a:off x="5337000" y="1341360"/>
            <a:ext cx="36673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2520" y="4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erstokken (vrouw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36680" y="1341000"/>
            <a:ext cx="453384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en aangestuurd door de hypofy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aken vrouwelijke geslachtshormon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oestroge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progester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Oestrogeen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rouwelijke geslachtskenmer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Progesteron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ruchtbaarheidscyclu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5" name="Afbeelding 4" descr=""/>
          <p:cNvPicPr/>
          <p:nvPr/>
        </p:nvPicPr>
        <p:blipFill>
          <a:blip r:embed="rId1"/>
          <a:srcRect l="26060" t="24808" r="12202" b="0"/>
          <a:stretch/>
        </p:blipFill>
        <p:spPr>
          <a:xfrm>
            <a:off x="4998960" y="1844640"/>
            <a:ext cx="38862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Teelbal/testikel (man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slachtsklier van de ma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wee teelballen in het scrotu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ier wordt het hormoo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testostero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gemaakt en de zaadcel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Testostero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mannelijke geslachtskenmer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3821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74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93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442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138240" y="60480"/>
            <a:ext cx="842472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t hormoonstelsel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78920" y="148896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staat uit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hormoonklier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</a:t>
            </a:r>
            <a:br>
              <a:rPr sz="2400"/>
            </a:b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Liggen verspreid door het lichaa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erkt </a:t>
            </a:r>
            <a:r>
              <a:rPr b="0" i="1" lang="nl-NL" sz="2400" spc="-1" strike="noStrike">
                <a:solidFill>
                  <a:srgbClr val="404040"/>
                </a:solidFill>
                <a:latin typeface="Trebuchet MS"/>
              </a:rPr>
              <a:t>langzamer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dan het zenuwstelse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t de werking van de organen in je </a:t>
            </a:r>
            <a:br>
              <a:rPr sz="2400"/>
            </a:b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ichaa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fbeelding 1" descr=""/>
          <p:cNvPicPr/>
          <p:nvPr/>
        </p:nvPicPr>
        <p:blipFill>
          <a:blip r:embed="rId1"/>
          <a:srcRect l="7477" t="21651" r="8263" b="2749"/>
          <a:stretch/>
        </p:blipFill>
        <p:spPr>
          <a:xfrm>
            <a:off x="539640" y="1168560"/>
            <a:ext cx="7704360" cy="5184720"/>
          </a:xfrm>
          <a:prstGeom prst="rect">
            <a:avLst/>
          </a:prstGeom>
          <a:ln w="0">
            <a:noFill/>
          </a:ln>
        </p:spPr>
      </p:pic>
      <p:sp>
        <p:nvSpPr>
          <p:cNvPr id="446" name="Titel 1"/>
          <p:cNvSpPr/>
          <p:nvPr/>
        </p:nvSpPr>
        <p:spPr>
          <a:xfrm>
            <a:off x="250920" y="25560"/>
            <a:ext cx="482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b0f0"/>
                </a:solidFill>
                <a:latin typeface="Trebuchet MS"/>
              </a:rPr>
              <a:t>HORMOONKLIER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3330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ormon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09120" y="1654200"/>
            <a:ext cx="63486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ijn regelstoffen.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an belang bij het in stand houden van een constant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inwendig milieu.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Regelen de groei en ontwikkeling van het lichaam.</a:t>
            </a:r>
            <a:br>
              <a:rPr sz="1800"/>
            </a:b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gelen de stofwisseling.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rmoon wordt gemaakt in een hormoonkli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rechtstreeks afgegeven aan en vervoerd door het blo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paalde organen reageren op het hormoon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 worden afgebroken in de lever en uitgescheiden in de n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50" name="Picture 8" descr="hypofyse3"/>
          <p:cNvPicPr/>
          <p:nvPr/>
        </p:nvPicPr>
        <p:blipFill>
          <a:blip r:embed="rId1"/>
          <a:stretch/>
        </p:blipFill>
        <p:spPr>
          <a:xfrm>
            <a:off x="826920" y="1623960"/>
            <a:ext cx="4753080" cy="4111560"/>
          </a:xfrm>
          <a:prstGeom prst="rect">
            <a:avLst/>
          </a:prstGeom>
          <a:ln w="0">
            <a:noFill/>
          </a:ln>
        </p:spPr>
      </p:pic>
      <p:sp>
        <p:nvSpPr>
          <p:cNvPr id="451" name="Tekstvak 1"/>
          <p:cNvSpPr/>
          <p:nvPr/>
        </p:nvSpPr>
        <p:spPr>
          <a:xfrm>
            <a:off x="4087800" y="3125880"/>
            <a:ext cx="1440000" cy="7038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Hypofy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2" name="Picture 17" descr="zomer2008_KVO1207erwt"/>
          <p:cNvPicPr/>
          <p:nvPr/>
        </p:nvPicPr>
        <p:blipFill>
          <a:blip r:embed="rId2"/>
          <a:stretch/>
        </p:blipFill>
        <p:spPr>
          <a:xfrm>
            <a:off x="6084720" y="2922480"/>
            <a:ext cx="1368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50560" y="1133640"/>
            <a:ext cx="889308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na elke regio van de hersenen staat in contact met de hypothalamus. Hierdoor is de hypothalamus betrokken bij alle aspecten van de emoties, de voortplanting, het autonoom zenuwstelsel en de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hormoonhuishouding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. De hypothalamus reguleert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loeddru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rtsla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ng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ors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aap-waakritm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eksuele opwin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ichaamstemperatuur (veroorzaakt bijvoorbeeld bibberen bij kou)</a:t>
            </a:r>
            <a:br>
              <a:rPr sz="1400"/>
            </a:b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5" name="Afbeelding 4" descr=""/>
          <p:cNvPicPr/>
          <p:nvPr/>
        </p:nvPicPr>
        <p:blipFill>
          <a:blip r:embed="rId1"/>
          <a:srcRect l="14431" t="0" r="6414" b="0"/>
          <a:stretch/>
        </p:blipFill>
        <p:spPr>
          <a:xfrm>
            <a:off x="4067280" y="2158920"/>
            <a:ext cx="40194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47280" y="198900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ok speelt de hypothalamus een rol bij de drie kerngedragingen te wet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cht- of vluchtreac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edingsgedra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ortplantingsgedra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fy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569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langrijkste hormoonkli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s een aanhangsel van de hersen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aakt verschillende hormon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en van onder andere de groei (groeihormo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ïnvloeding van andere hormoonklier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rouw: eicel gaat rijpen    -   Man: zaadcellen worden gevorm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slachtsorganen gaan geslachtshormonen mak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ing werking van de schildklier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828800" indent="0"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1268000" y="90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9:33:43Z</dcterms:created>
  <dc:creator>Oscar Eggen</dc:creator>
  <dc:description/>
  <dc:language>en-US</dc:language>
  <cp:lastModifiedBy>Kievit, Eline</cp:lastModifiedBy>
  <cp:lastPrinted>2012-10-05T09:42:24Z</cp:lastPrinted>
  <dcterms:modified xsi:type="dcterms:W3CDTF">2021-01-27T11:33:18Z</dcterms:modified>
  <cp:revision>207</cp:revision>
  <dc:subject/>
  <dc:title>PowerPoint-presentatie</dc:title>
</cp:coreProperties>
</file>