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3.wmf" ContentType="image/x-wmf"/>
  <Override PartName="/ppt/media/image8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fcbef"/>
                </a:solidFill>
                <a:latin typeface="Trebuchet MS"/>
              </a:rPr>
              <a:t>Click to move the slide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E8B7D4E-3B29-4EA1-9877-AA9B676B1102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Bijgesteld feb 2018 HMM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3498F73-0D33-43C5-9090-718988B132A0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A9385C8-83FB-41C2-B800-DC4362360E9A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2B07461-7C1E-4C1C-969E-FABA02260CC5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6A38746-8962-499E-A0DB-A281F453BF66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AE0076A-0560-454D-9947-AF686DA018F5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voedingsstoffen in de lev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744B996-27EF-4E18-A85E-BD522953847A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B075C12-FB73-4CCF-94A6-2306B139F044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C45561A-B3B6-476B-95E8-FE1A247499F5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B1BE9B8-21A8-4AF2-BD56-55CB78B79CE9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5D5E93A-7C9C-4EE4-B026-8BE6F467287B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9B02EBF-C5D5-4FFA-843F-8E3824B06DA0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0AEBEA8-951E-4946-99F1-2E079590A23C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545FDE9-A834-4D98-9060-B25500ABBD3A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B178386-4EAC-42CE-BD20-FD693AF681B9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77DC47F-EB2F-4144-9D89-359AAE64A23C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1130233-A73B-4C5F-B38C-091D5B4612F3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D41A972-C2FB-454B-8E59-1172902B7B0A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21CA00B-0C18-470E-82A1-74808B69E57D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E4B0EA4-6231-4A66-A0AA-63D962E23D50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DE21156-6C3B-44FA-9BEC-7EBD702C183C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41DBF79-D058-4A7C-B497-C72577B8E09C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78339-686D-4C35-863A-55D83E9B8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8732A-2F5F-4AAE-A3A2-9B6F9F660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5B427-0DF8-4F39-B2A5-3256B6D45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D2ECD-31CD-49E6-A174-103DEBD0F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85E7D-4253-4CE4-93D5-7FF81F2CB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6141C-8ECB-44DF-B5CF-8EE6E016E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44D82-FF15-489C-990F-0A824EB9F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05C16-C5DD-4FBD-B669-A5CDE2B47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F23B3-57A4-4E26-BB8D-94C7D3AC7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F92B7-9C18-4D76-BAB9-8DF3D0000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6CA8E-FE38-4A15-9BE9-C8485E867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7F164-76A1-48BD-89F0-BE182ADFE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47E26-2E68-4045-A6B7-35E611CEC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B64D7-7AAA-4A3F-8C3B-3BE0E0627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2C14D-D675-45BE-B229-09A14793D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0E07B-93B1-4D79-9DE6-AC287FBE7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8A769-C261-427A-AE3E-69BA35E65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C9DC15-2368-40F1-B810-458FD0D55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B9FEB3-2D70-44DF-A19B-0E1043CE7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0EF6B4-101C-45B1-8028-4134C05B1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F80715-88D0-4963-9FFA-CA13E19D2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75D6DC-C2BB-429A-963B-5E549AF7D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1DCA7-579D-4FCE-9FE1-A29D005F6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5A3BC4-FED5-4DF3-BEC2-49FD092C7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1BA135-A53E-465C-95E3-FEB117279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EC0148-74C7-4007-BEFF-962177F76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32DE53-BCCA-415F-AE05-FB7F71A1D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8825F1-F80C-4801-8322-25AEEC685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BF815A-A909-4DBB-887C-7C7B7EA43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140768-B32B-4D09-9EE3-A553A91B0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5EAFC1-86A4-4400-B61B-D474E4157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B0C7D3-F285-4F89-A874-1F3B2575A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E49C0F-4842-4FDB-8A0D-307E3B238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5CA23-3443-4B68-9DB7-C98A22102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7B6936-5296-4CDB-AB94-DCAE9FC70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0E16F2-FD48-4F6B-A783-340294071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A3912F-CA9B-4178-B301-F83F1E74F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F39147-11D1-494D-8FF3-041E995E2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C7E431-1842-4851-AC6E-EFEB64DF4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58D199-0F00-4CDE-80C2-683270764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248B04-BCC2-402D-99F6-C266EC7A3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BAFDE3-FF18-4386-81C0-3B851CE2F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32751A-C596-4C2C-8747-1CA7CC442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E08C08-39F8-48DC-869F-0580786DD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A6EB2-619E-4080-BDEA-F5BD33479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85AE26-A538-4066-BB48-A587E492F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ECE5A5-EE0C-4E4A-BE0A-69E4AF1DB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DF1C29-6D2A-4BA8-98B9-1D15FCC77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6D6D8C-23F3-4178-96C4-5BAECB7E4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AA53BC-2CA9-42F0-8B83-8C0D58E89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9E5C72-3C5C-44BD-AC8B-8462FF6B2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DDFF4E-3C0B-4F8B-B0FB-6AF091D9D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A32AEC-E135-4360-8EA4-F16441ADB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61F9EB-BD9F-42A6-871B-2112F502F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59DEAA-612E-4388-BF46-4C9E0BEBB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09546-305E-425F-8569-1BA583349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0B6C59-A0FD-49AF-9B88-88BA96FFC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5EE00E-38E1-422D-AA0F-06E610ACE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D468DA-2F56-4798-9675-9A13E8826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90AAE7-C6D0-49D2-A7D7-AE71EACD5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CF46C3-59CB-4772-A9AA-BEA77B303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76D225-B8AD-4037-BDE2-815267421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D228DD-7B22-46B7-A4CF-E8DCB6AB6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FD2810-F8B0-4E6F-83AE-CBECA0E89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11D708-F8EE-4909-A6B2-169CBB518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6E389B-E8B5-4EC3-8C22-85DFF0A0E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8A047-0E5A-46E9-A074-D5E4537E4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C5D153-AB3E-494A-8972-DEC92290D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4E7D1A-CD09-4032-8CB0-625DDFAE7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4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5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9250F0-98A4-4E48-8D9C-2BC509DF2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E49DD-25B3-44CD-9272-E533E4C72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51C73-2536-49A8-8820-9F2181D7F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5fcbe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1080" y="4175640"/>
              <a:ext cx="4022280" cy="268200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5fcbe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40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5fcbe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7b0e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2e83c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9460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236292">
                <a:alpha val="8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904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fcbe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5fcbe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E7B15DA-A5CE-4C69-B96D-D073AF62A6F4}" type="slidenum">
              <a:rPr b="0" lang="nl-NL" sz="900" spc="-1" strike="noStrike">
                <a:solidFill>
                  <a:srgbClr val="5fcbe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53" name="Straight Connector 27"/>
            <p:cNvSpPr/>
            <p:nvPr/>
          </p:nvSpPr>
          <p:spPr>
            <a:xfrm flipV="1">
              <a:off x="5131080" y="4175640"/>
              <a:ext cx="4022280" cy="268200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4" name="Straight Connector 2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5" name="Freeform 2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5fcbe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6" name="Freeform 30"/>
            <p:cNvSpPr/>
            <p:nvPr/>
          </p:nvSpPr>
          <p:spPr>
            <a:xfrm>
              <a:off x="720540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5fcbe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7" name="Freeform 3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8" name="Freeform 3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7b0e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9" name="Freeform 3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2e83c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0" name="Freeform 34"/>
            <p:cNvSpPr/>
            <p:nvPr/>
          </p:nvSpPr>
          <p:spPr>
            <a:xfrm>
              <a:off x="809460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236292">
                <a:alpha val="8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1" name="Freeform 35"/>
            <p:cNvSpPr/>
            <p:nvPr/>
          </p:nvSpPr>
          <p:spPr>
            <a:xfrm>
              <a:off x="806904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2" name="Freeform 17"/>
            <p:cNvSpPr/>
            <p:nvPr/>
          </p:nvSpPr>
          <p:spPr>
            <a:xfrm>
              <a:off x="-7920" y="-7920"/>
              <a:ext cx="863280" cy="569736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5fcbef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fcbe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5fcbe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0C65C08-526C-4F65-9C1F-436EA2A1BF1A}" type="slidenum">
              <a:rPr b="0" lang="en-US" sz="900" spc="-1" strike="noStrike">
                <a:solidFill>
                  <a:srgbClr val="5fcbe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105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5fcbe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 flipV="1">
              <a:off x="5131080" y="4175640"/>
              <a:ext cx="4022280" cy="268200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7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5fcbe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720540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5fcbe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7b0e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2e83c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9460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236292">
                <a:alpha val="8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806904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fcbe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5fcbe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829AC12-CF42-4280-9AB3-9261CE31975B}" type="slidenum">
              <a:rPr b="0" lang="nl-NL" sz="900" spc="-1" strike="noStrike">
                <a:solidFill>
                  <a:srgbClr val="5fcbe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157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5fcbe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58" name="Straight Connector 7"/>
            <p:cNvSpPr/>
            <p:nvPr/>
          </p:nvSpPr>
          <p:spPr>
            <a:xfrm flipV="1">
              <a:off x="5131080" y="4175640"/>
              <a:ext cx="4022280" cy="268200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59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0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5fcbe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1" name="Freeform 10"/>
            <p:cNvSpPr/>
            <p:nvPr/>
          </p:nvSpPr>
          <p:spPr>
            <a:xfrm>
              <a:off x="720540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5fcbe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2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3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7b0e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4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2e83c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5" name="Freeform 14"/>
            <p:cNvSpPr/>
            <p:nvPr/>
          </p:nvSpPr>
          <p:spPr>
            <a:xfrm>
              <a:off x="809460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236292">
                <a:alpha val="8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6" name="Freeform 15"/>
            <p:cNvSpPr/>
            <p:nvPr/>
          </p:nvSpPr>
          <p:spPr>
            <a:xfrm>
              <a:off x="806904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67" name="TextBox 23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9fe0f5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TextBox 24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9fe0f5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fcbe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5fcbe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360EAFF-48AD-4CF9-BA4C-FDAD30AA4688}" type="slidenum">
              <a:rPr b="0" lang="nl-NL" sz="900" spc="-1" strike="noStrike">
                <a:solidFill>
                  <a:srgbClr val="5fcbe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0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21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5fcbe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12" name="Straight Connector 7"/>
            <p:cNvSpPr/>
            <p:nvPr/>
          </p:nvSpPr>
          <p:spPr>
            <a:xfrm flipV="1">
              <a:off x="5131080" y="4175640"/>
              <a:ext cx="4022280" cy="268200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13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14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5fcbe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15" name="Freeform 10"/>
            <p:cNvSpPr/>
            <p:nvPr/>
          </p:nvSpPr>
          <p:spPr>
            <a:xfrm>
              <a:off x="720540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5fcbe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16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17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7b0e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18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2e83c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19" name="Freeform 14"/>
            <p:cNvSpPr/>
            <p:nvPr/>
          </p:nvSpPr>
          <p:spPr>
            <a:xfrm>
              <a:off x="809460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236292">
                <a:alpha val="8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20" name="Freeform 15"/>
            <p:cNvSpPr/>
            <p:nvPr/>
          </p:nvSpPr>
          <p:spPr>
            <a:xfrm>
              <a:off x="806904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221" name="TextBox 23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9fe0f5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2" name="TextBox 24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9fe0f5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fcbe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3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4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5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5fcbe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1E76EB1-2EF2-4FFE-96F9-C019D55963B7}" type="slidenum">
              <a:rPr b="0" lang="nl-NL" sz="900" spc="-1" strike="noStrike">
                <a:solidFill>
                  <a:srgbClr val="5fcbe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4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265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5fcbe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66" name="Straight Connector 7"/>
            <p:cNvSpPr/>
            <p:nvPr/>
          </p:nvSpPr>
          <p:spPr>
            <a:xfrm flipV="1">
              <a:off x="5131080" y="4175640"/>
              <a:ext cx="4022280" cy="268200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67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68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5fcbe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69" name="Freeform 10"/>
            <p:cNvSpPr/>
            <p:nvPr/>
          </p:nvSpPr>
          <p:spPr>
            <a:xfrm>
              <a:off x="720540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5fcbe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70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71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7b0e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72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2e83c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73" name="Freeform 14"/>
            <p:cNvSpPr/>
            <p:nvPr/>
          </p:nvSpPr>
          <p:spPr>
            <a:xfrm>
              <a:off x="809460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236292">
                <a:alpha val="8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74" name="Freeform 15"/>
            <p:cNvSpPr/>
            <p:nvPr/>
          </p:nvSpPr>
          <p:spPr>
            <a:xfrm>
              <a:off x="806904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fcbe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 type="dt" idx="16"/>
          </p:nvPr>
        </p:nvSpPr>
        <p:spPr>
          <a:xfrm>
            <a:off x="6552720" y="635112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 type="ftr" idx="17"/>
          </p:nvPr>
        </p:nvSpPr>
        <p:spPr>
          <a:xfrm>
            <a:off x="24382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 type="sldNum" idx="18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5fcbe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7AC9E32-EEF7-4988-8373-4C567F6D0C0B}" type="slidenum">
              <a:rPr b="0" lang="nl-NL" sz="900" spc="-1" strike="noStrike">
                <a:solidFill>
                  <a:srgbClr val="5fcbe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186920" y="4681080"/>
            <a:ext cx="4464360" cy="1297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5fcbef"/>
                </a:solidFill>
                <a:latin typeface="Trebuchet MS"/>
              </a:rPr>
              <a:t>Spijsvertering</a:t>
            </a:r>
            <a:endParaRPr b="0" lang="en-US" sz="3200" spc="-1" strike="noStrike">
              <a:solidFill>
                <a:srgbClr val="5fcbef"/>
              </a:solidFill>
              <a:latin typeface="Trebuchet MS"/>
            </a:endParaRPr>
          </a:p>
        </p:txBody>
      </p:sp>
      <p:pic>
        <p:nvPicPr>
          <p:cNvPr id="324" name="Picture 2" descr="Anatomische, Anatomie, Het Lichaam, Gut, Gezondheid"/>
          <p:cNvPicPr/>
          <p:nvPr/>
        </p:nvPicPr>
        <p:blipFill>
          <a:blip r:embed="rId1"/>
          <a:stretch/>
        </p:blipFill>
        <p:spPr>
          <a:xfrm>
            <a:off x="1547640" y="668160"/>
            <a:ext cx="5472360" cy="3648240"/>
          </a:xfrm>
          <a:prstGeom prst="rect">
            <a:avLst/>
          </a:prstGeom>
          <a:ln w="0">
            <a:noFill/>
          </a:ln>
        </p:spPr>
      </p:pic>
      <p:sp>
        <p:nvSpPr>
          <p:cNvPr id="325" name="Tekstvak 1"/>
          <p:cNvSpPr/>
          <p:nvPr/>
        </p:nvSpPr>
        <p:spPr>
          <a:xfrm>
            <a:off x="1835280" y="4724280"/>
            <a:ext cx="48974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400" spc="-1" strike="noStrike">
                <a:solidFill>
                  <a:srgbClr val="5fcbef"/>
                </a:solidFill>
                <a:latin typeface="Trebuchet MS"/>
              </a:rPr>
              <a:t>Anatomie &amp; Fysiologie</a:t>
            </a:r>
            <a:endParaRPr b="0" lang="en-US" sz="3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96800" y="312840"/>
            <a:ext cx="6553440" cy="121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5fcbef"/>
                </a:solidFill>
                <a:latin typeface="Verdana"/>
              </a:rPr>
              <a:t>Slokdarm</a:t>
            </a:r>
            <a:r>
              <a:rPr b="0" lang="nl-NL" sz="3600" spc="-1" strike="noStrike">
                <a:solidFill>
                  <a:srgbClr val="5fcbef"/>
                </a:solidFill>
                <a:latin typeface="Trebuchet MS"/>
              </a:rPr>
              <a:t> 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ubTitle"/>
          </p:nvPr>
        </p:nvSpPr>
        <p:spPr>
          <a:xfrm>
            <a:off x="0" y="3429000"/>
            <a:ext cx="28814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351" name="Afbeelding 1" descr=""/>
          <p:cNvPicPr/>
          <p:nvPr/>
        </p:nvPicPr>
        <p:blipFill>
          <a:blip r:embed="rId1"/>
          <a:stretch/>
        </p:blipFill>
        <p:spPr>
          <a:xfrm>
            <a:off x="179280" y="1498680"/>
            <a:ext cx="8460000" cy="42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5fcbef"/>
                </a:solidFill>
                <a:latin typeface="Verdana"/>
              </a:rPr>
              <a:t>Maag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274320" y="1628640"/>
            <a:ext cx="701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Opslag van voedsel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Kneden van voedsel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Afbraak van voedsel door middel van enzymen (pepsine) die in een zuur milieu moeten werken (zoutzuur)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Intrinsic factor = stof die bindt aan vitamine B12 anders kan deze niet door de darmwand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Bekleedt met slijmlaag om de maag te beschermen tegen het maagzuur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Picture 5" descr="De maag"/>
          <p:cNvPicPr/>
          <p:nvPr/>
        </p:nvPicPr>
        <p:blipFill>
          <a:blip r:embed="rId1"/>
          <a:stretch/>
        </p:blipFill>
        <p:spPr>
          <a:xfrm>
            <a:off x="4356000" y="2060640"/>
            <a:ext cx="4608720" cy="4470480"/>
          </a:xfrm>
          <a:prstGeom prst="rect">
            <a:avLst/>
          </a:prstGeom>
          <a:ln w="0">
            <a:noFill/>
          </a:ln>
        </p:spPr>
      </p:pic>
      <p:sp>
        <p:nvSpPr>
          <p:cNvPr id="355" name="Tekstvak 1"/>
          <p:cNvSpPr/>
          <p:nvPr/>
        </p:nvSpPr>
        <p:spPr>
          <a:xfrm>
            <a:off x="396720" y="1459080"/>
            <a:ext cx="41752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De laat steeds een beetje voedsel door naar de twaalfvingerige darm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Soms vloeit er maagsap naar de slokdarm </a:t>
            </a: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 zuurbranden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Peristaltiek gaat van slokdarm naar maag, soms andersom dan gaat iemand braken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6" name="Rectangle 2"/>
          <p:cNvSpPr/>
          <p:nvPr/>
        </p:nvSpPr>
        <p:spPr>
          <a:xfrm>
            <a:off x="1042920" y="460440"/>
            <a:ext cx="208116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400" spc="-1" strike="noStrike">
                <a:solidFill>
                  <a:srgbClr val="5fcbef"/>
                </a:solidFill>
                <a:latin typeface="Trebuchet MS"/>
              </a:rPr>
              <a:t>MAAG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600" spc="-1" strike="noStrike">
                <a:solidFill>
                  <a:srgbClr val="5fcbef"/>
                </a:solidFill>
                <a:latin typeface="Trebuchet MS"/>
              </a:rPr>
              <a:t>De twaalfvingerige darm</a:t>
            </a:r>
            <a:r>
              <a:rPr b="0" lang="nl-NL" sz="3600" spc="-1" strike="noStrike">
                <a:solidFill>
                  <a:srgbClr val="5fcbef"/>
                </a:solidFill>
                <a:latin typeface="Trebuchet MS"/>
              </a:rPr>
              <a:t> 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324000" y="12700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Galbuis en alvleesklierbuis monden hierin ui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Het grootste gedeelte van de vertering vindt hier plaats omdat de gal- en </a:t>
            </a:r>
            <a:br>
              <a:rPr sz="1800"/>
            </a:b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alvleeskliersappen hier bij het voedsel komen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Galbuis is verbinding tussen lever, galblaas en darm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359" name="Afbeelding 2" descr=""/>
          <p:cNvPicPr/>
          <p:nvPr/>
        </p:nvPicPr>
        <p:blipFill>
          <a:blip r:embed="rId1"/>
          <a:stretch/>
        </p:blipFill>
        <p:spPr>
          <a:xfrm>
            <a:off x="1403280" y="3365640"/>
            <a:ext cx="5256360" cy="34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24000" y="2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200"/>
            </a:br>
            <a:r>
              <a:rPr b="0" lang="nl-NL" sz="4400" spc="-1" strike="noStrike">
                <a:solidFill>
                  <a:srgbClr val="5fcbef"/>
                </a:solidFill>
                <a:latin typeface="Trebuchet MS"/>
              </a:rPr>
              <a:t>Alvleesklier (pancreas)</a:t>
            </a:r>
            <a:br>
              <a:rPr sz="2900"/>
            </a:br>
            <a:r>
              <a:rPr b="0" lang="nl-NL" sz="2500" spc="-1" strike="noStrike">
                <a:solidFill>
                  <a:srgbClr val="5fcbef"/>
                </a:solidFill>
                <a:latin typeface="Trebuchet MS"/>
              </a:rPr>
              <a:t>	</a:t>
            </a:r>
            <a:br>
              <a:rPr sz="2500"/>
            </a:br>
            <a:br>
              <a:rPr sz="2500"/>
            </a:br>
            <a:endParaRPr b="0" lang="en-US" sz="25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684000" y="1700280"/>
            <a:ext cx="7313400" cy="41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Courier New"/>
              <a:buChar char="o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Via alvleesklierbuis gaan de stoffen naar de twaalfvingerige darm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2 functies: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Courier New"/>
              <a:buChar char="o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Aanmaak spijsverteringsenzymen in alvleeskliersap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Courier New"/>
              <a:buChar char="o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Aanmaak hormonen die meteen naar de bloedbaan gaan (insuline en glucagon)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Trebuchet MS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Trebuchet MS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5fcbef"/>
                </a:solidFill>
                <a:latin typeface="Trebuchet MS"/>
              </a:rPr>
              <a:t>Lever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pic>
        <p:nvPicPr>
          <p:cNvPr id="363" name="Picture 3" descr="de lever kopie"/>
          <p:cNvPicPr/>
          <p:nvPr/>
        </p:nvPicPr>
        <p:blipFill>
          <a:blip r:embed="rId1"/>
          <a:stretch/>
        </p:blipFill>
        <p:spPr>
          <a:xfrm>
            <a:off x="885960" y="2160720"/>
            <a:ext cx="5796000" cy="38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5fcbef"/>
                </a:solidFill>
                <a:latin typeface="Verdana"/>
              </a:rPr>
              <a:t>Lever (&amp; galblaas) 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468000" y="1699920"/>
            <a:ext cx="7313400" cy="431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Ontvangen voedingsstoffen via poortader en verwerkt deze stoffen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Koolhydraatstofwisseling: Suikers worden omgezet in glucose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Deel van glucose wordt opgeslagen </a:t>
            </a:r>
            <a:r>
              <a:rPr b="0" lang="nl-NL" sz="20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  glycogeen</a:t>
            </a:r>
            <a:br>
              <a:rPr sz="2000"/>
            </a:b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Wat nog overblijft wordt omgezet in vetten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Aanmaak cholesterol (bouwsteen voor lichaamscellen en hormonen)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Lever maakt gal </a:t>
            </a:r>
            <a:r>
              <a:rPr b="0" lang="nl-NL" sz="20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 naar galblaas </a:t>
            </a:r>
            <a:r>
              <a:rPr b="0" lang="nl-NL" sz="20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 indikken en opslaan </a:t>
            </a:r>
            <a:r>
              <a:rPr b="0" lang="nl-NL" sz="20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 gal wordt naar twaalfvingerige darm gebracht om vetten te verteren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Ontgiftende werking </a:t>
            </a:r>
            <a:r>
              <a:rPr b="0" lang="nl-NL" sz="20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 afvalstoffen naar nieren </a:t>
            </a:r>
            <a:r>
              <a:rPr b="0" lang="nl-NL" sz="20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 uitscheiden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609120" y="2160360"/>
            <a:ext cx="6348600" cy="3881160"/>
          </a:xfrm>
          <a:prstGeom prst="rect">
            <a:avLst/>
          </a:prstGeom>
          <a:ln w="0">
            <a:noFill/>
          </a:ln>
        </p:spPr>
      </p:pic>
      <p:pic>
        <p:nvPicPr>
          <p:cNvPr id="368" name="Picture 2" descr="Poortader met vertakkingen Diagram | Quizlet"/>
          <p:cNvPicPr/>
          <p:nvPr/>
        </p:nvPicPr>
        <p:blipFill>
          <a:blip r:embed="rId2"/>
          <a:stretch/>
        </p:blipFill>
        <p:spPr>
          <a:xfrm>
            <a:off x="609480" y="609480"/>
            <a:ext cx="6126120" cy="524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5fcbef"/>
                </a:solidFill>
                <a:latin typeface="Trebuchet MS"/>
              </a:rPr>
              <a:t>Dunne darm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371" name="Picture 1032" descr="kronkeldarm"/>
          <p:cNvPicPr/>
          <p:nvPr/>
        </p:nvPicPr>
        <p:blipFill>
          <a:blip r:embed="rId1"/>
          <a:srcRect l="22585" t="217" r="-22582" b="-213"/>
          <a:stretch/>
        </p:blipFill>
        <p:spPr>
          <a:xfrm>
            <a:off x="1136520" y="1577880"/>
            <a:ext cx="5832720" cy="49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5fcbef"/>
                </a:solidFill>
                <a:latin typeface="Verdana"/>
              </a:rPr>
              <a:t>Dunne darm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609120" y="1488960"/>
            <a:ext cx="6348600" cy="374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Courier New"/>
              <a:buChar char="o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Bekleedt met spieren (peristaltiek) en slijmvlieslaag (met darmvlokken)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Courier New"/>
              <a:buChar char="o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Vertering van voedsel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Courier New"/>
              <a:buChar char="o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Opname van voedingsstoffen met behulp van darmvlokken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4000" spc="-1" strike="noStrike">
                <a:solidFill>
                  <a:srgbClr val="5fcbef"/>
                </a:solidFill>
                <a:latin typeface="Trebuchet MS"/>
              </a:rPr>
              <a:t>De spijsverteringsorganen</a:t>
            </a:r>
            <a:endParaRPr b="0" lang="en-US" sz="40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915840" y="2349360"/>
            <a:ext cx="7312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Mond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Slokdarm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Maag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Twaalfvingerige darm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Lever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Alvleesklier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Dunne darm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Dikke darm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547280" y="333000"/>
            <a:ext cx="7417080" cy="111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5fcbef"/>
                </a:solidFill>
                <a:latin typeface="Trebuchet MS"/>
              </a:rPr>
              <a:t>Binnenkant van de dunne darm (ileum)</a:t>
            </a:r>
            <a:endParaRPr b="0" lang="en-US" sz="3200" spc="-1" strike="noStrike">
              <a:solidFill>
                <a:srgbClr val="5fcbef"/>
              </a:solidFill>
              <a:latin typeface="Trebuchet MS"/>
            </a:endParaRPr>
          </a:p>
        </p:txBody>
      </p:sp>
      <p:pic>
        <p:nvPicPr>
          <p:cNvPr id="375" name="Picture 2" descr=""/>
          <p:cNvPicPr/>
          <p:nvPr/>
        </p:nvPicPr>
        <p:blipFill>
          <a:blip r:embed="rId1"/>
          <a:stretch/>
        </p:blipFill>
        <p:spPr>
          <a:xfrm>
            <a:off x="684360" y="1558800"/>
            <a:ext cx="7127640" cy="374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5fcbef"/>
                </a:solidFill>
                <a:latin typeface="Trebuchet MS"/>
              </a:rPr>
              <a:t>Dikke darm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pic>
        <p:nvPicPr>
          <p:cNvPr id="377" name="Tijdelijke aanduiding voor inhoud 3" descr=""/>
          <p:cNvPicPr/>
          <p:nvPr/>
        </p:nvPicPr>
        <p:blipFill>
          <a:blip r:embed="rId1"/>
          <a:stretch/>
        </p:blipFill>
        <p:spPr>
          <a:xfrm>
            <a:off x="641520" y="2160720"/>
            <a:ext cx="6284880" cy="38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5fcbef"/>
                </a:solidFill>
                <a:latin typeface="Verdana"/>
              </a:rPr>
              <a:t>Dikke darm</a:t>
            </a:r>
            <a:r>
              <a:rPr b="0" lang="nl-NL" sz="3600" spc="-1" strike="noStrike">
                <a:solidFill>
                  <a:srgbClr val="5fcbef"/>
                </a:solidFill>
                <a:latin typeface="Trebuchet MS"/>
              </a:rPr>
              <a:t> 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755640" y="137160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Onverteerbare voedingsresten verder stuwen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De onverteerbare voedingsresten indikken door water eraan te onttrekken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Aanmaak vitamine K door vertering reststoffen door darmflora (bacteriën)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Productie methaan </a:t>
            </a:r>
            <a:r>
              <a:rPr b="0" lang="nl-NL" sz="24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 windjes/flatuleren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5fcbef"/>
                </a:solidFill>
                <a:latin typeface="Trebuchet MS"/>
              </a:rPr>
              <a:t>Endeldarm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382" name="Picture 2" descr="http://www.natuurinformatie.nl/sites/nnm.dossiers/contents/i003643/anustekst_250.jpg"/>
          <p:cNvPicPr/>
          <p:nvPr/>
        </p:nvPicPr>
        <p:blipFill>
          <a:blip r:embed="rId1"/>
          <a:stretch/>
        </p:blipFill>
        <p:spPr>
          <a:xfrm>
            <a:off x="250920" y="1689120"/>
            <a:ext cx="5449680" cy="445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5fcbef"/>
                </a:solidFill>
                <a:latin typeface="Trebuchet MS"/>
              </a:rPr>
              <a:t>Einde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5" descr="Het spijsverteringsstelsel"/>
          <p:cNvPicPr/>
          <p:nvPr/>
        </p:nvPicPr>
        <p:blipFill>
          <a:blip r:embed="rId1"/>
          <a:stretch/>
        </p:blipFill>
        <p:spPr>
          <a:xfrm>
            <a:off x="324000" y="14400"/>
            <a:ext cx="6221160" cy="6694200"/>
          </a:xfrm>
          <a:prstGeom prst="rect">
            <a:avLst/>
          </a:prstGeom>
          <a:ln w="0">
            <a:noFill/>
          </a:ln>
        </p:spPr>
      </p:pic>
      <p:sp>
        <p:nvSpPr>
          <p:cNvPr id="329" name="Rechte verbindingslijn 2"/>
          <p:cNvSpPr/>
          <p:nvPr/>
        </p:nvSpPr>
        <p:spPr>
          <a:xfrm>
            <a:off x="1403280" y="4724280"/>
            <a:ext cx="172872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0" name="Tekstvak 4"/>
          <p:cNvSpPr/>
          <p:nvPr/>
        </p:nvSpPr>
        <p:spPr>
          <a:xfrm>
            <a:off x="395280" y="4508640"/>
            <a:ext cx="1008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rebuchet MS"/>
              </a:rPr>
              <a:t>12 vingerige darm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5fcbef"/>
                </a:solidFill>
                <a:latin typeface="Trebuchet MS"/>
              </a:rPr>
              <a:t>Functie spijsvertering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609480" y="162864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Voedsel opnemen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Voedsel fijnmaken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Voedsel vervoeren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Voedsel afbreken en verteren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Voedingsstoffen voor de lichaamscellen afgeven aan het bloed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Onverteerbare voedselbestanddelen afvoeren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Picture 2" descr="Bestand:Triosephosphate isomerase.jpg"/>
          <p:cNvPicPr/>
          <p:nvPr/>
        </p:nvPicPr>
        <p:blipFill>
          <a:blip r:embed="rId1"/>
          <a:stretch/>
        </p:blipFill>
        <p:spPr>
          <a:xfrm>
            <a:off x="900000" y="571680"/>
            <a:ext cx="5715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hthoek 1"/>
          <p:cNvSpPr/>
          <p:nvPr/>
        </p:nvSpPr>
        <p:spPr>
          <a:xfrm>
            <a:off x="603360" y="1442880"/>
            <a:ext cx="7362720" cy="369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Verdana"/>
              </a:rPr>
              <a:t>Enzymen zijn nodig bij de vertering van voedingsstoffen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SzPct val="80000"/>
              <a:buFont typeface="Trebuchet M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Trebuchet MS"/>
              </a:rPr>
              <a:t>Werken optimaal bij 37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º C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SzPct val="80000"/>
              <a:buFont typeface="Trebuchet M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Enzymen knippen grotere voedingssstoffen op in kleinere                   stukjes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SzPct val="80000"/>
              <a:buFont typeface="Trebuchet M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Voor de opbouw van enzymen zijn vaak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 vitaminen nodig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SzPct val="80000"/>
              <a:buFont typeface="Trebuchet M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Hebben een eigen pH-waarde (zuurtegraad)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SzPct val="80000"/>
              <a:buFont typeface="Trebuchet M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Eindigen meestal op –ase (of -ine)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SzPct val="80000"/>
              <a:buFont typeface="Trebuchet M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rebuchet MS"/>
              </a:rPr>
              <a:t>Enzymen komen voor in speeksel, maagsap, dunne darmsap en sap uit de alvleesklier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5" name="Rectangle 2"/>
          <p:cNvSpPr/>
          <p:nvPr/>
        </p:nvSpPr>
        <p:spPr>
          <a:xfrm>
            <a:off x="1116000" y="333360"/>
            <a:ext cx="2503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400" spc="-1" strike="noStrike">
                <a:solidFill>
                  <a:srgbClr val="5fcbef"/>
                </a:solidFill>
                <a:latin typeface="Trebuchet MS"/>
              </a:rPr>
              <a:t>ENZYMEN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2" descr="organen spijsvertering"/>
          <p:cNvPicPr/>
          <p:nvPr/>
        </p:nvPicPr>
        <p:blipFill>
          <a:blip r:embed="rId1"/>
          <a:srcRect l="1551" t="0" r="0" b="0"/>
          <a:stretch/>
        </p:blipFill>
        <p:spPr>
          <a:xfrm>
            <a:off x="3720960" y="973080"/>
            <a:ext cx="2337120" cy="5661000"/>
          </a:xfrm>
          <a:prstGeom prst="rect">
            <a:avLst/>
          </a:prstGeom>
          <a:ln w="0">
            <a:noFill/>
          </a:ln>
        </p:spPr>
      </p:pic>
      <p:sp>
        <p:nvSpPr>
          <p:cNvPr id="337" name="Rectangle 2"/>
          <p:cNvSpPr/>
          <p:nvPr/>
        </p:nvSpPr>
        <p:spPr>
          <a:xfrm>
            <a:off x="324000" y="120600"/>
            <a:ext cx="2854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400" spc="-1" strike="noStrike">
                <a:solidFill>
                  <a:srgbClr val="5fcbef"/>
                </a:solidFill>
                <a:latin typeface="Trebuchet MS"/>
              </a:rPr>
              <a:t>ENZYMEN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8" name="Rechthoek 4"/>
          <p:cNvSpPr/>
          <p:nvPr/>
        </p:nvSpPr>
        <p:spPr>
          <a:xfrm>
            <a:off x="1258920" y="1476360"/>
            <a:ext cx="2241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peeksel:Amylase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9" name="Rechthoek 5"/>
          <p:cNvSpPr/>
          <p:nvPr/>
        </p:nvSpPr>
        <p:spPr>
          <a:xfrm>
            <a:off x="6058080" y="335772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Maagsap: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Pepsine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0" name="Tekstvak 1"/>
          <p:cNvSpPr/>
          <p:nvPr/>
        </p:nvSpPr>
        <p:spPr>
          <a:xfrm>
            <a:off x="1052640" y="2581200"/>
            <a:ext cx="2447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rebuchet MS"/>
              </a:rPr>
              <a:t>Breekt zetmeel en koolhydraten af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cxnSp>
        <p:nvCxnSpPr>
          <p:cNvPr id="341" name="Gebogen verbindingslijn 4"/>
          <p:cNvCxnSpPr/>
          <p:nvPr/>
        </p:nvCxnSpPr>
        <p:spPr>
          <a:xfrm rot="5400000">
            <a:off x="2145600" y="2007360"/>
            <a:ext cx="621000" cy="358920"/>
          </a:xfrm>
          <a:prstGeom prst="bentConnector3">
            <a:avLst>
              <a:gd name="adj1" fmla="val 50000"/>
            </a:avLst>
          </a:prstGeom>
          <a:ln cap="rnd" w="12600">
            <a:solidFill>
              <a:srgbClr val="5fcbef"/>
            </a:solidFill>
            <a:miter/>
            <a:tailEnd len="med" type="triangle" w="med"/>
          </a:ln>
        </p:spPr>
      </p:cxnSp>
      <p:sp>
        <p:nvSpPr>
          <p:cNvPr id="342" name="Tekstvak 6"/>
          <p:cNvSpPr/>
          <p:nvPr/>
        </p:nvSpPr>
        <p:spPr>
          <a:xfrm>
            <a:off x="6162840" y="4022640"/>
            <a:ext cx="165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rebuchet MS"/>
              </a:rPr>
              <a:t>Afbreken van eiwitten tot kleinere deeltjes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cxnSp>
        <p:nvCxnSpPr>
          <p:cNvPr id="343" name="Gebogen verbindingslijn 8"/>
          <p:cNvCxnSpPr>
            <a:endCxn id="342" idx="0"/>
          </p:cNvCxnSpPr>
          <p:nvPr/>
        </p:nvCxnSpPr>
        <p:spPr>
          <a:xfrm flipH="1" rot="16200000">
            <a:off x="6422040" y="3454200"/>
            <a:ext cx="597600" cy="540360"/>
          </a:xfrm>
          <a:prstGeom prst="bentConnector3">
            <a:avLst>
              <a:gd name="adj1" fmla="val 49969"/>
            </a:avLst>
          </a:prstGeom>
          <a:ln cap="rnd" w="12600">
            <a:solidFill>
              <a:srgbClr val="5fcbe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5fcbef"/>
                </a:solidFill>
                <a:latin typeface="Verdana"/>
              </a:rPr>
              <a:t>Mond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09480" y="170028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1e bewerking van voedsel: vermalen en kauwen van voeds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Toevoegen van speeksel </a:t>
            </a:r>
            <a:r>
              <a:rPr b="0" lang="nl-NL" sz="18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 soep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Spijsverteringsenzym amylase, breekt zetmeel en koolhydraten af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600" spc="-1" strike="noStrike">
                <a:solidFill>
                  <a:srgbClr val="5fcbef"/>
                </a:solidFill>
                <a:latin typeface="Trebuchet MS"/>
              </a:rPr>
              <a:t>Keelholte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347400" y="1628640"/>
            <a:ext cx="6081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Tijdens slikken luchtweg naar neus (door huig en gehemelte) en luchtpijp (door strottenklepje) afgeslot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348" name="Afbeelding 1" descr=""/>
          <p:cNvPicPr/>
          <p:nvPr/>
        </p:nvPicPr>
        <p:blipFill>
          <a:blip r:embed="rId1"/>
          <a:stretch/>
        </p:blipFill>
        <p:spPr>
          <a:xfrm>
            <a:off x="609480" y="2924280"/>
            <a:ext cx="5558040" cy="36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9T13:57:51Z</dcterms:created>
  <dc:creator>BAHR</dc:creator>
  <dc:description/>
  <dc:language>en-US</dc:language>
  <cp:lastModifiedBy>Kievit, Eline</cp:lastModifiedBy>
  <dcterms:modified xsi:type="dcterms:W3CDTF">2021-01-12T17:57:09Z</dcterms:modified>
  <cp:revision>78</cp:revision>
  <dc:subject/>
  <dc:title>Dia 1</dc:title>
</cp:coreProperties>
</file>