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5"/>
          </p:nvPr>
        </p:nvSpPr>
        <p:spPr>
          <a:xfrm>
            <a:off x="383328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ftr" idx="26"/>
          </p:nvPr>
        </p:nvSpPr>
        <p:spPr>
          <a:xfrm>
            <a:off x="-36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 type="sldNum" idx="27"/>
          </p:nvPr>
        </p:nvSpPr>
        <p:spPr>
          <a:xfrm>
            <a:off x="383328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3BE21-7D5D-4CE1-8E2B-DF96D4A10E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2F778-1DEC-436D-B9BD-F59B1E9097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895E7F-A809-47B0-9FB3-7465C04988B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D7E57-5730-440B-A6DC-880AE385360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44031F-391C-44C8-9F9B-3BB0C9BF639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Regeling hoeveelheid glucose in het blo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oeveelheid glucose in het bloed moet zoveel mogelijk constant blijven.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us niet afhankelijk van of je net gegeten heb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ordt geregeld via hormonen uit de </a:t>
            </a: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eilandjes van Langerhans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(in de alvleeskli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Insulin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ordt gemaakt als er na het eten veel glucose in je bloed kom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</a:t>
            </a: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verlaagt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de hoeveelheid glucose doordat onder invloed van insuline: de lever (en spieren) zetten glucose om in glycogeen (soort zetmeel). </a:t>
            </a:r>
            <a:r>
              <a:rPr b="0" lang="nl-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Glycogeen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wordt opgeslagen in de lever (en de spier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Glucagon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ordt gemaakt als de hoeveelheid glucose in je bloed te laag wordt.</a:t>
            </a:r>
            <a:br>
              <a:rPr sz="1200"/>
            </a:b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Bijvoorbeeld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oordat je veel glucose verbrand heb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Verhoogt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de hoeveelheid glucose doordat onder invloed van glucagon: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lever zet </a:t>
            </a:r>
            <a:r>
              <a:rPr b="0" lang="nl-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glycogeen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weer om in glucose.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ze glucose wordt afgegeven aan het blo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Suikerziekte (diabetes) :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eilandjes van Langerhans werken niet goed.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* Er wordt geen of te weinig insuline gemaakt.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* Patiënten moeten extra insuline inspui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88F15-8B65-43F0-96D8-A4F5DD35D6A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36F62-0093-400A-8629-2B220B1A462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D7E5DD-6E85-448A-93F1-EEAF9C8A1E3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08E74-8930-4ED4-9226-A86E50A3C48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9D08CE-684A-4123-BA46-2AB8922188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12A93F-C948-41D4-8196-14B6921B89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841A4-9602-4A17-A7A2-2D3B0FCBC02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2C93E-2B03-490E-B1AD-1E27267F3D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86AD6-F7FB-4B81-B96B-0BF5C80540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8DB03-8574-4052-B98F-CF788FEFB73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9EE7AE-4947-49AA-8F78-5F8B6AF7EDC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DCA2E-3A6C-466C-ABD0-ADDAC72AC02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72BC-4458-4261-B7DD-E46D4E47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4FF5-12EA-4EB5-BD76-9E8F7B4A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744-12CF-41AC-B8DE-1617F621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CEA0-6C43-43A6-8D93-30BC825D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2200-7873-496D-8BC8-1231DF25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C2A3-5B7D-4CFC-A90C-4F118A68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27CA-4690-43BD-A563-32E810EF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BABE-8F51-4F80-BFF4-0D236DFD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AFA9-917F-4137-BC6E-80B19666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24ED-1DFA-46CC-9E56-EDA93719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22D8-44DF-4EA9-B0A5-DC1120B1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D61E-C5E5-4A50-B295-3EE07783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838C-335C-4038-BE7F-0F804E80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A5EE-CB51-44E2-9189-13200F8F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6BB6-28A2-4FC1-9F96-8C2E1197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8438-CB5F-4E00-92AF-7F23C57A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0963-DE5D-4DA1-8182-2B993C96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D6C7E-26AD-46D9-A83A-FB7F5384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F070E-B95B-475D-B788-6D0BA198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0C63D-964A-4F32-A239-09739226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DAD5B-2A02-45F3-A789-0F5F963E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FD177-8B58-484E-A4D5-F0F31A71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5B83-5B51-40A6-9CF1-B0AB9A8C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18956-E23B-433F-A48D-437935DD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55736-418B-41B9-AAF6-1C72B68D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09C89-E3CE-4E00-8421-8F9B4265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C95B8-8949-40BF-80A7-9BCF2FAB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2D805-B2B9-4BFB-838D-635C5A31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9F669-B290-4E53-8635-67BEDADA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458F3-074B-4AAB-AEAA-3A946263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87855-6138-4993-A01D-C51B2038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8218F-932F-4121-B45D-77DB23BF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9B555-54EB-448C-8C06-2C2457FA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AACC-F014-459A-867C-A1DE671C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48103-8001-4A46-8FF7-DE339208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1C0C5-5F63-4DB3-B707-B1FBF80F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543E6-DF11-4FCB-8580-70B07B4F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DCC43-87EF-41C9-9DE0-8C492EF7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72A46-FBCC-4E28-BF67-5EC11E50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AB254-397B-4114-B544-DAE8C885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C78C9-6517-494D-BA3E-7047B9CE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3A223-E59A-49E6-BE75-EFBAB37D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8A4E6-D11C-4E3B-85EE-A262FBA1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F82A2-4B11-486F-9B33-EABE4A62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3BC0-F185-49D9-910D-BF778D63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5EC2E-C389-4DE6-B16F-26EDD066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83EF0-68EA-486B-B21D-B5295B46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416D9-6156-426F-B210-A46A947F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A6770-5743-4603-A232-8F8BD8CD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A3DA1-D347-4ABE-B33C-DF53F3FB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7E7A1-1279-4932-93B1-15A41F67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769D2-1C48-41CF-8F27-706B73EF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41718-70AB-47D5-BCD6-3AF1E459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DB567-18D8-4859-99E9-7B44F91D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44B40-7433-462B-881E-C249B7C7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D4C2-08F7-4D98-A805-A235EB27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7EF2F-11FA-433E-8FAC-6E0F7D8A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60097-EEE0-4F83-AC5E-04AD4684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3656F-8481-467C-AE38-195606B2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DCD64-BBF0-41A3-AC5A-C68D6664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BADB0-C92F-463B-8727-C0BF0FCD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E584D-42DB-4A65-B611-61159587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25BD6-2FCB-40BE-B22C-A4888AF1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AB7F4-DA3D-4657-BB15-00CE97B8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A30A1-3F2F-4CF6-8464-6619FAA7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9336C-6AD0-461E-B2BC-FBF57735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90AF-FB12-445B-9A31-75F86606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A5CA9-2091-40B8-982B-2BCB8228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1A921-6CE9-4781-9E8A-EC8B648F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9EC06-F925-4933-81DA-1C18E60D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CD71C-571A-44DC-B850-CC3E6DEC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34E88-8710-4CCB-A3D2-8110DF9C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64D5D-D1A1-476C-B49B-0FE17C55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57A81-4366-4D1B-98F3-2E0E7472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7F053-2669-44BD-8F0D-886AFF1E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4F4A8-C7AB-4201-80F9-83A1F57D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EA555-F5DE-4A70-86BA-3AA4C305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23C5-EAE2-48D3-8A33-A0DBF751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CD2A9-9F05-4E03-9A60-64280B5F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DBA7A-2113-4C99-9555-AD2D4195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3D9AA-B010-423B-8297-E7FC57F4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4800D-B2AB-4422-B9D6-BC69387F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72B8C-6CD9-4CEA-893B-B72C68D4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BD486-9E96-4903-94EC-0C1BB96D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EB92E-6FC5-4F6B-B325-C175D395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59779-544D-48B6-BBED-F445620D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99303-BBF5-47CD-9E8C-917D1246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44DFF-C6B8-48BE-BBB6-059E4EC1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9B19-EDA6-4342-9CBF-5525CBB9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41FC1-D0FF-4A40-9CB2-2E1CEA11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FB200-BBB7-452D-8438-0FF68E0F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313E1-4998-4830-A833-3B4F116F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052C4-7898-432D-9C34-2C65E260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FDD69-0F9D-4E60-995C-DE498E7C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D5BEF-8F58-42C5-83F4-B3C092E2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6ABD0-061C-4AE5-B7D9-BADF823D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520FA-A70D-4AAD-8B9E-8ACA6392E924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64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5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1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141649-B917-48CF-840B-461C3CB8E30B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1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7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8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FBD0F-EB2F-46A4-A630-6FBF791D48D5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6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0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1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4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5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6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7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E294B8-AB96-4CC0-8CB4-D62125CE890A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2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3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4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5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6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7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9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3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AF3DCE-92EA-42A6-AB04-59605CB0B936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7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5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6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7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0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1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84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ADB508-9FCF-4161-A02C-9CCEB3DEA688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2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9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0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1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2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3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4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5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6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7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24B00-36F4-4B0D-99DB-7CA933A577EF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8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1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2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8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9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094048-1271-426A-9D0C-44940C063C16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606760" y="4797360"/>
            <a:ext cx="296208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236292"/>
                </a:solidFill>
                <a:latin typeface="Trebuchet MS"/>
              </a:rPr>
              <a:t>Anatomie &amp; Fysiologie</a:t>
            </a:r>
            <a:br>
              <a:rPr sz="2100"/>
            </a:br>
            <a:r>
              <a:rPr b="0" lang="nl-NL" sz="2100" spc="-1" strike="noStrike">
                <a:solidFill>
                  <a:srgbClr val="236292"/>
                </a:solidFill>
                <a:latin typeface="Trebuchet MS"/>
              </a:rPr>
              <a:t>Hormonen </a:t>
            </a:r>
            <a:endParaRPr b="0" lang="en-US" sz="21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439" name="Picture 2" descr="Anatomische, Anatomie, Het Lichaam, Gut, Gezondheid"/>
          <p:cNvPicPr/>
          <p:nvPr/>
        </p:nvPicPr>
        <p:blipFill>
          <a:blip r:embed="rId1"/>
          <a:stretch/>
        </p:blipFill>
        <p:spPr>
          <a:xfrm>
            <a:off x="1658880" y="1077840"/>
            <a:ext cx="48564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0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childklier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000" y="117000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lindervormig orgaan in de hals; onder strottenhoofd, boven borstbeen tegen de luchtpij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childklier produceert schildklierhormon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ze hormonen stimuleren de stofwisseling en de groei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3" name="Tijdelijke aanduiding voor inhoud 4" descr=""/>
          <p:cNvPicPr/>
          <p:nvPr/>
        </p:nvPicPr>
        <p:blipFill>
          <a:blip r:embed="rId1"/>
          <a:srcRect l="0" t="0" r="33855" b="0"/>
          <a:stretch/>
        </p:blipFill>
        <p:spPr>
          <a:xfrm>
            <a:off x="4473720" y="1270080"/>
            <a:ext cx="43891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Zwezerik ( thymus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640" y="1189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e zwezerik is een orgaan in de borstkas. De thymus ligt vlak achter het borstbeen en vlak bij het har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e zwezerik is vooral actief bij kinderen, tot de pubertijd. Daarna verschrompelt de zwezerik langzaam en wordt de klier vervangen door vetweefs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langrijke rol in ons afweersystee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6" name="Tijdelijke aanduiding voor inhoud 4" descr=""/>
          <p:cNvPicPr/>
          <p:nvPr/>
        </p:nvPicPr>
        <p:blipFill>
          <a:blip r:embed="rId1"/>
          <a:srcRect l="0" t="0" r="9282" b="0"/>
          <a:stretch/>
        </p:blipFill>
        <p:spPr>
          <a:xfrm>
            <a:off x="4809960" y="1160640"/>
            <a:ext cx="38530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71600" y="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Bijniere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518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Adrenali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ordt gemaakt in de bijnier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luchthormoon/Stresshormo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Komt vrij als je lichaam plotseling in actie moet kom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nder invloed van adrenaline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aat je hart sneller klopp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a je sneller ademhal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ordt glycogeen omgezet in gluc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9" name="Afbeelding 5" descr=""/>
          <p:cNvPicPr/>
          <p:nvPr/>
        </p:nvPicPr>
        <p:blipFill>
          <a:blip r:embed="rId1"/>
          <a:stretch/>
        </p:blipFill>
        <p:spPr>
          <a:xfrm>
            <a:off x="5470560" y="1467000"/>
            <a:ext cx="33782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42520" y="19800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landjes van Langerhan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95280" y="1341360"/>
            <a:ext cx="4897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iggen in de alvleeskli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roducer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insuline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glucagon;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nsuline zet glucose om in glycoge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lucagon zet glycogeen om in gluc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udt hiermee de bloedsuikerspiegel in bala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2" name="Afbeelding 1" descr=""/>
          <p:cNvPicPr/>
          <p:nvPr/>
        </p:nvPicPr>
        <p:blipFill>
          <a:blip r:embed="rId1"/>
          <a:stretch/>
        </p:blipFill>
        <p:spPr>
          <a:xfrm>
            <a:off x="5337000" y="1341360"/>
            <a:ext cx="36673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2520" y="45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erstokken (vrouw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36680" y="1341000"/>
            <a:ext cx="453384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orden aangestuurd door de hypofy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aken vrouwelijke geslachtshormon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oestroge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progester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Oestrogeen: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rouwelijke geslachtskenmerk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Progesteron: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vruchtbaarheidscyclu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5" name="Afbeelding 4" descr=""/>
          <p:cNvPicPr/>
          <p:nvPr/>
        </p:nvPicPr>
        <p:blipFill>
          <a:blip r:embed="rId1"/>
          <a:srcRect l="26060" t="24808" r="12202" b="0"/>
          <a:stretch/>
        </p:blipFill>
        <p:spPr>
          <a:xfrm>
            <a:off x="4998960" y="1844640"/>
            <a:ext cx="38862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Teelbal/testikel (man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518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slachtsklier van de ma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wee teelballen in het scrotu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ier wordt het hormoo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testostero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gemaakt en de zaadcel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Testostero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: mannelijke geslachtskenmerk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8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3821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174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n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93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442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138240" y="60480"/>
            <a:ext cx="842472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et hormoonstelsel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78920" y="1488960"/>
            <a:ext cx="63486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staat uit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hormoonklier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: </a:t>
            </a:r>
            <a:br>
              <a:rPr sz="2400"/>
            </a:b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 Liggen verspreid door het lichaam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erkt </a:t>
            </a:r>
            <a:r>
              <a:rPr b="0" i="1" lang="nl-NL" sz="2400" spc="-1" strike="noStrike">
                <a:solidFill>
                  <a:srgbClr val="404040"/>
                </a:solidFill>
                <a:latin typeface="Trebuchet MS"/>
              </a:rPr>
              <a:t>langzamer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dan het zenuwstelse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gelt de werking van de organen in je </a:t>
            </a:r>
            <a:br>
              <a:rPr sz="2400"/>
            </a:b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ichaam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Afbeelding 1" descr=""/>
          <p:cNvPicPr/>
          <p:nvPr/>
        </p:nvPicPr>
        <p:blipFill>
          <a:blip r:embed="rId1"/>
          <a:srcRect l="7477" t="21651" r="8263" b="2749"/>
          <a:stretch/>
        </p:blipFill>
        <p:spPr>
          <a:xfrm>
            <a:off x="539640" y="1168560"/>
            <a:ext cx="7704360" cy="5184720"/>
          </a:xfrm>
          <a:prstGeom prst="rect">
            <a:avLst/>
          </a:prstGeom>
          <a:ln w="0">
            <a:noFill/>
          </a:ln>
        </p:spPr>
      </p:pic>
      <p:sp>
        <p:nvSpPr>
          <p:cNvPr id="446" name="Titel 1"/>
          <p:cNvSpPr/>
          <p:nvPr/>
        </p:nvSpPr>
        <p:spPr>
          <a:xfrm>
            <a:off x="250920" y="25560"/>
            <a:ext cx="482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b0f0"/>
                </a:solidFill>
                <a:latin typeface="Trebuchet MS"/>
              </a:rPr>
              <a:t>HORMOONKLIER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33300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ormone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09120" y="1654200"/>
            <a:ext cx="63486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ijn regelstoffen. 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an belang bij het in stand houden van een constant 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inwendig milieu.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Regelen de groei en ontwikkeling van het lichaam.</a:t>
            </a:r>
            <a:br>
              <a:rPr sz="1800"/>
            </a:b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-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gelen de stofwisseling.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ormoon wordt gemaakt in een hormoonkli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rdt rechtstreeks afgegeven aan en vervoerd door het blo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paalde organen reageren op het hormoon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e worden afgebroken in de lever en uitgescheiden in de n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thalamu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450" name="Picture 8" descr="hypofyse3"/>
          <p:cNvPicPr/>
          <p:nvPr/>
        </p:nvPicPr>
        <p:blipFill>
          <a:blip r:embed="rId1"/>
          <a:stretch/>
        </p:blipFill>
        <p:spPr>
          <a:xfrm>
            <a:off x="826920" y="1623960"/>
            <a:ext cx="4753080" cy="4111560"/>
          </a:xfrm>
          <a:prstGeom prst="rect">
            <a:avLst/>
          </a:prstGeom>
          <a:ln w="0">
            <a:noFill/>
          </a:ln>
        </p:spPr>
      </p:pic>
      <p:sp>
        <p:nvSpPr>
          <p:cNvPr id="451" name="Tekstvak 1"/>
          <p:cNvSpPr/>
          <p:nvPr/>
        </p:nvSpPr>
        <p:spPr>
          <a:xfrm>
            <a:off x="4087800" y="3125880"/>
            <a:ext cx="1440000" cy="7038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Hypofy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52" name="Picture 17" descr="zomer2008_KVO1207erwt"/>
          <p:cNvPicPr/>
          <p:nvPr/>
        </p:nvPicPr>
        <p:blipFill>
          <a:blip r:embed="rId2"/>
          <a:stretch/>
        </p:blipFill>
        <p:spPr>
          <a:xfrm>
            <a:off x="6084720" y="2922480"/>
            <a:ext cx="1368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thalamu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50560" y="1133640"/>
            <a:ext cx="889308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na elke regio van de hersenen staat in contact met de hypothalamus. Hierdoor is de hypothalamus betrokken bij alle aspecten van de emoties, de voortplanting, het autonoom zenuwstelsel en de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hormoonhuishouding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. De hypothalamus reguleert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loeddru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artsla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ng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ors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laap-waakritm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eksuele opwind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ichaamstemperatuur (veroorzaakt bijvoorbeeld bibberen bij kou)</a:t>
            </a:r>
            <a:br>
              <a:rPr sz="1400"/>
            </a:b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5" name="Afbeelding 4" descr=""/>
          <p:cNvPicPr/>
          <p:nvPr/>
        </p:nvPicPr>
        <p:blipFill>
          <a:blip r:embed="rId1"/>
          <a:srcRect l="14431" t="0" r="6414" b="0"/>
          <a:stretch/>
        </p:blipFill>
        <p:spPr>
          <a:xfrm>
            <a:off x="4067280" y="2158920"/>
            <a:ext cx="401940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thalamu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47280" y="1989000"/>
            <a:ext cx="784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ok speelt de hypothalamus een rol bij de drie kerngedragingen te weten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echt- of vluchtreact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oedingsgedra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oortplantingsgedra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fy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5694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langrijkste hormoonklie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s een aanhangsel van de hersen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aakt verschillende hormon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gelen van onder andere de groei (groeihormoo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ïnvloeding van andere hormoonklier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rouw: eicel gaat rijpen    -   Man: zaadcellen worden gevorm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slachtsorganen gaan geslachtshormonen mak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geling werking van de schildklier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828800" indent="0"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1268000" y="90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9:33:43Z</dcterms:created>
  <dc:creator>Oscar Eggen</dc:creator>
  <dc:description/>
  <dc:language>en-US</dc:language>
  <cp:lastModifiedBy>Kievit, Eline</cp:lastModifiedBy>
  <cp:lastPrinted>2012-10-05T09:42:24Z</cp:lastPrinted>
  <dcterms:modified xsi:type="dcterms:W3CDTF">2021-01-27T11:33:18Z</dcterms:modified>
  <cp:revision>207</cp:revision>
  <dc:subject/>
  <dc:title>PowerPoint-presentatie</dc:title>
</cp:coreProperties>
</file>