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5"/>
          </p:nvPr>
        </p:nvSpPr>
        <p:spPr>
          <a:xfrm>
            <a:off x="383328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26"/>
          </p:nvPr>
        </p:nvSpPr>
        <p:spPr>
          <a:xfrm>
            <a:off x="-36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 type="sldNum" idx="27"/>
          </p:nvPr>
        </p:nvSpPr>
        <p:spPr>
          <a:xfrm>
            <a:off x="383328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2455D-6AA7-40E5-B516-44B943F22E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80B1F-B03E-48F8-89B0-3175D0347F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81A83-EC40-49E3-B629-E9E04A22BF7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1DEA2-876E-4AD3-8FD3-978A532AADE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EA7DA-BB5D-4444-85BA-83DA7181F4C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Regeling hoeveelheid glucose in het blo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eveelheid glucose in het bloed moet zoveel mogelijk constant blijven.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us niet afhankelijk van of je net gegeten heb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regeld via hormonen uit de </a:t>
            </a: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eilandjes van Langerhans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in de alvleeskli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Insulin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maakt als er na het eten veel glucose in je bloed kom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</a:t>
            </a: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verlaagt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de hoeveelheid glucose doordat onder invloed van insuline: de lever (en spieren) zetten glucose om in glycogeen (soort zetmeel). </a:t>
            </a:r>
            <a:r>
              <a:rPr b="0" lang="nl-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Glycogee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wordt opgeslagen in de lever (en de spier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Glucago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maakt als de hoeveelheid glucose in je bloed te laag wordt.</a:t>
            </a:r>
            <a:br>
              <a:rPr sz="1200"/>
            </a:b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Bijvoorbeeld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oordat je veel glucose verbrand heb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Verhoogt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de hoeveelheid glucose doordat onder invloed van glucagon: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lever zet </a:t>
            </a:r>
            <a:r>
              <a:rPr b="0" lang="nl-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glycogee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weer om in glucose.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ze glucose wordt afgegeven aan het blo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Suikerziekte (diabetes) :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eilandjes van Langerhans werken niet goed.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* Er wordt geen of te weinig insuline gemaakt.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* Patiënten moeten extra insuline inspui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44904-6948-48EF-B22C-F0E0C34AC9A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6E509-6970-48C0-B9F0-8B460583DF6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81317-249F-472B-B51C-B63EB45E799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AD66F-5E31-4189-866E-927F8C8FC49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B0D59-32EE-4113-A2C4-2C0AF46882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99E3E-A0CC-424C-BDC8-A624A09415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940E8-8EA2-4584-9256-2F966C7DBF0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A2651-DB95-4F82-9D01-07C296F0AC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CFCAA-DDE0-4AFC-920A-DA4B505B12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424C3E-E252-47FD-B6B1-4B2E700DAF4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4419C9-7994-4CF9-B106-50D119E46CA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80DCD-AF73-4191-9CAD-EBD1C857E49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32F-EA8E-4359-B097-2BDE47D3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320-8FEB-4527-8F19-8DA8C41A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3577-96A6-4BD2-8970-AF7B35E4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118-54E5-4DE9-9EA7-00FBD17C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BF6B-1E9E-4958-B021-A4069552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FA5F-4A1A-4227-9AAD-AC51E240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3ED4-FE10-44D8-8761-A7FA8D46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424F-CF96-495A-B299-A0EA727C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EAEB-8B57-4A5C-91B3-1DF5232D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DAD4-3445-49B8-9422-8CE1BBCA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F714-7861-4B27-A738-C5FD0A95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81B-1733-40E5-A9DE-D8086040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F386-AE47-4F39-89D6-EE882F95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B7AF-00EA-45E2-9C84-3740D3EE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9918-2168-4954-A61C-D6E6B9E0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9B49-DDCB-4350-9E11-6B168A7E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BED2-94AF-4D98-BD33-5907BAB4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B82BD-9364-4853-BF8C-EE081840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4810E-B463-4A16-A594-F4672BBF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EF135-1A16-4970-8E07-BD9DE64C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83C8E-48B0-480B-85C6-491D4495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2B51A-DF8F-4073-BFE2-9E0D5CAF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725E-3FCE-4956-BD7F-B1028D6D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31F62-CAD9-47CD-B317-0BDE0965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94A5-F809-4432-9895-230F6EDB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8A948-EFC6-4F6B-AF93-D84021E5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320AC-26F2-4863-A784-E0C37C3B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E14E2-6129-4734-B094-5058E1D8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48718-5849-428F-86B1-E3C6559C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92E9A-0DE7-4967-B0DF-B174B93C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50C52-94D1-4D24-89C4-C65A2D4A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4EF93-BE5D-47C7-839C-56E0D995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ACF7C-DA35-440A-B03C-E9DCEE71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400-3F5C-4817-840B-DB295816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CD8EA-E0CC-434C-A8B9-D68BBE22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D6D46-4F19-4A73-B2EE-BADEAFFA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1CB3B-C6E9-4371-B30F-4B80815F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4DD7F-F9FD-4EAE-9D62-B27F0DBF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AF1E4-8C9E-4F9A-B4BD-ABD6D2D5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4E9B2-8C22-446C-B840-FABBB008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10CC2-F12D-4DAD-BCC4-04440DCA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84F62-F689-4AB3-8E52-18262278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211F1-6269-4625-8DF4-71C9DA0F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3D8E3-D12E-493C-8249-F0E9F694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A39-BCC5-4AFD-AF0B-79A1AB0F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A5111-A565-412C-B0D9-AF315976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79685-39E9-4ACA-BD14-0EFD3CA7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39A82-35D2-4F98-A273-02E143A1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2BF03-0119-4CBD-AF2C-4C6FF6E8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BC4D9-760E-4F4D-BD91-36C95583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9FC70-69CC-4C83-B691-526F0F24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75971-B18D-4EB4-8031-4011222F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0A900-3DC1-448F-8B27-81D311CA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F222A-799C-4D48-BEF2-E1D8FB26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D0C4F-DBAE-42AE-9B44-B1659057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0B71-4BEE-4994-9564-BD325A0B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421A5-CB8B-498C-9A55-C195FCD1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77753-338B-4BA5-991C-DF529100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8EDBB-9F1C-413E-82F2-CB4E6C99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E4230-56F5-4FA9-981E-E38D9F74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A1F82-194D-44E7-A329-8B764834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BCB78-6219-4165-A239-3CA87869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91A32-1CF3-4CA2-BA99-E42499CB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B77C0-7B87-46D0-A0B3-94E58170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2C7DD-C494-453C-95BA-F3F39DCB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10800-BC25-40D3-9096-0B8500F3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85C0-248B-446C-8A94-78257196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A483D-1C1D-4394-9622-7547DC66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B56F9-516B-442B-AC42-5A4A09BC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37587-FCE7-43E0-9BC3-9EC756A9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CF70C-47F0-4F20-8085-2DBEBA76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24843-CCDB-4D96-BAE1-8516E258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DF5AF-0898-40E5-8FA6-1434C489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AEB70-EA29-4E58-B517-F7B1F0BF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2D5C3-7BE8-4929-84BF-E8F3A153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5C8FC-8620-4C0A-811E-CB4C3D4A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3B3B7-3127-42D1-8DCD-F04FCA19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542E-A8FD-462F-97F8-C1AB4206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4F0EB-C5E0-4A65-9886-1EC59A99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908AE-A65E-4379-ACCD-AC51F753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D609E-8668-4D38-A12F-4102CC1B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3CAD9-35D7-45A3-89FE-E1128383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684BE-C132-4222-A67B-3E567EFC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2C2FA-1BF1-4237-AD98-04D7CB1E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BE35D-3E86-421B-BBD5-DF9FEE50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4A69F-8619-4665-9FE3-D75CE418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20F61-C4B0-44A2-AE44-F43F49B1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E2D68-EBF9-4F37-A918-D115E957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F19-E30D-4D8B-8D2D-6CCD2BF1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0242C-2604-48A3-ABDC-060F5DC2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E04B0-4344-4E21-83A2-958530DD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DEB7F-1E97-45AE-977F-3CFEA74F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7D59D-8CF5-4F20-B8C9-126E569C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971F3-4250-42AC-BA54-0478B732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8D7A7-290F-441D-A37A-A4719980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23DE5-7D88-4064-B5A7-19BAE1FD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FCFD3-24CF-4C87-B04B-6FCEBF2FBA57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64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5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BEA46-F6AF-4CB7-9849-E73DEB59BEA8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7AA20-37EC-47BC-9C96-32C092CCACFA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6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6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7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879A1-09A3-44C1-A02F-05D0FFFFB48B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2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4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3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ED052-EF77-44B0-BD4E-3E052DFFECD6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7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5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6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84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A866D1-8435-434D-B593-37BA0C10A848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2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9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6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7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4167F-7E51-4603-9876-0A6C61FA94CA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8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1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8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9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9E1B1-8F12-443A-AB8A-2EEA77D5855B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606760" y="4797360"/>
            <a:ext cx="296208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236292"/>
                </a:solidFill>
                <a:latin typeface="Trebuchet MS"/>
              </a:rPr>
              <a:t>Anatomie &amp; Fysiologie</a:t>
            </a:r>
            <a:br>
              <a:rPr sz="2100"/>
            </a:br>
            <a:r>
              <a:rPr b="0" lang="nl-NL" sz="2100" spc="-1" strike="noStrike">
                <a:solidFill>
                  <a:srgbClr val="236292"/>
                </a:solidFill>
                <a:latin typeface="Trebuchet MS"/>
              </a:rPr>
              <a:t>Hormonen </a:t>
            </a:r>
            <a:endParaRPr b="0" lang="en-US" sz="21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39" name="Picture 2" descr="Anatomische, Anatomie, Het Lichaam, Gut, Gezondheid"/>
          <p:cNvPicPr/>
          <p:nvPr/>
        </p:nvPicPr>
        <p:blipFill>
          <a:blip r:embed="rId1"/>
          <a:stretch/>
        </p:blipFill>
        <p:spPr>
          <a:xfrm>
            <a:off x="1658880" y="1077840"/>
            <a:ext cx="48564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0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childklier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000" y="117000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indervormig orgaan in de hals; onder strottenhoofd, boven borstbeen tegen de luchtpij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ildklier produceert schildklierhormo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ze hormonen stimuleren de stofwisseling en de groei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3" name="Tijdelijke aanduiding voor inhoud 4" descr=""/>
          <p:cNvPicPr/>
          <p:nvPr/>
        </p:nvPicPr>
        <p:blipFill>
          <a:blip r:embed="rId1"/>
          <a:srcRect l="0" t="0" r="33855" b="0"/>
          <a:stretch/>
        </p:blipFill>
        <p:spPr>
          <a:xfrm>
            <a:off x="4473720" y="1270080"/>
            <a:ext cx="43891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Zwezerik ( thymus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640" y="1189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e zwezerik is een orgaan in de borstkas. De thymus ligt vlak achter het borstbeen en vlak bij het har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e zwezerik is vooral actief bij kinderen, tot de pubertijd. Daarna verschrompelt de zwezerik langzaam en wordt de klier vervangen door vetweefs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langrijke rol in ons afweersystee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6" name="Tijdelijke aanduiding voor inhoud 4" descr=""/>
          <p:cNvPicPr/>
          <p:nvPr/>
        </p:nvPicPr>
        <p:blipFill>
          <a:blip r:embed="rId1"/>
          <a:srcRect l="0" t="0" r="9282" b="0"/>
          <a:stretch/>
        </p:blipFill>
        <p:spPr>
          <a:xfrm>
            <a:off x="4809960" y="1160640"/>
            <a:ext cx="38530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600" y="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Bijnier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518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Adrenali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t gemaakt in de bijnier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uchthormoon/Stresshormo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Komt vrij als je lichaam plotseling in actie moet kom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der invloed van adrenaline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aat je hart sneller klopp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a je sneller ademhal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t glycogeen omgezet in gluc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9" name="Afbeelding 5" descr=""/>
          <p:cNvPicPr/>
          <p:nvPr/>
        </p:nvPicPr>
        <p:blipFill>
          <a:blip r:embed="rId1"/>
          <a:stretch/>
        </p:blipFill>
        <p:spPr>
          <a:xfrm>
            <a:off x="5470560" y="1467000"/>
            <a:ext cx="3378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42520" y="198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landjes van Langerhan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5280" y="1341360"/>
            <a:ext cx="4897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iggen in de alvleeskli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oducer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insuline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glucagon;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suline zet glucose om in glycoge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lucagon zet glycogeen om in gluc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udt hiermee de bloedsuikerspiegel in bala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2" name="Afbeelding 1" descr=""/>
          <p:cNvPicPr/>
          <p:nvPr/>
        </p:nvPicPr>
        <p:blipFill>
          <a:blip r:embed="rId1"/>
          <a:stretch/>
        </p:blipFill>
        <p:spPr>
          <a:xfrm>
            <a:off x="5337000" y="1341360"/>
            <a:ext cx="36673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2520" y="4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erstokken (vrouw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36680" y="1341000"/>
            <a:ext cx="453384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en aangestuurd door de hypofy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aken vrouwelijke geslachtshormon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oestroge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progester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Oestrogeen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rouwelijke geslachtskenmer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Progesteron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ruchtbaarheidscyclu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5" name="Afbeelding 4" descr=""/>
          <p:cNvPicPr/>
          <p:nvPr/>
        </p:nvPicPr>
        <p:blipFill>
          <a:blip r:embed="rId1"/>
          <a:srcRect l="26060" t="24808" r="12202" b="0"/>
          <a:stretch/>
        </p:blipFill>
        <p:spPr>
          <a:xfrm>
            <a:off x="4998960" y="1844640"/>
            <a:ext cx="38862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Teelbal/testikel (man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518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slachtsklier van de ma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wee teelballen in het scrotu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ier wordt het hormoo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testostero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gemaakt en de zaadcel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Testostero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mannelijke geslachtskenmer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3821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174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93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442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138240" y="60480"/>
            <a:ext cx="842472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t hormoonstelsel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78920" y="1488960"/>
            <a:ext cx="6348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staat uit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hormoonklier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</a:t>
            </a:r>
            <a:br>
              <a:rPr sz="2400"/>
            </a:b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Liggen verspreid door het lichaa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erkt </a:t>
            </a:r>
            <a:r>
              <a:rPr b="0" i="1" lang="nl-NL" sz="2400" spc="-1" strike="noStrike">
                <a:solidFill>
                  <a:srgbClr val="404040"/>
                </a:solidFill>
                <a:latin typeface="Trebuchet MS"/>
              </a:rPr>
              <a:t>langzamer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dan het zenuwstelse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t de werking van de organen in je </a:t>
            </a:r>
            <a:br>
              <a:rPr sz="2400"/>
            </a:b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ichaa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Afbeelding 1" descr=""/>
          <p:cNvPicPr/>
          <p:nvPr/>
        </p:nvPicPr>
        <p:blipFill>
          <a:blip r:embed="rId1"/>
          <a:srcRect l="7477" t="21651" r="8263" b="2749"/>
          <a:stretch/>
        </p:blipFill>
        <p:spPr>
          <a:xfrm>
            <a:off x="539640" y="1168560"/>
            <a:ext cx="7704360" cy="5184720"/>
          </a:xfrm>
          <a:prstGeom prst="rect">
            <a:avLst/>
          </a:prstGeom>
          <a:ln w="0">
            <a:noFill/>
          </a:ln>
        </p:spPr>
      </p:pic>
      <p:sp>
        <p:nvSpPr>
          <p:cNvPr id="446" name="Titel 1"/>
          <p:cNvSpPr/>
          <p:nvPr/>
        </p:nvSpPr>
        <p:spPr>
          <a:xfrm>
            <a:off x="250920" y="25560"/>
            <a:ext cx="482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b0f0"/>
                </a:solidFill>
                <a:latin typeface="Trebuchet MS"/>
              </a:rPr>
              <a:t>HORMOONKLIER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3330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ormon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09120" y="1654200"/>
            <a:ext cx="63486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ijn regelstoffen.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an belang bij het in stand houden van een constant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inwendig milieu.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Regelen de groei en ontwikkeling van het lichaam.</a:t>
            </a:r>
            <a:br>
              <a:rPr sz="1800"/>
            </a:b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-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gelen de stofwisseling.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rmoon wordt gemaakt in een hormoonkli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rechtstreeks afgegeven aan en vervoerd door het blo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paalde organen reageren op het hormoon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 worden afgebroken in de lever en uitgescheiden in de n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50" name="Picture 8" descr="hypofyse3"/>
          <p:cNvPicPr/>
          <p:nvPr/>
        </p:nvPicPr>
        <p:blipFill>
          <a:blip r:embed="rId1"/>
          <a:stretch/>
        </p:blipFill>
        <p:spPr>
          <a:xfrm>
            <a:off x="826920" y="1623960"/>
            <a:ext cx="4753080" cy="4111560"/>
          </a:xfrm>
          <a:prstGeom prst="rect">
            <a:avLst/>
          </a:prstGeom>
          <a:ln w="0">
            <a:noFill/>
          </a:ln>
        </p:spPr>
      </p:pic>
      <p:sp>
        <p:nvSpPr>
          <p:cNvPr id="451" name="Tekstvak 1"/>
          <p:cNvSpPr/>
          <p:nvPr/>
        </p:nvSpPr>
        <p:spPr>
          <a:xfrm>
            <a:off x="4087800" y="3125880"/>
            <a:ext cx="1440000" cy="7038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Hypofy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2" name="Picture 17" descr="zomer2008_KVO1207erwt"/>
          <p:cNvPicPr/>
          <p:nvPr/>
        </p:nvPicPr>
        <p:blipFill>
          <a:blip r:embed="rId2"/>
          <a:stretch/>
        </p:blipFill>
        <p:spPr>
          <a:xfrm>
            <a:off x="6084720" y="2922480"/>
            <a:ext cx="1368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50560" y="1133640"/>
            <a:ext cx="889308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na elke regio van de hersenen staat in contact met de hypothalamus. Hierdoor is de hypothalamus betrokken bij alle aspecten van de emoties, de voortplanting, het autonoom zenuwstelsel en de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hormoonhuishouding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. De hypothalamus reguleert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loeddru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rtsla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ng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ors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aap-waakritm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eksuele opwin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ichaamstemperatuur (veroorzaakt bijvoorbeeld bibberen bij kou)</a:t>
            </a:r>
            <a:br>
              <a:rPr sz="1400"/>
            </a:b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5" name="Afbeelding 4" descr=""/>
          <p:cNvPicPr/>
          <p:nvPr/>
        </p:nvPicPr>
        <p:blipFill>
          <a:blip r:embed="rId1"/>
          <a:srcRect l="14431" t="0" r="6414" b="0"/>
          <a:stretch/>
        </p:blipFill>
        <p:spPr>
          <a:xfrm>
            <a:off x="4067280" y="2158920"/>
            <a:ext cx="40194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47280" y="198900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ok speelt de hypothalamus een rol bij de drie kerngedragingen te wete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cht- of vluchtreac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edingsgedra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ortplantingsgedra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fy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569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langrijkste hormoonkli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s een aanhangsel van de hersen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aakt verschillende hormon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en van onder andere de groei (groeihormo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ïnvloeding van andere hormoonklier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rouw: eicel gaat rijpen    -   Man: zaadcellen worden gevorm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slachtsorganen gaan geslachtshormonen mak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ing werking van de schildklier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828800" indent="0"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1268000" y="90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9:33:43Z</dcterms:created>
  <dc:creator>Oscar Eggen</dc:creator>
  <dc:description/>
  <dc:language>en-US</dc:language>
  <cp:lastModifiedBy>Kievit, Eline</cp:lastModifiedBy>
  <cp:lastPrinted>2012-10-05T09:42:24Z</cp:lastPrinted>
  <dcterms:modified xsi:type="dcterms:W3CDTF">2021-01-27T11:33:18Z</dcterms:modified>
  <cp:revision>207</cp:revision>
  <dc:subject/>
  <dc:title>PowerPoint-presentatie</dc:title>
</cp:coreProperties>
</file>