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5"/>
          </p:nvPr>
        </p:nvSpPr>
        <p:spPr>
          <a:xfrm>
            <a:off x="383328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26"/>
          </p:nvPr>
        </p:nvSpPr>
        <p:spPr>
          <a:xfrm>
            <a:off x="-36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 type="sldNum" idx="27"/>
          </p:nvPr>
        </p:nvSpPr>
        <p:spPr>
          <a:xfrm>
            <a:off x="383328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E54A6-D206-4A48-BFCB-12266E83AD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16234-5EF1-427A-BD3D-9A718ABF87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F6613-DAEF-4D9F-84E1-9DFE3F8EE1F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65CEA-6C89-444E-9CAC-789AB61923A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6B683-F2D9-4FCD-8F3F-34A3FF65AB1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Regeling hoeveelheid glucose in het blo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eveelheid glucose in het bloed moet zoveel mogelijk constant blijven.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us niet afhankelijk van of je net gegeten heb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regeld via hormonen uit de </a:t>
            </a: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eilandjes van Langerhans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in de alvleeskli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Insulin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maakt als er na het eten veel glucose in je bloed kom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</a:t>
            </a: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verlaagt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de hoeveelheid glucose doordat onder invloed van insuline: de lever (en spieren) zetten glucose om in glycogeen (soort zetmeel).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Glycogee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wordt opgeslagen in de lever (en de spier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Glucago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maakt als de hoeveelheid glucose in je bloed te laag wordt.</a:t>
            </a:r>
            <a:br>
              <a:rPr sz="1200"/>
            </a:b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Bijvoorbeeld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oordat je veel glucose verbrand heb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Verhoogt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de hoeveelheid glucose doordat onder invloed van glucagon: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lever zet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glycogee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weer om in glucose.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ze glucose wordt afgegeven aan het blo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Suikerziekte (diabetes) :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eilandjes van Langerhans werken niet goed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* Er wordt geen of te weinig insuline gemaakt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* Patiënten moeten extra insuline inspui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A4B10-BB6F-43F7-B707-47A7232BB9E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8F557-4F83-440D-9E6A-EE5513014FC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0809E-48BB-401E-B01B-B6D4AD438F2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401A4-8848-4F8E-983F-463C14A3E48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7F17C-A34F-4919-877E-5AF62EDB85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6A11F-614D-4C2A-ADD7-DDB978E04A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48886-891B-4869-9AD4-77041887AE5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49D13-1B95-468A-A217-6CE778E24D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CD649-A817-405C-BB7C-711B6E3405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1BE2B-1B25-4C0B-916A-42F1E7C0280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E8B9D-1504-4926-85C5-07317E0EFA6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F5136-3710-49C4-86B7-57D23B63329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8BA-9A89-4A23-BD41-A38DE3E9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0F6-D922-42D6-80A9-3A4CC17F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9AD-41C5-437F-9C4C-D5AD4D56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AE1-81EF-4BFD-AA2B-CEE65FA1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3462-A63B-4C62-961C-141041DA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9897-9D1F-412E-B97B-E90A9624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A262-199B-437A-8269-87A8182C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5AA1-2269-441F-AA6D-8DEFB717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88A3-2BCF-4F6F-B213-93AFE326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63FA-439B-4614-969F-90132C12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2616-D231-44B6-9963-AA219F3B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CF2-DE0F-4CB3-9DE2-08827565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82F6-1AF1-4101-BB59-E157C470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7B3C-0FE3-4A5B-BB0C-711C97D0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DEA5-EF5E-4BA9-BC91-566C7B4A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6696-5024-4BCF-A6A0-0341555F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7252-B57D-48A7-8EF9-4882D4C7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B8509-8D76-4AA4-9732-C6CD5D7C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A1A19-F4F4-4DEA-B604-B7973CFB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5AE2E-30B0-4A9A-8FBC-56B81EE7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6E653-7C75-4C56-932A-683C5332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CEAD5-A099-44E3-A171-C39C0C16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6871-F51B-4FF8-A44C-E263F76C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5634C-81D7-4DDD-9AAE-5A2FCCB1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D6CB8-E5E6-4E8A-AA21-041678A8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66B35-2FF9-4AC3-80A5-B7534BCA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90DB-F8F5-4964-AEFD-8AB157AD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4A3E4-6B96-4D13-8966-73DC6BD4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0207-F8C5-4B08-9D4B-E2B543A1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F815E-3570-4451-86D8-D7B3BBD6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33B7A-CC13-4422-8029-DF0FBA0A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B84D8-57DF-443B-98BD-443E89C3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85878-319A-4B59-B9FC-493495F8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2B2-6605-4C56-BC68-FF26940C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25CB4-016D-46CF-B978-B727A5DA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DD84D-512B-407F-8EB4-82DF3A8C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9E8CA-F527-43F8-AD2D-DF3FD6D0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29CE4-AE1F-4FA1-A4CB-2C1651A9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1D7CF-10BA-4022-A4F3-7F8498B0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B2671-C1DA-4A9A-852F-2A1DFF7E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D9B9E-A644-4792-8884-8B0AE052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4543A-7EC3-4872-995B-889B8C42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455CE-E37F-4A11-B55A-050EDB36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7E025-EAC0-4758-92D9-D0E4DC39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6798-5A8D-4987-B49F-CFB26A0E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B4364-5D8E-4987-8779-45C56AB8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CC4B7-CFF9-4452-BE08-490FF9E1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68215-89BD-43D9-8D55-D65439BF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40342-5B28-4F1D-AAFF-C275C38A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98611-CD51-47CE-BE7C-BD532CED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20458-CA7C-4EE8-ADE3-2B962A3B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0F07A-B476-4687-B5B7-6D0B3173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6347C-4CC1-4945-B482-4D27F009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D2E56-9460-4951-9D77-A4BEE002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57367-906A-4B59-B580-9FC3F2D2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93D4-68D4-4D25-B8A8-4333AE31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382D9-5D63-4BA8-B932-CBD58DEF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CBC03-4983-44D7-B7BF-4D7978E5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D633F-DB51-486F-8D03-A7FD6A56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5C0A5-B57E-450B-A36D-3CDC9B02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E980E-2F39-4789-B94E-BB811C21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760DF-E6CB-4583-B771-322DA93E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13796-EE58-4BD0-8EA5-5CC6FCB8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F287C-CBE5-4EB5-8318-63690395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92C87-070F-4429-B863-07F5A5C8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22B07-CBA2-43CE-9164-635DC16D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E0F-E35B-4B01-97AA-A82C158B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4849A-3195-4EED-BB5F-FAF9D2BD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53655-CF87-4C3E-BB1C-C285180C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05D49-0EC4-4E12-AB4D-24F665DC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C098D-49AC-47AF-8C57-C71CCB08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9B85F-A545-4BC7-8251-4F481968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298FC-543A-4EAF-9CAC-A9A16236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2EE5D-A464-4DC8-95AC-C80F91A6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43FED-0D6B-4764-B880-B286E376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33F4C-2DD0-482E-A8B2-E5434A11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1D261-6D42-4CDD-90F0-0C0C3516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E0F-8FA7-42F2-8DAE-4E582E84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C93AE-5367-4AB1-AF79-95AEF045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A4A67-F241-4509-A5FF-A3E9443A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312EB-9B03-46E3-AD8B-DB8CA6D3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02C03-D74D-49DF-9F52-4F29D31C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920D4-DA92-4D86-A775-600CD24E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B80F6-D008-4473-BB71-A5E3DF6A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E0A3D-7B3E-4C61-ADE4-566D29AA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54854-AA7C-4F38-A7EA-00690042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AF378-6FF3-42A3-805E-C3CF8FD2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8ECA7-2B67-4FDD-A2B1-938F05D4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DBA-1F3D-4F2D-9060-D71B5E27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369ED-7069-4295-BCD8-AB29AAF4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61F41-418F-410E-BA4C-EAAD1D36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41339-DA0D-49E0-AF67-09AD91BD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393F7-0FAA-4CAB-9C73-9D3A7531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2C3D3-124C-4899-A4D3-AC76830C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365B6-3B15-4C79-8B75-A2C3117E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1EF78-D465-45C7-AE1D-D6950447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4385E-A0C8-4F68-8CB1-D3AFB39DF260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64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5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0C496-328F-451E-9696-AC20CC962A4B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DD5A1-005C-450B-A832-3FBC19A73F90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6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F6C32F-35FC-4676-8222-5802743BCC90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2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4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0F2BE-F135-4125-B6E7-77CC30960741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7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5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6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84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947F6-B040-45C7-A1B5-FEC0E4A8C787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2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9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6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7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CF253-31C9-4487-A6DC-281CF5AED079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8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1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8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9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5502F-0C5A-4D70-AD46-096354B94359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606760" y="4797360"/>
            <a:ext cx="296208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236292"/>
                </a:solidFill>
                <a:latin typeface="Trebuchet MS"/>
              </a:rPr>
              <a:t>Anatomie &amp; Fysiologie</a:t>
            </a:r>
            <a:br>
              <a:rPr sz="2100"/>
            </a:br>
            <a:r>
              <a:rPr b="0" lang="nl-NL" sz="2100" spc="-1" strike="noStrike">
                <a:solidFill>
                  <a:srgbClr val="236292"/>
                </a:solidFill>
                <a:latin typeface="Trebuchet MS"/>
              </a:rPr>
              <a:t>Hormonen </a:t>
            </a:r>
            <a:endParaRPr b="0" lang="en-US" sz="21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39" name="Picture 2" descr="Anatomische, Anatomie, Het Lichaam, Gut, Gezondheid"/>
          <p:cNvPicPr/>
          <p:nvPr/>
        </p:nvPicPr>
        <p:blipFill>
          <a:blip r:embed="rId1"/>
          <a:stretch/>
        </p:blipFill>
        <p:spPr>
          <a:xfrm>
            <a:off x="1658880" y="1077840"/>
            <a:ext cx="48564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0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childklier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000" y="1170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indervormig orgaan in de hals; onder strottenhoofd, boven borstbeen tegen de luchtpij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ildklier produceert schildklierhormo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ze hormonen stimuleren de stofwisseling en de groe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3" name="Tijdelijke aanduiding voor inhoud 4" descr=""/>
          <p:cNvPicPr/>
          <p:nvPr/>
        </p:nvPicPr>
        <p:blipFill>
          <a:blip r:embed="rId1"/>
          <a:srcRect l="0" t="0" r="33855" b="0"/>
          <a:stretch/>
        </p:blipFill>
        <p:spPr>
          <a:xfrm>
            <a:off x="4473720" y="1270080"/>
            <a:ext cx="43891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Zwezerik ( thymus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640" y="1189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e zwezerik is een orgaan in de borstkas. De thymus ligt vlak achter het borstbeen en vlak bij het har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e zwezerik is vooral actief bij kinderen, tot de pubertijd. Daarna verschrompelt de zwezerik langzaam en wordt de klier vervangen door vetweefs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langrijke rol in ons afweersystee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6" name="Tijdelijke aanduiding voor inhoud 4" descr=""/>
          <p:cNvPicPr/>
          <p:nvPr/>
        </p:nvPicPr>
        <p:blipFill>
          <a:blip r:embed="rId1"/>
          <a:srcRect l="0" t="0" r="9282" b="0"/>
          <a:stretch/>
        </p:blipFill>
        <p:spPr>
          <a:xfrm>
            <a:off x="4809960" y="1160640"/>
            <a:ext cx="38530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Bijnier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518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Adrenali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t gemaakt in de bijnier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uchthormoon/Stresshormo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omt vrij als je lichaam plotseling in actie moet kom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der invloed van adrenaline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aat je hart sneller klopp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a je sneller ademhal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t glycogeen omgezet in gluc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9" name="Afbeelding 5" descr=""/>
          <p:cNvPicPr/>
          <p:nvPr/>
        </p:nvPicPr>
        <p:blipFill>
          <a:blip r:embed="rId1"/>
          <a:stretch/>
        </p:blipFill>
        <p:spPr>
          <a:xfrm>
            <a:off x="5470560" y="1467000"/>
            <a:ext cx="3378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42520" y="198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landjes van Langerhan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5280" y="1341360"/>
            <a:ext cx="4897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iggen in de alvleeskli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oducer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insuline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glucagon;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suline zet glucose om in glycoge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lucagon zet glycogeen om in gluc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udt hiermee de bloedsuikerspiegel in bala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2" name="Afbeelding 1" descr=""/>
          <p:cNvPicPr/>
          <p:nvPr/>
        </p:nvPicPr>
        <p:blipFill>
          <a:blip r:embed="rId1"/>
          <a:stretch/>
        </p:blipFill>
        <p:spPr>
          <a:xfrm>
            <a:off x="5337000" y="1341360"/>
            <a:ext cx="36673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2520" y="4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erstokken (vrouw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36680" y="1341000"/>
            <a:ext cx="453384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en aangestuurd door de hypofy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aken vrouwelijke geslachtshormon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oestroge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progester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Oestrogeen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rouwelijke geslachtskenmer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Progesteron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ruchtbaarheidscyclu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5" name="Afbeelding 4" descr=""/>
          <p:cNvPicPr/>
          <p:nvPr/>
        </p:nvPicPr>
        <p:blipFill>
          <a:blip r:embed="rId1"/>
          <a:srcRect l="26060" t="24808" r="12202" b="0"/>
          <a:stretch/>
        </p:blipFill>
        <p:spPr>
          <a:xfrm>
            <a:off x="4998960" y="1844640"/>
            <a:ext cx="38862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Teelbal/testikel (man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51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slachtsklier van de ma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wee teelballen in het scrotu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ier wordt het hormoo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testostero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gemaakt en de zaadcel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Testostero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mannelijke geslachtskenmer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3821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74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93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442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138240" y="60480"/>
            <a:ext cx="842472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t hormoonstelsel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78920" y="148896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staat uit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hormoonklier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</a:t>
            </a:r>
            <a:br>
              <a:rPr sz="2400"/>
            </a:b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Liggen verspreid door het lichaa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erkt </a:t>
            </a:r>
            <a:r>
              <a:rPr b="0" i="1" lang="nl-NL" sz="2400" spc="-1" strike="noStrike">
                <a:solidFill>
                  <a:srgbClr val="404040"/>
                </a:solidFill>
                <a:latin typeface="Trebuchet MS"/>
              </a:rPr>
              <a:t>langzamer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dan het zenuwstelse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t de werking van de organen in je </a:t>
            </a:r>
            <a:br>
              <a:rPr sz="2400"/>
            </a:b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ichaa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fbeelding 1" descr=""/>
          <p:cNvPicPr/>
          <p:nvPr/>
        </p:nvPicPr>
        <p:blipFill>
          <a:blip r:embed="rId1"/>
          <a:srcRect l="7477" t="21651" r="8263" b="2749"/>
          <a:stretch/>
        </p:blipFill>
        <p:spPr>
          <a:xfrm>
            <a:off x="539640" y="1168560"/>
            <a:ext cx="7704360" cy="5184720"/>
          </a:xfrm>
          <a:prstGeom prst="rect">
            <a:avLst/>
          </a:prstGeom>
          <a:ln w="0">
            <a:noFill/>
          </a:ln>
        </p:spPr>
      </p:pic>
      <p:sp>
        <p:nvSpPr>
          <p:cNvPr id="446" name="Titel 1"/>
          <p:cNvSpPr/>
          <p:nvPr/>
        </p:nvSpPr>
        <p:spPr>
          <a:xfrm>
            <a:off x="250920" y="25560"/>
            <a:ext cx="482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b0f0"/>
                </a:solidFill>
                <a:latin typeface="Trebuchet MS"/>
              </a:rPr>
              <a:t>HORMOONKLIER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3330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ormon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09120" y="1654200"/>
            <a:ext cx="63486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ijn regelstoffen.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an belang bij het in stand houden van een constant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inwendig milieu.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Regelen de groei en ontwikkeling van het lichaam.</a:t>
            </a:r>
            <a:br>
              <a:rPr sz="1800"/>
            </a:b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gelen de stofwisseling.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rmoon wordt gemaakt in een hormoonkli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rechtstreeks afgegeven aan en vervoerd door het blo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paalde organen reageren op het hormoon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 worden afgebroken in de lever en uitgescheiden in de n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50" name="Picture 8" descr="hypofyse3"/>
          <p:cNvPicPr/>
          <p:nvPr/>
        </p:nvPicPr>
        <p:blipFill>
          <a:blip r:embed="rId1"/>
          <a:stretch/>
        </p:blipFill>
        <p:spPr>
          <a:xfrm>
            <a:off x="826920" y="1623960"/>
            <a:ext cx="4753080" cy="4111560"/>
          </a:xfrm>
          <a:prstGeom prst="rect">
            <a:avLst/>
          </a:prstGeom>
          <a:ln w="0">
            <a:noFill/>
          </a:ln>
        </p:spPr>
      </p:pic>
      <p:sp>
        <p:nvSpPr>
          <p:cNvPr id="451" name="Tekstvak 1"/>
          <p:cNvSpPr/>
          <p:nvPr/>
        </p:nvSpPr>
        <p:spPr>
          <a:xfrm>
            <a:off x="4087800" y="3125880"/>
            <a:ext cx="1440000" cy="7038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Hypofy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2" name="Picture 17" descr="zomer2008_KVO1207erwt"/>
          <p:cNvPicPr/>
          <p:nvPr/>
        </p:nvPicPr>
        <p:blipFill>
          <a:blip r:embed="rId2"/>
          <a:stretch/>
        </p:blipFill>
        <p:spPr>
          <a:xfrm>
            <a:off x="6084720" y="2922480"/>
            <a:ext cx="1368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50560" y="1133640"/>
            <a:ext cx="889308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na elke regio van de hersenen staat in contact met de hypothalamus. Hierdoor is de hypothalamus betrokken bij alle aspecten van de emoties, de voortplanting, het autonoom zenuwstelsel en de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hormoonhuishouding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. De hypothalamus reguleert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loeddru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rtsla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ng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ors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aap-waakritm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eksuele opwin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ichaamstemperatuur (veroorzaakt bijvoorbeeld bibberen bij kou)</a:t>
            </a:r>
            <a:br>
              <a:rPr sz="1400"/>
            </a:b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5" name="Afbeelding 4" descr=""/>
          <p:cNvPicPr/>
          <p:nvPr/>
        </p:nvPicPr>
        <p:blipFill>
          <a:blip r:embed="rId1"/>
          <a:srcRect l="14431" t="0" r="6414" b="0"/>
          <a:stretch/>
        </p:blipFill>
        <p:spPr>
          <a:xfrm>
            <a:off x="4067280" y="2158920"/>
            <a:ext cx="40194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47280" y="198900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ok speelt de hypothalamus een rol bij de drie kerngedragingen te wet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cht- of vluchtreac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edingsgedra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ortplantingsgedra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fy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569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langrijkste hormoonkli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s een aanhangsel van de hersen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aakt verschillende hormon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en van onder andere de groei (groeihormo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ïnvloeding van andere hormoonklier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rouw: eicel gaat rijpen    -   Man: zaadcellen worden gevorm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slachtsorganen gaan geslachtshormonen mak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ing werking van de schildklier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828800" indent="0"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1268000" y="90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9:33:43Z</dcterms:created>
  <dc:creator>Oscar Eggen</dc:creator>
  <dc:description/>
  <dc:language>en-US</dc:language>
  <cp:lastModifiedBy>Kievit, Eline</cp:lastModifiedBy>
  <cp:lastPrinted>2012-10-05T09:42:24Z</cp:lastPrinted>
  <dcterms:modified xsi:type="dcterms:W3CDTF">2021-01-27T11:33:18Z</dcterms:modified>
  <cp:revision>207</cp:revision>
  <dc:subject/>
  <dc:title>PowerPoint-presentatie</dc:title>
</cp:coreProperties>
</file>