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B338FC-1255-4FB5-B935-092135CFCD5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Bijgesteld feb 2018 HMM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F5F0D3-E943-4F23-A466-874CF97C880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0D11AE8-2599-4E11-8D83-7D5E5B70F9B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64ACFC-0C04-42DE-9E88-84D125433D2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383593-17D1-4742-AAF3-BD95C82455D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D12AC-1852-4722-BAFF-399AE6D41AED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edingsstoffen in de l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C36591-F2CE-4153-969A-A35EB184F9D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FF810F-FC7C-46A1-8D42-68370C9F7B7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71DBEF-3E95-4CE3-AFF8-52226635133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2639FE-19D9-4D80-ADFE-B0EFDFBD074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A9839B-E385-48A9-B521-7E760C24A01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4763BC-6F41-4111-8621-B6ED2A27B6B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FA7ECC-4B09-4829-92A5-28B80A6FD49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664C1D-6621-4A44-AD6C-DF3BA684037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690F7B-A05D-4CD0-AEED-0DEABDD52E7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BE8E6-C780-4C62-A328-9F4B346702D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542722-EE13-4BF6-83F8-BC22525BD2E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B4D0FB-06D1-4664-B843-21397183E8B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3781BF-5773-4166-8E5B-D8890CF9052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909B96-A8B0-4430-B138-1CB0A8B0884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0D93FD-6DC3-4BD1-B09A-A18AF4DE025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A15A97-C3A9-4683-8679-93C54D8B007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982B-4522-43EC-87CA-1F800964A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AF4A-1327-497C-A5A2-B3E2FBB2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1935-4F8F-42E0-8603-A02BFA663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5265-AC44-4C04-867B-38BED87E3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98FEB-DD67-488A-8050-E19AD82C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AA9F-0D74-44E1-B970-6A9CA4F1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C331C-D196-4D3D-B50F-CC0B0D2D1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9628-C01C-49C8-839F-94BE598F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E209-E975-4699-A159-27ACEFF2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4FD83-EBD2-47ED-A472-22D0ACB80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1D3C2-86D7-4B23-AD89-3E2777C72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2C1D-6596-449F-9A49-3CF9712E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AA51-3734-47BE-A1D5-4E0E0588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A753-8D5B-483E-A980-5E6BAEF53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0D803-BE50-4CD9-B771-AB53F81E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1125-6E92-4D98-9940-266C1F2BF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51B6-E0B9-4211-8033-87176AC27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2BAED-549D-4052-8AB5-1154A7CB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12352-7B02-401B-9567-87C40F82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BCACE-57F4-44F9-9392-09BA7566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76C82-1A37-44F8-A6B9-F1038B4E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382A-260B-4D38-B9B9-450ADB24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FCD6-919A-4089-A23C-004A00E8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F54B7-FC4F-41A1-B7C2-0EF76D87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26626-FF44-4AD9-B6C3-C8595EE4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2646D-072F-45AC-8893-A78AE26B9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B198D-1D27-4594-B6A3-22F1E33FD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EA4AB-01A8-4131-9209-4F8A2B3F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FF199-8E0F-4F58-9B89-758CA360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E7E1C-F108-40A1-A6C7-ADF4A3EB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F49949-9617-4910-A50E-2431B34DD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87D32-7335-4204-9D59-17D90827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CEAC7-F35D-46AC-9123-A8E4FC38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77FA-5F0D-467F-A01A-B2A33F19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9C24B-C513-4A3E-9F57-ECB2884F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9EA9F-463D-4103-B3C9-F2C5FD2A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449C8-3B12-4C7C-AE45-9F1E7700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ECF62-0F20-44D0-B812-86555C73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2CBD34-3F77-4CC8-BB67-2C577E63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475BF-A060-49E6-BA53-AE487169D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010C1-7F8D-4FC6-9432-16717FAB5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E602B-7AC2-4F45-81B4-66EF138A9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1A5BC-CD4C-46DC-B099-777B61F0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41463-4E39-4F83-A6CC-1A8BFDD15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76AF-5784-4B54-81DF-141DFF1B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E41F84-3DA9-4984-89F6-BDBAB31F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008DE6-7A79-4918-BDE4-260961C4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244B5-E007-4DCD-BA31-61695E0E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065175-2F49-4F7B-9F71-A455CC590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46F28-29FB-403C-9B88-5A1C864C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75BFAA-6BCA-478B-B74F-1DFF7944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F8377-BEC2-4FE3-AAE8-7C31F26A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49958-0D7B-4FED-9F4F-5EC031BB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7A150-7EFE-4289-B5C1-2D4DB315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59A838-58FE-4D35-8D14-555647D58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B683-A938-4975-A697-DA201C11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316969-F14C-4D8E-B6AE-EA9D6FDB4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F923E-04E6-445D-887A-DF6585A58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7FA530-8E33-4A14-9C91-8E5A85B73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26BF5-7249-49B8-9E7E-554D5140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A3CF6-61B7-43B9-BD47-FEDB1BB0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B799A-A4E0-4EC5-9CEC-8EC6FFDEB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4EB91-B83A-4721-87B9-034E777D1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36BB2-B6F1-4E08-ADF0-B135C5C7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E8527-3173-408E-9574-A1EA2ACC1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29666-7328-4AB5-A126-CED967A8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A0AB-0E58-45AA-8E98-54B62698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D9E1A4-2F9F-402A-A182-03026EDB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777D8-8BBA-4BAF-BF45-4D9852C74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DA9974-B0E1-41D2-B7D6-EA7DC1610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ED24-2A4B-42BB-BDEC-CC4F01E7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4166-99A6-4418-AD80-5E7A87A7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97950D-13A6-4F76-A7E2-8315E8F2D2A4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2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2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3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3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3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3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3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3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1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D02BC5-27DE-4373-B734-24012B439489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80EDD1-CEBB-4F86-9242-F8A94C1303D8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7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8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59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7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07E958-3AA2-4CCB-A064-7F11D0FC0170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11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2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3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5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19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20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21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3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4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5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421BC3-4CC4-4AA9-910E-328AA219C814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265" name="Freeform 6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6" name="Straight Connector 7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7" name="Straight Connector 8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9" name="Freeform 10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3" name="Freeform 14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74" name="Freeform 15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 type="sldNum" idx="18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E95FDF-4613-4D0C-AE35-77FEF1757361}" type="slidenum">
              <a:rPr b="0" lang="nl-NL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86920" y="4681080"/>
            <a:ext cx="4464360" cy="129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Spijsvertering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24" name="Picture 2" descr="Anatomische, Anatomie, Het Lichaam, Gut, Gezondheid"/>
          <p:cNvPicPr/>
          <p:nvPr/>
        </p:nvPicPr>
        <p:blipFill>
          <a:blip r:embed="rId1"/>
          <a:stretch/>
        </p:blipFill>
        <p:spPr>
          <a:xfrm>
            <a:off x="1547640" y="668160"/>
            <a:ext cx="5472360" cy="3648240"/>
          </a:xfrm>
          <a:prstGeom prst="rect">
            <a:avLst/>
          </a:prstGeom>
          <a:ln w="0">
            <a:noFill/>
          </a:ln>
        </p:spPr>
      </p:pic>
      <p:sp>
        <p:nvSpPr>
          <p:cNvPr id="325" name="Tekstvak 1"/>
          <p:cNvSpPr/>
          <p:nvPr/>
        </p:nvSpPr>
        <p:spPr>
          <a:xfrm>
            <a:off x="1835280" y="4724280"/>
            <a:ext cx="4897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400" spc="-1" strike="noStrike">
                <a:solidFill>
                  <a:srgbClr val="5fcbef"/>
                </a:solidFill>
                <a:latin typeface="Trebuchet MS"/>
              </a:rPr>
              <a:t>Anatomie &amp; Fysiologie</a:t>
            </a:r>
            <a:endParaRPr b="0" lang="en-US" sz="3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96800" y="312840"/>
            <a:ext cx="655344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Slok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28814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1" name="Afbeelding 1" descr=""/>
          <p:cNvPicPr/>
          <p:nvPr/>
        </p:nvPicPr>
        <p:blipFill>
          <a:blip r:embed="rId1"/>
          <a:stretch/>
        </p:blipFill>
        <p:spPr>
          <a:xfrm>
            <a:off x="179280" y="1498680"/>
            <a:ext cx="8460000" cy="42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Maa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274320" y="1628640"/>
            <a:ext cx="701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slag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neden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fbraak van voedsel door middel van enzymen (pepsine) die in een zuur milieu moeten werken (zoutzuur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Intrinsic factor = stof die bindt aan vitamine B12 anders kan deze niet door de darmwan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kleedt met slijmlaag om de maag te beschermen tegen het maagzuur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5" descr="De maag"/>
          <p:cNvPicPr/>
          <p:nvPr/>
        </p:nvPicPr>
        <p:blipFill>
          <a:blip r:embed="rId1"/>
          <a:stretch/>
        </p:blipFill>
        <p:spPr>
          <a:xfrm>
            <a:off x="4356000" y="2060640"/>
            <a:ext cx="4608720" cy="4470480"/>
          </a:xfrm>
          <a:prstGeom prst="rect">
            <a:avLst/>
          </a:prstGeom>
          <a:ln w="0">
            <a:noFill/>
          </a:ln>
        </p:spPr>
      </p:pic>
      <p:sp>
        <p:nvSpPr>
          <p:cNvPr id="355" name="Tekstvak 1"/>
          <p:cNvSpPr/>
          <p:nvPr/>
        </p:nvSpPr>
        <p:spPr>
          <a:xfrm>
            <a:off x="396720" y="1459080"/>
            <a:ext cx="4175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De laat steeds een beetje voedsel door naar de twaalfvingerige darm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Soms vloeit er maagsap naar de slokdarm </a:t>
            </a:r>
            <a:r>
              <a:rPr b="0" lang="nl-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 zuurbrand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Peristaltiek gaat van slokdarm naar maag, soms andersom dan gaat iemand brak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Rectangle 2"/>
          <p:cNvSpPr/>
          <p:nvPr/>
        </p:nvSpPr>
        <p:spPr>
          <a:xfrm>
            <a:off x="1042920" y="460440"/>
            <a:ext cx="208116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MAAG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5fcbef"/>
                </a:solidFill>
                <a:latin typeface="Trebuchet MS"/>
              </a:rPr>
              <a:t>De twaalfvingerige 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24000" y="12700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lbuis en alvleesklierbuis monden hierin ui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Het grootste gedeelte van de vertering vindt hier plaats omdat de gal- en </a:t>
            </a:r>
            <a:br>
              <a:rPr sz="1800"/>
            </a:b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vleeskliersappen hier bij het voedsel ko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Galbuis is verbinding tussen lever, galblaas en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59" name="Afbeelding 2" descr=""/>
          <p:cNvPicPr/>
          <p:nvPr/>
        </p:nvPicPr>
        <p:blipFill>
          <a:blip r:embed="rId1"/>
          <a:stretch/>
        </p:blipFill>
        <p:spPr>
          <a:xfrm>
            <a:off x="1403280" y="3365640"/>
            <a:ext cx="525636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2400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Alvleesklier (pancreas)</a:t>
            </a:r>
            <a:br>
              <a:rPr sz="2900"/>
            </a:br>
            <a:r>
              <a:rPr b="0" lang="nl-NL" sz="2500" spc="-1" strike="noStrike">
                <a:solidFill>
                  <a:srgbClr val="5fcbef"/>
                </a:solidFill>
                <a:latin typeface="Trebuchet MS"/>
              </a:rPr>
              <a:t>	</a:t>
            </a:r>
            <a:br>
              <a:rPr sz="2500"/>
            </a:br>
            <a:br>
              <a:rPr sz="2500"/>
            </a:br>
            <a:endParaRPr b="0" lang="en-US" sz="25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84000" y="1700280"/>
            <a:ext cx="731340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Via alvleesklierbuis gaan de stoffen naar de twaalfvingerige darm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2 functies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spijsverteringsenzymen in alvleeskliersap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hormonen die meteen naar de bloedbaan gaan (insuline en glucago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Trebuchet MS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Lever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3" name="Picture 3" descr="de lever kopie"/>
          <p:cNvPicPr/>
          <p:nvPr/>
        </p:nvPicPr>
        <p:blipFill>
          <a:blip r:embed="rId1"/>
          <a:stretch/>
        </p:blipFill>
        <p:spPr>
          <a:xfrm>
            <a:off x="885960" y="2160720"/>
            <a:ext cx="579600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Lever (&amp; galblaas)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468000" y="1699920"/>
            <a:ext cx="7313400" cy="43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tvangen voedingsstoffen via poortader en verwerkt deze stoff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Koolhydraatstofwisseling: Suikers worden omgezet in glucose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Deel van glucose wordt opgeslag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 glycogeen</a:t>
            </a:r>
            <a:br>
              <a:rPr sz="2000"/>
            </a:b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Wat nog overblijft wordt omgezet in vet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Aanmaak cholesterol (bouwsteen voor lichaamscellen en hormone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Lever maakt gal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naar galblaas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indikken en opslaa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gal wordt naar twaalfvingerige darm gebracht om vetten te vert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tgiftende werking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afvalstoffen naar nieren </a:t>
            </a:r>
            <a:r>
              <a:rPr b="0" lang="nl-NL" sz="20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 uitscheid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609120" y="2160360"/>
            <a:ext cx="6348600" cy="38811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Poortader met vertakkingen Diagram | Quizlet"/>
          <p:cNvPicPr/>
          <p:nvPr/>
        </p:nvPicPr>
        <p:blipFill>
          <a:blip r:embed="rId2"/>
          <a:stretch/>
        </p:blipFill>
        <p:spPr>
          <a:xfrm>
            <a:off x="609480" y="609480"/>
            <a:ext cx="6126120" cy="52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unn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71" name="Picture 1032" descr="kronkeldarm"/>
          <p:cNvPicPr/>
          <p:nvPr/>
        </p:nvPicPr>
        <p:blipFill>
          <a:blip r:embed="rId1"/>
          <a:srcRect l="22585" t="217" r="-22582" b="-213"/>
          <a:stretch/>
        </p:blipFill>
        <p:spPr>
          <a:xfrm>
            <a:off x="1136520" y="1577880"/>
            <a:ext cx="583272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Dunn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09120" y="1488960"/>
            <a:ext cx="634860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Bekleedt met spieren (peristaltiek) en slijmvlieslaag (met darmvlokken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ertering van voedsel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pname van voedingsstoffen met behulp van darmvlok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4000" spc="-1" strike="noStrike">
                <a:solidFill>
                  <a:srgbClr val="5fcbef"/>
                </a:solidFill>
                <a:latin typeface="Trebuchet MS"/>
              </a:rPr>
              <a:t>De spijsverteringsorganen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915840" y="2349360"/>
            <a:ext cx="7312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ond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lok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Maa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waalfvingerige darm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Lev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Alvleeskli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unne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Dikke darm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547280" y="333000"/>
            <a:ext cx="7417080" cy="11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200" spc="-1" strike="noStrike">
                <a:solidFill>
                  <a:srgbClr val="5fcbef"/>
                </a:solidFill>
                <a:latin typeface="Trebuchet MS"/>
              </a:rPr>
              <a:t>Binnenkant van de dunne darm (ileum)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75" name="Picture 2" descr=""/>
          <p:cNvPicPr/>
          <p:nvPr/>
        </p:nvPicPr>
        <p:blipFill>
          <a:blip r:embed="rId1"/>
          <a:stretch/>
        </p:blipFill>
        <p:spPr>
          <a:xfrm>
            <a:off x="684360" y="1558800"/>
            <a:ext cx="7127640" cy="37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Dikke 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pic>
        <p:nvPicPr>
          <p:cNvPr id="3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41520" y="2160720"/>
            <a:ext cx="6284880" cy="38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Dikke darm</a:t>
            </a: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755640" y="137160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Onverteerbare voedingsresten verder stuw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De onverteerbare voedingsresten indikken door water eraan te onttrekk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Aanmaak vitamine K door vertering reststoffen door darmflora (bacteriën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Productie methaan </a:t>
            </a:r>
            <a:r>
              <a:rPr b="0" lang="nl-NL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404040"/>
                </a:solidFill>
                <a:latin typeface="Trebuchet MS"/>
              </a:rPr>
              <a:t> windjes/flatuleren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ndeldarm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82" name="Picture 2" descr="http://www.natuurinformatie.nl/sites/nnm.dossiers/contents/i003643/anustekst_250.jpg"/>
          <p:cNvPicPr/>
          <p:nvPr/>
        </p:nvPicPr>
        <p:blipFill>
          <a:blip r:embed="rId1"/>
          <a:stretch/>
        </p:blipFill>
        <p:spPr>
          <a:xfrm>
            <a:off x="250920" y="1689120"/>
            <a:ext cx="544968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Eind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5" descr="Het spijsverteringsstelsel"/>
          <p:cNvPicPr/>
          <p:nvPr/>
        </p:nvPicPr>
        <p:blipFill>
          <a:blip r:embed="rId1"/>
          <a:stretch/>
        </p:blipFill>
        <p:spPr>
          <a:xfrm>
            <a:off x="324000" y="14400"/>
            <a:ext cx="6221160" cy="6694200"/>
          </a:xfrm>
          <a:prstGeom prst="rect">
            <a:avLst/>
          </a:prstGeom>
          <a:ln w="0">
            <a:noFill/>
          </a:ln>
        </p:spPr>
      </p:pic>
      <p:sp>
        <p:nvSpPr>
          <p:cNvPr id="329" name="Rechte verbindingslijn 2"/>
          <p:cNvSpPr/>
          <p:nvPr/>
        </p:nvSpPr>
        <p:spPr>
          <a:xfrm>
            <a:off x="1403280" y="4724280"/>
            <a:ext cx="1728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Tekstvak 4"/>
          <p:cNvSpPr/>
          <p:nvPr/>
        </p:nvSpPr>
        <p:spPr>
          <a:xfrm>
            <a:off x="395280" y="4508640"/>
            <a:ext cx="100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rebuchet MS"/>
              </a:rPr>
              <a:t>12 vingerige darm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Trebuchet MS"/>
              </a:rPr>
              <a:t>Functie spijsvertering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609480" y="162864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opnem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fijnmak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ver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sel afbreken en vert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Voedingsstoffen voor de lichaamscellen afgeven aan het bloed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404040"/>
                </a:solidFill>
                <a:latin typeface="Trebuchet MS"/>
              </a:rPr>
              <a:t>Onverteerbare voedselbestanddelen afvoer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2" descr="Bestand:Triosephosphate isomerase.jpg"/>
          <p:cNvPicPr/>
          <p:nvPr/>
        </p:nvPicPr>
        <p:blipFill>
          <a:blip r:embed="rId1"/>
          <a:stretch/>
        </p:blipFill>
        <p:spPr>
          <a:xfrm>
            <a:off x="900000" y="57168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hthoek 1"/>
          <p:cNvSpPr/>
          <p:nvPr/>
        </p:nvSpPr>
        <p:spPr>
          <a:xfrm>
            <a:off x="603360" y="1442880"/>
            <a:ext cx="736272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Verdana"/>
              </a:rPr>
              <a:t>Enzymen zijn nodig bij de vertering van voedingsstoff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Werken optimaal bij 37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º C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zymen knippen grotere voedingssstoffen op in kleinere                   stukj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Voor de opbouw van enzymen zijn vaak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  vitaminen nodig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Hebben een eigen pH-waarde (zuurtegraad)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indigen meestal op –ase (of -ine)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SzPct val="80000"/>
              <a:buFont typeface="Trebuchet MS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Enzymen komen voor in speeksel, maagsap, dunne darmsap en sap uit de alvleesklier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Rectangle 2"/>
          <p:cNvSpPr/>
          <p:nvPr/>
        </p:nvSpPr>
        <p:spPr>
          <a:xfrm>
            <a:off x="1116000" y="333360"/>
            <a:ext cx="250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ENZYM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organen spijsvertering"/>
          <p:cNvPicPr/>
          <p:nvPr/>
        </p:nvPicPr>
        <p:blipFill>
          <a:blip r:embed="rId1"/>
          <a:srcRect l="1551" t="0" r="0" b="0"/>
          <a:stretch/>
        </p:blipFill>
        <p:spPr>
          <a:xfrm>
            <a:off x="3720960" y="973080"/>
            <a:ext cx="2337120" cy="566100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2"/>
          <p:cNvSpPr/>
          <p:nvPr/>
        </p:nvSpPr>
        <p:spPr>
          <a:xfrm>
            <a:off x="324000" y="120600"/>
            <a:ext cx="285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4400" spc="-1" strike="noStrike">
                <a:solidFill>
                  <a:srgbClr val="5fcbef"/>
                </a:solidFill>
                <a:latin typeface="Trebuchet MS"/>
              </a:rPr>
              <a:t>ENZYMEN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Rechthoek 4"/>
          <p:cNvSpPr/>
          <p:nvPr/>
        </p:nvSpPr>
        <p:spPr>
          <a:xfrm>
            <a:off x="1258920" y="1476360"/>
            <a:ext cx="224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peeksel:Amylas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Rechthoek 5"/>
          <p:cNvSpPr/>
          <p:nvPr/>
        </p:nvSpPr>
        <p:spPr>
          <a:xfrm>
            <a:off x="6058080" y="335772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aagsap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Pepsine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Tekstvak 1"/>
          <p:cNvSpPr/>
          <p:nvPr/>
        </p:nvSpPr>
        <p:spPr>
          <a:xfrm>
            <a:off x="1052640" y="2581200"/>
            <a:ext cx="244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rebuchet MS"/>
              </a:rPr>
              <a:t>Breekt zetmeel en koolhydraten af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41" name="Gebogen verbindingslijn 4"/>
          <p:cNvCxnSpPr/>
          <p:nvPr/>
        </p:nvCxnSpPr>
        <p:spPr>
          <a:xfrm rot="5400000">
            <a:off x="2145600" y="2007360"/>
            <a:ext cx="621000" cy="358920"/>
          </a:xfrm>
          <a:prstGeom prst="bentConnector3">
            <a:avLst>
              <a:gd name="adj1" fmla="val 50000"/>
            </a:avLst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  <p:sp>
        <p:nvSpPr>
          <p:cNvPr id="342" name="Tekstvak 6"/>
          <p:cNvSpPr/>
          <p:nvPr/>
        </p:nvSpPr>
        <p:spPr>
          <a:xfrm>
            <a:off x="6162840" y="4022640"/>
            <a:ext cx="165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Trebuchet MS"/>
              </a:rPr>
              <a:t>Afbreken van eiwitten tot kleinere deeltjes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43" name="Gebogen verbindingslijn 8"/>
          <p:cNvCxnSpPr>
            <a:endCxn id="342" idx="0"/>
          </p:cNvCxnSpPr>
          <p:nvPr/>
        </p:nvCxnSpPr>
        <p:spPr>
          <a:xfrm flipH="1" rot="16200000">
            <a:off x="6422040" y="3454200"/>
            <a:ext cx="597600" cy="540360"/>
          </a:xfrm>
          <a:prstGeom prst="bentConnector3">
            <a:avLst>
              <a:gd name="adj1" fmla="val 49969"/>
            </a:avLst>
          </a:prstGeom>
          <a:ln cap="rnd" w="12600">
            <a:solidFill>
              <a:srgbClr val="5fcbe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3600" spc="-1" strike="noStrike">
                <a:solidFill>
                  <a:srgbClr val="5fcbef"/>
                </a:solidFill>
                <a:latin typeface="Verdana"/>
              </a:rPr>
              <a:t>Mond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609480" y="1700280"/>
            <a:ext cx="7313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1e bewerking van voedsel: vermalen en kauwen van voeds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oevoegen van speeksel </a:t>
            </a:r>
            <a:r>
              <a:rPr b="0" lang="nl-NL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</a:t>
            </a: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 soep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Spijsverteringsenzym amylase, breekt zetmeel en koolhydraten af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5fcbef"/>
                </a:solidFill>
                <a:latin typeface="Trebuchet MS"/>
              </a:rPr>
              <a:t>Keelholte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47400" y="1628640"/>
            <a:ext cx="60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1800" spc="-1" strike="noStrike">
                <a:solidFill>
                  <a:srgbClr val="404040"/>
                </a:solidFill>
                <a:latin typeface="Trebuchet MS"/>
              </a:rPr>
              <a:t>Tijdens slikken luchtweg naar neus (door huig en gehemelte) en luchtpijp (door strottenklepje) afgesloten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48" name="Afbeelding 1" descr=""/>
          <p:cNvPicPr/>
          <p:nvPr/>
        </p:nvPicPr>
        <p:blipFill>
          <a:blip r:embed="rId1"/>
          <a:stretch/>
        </p:blipFill>
        <p:spPr>
          <a:xfrm>
            <a:off x="609480" y="2924280"/>
            <a:ext cx="555804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13:57:51Z</dcterms:created>
  <dc:creator>BAHR</dc:creator>
  <dc:description/>
  <dc:language>en-US</dc:language>
  <cp:lastModifiedBy>Kievit, Eline</cp:lastModifiedBy>
  <dcterms:modified xsi:type="dcterms:W3CDTF">2021-01-12T17:57:09Z</dcterms:modified>
  <cp:revision>78</cp:revision>
  <dc:subject/>
  <dc:title>Dia 1</dc:title>
</cp:coreProperties>
</file>