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01D80-504A-4730-A4FB-C9E5FF7178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gesteld feb 2018 HM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AF340-631A-4944-9FC3-E842FA1D98F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B3AD6-1BCB-4C99-90AE-48D3CC8787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7DB17-7173-4388-BBCE-237D651534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7A952-72AB-43EC-B7DB-A5B47D4A68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C27DA-C63D-4D44-A0C6-64C828BA90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edingsstoffen in de l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96308-49F7-467C-B5CA-AABA91284E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5CC51-9515-4BC4-BA68-219A81033F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D7C01-75E6-471A-B1F4-F2C0C282B3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5885A-5259-4E48-B696-65738C1074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5DE83-7058-4E08-8E83-BF64B4EBAB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C7B0A-B437-4F72-B4EB-8D9CF3E462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54A22-7920-40AA-BAF3-F6F888829E2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D34E9-6090-48D9-ACF2-060C6239E9B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37A53-9219-4B50-907A-79B829E2F5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7534D-0019-4578-BA93-F8D4D2AEF0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BEB81-FA4A-49E9-887F-328C74C6DA2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21EC0-ACB7-453C-9311-DA36029A73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9F08F-FCC9-49D0-B5EE-B757186CE2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C4E1B-8646-42FF-8B9D-AE7CABA73D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B4A44-00EB-41F3-BF12-D735F81EA5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8662A-2BE4-4B09-A16E-40A3754A10C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187-3536-407A-87E3-48FEDFB3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56F-0143-472D-97AF-039B5FFA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065-A297-434A-870D-49046812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C8B-CD02-46E4-9E37-9E37736F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D79F-CA2F-4E4D-B039-280B3B76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6756-4354-4AC0-8C72-2F0830BC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F428-4269-44B8-8ACA-7ECA2DCD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BBD2-A0BB-49BA-B8BD-335C2E8C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37D7-F33F-4976-8525-8E18697B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D39C-BADC-434E-A19E-AC6CC90D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7D77-236D-4BFC-AB7E-154D0A02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617-3866-4FDD-B0A0-2BC622F3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9987-A78F-4608-B28A-015D86A1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805B-58B5-42F4-831A-05E192E8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9642-7560-45C7-9B32-7901149A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D15C-7F6B-4F9E-974C-3A5A4D55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5EC3-F953-4768-AE88-CC345FA2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64C9-EEAD-48A1-919D-229ED7EF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6897-DF0E-4D8B-846B-1B5DBE58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FD0E-95A3-4E0D-A298-FF2D577D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6976-2368-4159-B09A-F0ABFC5D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5E79-4B83-4B24-8180-636A52A7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F46-EBDE-4975-B8E7-CF34C6C4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7FBB-DE98-4F5B-B2EE-2BB4DB86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416F-5CFF-4735-A382-15289BCD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CF12-32AA-4386-B851-75BAADD0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EDF5-E6B2-4092-A92E-E5650CA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A04B-AC62-4091-94BA-4BADC96A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89B1-92FF-4698-9F0D-B77CE3E8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2C86-4CD0-4CFF-B26D-CE9770C9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9815D-C1D9-4786-81FD-A11FDD25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56A4-6532-4DC3-8635-121C102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0412-4FCA-443E-824F-64A26819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707-F649-4AFC-8DF0-71691E28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963D1-63C3-444F-B288-F9D46979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CDB6-1BBE-42F6-B4AA-C735B452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E20C-CEF0-4A52-BE16-4F5FC548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C545-481B-4D7E-A460-D13DC944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0420-C6B2-46C3-9ADA-9A684BCD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2E2F-C948-414F-928A-50D8FAF5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5896F-D671-4D64-BCB0-80469D2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AC60B-2B1F-4023-ABC8-07046D74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34D31-DF9D-4E02-AD0E-B6ABF59C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125F1-055D-468F-9979-02AC2BE7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6F6-7830-4776-AC5F-FA5F3339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73B53-8327-48BB-AFF8-68BB7310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7BF7A-7BE8-4C56-98A3-C9D0A1F7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6E4F-0AD5-439C-BC11-98204FB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F2F1-5C82-4647-BF0D-29D07D9F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838F9-7BD1-4490-BBDE-3DCA3D91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B66D0-7A82-4CBC-AFAB-D3760630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C1923-6E8E-4BC1-8865-F5D6214C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890AB-9424-4EF7-9DD8-25F0EDD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561CC-BEEA-4619-A5A0-3DF1454D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BC28D-97C5-4884-B6C3-7A15EE3A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B70-4CB8-4B41-AAFE-76D728F5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FB486-4E2D-4390-A005-3AE17632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05EB8-7CDE-47AA-923A-93FE14D4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2E629-589C-457F-B465-93733135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0B07C-19C1-49CD-B4E6-746BF886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CABD-1C88-40A3-A542-85D30FCD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A559C-38FF-4DD1-B195-61EB0548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F8C7E-AF30-40EA-B330-7886FB3A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C0C9-5C80-4879-B50A-A42BEEB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978C-1F1F-4E5B-A2C7-3CD256D2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9F72D-7E37-44A9-816A-CDE6CDA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615-9BF3-4575-9F39-F4F64A2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CBE8F-8F05-40F8-819A-74588A3F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D1AB5-F3B0-4A4A-9E5D-139A6CA9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F6D62-E164-403E-99C7-F74248FF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8BB-D3AD-46B9-98EF-E347515A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8A9-F466-4C5E-8907-11F6AC95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51B14-9A13-45EA-AB4F-9D5F5AD1CDEA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78B12-2694-4A1D-A36C-F6C636B25BF5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C0C8A-EDBB-4151-B41C-75F817AD244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86356-2EBA-4ABB-B630-8BF298918ED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84851-FF0A-43FE-818E-51B28C4A12A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3A3E9-088D-4895-AED7-FCBC84F3E1C2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4681080"/>
            <a:ext cx="4464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Spijsvertering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24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547640" y="668160"/>
            <a:ext cx="5472360" cy="3648240"/>
          </a:xfrm>
          <a:prstGeom prst="rect">
            <a:avLst/>
          </a:prstGeom>
          <a:ln w="0">
            <a:noFill/>
          </a:ln>
        </p:spPr>
      </p:pic>
      <p:sp>
        <p:nvSpPr>
          <p:cNvPr id="325" name="Tekstvak 1"/>
          <p:cNvSpPr/>
          <p:nvPr/>
        </p:nvSpPr>
        <p:spPr>
          <a:xfrm>
            <a:off x="1835280" y="4724280"/>
            <a:ext cx="489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400" spc="-1" strike="noStrike">
                <a:solidFill>
                  <a:srgbClr val="5fcbef"/>
                </a:solidFill>
                <a:latin typeface="Trebuchet MS"/>
              </a:rPr>
              <a:t>Anatomie &amp; Fysiologie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6800" y="31284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Slok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1" name="Afbeelding 1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460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aa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74320" y="162864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sla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neden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fbraak van voedsel door middel van enzymen (pepsine) die in een zuur milieu moeten werken (zoutzuu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rinsic factor = stof die bindt aan vitamine B12 anders kan deze niet door de darmwa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lijmlaag om de maag te beschermen tegen het maagzuu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De maag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47048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1"/>
          <p:cNvSpPr/>
          <p:nvPr/>
        </p:nvSpPr>
        <p:spPr>
          <a:xfrm>
            <a:off x="396720" y="1459080"/>
            <a:ext cx="41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laat steeds een beetje voedsel door naar de twaalfvingerige dar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ms vloeit er maagsap naar de slokdarm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zuurbran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istaltiek gaat van slokdarm naar maag, soms andersom dan gaat iemand bra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042920" y="460440"/>
            <a:ext cx="2081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MAA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De twaalfvingerig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1270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en alvleesklierbuis monden hieri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t grootste gedeelte van de vertering vindt hier plaats omdat de gal- en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sappen hier bij het voedsel k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is verbinding tussen lever, galblaas en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Afbeelding 2" descr=""/>
          <p:cNvPicPr/>
          <p:nvPr/>
        </p:nvPicPr>
        <p:blipFill>
          <a:blip r:embed="rId1"/>
          <a:stretch/>
        </p:blipFill>
        <p:spPr>
          <a:xfrm>
            <a:off x="1403280" y="3365640"/>
            <a:ext cx="52563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Alvleesklier (pancreas)</a:t>
            </a:r>
            <a:br>
              <a:rPr sz="2900"/>
            </a:br>
            <a:r>
              <a:rPr b="0" lang="nl-NL" sz="2500" spc="-1" strike="noStrike">
                <a:solidFill>
                  <a:srgbClr val="5fcbef"/>
                </a:solidFill>
                <a:latin typeface="Trebuchet MS"/>
              </a:rPr>
              <a:t>	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000" y="1700280"/>
            <a:ext cx="7313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ia alvleesklierbuis gaan de stoffen naar de twaalfvingerige da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 functie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spijsverteringsenzymen in alvleeskliersa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hormonen die meteen naar de bloedbaan gaan (insuline en glucag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Lev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3" name="Picture 3" descr="de lever kopie"/>
          <p:cNvPicPr/>
          <p:nvPr/>
        </p:nvPicPr>
        <p:blipFill>
          <a:blip r:embed="rId1"/>
          <a:stretch/>
        </p:blipFill>
        <p:spPr>
          <a:xfrm>
            <a:off x="885960" y="2160720"/>
            <a:ext cx="57960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Lever (&amp; galblaas)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699920"/>
            <a:ext cx="7313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vangen voedingsstoffen via poortader en verwerkt deze 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olhydraatstofwisseling: Suikers worden omgezet in gluco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el van glucose wordt opgesla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glycogeen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 nog overblijft wordt omgezet in vet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anmaak cholesterol (bouwsteen voor lichaamscellen en hormon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ver maakt ga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naar galbla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indikken en opslaa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al wordt naar twaalfvingerige darm gebracht om vetten te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giftende werking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afvalstoffen naar nier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uitsche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Poortader met vertakkingen Diagram | Quizlet"/>
          <p:cNvPicPr/>
          <p:nvPr/>
        </p:nvPicPr>
        <p:blipFill>
          <a:blip r:embed="rId2"/>
          <a:stretch/>
        </p:blipFill>
        <p:spPr>
          <a:xfrm>
            <a:off x="609480" y="609480"/>
            <a:ext cx="6126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1" name="Picture 1032" descr="kronkeldarm"/>
          <p:cNvPicPr/>
          <p:nvPr/>
        </p:nvPicPr>
        <p:blipFill>
          <a:blip r:embed="rId1"/>
          <a:srcRect l="22585" t="217" r="-22582" b="-213"/>
          <a:stretch/>
        </p:blipFill>
        <p:spPr>
          <a:xfrm>
            <a:off x="1136520" y="1577880"/>
            <a:ext cx="5832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120" y="1488960"/>
            <a:ext cx="63486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pieren (peristaltiek) en slijmvlieslaag (met darmvlokk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terin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van voedingsstoffen met behulp van darmvlo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5fcbef"/>
                </a:solidFill>
                <a:latin typeface="Trebuchet MS"/>
              </a:rPr>
              <a:t>De spijsverteringsorgan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5840" y="2349360"/>
            <a:ext cx="731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ok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waalfvingerige dar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nn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k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4170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innenkant van de dunne darm (ileum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84360" y="1558800"/>
            <a:ext cx="71276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ikk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41520" y="2160720"/>
            <a:ext cx="6284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ikk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371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verteerbare voedingsresten verder stuw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verteerbare voedingsresten indikken door water eraan te onttrek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vitamine K door vertering reststoffen door darmflora (bacterië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tie methaan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windjes/flatul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del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2" name="Picture 2" descr="http://www.natuurinformatie.nl/sites/nnm.dossiers/contents/i003643/anustekst_250.jpg"/>
          <p:cNvPicPr/>
          <p:nvPr/>
        </p:nvPicPr>
        <p:blipFill>
          <a:blip r:embed="rId1"/>
          <a:stretch/>
        </p:blipFill>
        <p:spPr>
          <a:xfrm>
            <a:off x="250920" y="1689120"/>
            <a:ext cx="54496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Het spijsverteringsstelsel"/>
          <p:cNvPicPr/>
          <p:nvPr/>
        </p:nvPicPr>
        <p:blipFill>
          <a:blip r:embed="rId1"/>
          <a:stretch/>
        </p:blipFill>
        <p:spPr>
          <a:xfrm>
            <a:off x="324000" y="14400"/>
            <a:ext cx="6221160" cy="6694200"/>
          </a:xfrm>
          <a:prstGeom prst="rect">
            <a:avLst/>
          </a:prstGeom>
          <a:ln w="0">
            <a:noFill/>
          </a:ln>
        </p:spPr>
      </p:pic>
      <p:sp>
        <p:nvSpPr>
          <p:cNvPr id="329" name="Rechte verbindingslijn 2"/>
          <p:cNvSpPr/>
          <p:nvPr/>
        </p:nvSpPr>
        <p:spPr>
          <a:xfrm>
            <a:off x="1403280" y="4724280"/>
            <a:ext cx="1728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kstvak 4"/>
          <p:cNvSpPr/>
          <p:nvPr/>
        </p:nvSpPr>
        <p:spPr>
          <a:xfrm>
            <a:off x="395280" y="4508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12 vingerige dar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Functie spijsverter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4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opne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fijn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ver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afbreken en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ingsstoffen voor de lichaamscellen afgeven aan het blo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verteerbare voedselbestanddelen af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Bestand:Triosephosphate isomerase.jpg"/>
          <p:cNvPicPr/>
          <p:nvPr/>
        </p:nvPicPr>
        <p:blipFill>
          <a:blip r:embed="rId1"/>
          <a:stretch/>
        </p:blipFill>
        <p:spPr>
          <a:xfrm>
            <a:off x="90000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hthoek 1"/>
          <p:cNvSpPr/>
          <p:nvPr/>
        </p:nvSpPr>
        <p:spPr>
          <a:xfrm>
            <a:off x="603360" y="1442880"/>
            <a:ext cx="736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nzymen zijn nodig bij de vertering van voedingsstoff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Werken optimaal bij 3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º 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zymen knippen grotere voedingssstoffen op in kleinere                   stuk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or de opbouw van enzymen zijn v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vitaminen nod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bben een eigen pH-waarde (zuurtegraa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indigen meestal op –ase (of -ine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Enzymen komen voor in speeksel, maagsap, dunne darmsap en sap uit de alvleeskli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116000" y="333360"/>
            <a:ext cx="250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organen spijsvertering"/>
          <p:cNvPicPr/>
          <p:nvPr/>
        </p:nvPicPr>
        <p:blipFill>
          <a:blip r:embed="rId1"/>
          <a:srcRect l="1551" t="0" r="0" b="0"/>
          <a:stretch/>
        </p:blipFill>
        <p:spPr>
          <a:xfrm>
            <a:off x="3720960" y="973080"/>
            <a:ext cx="2337120" cy="5661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324000" y="120600"/>
            <a:ext cx="28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Rechthoek 4"/>
          <p:cNvSpPr/>
          <p:nvPr/>
        </p:nvSpPr>
        <p:spPr>
          <a:xfrm>
            <a:off x="1258920" y="147636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eeksel:Amyl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Rechthoek 5"/>
          <p:cNvSpPr/>
          <p:nvPr/>
        </p:nvSpPr>
        <p:spPr>
          <a:xfrm>
            <a:off x="6058080" y="3357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agsap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kstvak 1"/>
          <p:cNvSpPr/>
          <p:nvPr/>
        </p:nvSpPr>
        <p:spPr>
          <a:xfrm>
            <a:off x="1052640" y="258120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eekt zetmeel en koolhydraten a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Gebogen verbindingslijn 4"/>
          <p:cNvCxnSpPr/>
          <p:nvPr/>
        </p:nvCxnSpPr>
        <p:spPr>
          <a:xfrm rot="5400000">
            <a:off x="2145600" y="2007360"/>
            <a:ext cx="621000" cy="358920"/>
          </a:xfrm>
          <a:prstGeom prst="bentConnector3">
            <a:avLst>
              <a:gd name="adj1" fmla="val 50000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342" name="Tekstvak 6"/>
          <p:cNvSpPr/>
          <p:nvPr/>
        </p:nvSpPr>
        <p:spPr>
          <a:xfrm>
            <a:off x="6162840" y="4022640"/>
            <a:ext cx="16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fbreken van eiwitten tot kleinere deeltj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3" name="Gebogen verbindingslijn 8"/>
          <p:cNvCxnSpPr>
            <a:endCxn id="342" idx="0"/>
          </p:cNvCxnSpPr>
          <p:nvPr/>
        </p:nvCxnSpPr>
        <p:spPr>
          <a:xfrm flipH="1" rot="16200000">
            <a:off x="6422040" y="3454200"/>
            <a:ext cx="597600" cy="540360"/>
          </a:xfrm>
          <a:prstGeom prst="bentConnector3">
            <a:avLst>
              <a:gd name="adj1" fmla="val 49969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on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4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e bewerking van voedsel: vermalen en kauwen van voed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voegen van speeksel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so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jsverteringsenzym amylase, breekt zetmeel en koolhydraten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Keelholt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7400" y="1628640"/>
            <a:ext cx="60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ijdens slikken luchtweg naar neus (door huig en gehemelte) en luchtpijp (door strottenklepje) afgeslo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8" name="Afbeelding 1" descr=""/>
          <p:cNvPicPr/>
          <p:nvPr/>
        </p:nvPicPr>
        <p:blipFill>
          <a:blip r:embed="rId1"/>
          <a:stretch/>
        </p:blipFill>
        <p:spPr>
          <a:xfrm>
            <a:off x="609480" y="2924280"/>
            <a:ext cx="5558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3:57:51Z</dcterms:created>
  <dc:creator>BAHR</dc:creator>
  <dc:description/>
  <dc:language>en-US</dc:language>
  <cp:lastModifiedBy>Kievit, Eline</cp:lastModifiedBy>
  <dcterms:modified xsi:type="dcterms:W3CDTF">2021-01-12T17:57:09Z</dcterms:modified>
  <cp:revision>78</cp:revision>
  <dc:subject/>
  <dc:title>Dia 1</dc:title>
</cp:coreProperties>
</file>