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dt" idx="25"/>
          </p:nvPr>
        </p:nvSpPr>
        <p:spPr>
          <a:xfrm>
            <a:off x="383328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ftr" idx="26"/>
          </p:nvPr>
        </p:nvSpPr>
        <p:spPr>
          <a:xfrm>
            <a:off x="-36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 type="sldNum" idx="27"/>
          </p:nvPr>
        </p:nvSpPr>
        <p:spPr>
          <a:xfrm>
            <a:off x="383328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0CD0C5-8DDD-424A-8B9D-C47DDBB19C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75241D-EA0D-489B-A4F6-EC5925D277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C447BB-0537-4695-9457-AE88DD5D14C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F6EAE5-AB88-433C-B319-837C8CD8F7A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053DF9-7005-4CDD-9843-ECCF2C07009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Regeling hoeveelheid glucose in het blo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oeveelheid glucose in het bloed moet zoveel mogelijk constant blijven. 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us niet afhankelijk van of je net gegeten heb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ordt geregeld via hormonen uit de </a:t>
            </a: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eilandjes van Langerhans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(in de alvleesklie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Insuline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ordt gemaakt als er na het eten veel glucose in je bloed kom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et </a:t>
            </a: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verlaagt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de hoeveelheid glucose doordat onder invloed van insuline: de lever (en spieren) zetten glucose om in glycogeen (soort zetmeel). </a:t>
            </a:r>
            <a:r>
              <a:rPr b="0" lang="nl-NL" sz="1200" spc="-1" strike="noStrike" u="sng">
                <a:solidFill>
                  <a:srgbClr val="000000"/>
                </a:solidFill>
                <a:uFillTx/>
                <a:latin typeface="Times New Roman"/>
              </a:rPr>
              <a:t>Glycogeen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wordt opgeslagen in de lever (en de spiere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Glucagon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ordt gemaakt als de hoeveelheid glucose in je bloed te laag wordt.</a:t>
            </a:r>
            <a:br>
              <a:rPr sz="1200"/>
            </a:b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Bijvoorbeeld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oordat je veel glucose verbrand heb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Verhoogt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de hoeveelheid glucose doordat onder invloed van glucagon: 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 lever zet </a:t>
            </a:r>
            <a:r>
              <a:rPr b="0" lang="nl-NL" sz="1200" spc="-1" strike="noStrike" u="sng">
                <a:solidFill>
                  <a:srgbClr val="000000"/>
                </a:solidFill>
                <a:uFillTx/>
                <a:latin typeface="Times New Roman"/>
              </a:rPr>
              <a:t>glycogeen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weer om in glucose. 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ze glucose wordt afgegeven aan het blo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Suikerziekte (diabetes) : 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 eilandjes van Langerhans werken niet goed.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* Er wordt geen of te weinig insuline gemaakt.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* Patiënten moeten extra insuline inspui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17D26F-7845-4394-AA7F-F5DFF95540C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95298D-0C77-4984-A261-3A1A6CFB870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F02A81-605F-48E0-BB9F-9AF2D601B81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696358-9224-4D20-AF40-AA959444AFA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E74D9F-0FFE-407C-943E-2E2ACF8786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02E00D-B8B2-4A81-BD75-39065F2470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2C527C-1A34-450D-86B2-A4DEBDEAFFC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56C7EC-B2DC-4B43-8734-6B7EFC8433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C68804-8C57-468C-8F89-62F3871502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2E8401-8124-4D02-9DBB-1AE14E25E32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BFDC1C-CDBE-4AD8-8265-F07BFE66CE7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FDAF9E-E32D-47A7-9D62-50F9991499F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271C-0771-42C5-8516-6EA70ED15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9ECB-BD0C-4B4C-84E7-5EA2297A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FC93-4F51-4581-987C-25724DB01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4857-8819-48F0-AC62-FA265219E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23F3-014C-49DB-9B8A-C987A2CFB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486C-FF37-4315-AD0C-08EC93C7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150E-95E2-4CAB-8310-E11FD775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689B-6132-419A-80C4-E68B533F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10F1-0C6F-4EAA-ADB0-FAAFE26E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5B10-DC84-457D-B7DE-B743E139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D9AA-ED8D-4269-BB59-39EC58B6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ACC4-F387-45D5-8062-0E03EFC8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38D1-CF4B-4CB0-A972-13E1B68F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707A-BE4A-471F-A683-4693BDC9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4BC2-EDE6-4B2D-8373-6949705D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7008-0CA5-4D7F-990C-6A6151422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34EF-2AA1-45C2-86B3-C4FC91336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C9D08-FC6A-4839-8641-E1202670F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046CC-657E-49A4-A0BF-059557E9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FF069-0A1C-4550-95A7-6C787B16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69BD7-3F1E-4BE1-BA14-1FF19BC6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A6BCE-4E33-44AD-9101-F5810F7A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9F32-55C1-4FAA-BC1A-1DBAD3BB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7B40C-5EB8-4C66-AC4A-89EDE2EB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4DF02-02C4-47BF-AFC0-0C061604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6AE3E-B50F-4A92-8B38-FBD9196D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AF304-7DDF-4D02-937D-A65FBDA0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7E6B7-C1AE-4773-9243-9312CAEA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5D5FD-D6AB-4C2E-91AA-801FF0C67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A0556-6B2E-4314-BB53-F0116144F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8C1A7-ACDD-411D-BB4F-7605BE2E7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10776-FF98-444B-969B-702C00D9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E3C98-6D79-40BD-9963-0F05C7B8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6F4F-665D-4B77-8CA9-A8F73785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8EA8B-A1F8-4989-B787-9A2BFEAD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94356-645C-4C7A-8525-195CE796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5B654-BD99-4B8A-A1CB-D9F140F9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99E56-21DC-48FF-B71B-C86BEAA5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FB181-D203-4C2E-8257-AAE4721B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5DD6A-486B-46B1-84B3-49818B46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7025A-429F-4344-A323-6FE252B4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73873-02C7-4CCD-9DE9-9D8130CB9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5CBC1-CE38-4A66-AE2C-80DA7F52B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BC453-752E-4CD5-8072-857636B2F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EF01-F590-41AD-8634-94DA1792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FC4CA-6178-42C5-9F32-17431DAB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96582-0308-414C-81B1-7F2B0CAC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BCAFB-35F6-4715-B185-8EADD35A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45FE5-5244-4237-9455-303CAC7F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CCB1F-80ED-474F-BC7D-0893535C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6E06B-046F-4096-95E1-4730B2F4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47639-DD59-4189-BE54-9F0D4760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05601-1265-443E-BBE8-1DAF1EBC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D2E32-98E3-4B1F-8A3A-9D8E30DA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4183E-0B19-4A54-80AF-5962EE4F9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54A8-D5E6-419E-9D69-2102F539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40200-D605-4B83-89A8-EBF3915D3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F12B6-E8D0-4955-B719-F82D90763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F2F19-D147-40CF-9BF0-E16C07CA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F179E-8EF0-405D-B1E6-EEEBAC3C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674E0-EBC0-44A9-9ECE-9FC6F19E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C895D-77A5-498B-B3B0-9E1EC457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E8C2A-2067-429C-897D-16A40517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A96C6-4ABD-4485-97A4-4872FA49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A7A11-0C7D-45EA-A978-0D2BF2EA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E98C5-5542-4F88-BED0-1A4CF183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B261-5ABC-414D-B297-EA4A8928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42AF7-D9C2-494A-93F3-78B304B3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EF117-54D3-4152-B68D-845B6F427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475CC-551F-4129-93D6-0A5F66990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882E9-E1C4-455C-B8B3-D6A70F843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26296-C934-43AC-B41C-42485D70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D2A61-E8E8-4981-BC08-4C2A9423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5CF94-FDAB-489F-B3DA-5469CD96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C3507-9D34-48F1-997D-7E0301B5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AC20A-9EE3-483D-8177-1F1E1628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3ED6C-06B3-4FA0-A103-289EFD6B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898A-167A-4115-B8B6-F00DBAD2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50B12-CBB5-4B12-B343-CBFEB807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1311B-EFF5-4F6F-9C26-F110EC64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90737-FF89-4389-ACD0-E0DA9DB9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753A2-CD9A-47F9-86B5-545296D85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A710C-D1F9-4533-9362-BECC1B781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ADDD4-1D1C-4546-ACD4-0C3F827BB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86CF1-8986-4804-838B-E01AF1AE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D0894-CF40-481A-BBF1-793538B9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F90B9-3483-464A-9112-131102E2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B8EEE-6512-4E2D-A9F7-60661809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F247-6D41-4565-8C52-553CDA31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A1D80-7D2B-4249-854D-D0B073CE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48ECF-97A2-41D3-9496-F1DEE431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BD88D-3546-49C1-8FD0-F1AA56FD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97F30-EF67-400C-BEFC-E181160F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AA1AE-6B3B-4781-83FE-6A2B9CD4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21919-432E-4E8D-BE34-BC4E16899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C2960-3F1B-444B-9C56-F69ED8773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09DAAF-0D69-4AC2-B77F-3B31C3D6D2A0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3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64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5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6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7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8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9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0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1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2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3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885902-E38B-471C-AA2E-C874121FF0AA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1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7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8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1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2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3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4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OE juni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EA5FA2-36C7-4D7C-B0E5-E2841F258A83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68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9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0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1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4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5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6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7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OE juni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CF46E6-113C-4859-BEC8-635568CC4E84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2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1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2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3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4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5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6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7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8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9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30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2E5254-F419-463B-822E-F66AAA9C96E8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74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5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6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7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8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9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0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1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2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3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84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CE8CEA-8FBE-49EA-BE41-5AC3D7CE5897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328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9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0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1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2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3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4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5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6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7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OE juni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43F079-834B-40D0-902C-D3D7AB1D6C1F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38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1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2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8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9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OE juni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B43E24-C05A-4A03-8DAD-7B80F8A64FF4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606760" y="4797360"/>
            <a:ext cx="2962080" cy="67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100" spc="-1" strike="noStrike">
                <a:solidFill>
                  <a:srgbClr val="236292"/>
                </a:solidFill>
                <a:latin typeface="Trebuchet MS"/>
              </a:rPr>
              <a:t>Anatomie &amp; Fysiologie</a:t>
            </a:r>
            <a:br>
              <a:rPr sz="2100"/>
            </a:br>
            <a:r>
              <a:rPr b="0" lang="nl-NL" sz="2100" spc="-1" strike="noStrike">
                <a:solidFill>
                  <a:srgbClr val="236292"/>
                </a:solidFill>
                <a:latin typeface="Trebuchet MS"/>
              </a:rPr>
              <a:t>Hormonen </a:t>
            </a:r>
            <a:endParaRPr b="0" lang="en-US" sz="21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439" name="Picture 2" descr="Anatomische, Anatomie, Het Lichaam, Gut, Gezondheid"/>
          <p:cNvPicPr/>
          <p:nvPr/>
        </p:nvPicPr>
        <p:blipFill>
          <a:blip r:embed="rId1"/>
          <a:stretch/>
        </p:blipFill>
        <p:spPr>
          <a:xfrm>
            <a:off x="1658880" y="1077840"/>
            <a:ext cx="485640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701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Schildklier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8000" y="117000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lindervormig orgaan in de hals; onder strottenhoofd, boven borstbeen tegen de luchtpijp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childklier produceert schildklierhormon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ze hormonen stimuleren de stofwisseling en de groei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63" name="Tijdelijke aanduiding voor inhoud 4" descr=""/>
          <p:cNvPicPr/>
          <p:nvPr/>
        </p:nvPicPr>
        <p:blipFill>
          <a:blip r:embed="rId1"/>
          <a:srcRect l="0" t="0" r="33855" b="0"/>
          <a:stretch/>
        </p:blipFill>
        <p:spPr>
          <a:xfrm>
            <a:off x="4473720" y="1270080"/>
            <a:ext cx="438912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Zwezerik ( thymus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9640" y="1189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e zwezerik is een orgaan in de borstkas. De thymus ligt vlak achter het borstbeen en vlak bij het har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e zwezerik is vooral actief bij kinderen, tot de pubertijd. Daarna verschrompelt de zwezerik langzaam en wordt de klier vervangen door vetweefs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elangrijke rol in ons afweersysteem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66" name="Tijdelijke aanduiding voor inhoud 4" descr=""/>
          <p:cNvPicPr/>
          <p:nvPr/>
        </p:nvPicPr>
        <p:blipFill>
          <a:blip r:embed="rId1"/>
          <a:srcRect l="0" t="0" r="9282" b="0"/>
          <a:stretch/>
        </p:blipFill>
        <p:spPr>
          <a:xfrm>
            <a:off x="4809960" y="1160640"/>
            <a:ext cx="38530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371600" y="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Bijniere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518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Adrenalin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ordt gemaakt in de bijnier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luchthormoon/Stresshormoo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Komt vrij als je lichaam plotseling in actie moet kom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Onder invloed van adrenaline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aat je hart sneller klopp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a je sneller ademhal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ordt glycogeen omgezet in gluco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69" name="Afbeelding 5" descr=""/>
          <p:cNvPicPr/>
          <p:nvPr/>
        </p:nvPicPr>
        <p:blipFill>
          <a:blip r:embed="rId1"/>
          <a:stretch/>
        </p:blipFill>
        <p:spPr>
          <a:xfrm>
            <a:off x="5470560" y="1467000"/>
            <a:ext cx="33782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42520" y="19800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ilandjes van Langerhans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95280" y="1341360"/>
            <a:ext cx="48974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Liggen in de alvleeskli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Produceren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insuline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en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glucagon;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Insuline zet glucose om in glycoge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lucagon zet glycogeen om in gluco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oudt hiermee de bloedsuikerspiegel in bala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72" name="Afbeelding 1" descr=""/>
          <p:cNvPicPr/>
          <p:nvPr/>
        </p:nvPicPr>
        <p:blipFill>
          <a:blip r:embed="rId1"/>
          <a:stretch/>
        </p:blipFill>
        <p:spPr>
          <a:xfrm>
            <a:off x="5337000" y="1341360"/>
            <a:ext cx="366732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2520" y="45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ierstokken (vrouw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36680" y="1341000"/>
            <a:ext cx="453384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orden aangestuurd door de hypofy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aken vrouwelijke geslachtshormonen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oestrogee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en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progester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Oestrogeen: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rouwelijke geslachtskenmerk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Progesteron: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vruchtbaarheidscyclu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75" name="Afbeelding 4" descr=""/>
          <p:cNvPicPr/>
          <p:nvPr/>
        </p:nvPicPr>
        <p:blipFill>
          <a:blip r:embed="rId1"/>
          <a:srcRect l="26060" t="24808" r="12202" b="0"/>
          <a:stretch/>
        </p:blipFill>
        <p:spPr>
          <a:xfrm>
            <a:off x="4998960" y="1844640"/>
            <a:ext cx="388620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Teelbal/testikel (man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518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eslachtsklier van de ma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Twee teelballen in het scrotu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ier wordt het hormoon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testostero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gemaakt en de zaadcell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Testostero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: mannelijke geslachtskenmerk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78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148360" y="1916280"/>
            <a:ext cx="38210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174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in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6933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64796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64796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442" name="Tijdelijke aanduiding voor inhoud 3" descr=""/>
          <p:cNvPicPr/>
          <p:nvPr/>
        </p:nvPicPr>
        <p:blipFill>
          <a:blip r:embed="rId2"/>
          <a:stretch/>
        </p:blipFill>
        <p:spPr>
          <a:xfrm>
            <a:off x="138240" y="60480"/>
            <a:ext cx="8424720" cy="67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et hormoonstelsel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78920" y="1488960"/>
            <a:ext cx="6348600" cy="38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estaat uit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hormoonkliere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: </a:t>
            </a:r>
            <a:br>
              <a:rPr sz="2400"/>
            </a:b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  Liggen verspreid door het lichaam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erkt </a:t>
            </a:r>
            <a:r>
              <a:rPr b="0" i="1" lang="nl-NL" sz="2400" spc="-1" strike="noStrike">
                <a:solidFill>
                  <a:srgbClr val="404040"/>
                </a:solidFill>
                <a:latin typeface="Trebuchet MS"/>
              </a:rPr>
              <a:t>langzamer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dan het zenuwstelsel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Regelt de werking van de organen in je </a:t>
            </a:r>
            <a:br>
              <a:rPr sz="2400"/>
            </a:b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lichaam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Afbeelding 1" descr=""/>
          <p:cNvPicPr/>
          <p:nvPr/>
        </p:nvPicPr>
        <p:blipFill>
          <a:blip r:embed="rId1"/>
          <a:srcRect l="7477" t="21651" r="8263" b="2749"/>
          <a:stretch/>
        </p:blipFill>
        <p:spPr>
          <a:xfrm>
            <a:off x="539640" y="1168560"/>
            <a:ext cx="7704360" cy="5184720"/>
          </a:xfrm>
          <a:prstGeom prst="rect">
            <a:avLst/>
          </a:prstGeom>
          <a:ln w="0">
            <a:noFill/>
          </a:ln>
        </p:spPr>
      </p:pic>
      <p:sp>
        <p:nvSpPr>
          <p:cNvPr id="446" name="Titel 1"/>
          <p:cNvSpPr/>
          <p:nvPr/>
        </p:nvSpPr>
        <p:spPr>
          <a:xfrm>
            <a:off x="250920" y="25560"/>
            <a:ext cx="482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b0f0"/>
                </a:solidFill>
                <a:latin typeface="Trebuchet MS"/>
              </a:rPr>
              <a:t>HORMOONKLIERE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33300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ormone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609120" y="1654200"/>
            <a:ext cx="634860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ijn regelstoffen. </a:t>
            </a:r>
            <a:br>
              <a:rPr sz="1800"/>
            </a:b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Van belang bij het in stand houden van een constant </a:t>
            </a:r>
            <a:br>
              <a:rPr sz="1800"/>
            </a:b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inwendig milieu.</a:t>
            </a:r>
            <a:br>
              <a:rPr sz="1800"/>
            </a:b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Regelen de groei en ontwikkeling van het lichaam.</a:t>
            </a:r>
            <a:br>
              <a:rPr sz="1800"/>
            </a:br>
            <a:r>
              <a:rPr b="0" i="1" lang="nl-NL" sz="1800" spc="-1" strike="noStrike">
                <a:solidFill>
                  <a:srgbClr val="404040"/>
                </a:solidFill>
                <a:latin typeface="Trebuchet MS"/>
              </a:rPr>
              <a:t>-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egelen de stofwisseling.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ormoon wordt gemaakt in een hormoonklier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ordt rechtstreeks afgegeven aan en vervoerd door het bloed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paalde organen reageren op het hormoon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e worden afgebroken in de lever en uitgescheiden in de n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ypothalamus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450" name="Picture 8" descr="hypofyse3"/>
          <p:cNvPicPr/>
          <p:nvPr/>
        </p:nvPicPr>
        <p:blipFill>
          <a:blip r:embed="rId1"/>
          <a:stretch/>
        </p:blipFill>
        <p:spPr>
          <a:xfrm>
            <a:off x="826920" y="1623960"/>
            <a:ext cx="4753080" cy="4111560"/>
          </a:xfrm>
          <a:prstGeom prst="rect">
            <a:avLst/>
          </a:prstGeom>
          <a:ln w="0">
            <a:noFill/>
          </a:ln>
        </p:spPr>
      </p:pic>
      <p:sp>
        <p:nvSpPr>
          <p:cNvPr id="451" name="Tekstvak 1"/>
          <p:cNvSpPr/>
          <p:nvPr/>
        </p:nvSpPr>
        <p:spPr>
          <a:xfrm>
            <a:off x="4087800" y="3125880"/>
            <a:ext cx="1440000" cy="7038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Hypofy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52" name="Picture 17" descr="zomer2008_KVO1207erwt"/>
          <p:cNvPicPr/>
          <p:nvPr/>
        </p:nvPicPr>
        <p:blipFill>
          <a:blip r:embed="rId2"/>
          <a:stretch/>
        </p:blipFill>
        <p:spPr>
          <a:xfrm>
            <a:off x="6084720" y="2922480"/>
            <a:ext cx="136872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ypothalamus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50560" y="1133640"/>
            <a:ext cx="8893080" cy="55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ijna elke regio van de hersenen staat in contact met de hypothalamus. Hierdoor is de hypothalamus betrokken bij alle aspecten van de emoties, de voortplanting, het autonoom zenuwstelsel en de </a:t>
            </a: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hormoonhuishouding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. De hypothalamus reguleert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loeddru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artsla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ong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ors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laap-waakritm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eksuele opwind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ichaamstemperatuur (veroorzaakt bijvoorbeeld bibberen bij kou)</a:t>
            </a:r>
            <a:br>
              <a:rPr sz="1400"/>
            </a:b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55" name="Afbeelding 4" descr=""/>
          <p:cNvPicPr/>
          <p:nvPr/>
        </p:nvPicPr>
        <p:blipFill>
          <a:blip r:embed="rId1"/>
          <a:srcRect l="14431" t="0" r="6414" b="0"/>
          <a:stretch/>
        </p:blipFill>
        <p:spPr>
          <a:xfrm>
            <a:off x="4067280" y="2158920"/>
            <a:ext cx="401940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ypothalamus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47280" y="1989000"/>
            <a:ext cx="784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Ook speelt de hypothalamus een rol bij de drie kerngedragingen te weten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echt- of vluchtreacti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oedingsgedra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oortplantingsgedra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ypofys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56944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elangrijkste hormoonklier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Is een aanhangsel van de hersen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aakt verschillende hormon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Regelen van onder andere de groei (groeihormoon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eïnvloeding van andere hormoonklier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rouw: eicel gaat rijpen    -   Man: zaadcellen worden gevorm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eslachtsorganen gaan geslachtshormonen mak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Regeling werking van de schildklier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4" marL="1828800" indent="0">
              <a:spcBef>
                <a:spcPts val="1001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11268000" y="9079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7T19:33:43Z</dcterms:created>
  <dc:creator>Oscar Eggen</dc:creator>
  <dc:description/>
  <dc:language>en-US</dc:language>
  <cp:lastModifiedBy>Kievit, Eline</cp:lastModifiedBy>
  <cp:lastPrinted>2012-10-05T09:42:24Z</cp:lastPrinted>
  <dcterms:modified xsi:type="dcterms:W3CDTF">2021-01-27T11:33:18Z</dcterms:modified>
  <cp:revision>207</cp:revision>
  <dc:subject/>
  <dc:title>PowerPoint-presentatie</dc:title>
</cp:coreProperties>
</file>