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5"/>
          </p:nvPr>
        </p:nvSpPr>
        <p:spPr>
          <a:xfrm>
            <a:off x="383328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6"/>
          </p:nvPr>
        </p:nvSpPr>
        <p:spPr>
          <a:xfrm>
            <a:off x="-36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27"/>
          </p:nvPr>
        </p:nvSpPr>
        <p:spPr>
          <a:xfrm>
            <a:off x="383328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87632-D090-45D3-AEA8-CC0000FF1E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2C310-AE17-4274-9781-C335076617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0BE83-E885-4B44-BD7A-FB1DF4BE7B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FA5DC-93C6-4E00-8E15-38647432E3B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DCA4D-45E5-4B2B-BA25-607226200F0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Regeling hoeveelheid glucose in het blo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eveelheid glucose in het bloed moet zoveel mogelijk constant blijven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s niet afhankelijk van of je net gegeten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regeld via hormonen uit de </a:t>
            </a: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eilandjes van Langerhans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in de alvleeskli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Insulin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er na het eten veel glucose in je bloed kom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</a:t>
            </a: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laa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insuline: de lever (en spieren) zetten glucose om in glycogeen (soort zetmeel).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ordt opgeslagen in de lever (en de spier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de hoeveelheid glucose in je bloed te laag wordt.</a:t>
            </a: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Bijvoorbeeld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oordat je veel glucose verbrand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hoo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glucagon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ever zet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eer om in glucose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glucose wordt afgegeven aan het blo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Suikerziekte (diabetes) 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eilandjes van Langerhans werken niet goed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Er wordt geen of te weinig insuline gemaakt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Patiënten moeten extra insuline inspui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48A9D-F259-4F82-8DBF-EEC7AD6537C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A2409-5429-47A0-823C-F31EA59CD0F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824D3-D2BC-416A-9C68-01E8C2DED44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CDA01-0883-4831-8EC1-0D0BAB6F168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8F703-969C-4A7B-A107-0590C485D9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60FCF-9A59-4C53-95AB-29384E225E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D3338-7B3D-46FD-BC6D-ADACBA15227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7A516-46B2-4744-9B37-2D3978F7EC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2F2A7-9041-4E9C-81BB-8C912EFD86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4925C-AE7F-47A5-BF97-97BD01B0CAE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73052-79CE-43A3-805A-55B6F142B8B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BA196-28E2-4C26-8F66-C69854AA0BA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3FB-421F-4F39-9B4B-400A6151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4A1-8B0B-4541-9562-0793BFA8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418-6D28-468D-B1C4-6DCBF496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842-9443-4BE6-B7EE-A026FF67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073B-6F55-40B9-83DF-D636A2C6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C905-1129-4E57-912F-40F16CD9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5CB3-BD5E-4BB8-9C7F-ADD2A150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65AA-0CE7-4DD4-B445-D6F1C763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900D-84B0-45F4-8C3A-A3AE63F7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585D-BE47-4E6A-8C15-645D2F60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26E5-0143-4B63-B12E-C14414AC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48B-DAFD-43EE-97A9-8F4C7B67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8646-E8AA-41B8-91F6-A06E155E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57FD-0F36-4112-9C92-FC9384B7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7C2D-C055-42DC-96B9-C21A2034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750E-4B4F-45D3-AA76-1615C0EB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461D-6701-4AF5-A217-A2A0CE2D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51F71-1E12-4B67-B5EC-9543635B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90111-214C-407D-B521-E8F1FBC5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ACB58-219F-4C6D-AF1A-590CF037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0363-5A34-4EEB-9180-7FD03FBD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CB1F-7377-4BF7-AB7F-490FD3E1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075-D45F-4A07-ADA6-8AAAB5D6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11DB9-0E2D-45DB-8469-09D9813B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6D868-D476-4510-BB72-6283B534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2F15-0D2D-4818-BC37-2288AFBF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15919-46DB-4406-AA8B-1E6E17DD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2829B-5322-468F-90CD-4A042707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0D87-5A7A-43E7-B2BB-F2BB1327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5E6E-60D2-4F5E-B878-F166E7BE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A621-E51C-4CC9-A75B-997178C7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C4A4B-CBC8-4CFE-850C-73948A29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48E95-2F99-4677-94BC-820DB015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16D-3FD7-48ED-BD88-A0720CCB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3E087-2034-49DE-B30E-71998697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D8656-96A7-4D8C-B571-28ACEFCE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F293A-F661-4537-B564-2F044CC5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B356-FD7F-4E06-9943-ACAFF52F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12D0-B966-4771-B7DC-21DE0E23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41A51-05AB-49FF-8E5C-E93E95FD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3D633-CFDC-4BF3-94BB-E6E43435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77E52-2664-4F49-9257-7BEBCF80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3FADC-CF89-4C08-8ABB-BE956FA7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7653D-F853-47BF-8B3A-327F1452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67F-7213-4642-BA1D-A05F489E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6A651-77DC-492F-8789-A0253C99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E24B1-4DC7-43E1-8C75-ECBE0131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50C1-5A8A-48BC-A6EF-DDFDE489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01EB5-8D45-40FD-A07A-A90AD6D3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C44C3-3B8C-4DAB-A03B-5A1517FB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E1848-717E-4E67-AF2A-F27893B8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AA291-023B-49D1-B043-B161A136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A859E-65EE-42A1-BCEA-1A892C1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460A7-3116-4A6F-BC2E-9619B460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9353D-F7D7-413C-9786-40509859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8C5-3ADB-48A5-B7D7-FE22EA84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8C417-2A2C-4931-9799-8DB43987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3CE08-4716-4375-8571-D08262CE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B0177-DBF9-4845-A9DC-F68E3A2B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0FBB6-8FF2-4580-BFFC-8678956E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AE3A9-7226-403A-869C-A9B1D0ED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3287F-7F2E-4244-AFAB-F01E2F5A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B26A5-4E41-4720-91D3-5177772B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07208-27FA-499C-9DD4-2201EEB6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EAF19-35FC-4A7D-93BF-AEEBD776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EAFE4-DF0C-49FC-9DAE-C6F29E8B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86C-9FB6-432F-BA24-8CB2A1E7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05B32-BA40-480C-8649-B740B4AF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6D8B3-4F70-4D24-B715-AA0548FC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D8C36-CA83-4F45-997F-C50AB7C7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ED596-3357-4B3D-A539-B3BE2ECC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9063B-7F87-4011-ADD5-69D2BE19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752F0-863C-4598-B47A-E2C91F23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065DF-D4B1-4A73-AD14-98FDB7BA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7A550-4A2B-4E24-B9E3-25DAF3DC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EED25-7B33-422D-B6B1-85AD48A8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C5E8A-14A1-4426-BDFF-A6E3D4C5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ACE-B87B-4542-AAFB-850AD13C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18F0F-C8F7-4D35-9266-0BA7F151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072D9-6B70-4D99-B9AB-7BD7EA38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5CF8D-123F-4BF2-BDC4-71680C1B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728CC-00FC-408C-A26A-47E7E2DC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4C5F9-FB97-4AC3-82D3-D1088F28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00AF8-7289-4E0F-A0B6-B1A446EB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6C35B-9F11-4690-8B2F-437D862B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1571E-1C28-420F-B43C-3DEC9927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2F79A-1F39-483F-B33A-80F9B8BB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EFEBE-6910-44B1-A374-56A1A1F2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106-8C26-4F53-BDB5-E120D470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2F495-C51B-4A88-A684-B8B26096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A0786-32F5-4ED7-AEEE-F091A4D1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714C4-CB52-4132-B70E-4CA9D0F5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776E8-7E2A-4F90-B101-B1452379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3F420-F61A-4816-9825-6E30C892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76781-0563-4417-97CA-C1B8A26F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34B2F-B2C3-4C67-B50C-18E9DBF9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76808-ECED-471D-A9A0-420282D2D7DD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64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40587-8826-416F-8880-3DF3E1F22EC1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77047-9B8E-44A7-AC52-DB63881B5FCF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6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39C72-567F-416C-999E-53D902B15674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2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36F0F-B4E8-46BD-9CF1-4EA95B2C938D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4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AF096-544C-4D6C-A2AF-9E0092926F3D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2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D0B81-B452-4889-B108-3BA073250C75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8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CA844-9C2A-4DA3-898C-080648A0F3BB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606760" y="4797360"/>
            <a:ext cx="296208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Anatomie &amp; Fysiologie</a:t>
            </a:r>
            <a:br>
              <a:rPr sz="2100"/>
            </a:b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Hormonen </a:t>
            </a:r>
            <a:endParaRPr b="0" lang="en-US" sz="21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39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658880" y="1077840"/>
            <a:ext cx="48564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0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childkli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000" y="1170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indervormig orgaan in de hals; onder strottenhoofd, boven borstbeen tegen de luchtpij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ildklier produceert schildklierhormo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ze hormonen stimuleren de stofwisseling en de groe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3" name="Tijdelijke aanduiding voor inhoud 4" descr=""/>
          <p:cNvPicPr/>
          <p:nvPr/>
        </p:nvPicPr>
        <p:blipFill>
          <a:blip r:embed="rId1"/>
          <a:srcRect l="0" t="0" r="33855" b="0"/>
          <a:stretch/>
        </p:blipFill>
        <p:spPr>
          <a:xfrm>
            <a:off x="4473720" y="1270080"/>
            <a:ext cx="43891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Zwezerik ( thymus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189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een orgaan in de borstkas. De thymus ligt vlak achter het borstbeen en vlak bij het ha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vooral actief bij kinderen, tot de pubertijd. Daarna verschrompelt de zwezerik langzaam en wordt de klier vervangen door vetweefs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e rol in ons afweersyste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6" name="Tijdelijke aanduiding voor inhoud 4" descr=""/>
          <p:cNvPicPr/>
          <p:nvPr/>
        </p:nvPicPr>
        <p:blipFill>
          <a:blip r:embed="rId1"/>
          <a:srcRect l="0" t="0" r="9282" b="0"/>
          <a:stretch/>
        </p:blipFill>
        <p:spPr>
          <a:xfrm>
            <a:off x="4809960" y="1160640"/>
            <a:ext cx="3853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ijnier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518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Adrena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emaakt in de bijn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uchthormoon/Stresshormo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omt vrij als je lichaam plotseling in actie moet kom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der invloed van adrenalin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at je hart sneller klopp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 je sneller ademhal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lycogeen omgezet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9" name="Afbeelding 5" descr=""/>
          <p:cNvPicPr/>
          <p:nvPr/>
        </p:nvPicPr>
        <p:blipFill>
          <a:blip r:embed="rId1"/>
          <a:stretch/>
        </p:blipFill>
        <p:spPr>
          <a:xfrm>
            <a:off x="5470560" y="1467000"/>
            <a:ext cx="3378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2520" y="198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landjes van Langerhan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5280" y="1341360"/>
            <a:ext cx="4897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ggen in de alvleeskli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er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insulin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glucagon;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suline zet glucose om in glycoge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lucagon zet glycogeen om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t hiermee de bloedsuikerspiegel in bala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2" name="Afbeelding 1" descr=""/>
          <p:cNvPicPr/>
          <p:nvPr/>
        </p:nvPicPr>
        <p:blipFill>
          <a:blip r:embed="rId1"/>
          <a:stretch/>
        </p:blipFill>
        <p:spPr>
          <a:xfrm>
            <a:off x="5337000" y="1341360"/>
            <a:ext cx="36673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2520" y="4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erstokken (vrouw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36680" y="1341000"/>
            <a:ext cx="45338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en aangestuurd door de hypofy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ken vrouwelijke geslachtshormon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ruchtbaarheidscycl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5" name="Afbeelding 4" descr=""/>
          <p:cNvPicPr/>
          <p:nvPr/>
        </p:nvPicPr>
        <p:blipFill>
          <a:blip r:embed="rId1"/>
          <a:srcRect l="26060" t="24808" r="12202" b="0"/>
          <a:stretch/>
        </p:blipFill>
        <p:spPr>
          <a:xfrm>
            <a:off x="4998960" y="1844640"/>
            <a:ext cx="38862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eelbal/testikel (man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klier van de ma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 teelballen in het scrotu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ier wordt het hormoo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gemaakt en de zaadcel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mann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821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74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93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442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138240" y="60480"/>
            <a:ext cx="8424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t hormoonstelsel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8920" y="148896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taat uit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hormoonkli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Liggen verspreid door het 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rkt </a:t>
            </a:r>
            <a:r>
              <a:rPr b="0" i="1" lang="nl-NL" sz="2400" spc="-1" strike="noStrike">
                <a:solidFill>
                  <a:srgbClr val="404040"/>
                </a:solidFill>
                <a:latin typeface="Trebuchet MS"/>
              </a:rPr>
              <a:t>langzamer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dan het zenuwstelse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t de werking van de organen in je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fbeelding 1" descr=""/>
          <p:cNvPicPr/>
          <p:nvPr/>
        </p:nvPicPr>
        <p:blipFill>
          <a:blip r:embed="rId1"/>
          <a:srcRect l="7477" t="21651" r="8263" b="2749"/>
          <a:stretch/>
        </p:blipFill>
        <p:spPr>
          <a:xfrm>
            <a:off x="539640" y="1168560"/>
            <a:ext cx="7704360" cy="5184720"/>
          </a:xfrm>
          <a:prstGeom prst="rect">
            <a:avLst/>
          </a:prstGeom>
          <a:ln w="0">
            <a:noFill/>
          </a:ln>
        </p:spPr>
      </p:pic>
      <p:sp>
        <p:nvSpPr>
          <p:cNvPr id="446" name="Titel 1"/>
          <p:cNvSpPr/>
          <p:nvPr/>
        </p:nvSpPr>
        <p:spPr>
          <a:xfrm>
            <a:off x="250920" y="25560"/>
            <a:ext cx="482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b0f0"/>
                </a:solidFill>
                <a:latin typeface="Trebuchet MS"/>
              </a:rPr>
              <a:t>HORMOONKLIER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ormon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09120" y="1654200"/>
            <a:ext cx="6348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ijn regelstoffen.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an belang bij het in stand houden van een constant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inwendig milieu.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Regelen de groei en ontwikkeling van het lichaam.</a:t>
            </a:r>
            <a:br>
              <a:rPr sz="1800"/>
            </a:b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gelen de stofwisseling.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rmoon wordt gemaakt in een hormoonkli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rechtstreeks afgegeven aan en vervoerd door het blo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paalde organen reageren op het hormoo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 worden afgebroken in de lever en uitgescheiden in de n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50" name="Picture 8" descr="hypofyse3"/>
          <p:cNvPicPr/>
          <p:nvPr/>
        </p:nvPicPr>
        <p:blipFill>
          <a:blip r:embed="rId1"/>
          <a:stretch/>
        </p:blipFill>
        <p:spPr>
          <a:xfrm>
            <a:off x="826920" y="1623960"/>
            <a:ext cx="4753080" cy="4111560"/>
          </a:xfrm>
          <a:prstGeom prst="rect">
            <a:avLst/>
          </a:prstGeom>
          <a:ln w="0">
            <a:noFill/>
          </a:ln>
        </p:spPr>
      </p:pic>
      <p:sp>
        <p:nvSpPr>
          <p:cNvPr id="451" name="Tekstvak 1"/>
          <p:cNvSpPr/>
          <p:nvPr/>
        </p:nvSpPr>
        <p:spPr>
          <a:xfrm>
            <a:off x="4087800" y="3125880"/>
            <a:ext cx="1440000" cy="7038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ypofy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2" name="Picture 17" descr="zomer2008_KVO1207erwt"/>
          <p:cNvPicPr/>
          <p:nvPr/>
        </p:nvPicPr>
        <p:blipFill>
          <a:blip r:embed="rId2"/>
          <a:stretch/>
        </p:blipFill>
        <p:spPr>
          <a:xfrm>
            <a:off x="6084720" y="2922480"/>
            <a:ext cx="1368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560" y="1133640"/>
            <a:ext cx="889308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na elke regio van de hersenen staat in contact met de hypothalamus. Hierdoor is de hypothalamus betrokken bij alle aspecten van de emoties, de voortplanting, het autonoom zenuwstelsel en de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hormoonhuishouding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. De hypothalamus reguleert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loeddru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tsla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n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rs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aap-waakrit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ksuele opwin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ichaamstemperatuur (veroorzaakt bijvoorbeeld bibberen bij kou)</a:t>
            </a:r>
            <a:br>
              <a:rPr sz="1400"/>
            </a:b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5" name="Afbeelding 4" descr=""/>
          <p:cNvPicPr/>
          <p:nvPr/>
        </p:nvPicPr>
        <p:blipFill>
          <a:blip r:embed="rId1"/>
          <a:srcRect l="14431" t="0" r="6414" b="0"/>
          <a:stretch/>
        </p:blipFill>
        <p:spPr>
          <a:xfrm>
            <a:off x="4067280" y="2158920"/>
            <a:ext cx="40194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7280" y="198900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ok speelt de hypothalamus een rol bij de drie kerngedragingen te wet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cht- of vluchtreac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ed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tplant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fy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569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ste hormoonkl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s een aanhangsel van de herse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akt verschillende hormo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en van onder andere de groei (groeihormo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ïnvloeding van andere hormoonkl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: eicel gaat rijpen    -   Man: zaadcellen worden gevorm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organen gaan geslachtshormonen mak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ing werking van de schildkli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828800" indent="0"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126800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9:33:43Z</dcterms:created>
  <dc:creator>Oscar Eggen</dc:creator>
  <dc:description/>
  <dc:language>en-US</dc:language>
  <cp:lastModifiedBy>Kievit, Eline</cp:lastModifiedBy>
  <cp:lastPrinted>2012-10-05T09:42:24Z</cp:lastPrinted>
  <dcterms:modified xsi:type="dcterms:W3CDTF">2021-01-27T11:33:18Z</dcterms:modified>
  <cp:revision>207</cp:revision>
  <dc:subject/>
  <dc:title>PowerPoint-presentatie</dc:title>
</cp:coreProperties>
</file>