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3.jpeg" ContentType="image/jpe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0" y="0"/>
            <a:ext cx="6764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dt" idx="25"/>
          </p:nvPr>
        </p:nvSpPr>
        <p:spPr>
          <a:xfrm>
            <a:off x="383328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sldImg"/>
          </p:nvPr>
        </p:nvSpPr>
        <p:spPr>
          <a:xfrm>
            <a:off x="915840" y="739440"/>
            <a:ext cx="493416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6260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ftr" idx="26"/>
          </p:nvPr>
        </p:nvSpPr>
        <p:spPr>
          <a:xfrm>
            <a:off x="-360" y="9374040"/>
            <a:ext cx="293220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 type="sldNum" idx="27"/>
          </p:nvPr>
        </p:nvSpPr>
        <p:spPr>
          <a:xfrm>
            <a:off x="3833280" y="9374040"/>
            <a:ext cx="293220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E8A0F8-6784-40B0-8070-9F9D1DDB0F8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6260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ijdelijke aanduiding voor dianummer 3"/>
          <p:cNvSpPr/>
          <p:nvPr/>
        </p:nvSpPr>
        <p:spPr>
          <a:xfrm>
            <a:off x="3833640" y="9374040"/>
            <a:ext cx="2932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71E453-CC91-4DD6-A6C6-CB593C2AE98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62600" cy="44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ijdelijke aanduiding voor dianummer 3"/>
          <p:cNvSpPr/>
          <p:nvPr/>
        </p:nvSpPr>
        <p:spPr>
          <a:xfrm>
            <a:off x="3833640" y="9374040"/>
            <a:ext cx="2932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3A3543-1CFE-4EB6-B09E-D6EC37721CAE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62600" cy="44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ijdelijke aanduiding voor dianummer 3"/>
          <p:cNvSpPr/>
          <p:nvPr/>
        </p:nvSpPr>
        <p:spPr>
          <a:xfrm>
            <a:off x="3833640" y="9374040"/>
            <a:ext cx="2932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5B3A3A-CD7F-4420-BD78-E4FE234AB5F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6260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ijdelijke aanduiding voor dianummer 3"/>
          <p:cNvSpPr/>
          <p:nvPr/>
        </p:nvSpPr>
        <p:spPr>
          <a:xfrm>
            <a:off x="3833640" y="9374040"/>
            <a:ext cx="2932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8A0D3D-54AE-4B33-9D4E-5A6E5C0AB7F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62600" cy="44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Times New Roman"/>
              </a:rPr>
              <a:t>Regeling hoeveelheid glucose in het blo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Hoeveelheid glucose in het bloed moet zoveel mogelijk constant blijven. 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Dus niet afhankelijk van of je net gegeten heb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Wordt geregeld via hormonen uit de </a:t>
            </a:r>
            <a:r>
              <a:rPr b="1" lang="nl-NL" sz="1200" spc="-1" strike="noStrike">
                <a:solidFill>
                  <a:srgbClr val="000000"/>
                </a:solidFill>
                <a:latin typeface="Times New Roman"/>
              </a:rPr>
              <a:t>eilandjes van Langerhans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(in de alvleesklier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Times New Roman"/>
              </a:rPr>
              <a:t>Insuline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Wordt gemaakt als er na het eten veel glucose in je bloed kom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Het </a:t>
            </a:r>
            <a:r>
              <a:rPr b="0" i="1" lang="nl-NL" sz="1200" spc="-1" strike="noStrike">
                <a:solidFill>
                  <a:srgbClr val="000000"/>
                </a:solidFill>
                <a:latin typeface="Times New Roman"/>
              </a:rPr>
              <a:t>verlaagt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de hoeveelheid glucose doordat onder invloed van insuline: de lever (en spieren) zetten glucose om in glycogeen (soort zetmeel). </a:t>
            </a:r>
            <a:r>
              <a:rPr b="0" lang="nl-NL" sz="1200" spc="-1" strike="noStrike" u="sng">
                <a:solidFill>
                  <a:srgbClr val="000000"/>
                </a:solidFill>
                <a:uFillTx/>
                <a:latin typeface="Times New Roman"/>
              </a:rPr>
              <a:t>Glycogeen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wordt opgeslagen in de lever (en de spiere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Times New Roman"/>
              </a:rPr>
              <a:t>Glucagon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Wordt gemaakt als de hoeveelheid glucose in je bloed te laag wordt.</a:t>
            </a:r>
            <a:br>
              <a:rPr sz="1200"/>
            </a:br>
            <a:r>
              <a:rPr b="0" i="1" lang="nl-NL" sz="1200" spc="-1" strike="noStrike">
                <a:solidFill>
                  <a:srgbClr val="000000"/>
                </a:solidFill>
                <a:latin typeface="Times New Roman"/>
              </a:rPr>
              <a:t>Bijvoorbeeld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Doordat je veel glucose verbrand heb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200" spc="-1" strike="noStrike">
                <a:solidFill>
                  <a:srgbClr val="000000"/>
                </a:solidFill>
                <a:latin typeface="Times New Roman"/>
              </a:rPr>
              <a:t>Verhoogt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de hoeveelheid glucose doordat onder invloed van glucagon: 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de lever zet </a:t>
            </a:r>
            <a:r>
              <a:rPr b="0" lang="nl-NL" sz="1200" spc="-1" strike="noStrike" u="sng">
                <a:solidFill>
                  <a:srgbClr val="000000"/>
                </a:solidFill>
                <a:uFillTx/>
                <a:latin typeface="Times New Roman"/>
              </a:rPr>
              <a:t>glycogeen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weer om in glucose. 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Deze glucose wordt afgegeven aan het blo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Times New Roman"/>
              </a:rPr>
              <a:t>Suikerziekte (diabetes) : 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De eilandjes van Langerhans werken niet goed.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* Er wordt geen of te weinig insuline gemaakt.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* Patiënten moeten extra insuline inspuit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ijdelijke aanduiding voor dianummer 3"/>
          <p:cNvSpPr/>
          <p:nvPr/>
        </p:nvSpPr>
        <p:spPr>
          <a:xfrm>
            <a:off x="3833640" y="9374040"/>
            <a:ext cx="2932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E3F696-2359-4C0C-9D21-60A3D87CD3E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6260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Tijdelijke aanduiding voor dianummer 3"/>
          <p:cNvSpPr/>
          <p:nvPr/>
        </p:nvSpPr>
        <p:spPr>
          <a:xfrm>
            <a:off x="3833640" y="9374040"/>
            <a:ext cx="2932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8875AE-24BF-40D6-9F7B-46EE282BE6C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6260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Tijdelijke aanduiding voor dianummer 3"/>
          <p:cNvSpPr/>
          <p:nvPr/>
        </p:nvSpPr>
        <p:spPr>
          <a:xfrm>
            <a:off x="3833640" y="9374040"/>
            <a:ext cx="2932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ABC981-F959-4762-A46A-E56237C8A09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6260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ijdelijke aanduiding voor dianummer 3"/>
          <p:cNvSpPr/>
          <p:nvPr/>
        </p:nvSpPr>
        <p:spPr>
          <a:xfrm>
            <a:off x="3833640" y="9374040"/>
            <a:ext cx="2932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13816B-BC58-49F8-84E0-5323617BE05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6260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ijdelijke aanduiding voor dianummer 3"/>
          <p:cNvSpPr/>
          <p:nvPr/>
        </p:nvSpPr>
        <p:spPr>
          <a:xfrm>
            <a:off x="3833640" y="9374040"/>
            <a:ext cx="2932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A08144-2663-42BC-A58C-D6F7D09C550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6260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ijdelijke aanduiding voor dianummer 3"/>
          <p:cNvSpPr/>
          <p:nvPr/>
        </p:nvSpPr>
        <p:spPr>
          <a:xfrm>
            <a:off x="3833640" y="9374040"/>
            <a:ext cx="2932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323FCE-A065-4C7D-B68D-2B80FF9A344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6260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Tijdelijke aanduiding voor dianummer 3"/>
          <p:cNvSpPr/>
          <p:nvPr/>
        </p:nvSpPr>
        <p:spPr>
          <a:xfrm>
            <a:off x="3833640" y="9374040"/>
            <a:ext cx="2932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013D0B-9535-4DE8-BE63-6D34126AD0B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6260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ijdelijke aanduiding voor dianummer 3"/>
          <p:cNvSpPr/>
          <p:nvPr/>
        </p:nvSpPr>
        <p:spPr>
          <a:xfrm>
            <a:off x="3833640" y="9374040"/>
            <a:ext cx="2932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B566B4-3A2F-4F3B-8909-AB9AA9C2844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6260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ijdelijke aanduiding voor dianummer 3"/>
          <p:cNvSpPr/>
          <p:nvPr/>
        </p:nvSpPr>
        <p:spPr>
          <a:xfrm>
            <a:off x="3833640" y="9374040"/>
            <a:ext cx="2932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3557B1-55D9-4700-BC1D-F9694B8AAD3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6260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ijdelijke aanduiding voor dianummer 3"/>
          <p:cNvSpPr/>
          <p:nvPr/>
        </p:nvSpPr>
        <p:spPr>
          <a:xfrm>
            <a:off x="3833640" y="9374040"/>
            <a:ext cx="2932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D77CDA-9057-4573-AFE1-40D65D910B3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6260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ijdelijke aanduiding voor dianummer 3"/>
          <p:cNvSpPr/>
          <p:nvPr/>
        </p:nvSpPr>
        <p:spPr>
          <a:xfrm>
            <a:off x="3833640" y="9374040"/>
            <a:ext cx="2932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FA499A-EC89-40BD-B322-7D7DEBBB4D1E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6260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ijdelijke aanduiding voor dianummer 3"/>
          <p:cNvSpPr/>
          <p:nvPr/>
        </p:nvSpPr>
        <p:spPr>
          <a:xfrm>
            <a:off x="3833640" y="9374040"/>
            <a:ext cx="2932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989082-8B08-43D3-83A4-1B00A6BF319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58A1-E74A-41E6-AEF0-2425D710B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CC06-94B1-402E-B53E-0923D7F7D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2617-EA25-43C5-8FBD-79B5DDB49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0BDC-81C1-4C6B-981C-75F01EC19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88E7B-7088-48CC-A535-984569AF6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AD3A3-50A5-4A6E-88F2-074E362F2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35411-56E6-4058-B1E5-093AE6209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CE53B-67DC-4AF8-AF0B-A9D6EEDB0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4560B-F7B2-4EA7-A902-DBB7C1241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A5008-3B15-4FDA-92EE-62AD6AB59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51D65-F807-407C-B486-B1AEC5CDF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9124-7019-4DBB-AE55-033642D68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594FD-AAF4-4E9B-B7E2-EE216B169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C6670-B1F1-41FD-B721-ADD844D1D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A2EE3-8DEA-447A-8B3F-F9A0B148A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E8A24-C4DB-4EF5-B0CC-21B88AE51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55FB3-717A-4EFE-AD1D-E5E4FFDD6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C41F5-CFE1-4522-B49E-0920B96BB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0C0B5-D912-4072-BB8F-123BDAF66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67C84-03EC-46E1-B1D1-2259CCDED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5E4FE-7ABB-42B9-9A5E-FA7058216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C6A32-B12F-462D-AEC8-27C5D97BD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DD73-6CE6-4C78-BCE1-B4426B07F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F2387-47B9-4A84-A655-125D16BEB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483C3-58B9-4FE1-B634-956C437F3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EC1BB-D4F0-4FE9-B8CE-C945038D2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B0906-CC0F-47E2-A9C6-50CAC9DAF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4E582-0DAD-4304-BD91-724312D9A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2FCCB-1FB7-4544-AF5A-466EEE136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71854-2F65-43DB-8142-715911CBF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C5ABB-67A9-49ED-A559-A52B74F9D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E78E7-AD0E-4D47-B7E2-23B40A469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8374E-BB9D-4F0E-9343-41B5C02B5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A23A-3D0A-4E12-9468-95AB83E8E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D3E16-F828-42E5-922A-DFF2C17F9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9DA59-5E75-4CB5-A05D-D3964C29D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A39B39-E442-429C-847A-8214834E8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984C9-C0F8-4C11-B2BB-2233F27F9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66BCC-9F17-4D22-A3F1-FDD0768AC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510A2-BB88-4F2F-8514-15F744B59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C294F-B9ED-4191-B51E-065FABFD6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5C7006-A61E-4FDD-9321-56CB2A56F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3B485-703F-492D-BA7C-E41B2E3D2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E20D0C-0828-4CD0-9D3A-28B53EC9A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7F51-EC29-42F5-BB30-75A1C883E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69714C-AE4A-46CE-B425-EF055A6C0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4B8250-D6DE-4170-A8F4-2C384A3B4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3DA73E-21DE-4A03-8E45-2992C6673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B940B8-E6AA-4CE5-A0A7-203B2CA5A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FEC094-BE93-4CCF-8F2C-70417571E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94AA6E-37EA-4C84-999C-9AE357AF1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411C87-67DC-4DFB-9C18-6B8377A5D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1A06F2-85D6-419F-B0DD-BA64C07A7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919A92-E143-4714-BA90-08AC2898D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638923-C6A1-40E3-9499-4EB992FC4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9335-E0E9-419B-A634-5AC97359E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5EF5EC-2F05-4192-ADF9-3AAE53BA3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B5FD15-518B-466D-ABBA-55FB896A2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03093B-E3CA-4E60-A59F-5EDB42566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D9ED1A-ED8D-456D-ADA6-37CA2698C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D6EB6F-56A2-4B6E-848F-F59A28CEB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EA85C6-3AF1-48D3-A18E-C6B34FCCD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60C47D-8153-4022-BAB5-D76C39F48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548DD3-D2AD-4EEC-B6CA-8ED69DA6B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A06E16-C8B8-4C66-AE9F-8599191CE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D702BE-58B5-42D7-B72A-21BE1D38B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CAE9-2CD5-40A0-A611-37A6BEACC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6F1E19-9163-499E-BA98-6C3A34694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300A4D-0640-4310-9FFA-607C22484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8EF305-F439-4989-8022-8EC4E6A9A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E42DF7-3D50-401A-8A71-FD5F89A38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F54B1E-883E-4604-BEAF-A66D05F36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FE06EE-C878-45F6-8035-9B3AFC797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D0F57A-1C66-4286-868E-3D763C1FD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E05AE9-8F3F-4970-AFC8-24AA696DF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AF9B69-3BBE-4688-9554-264375BCD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F6FE9C-34A7-48FB-84A1-E2A815E95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511E-FDDF-4647-9349-284175A63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E37851-9B27-497A-8FA8-8FD76D8CB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B0C3E6-650B-4462-B5C6-50203C59D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D56653-1EC7-4A32-8125-F5091B740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BF9CD0-E51E-4D5F-B891-0D9E4391D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2311AB-3AC5-4980-B165-8CFAA906F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BFB470-0DE2-4596-9D7E-C23F51EAE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2EF839-09CD-4DC0-9E75-1A44EDA48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D97DA3-060D-4B04-9F83-874D79389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166006-09EF-42A9-91AC-388E062AD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42ECFE-47C8-4938-BAE1-EE1E70624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BB99-2C57-41C1-A58E-002DF9308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BCDABE-005A-4589-97D2-C313D2492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862376-7039-4D07-B60D-DDE0DAC3F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B0DFA4-962C-4C13-9EAF-3F97FEBB9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E25BF7-EA1C-42AE-89AD-DB911A90F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BE98BA-6CDA-4BC4-89BE-5DDDC0EE3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FAA2E6-63BB-41DF-884B-3C937E5FD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0EAC42-E6DD-40BB-B69B-6F3784C53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DEEFB8-2722-474A-9205-963829881224}" type="slidenum">
              <a:rPr b="0" lang="nl-NL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3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64" name="Straight Connector 2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5" name="Straight Connector 2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6" name="Freeform 2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7" name="Freeform 3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8" name="Freeform 3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9" name="Freeform 3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0" name="Freeform 3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1" name="Freeform 3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2" name="Freeform 3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3" name="Freeform 1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5fcbe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455A3A-E1D7-473C-9E97-6AC6586E8FD1}" type="slidenum">
              <a:rPr b="0" lang="en-US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16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7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8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9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0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1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2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3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4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5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OE juni 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0D5249-AB4E-420F-B81C-976406761545}" type="slidenum">
              <a:rPr b="0" lang="nl-NL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68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9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70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71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72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73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74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75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76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77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OE juni 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A01A4F-2036-4FF7-9925-C1A300E4A5A9}" type="slidenum">
              <a:rPr b="0" lang="nl-NL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220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1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2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3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4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5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6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7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8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9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30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3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4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5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876DDC-1040-4648-BAD9-24BF660B6E9A}" type="slidenum">
              <a:rPr b="0" lang="nl-NL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274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5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6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7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8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9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80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81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82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83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84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6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17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18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A3F66D-BE4A-491F-9DEF-CAE72D66A50B}" type="slidenum">
              <a:rPr b="0" lang="nl-NL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328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29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30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31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32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33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34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35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36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37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OE juni 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21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4AA4FD-5514-4BD6-83E0-598C2FAFFBA3}" type="slidenum">
              <a:rPr b="0" lang="nl-NL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380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81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82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83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84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85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86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87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88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89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OE juni 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4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F8A910-B00C-462C-AE2A-0A2C3232A640}" type="slidenum">
              <a:rPr b="0" lang="nl-NL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2606760" y="4797360"/>
            <a:ext cx="2962080" cy="67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100" spc="-1" strike="noStrike">
                <a:solidFill>
                  <a:srgbClr val="236292"/>
                </a:solidFill>
                <a:latin typeface="Trebuchet MS"/>
              </a:rPr>
              <a:t>Anatomie &amp; Fysiologie</a:t>
            </a:r>
            <a:br>
              <a:rPr sz="2100"/>
            </a:br>
            <a:r>
              <a:rPr b="0" lang="nl-NL" sz="2100" spc="-1" strike="noStrike">
                <a:solidFill>
                  <a:srgbClr val="236292"/>
                </a:solidFill>
                <a:latin typeface="Trebuchet MS"/>
              </a:rPr>
              <a:t>Hormonen </a:t>
            </a:r>
            <a:endParaRPr b="0" lang="en-US" sz="21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439" name="Picture 2" descr="Anatomische, Anatomie, Het Lichaam, Gut, Gezondheid"/>
          <p:cNvPicPr/>
          <p:nvPr/>
        </p:nvPicPr>
        <p:blipFill>
          <a:blip r:embed="rId1"/>
          <a:stretch/>
        </p:blipFill>
        <p:spPr>
          <a:xfrm>
            <a:off x="1658880" y="1077840"/>
            <a:ext cx="4856400" cy="32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701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Schildklier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68000" y="1170000"/>
            <a:ext cx="4032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Vlindervormig orgaan in de hals; onder strottenhoofd, boven borstbeen tegen de luchtpijp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Schildklier produceert schildklierhormon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Deze hormonen stimuleren de stofwisseling en de groei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63" name="Tijdelijke aanduiding voor inhoud 4" descr=""/>
          <p:cNvPicPr/>
          <p:nvPr/>
        </p:nvPicPr>
        <p:blipFill>
          <a:blip r:embed="rId1"/>
          <a:srcRect l="0" t="0" r="33855" b="0"/>
          <a:stretch/>
        </p:blipFill>
        <p:spPr>
          <a:xfrm>
            <a:off x="4473720" y="1270080"/>
            <a:ext cx="4389120" cy="38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Zwezerik ( thymus)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39640" y="1189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De zwezerik is een orgaan in de borstkas. De thymus ligt vlak achter het borstbeen en vlak bij het hart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De zwezerik is vooral actief bij kinderen, tot de pubertijd. Daarna verschrompelt de zwezerik langzaam en wordt de klier vervangen door vetweefs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Belangrijke rol in ons afweersysteem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66" name="Tijdelijke aanduiding voor inhoud 4" descr=""/>
          <p:cNvPicPr/>
          <p:nvPr/>
        </p:nvPicPr>
        <p:blipFill>
          <a:blip r:embed="rId1"/>
          <a:srcRect l="0" t="0" r="9282" b="0"/>
          <a:stretch/>
        </p:blipFill>
        <p:spPr>
          <a:xfrm>
            <a:off x="4809960" y="1160640"/>
            <a:ext cx="3853080" cy="41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371600" y="17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Bijnieren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5184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Trebuchet MS"/>
              </a:rPr>
              <a:t>Adrenalin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Wordt gemaakt in de bijniere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Vluchthormoon/Stresshormoo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Komt vrij als je lichaam plotseling in actie moet kome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Onder invloed van adrenaline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Gaat je hart sneller kloppe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Ga je sneller ademhale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Wordt glycogeen omgezet in glucos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69" name="Afbeelding 5" descr=""/>
          <p:cNvPicPr/>
          <p:nvPr/>
        </p:nvPicPr>
        <p:blipFill>
          <a:blip r:embed="rId1"/>
          <a:stretch/>
        </p:blipFill>
        <p:spPr>
          <a:xfrm>
            <a:off x="5470560" y="1467000"/>
            <a:ext cx="33782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42520" y="19800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Eilandjes van Langerhans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395280" y="1341360"/>
            <a:ext cx="48974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Liggen in de alvleesklier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Produceren </a:t>
            </a:r>
            <a:r>
              <a:rPr b="1" lang="nl-NL" sz="2400" spc="-1" strike="noStrike">
                <a:solidFill>
                  <a:srgbClr val="404040"/>
                </a:solidFill>
                <a:latin typeface="Trebuchet MS"/>
              </a:rPr>
              <a:t>insuline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en </a:t>
            </a:r>
            <a:r>
              <a:rPr b="1" lang="nl-NL" sz="2400" spc="-1" strike="noStrike">
                <a:solidFill>
                  <a:srgbClr val="404040"/>
                </a:solidFill>
                <a:latin typeface="Trebuchet MS"/>
              </a:rPr>
              <a:t>glucagon;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Insuline zet glucose om in glycoge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Glucagon zet glycogeen om in glucos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Houdt hiermee de bloedsuikerspiegel in balan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72" name="Afbeelding 1" descr=""/>
          <p:cNvPicPr/>
          <p:nvPr/>
        </p:nvPicPr>
        <p:blipFill>
          <a:blip r:embed="rId1"/>
          <a:stretch/>
        </p:blipFill>
        <p:spPr>
          <a:xfrm>
            <a:off x="5337000" y="1341360"/>
            <a:ext cx="3667320" cy="47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2520" y="45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Eierstokken (vrouw)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36680" y="1341000"/>
            <a:ext cx="453384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Worden aangestuurd door de hypofys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Maken vrouwelijke geslachtshormonen </a:t>
            </a:r>
            <a:r>
              <a:rPr b="1" lang="nl-NL" sz="2400" spc="-1" strike="noStrike">
                <a:solidFill>
                  <a:srgbClr val="404040"/>
                </a:solidFill>
                <a:latin typeface="Trebuchet MS"/>
              </a:rPr>
              <a:t>oestrogeen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en </a:t>
            </a:r>
            <a:r>
              <a:rPr b="1" lang="nl-NL" sz="2400" spc="-1" strike="noStrike">
                <a:solidFill>
                  <a:srgbClr val="404040"/>
                </a:solidFill>
                <a:latin typeface="Trebuchet MS"/>
              </a:rPr>
              <a:t>progestero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404040"/>
                </a:solidFill>
                <a:latin typeface="Trebuchet MS"/>
              </a:rPr>
              <a:t>Oestrogeen: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vrouwelijke geslachtskenmerk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404040"/>
                </a:solidFill>
                <a:latin typeface="Trebuchet MS"/>
              </a:rPr>
              <a:t>Progesteron: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vruchtbaarheidscyclu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75" name="Afbeelding 4" descr=""/>
          <p:cNvPicPr/>
          <p:nvPr/>
        </p:nvPicPr>
        <p:blipFill>
          <a:blip r:embed="rId1"/>
          <a:srcRect l="26060" t="24808" r="12202" b="0"/>
          <a:stretch/>
        </p:blipFill>
        <p:spPr>
          <a:xfrm>
            <a:off x="4998960" y="1844640"/>
            <a:ext cx="388620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Teelbal/testikel (man)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518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Geslachtsklier van de ma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Twee teelballen in het scrotum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Hier wordt het hormoon </a:t>
            </a:r>
            <a:r>
              <a:rPr b="1" lang="nl-NL" sz="2400" spc="-1" strike="noStrike">
                <a:solidFill>
                  <a:srgbClr val="404040"/>
                </a:solidFill>
                <a:latin typeface="Trebuchet MS"/>
              </a:rPr>
              <a:t>testosteron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gemaakt en de zaadcell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404040"/>
                </a:solidFill>
                <a:latin typeface="Trebuchet MS"/>
              </a:rPr>
              <a:t>Testosteron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: mannelijke geslachtskenmerk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78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5148360" y="1916280"/>
            <a:ext cx="382104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174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Einde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6933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647960" y="198108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4647960" y="411444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1"/>
          <a:stretch/>
        </p:blipFill>
        <p:spPr>
          <a:xfrm>
            <a:off x="609120" y="2160360"/>
            <a:ext cx="6348600" cy="3881160"/>
          </a:xfrm>
          <a:prstGeom prst="rect">
            <a:avLst/>
          </a:prstGeom>
          <a:ln w="0">
            <a:noFill/>
          </a:ln>
        </p:spPr>
      </p:pic>
      <p:pic>
        <p:nvPicPr>
          <p:cNvPr id="442" name="Tijdelijke aanduiding voor inhoud 3" descr=""/>
          <p:cNvPicPr/>
          <p:nvPr/>
        </p:nvPicPr>
        <p:blipFill>
          <a:blip r:embed="rId2"/>
          <a:stretch/>
        </p:blipFill>
        <p:spPr>
          <a:xfrm>
            <a:off x="138240" y="60480"/>
            <a:ext cx="8424720" cy="67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Het hormoonstelsel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178920" y="1488960"/>
            <a:ext cx="6348600" cy="38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Bestaat uit </a:t>
            </a:r>
            <a:r>
              <a:rPr b="1" lang="nl-NL" sz="2400" spc="-1" strike="noStrike">
                <a:solidFill>
                  <a:srgbClr val="404040"/>
                </a:solidFill>
                <a:latin typeface="Trebuchet MS"/>
              </a:rPr>
              <a:t>hormoonklieren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: </a:t>
            </a:r>
            <a:br>
              <a:rPr sz="2400"/>
            </a:b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  Liggen verspreid door het lichaam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Werkt </a:t>
            </a:r>
            <a:r>
              <a:rPr b="0" i="1" lang="nl-NL" sz="2400" spc="-1" strike="noStrike">
                <a:solidFill>
                  <a:srgbClr val="404040"/>
                </a:solidFill>
                <a:latin typeface="Trebuchet MS"/>
              </a:rPr>
              <a:t>langzamer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dan het zenuwstelsel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Regelt de werking van de organen in je </a:t>
            </a:r>
            <a:br>
              <a:rPr sz="2400"/>
            </a:b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lichaam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Afbeelding 1" descr=""/>
          <p:cNvPicPr/>
          <p:nvPr/>
        </p:nvPicPr>
        <p:blipFill>
          <a:blip r:embed="rId1"/>
          <a:srcRect l="7477" t="21651" r="8263" b="2749"/>
          <a:stretch/>
        </p:blipFill>
        <p:spPr>
          <a:xfrm>
            <a:off x="539640" y="1168560"/>
            <a:ext cx="7704360" cy="5184720"/>
          </a:xfrm>
          <a:prstGeom prst="rect">
            <a:avLst/>
          </a:prstGeom>
          <a:ln w="0">
            <a:noFill/>
          </a:ln>
        </p:spPr>
      </p:pic>
      <p:sp>
        <p:nvSpPr>
          <p:cNvPr id="446" name="Titel 1"/>
          <p:cNvSpPr/>
          <p:nvPr/>
        </p:nvSpPr>
        <p:spPr>
          <a:xfrm>
            <a:off x="250920" y="25560"/>
            <a:ext cx="482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b0f0"/>
                </a:solidFill>
                <a:latin typeface="Trebuchet MS"/>
              </a:rPr>
              <a:t>HORMOONKLIEREN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09120" y="33300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Hormonen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609120" y="1654200"/>
            <a:ext cx="6348600" cy="45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Zijn regelstoffen. </a:t>
            </a:r>
            <a:br>
              <a:rPr sz="1800"/>
            </a:b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- Van belang bij het in stand houden van een constant </a:t>
            </a:r>
            <a:br>
              <a:rPr sz="1800"/>
            </a:b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  inwendig milieu.</a:t>
            </a:r>
            <a:br>
              <a:rPr sz="1800"/>
            </a:b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- Regelen de groei en ontwikkeling van het lichaam.</a:t>
            </a:r>
            <a:br>
              <a:rPr sz="1800"/>
            </a:br>
            <a:r>
              <a:rPr b="0" i="1" lang="nl-NL" sz="1800" spc="-1" strike="noStrike">
                <a:solidFill>
                  <a:srgbClr val="404040"/>
                </a:solidFill>
                <a:latin typeface="Trebuchet MS"/>
              </a:rPr>
              <a:t>-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Regelen de stofwisseling.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Hormoon wordt gemaakt in een hormoonklier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Wordt rechtstreeks afgegeven aan en vervoerd door het bloed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epaalde organen reageren op het hormoon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Ze worden afgebroken in de lever en uitgescheiden in de ni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Hypothalamus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450" name="Picture 8" descr="hypofyse3"/>
          <p:cNvPicPr/>
          <p:nvPr/>
        </p:nvPicPr>
        <p:blipFill>
          <a:blip r:embed="rId1"/>
          <a:stretch/>
        </p:blipFill>
        <p:spPr>
          <a:xfrm>
            <a:off x="826920" y="1623960"/>
            <a:ext cx="4753080" cy="4111560"/>
          </a:xfrm>
          <a:prstGeom prst="rect">
            <a:avLst/>
          </a:prstGeom>
          <a:ln w="0">
            <a:noFill/>
          </a:ln>
        </p:spPr>
      </p:pic>
      <p:sp>
        <p:nvSpPr>
          <p:cNvPr id="451" name="Tekstvak 1"/>
          <p:cNvSpPr/>
          <p:nvPr/>
        </p:nvSpPr>
        <p:spPr>
          <a:xfrm>
            <a:off x="4087800" y="3125880"/>
            <a:ext cx="1440000" cy="703800"/>
          </a:xfrm>
          <a:prstGeom prst="rect">
            <a:avLst/>
          </a:prstGeom>
          <a:solidFill>
            <a:srgbClr val="e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Hypofys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52" name="Picture 17" descr="zomer2008_KVO1207erwt"/>
          <p:cNvPicPr/>
          <p:nvPr/>
        </p:nvPicPr>
        <p:blipFill>
          <a:blip r:embed="rId2"/>
          <a:stretch/>
        </p:blipFill>
        <p:spPr>
          <a:xfrm>
            <a:off x="6084720" y="2922480"/>
            <a:ext cx="1368720" cy="9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Hypothalamus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250560" y="1133640"/>
            <a:ext cx="8893080" cy="55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ijna elke regio van de hersenen staat in contact met de hypothalamus. Hierdoor is de hypothalamus betrokken bij alle aspecten van de emoties, de voortplanting, het autonoom zenuwstelsel en de </a:t>
            </a:r>
            <a:r>
              <a:rPr b="1" lang="nl-NL" sz="1800" spc="-1" strike="noStrike">
                <a:solidFill>
                  <a:srgbClr val="404040"/>
                </a:solidFill>
                <a:latin typeface="Trebuchet MS"/>
              </a:rPr>
              <a:t>hormoonhuishouding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. De hypothalamus reguleert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bloeddruk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hartsla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honger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dors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laap-waakritm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eksuele opwindin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lichaamstemperatuur (veroorzaakt bijvoorbeeld bibberen bij kou)</a:t>
            </a:r>
            <a:br>
              <a:rPr sz="1400"/>
            </a:br>
            <a:r>
              <a:rPr b="0" lang="nl-NL" sz="14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55" name="Afbeelding 4" descr=""/>
          <p:cNvPicPr/>
          <p:nvPr/>
        </p:nvPicPr>
        <p:blipFill>
          <a:blip r:embed="rId1"/>
          <a:srcRect l="14431" t="0" r="6414" b="0"/>
          <a:stretch/>
        </p:blipFill>
        <p:spPr>
          <a:xfrm>
            <a:off x="4067280" y="2158920"/>
            <a:ext cx="401940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Hypothalamus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47280" y="1989000"/>
            <a:ext cx="784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Ook speelt de hypothalamus een rol bij de drie kerngedragingen te weten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vecht- of vluchtreacti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voedingsgedrag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voortplantingsgedrag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3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Hypofyse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856944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Belangrijkste hormoonklier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Is een aanhangsel van de hersene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Maakt verschillende hormone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Regelen van onder andere de groei (groeihormoon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Beïnvloeding van andere hormoonkliere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Vrouw: eicel gaat rijpen    -   Man: zaadcellen worden gevormd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Geslachtsorganen gaan geslachtshormonen make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Regeling werking van de schildklier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4" marL="1828800" indent="0">
              <a:spcBef>
                <a:spcPts val="1001"/>
              </a:spcBef>
              <a:buNone/>
              <a:tabLst>
                <a:tab algn="l" pos="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11268000" y="9079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7T19:33:43Z</dcterms:created>
  <dc:creator>Oscar Eggen</dc:creator>
  <dc:description/>
  <dc:language>en-US</dc:language>
  <cp:lastModifiedBy>Kievit, Eline</cp:lastModifiedBy>
  <cp:lastPrinted>2012-10-05T09:42:24Z</cp:lastPrinted>
  <dcterms:modified xsi:type="dcterms:W3CDTF">2021-01-27T11:33:18Z</dcterms:modified>
  <cp:revision>207</cp:revision>
  <dc:subject/>
  <dc:title>PowerPoint-presentatie</dc:title>
</cp:coreProperties>
</file>