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13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dt" idx="25"/>
          </p:nvPr>
        </p:nvSpPr>
        <p:spPr>
          <a:xfrm>
            <a:off x="383328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ftr" idx="26"/>
          </p:nvPr>
        </p:nvSpPr>
        <p:spPr>
          <a:xfrm>
            <a:off x="-36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6"/>
          <p:cNvSpPr>
            <a:spLocks noGrp="1"/>
          </p:cNvSpPr>
          <p:nvPr>
            <p:ph type="sldNum" idx="27"/>
          </p:nvPr>
        </p:nvSpPr>
        <p:spPr>
          <a:xfrm>
            <a:off x="383328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6393C30-DD62-4AED-9463-71B9EBD7212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60F50-BB4E-48BC-B737-95FC9ACE3F9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71F78E-09DF-4925-A0CA-672629E6891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E79674-6055-44F1-A2AB-1B8A0E32CF6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699058-BD4E-44CE-92FC-19AC1D812EF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Regeling hoeveelheid glucose in het blo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oeveelheid glucose in het bloed moet zoveel mogelijk constant blijven.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us niet afhankelijk van of je net gegeten heb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regeld via hormonen uit de </a:t>
            </a: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eilandjes van Langerhans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(in de alvleeskli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Insuline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maakt als er na het eten veel glucose in je bloed kom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Het </a:t>
            </a: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verlaagt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de hoeveelheid glucose doordat onder invloed van insuline: de lever (en spieren) zetten glucose om in glycogeen (soort zetmeel). </a:t>
            </a:r>
            <a:r>
              <a:rPr b="0" lang="nl-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Glycogee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wordt opgeslagen in de lever (en de spiere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Glucago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Wordt gemaakt als de hoeveelheid glucose in je bloed te laag wordt.</a:t>
            </a:r>
            <a:br>
              <a:rPr sz="1200"/>
            </a:b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Bijvoorbeeld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oordat je veel glucose verbrand heb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1200" spc="-1" strike="noStrike">
                <a:solidFill>
                  <a:srgbClr val="000000"/>
                </a:solidFill>
                <a:latin typeface="Times New Roman"/>
              </a:rPr>
              <a:t>Verhoogt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de hoeveelheid glucose doordat onder invloed van glucagon: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lever zet </a:t>
            </a:r>
            <a:r>
              <a:rPr b="0" lang="nl-NL" sz="1200" spc="-1" strike="noStrike" u="sng">
                <a:solidFill>
                  <a:srgbClr val="000000"/>
                </a:solidFill>
                <a:uFillTx/>
                <a:latin typeface="Times New Roman"/>
              </a:rPr>
              <a:t>glycogeen</a:t>
            </a: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 weer om in glucose.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ze glucose wordt afgegeven aan het blo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200" spc="-1" strike="noStrike">
                <a:solidFill>
                  <a:srgbClr val="000000"/>
                </a:solidFill>
                <a:latin typeface="Times New Roman"/>
              </a:rPr>
              <a:t>Suikerziekte (diabetes) : 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De eilandjes van Langerhans werken niet goed.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* Er wordt geen of te weinig insuline gemaakt.</a:t>
            </a:r>
            <a:br>
              <a:rPr sz="1200"/>
            </a:b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* Patiënten moeten extra insuline inspui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6AC2B3-B28B-498B-B558-9C888BF5096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BE9594-7CF4-4E3F-9465-DFF0B2DE0D9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D8E36B-2727-4C10-B943-BCB66014A01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BDBDB1-3E5A-4B92-A34E-4506AE37861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698049-0A2F-4948-9B01-0722E4430A6F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FDDBF5-DB27-4DA6-87FE-AAFAABBB8D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94F406-19F2-42DD-9CBA-0F156CDA017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3E9D43-0C2D-4699-AEB5-371981E3664D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8F25E4-661C-4896-808C-50904425151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841253-AF5E-4E53-8187-9D6D9E35C3A3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1E4013-D927-493F-B28F-E7EB681178E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4160" cy="37004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01440" y="4687920"/>
            <a:ext cx="4962600" cy="44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ijdelijke aanduiding voor dianummer 3"/>
          <p:cNvSpPr/>
          <p:nvPr/>
        </p:nvSpPr>
        <p:spPr>
          <a:xfrm>
            <a:off x="3833640" y="9374040"/>
            <a:ext cx="29322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735024-C671-46BC-80EF-F2F3F326F8E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D03D-1698-4BBF-840B-C0B50356C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3F70-1C88-43D5-837B-D2F956C0B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6779-970C-4BDC-BC63-A103FB92A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E71-F3BA-4B6A-9536-4FD3BC4A5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870D-D031-435A-B198-7DAD9293A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D91C-7D8C-4C7C-A2C6-62B2C86A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2268-B60E-42A7-B99C-98AC2E9D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8144-8D22-4FD1-A452-FDC6E004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16571-A17C-4490-ACBB-6011D55F6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3ECC-DA11-45E4-9C2C-C84B412C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98E8-7E04-4B48-A2DF-FBE09E3E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CD5-794F-46C4-B2A5-A3C60112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26E8-8F76-43B8-95B3-4EFB29B8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07167-575F-46A4-AB78-A21F3259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0EC6-F982-4EDC-9763-432583282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2BC6-1B6B-426F-B765-800B73022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3510-4DD8-403B-9148-423284750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76F99-2F6C-415E-B0E1-3902E3ADA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8F8E9-5D0D-4052-8381-CCC87787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8D2F13-07F2-4FBF-93ED-A3097A56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F4068-23FE-4499-948D-00BF92E0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0F1F6-FBAC-4C4D-8AA3-89B91D05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7ADC-468F-4B0B-8A15-BA1C2CDF4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B9147-62C7-4A0E-B790-79F9EE33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46152-90F9-4B47-B242-41E866B2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967B0-011B-4E66-B962-C5435B50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1C3ED6-064E-4891-AAE1-F9D128E1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0FF91-0A33-4E2E-AE21-B41E0B773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03EF5-8F5D-4ACE-B3A3-EEB88CEB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EC4E4-7EC3-4507-9E46-42A0ED3A7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EB0788-B523-499A-B283-A388D408F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FCC4C-5CA3-4188-8E76-04D49C5A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07DA78-F56B-4DD9-A366-29B753791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295C-A7A2-48FA-8F89-9D4317E4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1D946-C3A2-4990-9BAB-FD0B56FBC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4273E-5AC4-46A8-95C8-A691DB86C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50DBA-C81F-4119-B372-416E75205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29FB2-8FB9-4365-A80B-959E0E511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D49EF-5D13-4B56-8DC3-CD05E30C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94928-15A0-43EB-903F-25A9784F3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5C964C-2B5C-4257-9A3A-F16A4601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92153-B0A2-4699-81F1-74084C86D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F60BB5-2FC6-42CE-802D-72640817C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6C52F-16EB-426F-89E8-8E335104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68F0-5370-4A7B-BDBE-E17143B66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13F6D-056A-41E7-AA9D-C6EE92B0E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E154CC-BB01-41B8-B84D-824C0369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334CFF-5072-4032-90B0-DF495F650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177A3-3342-404E-A1EE-ACD97D5B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912E82-6944-4387-8F0D-EF5BEB32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3A094A-74B1-45BA-BCB8-801AD005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F30A09-E257-45EC-BC2E-E6FA99B3C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5B3CF-E93D-413A-AEEB-AF0C67C3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7267DB-A665-41B3-B6A1-C801E4BE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108D2-B7E3-463F-8DDB-7F62FEC87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D356-B544-4326-9689-0A777ABCA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7308ED-24B1-4664-9DFF-BB167D3C8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2C319A-5C0C-4A90-A953-97AE92FB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6599A4-3077-4DD4-94CF-C3943B24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07529-2DF8-41F1-8A40-6ABFCDAA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32F2CA-5A3F-4BD8-A495-BEEFBAAC1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E7E84-FCC8-48FC-8E77-ACD198D32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9B4F9-C0F1-494E-97BE-BFD3C1847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C1E595-FAFA-4681-8DF0-75D73BD0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1B301-8177-4180-825F-BA5D2F16D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A8BA3-C39C-43D5-8A1E-1194D3B3C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EBFA-4034-4F5B-9382-BBA8FE525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3D18A-5E70-4098-8E75-0575EFDF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E775BE-EC25-4329-999F-2F916974A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076CC-75C6-4D21-ACA9-70BD4FBA0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822ACB-789C-4B75-954D-BF9C84F91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C81F2-B060-478A-B2E1-85E43C10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983D0-F2E8-4F2A-94B6-02F46B969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E906F-6B46-4478-BC79-A3D71192A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F89B70-AEC2-49E5-B990-858D95BA5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4A9F5-BBF4-4411-846D-49FDBFBDE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EBA1D-2A80-4247-B0FE-305BAE66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CD58-27F3-4FCD-8104-114383A3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5C8E60-C163-48AD-9186-1605A097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EFA2A-D27D-47DE-8A48-CD70AA07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E219A7-015F-4A0F-ADB8-7E08B812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CBFA4-B4CE-4F8D-AEFC-0014A5F13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007162-E636-4A36-87AC-49CF9360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77BBDC-6EDC-4DF6-89D1-E02DD04A5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012E3F-10E1-4FFA-BE06-1403A073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7C755-AFA3-4D70-A667-52EAA2C0E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77DE2-9896-4E74-86FC-9F869269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D17DB-6399-43ED-8C60-304545C5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6927-A168-4524-B287-D1A6B5CB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B044E7-FB2C-4B99-9AEB-F52D1BFD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89532-D787-481F-AA96-03A994CB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42B7BF-61B0-4617-8897-44926738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B6CEC1-4462-4877-8959-B01A6F4B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0B52A4-F866-4FC6-A59C-1FD338BA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B746F0-33C5-4C7C-BD8D-5C8630C2A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F9771-454D-4EE9-AAC2-E48D7E421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EAC7AA-24AD-4121-A2EA-F113F45B08ED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3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64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5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6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7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1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2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3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FED962-7A13-48FE-B7B1-2D5C7EAFF83D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16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7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8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9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0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1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2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3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4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25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4740F-7353-4EFB-8E51-AD88AAA0422D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6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9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2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6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7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AA7B1-812D-48C7-A001-4129ACFA0D6D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2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1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4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8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9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30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4E4A5D-AB60-40A0-A727-C43C70B7088A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74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5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6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7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8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9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0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1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2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83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84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6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7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F284675-EE5F-41B2-9ACE-E3DA930D9041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28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29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0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1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2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3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4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5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6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37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1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F76D5-8AAE-4542-9E80-B72311BC3EB0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380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1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2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8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89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900" spc="-1" strike="noStrike">
                <a:solidFill>
                  <a:srgbClr val="898989"/>
                </a:solidFill>
                <a:latin typeface="Times New Roman"/>
              </a:rPr>
              <a:t>OE juni 200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24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A2DF00-ED62-466D-81FD-EA8FF1A9F390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606760" y="4797360"/>
            <a:ext cx="2962080" cy="67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100" spc="-1" strike="noStrike">
                <a:solidFill>
                  <a:srgbClr val="236292"/>
                </a:solidFill>
                <a:latin typeface="Trebuchet MS"/>
              </a:rPr>
              <a:t>Anatomie &amp; Fysiologie</a:t>
            </a:r>
            <a:br>
              <a:rPr sz="2100"/>
            </a:br>
            <a:r>
              <a:rPr b="0" lang="nl-NL" sz="2100" spc="-1" strike="noStrike">
                <a:solidFill>
                  <a:srgbClr val="236292"/>
                </a:solidFill>
                <a:latin typeface="Trebuchet MS"/>
              </a:rPr>
              <a:t>Hormonen </a:t>
            </a:r>
            <a:endParaRPr b="0" lang="en-US" sz="21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39" name="Picture 2" descr="Anatomische, Anatomie, Het Lichaam, Gut, Gezondheid"/>
          <p:cNvPicPr/>
          <p:nvPr/>
        </p:nvPicPr>
        <p:blipFill>
          <a:blip r:embed="rId1"/>
          <a:stretch/>
        </p:blipFill>
        <p:spPr>
          <a:xfrm>
            <a:off x="1658880" y="1077840"/>
            <a:ext cx="48564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01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Schildklier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68000" y="1170000"/>
            <a:ext cx="4032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indervormig orgaan in de hals; onder strottenhoofd, boven borstbeen tegen de luchtpij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Schildklier produceert schildklierhormon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ze hormonen stimuleren de stofwisseling en de groei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3" name="Tijdelijke aanduiding voor inhoud 4" descr=""/>
          <p:cNvPicPr/>
          <p:nvPr/>
        </p:nvPicPr>
        <p:blipFill>
          <a:blip r:embed="rId1"/>
          <a:srcRect l="0" t="0" r="33855" b="0"/>
          <a:stretch/>
        </p:blipFill>
        <p:spPr>
          <a:xfrm>
            <a:off x="4473720" y="1270080"/>
            <a:ext cx="438912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Zwezerik ( thymus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39640" y="1189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e zwezerik is een orgaan in de borstkas. De thymus ligt vlak achter het borstbeen en vlak bij het hart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De zwezerik is vooral actief bij kinderen, tot de pubertijd. Daarna verschrompelt de zwezerik langzaam en wordt de klier vervangen door vetweefs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200" spc="-1" strike="noStrike">
                <a:solidFill>
                  <a:srgbClr val="404040"/>
                </a:solidFill>
                <a:latin typeface="Trebuchet MS"/>
              </a:rPr>
              <a:t>Belangrijke rol in ons afweersysteem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6" name="Tijdelijke aanduiding voor inhoud 4" descr=""/>
          <p:cNvPicPr/>
          <p:nvPr/>
        </p:nvPicPr>
        <p:blipFill>
          <a:blip r:embed="rId1"/>
          <a:srcRect l="0" t="0" r="9282" b="0"/>
          <a:stretch/>
        </p:blipFill>
        <p:spPr>
          <a:xfrm>
            <a:off x="4809960" y="1160640"/>
            <a:ext cx="3853080" cy="41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600" y="17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Bijnier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518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Adrenalin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t gemaakt in de bijnier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luchthormoon/Stresshormoo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Komt vrij als je lichaam plotseling in actie moet kom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der invloed van adrenaline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aat je hart sneller klopp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a je sneller ademhal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t glycogeen omgezet in gluc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69" name="Afbeelding 5" descr=""/>
          <p:cNvPicPr/>
          <p:nvPr/>
        </p:nvPicPr>
        <p:blipFill>
          <a:blip r:embed="rId1"/>
          <a:stretch/>
        </p:blipFill>
        <p:spPr>
          <a:xfrm>
            <a:off x="5470560" y="1467000"/>
            <a:ext cx="33782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42520" y="19800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landjes van Langerhan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95280" y="1341360"/>
            <a:ext cx="48974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iggen in de alvleesklier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oducer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insuline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glucagon;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nsuline zet glucose om in glycoge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lucagon zet glycogeen om in gluco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oudt hiermee de bloedsuikerspiegel in balan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2" name="Afbeelding 1" descr=""/>
          <p:cNvPicPr/>
          <p:nvPr/>
        </p:nvPicPr>
        <p:blipFill>
          <a:blip r:embed="rId1"/>
          <a:stretch/>
        </p:blipFill>
        <p:spPr>
          <a:xfrm>
            <a:off x="5337000" y="1341360"/>
            <a:ext cx="3667320" cy="47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2520" y="45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erstokken (vrouw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36680" y="1341000"/>
            <a:ext cx="453384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orden aangestuurd door de hypofys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aken vrouwelijke geslachtshormon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oestroge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e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progestero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Oestrogeen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rouwelijke geslachtskenmer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Progesteron: 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vruchtbaarheidscyclus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5" name="Afbeelding 4" descr=""/>
          <p:cNvPicPr/>
          <p:nvPr/>
        </p:nvPicPr>
        <p:blipFill>
          <a:blip r:embed="rId1"/>
          <a:srcRect l="26060" t="24808" r="12202" b="0"/>
          <a:stretch/>
        </p:blipFill>
        <p:spPr>
          <a:xfrm>
            <a:off x="4998960" y="1844640"/>
            <a:ext cx="38862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Teelbal/testikel (man)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518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slachtsklier van de ma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Twee teelballen in het scrotu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Hier wordt het hormoon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testostero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gemaakt en de zaadcell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Testostero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mannelijke geslachtskenmer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78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5148360" y="1916280"/>
            <a:ext cx="38210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174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93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4647960" y="1981080"/>
            <a:ext cx="380988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4647960" y="4114440"/>
            <a:ext cx="380988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442" name="Tijdelijke aanduiding voor inhoud 3" descr=""/>
          <p:cNvPicPr/>
          <p:nvPr/>
        </p:nvPicPr>
        <p:blipFill>
          <a:blip r:embed="rId2"/>
          <a:stretch/>
        </p:blipFill>
        <p:spPr>
          <a:xfrm>
            <a:off x="138240" y="60480"/>
            <a:ext cx="8424720" cy="674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et hormoonstelsel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78920" y="1488960"/>
            <a:ext cx="6348600" cy="38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staat uit </a:t>
            </a:r>
            <a:r>
              <a:rPr b="1" lang="nl-NL" sz="2400" spc="-1" strike="noStrike">
                <a:solidFill>
                  <a:srgbClr val="404040"/>
                </a:solidFill>
                <a:latin typeface="Trebuchet MS"/>
              </a:rPr>
              <a:t>hormoonklieren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: </a:t>
            </a:r>
            <a:br>
              <a:rPr sz="2400"/>
            </a:b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  Liggen verspreid door het lichaa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Werkt </a:t>
            </a:r>
            <a:r>
              <a:rPr b="0" i="1" lang="nl-NL" sz="2400" spc="-1" strike="noStrike">
                <a:solidFill>
                  <a:srgbClr val="404040"/>
                </a:solidFill>
                <a:latin typeface="Trebuchet MS"/>
              </a:rPr>
              <a:t>langzamer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dan het zenuwstelsel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t de werking van de organen in je </a:t>
            </a:r>
            <a:br>
              <a:rPr sz="2400"/>
            </a:b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lichaam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Afbeelding 1" descr=""/>
          <p:cNvPicPr/>
          <p:nvPr/>
        </p:nvPicPr>
        <p:blipFill>
          <a:blip r:embed="rId1"/>
          <a:srcRect l="7477" t="21651" r="8263" b="2749"/>
          <a:stretch/>
        </p:blipFill>
        <p:spPr>
          <a:xfrm>
            <a:off x="539640" y="1168560"/>
            <a:ext cx="7704360" cy="5184720"/>
          </a:xfrm>
          <a:prstGeom prst="rect">
            <a:avLst/>
          </a:prstGeom>
          <a:ln w="0">
            <a:noFill/>
          </a:ln>
        </p:spPr>
      </p:pic>
      <p:sp>
        <p:nvSpPr>
          <p:cNvPr id="446" name="Titel 1"/>
          <p:cNvSpPr/>
          <p:nvPr/>
        </p:nvSpPr>
        <p:spPr>
          <a:xfrm>
            <a:off x="250920" y="25560"/>
            <a:ext cx="482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00b0f0"/>
                </a:solidFill>
                <a:latin typeface="Trebuchet MS"/>
              </a:rPr>
              <a:t>HORMOONKLIER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33300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ormonen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609120" y="1654200"/>
            <a:ext cx="6348600" cy="45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ijn regelstoffen.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Van belang bij het in stand houden van een constant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  inwendig milieu.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- Regelen de groei en ontwikkeling van het lichaam.</a:t>
            </a:r>
            <a:br>
              <a:rPr sz="1800"/>
            </a:br>
            <a:r>
              <a:rPr b="0" i="1" lang="nl-NL" sz="1800" spc="-1" strike="noStrike">
                <a:solidFill>
                  <a:srgbClr val="404040"/>
                </a:solidFill>
                <a:latin typeface="Trebuchet MS"/>
              </a:rPr>
              <a:t>- 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Regelen de stofwisseling. 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ormoon wordt gemaakt in een hormoonkli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Wordt rechtstreeks afgegeven aan en vervoerd door het bloed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epaalde organen reageren op het hormoon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Ze worden afgebroken in de lever en uitgescheiden in de nier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450" name="Picture 8" descr="hypofyse3"/>
          <p:cNvPicPr/>
          <p:nvPr/>
        </p:nvPicPr>
        <p:blipFill>
          <a:blip r:embed="rId1"/>
          <a:stretch/>
        </p:blipFill>
        <p:spPr>
          <a:xfrm>
            <a:off x="826920" y="1623960"/>
            <a:ext cx="4753080" cy="4111560"/>
          </a:xfrm>
          <a:prstGeom prst="rect">
            <a:avLst/>
          </a:prstGeom>
          <a:ln w="0">
            <a:noFill/>
          </a:ln>
        </p:spPr>
      </p:pic>
      <p:sp>
        <p:nvSpPr>
          <p:cNvPr id="451" name="Tekstvak 1"/>
          <p:cNvSpPr/>
          <p:nvPr/>
        </p:nvSpPr>
        <p:spPr>
          <a:xfrm>
            <a:off x="4087800" y="3125880"/>
            <a:ext cx="1440000" cy="703800"/>
          </a:xfrm>
          <a:prstGeom prst="rect">
            <a:avLst/>
          </a:prstGeom>
          <a:solidFill>
            <a:srgbClr val="efef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Times New Roman"/>
              </a:rPr>
              <a:t>Hypofy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452" name="Picture 17" descr="zomer2008_KVO1207erwt"/>
          <p:cNvPicPr/>
          <p:nvPr/>
        </p:nvPicPr>
        <p:blipFill>
          <a:blip r:embed="rId2"/>
          <a:stretch/>
        </p:blipFill>
        <p:spPr>
          <a:xfrm>
            <a:off x="6084720" y="2922480"/>
            <a:ext cx="1368720" cy="9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250560" y="1133640"/>
            <a:ext cx="8893080" cy="55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Bijna elke regio van de hersenen staat in contact met de hypothalamus. Hierdoor is de hypothalamus betrokken bij alle aspecten van de emoties, de voortplanting, het autonoom zenuwstelsel en de </a:t>
            </a:r>
            <a:r>
              <a:rPr b="1" lang="nl-NL" sz="1800" spc="-1" strike="noStrike">
                <a:solidFill>
                  <a:srgbClr val="404040"/>
                </a:solidFill>
                <a:latin typeface="Trebuchet MS"/>
              </a:rPr>
              <a:t>hormoonhuishouding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. De hypothalamus reguleert: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loeddruk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artsla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honge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orst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laap-waakritm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seksuele opwind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ichaamstemperatuur (veroorzaakt bijvoorbeeld bibberen bij kou)</a:t>
            </a:r>
            <a:br>
              <a:rPr sz="1400"/>
            </a:br>
            <a:r>
              <a:rPr b="0" lang="nl-NL" sz="14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455" name="Afbeelding 4" descr=""/>
          <p:cNvPicPr/>
          <p:nvPr/>
        </p:nvPicPr>
        <p:blipFill>
          <a:blip r:embed="rId1"/>
          <a:srcRect l="14431" t="0" r="6414" b="0"/>
          <a:stretch/>
        </p:blipFill>
        <p:spPr>
          <a:xfrm>
            <a:off x="4067280" y="2158920"/>
            <a:ext cx="401940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thalamus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47280" y="1989000"/>
            <a:ext cx="7846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ok speelt de hypothalamus een rol bij de drie kerngedragingen te weten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echt- of vluchtreacti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edingsgedra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oortplantingsgedrag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Hypofys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87280" y="1142640"/>
            <a:ext cx="856944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langrijkste hormoonkli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Is een aanhangsel van de hersen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Maakt verschillende hormon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en van onder andere de groei (groeihormo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Beïnvloeding van andere hormoonklier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rouw: eicel gaat rijpen    -   Man: zaadcellen worden gevormd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Geslachtsorganen gaan geslachtshormonen make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Regeling werking van de schildklier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4" marL="1828800" indent="0">
              <a:spcBef>
                <a:spcPts val="1001"/>
              </a:spcBef>
              <a:buNone/>
              <a:tabLst>
                <a:tab algn="l" pos="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1268000" y="9079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7T19:33:43Z</dcterms:created>
  <dc:creator>Oscar Eggen</dc:creator>
  <dc:description/>
  <dc:language>en-US</dc:language>
  <cp:lastModifiedBy>Kievit, Eline</cp:lastModifiedBy>
  <cp:lastPrinted>2012-10-05T09:42:24Z</cp:lastPrinted>
  <dcterms:modified xsi:type="dcterms:W3CDTF">2021-01-27T11:33:18Z</dcterms:modified>
  <cp:revision>207</cp:revision>
  <dc:subject/>
  <dc:title>PowerPoint-presentatie</dc:title>
</cp:coreProperties>
</file>