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3.wmf" ContentType="image/x-wmf"/>
  <Override PartName="/ppt/media/image27.jpeg" ContentType="image/jpeg"/>
  <Override PartName="/ppt/media/image21.jpeg" ContentType="image/jpeg"/>
  <Override PartName="/ppt/media/image20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26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33.jpeg" ContentType="image/jpeg"/>
  <Override PartName="/ppt/media/image12.jpeg" ContentType="image/jpeg"/>
  <Override PartName="/ppt/media/image34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6.png" ContentType="image/png"/>
  <Override PartName="/ppt/media/image2.jpeg" ContentType="image/jpeg"/>
  <Override PartName="/ppt/media/image15.jpeg" ContentType="image/jpeg"/>
  <Override PartName="/ppt/media/image35.wmf" ContentType="image/x-wmf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CBFA-7F01-46A4-B8BE-77335B982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8ABE-3DDD-4A16-9E5C-C2508940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AB19-3311-47B1-A840-1E26E45AC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C3E3-2647-4DB6-A332-FC946AFBF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5438-BE28-460D-A9AF-B06EA7E4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B65F-4F38-4D96-821B-727B7099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A6C7-8F46-4141-BF10-A6443E1B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2DEF-9417-4E96-BDF9-2F412697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08C4-96F1-4CCB-AB90-8ABF63F4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9620-71F1-4392-B4AB-68930CBA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4D17-5D58-44EE-AFAA-ABE0D592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9363-0CEE-4370-9A22-99A432CA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D0A6-E9EE-43AE-B2FC-8652DA558DE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dezeure.be/img/fotos/beertonnen/Dec11_03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m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55964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35280" y="1468440"/>
            <a:ext cx="55083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651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78483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t- en regel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eling per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uchting grasz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vervlieging van voedingsstoffen, minder kunstm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en versmering van gew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geurover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952640"/>
            <a:ext cx="822960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3168360" cy="3132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5013360"/>
            <a:ext cx="32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Doorsnee van 250 mm en een dikte v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4105440" cy="2666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284720" y="4292640"/>
            <a:ext cx="45352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26920" y="1401840"/>
            <a:ext cx="752508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4643280" cy="3095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643280" y="3857760"/>
            <a:ext cx="45007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4572000" cy="3316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57200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55640" y="1401840"/>
            <a:ext cx="752472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4500720" cy="3264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00720" y="3490920"/>
            <a:ext cx="464328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pdrukcil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55640" y="1351080"/>
            <a:ext cx="759636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ndendrukwisselsyste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460872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ele tank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Optifill tank"/>
          <p:cNvPicPr/>
          <p:nvPr/>
        </p:nvPicPr>
        <p:blipFill>
          <a:blip r:embed="rId1"/>
          <a:stretch/>
        </p:blipFill>
        <p:spPr>
          <a:xfrm>
            <a:off x="755640" y="1916280"/>
            <a:ext cx="763272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ndeng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5040360" cy="2167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643280" y="3594240"/>
            <a:ext cx="4500720" cy="3263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ur-achterw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700280"/>
            <a:ext cx="59040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1214280"/>
            <a:ext cx="752508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16360" y="3500280"/>
            <a:ext cx="4032360" cy="2810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49236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76720" y="4202280"/>
            <a:ext cx="406728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 rot="5400000">
            <a:off x="1158120" y="2233080"/>
            <a:ext cx="2554200" cy="3218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 rot="5400000">
            <a:off x="5319360" y="2391840"/>
            <a:ext cx="28242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6920" y="1365120"/>
            <a:ext cx="759636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409760"/>
            <a:ext cx="8172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362240"/>
            <a:ext cx="82440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1379520"/>
            <a:ext cx="817236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1285920"/>
            <a:ext cx="74296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5:46:13Z</dcterms:created>
  <dc:creator>Harm v Eijck</dc:creator>
  <dc:description/>
  <dc:language>en-US</dc:language>
  <cp:lastModifiedBy>eme</cp:lastModifiedBy>
  <dcterms:modified xsi:type="dcterms:W3CDTF">2010-03-11T14:57:16Z</dcterms:modified>
  <cp:revision>3</cp:revision>
  <dc:subject/>
  <dc:title>Bemesting</dc:title>
</cp:coreProperties>
</file>