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3.wmf" ContentType="image/x-wmf"/>
  <Override PartName="/ppt/media/image27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12.jpeg" ContentType="image/jpeg"/>
  <Override PartName="/ppt/media/image34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2.jpeg" ContentType="image/jpeg"/>
  <Override PartName="/ppt/media/image15.jpeg" ContentType="image/jpeg"/>
  <Override PartName="/ppt/media/image3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2180-82D9-4857-ACFB-34F55805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F624-2FD1-4DCD-A0C6-B18BA0A9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A281-3C4C-4451-96AD-F66722B05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6140-3785-4DF0-B817-D8FD83CE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9814-ED7B-49AD-B513-A2873F72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4615-9FFD-48D1-89A5-B0EF945B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2C25-2BC0-47A1-B5A7-AC199B59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8574-142C-4599-985C-58ACBB7F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BC00-A0B2-47F6-BE96-76984C13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6271-F2D4-4D36-991D-52C01738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C94D-0875-4535-89E9-77D98745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32C0-6051-4C36-B2F8-7E616417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1729-4081-416C-AD1B-465227690AE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ezeure.be/img/fotos/beertonnen/Dec11_03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596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1468440"/>
            <a:ext cx="55083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5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t- en regel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ling per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uchting gras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vervlieging van voedingsstoffen, minder kunstm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en versmering van gew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geurover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952640"/>
            <a:ext cx="8229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168360" cy="313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013360"/>
            <a:ext cx="32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oorsnee van 250 mm en een dikte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410544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284720" y="4292640"/>
            <a:ext cx="4535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1401840"/>
            <a:ext cx="75250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64328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3857760"/>
            <a:ext cx="4500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572000" cy="331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1401840"/>
            <a:ext cx="752472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00720" cy="3264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00720" y="3490920"/>
            <a:ext cx="46432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pdrukci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1351080"/>
            <a:ext cx="759636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ndendrukwissel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ele tank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Optifill tank"/>
          <p:cNvPicPr/>
          <p:nvPr/>
        </p:nvPicPr>
        <p:blipFill>
          <a:blip r:embed="rId1"/>
          <a:stretch/>
        </p:blipFill>
        <p:spPr>
          <a:xfrm>
            <a:off x="755640" y="1916280"/>
            <a:ext cx="76327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deng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5040360" cy="2167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94240"/>
            <a:ext cx="4500720" cy="326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ur-achterw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0028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214280"/>
            <a:ext cx="75250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32360" cy="2810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923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4202280"/>
            <a:ext cx="40672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5400000">
            <a:off x="1158120" y="2233080"/>
            <a:ext cx="2554200" cy="3218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5400000">
            <a:off x="5319360" y="2391840"/>
            <a:ext cx="2824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365120"/>
            <a:ext cx="75963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409760"/>
            <a:ext cx="8172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362240"/>
            <a:ext cx="82440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379520"/>
            <a:ext cx="81723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28592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5:46:13Z</dcterms:created>
  <dc:creator>Harm v Eijck</dc:creator>
  <dc:description/>
  <dc:language>en-US</dc:language>
  <cp:lastModifiedBy>eme</cp:lastModifiedBy>
  <dcterms:modified xsi:type="dcterms:W3CDTF">2010-03-11T14:57:16Z</dcterms:modified>
  <cp:revision>3</cp:revision>
  <dc:subject/>
  <dc:title>Bemesting</dc:title>
</cp:coreProperties>
</file>