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3.wmf" ContentType="image/x-wmf"/>
  <Override PartName="/ppt/media/image27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12.jpeg" ContentType="image/jpeg"/>
  <Override PartName="/ppt/media/image34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A7A9-47C4-444F-B4B9-32CE10BF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EC20-7866-4686-86F8-8E0A8A90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4141-852E-422B-AAF7-3DD179CF5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DB00-2CC0-4374-86FF-FFD9EF8B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5F52-01C7-4E8E-9F8D-D2B7D2D4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71FB-AACF-490E-8BE8-EEFCB080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3C88-237F-45FD-B45F-A74E15D0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52AD-D28A-4AE8-911A-2EBDD41D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6D61-C17E-45A1-A813-166A3208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4BF1-47BD-491C-9975-05ED020C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ED03-9854-4641-9D4A-D470062D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F996-D77A-45A7-9C09-A65746C3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C32D-5A7C-4DBA-9BE0-49130834785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ezeure.be/img/fotos/beertonnen/Dec11_03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468440"/>
            <a:ext cx="5508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5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t- en regel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ing per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uchting gras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vervlieging van voedingsstoffen, minder kunstm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en versmering van gew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geurover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52640"/>
            <a:ext cx="822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168360" cy="313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01336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oorsnee van 250 mm en een dikte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10544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45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401840"/>
            <a:ext cx="75250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401840"/>
            <a:ext cx="75247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3264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00720" y="3490920"/>
            <a:ext cx="46432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pdrukci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351080"/>
            <a:ext cx="7596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ndendrukwissel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ele tank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Optifill tank"/>
          <p:cNvPicPr/>
          <p:nvPr/>
        </p:nvPicPr>
        <p:blipFill>
          <a:blip r:embed="rId1"/>
          <a:stretch/>
        </p:blipFill>
        <p:spPr>
          <a:xfrm>
            <a:off x="755640" y="1916280"/>
            <a:ext cx="76327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deng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5040360" cy="216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94240"/>
            <a:ext cx="4500720" cy="326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ur-achterw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281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92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202280"/>
            <a:ext cx="40672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5400000">
            <a:off x="1158120" y="2233080"/>
            <a:ext cx="2554200" cy="321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5400000">
            <a:off x="5319360" y="2391840"/>
            <a:ext cx="2824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365120"/>
            <a:ext cx="7596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409760"/>
            <a:ext cx="8172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362240"/>
            <a:ext cx="8244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379520"/>
            <a:ext cx="81723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28592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46:13Z</dcterms:created>
  <dc:creator>Harm v Eijck</dc:creator>
  <dc:description/>
  <dc:language>en-US</dc:language>
  <cp:lastModifiedBy>eme</cp:lastModifiedBy>
  <dcterms:modified xsi:type="dcterms:W3CDTF">2010-03-11T14:57:16Z</dcterms:modified>
  <cp:revision>3</cp:revision>
  <dc:subject/>
  <dc:title>Bemesting</dc:title>
</cp:coreProperties>
</file>