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9825-A2E2-4C04-BCB0-1B50BF6154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is een kombinatie van een EE woordenboek en thesaur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D58F-05C8-4731-8104-2DD6A1DB69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C78D-8FD3-4A19-A970-17BD8C1C87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168D-F0EE-4213-830C-29448FB4CF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B8B2-A8F0-4443-B9C8-3BD05BD571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6F9C-79E0-45EE-AAF8-5BF6E37B1E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3EA3-8D8A-4D20-AD99-82F994AC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C871-58AC-4C18-999C-D28D5217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A897-0A67-486C-975A-7834B110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812-074A-46BC-926B-184409B5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6B93-6A98-4F3F-853F-8514D7E6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344-F1B5-410B-A5B7-49D6A46F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3DD2-051B-4EC4-83F9-79039C9D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8DC8-EC58-469A-A6A6-D3F41455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F20-0185-40B4-A11C-F470D32D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984-C5C6-4159-BD81-89B8250C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83F-A39E-41B2-8CA9-5C330EFE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8707-8161-46F1-BDE3-9A14FA49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5C60-4007-4DBA-921D-07AF7F85E29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221.imageshack.us/img221/2046/b00007e8bhjg4.jpg&amp;imgrefurl=http://rumahbeasiswa.com/english-preparation/dictionary/oxford-dictionary-of-english-2006.html&amp;h=384&amp;w=384&amp;sz=43&amp;hl=nl&amp;start=2&amp;um=1&amp;tbnid=4CFZPEoXHJnukM:&amp;tbnh=123&amp;tbnw=123&amp;prev=/images%3Fq%3Ddictionary%26um%3D1%26hl%3Dnl%26safe%3Doff%26rls%3Dcom.microsoft:*:IE-SearchBox%26rlz%3D1I7SUNA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57200" y="3808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ictionary Skills!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bn0.google.com/images?q=tbn:4CFZPEoXHJnukM:http://img221.imageshack.us/img221/2046/b00007e8bhjg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242892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tbn0.google.com/images?q=tbn:zfICr-3Y62jI7M:http://www3.waterstones.com/wat/images/special/promo/dictionary.jpg"/>
          <p:cNvPicPr/>
          <p:nvPr/>
        </p:nvPicPr>
        <p:blipFill>
          <a:blip r:embed="rId3"/>
          <a:stretch/>
        </p:blipFill>
        <p:spPr>
          <a:xfrm>
            <a:off x="2286000" y="3956040"/>
            <a:ext cx="1714680" cy="290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tbn0.google.com/images?q=tbn:TptWn9A4ZNSt6M:http://upload.wikimedia.org/wikipedia/en/2/2c/Oxford_English_Dictionary_Set.jpg"/>
          <p:cNvPicPr/>
          <p:nvPr/>
        </p:nvPicPr>
        <p:blipFill>
          <a:blip r:embed="rId4"/>
          <a:stretch/>
        </p:blipFill>
        <p:spPr>
          <a:xfrm>
            <a:off x="2928960" y="2428920"/>
            <a:ext cx="297972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tbn0.google.com/images?q=tbn:wG1R1j9u349wWM:http://www.nnbh.com/9066482184.jpg"/>
          <p:cNvPicPr/>
          <p:nvPr/>
        </p:nvPicPr>
        <p:blipFill>
          <a:blip r:embed="rId5"/>
          <a:stretch/>
        </p:blipFill>
        <p:spPr>
          <a:xfrm>
            <a:off x="6572160" y="3643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ave a go: who gets it r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428760" y="164304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mee wordt een richting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ge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grond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erva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k ben daar niet bij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g maa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3"/>
          <p:cNvSpPr/>
          <p:nvPr/>
        </p:nvSpPr>
        <p:spPr>
          <a:xfrm>
            <a:off x="357120" y="371484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’re looking for a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sinterest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re would have been som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ift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r m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Teachers Un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i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is a pa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 Thesaurus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as more synonyms than you can dream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Afbeelding 3" descr="thesaurus.JPG"/>
          <p:cNvPicPr/>
          <p:nvPr/>
        </p:nvPicPr>
        <p:blipFill>
          <a:blip r:embed="rId1"/>
          <a:stretch/>
        </p:blipFill>
        <p:spPr>
          <a:xfrm>
            <a:off x="0" y="1500120"/>
            <a:ext cx="835812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321444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 English/ English Dictio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kstvak 2"/>
          <p:cNvSpPr/>
          <p:nvPr/>
        </p:nvSpPr>
        <p:spPr>
          <a:xfrm>
            <a:off x="500040" y="28584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 to choose the right word you sometimes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fbeelding 3" descr="ee.JPG"/>
          <p:cNvPicPr/>
          <p:nvPr/>
        </p:nvPicPr>
        <p:blipFill>
          <a:blip r:embed="rId1"/>
          <a:stretch/>
        </p:blipFill>
        <p:spPr>
          <a:xfrm>
            <a:off x="3714840" y="1428840"/>
            <a:ext cx="6429240" cy="131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dictionary will give you the following information about a word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ll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 and its special plural for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ether or not the word is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capitalized or abbrevi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break the word in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yll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ronounce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art of speech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a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ifferent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meanings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at the word 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sentence or expression with 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 used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cial uses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ther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s derived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rom the main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57120" y="457200"/>
            <a:ext cx="8253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G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used to help you locate a word quickly.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G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found at the top of each page.  They tell you the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fir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nd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la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ord that is found on that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fbeelding 2" descr="guide word.JPG"/>
          <p:cNvPicPr/>
          <p:nvPr/>
        </p:nvPicPr>
        <p:blipFill>
          <a:blip r:embed="rId1"/>
          <a:stretch/>
        </p:blipFill>
        <p:spPr>
          <a:xfrm>
            <a:off x="1000080" y="3929040"/>
            <a:ext cx="4286160" cy="5345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1"/>
          <p:cNvSpPr/>
          <p:nvPr/>
        </p:nvSpPr>
        <p:spPr>
          <a:xfrm>
            <a:off x="-142920" y="3286080"/>
            <a:ext cx="164304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uide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1"/>
          <p:cNvSpPr/>
          <p:nvPr/>
        </p:nvSpPr>
        <p:spPr>
          <a:xfrm flipH="1" flipV="1">
            <a:off x="1214280" y="3643200"/>
            <a:ext cx="285840" cy="5716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Afbeelding 5" descr="guide2.JPG"/>
          <p:cNvPicPr/>
          <p:nvPr/>
        </p:nvPicPr>
        <p:blipFill>
          <a:blip r:embed="rId2"/>
          <a:stretch/>
        </p:blipFill>
        <p:spPr>
          <a:xfrm>
            <a:off x="5429160" y="4000680"/>
            <a:ext cx="3830760" cy="5429160"/>
          </a:xfrm>
          <a:prstGeom prst="rect">
            <a:avLst/>
          </a:prstGeom>
          <a:ln w="0">
            <a:noFill/>
          </a:ln>
        </p:spPr>
      </p:pic>
      <p:sp>
        <p:nvSpPr>
          <p:cNvPr id="60" name="Line 81"/>
          <p:cNvSpPr/>
          <p:nvPr/>
        </p:nvSpPr>
        <p:spPr>
          <a:xfrm flipH="1" flipV="1">
            <a:off x="1366920" y="3795480"/>
            <a:ext cx="6919920" cy="3474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304920" y="22860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Arial"/>
              </a:rPr>
              <a:t>Dictionary 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’re going to learn what each part of a definition mea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bd05629_"/>
          <p:cNvPicPr/>
          <p:nvPr/>
        </p:nvPicPr>
        <p:blipFill>
          <a:blip r:embed="rId1"/>
          <a:stretch/>
        </p:blipFill>
        <p:spPr>
          <a:xfrm>
            <a:off x="2438280" y="3117960"/>
            <a:ext cx="444528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n English-Dutc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2"/>
          <p:cNvSpPr/>
          <p:nvPr/>
        </p:nvSpPr>
        <p:spPr>
          <a:xfrm flipH="1" flipV="1">
            <a:off x="4723920" y="1371240"/>
            <a:ext cx="561960" cy="10573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4"/>
          <p:cNvSpPr/>
          <p:nvPr/>
        </p:nvSpPr>
        <p:spPr>
          <a:xfrm flipV="1">
            <a:off x="6500880" y="1571400"/>
            <a:ext cx="28584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9"/>
          <p:cNvSpPr/>
          <p:nvPr/>
        </p:nvSpPr>
        <p:spPr>
          <a:xfrm flipH="1">
            <a:off x="1214280" y="2286000"/>
            <a:ext cx="214344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1"/>
          <p:cNvSpPr/>
          <p:nvPr/>
        </p:nvSpPr>
        <p:spPr>
          <a:xfrm flipV="1">
            <a:off x="7358040" y="1857240"/>
            <a:ext cx="28584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2"/>
          <p:cNvSpPr/>
          <p:nvPr/>
        </p:nvSpPr>
        <p:spPr>
          <a:xfrm flipH="1" flipV="1">
            <a:off x="1599840" y="5105160"/>
            <a:ext cx="2514600" cy="6094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9"/>
          <p:cNvSpPr/>
          <p:nvPr/>
        </p:nvSpPr>
        <p:spPr>
          <a:xfrm>
            <a:off x="4071960" y="1214280"/>
            <a:ext cx="157176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0"/>
          <p:cNvSpPr/>
          <p:nvPr/>
        </p:nvSpPr>
        <p:spPr>
          <a:xfrm>
            <a:off x="578628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pression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3"/>
          <p:cNvSpPr/>
          <p:nvPr/>
        </p:nvSpPr>
        <p:spPr>
          <a:xfrm>
            <a:off x="7000920" y="1571760"/>
            <a:ext cx="170028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~ =head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/>
          <p:cNvSpPr/>
          <p:nvPr/>
        </p:nvSpPr>
        <p:spPr>
          <a:xfrm>
            <a:off x="304920" y="2286000"/>
            <a:ext cx="2052360" cy="7142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nun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4"/>
          <p:cNvSpPr/>
          <p:nvPr/>
        </p:nvSpPr>
        <p:spPr>
          <a:xfrm>
            <a:off x="304920" y="4648320"/>
            <a:ext cx="1904760" cy="10666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der spellig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d with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te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6"/>
          <p:cNvSpPr/>
          <p:nvPr/>
        </p:nvSpPr>
        <p:spPr>
          <a:xfrm flipH="1" flipV="1">
            <a:off x="2857320" y="1785960"/>
            <a:ext cx="1214280" cy="2858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0"/>
          <p:cNvSpPr/>
          <p:nvPr/>
        </p:nvSpPr>
        <p:spPr>
          <a:xfrm>
            <a:off x="6286680" y="3714840"/>
            <a:ext cx="2057400" cy="3236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1"/>
          <p:cNvSpPr/>
          <p:nvPr/>
        </p:nvSpPr>
        <p:spPr>
          <a:xfrm flipH="1">
            <a:off x="6386040" y="2857680"/>
            <a:ext cx="328680" cy="9475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vak 27"/>
          <p:cNvSpPr/>
          <p:nvPr/>
        </p:nvSpPr>
        <p:spPr>
          <a:xfrm>
            <a:off x="2571840" y="1928880"/>
            <a:ext cx="5857920" cy="1283040"/>
          </a:xfrm>
          <a:prstGeom prst="rect">
            <a:avLst/>
          </a:prstGeom>
          <a:solidFill>
            <a:srgbClr val="d9d9d9">
              <a:alpha val="45000"/>
            </a:srgbClr>
          </a:solidFill>
          <a:ln w="9360">
            <a:solidFill>
              <a:srgbClr val="4f81bd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fight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[fait] 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 gevecht, strijd; 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make a brave ~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ranig vechten …2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chtlus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… II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1 vechten,  strijden; strijden voor: ~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the cause of liberty; … ~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 back,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a)terugdringen; b) zich verweren ….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2 bev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Afbeelding 24" descr="fight.JPG"/>
          <p:cNvPicPr/>
          <p:nvPr/>
        </p:nvPicPr>
        <p:blipFill>
          <a:blip r:embed="rId1"/>
          <a:stretch/>
        </p:blipFill>
        <p:spPr>
          <a:xfrm>
            <a:off x="214200" y="3500280"/>
            <a:ext cx="494532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 you know the definition of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finit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bcbook"/>
          <p:cNvPicPr/>
          <p:nvPr/>
        </p:nvPicPr>
        <p:blipFill>
          <a:blip r:embed="rId1"/>
          <a:stretch/>
        </p:blipFill>
        <p:spPr>
          <a:xfrm>
            <a:off x="2971800" y="32004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-E – ongelukkige miss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00120" y="2962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he had an unhapp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n acquaintance s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e goes strange with her s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stellar"/>
              </a:rPr>
              <a:t>Som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uitgangen we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nding: zoek “ben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unpredictably: zoek “predic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oek de juiste woordsoort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; zn. = noun, zelfstandig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b; ww. = verb, werkwoor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j; bv. nw. = adjective, bijvoeglijk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v; bw = adverb, bij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 Dutch-Englis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4"/>
          <p:cNvSpPr/>
          <p:nvPr/>
        </p:nvSpPr>
        <p:spPr>
          <a:xfrm flipV="1">
            <a:off x="4857840" y="1499760"/>
            <a:ext cx="142920" cy="7146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1"/>
          <p:cNvSpPr/>
          <p:nvPr/>
        </p:nvSpPr>
        <p:spPr>
          <a:xfrm flipH="1" flipV="1">
            <a:off x="6500880" y="1643040"/>
            <a:ext cx="42840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0"/>
          <p:cNvSpPr/>
          <p:nvPr/>
        </p:nvSpPr>
        <p:spPr>
          <a:xfrm>
            <a:off x="435780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ecifie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3"/>
          <p:cNvSpPr/>
          <p:nvPr/>
        </p:nvSpPr>
        <p:spPr>
          <a:xfrm>
            <a:off x="6286680" y="1285920"/>
            <a:ext cx="169992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ed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1"/>
          <p:cNvSpPr/>
          <p:nvPr/>
        </p:nvSpPr>
        <p:spPr>
          <a:xfrm>
            <a:off x="142920" y="3500280"/>
            <a:ext cx="205272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6"/>
          <p:cNvSpPr/>
          <p:nvPr/>
        </p:nvSpPr>
        <p:spPr>
          <a:xfrm flipH="1" flipV="1">
            <a:off x="2857320" y="1785600"/>
            <a:ext cx="121428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0"/>
          <p:cNvSpPr/>
          <p:nvPr/>
        </p:nvSpPr>
        <p:spPr>
          <a:xfrm>
            <a:off x="7143840" y="4643280"/>
            <a:ext cx="1414440" cy="3240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kstvak 27"/>
          <p:cNvSpPr/>
          <p:nvPr/>
        </p:nvSpPr>
        <p:spPr>
          <a:xfrm>
            <a:off x="2714760" y="2286000"/>
            <a:ext cx="6215040" cy="1739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ongelijk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1 (verschillend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 [portions], different, unlike, dissimilar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dat is ~ (wisselt af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hat varies …. 2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(ongelijkmatig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, [step, temper etc] … 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w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1 unequally, unevenly 2 depending on [what, how much]… I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wrong 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iemand ~ aando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rong a p.; ~ 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bekenn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mit o.s. to be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fbeelding 20" descr="ongelijk.JPG"/>
          <p:cNvPicPr/>
          <p:nvPr/>
        </p:nvPicPr>
        <p:blipFill>
          <a:blip r:embed="rId1"/>
          <a:stretch/>
        </p:blipFill>
        <p:spPr>
          <a:xfrm>
            <a:off x="285840" y="4214880"/>
            <a:ext cx="4643280" cy="3821040"/>
          </a:xfrm>
          <a:prstGeom prst="rect">
            <a:avLst/>
          </a:prstGeom>
          <a:ln w="0">
            <a:noFill/>
          </a:ln>
        </p:spPr>
      </p:pic>
      <p:sp>
        <p:nvSpPr>
          <p:cNvPr id="102" name="Line 54"/>
          <p:cNvSpPr/>
          <p:nvPr/>
        </p:nvSpPr>
        <p:spPr>
          <a:xfrm flipV="1">
            <a:off x="3143160" y="1571760"/>
            <a:ext cx="1428840" cy="12859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 flipV="1">
            <a:off x="6143760" y="1499760"/>
            <a:ext cx="214200" cy="1357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9"/>
          <p:cNvSpPr/>
          <p:nvPr/>
        </p:nvSpPr>
        <p:spPr>
          <a:xfrm>
            <a:off x="5643720" y="4143240"/>
            <a:ext cx="214308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9"/>
          <p:cNvSpPr/>
          <p:nvPr/>
        </p:nvSpPr>
        <p:spPr>
          <a:xfrm flipH="1">
            <a:off x="2143080" y="3643200"/>
            <a:ext cx="357192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1"/>
          <p:cNvSpPr/>
          <p:nvPr/>
        </p:nvSpPr>
        <p:spPr>
          <a:xfrm>
            <a:off x="7400880" y="3357720"/>
            <a:ext cx="171360" cy="1285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2"/>
          <p:cNvSpPr/>
          <p:nvPr/>
        </p:nvSpPr>
        <p:spPr>
          <a:xfrm>
            <a:off x="7286760" y="3143160"/>
            <a:ext cx="71280" cy="10717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8:37:11Z</dcterms:created>
  <dc:creator>Cor</dc:creator>
  <dc:description/>
  <dc:language>en-US</dc:language>
  <cp:lastModifiedBy>Cor</cp:lastModifiedBy>
  <dcterms:modified xsi:type="dcterms:W3CDTF">2008-03-24T09:00:09Z</dcterms:modified>
  <cp:revision>53</cp:revision>
  <dc:subject/>
  <dc:title>Dia 1</dc:title>
</cp:coreProperties>
</file>