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2CCB-C995-49DF-A0A3-96BF691AC7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kombinatie van een EE woordenboek en thesaur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2BC1-43BB-4D68-9548-6DF77EDC8D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46C0-47CC-40EF-8625-4FE9E0C6A8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9DEB-EA93-4CDC-B55F-D476A2A996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F8D2-EBAF-4462-BEF0-1EE0DA4374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F7EC-5EEF-4372-8B7D-2B76D54A61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45E8-8E9B-4BA4-81C4-ABB3F743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0AE2-FAEE-4F37-BB9F-DC639E9D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166-24BB-4B71-BE04-9386D05C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67D-3C41-4E5A-A3CE-B1188CDB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43F-A5BE-4D36-BFDB-0B59A8CB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FD9-0915-4534-9838-ADB7A9D6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55D-1342-4F2C-8EAC-83B12C7F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D37-8E5A-4F9E-B95C-07A91A9B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1099-C905-4109-A192-ADBA1252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93A-7E4F-4961-B57B-43EAB89E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8BD-4FE9-4C57-BB23-EAB2F512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009-AD9C-4A83-80DE-60A7FF78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6A27-B76C-43AA-BFBF-43EE74A9AD7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21.imageshack.us/img221/2046/b00007e8bhjg4.jpg&amp;imgrefurl=http://rumahbeasiswa.com/english-preparation/dictionary/oxford-dictionary-of-english-2006.html&amp;h=384&amp;w=384&amp;sz=43&amp;hl=nl&amp;start=2&amp;um=1&amp;tbnid=4CFZPEoXHJnukM:&amp;tbnh=123&amp;tbnw=123&amp;prev=/images%3Fq%3Ddictionary%26um%3D1%26hl%3Dnl%26safe%3Doff%26rls%3Dcom.microsoft:*:IE-SearchBox%26rlz%3D1I7SUNA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57200" y="3808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ictionary Skills!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bn0.google.com/images?q=tbn:4CFZPEoXHJnukM:http://img221.imageshack.us/img221/2046/b00007e8bhjg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2428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tbn0.google.com/images?q=tbn:zfICr-3Y62jI7M:http://www3.waterstones.com/wat/images/special/promo/dictionary.jpg"/>
          <p:cNvPicPr/>
          <p:nvPr/>
        </p:nvPicPr>
        <p:blipFill>
          <a:blip r:embed="rId3"/>
          <a:stretch/>
        </p:blipFill>
        <p:spPr>
          <a:xfrm>
            <a:off x="2286000" y="3956040"/>
            <a:ext cx="1714680" cy="290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bn0.google.com/images?q=tbn:TptWn9A4ZNSt6M:http://upload.wikimedia.org/wikipedia/en/2/2c/Oxford_English_Dictionary_Set.jpg"/>
          <p:cNvPicPr/>
          <p:nvPr/>
        </p:nvPicPr>
        <p:blipFill>
          <a:blip r:embed="rId4"/>
          <a:stretch/>
        </p:blipFill>
        <p:spPr>
          <a:xfrm>
            <a:off x="2928960" y="2428920"/>
            <a:ext cx="297972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tbn0.google.com/images?q=tbn:wG1R1j9u349wWM:http://www.nnbh.com/9066482184.jpg"/>
          <p:cNvPicPr/>
          <p:nvPr/>
        </p:nvPicPr>
        <p:blipFill>
          <a:blip r:embed="rId5"/>
          <a:stretch/>
        </p:blipFill>
        <p:spPr>
          <a:xfrm>
            <a:off x="6572160" y="3643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ave a go: who gets it r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428760" y="164304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mee wordt een richting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grond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erva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k ben daar niet bij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b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g m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a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3"/>
          <p:cNvSpPr/>
          <p:nvPr/>
        </p:nvSpPr>
        <p:spPr>
          <a:xfrm>
            <a:off x="357120" y="3714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’re looking for a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sinterest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re would have been som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ift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r m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Teachers Un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i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s is a pa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 Thesaurus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as more synonyms than you can dream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Afbeelding 3" descr="thesaurus.JPG"/>
          <p:cNvPicPr/>
          <p:nvPr/>
        </p:nvPicPr>
        <p:blipFill>
          <a:blip r:embed="rId1"/>
          <a:stretch/>
        </p:blipFill>
        <p:spPr>
          <a:xfrm>
            <a:off x="0" y="1500120"/>
            <a:ext cx="835812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785520"/>
            <a:ext cx="32144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 English/ English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kstvak 2"/>
          <p:cNvSpPr/>
          <p:nvPr/>
        </p:nvSpPr>
        <p:spPr>
          <a:xfrm>
            <a:off x="500040" y="28584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 to choose the right word you sometime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fbeelding 3" descr="ee.JPG"/>
          <p:cNvPicPr/>
          <p:nvPr/>
        </p:nvPicPr>
        <p:blipFill>
          <a:blip r:embed="rId1"/>
          <a:stretch/>
        </p:blipFill>
        <p:spPr>
          <a:xfrm>
            <a:off x="3714840" y="1428840"/>
            <a:ext cx="6429240" cy="131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dictionary will give you the following information about a word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ll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 and its special plural fo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Whether or not the word is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capitalized or abbrevi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break the word in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yll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How to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ronounce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part of speech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a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Different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aning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that the word 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 sentence or expression with 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 used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special uses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f the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buClr>
                <a:srgbClr val="89898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Other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ords derived 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rom the main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57120" y="457200"/>
            <a:ext cx="8253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G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used to help you locate a word quickly.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Guide words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 are found at the top of each page.  They tell you the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fir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and </a:t>
            </a:r>
            <a:r>
              <a:rPr b="0" lang="en-US" sz="2800" spc="-1" strike="noStrike">
                <a:solidFill>
                  <a:srgbClr val="a50021"/>
                </a:solidFill>
                <a:latin typeface="Cooper Black"/>
              </a:rPr>
              <a:t>last </a:t>
            </a: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ord that is found on that p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fbeelding 2" descr="guide word.JPG"/>
          <p:cNvPicPr/>
          <p:nvPr/>
        </p:nvPicPr>
        <p:blipFill>
          <a:blip r:embed="rId1"/>
          <a:stretch/>
        </p:blipFill>
        <p:spPr>
          <a:xfrm>
            <a:off x="1000080" y="3929040"/>
            <a:ext cx="4286160" cy="53452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1"/>
          <p:cNvSpPr/>
          <p:nvPr/>
        </p:nvSpPr>
        <p:spPr>
          <a:xfrm>
            <a:off x="-142920" y="3286080"/>
            <a:ext cx="164304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ui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1"/>
          <p:cNvSpPr/>
          <p:nvPr/>
        </p:nvSpPr>
        <p:spPr>
          <a:xfrm flipH="1" flipV="1">
            <a:off x="1214280" y="3643200"/>
            <a:ext cx="285840" cy="5716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fbeelding 5" descr="guide2.JPG"/>
          <p:cNvPicPr/>
          <p:nvPr/>
        </p:nvPicPr>
        <p:blipFill>
          <a:blip r:embed="rId2"/>
          <a:stretch/>
        </p:blipFill>
        <p:spPr>
          <a:xfrm>
            <a:off x="5429160" y="4000680"/>
            <a:ext cx="3830760" cy="5429160"/>
          </a:xfrm>
          <a:prstGeom prst="rect">
            <a:avLst/>
          </a:prstGeom>
          <a:ln w="0">
            <a:noFill/>
          </a:ln>
        </p:spPr>
      </p:pic>
      <p:sp>
        <p:nvSpPr>
          <p:cNvPr id="60" name="Line 81"/>
          <p:cNvSpPr/>
          <p:nvPr/>
        </p:nvSpPr>
        <p:spPr>
          <a:xfrm flipH="1" flipV="1">
            <a:off x="1366920" y="3795480"/>
            <a:ext cx="6919920" cy="3474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304920" y="228600"/>
            <a:ext cx="86104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Arial"/>
              </a:rPr>
              <a:t>Dictionary 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’re going to learn what each part of a definition mea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bd05629_"/>
          <p:cNvPicPr/>
          <p:nvPr/>
        </p:nvPicPr>
        <p:blipFill>
          <a:blip r:embed="rId1"/>
          <a:stretch/>
        </p:blipFill>
        <p:spPr>
          <a:xfrm>
            <a:off x="2438280" y="3117960"/>
            <a:ext cx="44452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n English-Dutc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H="1" flipV="1">
            <a:off x="4723920" y="1371240"/>
            <a:ext cx="561960" cy="10573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4"/>
          <p:cNvSpPr/>
          <p:nvPr/>
        </p:nvSpPr>
        <p:spPr>
          <a:xfrm flipV="1">
            <a:off x="6500880" y="1571400"/>
            <a:ext cx="28584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9"/>
          <p:cNvSpPr/>
          <p:nvPr/>
        </p:nvSpPr>
        <p:spPr>
          <a:xfrm flipH="1">
            <a:off x="1214280" y="2286000"/>
            <a:ext cx="214344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1"/>
          <p:cNvSpPr/>
          <p:nvPr/>
        </p:nvSpPr>
        <p:spPr>
          <a:xfrm flipV="1">
            <a:off x="7358040" y="1857240"/>
            <a:ext cx="28584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2"/>
          <p:cNvSpPr/>
          <p:nvPr/>
        </p:nvSpPr>
        <p:spPr>
          <a:xfrm flipH="1" flipV="1">
            <a:off x="1599840" y="5105160"/>
            <a:ext cx="2514600" cy="60948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9"/>
          <p:cNvSpPr/>
          <p:nvPr/>
        </p:nvSpPr>
        <p:spPr>
          <a:xfrm>
            <a:off x="4071960" y="1214280"/>
            <a:ext cx="157176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0"/>
          <p:cNvSpPr/>
          <p:nvPr/>
        </p:nvSpPr>
        <p:spPr>
          <a:xfrm>
            <a:off x="578628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pression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3"/>
          <p:cNvSpPr/>
          <p:nvPr/>
        </p:nvSpPr>
        <p:spPr>
          <a:xfrm>
            <a:off x="7000920" y="1571760"/>
            <a:ext cx="170028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 =head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1"/>
          <p:cNvSpPr/>
          <p:nvPr/>
        </p:nvSpPr>
        <p:spPr>
          <a:xfrm>
            <a:off x="304920" y="2286000"/>
            <a:ext cx="2052360" cy="7142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4"/>
          <p:cNvSpPr/>
          <p:nvPr/>
        </p:nvSpPr>
        <p:spPr>
          <a:xfrm>
            <a:off x="304920" y="4648320"/>
            <a:ext cx="1904760" cy="10666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der spelligs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d with 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te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6"/>
          <p:cNvSpPr/>
          <p:nvPr/>
        </p:nvSpPr>
        <p:spPr>
          <a:xfrm flipH="1" flipV="1">
            <a:off x="2857320" y="1785960"/>
            <a:ext cx="1214280" cy="2858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0"/>
          <p:cNvSpPr/>
          <p:nvPr/>
        </p:nvSpPr>
        <p:spPr>
          <a:xfrm>
            <a:off x="6286680" y="3714840"/>
            <a:ext cx="2057400" cy="32364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1"/>
          <p:cNvSpPr/>
          <p:nvPr/>
        </p:nvSpPr>
        <p:spPr>
          <a:xfrm flipH="1">
            <a:off x="6386040" y="2857680"/>
            <a:ext cx="328680" cy="9475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27"/>
          <p:cNvSpPr/>
          <p:nvPr/>
        </p:nvSpPr>
        <p:spPr>
          <a:xfrm>
            <a:off x="2571840" y="1928880"/>
            <a:ext cx="5857920" cy="1283040"/>
          </a:xfrm>
          <a:prstGeom prst="rect">
            <a:avLst/>
          </a:prstGeom>
          <a:solidFill>
            <a:srgbClr val="d9d9d9">
              <a:alpha val="45000"/>
            </a:srgbClr>
          </a:solidFill>
          <a:ln w="9360">
            <a:solidFill>
              <a:srgbClr val="4f81bd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fight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[fait] 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 gevecht, strijd; 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make a brave ~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ranig vechten …2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chtlus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… II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1 vechten,  strijden; strijden voor: ~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the cause of liberty; … ~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 back,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a)terugdringen; b) zich verweren ….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2 bev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Afbeelding 24" descr="fight.JPG"/>
          <p:cNvPicPr/>
          <p:nvPr/>
        </p:nvPicPr>
        <p:blipFill>
          <a:blip r:embed="rId1"/>
          <a:stretch/>
        </p:blipFill>
        <p:spPr>
          <a:xfrm>
            <a:off x="214200" y="3500280"/>
            <a:ext cx="49453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717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w you know the definition of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fini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cbook"/>
          <p:cNvPicPr/>
          <p:nvPr/>
        </p:nvPicPr>
        <p:blipFill>
          <a:blip r:embed="rId1"/>
          <a:stretch/>
        </p:blipFill>
        <p:spPr>
          <a:xfrm>
            <a:off x="2971800" y="3200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-E – ongelukkige miss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00120" y="2962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he had an unhapp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n acquaintance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e goes strange with her si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stellar"/>
              </a:rPr>
              <a:t>Som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at uitgangen we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nding: zoek “ben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unpredictably: zoek “predic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ek de juiste woordsoort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; zn. = noun, zelfstandig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; ww. = verb, werkwoor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j; bv. nw. = adjective, bijvoeglijk naam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dv; bw = adverb, bijwo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6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006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0" y="179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avigating a Dutch-English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4"/>
          <p:cNvSpPr/>
          <p:nvPr/>
        </p:nvSpPr>
        <p:spPr>
          <a:xfrm flipV="1">
            <a:off x="4857840" y="1499760"/>
            <a:ext cx="142920" cy="71460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1"/>
          <p:cNvSpPr/>
          <p:nvPr/>
        </p:nvSpPr>
        <p:spPr>
          <a:xfrm flipH="1" flipV="1">
            <a:off x="6500880" y="1643040"/>
            <a:ext cx="428400" cy="6429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0"/>
          <p:cNvSpPr/>
          <p:nvPr/>
        </p:nvSpPr>
        <p:spPr>
          <a:xfrm>
            <a:off x="4357800" y="928800"/>
            <a:ext cx="1785960" cy="64296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fied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italic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3"/>
          <p:cNvSpPr/>
          <p:nvPr/>
        </p:nvSpPr>
        <p:spPr>
          <a:xfrm>
            <a:off x="6286680" y="1285920"/>
            <a:ext cx="169992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ed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1"/>
          <p:cNvSpPr/>
          <p:nvPr/>
        </p:nvSpPr>
        <p:spPr>
          <a:xfrm>
            <a:off x="142920" y="3500280"/>
            <a:ext cx="2052720" cy="7146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5"/>
          <p:cNvSpPr/>
          <p:nvPr/>
        </p:nvSpPr>
        <p:spPr>
          <a:xfrm>
            <a:off x="2500200" y="1500120"/>
            <a:ext cx="1400400" cy="35712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6"/>
          <p:cNvSpPr/>
          <p:nvPr/>
        </p:nvSpPr>
        <p:spPr>
          <a:xfrm flipH="1" flipV="1">
            <a:off x="2857320" y="1785600"/>
            <a:ext cx="1214280" cy="50004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0"/>
          <p:cNvSpPr/>
          <p:nvPr/>
        </p:nvSpPr>
        <p:spPr>
          <a:xfrm>
            <a:off x="7143840" y="4643280"/>
            <a:ext cx="1414440" cy="32400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27"/>
          <p:cNvSpPr/>
          <p:nvPr/>
        </p:nvSpPr>
        <p:spPr>
          <a:xfrm>
            <a:off x="2714760" y="2286000"/>
            <a:ext cx="6215040" cy="1739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0c0"/>
                </a:solidFill>
                <a:latin typeface="Rockwell Extra Bold"/>
              </a:rPr>
              <a:t>ongelijk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 1 (verschillend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 [portions], different, unlike, dissimilar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dat is ~ (wisselt af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hat varies …. 2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(ongelijkmatig)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qual, [step, temper etc] … 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bw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1 unequally, unevenly 2 depending on [what, how much]… III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wrong ;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iemand ~ aando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rong a p.; ~ </a:t>
            </a:r>
            <a:r>
              <a:rPr b="1" i="1" lang="nl-NL" sz="1800" spc="-1" strike="noStrike">
                <a:solidFill>
                  <a:srgbClr val="000000"/>
                </a:solidFill>
                <a:latin typeface="Calibri"/>
              </a:rPr>
              <a:t>bekennen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mit o.s. to be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fbeelding 20" descr="ongelijk.JPG"/>
          <p:cNvPicPr/>
          <p:nvPr/>
        </p:nvPicPr>
        <p:blipFill>
          <a:blip r:embed="rId1"/>
          <a:stretch/>
        </p:blipFill>
        <p:spPr>
          <a:xfrm>
            <a:off x="285840" y="4214880"/>
            <a:ext cx="4643280" cy="3821040"/>
          </a:xfrm>
          <a:prstGeom prst="rect">
            <a:avLst/>
          </a:prstGeom>
          <a:ln w="0">
            <a:noFill/>
          </a:ln>
        </p:spPr>
      </p:pic>
      <p:sp>
        <p:nvSpPr>
          <p:cNvPr id="102" name="Line 54"/>
          <p:cNvSpPr/>
          <p:nvPr/>
        </p:nvSpPr>
        <p:spPr>
          <a:xfrm flipV="1">
            <a:off x="3143160" y="1571760"/>
            <a:ext cx="1428840" cy="12859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1"/>
          <p:cNvSpPr/>
          <p:nvPr/>
        </p:nvSpPr>
        <p:spPr>
          <a:xfrm flipV="1">
            <a:off x="6143760" y="1499760"/>
            <a:ext cx="214200" cy="1357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9"/>
          <p:cNvSpPr/>
          <p:nvPr/>
        </p:nvSpPr>
        <p:spPr>
          <a:xfrm>
            <a:off x="5643720" y="4143240"/>
            <a:ext cx="2143080" cy="357480"/>
          </a:xfrm>
          <a:prstGeom prst="roundRect">
            <a:avLst>
              <a:gd name="adj" fmla="val 16667"/>
            </a:avLst>
          </a:prstGeom>
          <a:solidFill>
            <a:srgbClr val="e60000"/>
          </a:solidFill>
          <a:ln w="93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9"/>
          <p:cNvSpPr/>
          <p:nvPr/>
        </p:nvSpPr>
        <p:spPr>
          <a:xfrm flipH="1">
            <a:off x="2143080" y="3643200"/>
            <a:ext cx="3571920" cy="214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1"/>
          <p:cNvSpPr/>
          <p:nvPr/>
        </p:nvSpPr>
        <p:spPr>
          <a:xfrm>
            <a:off x="7400880" y="3357720"/>
            <a:ext cx="171360" cy="128556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7286760" y="3143160"/>
            <a:ext cx="71280" cy="1071720"/>
          </a:xfrm>
          <a:prstGeom prst="line">
            <a:avLst/>
          </a:prstGeom>
          <a:ln w="12600">
            <a:solidFill>
              <a:srgbClr val="e6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8:37:11Z</dcterms:created>
  <dc:creator>Cor</dc:creator>
  <dc:description/>
  <dc:language>en-US</dc:language>
  <cp:lastModifiedBy>Cor</cp:lastModifiedBy>
  <dcterms:modified xsi:type="dcterms:W3CDTF">2008-03-24T09:00:09Z</dcterms:modified>
  <cp:revision>53</cp:revision>
  <dc:subject/>
  <dc:title>Dia 1</dc:title>
</cp:coreProperties>
</file>