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555-D52F-49E5-B475-BC8464B9750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Voorstelformul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B896-5B38-4A7F-B57C-3AEC6A11E45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020C-A72D-45FC-8842-4C42DF8D3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FA32D-3C75-48C0-82FA-76ABE9BD3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ED2-86D6-4717-8A2B-85AD5C6E1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AD6E-FC41-4F58-A3AE-AA6009439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7AA3-C1A9-4ACC-8D9A-5A47389A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59A0-B7FF-40F1-95FC-36CE7D02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24C9-EB48-447F-921E-C420AFD2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4F12-D5D3-4721-8903-D9DFD018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551-6AF9-4FB2-95C2-4DC96CF0C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5E2-EB63-4CEC-A5E2-54758036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8A6D-F680-4F75-9772-3B329EED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B84C-6830-449C-B359-9E967F1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0222-31A0-4A82-9672-BF14B8BFFAF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uact=8&amp;ved=0CAcQjRw&amp;url=http%3A%2F%2Fwww.vbw.nu%2Fmijn-bloemist%2Fmijnbloemist&amp;ei=2I5lVaHDCIbxUqOtg6AM&amp;bvm=bv.93990622,d.d24&amp;psig=AFQjCNHlc7OnHj5rPnaPDwGAuX526pSl6Q&amp;ust=1432805439896162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664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8000" spc="-1" strike="noStrike">
                <a:solidFill>
                  <a:srgbClr val="000000"/>
                </a:solidFill>
                <a:latin typeface="Arial"/>
              </a:rPr>
              <a:t>BPV</a:t>
            </a:r>
            <a:br>
              <a:rPr sz="4000"/>
            </a:br>
            <a:br>
              <a:rPr sz="4000"/>
            </a:b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9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1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13"/>
          <p:cNvSpPr/>
          <p:nvPr/>
        </p:nvSpPr>
        <p:spPr>
          <a:xfrm>
            <a:off x="3629160" y="2800440"/>
            <a:ext cx="188568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15"/>
          <p:cNvSpPr/>
          <p:nvPr/>
        </p:nvSpPr>
        <p:spPr>
          <a:xfrm>
            <a:off x="135000" y="-27000"/>
            <a:ext cx="18860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Afbeeldingsresultaat voor bloemenwinkel"/>
          <p:cNvPicPr/>
          <p:nvPr/>
        </p:nvPicPr>
        <p:blipFill>
          <a:blip r:embed="rId1"/>
          <a:stretch/>
        </p:blipFill>
        <p:spPr>
          <a:xfrm>
            <a:off x="4818240" y="2997360"/>
            <a:ext cx="2857320" cy="160020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16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2" descr="Afbeeldingsresultaat voor bloemenwinkel"/>
          <p:cNvPicPr/>
          <p:nvPr/>
        </p:nvPicPr>
        <p:blipFill>
          <a:blip r:embed="rId2"/>
          <a:stretch/>
        </p:blipFill>
        <p:spPr>
          <a:xfrm>
            <a:off x="4818240" y="912960"/>
            <a:ext cx="2857320" cy="1893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Afbeeldingsresultaat voor boeket maken"/>
          <p:cNvPicPr/>
          <p:nvPr/>
        </p:nvPicPr>
        <p:blipFill>
          <a:blip r:embed="rId3"/>
          <a:stretch/>
        </p:blipFill>
        <p:spPr>
          <a:xfrm>
            <a:off x="2268360" y="2995560"/>
            <a:ext cx="2454480" cy="1633680"/>
          </a:xfrm>
          <a:prstGeom prst="rect">
            <a:avLst/>
          </a:prstGeom>
          <a:ln w="0">
            <a:noFill/>
          </a:ln>
        </p:spPr>
      </p:pic>
      <p:pic>
        <p:nvPicPr>
          <p:cNvPr id="58" name="Afbeelding 1" descr=""/>
          <p:cNvPicPr/>
          <p:nvPr/>
        </p:nvPicPr>
        <p:blipFill>
          <a:blip r:embed="rId4"/>
          <a:stretch/>
        </p:blipFill>
        <p:spPr>
          <a:xfrm>
            <a:off x="4818240" y="4651200"/>
            <a:ext cx="2857320" cy="18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Afronding BP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ag/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everen volgens afspraak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nl-NL" sz="3600" spc="-1" strike="noStrike">
                <a:solidFill>
                  <a:srgbClr val="ff0000"/>
                </a:solidFill>
                <a:latin typeface="Arial"/>
              </a:rPr>
              <a:t>Maak KOPIËN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1787400" y="142560"/>
            <a:ext cx="24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10"/>
          <p:cNvSpPr/>
          <p:nvPr/>
        </p:nvSpPr>
        <p:spPr>
          <a:xfrm>
            <a:off x="1787400" y="5356080"/>
            <a:ext cx="244800" cy="13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7"/>
          <p:cNvSpPr/>
          <p:nvPr/>
        </p:nvSpPr>
        <p:spPr>
          <a:xfrm>
            <a:off x="0" y="12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50920" y="1098720"/>
          <a:ext cx="8569080" cy="4748040"/>
        </p:xfrm>
        <a:graphic>
          <a:graphicData uri="http://schemas.openxmlformats.org/drawingml/2006/table">
            <a:tbl>
              <a:tblPr/>
              <a:tblGrid>
                <a:gridCol w="2690640"/>
                <a:gridCol w="2565360"/>
                <a:gridCol w="117720"/>
                <a:gridCol w="3195360"/>
              </a:tblGrid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4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5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oorstelformulier en werkprocessenformu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a mail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bpvmbodenbosch@helicon.n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aktijkovereenkomst (PO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óór aanvang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120">
                <a:tc gridSpan="4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 afloop BP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68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 te 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jdstip van inleve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leveren bi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PV-opdrachten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indbeoordeling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genoverzicht</a:t>
                      </a: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 afspraak coa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ach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44798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FIJNE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en </a:t>
            </a:r>
            <a:br>
              <a:rPr sz="4000"/>
            </a:br>
            <a:r>
              <a:rPr b="1" lang="nl-NL" sz="4000" spc="-1" strike="noStrike">
                <a:solidFill>
                  <a:srgbClr val="000000"/>
                </a:solidFill>
                <a:latin typeface="Arial"/>
              </a:rPr>
              <a:t>LEERZAME BPV</a:t>
            </a: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5" descr="http://www.vbw.nu/files/images/cache/c0996f520cee571de077cecfb35e4d4ae4a923c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00360" y="4221000"/>
            <a:ext cx="491508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Even voorstellen</a:t>
            </a: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85356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- coördinat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Marij Verheu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Bloem en vormgeving 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- en outdoor desig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aanvraag goedkeuren en voorstelformulier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verwer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* vragen rondom BPV beantwoo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59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579920" y="199692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kiwijs Cluster design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2"/>
          <a:srcRect l="4413" t="8258" r="34210" b="5123"/>
          <a:stretch/>
        </p:blipFill>
        <p:spPr>
          <a:xfrm>
            <a:off x="539640" y="836640"/>
            <a:ext cx="798516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gels en afspra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agemarkt.nl (zoeken leerbedrijf erkend door Aequ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ekend en vaka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istijd , Leerzaam en leu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ormulier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tact bedrij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nnismaking - meeloopd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orstelformulier (mailen, goedkeu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processenformulier 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nog nodig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K (inleveren coa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Urenregistr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oord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Kennisma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ak op het bedrij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et je telefoon 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Let op je uiterlijk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at neem je me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oorstelformuli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rkprocessen formul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Periode(s) BPV / da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aak een lijst met wat je wil vragen/z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Inhoud gespr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zaamh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erktij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ding/schoen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lefoongebru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 opdra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ten en drin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verige z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P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aktijkovereenkom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ekenen in driev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drijf/school/jijz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POK inleveren vóór aanvang BPV bij de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Belangrij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roblemen met BPV zoeken -&gt; c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PV-formulier kan afgewezen wor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ulieren op tijd inlev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ëindig nooit een stage zonder over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3:10:42Z</dcterms:created>
  <dc:creator>Systeembeheer</dc:creator>
  <dc:description/>
  <dc:language>en-US</dc:language>
  <cp:lastModifiedBy>Marij Verheugen</cp:lastModifiedBy>
  <dcterms:modified xsi:type="dcterms:W3CDTF">2015-07-01T13:22:04Z</dcterms:modified>
  <cp:revision>44</cp:revision>
  <dc:subject/>
  <dc:title>Ziekten en afwijkingen aan het skelet</dc:title>
</cp:coreProperties>
</file>