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A23C-784F-439A-B48E-0456C86D82F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2471-0519-4ACE-806F-56E9104AEEB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80BC-9AFF-40F4-9087-4C9E157F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09B-C9C2-43A6-AE48-4AF483A2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8AF-E53B-4BB9-8F3E-0E439A87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2097-4A53-42CC-8096-96454E11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03E6-9FC8-40CF-8029-A8BEC070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7C7B-3409-40BA-943D-D89BD870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2B0-6045-4A03-953B-2FE9C3D7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42C-861F-4E2A-98F8-AA8E028E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CCE-75DA-4BFA-8F37-46146DAD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400C-3C62-4FE4-A8BB-13E61D3E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61B-F273-48ED-AC64-45291132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343-4E9A-4B0D-941E-3062309F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6A47-04BF-4C04-A6B8-98A6CEDA89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uact=8&amp;ved=0CAcQjRw&amp;url=http%3A%2F%2Fwww.vbw.nu%2Fmijn-bloemist%2Fmijnbloemist&amp;ei=2I5lVaHDCIbxUqOtg6AM&amp;bvm=bv.93990622,d.d24&amp;psig=AFQjCNHlc7OnHj5rPnaPDwGAuX526pSl6Q&amp;ust=143280543989616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fbeeldingsresultaat voor bloemenwinkel"/>
          <p:cNvPicPr/>
          <p:nvPr/>
        </p:nvPicPr>
        <p:blipFill>
          <a:blip r:embed="rId1"/>
          <a:stretch/>
        </p:blipFill>
        <p:spPr>
          <a:xfrm>
            <a:off x="4818240" y="299736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Afbeeldingsresultaat voor bloemenwinkel"/>
          <p:cNvPicPr/>
          <p:nvPr/>
        </p:nvPicPr>
        <p:blipFill>
          <a:blip r:embed="rId2"/>
          <a:stretch/>
        </p:blipFill>
        <p:spPr>
          <a:xfrm>
            <a:off x="4818240" y="912960"/>
            <a:ext cx="2857320" cy="189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Afbeeldingsresultaat voor boeket maken"/>
          <p:cNvPicPr/>
          <p:nvPr/>
        </p:nvPicPr>
        <p:blipFill>
          <a:blip r:embed="rId3"/>
          <a:stretch/>
        </p:blipFill>
        <p:spPr>
          <a:xfrm>
            <a:off x="2268360" y="2995560"/>
            <a:ext cx="2454480" cy="163368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1" descr=""/>
          <p:cNvPicPr/>
          <p:nvPr/>
        </p:nvPicPr>
        <p:blipFill>
          <a:blip r:embed="rId4"/>
          <a:stretch/>
        </p:blipFill>
        <p:spPr>
          <a:xfrm>
            <a:off x="4818240" y="4651200"/>
            <a:ext cx="28573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1098720"/>
          <a:ext cx="856908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565360"/>
                <a:gridCol w="117720"/>
                <a:gridCol w="3195360"/>
              </a:tblGrid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pvmbodenbosch@helicon.n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http://www.vbw.nu/files/images/cache/c0996f520cee571de077cecfb35e4d4ae4a923c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0360" y="4221000"/>
            <a:ext cx="4915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53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- coördin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Marij Verh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Bloem en vormgeving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- en outdoor desig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aanvraag goedkeuren en voorstelformulier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ver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9920" y="199692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kiwijs Cluster desig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rcRect l="4413" t="8258" r="34210" b="5123"/>
          <a:stretch/>
        </p:blipFill>
        <p:spPr>
          <a:xfrm>
            <a:off x="539640" y="836640"/>
            <a:ext cx="7985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en afspr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gemarkt.nl (zoeken leerbedrijf erkend door Aequ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kend en vaka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istijd , Leerzaam en le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og nodig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stel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Marij Verheugen</cp:lastModifiedBy>
  <dcterms:modified xsi:type="dcterms:W3CDTF">2015-07-01T13:22:04Z</dcterms:modified>
  <cp:revision>44</cp:revision>
  <dc:subject/>
  <dc:title>Ziekten en afwijkingen aan het skelet</dc:title>
</cp:coreProperties>
</file>