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2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 type="sldNum" idx="2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6B99A-9C50-46D9-AEE9-C3FF5A986516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870BF-998F-4FC2-847F-13BD826B835A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1FCC5-378B-4EDD-A87D-B1C104E8A207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F1F85-8393-44AC-ACFB-161872965994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46CCF-6950-4384-8B9E-E90E4048EBD1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65E96-470B-444B-9BB7-B68E796BE333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B5FC4-204F-4869-B304-5B0D89F3ADA6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8643D-E8FA-4A8D-9D94-771ADDE48AA7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01F66-347C-4D10-813E-561B700C4305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367F3-A7E4-4156-9CBC-311A25F01D70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16160-54B5-4C1A-87A3-F57872EB9A3F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A5391-73BA-4B16-90ED-D9AA72817390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BBCFF-5185-49C6-BC82-124EEA77099C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87B8C-B061-4DAD-BB18-54069E204F10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BB740-EF33-4CC1-B2F4-7B8B51CB7636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8BB-5CC0-4F1F-A067-54ABEC9C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B80-2799-4F21-BD69-D3DF60C8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B83-6C28-41F4-87BE-F6030140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476-79D9-40A8-817A-E1FCA11E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4C57-428C-4930-BF60-A2C57966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7E2E-B8DB-442A-9294-0DDF36DA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31CD-3753-41E1-953B-6B0DFD61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B6EF-2E5D-4181-ADFB-D6EF124F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FDAB-3FAD-4376-AB8D-7185CEC9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8D37-9B3F-4501-B736-8CA3298D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52DC-B159-4707-8F9E-64518A57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D47C-EB4C-4690-ACDF-C561A7A3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4F89-E963-4A0A-9ECE-5EE71301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CE15-ED2D-42C6-938E-5FD030A5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22AC-64FE-42F6-B22C-CA9CD319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5D1F-6EC4-4F6F-8234-5728B36B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4115-F69F-4DA5-84FB-8D07F9E7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4B3ED-470F-4166-ACA0-B5B3524D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366A3-9D08-4E92-A27C-61653B82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7CD67-E200-4039-9C08-74BE9616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F7B5D-C3AE-4F18-86F2-20C820F1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1211E-AF12-4C5C-B7CC-683618C3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56C5-092A-4B1A-92F4-AED731C9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FB268-BA73-434C-B035-4ED1E77E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CAA59-7C0A-4E4F-B57F-22DFB8D0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B899E-FD2A-42D9-9B46-6413AA29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12BDD-9EC0-430E-92D6-160A6736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17C6B-5C75-4216-8438-4E6145EE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A4456-A5F2-4EB9-B8FF-776C546F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4552E-CF02-43BA-ADEB-81D51E30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E9753-B114-4398-B5B1-44D5C15F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FA01B-4561-4991-AC7D-9E21E718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25F3E-B12D-4F52-A7E7-08F1D055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D21-A73D-4987-BB64-93E3A831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D5EC4-FC60-486E-849B-FA9E9361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2B05B-B887-4594-B59C-95130A69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EABAE-45F0-48FB-8341-08CE58BC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76AAE-5394-4BDC-8504-7B0AA56F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FB76C-5E66-4575-85E5-6A3B81D7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81248-2735-4D45-A809-70912C04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78204-5C63-4FBD-8542-1D919186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D207C-CBC0-4407-AA9E-E151FAAF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12AFE-C17A-46D2-8DB1-D6C75CF4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B1F5F-D1D1-4AD5-8CB8-F625EDD4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E769-6031-4524-93C4-38CE9301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DF28D-C6FD-4A27-8AF1-433BA264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A4188-A16B-4373-A37E-61F2B8E9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E446A-950B-4703-BA03-6E51E391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F3F1A-ED7A-4546-A5A3-9181D3F8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2FBB0-B85B-4495-8D63-70E65938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20689-2AD3-4BCB-8F6B-2016B15E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E708F-F753-4F49-BA48-5D32CBE4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31C44-EE55-4961-9497-E042543C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79E7D-BB66-4370-8D43-94DEEF02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3A346-3C95-4D3B-B7C7-8B237A0F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2FB-061F-4022-BF07-44739961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05A11-4048-4A5C-B70B-FB614794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E0518-832E-4BA3-BBD5-5BF16D15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09AC1-2ADA-4EAF-8885-AB3B5530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6C68A-208A-4AF6-8753-06A22C4D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DA91A-C96C-4790-8011-F88F6BEC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70DF2-989D-4CAC-A58B-425BF9EF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01BA1-7A14-495A-9399-D036967D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93788-E2DE-4577-96E9-001207E4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86AAE-8A23-4459-9031-ACED44D8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25C9D-5ED5-4051-B0DD-0F580ED1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A9E9-A66B-43A9-B87A-58684BC3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E27DF-1FFB-4CB4-9A40-2456B76D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A751A-2DE2-4D71-8034-193A258B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80B2E-D7C1-4AD0-9EF2-7DD2AB47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F39B2-4092-4621-B80C-CA5032EA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D36B7-AB18-4BCA-964E-69034827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71B13-4AB9-4E6E-922C-621393D4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ACE61-2C82-4592-85C0-3131E743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A5196-942C-406A-991B-36E66749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5564A-9A08-48B8-AE80-425B09F4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BDA86-6810-4C00-BC7F-48383F06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B2EE-14E5-4C49-AE10-CB6A60A3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186FE-5B4B-42AD-9E87-C605F754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45C39-D663-46E3-A48A-73FCD108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849F7-C81B-47E3-A4A1-E2265136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1D026-059E-49A2-9A28-824518F2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D8D7C-F3D9-4587-AAF4-DEFCB6E7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AB9B1-464C-4063-AA9E-54EDC513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F2365-D689-44D5-9817-264CDA3E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76F88-F1C3-44D0-959E-05B7AEFE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E1BC4-46FE-4313-8F2D-EEC82B55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5D28B-5090-40AD-B65A-1BEBE850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4C9-D4F6-4FF5-A5FA-A9824A32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53409-06C7-4050-9719-FFE27153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C23EF-2781-4A50-910B-0E455798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DB86C-8DBD-4887-AA48-446C2D80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BB6C5-E88A-4E81-BB8F-CAC08DF5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32D79-36E6-49D9-83C9-44165C11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1FC59-C6D4-4BAE-BDE2-270A84BA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8CB8E-AA39-4156-B833-D17B2CDD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2DA13-05C1-4C5C-B3A0-97E84F4C68C9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330C7-7F9D-4669-B701-1E1F77AC4051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D47E4-F88B-4A08-AD43-23AA2D41A212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653B8-F524-4763-8FF6-055A292BE680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0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1E1F6-581D-4E1D-8E19-2E8EBEA5C7A0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6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13489-9EC7-4486-9F7C-D2D5F86CA8D9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1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3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FDFF59-662F-4C08-BA2E-7D38141E0B4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6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7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2C02F-771C-4F93-BAE9-A574C8798418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30400" y="2077560"/>
            <a:ext cx="4309920" cy="307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Thema 1 </a:t>
            </a:r>
            <a:br>
              <a:rPr sz="4000"/>
            </a:b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Basiszorg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28" name="Afbeelding 3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3764160" cy="136836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1"/>
          <p:cNvSpPr/>
          <p:nvPr/>
        </p:nvSpPr>
        <p:spPr>
          <a:xfrm>
            <a:off x="1692360" y="4386240"/>
            <a:ext cx="57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eb3d9f"/>
                </a:solidFill>
                <a:latin typeface="Trebuchet MS"/>
              </a:rPr>
              <a:t>Wassen &amp; aankled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Scher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585360" y="1654200"/>
            <a:ext cx="7921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ij meeste mannen onderdeel van de dagelijkse verzorg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er eerst met de haargroei mee daarna nog ertegen in indien gewenst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rek de huid strak bij scheren met scheerm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ren vrouw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tsch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oogsch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6" name="Afbeelding 3" descr=""/>
          <p:cNvPicPr/>
          <p:nvPr/>
        </p:nvPicPr>
        <p:blipFill>
          <a:blip r:embed="rId1"/>
          <a:stretch/>
        </p:blipFill>
        <p:spPr>
          <a:xfrm>
            <a:off x="395280" y="4789440"/>
            <a:ext cx="2724120" cy="1676520"/>
          </a:xfrm>
          <a:prstGeom prst="rect">
            <a:avLst/>
          </a:prstGeom>
          <a:ln w="0">
            <a:noFill/>
          </a:ln>
        </p:spPr>
      </p:pic>
      <p:pic>
        <p:nvPicPr>
          <p:cNvPr id="457" name="Afbeelding 4" descr=""/>
          <p:cNvPicPr/>
          <p:nvPr/>
        </p:nvPicPr>
        <p:blipFill>
          <a:blip r:embed="rId2"/>
          <a:stretch/>
        </p:blipFill>
        <p:spPr>
          <a:xfrm>
            <a:off x="2530440" y="4832280"/>
            <a:ext cx="1606680" cy="1608120"/>
          </a:xfrm>
          <a:prstGeom prst="rect">
            <a:avLst/>
          </a:prstGeom>
          <a:ln w="0">
            <a:noFill/>
          </a:ln>
        </p:spPr>
      </p:pic>
      <p:pic>
        <p:nvPicPr>
          <p:cNvPr id="458" name="Afbeelding 5" descr=""/>
          <p:cNvPicPr/>
          <p:nvPr/>
        </p:nvPicPr>
        <p:blipFill>
          <a:blip r:embed="rId3"/>
          <a:stretch/>
        </p:blipFill>
        <p:spPr>
          <a:xfrm>
            <a:off x="4268880" y="3763800"/>
            <a:ext cx="1952640" cy="2806920"/>
          </a:xfrm>
          <a:prstGeom prst="rect">
            <a:avLst/>
          </a:prstGeom>
          <a:ln w="0">
            <a:noFill/>
          </a:ln>
        </p:spPr>
      </p:pic>
      <p:pic>
        <p:nvPicPr>
          <p:cNvPr id="459" name="Afbeelding 6" descr=""/>
          <p:cNvPicPr/>
          <p:nvPr/>
        </p:nvPicPr>
        <p:blipFill>
          <a:blip r:embed="rId4"/>
          <a:stretch/>
        </p:blipFill>
        <p:spPr>
          <a:xfrm>
            <a:off x="6603840" y="417024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ogverzorg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09480" y="1323720"/>
            <a:ext cx="7707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sen van de buitenste naar de binnenste oogho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geen zee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zn. watten/gaasjes en een fysiologische zoutoplossing bij korstvorm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op hygiëne van bri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ontactlenz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ogprothe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2" name="Afbeelding 3" descr=""/>
          <p:cNvPicPr/>
          <p:nvPr/>
        </p:nvPicPr>
        <p:blipFill>
          <a:blip r:embed="rId1"/>
          <a:stretch/>
        </p:blipFill>
        <p:spPr>
          <a:xfrm>
            <a:off x="4908600" y="4884840"/>
            <a:ext cx="2533680" cy="1689120"/>
          </a:xfrm>
          <a:prstGeom prst="rect">
            <a:avLst/>
          </a:prstGeom>
          <a:ln w="0">
            <a:noFill/>
          </a:ln>
        </p:spPr>
      </p:pic>
      <p:pic>
        <p:nvPicPr>
          <p:cNvPr id="463" name="Afbeelding 4" descr=""/>
          <p:cNvPicPr/>
          <p:nvPr/>
        </p:nvPicPr>
        <p:blipFill>
          <a:blip r:embed="rId2"/>
          <a:stretch/>
        </p:blipFill>
        <p:spPr>
          <a:xfrm>
            <a:off x="971640" y="4870440"/>
            <a:ext cx="3012840" cy="1703520"/>
          </a:xfrm>
          <a:prstGeom prst="rect">
            <a:avLst/>
          </a:prstGeom>
          <a:ln w="0">
            <a:noFill/>
          </a:ln>
        </p:spPr>
      </p:pic>
      <p:pic>
        <p:nvPicPr>
          <p:cNvPr id="464" name="Afbeelding 1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26416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ond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09480" y="1412640"/>
            <a:ext cx="7562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langrijk voor de conditie van het gebit en de slijmvliez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zn. tandenstokers, tandflos, spoelwater,borsteltj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inig de gebitsprothes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n alert op stomatitis (pijnlijk, ontstoken slijmvlies: rood, glimmend en opgezwollen); verhoogde kans bij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ge koor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en/geringe vochtinnam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sufte of bewusteloze zorgvrag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echte slikfunc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paald medicatiegebruik (antibiotica, cytostatica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minderde weerstand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7" name="Afbeelding 3" descr=""/>
          <p:cNvPicPr/>
          <p:nvPr/>
        </p:nvPicPr>
        <p:blipFill>
          <a:blip r:embed="rId1"/>
          <a:stretch/>
        </p:blipFill>
        <p:spPr>
          <a:xfrm>
            <a:off x="7716960" y="529416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468" name="Afbeelding 1" descr=""/>
          <p:cNvPicPr/>
          <p:nvPr/>
        </p:nvPicPr>
        <p:blipFill>
          <a:blip r:embed="rId2"/>
          <a:stretch/>
        </p:blipFill>
        <p:spPr>
          <a:xfrm>
            <a:off x="5945040" y="4149720"/>
            <a:ext cx="17179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or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50560" y="1396800"/>
            <a:ext cx="799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 normale functie van het oor: wassen van het buitenoor is voldoen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rwijder zn. oorsmeer een opgerold, vochtig watj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inig zn. het gehoortoestel. (oorstukje met wat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et goed op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li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re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hoorappara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ontroleer batterij van he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hoortoestel regelmat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1" name="Afbeelding 3" descr=""/>
          <p:cNvPicPr/>
          <p:nvPr/>
        </p:nvPicPr>
        <p:blipFill>
          <a:blip r:embed="rId1"/>
          <a:stretch/>
        </p:blipFill>
        <p:spPr>
          <a:xfrm>
            <a:off x="5913360" y="3645000"/>
            <a:ext cx="208908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agel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94920" y="1557000"/>
            <a:ext cx="77072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komen van ingegroeide nagels en ontsteking aan het nagelb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ud rekening met persoonlijke gewoon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Uitgangspunten bij verzorging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ingernagels rond kni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eennagels recht kni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gels niet te kort knippen i.v.m. beschadiging nagelb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rde nagels/zeer broze nagels: 10 minuten weken in 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op bij zorgvragers met een slechte bloedcirculatie in benen en voet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knip zelf geen nagels bij diabeten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immelnagels? Let extra op hygiëne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ing geslachtsorgan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50560" y="169992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n alert op schaamtegevoelens bij de zorgvrag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nitaal gebied: geslachtsorganen en anu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langrijk t.a.v. psychisch en sociaal welzijn, voorkomt infecties en een onaangename ge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hoogde kans op infecties (warm, vochtig en weinig ventilatie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Zeepgebruik kan zuurgraad in de vagina verstoren (zuurgraad biedt bescherming tegen micro-organism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Geslachtsorganen vrouw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80720" y="1628280"/>
            <a:ext cx="3601800" cy="42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vanaf de schaamheuvel in de richting van de anu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de anus in de richting van de ru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Verzorging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van boven naar beneden en van schoon naar vuil (vergeleken met de anus is de uitgang van de urinebuis een schoon gebied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8" name="Picture 2" descr="Afbeeldingsresultaat voor geslachtsorganen"/>
          <p:cNvPicPr/>
          <p:nvPr/>
        </p:nvPicPr>
        <p:blipFill>
          <a:blip r:embed="rId1"/>
          <a:stretch/>
        </p:blipFill>
        <p:spPr>
          <a:xfrm>
            <a:off x="4184640" y="2160720"/>
            <a:ext cx="4959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236520"/>
            <a:ext cx="63486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Geslachtsorganen ma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50560" y="1002960"/>
            <a:ext cx="67071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uif voorhuid terug tot achter de eikel, reinig de eikel en evt. smegma. Schuif voorhuid terug over de glans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de anus in de richting van de ru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Verzorging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van boven naar beneden en van schoon naar vuil (vergeleken met de anus is de uitgang van de urinebuis een schoon gebied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1"/>
          <a:stretch/>
        </p:blipFill>
        <p:spPr>
          <a:xfrm>
            <a:off x="6156360" y="4786200"/>
            <a:ext cx="2987640" cy="20718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Afbeeldingsresultaat voor spaanse kraag"/>
          <p:cNvPicPr/>
          <p:nvPr/>
        </p:nvPicPr>
        <p:blipFill>
          <a:blip r:embed="rId2"/>
          <a:stretch/>
        </p:blipFill>
        <p:spPr>
          <a:xfrm>
            <a:off x="0" y="3670200"/>
            <a:ext cx="61563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6562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schillende soorten peniss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8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893880" y="2160720"/>
            <a:ext cx="2519280" cy="3881160"/>
          </a:xfrm>
          <a:prstGeom prst="rect">
            <a:avLst/>
          </a:prstGeom>
          <a:ln w="0">
            <a:noFill/>
          </a:ln>
        </p:spPr>
      </p:pic>
      <p:pic>
        <p:nvPicPr>
          <p:cNvPr id="485" name="Tijdelijke aanduiding voor inhoud 5" descr=""/>
          <p:cNvPicPr/>
          <p:nvPr/>
        </p:nvPicPr>
        <p:blipFill>
          <a:blip r:embed="rId2"/>
          <a:stretch/>
        </p:blipFill>
        <p:spPr>
          <a:xfrm>
            <a:off x="3868560" y="1930320"/>
            <a:ext cx="48801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Inhoud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09120" y="141264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spunten tijdens 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bservatie punt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uid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aar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ch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g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r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gel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zorging van de geslachtsorga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ssen zonder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kleden van de zorgvrag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Aandachtspunten tijdens verzorging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22200" y="1250640"/>
            <a:ext cx="81374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 hoeverre heeft de zorgvrager ondersteuning/hulp nodig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Houd rekening met schaamtegevoelens!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Laat de zorgvrager niet onnodig bloot ligg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Aandachtspunten tijdens verzorging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50920" y="1268280"/>
            <a:ext cx="8137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ivac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ud rekening met hygiënische gewoonten van de zorgvrag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v. culturele gewoonten (bijv. scheren okselharen en schaamharen volgens de islam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as je aan, aan de mogelijkheden van de zorgvrag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(ZELFREDZAAMHEI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bservatie pun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ertheid/ gedr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mm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ditie huid/nagels/o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uid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90040" y="1557360"/>
            <a:ext cx="8310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ventariseer persoonlijke wensen van de zorgvrager t.a.v. watertemperatuur, zeepgebruik, bijzondere huidverzorging, evt. bijzondere aandachtspunten (bijv. pij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bserveer de eigenschappen van de huid; droge of vette huid? Pas zeepgebruik hierop a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ij iedere wasbeurt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 van boven naar bene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 van schoon naar vui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fdrogen van de huid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68360" y="1154160"/>
            <a:ext cx="6859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vooral op de huidplooien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chtige huid; kans op smetten (intertrigo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xtra alert zijn op smetten bij zorgvragers met overgewicht, veel transpiratie, incontinentie, contractu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un aanbrengen van barrièrespray/zalf of zinkolie, gebruik van scheurlinnen of non-wovengaa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dviseer katoenen kleding en goed aansluitende, niet knellende onderkle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kom onnodig transpireren van de zorgvrag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2" name="Afbeelding 1" descr=""/>
          <p:cNvPicPr/>
          <p:nvPr/>
        </p:nvPicPr>
        <p:blipFill>
          <a:blip r:embed="rId1"/>
          <a:stretch/>
        </p:blipFill>
        <p:spPr>
          <a:xfrm>
            <a:off x="5219640" y="4919760"/>
            <a:ext cx="37339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96520" y="246240"/>
            <a:ext cx="6348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Sme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640" y="836280"/>
            <a:ext cx="684036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1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geïrriteerde huid is rood, intact. Preventieve maatregelen zijn voldoen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2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huid intact, felrood en glanzend.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, barrière crème/spray aa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3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kapotte, felrode of ontvelde huid, weke huid, scherpe rode wondlijn, schrijnend/brandend gevoel. </a:t>
            </a:r>
            <a:br>
              <a:rPr sz="2000"/>
            </a:b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 aan, iom. arts een antischimmelprepa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4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huid is kapot; er is een witte, gele of groene verkleuring. Kans op onaangename geur: aanwijzingen voor infectie met Candida schimmel.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 aan, iom. arts een antischimmelprepa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5" name="Afbeelding 3" descr=""/>
          <p:cNvPicPr/>
          <p:nvPr/>
        </p:nvPicPr>
        <p:blipFill>
          <a:blip r:embed="rId1"/>
          <a:stretch/>
        </p:blipFill>
        <p:spPr>
          <a:xfrm>
            <a:off x="2627280" y="5122800"/>
            <a:ext cx="1909800" cy="1443240"/>
          </a:xfrm>
          <a:prstGeom prst="rect">
            <a:avLst/>
          </a:prstGeom>
          <a:ln w="0">
            <a:noFill/>
          </a:ln>
        </p:spPr>
      </p:pic>
      <p:pic>
        <p:nvPicPr>
          <p:cNvPr id="446" name="Afbeelding 4" descr=""/>
          <p:cNvPicPr/>
          <p:nvPr/>
        </p:nvPicPr>
        <p:blipFill>
          <a:blip r:embed="rId2"/>
          <a:stretch/>
        </p:blipFill>
        <p:spPr>
          <a:xfrm>
            <a:off x="4829040" y="5110200"/>
            <a:ext cx="1881360" cy="1444680"/>
          </a:xfrm>
          <a:prstGeom prst="rect">
            <a:avLst/>
          </a:prstGeom>
          <a:ln w="0">
            <a:noFill/>
          </a:ln>
        </p:spPr>
      </p:pic>
      <p:pic>
        <p:nvPicPr>
          <p:cNvPr id="447" name="Afbeelding 5" descr=""/>
          <p:cNvPicPr/>
          <p:nvPr/>
        </p:nvPicPr>
        <p:blipFill>
          <a:blip r:embed="rId3"/>
          <a:stretch/>
        </p:blipFill>
        <p:spPr>
          <a:xfrm>
            <a:off x="6945480" y="5113440"/>
            <a:ext cx="1969920" cy="1477800"/>
          </a:xfrm>
          <a:prstGeom prst="rect">
            <a:avLst/>
          </a:prstGeom>
          <a:ln w="0">
            <a:noFill/>
          </a:ln>
        </p:spPr>
      </p:pic>
      <p:pic>
        <p:nvPicPr>
          <p:cNvPr id="448" name="Afbeelding 6" descr=""/>
          <p:cNvPicPr/>
          <p:nvPr/>
        </p:nvPicPr>
        <p:blipFill>
          <a:blip r:embed="rId4"/>
          <a:stretch/>
        </p:blipFill>
        <p:spPr>
          <a:xfrm>
            <a:off x="550800" y="5129280"/>
            <a:ext cx="17859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aar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94920" y="14842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langrijk t.b.v. psychisch welbevinden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agelijks: borstelen of kam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aren wassen naar behoef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1" name="Afbeelding 3" descr=""/>
          <p:cNvPicPr/>
          <p:nvPr/>
        </p:nvPicPr>
        <p:blipFill>
          <a:blip r:embed="rId1"/>
          <a:stretch/>
        </p:blipFill>
        <p:spPr>
          <a:xfrm>
            <a:off x="604800" y="4067280"/>
            <a:ext cx="2205000" cy="2205000"/>
          </a:xfrm>
          <a:prstGeom prst="rect">
            <a:avLst/>
          </a:prstGeom>
          <a:ln w="0">
            <a:noFill/>
          </a:ln>
        </p:spPr>
      </p:pic>
      <p:pic>
        <p:nvPicPr>
          <p:cNvPr id="452" name="Afbeelding 4" descr=""/>
          <p:cNvPicPr/>
          <p:nvPr/>
        </p:nvPicPr>
        <p:blipFill>
          <a:blip r:embed="rId2"/>
          <a:stretch/>
        </p:blipFill>
        <p:spPr>
          <a:xfrm>
            <a:off x="3203640" y="406728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453" name="Afbeelding 5" descr=""/>
          <p:cNvPicPr/>
          <p:nvPr/>
        </p:nvPicPr>
        <p:blipFill>
          <a:blip r:embed="rId3"/>
          <a:stretch/>
        </p:blipFill>
        <p:spPr>
          <a:xfrm>
            <a:off x="5999040" y="3781440"/>
            <a:ext cx="191772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2:23:11Z</dcterms:created>
  <dc:creator>v/d Klooster</dc:creator>
  <dc:description/>
  <dc:language>en-US</dc:language>
  <cp:lastModifiedBy>Kievit, Eline</cp:lastModifiedBy>
  <dcterms:modified xsi:type="dcterms:W3CDTF">2020-10-09T14:07:06Z</dcterms:modified>
  <cp:revision>167</cp:revision>
  <dc:subject/>
  <dc:title>Dia 1</dc:title>
</cp:coreProperties>
</file>