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25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26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 type="sldNum" idx="27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3DFAD5-EB5A-4CDE-B228-06E6DA28995B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05B244-C3E8-4A61-8E48-405D69231B4D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C1C328-C8C4-472C-AD57-E5C3A12565E7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D38519-6AA9-4323-AD5A-AB9AC12B6733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607E0-D385-46CD-B3E7-0D6364777478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558E69-157E-48C1-A4C0-2F54CEAAF025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F442F-93B1-441F-BE75-B0A74BC1EFDB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C595D-69AB-4BEE-B3C3-4169F29E88D6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C356FE-AAFF-46AE-B96B-3D136968F47C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431225-F169-4CA2-B80B-8AC4C186CB19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6C1125-35ED-40FA-B3EA-63CCD50AFABE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F42D68-03A0-480E-9436-02484BA72362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03DD69-A2E4-4080-9A67-214EAB5CCD5A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B349D-C366-48DD-BC75-8B256F30E3C1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13D31-1F6C-4E84-9966-9D8CFE4997A6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6635-AA2F-44B4-93EB-4AE528DD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890F-5BD9-48C6-8EF5-13317D5A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0FA7-1CE1-4D49-813F-DB91BF14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D15E-27E3-4AEB-ABED-7BECBACD7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397E-AE2A-45DE-893D-66DAEB0F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8918-E12F-4467-A175-E07E2CA6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8B77-2964-4243-8FC5-BD2E3E8A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EFB0-9C78-491B-B55E-017819AC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B344-FE21-452C-95FA-A08DF964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CC77-7657-4C35-8552-0EE642D1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6B0C-EAAF-4087-AD61-E594FA4E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92B3-507F-48C0-9BEC-7E39FD3C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5AE9-DF06-403F-9D1B-BCCF8A21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1591-82D1-4F98-915B-917F34D3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0286-2C5B-4A54-8902-4F966DE2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E510-E82C-4B9C-B677-D6A5270E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36F2-4F05-4C44-A23E-7DA389DC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F6D18-AD64-48CD-9F3D-00777B91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7C2D6-A1E5-4CE9-A166-36851037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CF43F-4850-4ACB-A803-1D467920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37438-C9F6-4D14-B86B-3AAE0356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41304-B3D0-4DCD-954B-47AF1C23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DC7B-42EC-4A78-87BE-89C8C59F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BA6E3-AC7A-4345-9240-2F92C78A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18E17-7EB3-495E-A4CA-461BB737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F4E3C-0757-4349-9307-B77AEC97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484F7-410D-4F30-B778-8CEC4304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65581-DAF2-42CD-BCA8-E7A0C2FF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8F2B3-954F-4A87-B43E-6E7B5231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BEA4F-7174-494A-832F-9AC3D8EB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68CCF-CB89-443C-ACA0-8E9CDD70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B52D9-7CAB-4EDF-A4C8-1AA32E77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7ED6A-5D5D-4201-AF03-9C06DC33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1F85-8D05-483F-8A69-90C11220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E7381-9062-4394-8AE5-DFF94384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E4596-617E-4F72-8535-8E777742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EEBC8-D964-415A-A16E-79CD48FD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3E780-481F-4B9B-8607-74F3E9E2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B4462-1C46-43CF-A6F9-AF2AB084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64BE3-BBF1-45F9-8510-DC13A90F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09831-ABCF-44FA-96F3-4F39E816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77FD7-D487-4DC1-B371-7B9469CAA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300C4-9B56-4990-826E-79E3E9D4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35262-EC9C-4EBA-957E-FAE408A26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9642-F501-438B-B0D3-ED921B7A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C6DB9-49B3-42D7-8876-BCE7A26F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D3FE3-763F-42D8-B1D0-CF33F340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12217-A1AC-4D30-B402-2641D166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61F33-5D6B-49EF-9BC2-861CDC2A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68FAA-82CF-40DA-B0B8-8FF1054B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B8B89-5DB2-45FA-B4F4-C574FF38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F4AFE-D9D8-4049-B673-5F7FDADC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55DA5-1937-4E78-BB8E-30B7AAB4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740DE-8AE9-455D-94AE-0C218FDE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2A40D-5937-4257-A7C4-736A6E0E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F7D1-5138-4C96-B24D-7EFF6DBC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F48B9-78F7-4FE0-9663-BFBB73CA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92225-8009-4476-8F0D-BA65ECF4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B34DE-CFAA-4537-8C5B-26F78ED3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B05FE-EC60-4238-AAF6-80242F79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5B4BF-420E-4D1D-8A0E-EA0C4B67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EAF5F-DE1A-41DD-880E-4DD35C21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C4670-DC1D-4E9C-82A3-964A17CC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6D72D-148B-4650-89DD-99797887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201E3-E44F-437D-B20B-28106684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7D81C-24DF-4C2D-9187-9C5C7CE1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25A1-7D08-4765-B975-154C0283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8CEF7-FA5B-47F1-8F27-25EC8D41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6576E-915D-4276-9E26-D744A828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A3EAE-6172-4666-8AF2-B0B485AC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5A571-AD8E-45B2-A6A7-20E3B8D2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C2531-88DF-41FA-A612-0FB7DAE7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FC9ED-E5B2-4556-80E2-09613A5B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4C152-7F9F-4FF2-A9C7-F2BC0091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19B0C-E019-4D69-BD0A-51F593B3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082B2-D4FD-4F7C-A404-7CCE1A94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36792-CDDC-493E-B319-3FAC05FB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1D12-2F22-4152-8CBB-F2E1A3DE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01CC5-B2CB-46F9-AD7E-C9FEAB0B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9E57E-3445-439D-B469-CCB6DD08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F8709-BBB4-4A84-ADA2-65CC9EBA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A4651-62BE-45CE-8125-C0C24406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85D6E-F0C9-41E2-A692-04B7BD81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DADD7-BE77-49A4-880C-1B6901A3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9ABA1-AA15-4C58-ACEF-E5329CDD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8F8AE-4A8C-442A-8E0D-C1659A88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2A463-3270-4D46-AAA8-DB3FA657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498ED-4533-427E-B4B9-1B685B0F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077E-3A8A-4B05-8D46-5F68785B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9365C-BEAE-46C2-872B-1CDACA43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E65BD-4E24-4F12-8044-35303E34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C6B71-DB95-4166-9B34-01F27FA9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AEE29-D720-4050-ADE0-98CD1510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C7E29-49F9-4E54-94FB-B83E7027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C9F80-0CDC-4D0C-809C-6EC9BE05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F7DA6-A587-4695-A070-6A7EF5347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F1B65B-3069-46E3-BFF2-64C3BBF4ACF1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5FE5F-E9C2-4B91-9209-5BACF8173D80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64E794-8D15-4EF3-B67C-7585CA1AD282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63910-9243-4FDA-889F-ADABED94091B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0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F4D9F5-72AB-41CC-B5CE-58AE6612F03D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6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F7EAC7-88AF-4CA4-AA28-C0474B725E8A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1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23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753720-A6EA-4C39-854C-2E8F06202768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6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7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C17182-F306-474F-B987-E3C54C0A412E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30400" y="2077560"/>
            <a:ext cx="4309920" cy="307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Thema 1 </a:t>
            </a:r>
            <a:br>
              <a:rPr sz="4000"/>
            </a:b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Basiszorg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28" name="Afbeelding 3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3764160" cy="1368360"/>
          </a:xfrm>
          <a:prstGeom prst="rect">
            <a:avLst/>
          </a:prstGeom>
          <a:ln w="0">
            <a:noFill/>
          </a:ln>
        </p:spPr>
      </p:pic>
      <p:sp>
        <p:nvSpPr>
          <p:cNvPr id="429" name="Tekstvak 1"/>
          <p:cNvSpPr/>
          <p:nvPr/>
        </p:nvSpPr>
        <p:spPr>
          <a:xfrm>
            <a:off x="1692360" y="4386240"/>
            <a:ext cx="57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eb3d9f"/>
                </a:solidFill>
                <a:latin typeface="Trebuchet MS"/>
              </a:rPr>
              <a:t>Wassen &amp; aankled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Schere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585360" y="1654200"/>
            <a:ext cx="7921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ij meeste mannen onderdeel van de dagelijkse verzorg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eer eerst met de haargroei mee daarna nog ertegen in indien gewenst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Trek de huid strak bij scheren met scheerme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eren vrouwe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atsch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oogsch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6" name="Afbeelding 3" descr=""/>
          <p:cNvPicPr/>
          <p:nvPr/>
        </p:nvPicPr>
        <p:blipFill>
          <a:blip r:embed="rId1"/>
          <a:stretch/>
        </p:blipFill>
        <p:spPr>
          <a:xfrm>
            <a:off x="395280" y="4789440"/>
            <a:ext cx="2724120" cy="1676520"/>
          </a:xfrm>
          <a:prstGeom prst="rect">
            <a:avLst/>
          </a:prstGeom>
          <a:ln w="0">
            <a:noFill/>
          </a:ln>
        </p:spPr>
      </p:pic>
      <p:pic>
        <p:nvPicPr>
          <p:cNvPr id="457" name="Afbeelding 4" descr=""/>
          <p:cNvPicPr/>
          <p:nvPr/>
        </p:nvPicPr>
        <p:blipFill>
          <a:blip r:embed="rId2"/>
          <a:stretch/>
        </p:blipFill>
        <p:spPr>
          <a:xfrm>
            <a:off x="2530440" y="4832280"/>
            <a:ext cx="1606680" cy="1608120"/>
          </a:xfrm>
          <a:prstGeom prst="rect">
            <a:avLst/>
          </a:prstGeom>
          <a:ln w="0">
            <a:noFill/>
          </a:ln>
        </p:spPr>
      </p:pic>
      <p:pic>
        <p:nvPicPr>
          <p:cNvPr id="458" name="Afbeelding 5" descr=""/>
          <p:cNvPicPr/>
          <p:nvPr/>
        </p:nvPicPr>
        <p:blipFill>
          <a:blip r:embed="rId3"/>
          <a:stretch/>
        </p:blipFill>
        <p:spPr>
          <a:xfrm>
            <a:off x="4268880" y="3763800"/>
            <a:ext cx="1952640" cy="2806920"/>
          </a:xfrm>
          <a:prstGeom prst="rect">
            <a:avLst/>
          </a:prstGeom>
          <a:ln w="0">
            <a:noFill/>
          </a:ln>
        </p:spPr>
      </p:pic>
      <p:pic>
        <p:nvPicPr>
          <p:cNvPr id="459" name="Afbeelding 6" descr=""/>
          <p:cNvPicPr/>
          <p:nvPr/>
        </p:nvPicPr>
        <p:blipFill>
          <a:blip r:embed="rId4"/>
          <a:stretch/>
        </p:blipFill>
        <p:spPr>
          <a:xfrm>
            <a:off x="6603840" y="4170240"/>
            <a:ext cx="1994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ogverzorging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09480" y="1323720"/>
            <a:ext cx="7707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sen van de buitenste naar de binnenste ooghoe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geen zeep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zn. watten/gaasjes en een fysiologische zoutoplossing bij korstvorm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t op hygiëne van bri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Contactlenz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ogprothes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2" name="Afbeelding 3" descr=""/>
          <p:cNvPicPr/>
          <p:nvPr/>
        </p:nvPicPr>
        <p:blipFill>
          <a:blip r:embed="rId1"/>
          <a:stretch/>
        </p:blipFill>
        <p:spPr>
          <a:xfrm>
            <a:off x="4908600" y="4884840"/>
            <a:ext cx="2533680" cy="1689120"/>
          </a:xfrm>
          <a:prstGeom prst="rect">
            <a:avLst/>
          </a:prstGeom>
          <a:ln w="0">
            <a:noFill/>
          </a:ln>
        </p:spPr>
      </p:pic>
      <p:pic>
        <p:nvPicPr>
          <p:cNvPr id="463" name="Afbeelding 4" descr=""/>
          <p:cNvPicPr/>
          <p:nvPr/>
        </p:nvPicPr>
        <p:blipFill>
          <a:blip r:embed="rId2"/>
          <a:stretch/>
        </p:blipFill>
        <p:spPr>
          <a:xfrm>
            <a:off x="971640" y="4870440"/>
            <a:ext cx="3012840" cy="1703520"/>
          </a:xfrm>
          <a:prstGeom prst="rect">
            <a:avLst/>
          </a:prstGeom>
          <a:ln w="0">
            <a:noFill/>
          </a:ln>
        </p:spPr>
      </p:pic>
      <p:pic>
        <p:nvPicPr>
          <p:cNvPr id="464" name="Afbeelding 1" descr=""/>
          <p:cNvPicPr/>
          <p:nvPr/>
        </p:nvPicPr>
        <p:blipFill>
          <a:blip r:embed="rId3"/>
          <a:stretch/>
        </p:blipFill>
        <p:spPr>
          <a:xfrm>
            <a:off x="5003640" y="2708280"/>
            <a:ext cx="26416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ond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09480" y="1412640"/>
            <a:ext cx="7562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langrijk voor de conditie van het gebit en de slijmvliez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zn. tandenstokers, tandflos, spoelwater,borsteltj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einig de gebitsprothes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n alert op stomatitis (pijnlijk, ontstoken slijmvlies: rood, glimmend en opgezwollen); verhoogde kans bij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ge koort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en/geringe vochtinnam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rsufte of bewusteloze zorgvrag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lechte slikfunct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paald medicatiegebruik (antibiotica, cytostatica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rminderde weerstand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7" name="Afbeelding 3" descr=""/>
          <p:cNvPicPr/>
          <p:nvPr/>
        </p:nvPicPr>
        <p:blipFill>
          <a:blip r:embed="rId1"/>
          <a:stretch/>
        </p:blipFill>
        <p:spPr>
          <a:xfrm>
            <a:off x="7716960" y="529416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468" name="Afbeelding 1" descr=""/>
          <p:cNvPicPr/>
          <p:nvPr/>
        </p:nvPicPr>
        <p:blipFill>
          <a:blip r:embed="rId2"/>
          <a:stretch/>
        </p:blipFill>
        <p:spPr>
          <a:xfrm>
            <a:off x="5945040" y="4149720"/>
            <a:ext cx="171792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or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50560" y="1396800"/>
            <a:ext cx="7994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ij normale functie van het oor: wassen van het buitenoor is voldoend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erwijder zn. oorsmeer een opgerold, vochtig watj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inig zn. het gehoortoestel. (oorstukje met wat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et goed op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li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-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re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hoorappara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Controleer batterij van het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hoortoestel regelmati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1" name="Afbeelding 3" descr=""/>
          <p:cNvPicPr/>
          <p:nvPr/>
        </p:nvPicPr>
        <p:blipFill>
          <a:blip r:embed="rId1"/>
          <a:stretch/>
        </p:blipFill>
        <p:spPr>
          <a:xfrm>
            <a:off x="5913360" y="3645000"/>
            <a:ext cx="208908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Nagel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94920" y="1557000"/>
            <a:ext cx="77072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komen van ingegroeide nagels en ontsteking aan het nagelbe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ud rekening met persoonlijke gewoon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Uitgangspunten bij verzorging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ingernagels rond knip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Teennagels recht knip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agels niet te kort knippen i.v.m. beschadiging nagelbe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arde nagels/zeer broze nagels: 10 minuten weken in wat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t op bij zorgvragers met een slechte bloedcirculatie in benen en voet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000" spc="-1" strike="noStrike" u="sng">
                <a:solidFill>
                  <a:srgbClr val="404040"/>
                </a:solidFill>
                <a:uFillTx/>
                <a:latin typeface="Trebuchet MS"/>
              </a:rPr>
              <a:t>knip zelf geen nagels bij diabeten!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immelnagels? Let extra op hygiëne!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zorging geslachtsorgan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250560" y="1699920"/>
            <a:ext cx="8064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n alert op schaamtegevoelens bij de zorgvrag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nitaal gebied: geslachtsorganen en anu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langrijk t.a.v. psychisch en sociaal welzijn, voorkomt infecties en een onaangename ge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rhoogde kans op infecties (warm, vochtig en weinig ventilatie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Zeepgebruik kan zuurgraad in de vagina verstoren (zuurgraad biedt bescherming tegen micro-organismen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Geslachtsorganen vrouw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80720" y="1628280"/>
            <a:ext cx="3601800" cy="42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 vanaf de schaamheuvel in de richting van de anu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 de anus in de richting van de ru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 u="sng">
                <a:solidFill>
                  <a:srgbClr val="404040"/>
                </a:solidFill>
                <a:uFillTx/>
                <a:latin typeface="Trebuchet MS"/>
              </a:rPr>
              <a:t>Verzorging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van boven naar beneden en van schoon naar vuil (vergeleken met de anus is de uitgang van de urinebuis een schoon gebied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8" name="Picture 2" descr="Afbeeldingsresultaat voor geslachtsorganen"/>
          <p:cNvPicPr/>
          <p:nvPr/>
        </p:nvPicPr>
        <p:blipFill>
          <a:blip r:embed="rId1"/>
          <a:stretch/>
        </p:blipFill>
        <p:spPr>
          <a:xfrm>
            <a:off x="4184640" y="2160720"/>
            <a:ext cx="49593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236520"/>
            <a:ext cx="634860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Geslachtsorganen ma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50560" y="1002960"/>
            <a:ext cx="670716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uif voorhuid terug tot achter de eikel, reinig de eikel en evt. smegma. Schuif voorhuid terug over de glans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 de anus in de richting van de ru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 u="sng">
                <a:solidFill>
                  <a:srgbClr val="404040"/>
                </a:solidFill>
                <a:uFillTx/>
                <a:latin typeface="Trebuchet MS"/>
              </a:rPr>
              <a:t>Verzorging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van boven naar beneden en van schoon naar vuil (vergeleken met de anus is de uitgang van de urinebuis een schoon gebied)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81" name="Picture 3" descr=""/>
          <p:cNvPicPr/>
          <p:nvPr/>
        </p:nvPicPr>
        <p:blipFill>
          <a:blip r:embed="rId1"/>
          <a:stretch/>
        </p:blipFill>
        <p:spPr>
          <a:xfrm>
            <a:off x="6156360" y="4786200"/>
            <a:ext cx="2987640" cy="20718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Afbeeldingsresultaat voor spaanse kraag"/>
          <p:cNvPicPr/>
          <p:nvPr/>
        </p:nvPicPr>
        <p:blipFill>
          <a:blip r:embed="rId2"/>
          <a:stretch/>
        </p:blipFill>
        <p:spPr>
          <a:xfrm>
            <a:off x="0" y="3670200"/>
            <a:ext cx="615636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6562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schillende soorten penisse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8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893880" y="2160720"/>
            <a:ext cx="2519280" cy="3881160"/>
          </a:xfrm>
          <a:prstGeom prst="rect">
            <a:avLst/>
          </a:prstGeom>
          <a:ln w="0">
            <a:noFill/>
          </a:ln>
        </p:spPr>
      </p:pic>
      <p:pic>
        <p:nvPicPr>
          <p:cNvPr id="485" name="Tijdelijke aanduiding voor inhoud 5" descr=""/>
          <p:cNvPicPr/>
          <p:nvPr/>
        </p:nvPicPr>
        <p:blipFill>
          <a:blip r:embed="rId2"/>
          <a:stretch/>
        </p:blipFill>
        <p:spPr>
          <a:xfrm>
            <a:off x="3868560" y="1930320"/>
            <a:ext cx="488016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Inhoud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09120" y="141264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achtspunten tijdens 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bservatie punt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uid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aar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ch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og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or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gel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zorging van de geslachtsorga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ssen zonder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kleden van de zorgvrag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562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Aandachtspunten tijdens verzorging 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22200" y="1250640"/>
            <a:ext cx="813744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In hoeverre heeft de zorgvrager ondersteuning/hulp nodig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Houd rekening met schaamtegevoelens!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Laat de zorgvrager niet onnodig bloot ligg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562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Aandachtspunten tijdens verzorging 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50920" y="1268280"/>
            <a:ext cx="81374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rivacy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ud rekening met hygiënische gewoonten van de zorgvrag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ijv. culturele gewoonten (bijv. scheren okselharen en schaamharen volgens de islam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as je aan, aan de mogelijkheden van de zorgvrag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(ZELFREDZAAMHEID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bservatie pun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ertheid/ gedra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mm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nditie huid/nagels/o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uid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590040" y="1557360"/>
            <a:ext cx="8310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ventariseer persoonlijke wensen van de zorgvrager t.a.v. watertemperatuur, zeepgebruik, bijzondere huidverzorging, evt. bijzondere aandachtspunten (bijv. pij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bserveer de eigenschappen van de huid; droge of vette huid? Pas zeepgebruik hierop aa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ij iedere wasbeurt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erk van boven naar bened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erk van schoon naar vui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Afdrogen van de huid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68360" y="1154160"/>
            <a:ext cx="6859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t vooral op de huidplooien!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chtige huid; kans op smetten (intertrigo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xtra alert zijn op smetten bij zorgvragers met overgewicht, veel transpiratie, incontinentie, contractu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un aanbrengen van barrièrespray/zalf of zinkolie, gebruik van scheurlinnen of non-wovengaa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dviseer katoenen kleding en goed aansluitende, niet knellende onderkled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kom onnodig transpireren van de zorgvrag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42" name="Afbeelding 1" descr=""/>
          <p:cNvPicPr/>
          <p:nvPr/>
        </p:nvPicPr>
        <p:blipFill>
          <a:blip r:embed="rId1"/>
          <a:stretch/>
        </p:blipFill>
        <p:spPr>
          <a:xfrm>
            <a:off x="5219640" y="4919760"/>
            <a:ext cx="37339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96520" y="246240"/>
            <a:ext cx="6348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Smet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61640" y="836280"/>
            <a:ext cx="6840360" cy="36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1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geïrriteerde huid is rood, intact. Preventieve maatregelen zijn voldoend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2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huid intact, felrood en glanzend.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reng zinkzalf, barrière crème/spray aa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3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kapotte, felrode of ontvelde huid, weke huid, scherpe rode wondlijn, schrijnend/brandend gevoel. </a:t>
            </a:r>
            <a:br>
              <a:rPr sz="2000"/>
            </a:b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reng zinkzalf aan, iom. arts een antischimmelprepara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4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huid is kapot; er is een witte, gele of groene verkleuring. Kans op onaangename geur: aanwijzingen voor infectie met Candida schimmel.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reng zinkzalf aan, iom. arts een antischimmelprepara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45" name="Afbeelding 3" descr=""/>
          <p:cNvPicPr/>
          <p:nvPr/>
        </p:nvPicPr>
        <p:blipFill>
          <a:blip r:embed="rId1"/>
          <a:stretch/>
        </p:blipFill>
        <p:spPr>
          <a:xfrm>
            <a:off x="2627280" y="5122800"/>
            <a:ext cx="1909800" cy="1443240"/>
          </a:xfrm>
          <a:prstGeom prst="rect">
            <a:avLst/>
          </a:prstGeom>
          <a:ln w="0">
            <a:noFill/>
          </a:ln>
        </p:spPr>
      </p:pic>
      <p:pic>
        <p:nvPicPr>
          <p:cNvPr id="446" name="Afbeelding 4" descr=""/>
          <p:cNvPicPr/>
          <p:nvPr/>
        </p:nvPicPr>
        <p:blipFill>
          <a:blip r:embed="rId2"/>
          <a:stretch/>
        </p:blipFill>
        <p:spPr>
          <a:xfrm>
            <a:off x="4829040" y="5110200"/>
            <a:ext cx="1881360" cy="1444680"/>
          </a:xfrm>
          <a:prstGeom prst="rect">
            <a:avLst/>
          </a:prstGeom>
          <a:ln w="0">
            <a:noFill/>
          </a:ln>
        </p:spPr>
      </p:pic>
      <p:pic>
        <p:nvPicPr>
          <p:cNvPr id="447" name="Afbeelding 5" descr=""/>
          <p:cNvPicPr/>
          <p:nvPr/>
        </p:nvPicPr>
        <p:blipFill>
          <a:blip r:embed="rId3"/>
          <a:stretch/>
        </p:blipFill>
        <p:spPr>
          <a:xfrm>
            <a:off x="6945480" y="5113440"/>
            <a:ext cx="1969920" cy="1477800"/>
          </a:xfrm>
          <a:prstGeom prst="rect">
            <a:avLst/>
          </a:prstGeom>
          <a:ln w="0">
            <a:noFill/>
          </a:ln>
        </p:spPr>
      </p:pic>
      <p:pic>
        <p:nvPicPr>
          <p:cNvPr id="448" name="Afbeelding 6" descr=""/>
          <p:cNvPicPr/>
          <p:nvPr/>
        </p:nvPicPr>
        <p:blipFill>
          <a:blip r:embed="rId4"/>
          <a:stretch/>
        </p:blipFill>
        <p:spPr>
          <a:xfrm>
            <a:off x="550800" y="5129280"/>
            <a:ext cx="178596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aar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94920" y="14842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langrijk t.b.v. psychisch welbevinden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agelijks: borstelen of kamm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aren wassen naar behoeft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1" name="Afbeelding 3" descr=""/>
          <p:cNvPicPr/>
          <p:nvPr/>
        </p:nvPicPr>
        <p:blipFill>
          <a:blip r:embed="rId1"/>
          <a:stretch/>
        </p:blipFill>
        <p:spPr>
          <a:xfrm>
            <a:off x="604800" y="4067280"/>
            <a:ext cx="2205000" cy="2205000"/>
          </a:xfrm>
          <a:prstGeom prst="rect">
            <a:avLst/>
          </a:prstGeom>
          <a:ln w="0">
            <a:noFill/>
          </a:ln>
        </p:spPr>
      </p:pic>
      <p:pic>
        <p:nvPicPr>
          <p:cNvPr id="452" name="Afbeelding 4" descr=""/>
          <p:cNvPicPr/>
          <p:nvPr/>
        </p:nvPicPr>
        <p:blipFill>
          <a:blip r:embed="rId2"/>
          <a:stretch/>
        </p:blipFill>
        <p:spPr>
          <a:xfrm>
            <a:off x="3203640" y="406728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453" name="Afbeelding 5" descr=""/>
          <p:cNvPicPr/>
          <p:nvPr/>
        </p:nvPicPr>
        <p:blipFill>
          <a:blip r:embed="rId3"/>
          <a:stretch/>
        </p:blipFill>
        <p:spPr>
          <a:xfrm>
            <a:off x="5999040" y="3781440"/>
            <a:ext cx="191772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3T12:23:11Z</dcterms:created>
  <dc:creator>v/d Klooster</dc:creator>
  <dc:description/>
  <dc:language>en-US</dc:language>
  <cp:lastModifiedBy>Kievit, Eline</cp:lastModifiedBy>
  <dcterms:modified xsi:type="dcterms:W3CDTF">2020-10-09T14:07:06Z</dcterms:modified>
  <cp:revision>167</cp:revision>
  <dc:subject/>
  <dc:title>Dia 1</dc:title>
</cp:coreProperties>
</file>