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86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4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87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88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</p:sldMasterIdLst>
  <p:notesMasterIdLst>
    <p:notesMasterId r:id="rId103"/>
  </p:notesMasterIdLst>
  <p:sldIdLst>
    <p:sldId id="256" r:id="rId104"/>
    <p:sldId id="257" r:id="rId105"/>
    <p:sldId id="258" r:id="rId106"/>
    <p:sldId id="259" r:id="rId107"/>
    <p:sldId id="260" r:id="rId108"/>
    <p:sldId id="261" r:id="rId109"/>
    <p:sldId id="262" r:id="rId110"/>
    <p:sldId id="263" r:id="rId111"/>
    <p:sldId id="264" r:id="rId112"/>
    <p:sldId id="265" r:id="rId113"/>
    <p:sldId id="266" r:id="rId114"/>
    <p:sldId id="267" r:id="rId115"/>
    <p:sldId id="268" r:id="rId116"/>
    <p:sldId id="269" r:id="rId117"/>
    <p:sldId id="270" r:id="rId118"/>
    <p:sldId id="271" r:id="rId119"/>
    <p:sldId id="272" r:id="rId120"/>
    <p:sldId id="273" r:id="rId121"/>
    <p:sldId id="274" r:id="rId122"/>
    <p:sldId id="275" r:id="rId123"/>
    <p:sldId id="276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notesMaster" Target="notesMasters/notesMaster1.xml"/><Relationship Id="rId104" Type="http://schemas.openxmlformats.org/officeDocument/2006/relationships/slide" Target="slides/slide1.xml"/><Relationship Id="rId105" Type="http://schemas.openxmlformats.org/officeDocument/2006/relationships/slide" Target="slides/slide2.xml"/><Relationship Id="rId106" Type="http://schemas.openxmlformats.org/officeDocument/2006/relationships/slide" Target="slides/slide3.xml"/><Relationship Id="rId107" Type="http://schemas.openxmlformats.org/officeDocument/2006/relationships/slide" Target="slides/slide4.xml"/><Relationship Id="rId108" Type="http://schemas.openxmlformats.org/officeDocument/2006/relationships/slide" Target="slides/slide5.xml"/><Relationship Id="rId109" Type="http://schemas.openxmlformats.org/officeDocument/2006/relationships/slide" Target="slides/slide6.xml"/><Relationship Id="rId110" Type="http://schemas.openxmlformats.org/officeDocument/2006/relationships/slide" Target="slides/slide7.xml"/><Relationship Id="rId111" Type="http://schemas.openxmlformats.org/officeDocument/2006/relationships/slide" Target="slides/slide8.xml"/><Relationship Id="rId112" Type="http://schemas.openxmlformats.org/officeDocument/2006/relationships/slide" Target="slides/slide9.xml"/><Relationship Id="rId113" Type="http://schemas.openxmlformats.org/officeDocument/2006/relationships/slide" Target="slides/slide10.xml"/><Relationship Id="rId114" Type="http://schemas.openxmlformats.org/officeDocument/2006/relationships/slide" Target="slides/slide11.xml"/><Relationship Id="rId115" Type="http://schemas.openxmlformats.org/officeDocument/2006/relationships/slide" Target="slides/slide12.xml"/><Relationship Id="rId116" Type="http://schemas.openxmlformats.org/officeDocument/2006/relationships/slide" Target="slides/slide13.xml"/><Relationship Id="rId117" Type="http://schemas.openxmlformats.org/officeDocument/2006/relationships/slide" Target="slides/slide14.xml"/><Relationship Id="rId118" Type="http://schemas.openxmlformats.org/officeDocument/2006/relationships/slide" Target="slides/slide15.xml"/><Relationship Id="rId119" Type="http://schemas.openxmlformats.org/officeDocument/2006/relationships/slide" Target="slides/slide16.xml"/><Relationship Id="rId120" Type="http://schemas.openxmlformats.org/officeDocument/2006/relationships/slide" Target="slides/slide17.xml"/><Relationship Id="rId121" Type="http://schemas.openxmlformats.org/officeDocument/2006/relationships/slide" Target="slides/slide18.xml"/><Relationship Id="rId122" Type="http://schemas.openxmlformats.org/officeDocument/2006/relationships/slide" Target="slides/slide19.xml"/><Relationship Id="rId123" Type="http://schemas.openxmlformats.org/officeDocument/2006/relationships/slide" Target="slides/slide20.xml"/><Relationship Id="rId124" Type="http://schemas.openxmlformats.org/officeDocument/2006/relationships/slide" Target="slides/slide21.xml"/><Relationship Id="rId1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 type="dt" idx="27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 type="ftr" idx="27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PlaceHolder 6"/>
          <p:cNvSpPr>
            <a:spLocks noGrp="1"/>
          </p:cNvSpPr>
          <p:nvPr>
            <p:ph type="sldNum" idx="27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61E5-D729-4308-9B44-84E3DC24CCC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B1AD-DE0B-40EC-A3AC-59438F5151D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DFA2-5382-4D70-9DF9-B1ED3DB830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B9D-AC24-4E5A-AB5E-DCAB5D9CF07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D3EC-0810-41D5-8CB8-24A412979E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CD1D-5811-4906-8F2A-35FEDD60B65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8533-49E0-4213-BADF-B405DDC785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AA83-C1DC-4219-864F-5A8BAAFC1D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562E-D8F2-4E38-99A9-7ED3EF55AF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E023-F697-4FCE-878B-614C0516059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1DAF-6EC5-44AE-83E4-77F47ED024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3D91-66FD-4205-8BBD-64D85DD01B8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0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9D06-EC23-47DE-B873-25882593969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C614-3A1D-43E5-9031-12CC274E62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B48B-8E63-4933-813A-678EF22670E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852F-C3A8-4795-9223-401582DCEDC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15B-663D-4A73-B44C-C3F3BB2A6DF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FD0E-5A0C-4A81-A06A-DA439CC4E95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2C58-D954-4799-80B1-FF0D1C13C85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C06A-C8A5-4025-85EB-F085EFEB15B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2CD8-C77E-4F3E-B26F-ADB7F3BFBF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9674-BBF9-4C52-9377-C8328D16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3CEAE-7BFD-43F8-B537-2C020D9439F7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342D7DA-14A7-4F6D-8338-860E8BE6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1FA286D-25C7-4746-932A-6DECC0F1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B9C5C4E-8A6D-4FF1-878D-D2BD613B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3C5322D-D620-4DDD-8354-1BA50DA3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5579A9F-DD6F-4039-84BC-84161AA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B3328D3-4925-475E-9DB9-A1EDC01F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6362C08-8CFB-4D81-863C-8CDD911A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4EAFDFA-E777-4C3B-9FF7-B46A8596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D33C5E3-B1FC-4144-83B0-8D6DBE7D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FA3AB51-8800-4D9B-A604-F87A9825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C3B96-966B-4DBD-8A8A-7A1F0DC4132E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BA51D7B7-AC73-43AF-A303-31E0BD95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EFC4D25-3A08-48D6-8390-92F0D949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95543F0-F024-4C3F-8623-595DD714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2B96918-DA0F-40F7-B9D8-D73541A4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0A613AA-51DE-47D6-82EC-AEC86C96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58BBF03-3144-45B2-9488-EF97C096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7F48E2A-0740-4879-8236-AF6F731E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74E6951-FEC8-4C0A-AC10-82A2683F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C6F7F38-FA08-4792-8223-ECB98AD8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C525C3F-D232-4A91-AF76-51FC1813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5A184-F85E-40BA-9490-D54FEA10D4D1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C8F6D50-6F1D-4CA3-814D-09D90328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2D9BCF9-D665-4EB4-A43C-ED37A519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F906438-EAFF-421B-A2C8-E59E3254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502B3BB-8E2A-41BC-8D0E-FF3D1286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1DE9F64-FD71-4AD1-81FD-B6F062FE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2F4BAD0-B0BA-423D-ABD4-32DCDE33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9052DB5-5E18-414B-ABA2-47225286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43FDDEA-39C6-4744-AA2C-3012A3D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27042BB-96A1-4B6B-9D60-966BF0F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3966CDE-1F0F-4374-91B1-353E5619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460E0-3C4A-4ACD-9D60-F4BD5923BF04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9AC15E4-8F0E-4ADA-9CE7-A4A95438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B439309-96CD-4929-A1CC-29540E5D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1480B29-71F8-48F2-B41E-823D52CF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C6AA598-D8C7-41C8-AED6-4F78DEB0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03B36E5-0EAB-4B1A-B4F0-AFFC551B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17C8E59-B31B-45F5-A2B7-FFD828B6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67E8601B-79BC-4E41-9829-82F7AC4D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BBD9813-DD45-4E06-9F4A-31EBB793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445CE1B-6AF3-4329-864E-BAC7622F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F3AE6EB-1854-4706-AB58-19FA632A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BB4C8-6C95-4138-A56C-41590F132A68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EC22DA9-33FC-4DFC-9057-A5291627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F23CD9A-BC5A-4598-9EF4-BA29B148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72DAE86-32D4-4853-BB68-35947BBB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35AE372-C7FC-472C-9EED-BC2C4DC7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B70E97A-78DB-4B12-AD75-183EFA4E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29C99F45-B0E6-4F23-A33A-AC5807C9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E07851B-8812-4027-8D35-21B151A4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72F4B860-074A-45D1-ABD0-75206A04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CA9443B-0EC0-467B-A71B-ACFD389E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E9E5894-1175-4187-8A6D-CB43B859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D8CF4-86CA-4848-AD89-5B36A3BCA7DB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2AAF0D65-D7A9-43DB-82EB-0250EDE6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8AD4538-5191-4A14-A77D-63F3FA95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74270A7-2BB5-4734-A1EF-C9D6723E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C420E08-B304-4305-BDFB-7F9A9A51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9FF4957-ABF7-4D7C-BC9F-D2D01AF9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3209A50-C24C-499A-AADD-DBAC694E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E816218-5A16-4228-984F-36CEE72E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3AD9046-6939-439A-8F46-F2DE5F55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802C538-BD2E-40DE-ADF4-60E1E75A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DCEA2C97-8B56-44BE-AC87-4007B897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73FFF-5213-44B7-8F01-923316984E11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617EFCC-86A4-4C0F-A0C0-7C0E407C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4DF4403-6932-492A-A5D8-FAD8751C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D387A47-4A32-4A3C-AC25-CC0B2C19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878CDB5-E62E-4B38-BF70-8E6174F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2A1FA69-A6D9-4752-B65F-DA9E841A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AE2089A-1761-46F2-906F-D0463E4B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D15A1A3-FF59-4CB5-A3F6-5CC8BBAD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9B4AEA3-C302-473D-A653-238DB3BD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712E53B-1152-46FD-9086-672CB79B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62D373A-B56E-45A5-8DDC-3AD71417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1E32F2-4474-4FB4-82F6-067A1E0E049F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48FBF02-0FA9-48CB-9A70-37F5C4E1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C426C33-F348-4D90-BC8B-6F3DFD6C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596CB9F-76AD-4177-B88E-14072779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E001868-9676-4CB7-A553-5801DCD9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8B516F5-4B6E-45CB-9094-994BE24C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3125A43-5110-4B48-80AC-0C0231AC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0E11AEA-D038-40C9-A731-62C92EAD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0924A4D-5934-49F8-A620-265B5018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257BCC9-9D2C-4859-9C04-AA85B46A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B3540A9B-5E4C-462E-A592-87ACC680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ABA527-B202-440C-B3E3-9A5927051489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B40BFC9D-32FD-4CAA-B77F-0F62FD95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8308E44-A0A1-43B6-BED8-1E0012B6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B9CA240-03A8-4076-9ADC-23EA6D71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43EB98C-2281-4DB9-81F3-9FFF03C4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C84C504-1176-4FB4-91DA-2DAAC07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7D49400-C57D-4080-B05E-3584D135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4EE7C4C-AA0D-400F-89F6-6CB45540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8B00E0BD-D62B-49D1-9A0F-BF13918A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C2B706B-5482-4E06-B7F0-969E096E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D90BD403-7331-4478-9FA3-ABFA11F8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671B1-4948-45A2-99B2-C897288C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CF9B691-E914-4B0C-A661-18C72CBC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E135792-340E-4FC7-8368-8F74FAD2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B7C1C9D-9A2C-4FBF-94ED-8871E891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7B7C3C3-A8C8-48AC-A31D-B52CDD2C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3D8F0DE-CF80-4B69-BE64-364B03C2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694FD76-4032-4040-83E4-3BD3B77A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E283334-961F-40F2-A6BB-7C039869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7687517-116D-471E-A1C4-896C0D4A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AD0A758-4945-4572-A035-B792633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B920192-0D1A-4270-BD2F-1F44E9DB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E4CD-E94B-4CD4-BFF3-24B5F7A3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BFB430-70A8-48AC-8E32-9BFBA31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73B91C0-DBE9-44B9-8E7C-BC8A3257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575693E-C51F-4EA3-AA52-76E66A0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213FE3F-79BD-49C3-899B-5E4FEDBD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A999C5D-F577-4E5E-9A58-002E8866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43950AF-9C18-4E79-8DCC-CAD14A7E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3E44193-0411-4775-9428-9903850B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6F4EED7-AB04-4BC2-A564-85C73384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3A940A0-E11B-40FE-BCB9-C568E7A6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493A543-95AC-48B3-8413-ECB62189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1501CC5-6FFA-4709-9790-04CE2703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EC8E1-70E6-47BF-A886-34A0629B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7DABBA0-808C-4F30-BE38-FD7B2901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5181B8F8-CA37-469A-BC1B-119E0486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79C2847-429B-4C17-A0AD-255FB2B0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6F4693A-FF8A-45EA-8709-DB2192E3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78B0632-AB4A-48C3-8104-EE7B066E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D88BA47-BF62-4881-8244-407BF8C8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C784684-04B2-4A07-A517-D3A05680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E0C918B-E0B1-494C-AB1B-B250C3E5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E1D15B9-BA98-47BD-9C93-73E45B68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B5B91CD-5CC9-449B-9D08-CEF4B5DF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B3A8E-83F7-4589-BE08-74465BAA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1E61399-5EEB-43BD-B68E-152834F9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017A9DA-9864-402C-8EA5-4D2C79F4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9BEA793-AB17-4A4C-87A8-550F7543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148FD28-9C86-440C-A1D7-0EFD60F8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AC3B456-93F7-450D-A7BA-BE36F9C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840AC12-2CFA-4BC5-96F7-AF7C7AE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ED51709-A9CC-42C8-A6F2-BB1CCFEE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27FFC66-A8ED-425A-A854-40F0296B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BD64EC8-E127-4E26-B411-58FF7233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C4A6A2D-9E84-4F54-B27C-D7302EF4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ECAD7-4B2D-43E3-80CC-A6F499EE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EBB435F9-76AA-4F1B-9C64-2D49AE9C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CC708CB-B3B7-4480-A13C-0A3459A8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F59CFF5-A7E3-47C2-B355-5AE5CE7C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16F9D6E-AFB1-423A-969A-5ED52FB9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E52DA74-FE67-46DF-812F-4CA9D1FA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1602F36-BDD0-4968-94E7-1547689F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F8EAF7C-FD9B-4B86-A5F7-90463F2F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1CFB55F-3881-4345-906B-06CA8EDF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A18150D-DC60-49D6-8EF4-5E1F95C3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672C67A-CA80-4500-BFD1-2959455A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599E5-478B-484A-9235-5F36BD99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72C48A0-EF20-49EE-B7F7-BAD247C4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BFDEC15-98F2-4CB2-A2C8-B0F3409D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635C7A5-8F82-42A2-9AE8-B95C2D48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57B0299-9298-4898-9DA4-F73FF95C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21D665D-A7F2-4012-A795-6E999674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5CB4C19-DAA5-4C08-8812-71411317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097CD07-A291-4CBF-94D3-25A221A0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7C4977B-75FA-4350-B308-89337469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DD4A7C6-C036-4FB2-A327-96D1485E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48C2F4E-B362-40F8-AD32-5DA22FC2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322697-C53D-4959-87BF-722319C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8C7A80C-EF28-40BE-A862-E0450892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958BEF8-0FEB-4DA8-9D02-A185E2D3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6BF1D4B-B336-41C8-8CA8-C39DF473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2CCE2C5-A1BC-4590-8A87-B27ACA91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1535DA7-1CBE-449E-A246-979E9220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5EAAA4C1-E0CB-4E97-AE1A-E83E8D0F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671113E-879D-4ECE-AFC7-54567CC1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366D00B-D9B8-4760-A9A2-C4069BD4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6560C40-6316-4DF0-82FC-15861E0A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ED5329C-2450-4F52-926C-B50C3815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3F4D8-6FDE-4E60-AADE-C654B14B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BFADF18B-C247-49B6-BD98-623BE1B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6F2CD68-4F72-43DC-A8D0-79E4B128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913CA37-B576-43BD-BB97-766C36F3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41775F6-26BF-43D8-9639-6E047F36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5DABAB7-4979-4E8F-9360-D28C8A3D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5361CA15-8F7C-4F7E-9E93-3E7033F3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2DCE426-CA54-4934-B916-3EB4490B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E98C882-6A20-492A-B27C-86C9D3E7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A3ED11E-7F3D-4B2E-92CA-BDBBCA2B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AEE7BBB-3D47-4FA7-803A-BF8309FE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76C42-52EE-4370-897E-4C5A90B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8241166-A96C-4077-BB3D-5F8E904A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00665B7F-2209-41D5-BEB0-7F8A756C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8D5D0B6-161F-4633-A939-7B04F32A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2D18991-B4E7-4E87-888A-28393F40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2E36986-20BD-4D51-B88E-780F04D5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D6F3587-EBCC-46CE-A804-E20122E7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96E4535-40E3-4157-B7AD-64E103D3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05B185C-5E8C-4DFC-9CCB-3F1B9B80FBA1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8379E9A-2644-4F60-B80D-B56A49348BC8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E619DF9-F3DC-4C97-974D-D177F8DFF65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5FAAA-8BAB-4019-B21A-37CBDFFD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DD7421B-8FBC-4C35-B69B-3ABF3F37D0F5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B54E8C7-0386-4FFB-AA50-8DEA85C51961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DD83468-312B-493D-9999-024AA767DF6C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8F0FC697-EC9E-4F2D-943F-CD552D014301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48862D4A-9934-4C24-8B38-D5B1C581A9F3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34E12D93-0768-44E7-914E-B45C29E9E249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6EC565F-D0C2-4DF2-BBFC-791F4716A42D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A9FB1025-E0CA-4B58-9D17-74F5244A21DE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2F5095AD-9CBD-4C62-823D-CA012AEACF29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346EC31-6C1F-4DAF-8F6E-444CEF38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7546B-9EA2-4F85-89BF-6065E0D0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FED9AA8-8E94-4240-B728-A6B14A6B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37C2C0C4-BB0E-48BE-9647-03DD757B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52D297B5-1EF0-472A-B822-67D8B2A9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8F0A82E-5D97-4A5C-995C-D39BBE70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84644938-B73F-4756-A8C6-8F24785D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702E45C5-5001-48B1-A29E-C681AE94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585F82ED-ABCC-4DF4-9E26-C96BC27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5112D539-8BE0-4AFA-A040-44B0862E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7910C629-730D-419F-8352-DD0366F8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DED68F6-1D02-4F4B-88FF-232783AE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1F03-A970-455E-8930-3994760BF0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BAF8A-804F-4B47-89E9-EC03C817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231EC4AB-51FE-4AE4-92E1-E43BB95D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DE5FCA16-0E8C-43BF-B4F5-9F66D83E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DD44B187-7051-498F-8FF1-D977970C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39DC8298-4621-47D6-97CA-5AEA8A3A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B7F282A-839B-44EF-B20B-62BD927A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5C63CD68-17D4-4241-8BAC-3E5721BB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B05BA31-EAF5-4E4A-85DE-7507CF12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E646B851-8E05-4469-B480-A7D794E2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CE290B59-CE83-46BF-AD50-CCC58CE9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673ECFF5-7858-4680-B297-78715E0C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1245C4-CC16-4D88-8F2D-764491F1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9C76B49-819A-497F-A8EC-2589E389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83044754-B80E-486F-9F02-1DBE16D9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3315457-2A2F-4ECD-B5D2-DD42114A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BDF1BA-C8FA-4DD5-AF80-00FB9763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C4DBB1-70B6-47C6-849E-6B349E99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C14AF2-5CAC-453E-AB62-48388E78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AF1138-25E3-4A14-9E1B-EFCE2E59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74D0E2-626D-4A72-8F04-56B66A91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B7B8D5-A051-4EC6-B0D1-FF721E58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070E5B-290E-4DC3-8A9D-9D453C1B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681CC8-24F2-4F2E-864A-783272EF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4E5F17-FD50-45F7-B7C6-62511184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825291-8498-4FF6-963E-5518BAFB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A33F51-4CA1-4EFC-AD80-08593AF4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CB0494-7292-465B-9913-DE2A0BD6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81B8D4-E74E-4411-A588-5E99280A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FA8278-31CD-48D3-9BE6-35183057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C70C59-BBFE-4812-87E9-4050DD8F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DCFEE7-BE11-4F50-9CFF-120D2D15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5ADBB8-83F2-4601-95AC-C7AB90EC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7FCB6B-E3CF-4408-9E0B-C1792E18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0B3DFF-9369-480B-A668-7C325F7B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C7F577-E521-42C8-9A0E-5E57D6EE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D821D8-FCAD-4189-BD63-3E6C7311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25AE8-9D6D-45DD-ABE3-C7B1D701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758525-C60E-483F-B40D-4BE98770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654057-2403-4F4E-B077-E84C0368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848A78-2E5F-48DF-A337-139B033E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AAC27-76A5-4CA2-97C0-CD8A05BB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62950C-3DF7-47DE-8C7E-252D48A9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D4ADA8-0264-44E3-B6A0-5946EA4F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8B73E6-32F4-412C-820D-11FF6224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4A90B8-DD47-422D-BFFA-311925D3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6AAA4B-44CD-4611-925F-45421B8F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F877A1-676E-44D1-A6C6-3A356DE2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BEE546-7EF7-4B62-AE65-D4EE6736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FF3754-0619-4155-89C2-CDAEE660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363C53-3937-4A7F-82BE-9E1D9B1E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9E551D-06D3-4F0D-AFC9-003CD947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BCC832-DD18-45C9-A904-05D793E1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079067-BAFC-4900-969E-B4C22351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F9CF7F-CB4D-4A48-8542-6A30B613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EBFA39-57F3-41CF-9F7F-FC7A59F9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C968E2-AA90-4792-ACF0-F1F8FE3D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9E94B5-AC2F-41E7-ACA3-428C733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26FC93-1E9B-4580-B1EA-6F96B9F5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FCB14C-BEF0-4057-AB62-0D4FB2C8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85130D-4FCE-48CF-B4B0-57CB4370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52CCBF-E252-47AF-AA3B-54AA51DC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8C5D3C-5211-49DE-8467-85EDE747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840D1-1D9D-4D3A-A7FD-C685500D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87749-5FEC-4FA1-A953-B7291DFE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A0063-0022-489B-ACC2-02E64473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A1CDE-AA04-4A14-B98E-B2AE8E9F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0DC07-EFEB-487F-9203-0FE3C38B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B640A-14F9-4551-AC5A-F95E1D80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3D0F7-5FB6-42D2-9AB2-18FC576B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FD232-751E-4DF3-9B95-761970D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11371-C51E-4B70-A1B2-EA70A82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A3012-B5AD-44DA-A955-2A32E3DC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3C86C-7CD2-4A1D-95CB-208DE013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0002A-8322-406B-BAB2-DD20847C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F0EC0-7DF9-4ECA-8757-2C4368D7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BE65D-9E8C-470C-A818-CE49CF78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629F6-25C5-4107-B2FA-FCD208DE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5770E-D33D-41A1-A71D-064BAB48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2A213-9DA7-41E2-A6BA-46B95BDF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4320B-ED96-484D-A507-336C8CDE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56787-DA43-4092-B664-F00CD6A9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E674A-4EFC-4BC5-86A6-0A35CFF3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25708-A8F7-4F6A-B0A5-83AA4053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1F658-859C-4723-8234-16023A86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6F35E-5A0B-4A4D-9DA9-D6604E32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31B53-17C0-4CDD-8956-70743A44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8FE033-9136-48B0-97A1-157F52B6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600649-3F44-4F1B-BC1B-9376E925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1096BA-0FC4-4E3D-A833-65B7EEF5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5BAADC-CE23-47B9-AE83-89C9B8D9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E36C2A-E04B-4473-B87B-40B2EB29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4FF45C-A2F9-458B-8FEE-E2D59B81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D09ED0-437B-4DFB-8980-264F947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C941-D2CA-45E2-B156-95459076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B06047-B6C5-4290-A412-7BB50F9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50E291-4DEB-4204-B8DA-38E28181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69B387-9EDA-4CA1-BEA0-89A9A0D4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739611-D4ED-44E1-923F-B8184D81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37C3E8-566E-44D4-9EE0-6FF38CCC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4639E-BEC1-4982-BEB3-3129B3A9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8AFF7-6C27-4B37-9984-F364B6B1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FD473-A79F-41E3-8D5A-06CEBD48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2A673-BC90-4E11-A240-B5589B47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BD67A-60CA-45EF-A432-178C1105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C8F41-8F23-4C8F-B001-964B77D0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0EDA0-EA11-433A-AC1B-BD7E314C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C0FE2-82AB-434C-86D6-859FCF1C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BB4D3-6498-413D-82B5-A1F7D3B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87942-C15A-4FE3-9154-905CFD08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4CC47-9F79-4968-B385-2022EA5D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F9B53-F404-43E8-8465-286BCF16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7C1D64-054D-40FE-817C-90C17304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D5143F-CF70-4E36-ADBC-499E5ED6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2F20EC-8F35-4392-814E-FF4E6F5B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17083F-8C66-4CB9-9AA8-DE808CC5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B36E66-CD76-4C39-8647-F7491CB2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51A4EB-607F-4167-A90A-B434F4AA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6474E5-ED05-4FFB-97BA-12CE8888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D2D044-0B17-488A-B552-CCBBD5B8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980314-00BD-4828-B950-9B5D4DC6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7D30CF-F030-4AC0-A45A-B4371BDD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A0537F-4574-4B78-A0C9-3C274BE5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FB80ED-87AF-455B-B163-3648C4F7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7C0A44-B505-4015-BAE3-CB237C75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4ADE2A-4C1A-4862-A30E-D9222D6F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1420E2-333D-4519-BB3E-37F4BBE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8ABC69-1E88-403B-9AA8-571D716F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9D4B5C-0801-4E76-AA8D-C5ACF024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AFF077-86C8-45FE-BAF8-D9014EDF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5889FF-BAEA-4E6F-BE5F-E3CB78CA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FE9656-BCDA-4EA7-9AA4-37718A80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0CB291-2007-47CB-87F5-3C22E110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E257EA-73D3-4350-8D0B-8680EE2E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7D3A22-8EE9-4B0F-ADCA-6F9EB3B9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32CED4-D408-4D28-B878-B9C4FCEB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F8F31D-3CE0-4390-80CA-D2666121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A52390-6127-4C4F-8F2B-AFE5A2E9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F4AF87-C20D-4028-B5D8-482094B3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398511-2AA0-49C2-AA9F-E71D9215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BDF880-7C58-45D0-B595-C1F6A77C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38AE1F-D4A9-49A8-AEC8-5C373682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1E37A4-DCE0-4FD9-9286-0D1DDA7B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8D7BB7-F1D6-4BF5-9C7C-A99E392F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0DC42D-035E-4160-AFF0-BC4FEDA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2502F6-35E7-4220-98CD-C9EE87C6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E2ECD38-9904-4638-8773-607CA447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DEE5CC-1765-49ED-958E-08A6EE39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5C98A1-7190-4BB5-847C-BA2CA810D08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3FFF01-C2EE-4385-B0FA-A130BA39017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559C2D-170A-418C-B442-6A1318C6C0F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EA2343-A8BF-4410-8408-E7ECA7BAEA1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739CB7-2493-41C2-8353-FDC8EFAEAA1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58124E-9167-463D-A4E1-DC311EE03A9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B33077-C5F0-4125-A896-C4571890FE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D85E24-4EE2-4D02-ABBB-16DB9B781B2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20569A-92C7-455E-9F19-3D44CDF0ADA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BFFD91-C158-4BA7-9985-85C8F8186F8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9DDD16-A523-495D-8343-CD936D05CEB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1BB1D1-894B-4268-9EC5-DF1FFFD6B5D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13CF32-8081-4E27-9084-E6E61265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3B746D-8D64-4814-82FD-319C55F4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CB3A41-9018-4289-82AF-B9F62CFE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8890FB-7BC1-40E3-9D16-05A0D5E1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6A8FE8-2CC0-4D3D-AD9C-81EEA5A8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6FC129-7990-4599-A7C2-1967D372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D844FA-0BA3-45C9-8286-3D583ABC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E129A1-F16A-49AA-9BDB-4F94682E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A2EB96-14ED-4A7C-9915-FE48917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0A9474-3D7A-48D7-B9A2-0CFA3A86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4B102C-3BD5-4934-94F3-B9D10150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C63C09-E71F-4727-9163-7E27A07E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96D7B7-0E26-431C-8949-32CA3FA5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07A122-E5C6-496E-93A7-97BA2661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4B7BAF3-8FAC-4BEE-909E-F94DD6D3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86EDE7-7039-47EC-931C-D77A7CD8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C4C868-582F-45F6-872E-B3DAC111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53F749-B710-484B-A8EF-482674D4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74D12B-158B-45D7-ABAD-B4B9174A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F48C2F-1514-41F6-B4BC-904335CF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D3AA9D-B003-400A-A192-D490B5EC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D19400-7BE1-47EE-BB88-579FF463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D91DC2-4D56-4AB6-8759-FAEC5F25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13FFA2-43BB-4C9B-9FEC-AF68BFAC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6376D9-165F-4E66-BE2D-A94E262A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25BD79-E9B5-4BDE-9A12-33889E64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412920-7E54-4054-98D3-9007C1FF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DB3AAF-EB2D-4EA7-9B38-F0CACC71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2570ED-6788-46EB-99BB-F22166E0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366281-8A6F-4EF8-96CE-3BFFD18B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A820C7-F85B-44D8-B1A2-8C4BB92D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B9401B1-A50C-464C-A017-75E1669E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E712A5-E1A7-4F8E-A466-7E9E5D9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2D64ABD-2237-4E3E-BC76-14FDFD1F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53B399-7182-441C-A266-E08DFBF3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A10E-82C4-450E-8C6D-AE643ECE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BF83BD-9409-41F7-BCDE-C7D83E4D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6ABEE6-9001-4102-8635-C343FA6C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BBBBD8-8B1B-456F-BD37-05EF39F1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72897E-09CB-4D9A-BDE4-5D561124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EDAFCDC-F019-4D8F-8684-483DF5EB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674A2E-9B62-4DAF-B296-BC2EF5A7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52DA73-6B5E-436A-958A-2EF80952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6FB333-BB31-458C-8D84-37808C90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68F7CA-2AC9-4D15-A7FC-8802083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747E99-CD57-46E5-AABD-A6AA281A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8BB6EC-9DBE-4C70-AB2F-DF435792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7B2D80-1C74-4E91-976F-DD65E5E3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A2B286-D655-4BE4-8B16-3A062697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671D80-E1D3-4A17-A620-61B1F067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E6B0EB2-A28C-45E3-B497-EB2412D3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366655-D07D-4E4E-9D51-B2CAECCE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D5B984-B5B9-4BC6-A5B8-D6A7B2C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894E4B4-5BD1-49B1-908B-A2F13304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0FE78EF-E705-4C24-89F4-B02A47AD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FAB2B07-3223-4D7B-9D34-E60FB5D5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7B5F1E5-A5BD-46B5-A167-64944635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C9A3FF7-6C0E-4410-9EA6-A76459C9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BB0B7C-4685-4EC6-9D3E-C70016D3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4B94F7F-DB43-4045-8DED-354E6DC6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40432CF-0BEF-47CC-9741-9D63AE32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70CD2B-6401-4489-BCD8-CFD91A87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CE8677-8B79-482C-8267-1CA6F370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513576F-D521-4060-A9FD-7BA6BE48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B6C31D-CAE7-483E-8B8D-FDD24CBF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A0E7FD3-6B00-4429-B6E7-E4ECCE52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812B597-56E7-46F5-B826-71EEFC54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3B7600-C4ED-4A98-9AA2-D932566F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5512099-2B4A-46EF-A0AB-2831D8FA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869A63-D930-4F52-8659-CF7FF3A6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280D6E4-510A-4011-AFDE-433C7B87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1D0B653-1C5E-4401-9DE8-2A33F0B7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B21020C-E985-4DB1-8EE8-65E564A9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C906D9B-0EC3-4995-B32A-CD75584B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EBE7C97-0F0D-4141-8943-8950089C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840D122-61AC-4E7C-A89D-2CFE4F92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7F1E1DD-B153-4294-822F-22376A21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8C1F2A8-1BC3-4398-836E-FFC743BA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9B331B-D54B-4F54-901C-0900E482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49E4542-A7DC-4970-A42C-A7AB9D66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5151393-97EF-459A-A714-67B654BA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9CA134-1BCE-4877-8B3A-8085FA2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9692E0-ED54-4BC7-8700-C00C25B1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5C90CA-6243-4C14-9E93-D2BC472F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CD3AAE8-EB3C-4C9B-BED7-49D42211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F78C96-9206-4477-8EC3-BF1A6E6C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679E47-82B5-4355-96C1-DE0BDFAF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9EF8515-ABBA-418E-904E-8A6B8569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140B921-38AD-440D-A981-E671416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4AB963-917E-4C9E-950E-102FEF2F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B6E2CC8-B409-442A-88C8-F19084FC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D9488B5-DDEA-41F0-8928-B3056AF6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D6FFE61-8910-4D72-AAE2-B3C88F4B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7651854-AF2E-435B-971F-64BE9223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D42D9F-585A-4A75-9343-47E49AB4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43AF18B-B4DC-4CE5-A726-73364FDC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5564391-692D-4F0E-A0B3-D63B15FF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C4164C9-A39C-4F98-9A60-F85B79AD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2190EB7-9330-4D67-927F-1D893F40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31AD175-D71D-4314-A02F-35F23247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A24FC9E-DC42-450A-854C-6D9FE48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82B7FB5-0B35-40E9-A726-4A7C27AD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D46AF5-22B5-4C5C-9FF6-7806811B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939A773-CF63-4B1A-8C15-BFDFC5F2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79291D-0E80-4DEC-8900-0CA1E0A3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C04CB9-C768-47E1-A937-9E0BA79E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0C3E44-BE41-464C-90E6-DCAAA8D7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E7B664E-FD3C-46CB-92B7-49D1A20B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ABDDA2-09C0-43B9-9FBE-9DD900A6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40D89D1-4DC8-4073-A616-A85DDBF2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F847871-7470-4981-A5DC-BE04DE96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B4E2985-0B9E-4E65-8308-EFB8985A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BB57E34-13B8-4AD5-84B4-C6353DDD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AAE4819-1490-45E3-BC3D-D067454D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8F3B92A-F6C5-4CFD-838D-C9F00E4E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7E74471-AB51-40A3-A4B3-834C81A8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E91A4E6-D26C-4BD6-B55E-7FF3D25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AB08AF7-2923-4476-B686-88C483D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72D408-4F40-4071-9D53-2BE27B40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C455338-B975-485C-8AC4-75FDFF67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C3B84CB-ACCA-4F35-ADAC-78DE7905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B935C1-6C44-4866-B640-977E84B1F43C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009914-B6DF-4411-B4BB-6F6FA01E7B9F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B8A65B-1C64-49CC-A6E8-AF7FFF691819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4315AB-7342-4215-A090-8874CFA431A1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F95D35-49C3-4DFB-9000-EE6FFB0006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03AAE5-AA1B-4A29-BA96-7CC85523A84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20E4F7-8A89-4FF7-9BDF-72B7F5A9A25D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C01B41-CDA9-4CA3-8D5E-89EEA02FCAC7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C34E9E-8F03-49E3-AFFF-88AE38DA8E08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598D75-C186-45FC-AC81-4A6CB6C3675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F3CB46-FD6D-42F0-8287-80B13B05888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1AC7FD-DE02-4AB3-8E12-A1B66E28EB3B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A4556B-45C5-4631-8C8E-88BCA9B3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555741-2F24-4826-90B7-61B94DA5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098A0C-6223-44E4-9E18-CF1AB603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FE27-CE74-4A80-8282-2EB4DCBF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9B60C3-FBE8-4549-AB3D-71A1EAB7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0FC635-A6B1-428F-9A24-82F075AB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62BF16-956D-4AD0-8B0F-01BD5E2F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73FFF3-D11F-490D-8F77-D63E7BCE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F8A29D-756B-4477-BE43-F881563F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FD00E4-6C6D-4F5F-A87C-537545C6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3A7ACB-F98E-43F9-9CB8-D5CE0387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BE9CA3-BA31-4640-9639-E2D426B9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AB2638-4822-45F8-9CEB-7B869502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5B65F24-DCE7-417D-9357-5469E29F6F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0CE98C6-7325-4BE1-9EE5-1F6923CDA79D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AC0F05B-693C-44E6-B8E3-70E0A77214E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8A28634-B06C-4859-B654-26C430D7A4E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CD2E7AB-E3FD-44C6-814E-A4EB05984F34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3B8DB86-E610-4705-A090-BDC5FC9746C9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047B116-9A82-45B0-8F29-C11686753905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C41028D-908E-4AD5-A124-59616C74480F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D31421B-718F-48E7-8A59-8E95500505A2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3DF9FF1-88FB-4C07-99E2-DAD19946C7C2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BEF7118-AEAB-49DA-B9BD-56FFC2CC20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5610881-BE07-42BD-8F79-C8124B87EEE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0175DBA-91B6-464B-BC1D-02A0C92B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24D39FA-7E97-4F05-AA20-6EBD60E1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D7E910F-4BE2-4CAA-8265-009CAA7F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7821744-AC93-4133-82B5-FBDE8F9C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86988EE-2303-425C-924B-1A091E0A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8AE0AB2-AF47-485C-8D8E-931D1701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F5C2F82-62DF-4477-87FE-6B811C40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E2DE22A-0D64-4F40-8E4E-20588717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CD15AF7-3774-48F0-B646-2869D0B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562F93A-A926-4FCB-B78C-6E9FB1C0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5BD71A2-D526-42B1-BAB2-6564089C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94002DB-3F97-4C96-89F3-56AEC08F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A5597C1-E190-484C-B239-38A83E82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C9DA404-7880-4E8F-B49C-C8B545E2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0353B64-F7C0-4E6A-8AAD-E47DF38F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2B15B51-66B2-40C2-A025-33FB1FAE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27615E3-4059-4964-A264-448C39AF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5B8CAB0-69EE-4A26-B3A1-E768BBAD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96F4683-0B1C-4FE1-86C9-6FE1E244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DD8C0F1-1E87-4CA1-9051-2F11EA8B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4A91C6F-E9A3-4FD3-86FB-B94A2BE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C7D947E-CEDB-4EBF-A27B-11D7C0E4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51A7317-DBDC-48CA-B5E7-830F8751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EB2C135-8974-4586-9B01-A8C5F86D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3B3B67C-8C16-4FF7-922A-13DFE38A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E882719-1147-4991-9D06-0ED2D169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7A8BBF1-4304-4EE5-AED9-87F127A1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0C8346A-5A30-41F0-9D1C-7272A374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E7352DF-0798-45FD-815E-D169E688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C5B3BC8-92EA-4D79-A381-789BF52D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EE5FC5E-D091-44A8-9857-1DC7EE9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6C43DA5-CA8F-404F-A049-BCF19EF3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2CBD5EE-CC16-4853-BC52-BA7BC961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516E108-3268-4A12-BE19-9A2FDDDB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028885A-6EBE-4163-862B-CBD476C0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B20674F-1DA5-41CE-8C85-03EE27E7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8131410-F177-4179-A16B-415E0589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D3EA5FC-B9A7-4B57-B35E-4250B091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CB3EE7A-C116-4921-8603-6883A92B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8E5FC2E-8940-42C9-BD79-3D42AEE7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EA8C666-592A-4986-BBF4-9E53CF15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C58DF43-CB33-4563-BD65-914E7E69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896531B-4094-49B9-997C-E73FB248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0DBDE51-67B2-45BF-B8C1-4DDC9D68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A5514A7-A616-4C20-98E2-2D7098BC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17CAB5B-CCCE-4C8B-A5FE-9B32EDBD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EE068F9-FAF3-433B-8D89-4A4FDB23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4C7CF23-82A2-460D-A523-AEF0BA43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611FD6A-9E79-4A8E-A721-717E6460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1EEEA41-5E5A-4470-904C-386D9EFF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C097BB1-EF28-4C13-B4AD-B7A3B1A8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E40C5DC-B3B1-4006-BBD2-C41551D6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CB435BB-FDFE-45AF-84FF-156A91AB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CF92C8F-C6BF-4EF3-BBDC-278B21F2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7D2EBF3-F628-4845-9E1E-A3B123EB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151606B-948A-4B18-A1C3-52842CC3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16B4AA8-F956-4201-B6BC-E5E07A3A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3B31567-9B5F-4D0C-A89E-54B8BD07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41553F1-0AEC-4F8D-9685-CA5BA12A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77D4A91-8C5B-45EB-BEB1-E66249CE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A386608-13B2-43DB-8535-9CA692BB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018D184-2549-45D3-A669-ABB026C7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A421FA0-6F4A-48D8-AC5B-C485D703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4CB8C9B-AAB6-481B-BF47-13E618C6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CEF08BC-22F4-4678-88D2-5C0382D5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6BD724C-75E3-448C-A602-B776BDC4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0A18E2E-1C95-4832-8D96-BA2553A8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177C338-D1BD-494C-BD5D-EF4C6F8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CD99F4A-72A7-408E-9B0E-531CFA23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A6C1853-0D12-4831-95FF-536AC3A8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8E6E60F-5F48-42C9-A320-E5E70B24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3D0D9AB-B542-4571-B694-7CAFED1E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392FCD1-FA52-45AA-B75D-9FB64118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8BF28EF-B857-4EFA-A6CF-9F75E788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4B0ED29-438E-4840-8A15-537C8883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35D42B4-F9BA-4888-9852-13C0C61A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8DF84F5-7EB8-48D7-82E5-10F2B67E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341CD9D-1594-4037-AD5A-8D0C4F0D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37C9B8A-E107-47DC-83EA-B991CCA9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DD4C-22B1-4DD9-8409-792A768D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FB2EEE2-553A-4714-A0D7-23EBA46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350B8A2-7121-4681-87F0-9B2DC41B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11ACBA2-0C69-48F6-90F8-11FEA5CB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4075E64-9C72-4D0D-B451-52B4EFAE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7B47965-A09C-46EB-AE92-098D5545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0E2B91C-F85B-4E74-BE1D-4216C1FC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A5E8E50-9FA8-4682-8543-F33F34B8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94CB56A-680B-4BA3-8EEE-9529DB52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8EEDCD5-69CC-429E-A94C-C586E8A4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4295A59-9871-4C7E-893D-A38D29A5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03E0095-9522-4BE1-9A1F-D2E25C25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3926E31-35FB-4EC9-B470-E6CFA755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6F94AB3-EE36-47FE-BB0A-95DEFFDF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578C994-1F24-4B3E-97C0-93A37741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4FA80C9-DC2E-48DE-819B-0862E272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B4A59F1-D171-466F-B487-62720D56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8927425-6711-4023-A7F6-9D6B9C99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066A797-BBF1-4C7D-B36D-ADDC6663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1D8396C-21A6-477B-973F-3E713C1C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57FC85D-07CD-4708-B303-379ACA71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1CAF6E6-77DF-426A-A56D-4080DDA0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475513D-8A5D-48C0-81D4-F1F9F15A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6D2B62A-E0E7-4062-9B94-9525EA18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9A20CE0-270C-467B-ABD4-66848F64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D8856FE-78AD-421D-A074-19A09FBF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83D6F6D-B6FF-4A88-81CB-BD2A81A8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D7EE1DC-65AD-4550-9E0D-C8243DAF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27EAD04-DED3-4373-B9EE-A8B9209C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6401778-BCD2-4C03-ADB9-40F73738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75CD736-BDB5-4E05-8201-872D19B4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FA44623-3ACC-4B26-9CCE-4E9E28D4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0B8E792-20DB-4D4F-BA21-2ABC1BE4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EA5C799-83B1-428F-82F7-5100771E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1EE16B8-7059-4468-B82C-583C63F0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80C882E-4B68-4DCD-9B17-53FE4922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0BFFE71-B1E5-41A8-AE15-74153C26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8E5608A-51E8-4F7A-89B1-90DBC680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EF13396-BAAE-4793-8B10-732A1DFA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BBB99B0-A7D5-4707-8BFF-EAB31B1E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DC84B73-DDE8-49A1-B6C4-4A43132D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1A5CB06-1DDF-400B-A45F-EFB6BB60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AE75BD3-B86D-4236-A098-782AC2B2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FA095B7-2FA0-4F25-BA8D-352A636D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C1653DB-6BA6-4D62-8F97-8ED035C8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EF32720-A51C-4AFD-B436-5FF934B2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EEFC01B-EB64-4E4C-88E0-C6A2D505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CA248FB-2D47-43C4-98FB-E946D437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BDC15D3-059F-42BB-89A7-6C647DF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FBD0252-3F23-4A87-BFE9-326C2856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BF8AECD-AE14-4A5C-9FD4-7C1A830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AB5E809-865B-43CD-9825-D74EE546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5CE54E0-18C8-439A-A39D-0F948624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20D989C-3F67-44F7-B9AC-8830CF3B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3122CA5-5BF1-413B-B75B-304019D9C23D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2B43B95-61F3-411E-800E-348AD853C56A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B9A5135-E1F1-4079-81E7-8CF0DA88250E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6C82F10-4F27-4610-AACE-72E98A42A7FC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C35E120-A185-4FE7-B49D-7516DA109F69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9B749F6-C711-4B1D-AD27-15044540105D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34ED53B-38F1-4CBF-B515-0F34559212A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7494732-30D9-458B-92AA-FB7AB09EBCBA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46F4237-73C5-4595-B9B1-AE9EC0C7E6F3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333D7B4-507D-44E5-893B-CE1356BA9993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CBBBC1A-D3A8-434E-9ACB-CAE8577AF8D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3D09A7B-45CE-4A84-B8FE-DC5F03D06367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8E75354-FE68-4A7A-A35C-EF5B041C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1FEA544-44A0-47A1-8C49-C76E8594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FCE51E5-EA7A-4355-ADDF-11E74AF8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B8504F2-C619-4664-917A-F242D23F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B41E5E6-12F3-4FA7-A445-BECC2C92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150E9C6-D6B8-43E7-A6A8-C8C2D659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A32B01D-FB87-4576-80F4-F7FACCC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8B050D9-9A35-443F-98C6-6B351EA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BF0975C-388C-4BF9-A916-28E9B81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E0FD74F-AAA2-435A-A377-6A8FE8DE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C3DF315-2E6A-4146-BF34-9A1DAA7B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EFE08F6-7E5E-4B6E-B506-7EF19FE7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249337C-A68B-4C77-978E-777BAEB4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190F4E6-209C-481C-932F-8E5F15D2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2AEB888-D374-46E4-AE7D-A4A6435B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E274597-3344-457D-A87F-61A3F5F5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62FC769-436E-41C2-B81F-4820B6F4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00480A2-78B8-4323-B8D2-598B0D30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AECD2B2-0A3E-4397-91CC-A76FAAC9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740C487-21D5-488D-953F-E694C1E0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FE184C1-0DE0-4C3C-8F5E-C4A774AF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08E9A7C-1A70-4EE2-82D7-FA5E1651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788D133-D525-41F3-9974-71FCA27B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E5523CD-0B16-4A69-8D6E-F19062CB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D31C417-7441-45A7-8A49-C12FD804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D314076-8C25-4FD7-BBD5-A5373D9B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D624407-DFC4-4E24-9FA8-4311E90A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C15F43A-5070-46F3-AACD-67C4412F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6C050FE-19F1-4AA4-B74E-435D20D2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0A68A6D-5633-48F4-8B74-A0822B14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F540918-AA61-4AC9-B77B-9E5A60A4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B637790-0EEC-4B39-9C24-A56E227C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3F65E43-3997-4A61-8A2F-3DFEB3CD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B3F9F98-DC46-4347-A33B-8089F0DF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ABFB769-8259-4349-BBC3-BFB6D1F7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6B42-0D21-4F64-9228-2A4D6323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7BA8DF6-12B8-4B79-9902-4E148A3B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FD7136F-9393-47FC-AD80-7C929B8F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61F9002-CDBA-4F30-978E-8E73CCF4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B242CE2-532E-46E5-8A5B-3126B683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79F48E5-812C-4C18-AC92-CF924912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ECCA3B0-C829-4059-938F-D7751A31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3FDABFE-EB5D-472D-8858-33445FD3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2C33F2E-3A82-41BA-A7C0-C0EFDCB4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667622A-B1F1-4072-943A-E56C09B4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BF6232C-6089-42C3-A636-AC02B1A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DC13FD9-0516-4906-B81E-E57A3832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032D6CC-AF07-439C-8B19-7C25D522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65F4BE3-18D5-4463-BE1F-8BBEBE72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42EAF9C-E280-4525-913B-CB4680B3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78100B6-EA9D-4DFB-A2A1-F89C5286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0A7FBD6-6454-4E86-8651-CC2A74AB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A2452AC-6505-4588-9926-15E4C460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A7C857F-3B91-40DA-B6A2-4740B738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7397329-1F07-4B21-BE31-8783331C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2988E9E-3E8F-4D66-A1AD-0B7CF322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EDD7511-51D3-40B4-A901-5DF6B050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D091792-A00E-49F2-9D61-43F401F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E1919AB-46FC-48AB-996B-41E1DA79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0405868-A31A-4A03-A964-5A42A918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9B47E9C-DB1B-4F7B-84B7-7458F48E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7DF2842-8918-44E2-8EBC-3C95FDE8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4B67990-7F62-46EE-891A-E59F4B2B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C2C0349-69C2-4B2D-86EB-30CAF12E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CC7055D-5E31-455D-A66A-4AFB14F9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7909FD4-863B-4B2A-9399-4A65BD77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D7C4AAF-22D8-4724-BCD0-4DF794BA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BA1A4B8-645A-4D40-9F8A-76BAE2F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347FA82-B572-41B7-A6E6-8A3F3BCB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11557C0-823F-467B-925C-9BA331D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21E99C5-D206-49A6-86DA-2A41269B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95B165D-03D0-4326-A82D-593D5AFC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90556B1-5CAE-442F-811D-BC666E8C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60DABC5-EFEC-450F-8DA8-C2975B8D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36AA2CF-1341-4421-9C9B-38034FF0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ACB0D48-678A-4F78-B2B3-334290CA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85E343C-7049-4597-9ACB-E2A46A47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9ADC01F-1F98-4525-8790-DEE674B8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9D90D18-A4B5-4CC3-88A6-F7854CFF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ED41F6B-8502-4C29-B1B6-78ACDEB8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EDF95C9-87FE-4C82-8A28-D4F25AFA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5489CE0-7185-46A5-B814-247C0C25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0D782B0-8F18-4FA9-B812-EC76B20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2CD9988-E979-4227-A7AB-D6F6E5E6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8412FD2-3801-4FD6-9482-570FA681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E217D1D-8179-49F3-B344-F9A80313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6D48C8B-8080-47CF-B0A3-2D649957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94ED576-1DF9-4AED-98BB-0606E0CF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8439E85-E29D-4A88-8452-06A47593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0BEBA5D-A1A7-4712-9CA9-BD681FA1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1969067-4F07-47E0-8286-81817C5D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2E18E38-1025-47CC-880F-3DD9CFB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F6D673B-DA9B-49C6-A6D7-02F3543D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CDFE255-148C-4317-8A71-148204FD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F9085E8-D34A-438B-9BB6-957FBEBE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073439C-80DE-4812-83F1-CBE4AC46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A3D73C2-0480-43CD-A97C-358C3149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680FCE2-0DCA-4B32-948F-647919E0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571A0E8-3517-47A8-B6F1-6AF7BFC2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D21EB74-10F9-47F3-AF80-86D61829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21BBBCA-DD9B-495D-9E6E-99DC9322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A7674AB-103B-4462-9618-475026C9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43696AA-3717-4A00-A45B-D2612C15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397D403-0242-47A1-BD8D-E9C6BC65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C536815-4951-4592-93ED-30CD8C54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EA43BAC-ADD2-4304-9827-6D1234F9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2FF0118-A4FD-4480-B9F8-CE0863C4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342DE45-088F-41D3-B669-EA8558FB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F5CF011-80CA-451E-A2C6-78809C65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9BC140D-8CDD-44C6-B9FE-4BE89086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0B415AD3-6680-495D-9ADE-F67FB20A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D9109F3-ED8E-4A99-8DF3-571D4A15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FBCE2BF-A766-49AA-BC7A-3DB2BDDB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99395EA-02F3-4136-A9A2-09DD84B8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D8AC9E2-E5D4-4761-8375-473D2748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A94272F-52ED-4BFB-A1FF-8890019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5BDEA45-9CED-404F-B9E2-E5C4F60B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FA3D593-B03A-43FE-9B37-F68AC688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38E36C9-E96B-408C-ADB3-53704552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737C889-0092-4CBE-9946-C91EFD25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EE799E0-E671-4E58-AA7E-FAFAFE1E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F4E9D7F-EA83-470C-B128-0CB43FE9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599A83A-2C3D-451C-87B6-2304AEFB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89E11D7-9011-4C44-B937-54ADEF89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D9591A1-4A46-4B7F-8E37-7275A310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1EA3AD-7C9B-4720-9F9A-C3BBAA13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95FA33F-E400-4B29-A560-24E05464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BEF9CDC-D6EA-45AB-B0EC-8D9D88E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73B4E7A-D823-42BE-B4E5-3A2F5AA8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8397B3-45B5-4148-8FCD-C3E0730D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B7C6FB-EED7-44DD-87F8-B437DE94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398926D-34EC-412C-B672-9EF46CDB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E109D84-7E36-4960-B554-B7BB7577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B8608FD-38C9-48BB-A6E6-39790C44A422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478F12F-79A6-48D8-80C8-54F8D1E7A944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4A11F75-C675-4F11-A7E7-35E833F69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095B-E374-44E7-BE61-A0371376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0AEBF83-047F-4CB2-8CCF-8E1251691674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9BE636-D76E-4225-8A8E-1DD350295784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AEF0D07-2285-49ED-AB1C-CB5679DAC037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3A8141-13DE-4F4E-AA17-BCFDD97E72BE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70AE928-0DC2-414D-821A-CA059E755FCE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F08E117-5F28-435E-9AFB-BB1490706AED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8C9CF34-396F-4E46-B1DF-9CEC0354AF0E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6766ABC-EE83-464C-B184-26B64369A39B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E1E455B-5981-4A3A-8E87-35768E249F6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3936D0D-1676-47EF-BFB0-6A3DDA54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2209158-95B4-4EBA-832D-24987347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041F0B2-366E-4A00-9CAE-EB3E4EB4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72D0E04-0AC2-4A17-801C-04613C81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55DFDB1-EFDF-4679-A075-CEF8ADB2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B1F1B8-7E4C-4C6F-B524-3B0F6AD6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B296AC8-5E0B-4728-A7C2-C4BE5414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91CC01-C54A-4049-B25F-7DBCFBAF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5992884-DC42-4BDA-91F7-DE815E19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5E8FA45-B2B4-47BB-92DA-084A14BC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5D0ABF9-033B-4C71-BC81-C5B61A6A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0155246-03B5-43E8-BFD7-51D9B501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869C26D-FDD9-42C9-9BED-562214C0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3733813-4AE0-43D1-9D42-7EAFD31A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8766CB4-A145-4995-8971-16A1075A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618DDC9-7209-4073-A5EA-B22F473C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C417F9C-1D50-45B1-B971-66E5E165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661F999-741E-48C0-9840-5A277E0F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995561F-F11E-4ABF-AD11-35B45221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9306EF5-C3FE-405F-B117-96C68B59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07C8297-0469-4BF3-A00F-2672C669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0ACA9-4DE8-4A3B-BD1B-D8CAFC05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23587DC-E26C-4CDD-8D8A-0818135C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A8D70E2-B146-479F-9BA8-210F7707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D50F772-BEEF-46D1-B8D6-B27AC084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CA4E11B-F6F6-461D-B1F9-893BC985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ABDCBCB-2C85-4294-A9D5-EF599DAF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C7A61CD-DD56-4C9C-A4D3-BEB53B3B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B8071AB-FB26-4326-AFF1-18B5FDBA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69B61F8-E17F-4834-8D55-6DC4C681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9F85F26-93E1-4498-AD04-A88490F5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BE851C-BA82-4FED-87BA-085AB68D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72E76-0AE5-495B-80DF-96CF8C75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CB0D4BB-4DB2-49CC-8808-9B5091A0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6A99B60-2D95-4145-9B85-26F343D9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A63978B-4DDC-4C0A-ABC3-0985111A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9633A5-6346-4E84-AE9A-4D2393A6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8F6EB1-336D-4359-BEE3-511C09DA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D5B62EA-E0EA-434A-A3F7-72A87C59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C21B115-C061-48B8-92DB-5833AE57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B8534FB-361F-4239-BC93-82EB9065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9C26DA7-D21B-4816-BFBC-CFD7B4A3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706F02E-3837-4D51-8A9F-C18E920C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834C8-4F01-441A-AFF1-0D037231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E83D071-C793-4B7D-9702-D3391E34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36C9535-40CC-46AD-B4BA-F7E059EE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F1824F0-4075-4E70-8B49-25C5CC79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39B181B-2B1C-4A4B-A51E-8EEB52B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D83325B-C2A7-4405-98F3-5F4CEA01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7BE4D2E-5984-4B45-8FE6-ED07B947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A704502-1337-4249-89F0-5BD83FBF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128EA13-D974-4E57-ABC6-C43E4E85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D8C6282-6865-4E9C-A4C5-BFF6F3D8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CCE0411-59A9-45D7-8D2C-BC51E7E1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5AFCD-364E-43B4-A569-2D2A89ED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9CBCDE1-B289-4CDF-89E9-55887A30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8690A42-B808-4596-82EB-D386D2C1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07A9826-085B-4978-9E9A-BFE19532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4A29FAD-7AEC-4304-9630-D53B6D3E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8DF5FF2-17E3-4020-AD01-61FF02B5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259F8CA-16C9-4CAE-ABED-3A332A59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CDEA05F-90A2-4E13-8742-52622674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A1C05EF-CA75-4C7F-ABB6-CCB71220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F3B390-8F4A-40EC-8EB7-E8C3722D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CF96B83-EFB7-4CD8-8F48-F5F44124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F26D1-DFA0-4BF7-9933-E1AA86A7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DABCA3F-BB28-4F1B-86F6-9A1F781A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5F860FB-B0E3-484E-9967-45DB0D4F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9E5A987-0E05-4724-9DEC-E815388D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BF9B61C-9100-4776-B3FA-C2787962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61E5C3D-18A6-4DD9-99F9-A2AD53E6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3F9A756-D198-48BD-B7F3-F6E19464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157C0C5-9965-42D1-8736-9FDC6699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0D579BA-9053-4B83-ADB3-7B843DF9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DEE587F-907C-4FF4-9511-0355B72D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799BDD4-F922-4DC2-B167-0B297FB4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038E1-7426-49C6-BF77-22BBFCBF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00C0785-4069-4DEA-9E66-61C55BD2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1DD9237-5DC2-48FB-BFE5-E40B5C15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AE2C470-EDDD-4650-9753-CA2AD0AA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87CBCF9-8AC7-4EBA-B163-274C96B2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AE8DE57-EB39-47A8-BA65-09284FBA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E1392A7-FCD2-4D7A-AF99-C8B2DCE6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7912AD5-320D-4F41-A1E4-576ADCDB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430AE30-4D71-42C8-B88D-9856386F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8C2FF13-7B49-4964-BC38-1EEE9C3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3393A85-9B64-46E6-929F-A54527CF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79383-929F-402B-ACC5-C04AA5D0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A6037FC-461A-45E1-9340-B4167D40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171DD72-0DFF-4070-AC72-7AB3980C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C080731-E6C1-4109-AA2F-322F0190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B516075-7071-4C45-8553-0B4AB525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6006218-5EE0-48ED-834D-1D229426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136FF24-97BA-42FB-9B74-17D01038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C3BBA32-6C80-4089-9AF4-F161611D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0E05244-B150-40E4-8ADD-8CB53EEF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64CEFE8-DB8F-4072-A345-F5EB5683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EB86F9C-43D9-4AE6-B9D0-06F048F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49EE-E761-4DFB-9693-97C7AA9E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3E792-3C35-4515-BBFA-F17318D5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08DABCA-6534-40DE-9541-A892486F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302F37E-6310-4E5F-B3C3-58DCE64B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4B865B-950E-4BC9-8CAF-0B05B7F5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9B02A18-B64A-4ACA-B80F-B88D5C68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92AAE2F-4A27-4D73-B3B1-B75542F0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B7099FA-875F-455F-ACCA-DF8093D4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AB48F68-F103-4722-8734-059D6CDB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C762882-8910-42C8-A66D-A4652DC3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089459E-7E3E-4BB1-AE4F-C3226BCE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F5804AF-15B8-4E34-97D6-6CA5C8F6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E780B-C7AB-4B8E-B221-A97B1949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A6170CF-91AE-4B58-BC9D-F54B102D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735C6FC-4929-4068-9A78-33E6E0CE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0AB42C3-6240-43C2-B4F0-0FB5E1B4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D02DC20-BFA1-4AD9-8638-C0F9FC01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CCED027-00CA-461C-882F-B6538F55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202FFBA-9998-4FA2-AB24-F0346AF5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26F0558-4E29-44D5-AABE-B6ACCA52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12AFF65-AB5F-4E3E-ABE5-676A04B4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F140ABB-4079-42DA-BFD4-1A96F483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327246A-8409-4AD3-BF59-5B0F6A06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2EF05-23DC-4A00-A5E2-EDEC98F4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72D304F-7067-435B-9125-80E7229B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6529233-835F-4EA4-98CD-CAA9473E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05BD2B7-D41C-4827-83F3-13C22CA8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1BF17C0-1277-4369-8801-238BBA15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BE50B18-2194-4630-8555-05DB03F2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F12B099-0965-48FC-A63D-609B912A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3EE361B-6E92-4CCD-B9B1-0D5C9499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07CF4A5-7155-425E-9220-126A27D9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627CEE5-B829-4D34-80C9-8DE9AED4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C52890F-080E-4447-A39F-FCD310D1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A788F-D22B-420C-91B7-B7B2D971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AB5A177-B408-4261-9372-DC40C66E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1906B83-499B-4354-8AA9-B6AF0376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F3E47BF-A00A-4092-861C-05FBBE48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00C6F73-1CD5-469C-ABA2-38F2E801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58669FA-1A69-4AEA-A78B-C9B8919A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7F41053-BDA7-4D82-ACD7-5ABC3B21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425388E-F926-497A-8162-0C04C7DD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0063FBD-928C-48BB-BB27-D1BAD452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78114F6-4DFD-4800-92FE-45A6BA4B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0FE4DF0-F923-4FD7-AE07-E7346AA3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DDAA1-6693-4206-9C4A-CDE426B7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C58CDF5-5A06-44D0-AE72-A803F63C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75BA642-C20B-4842-AC32-4B7D23929ED8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37EF59F-CD25-4D93-9DA6-0B38DFF7E85A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5C563C3-663C-4F53-9984-E2539A8D124B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5ED626B-D062-4652-81AB-AA9F6D560BCA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63C23C2-AE48-41A0-B4AE-B630D5CDE50B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9F090E6-F937-453E-89FD-660834E66257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C97DB6F-C5EA-4A62-B85D-4D2027CF0AAC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666CF25-F6BF-44E7-A303-72EBFDD23CF1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08C6F7C-2848-4C14-AA9F-5D0CD89C184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47FE-DCBB-4F3E-A85A-F44FC33BC151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AB68AD5-FB69-4B53-A232-512D8202D1C0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F304E2D-56E8-4E0A-9985-044C87E423AD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7D2583F-30DA-4789-93E6-07CF5C495711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CDE2F80-CA9B-43A3-B16C-71BCA8BF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6F9B6DE-1C2A-42F5-8D33-8817CCA6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26A1E8C-F2E0-4B21-8485-D0300BA3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CFF571F-19DE-4626-87E4-EA772B54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5D43062-308B-4801-88EA-1A8D26C8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E72FB8D-519D-4AD6-B1FD-68478E34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5F782DD-2710-44C0-B355-1BD70492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F5F2-F5AD-4157-A60E-C887EC7DA723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644CB81-4001-4177-BF31-15D3C3AF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A52A060-FB03-470F-A8E8-71D839A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BA7C4BD-BFDD-4B5D-ADD5-608019F9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11C8149-1EAB-4F4F-A91B-AD1C69B1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5973309-18E7-4B38-BB97-72DE35BC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BD07C49-C9D5-4764-A37F-F565A3CF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1C371BD-C1F1-4162-829D-DADA8419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F76813F-6EB2-43AD-8280-40565E07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1270BC1-1721-4C8F-8441-18C79CB9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AFC7F5D-F5E3-4DFF-8A35-D9504C42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4882-2EDE-40E5-A374-08D3C2025F8F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111C42F-7548-4D39-BA30-3800543B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9BCD715-54AB-415F-BA3D-DEE33439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9FFF6D1-ECA9-4034-AEE9-32B48D6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607E14F-47C5-464F-9037-4B7E3420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F28EE2E-6AFA-4350-92DA-376DE227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2819C6E-8F77-4F5A-8D27-CA0129D9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43B2C2D-E195-4878-A526-969EC541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EC9C13D-09C3-4FBE-A0AD-711F9540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BD36053-C40F-4E7C-9121-A65AC5BE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A2366E3-B8EF-4A82-A219-38FC176A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6239-0C1E-40C9-8AD3-818B09F83D1C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0350E77-85E6-45C7-977C-12D0F42B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6B67ECD-5818-4E29-B59E-5D2A6DC3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F655DBF-21AC-461D-952F-C55D618F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B3533F2-6C31-4579-9A09-20621AB9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607B62F-393F-4959-93AF-DC26F90F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5CADA97-622F-4688-A9F1-308EFD13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B942B03-6BC0-4F2A-B468-E31E85D9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32E3576-932C-4291-995C-82EEABB7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079C2BB-71CB-4991-B9B5-D877741A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F8F7556-0985-461B-9BFA-EFD12787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EC70-C856-4637-87F9-03437F8555CD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15F28FA1-8654-4182-A0B8-755228B0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A8120FF-C930-45CD-9F24-F6C0F323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9B4CD5C-94E6-4B2D-8DAE-06D3246F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3A22791-A4FC-4CFA-B3CC-F449013A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DAEAC5D-D6C7-42AB-A40D-211D1FE7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1CD78DE9-EC7B-45C6-BA02-62D41B0C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1FCB27B1-E51E-406B-87B1-A9030283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7D1A33DA-AAE3-44A7-B192-D20144AD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C8CEC44-6F80-442C-9B0C-3E7254DB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B9A3CC6-E086-4D6E-BB08-997B9D56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5D1D-F34C-4960-AE0D-CBAB4F13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ABC4-E756-40E2-9161-47EE16614882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A3A0DD5-274F-4457-9C52-BEAFAE29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ADC626C-ABE3-4B45-B453-D0337212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9ED93A7-AE01-4B26-AE33-50D1C86C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1857903-4A54-4978-94A5-9D15C23A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EF0D6EF-11C1-4623-9AD6-0C8E70A2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6A71383-F4C4-499B-87D2-E56D8034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AF37465-6450-4D06-BE49-C0C126EE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50EDD8E-3898-442C-AFEC-08D9AB5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5CD3434-FDBE-410E-B126-77720598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D41002E-EEAE-47B9-A955-BAAB5E28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C88E-87B2-457F-9116-5D2067BD6172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0B4D9E59-F09C-4F01-8F7C-7D3FF7EC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73CC65A-A49D-4C38-96F9-00271A69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7B9E25C-28AD-43C5-91C4-80F7117B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C7F2D24-34D0-4BBA-9148-5FAC6165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DDBB152-BE8F-457F-A20D-D9F1CDB4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E354627-5323-4FAA-9D0C-B63F46C1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6CF3788-2345-4375-8238-14662DC4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2192818-51AA-4B57-BAF7-97EA03A8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966190C-FCF8-4A38-A8D3-CFDF8D39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9E2CFF0-F6AB-4B74-BC02-A05E1605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0D3E-A612-4A27-B18D-D10DAE05AB48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EB7B8FE-011B-4A85-8A1B-2743D39D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227E8A0-8642-48CA-89F7-5CAE2CA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DC8C7D5-BB3A-47FF-96CD-54D36FEE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CBD4BB0-AE2C-4496-8DC3-EF01906F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B109C3E-EDA0-4BEF-B380-20DA4880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8C12EED4-1C57-49FE-9193-5C9CF896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A2AF75B-413A-4B10-B6BB-08EE475E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4B5A5C3-6744-4906-8589-EC2CF816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2469F2B-665E-4FD6-B9A7-FF6314E7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43C724A-5A19-4917-9AA7-480DAE34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C421-4D78-4558-88B0-8203B27AC493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52E7B63-9F43-4116-A3D7-3C90D6F0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A9D2CDF-A6FA-4FD0-A3D7-BBA680B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D1F0340-E127-4F4F-9A0A-2FA3018C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9EB9767-6267-4177-AE89-CFBE0303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8BD090B-F904-478F-AE69-88E1B269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9D82A64-6B44-4B53-A31C-96D5089B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04B46F3-9085-4B5E-96EB-DC880E0E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0181FAE-A67F-43AA-81BB-41E07550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10B3B07-D6B2-40D6-AC82-164D44B4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5F57A24-E89B-4F42-922D-DE192ACA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11C2-9877-492E-A51D-2998C60720B5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C41AC22-78D1-4394-8D3E-C692E4C6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C695550-33E8-4725-A54B-BF28F4F2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B883452-4719-411D-AEB1-56DF4D7A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3BCCB72-FE30-4E4D-9F2C-2551A061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6EBB8C8-4C93-495A-8B87-CD74B6F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09AF5CE-6302-4A78-A84D-652DCA12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729A5FB-2BCB-4E30-9B03-5C529231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BA7979B-E831-4CF1-B43C-53E628C8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EA6BD83-8657-4CF4-BE25-0BA5FD30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AE1E93E-B75D-4C17-A9BF-BA67C382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EB25-342F-4F77-BE45-9E26E00D4ECC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49480764-37A2-4326-BB32-6F491F02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1CC652D-3245-4EBB-B69A-8BE8D663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6F655E0-39B0-4310-9D5D-FA111564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49A8D10A-C650-4E6F-AC5E-F1F2774E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E4645E7-CA52-4A57-90BD-2F48827D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B19DADA-7B96-42F1-85A7-7D344DB9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9A88207-CA52-4E32-9231-5028642D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44013776-EC24-4305-81A3-C7A68A9F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60CFDEF1-9A49-4545-8E4C-B1E9D98A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66F8CACC-65E8-4DFB-AD4F-BAC95347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9137-6A3B-437B-AC6C-CF2C569652DF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E4464CD-A071-4621-B918-3DB657DA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42F73C8-7B87-484B-83D7-BEF262A9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2BDE956-99B5-4924-8DED-A277500F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5223FBD-5CFA-43B8-BF86-DFC93BA7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00E1D1E-F07B-40E3-BEA8-A0DD17BE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5306F0C-6B42-4382-BED7-67903B1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159408C-C3D4-4567-B04E-CBDE091B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434F27D-FB24-4ACC-9DC8-4FC67808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CEAFBD5-97F2-4CE7-9F34-7D1AB49A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F880526-708B-4B21-8FA6-1F16EC5D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280D42-24F8-4042-8AF9-CD5FBE8A0496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8985A4C-A7C5-4579-9F91-875AC561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2D99361-6ED0-4DC8-BC12-22A4E57E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9E4DBEF-4E5B-4C54-974B-2C1CFDC2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D47FB4A-A271-408C-B6D1-AE0EC5A2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3988255-48AC-4CAA-BBFC-72CC7195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B138037-E9C5-4DBF-83CE-0AD8C367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A443A24-4AF9-459F-A9CE-C6DE9F96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66821A3-75B1-4F06-AD2D-5435AEF5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902C73E-877A-48F4-8A83-96B14A7F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CA3B9968-A64C-44CE-9FF3-D9DDB52A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2CC1E-AF7A-4CDD-BBC5-C83623C376C0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6296D8C-7673-4E9E-A82E-6A9AD6D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76D790D-49B5-4230-B462-1B7CA8F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8F1A039C-E44E-4092-A5E9-24B9FA79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855AF75A-2BF5-4A8D-8055-DDF2CC3F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9359D7D-2100-4964-9059-C262C2BC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4227B4D-859E-4258-A3E3-5288B20F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8D5F2F5-9DD1-482D-927D-3BABCADD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D62462E-91D4-44A5-8535-B17002EC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EFDA43E-3D21-435A-B2AF-2420279C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B6429E3-6DA4-4F42-BCF2-FBF09551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6193D-5597-4CCE-9CEC-4A199D215B64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76E25D4-305B-4CD1-A011-7E960500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8D3B6EA-FDF8-41DB-A6E6-2010162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D974044-0CAD-4CF1-99FC-67C8FE3A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20ACC38-388D-4BB0-82D2-054307EF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1EB31AF-DD47-4CB6-849D-DA24CC81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9AA7728-08A4-4E98-90BE-B3B3717D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E2DCD09-BD0C-4BF9-9EB2-B18AA1DC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2830EA6-A94F-4818-973C-486193EB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9758350-8561-4920-A0BF-6E02F12C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ED2134D-52AD-4F9B-9F88-E0AD3A57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B092-EB72-4911-8D5F-BAD3338CF06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71B9-D281-4F1B-9DDF-CBDD4E93DCB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0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 type="dt" idx="26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 type="ftr" idx="26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5"/>
          <p:cNvSpPr>
            <a:spLocks noGrp="1"/>
          </p:cNvSpPr>
          <p:nvPr>
            <p:ph type="sldNum" idx="26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302D-062E-4E1B-827B-E70AEB407552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5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 type="dt" idx="26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 type="ftr" idx="26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 type="sldNum" idx="2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4E2B-AF08-4625-8F3E-1098A6B95A1D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1564-15B0-4BB0-BD95-3CF708B4596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43AA-3286-47DC-AC0D-1C3CE24841C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6547-667E-4B6E-BF39-9087AD3040E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9CBB-A317-4C84-9E15-4C0247B96ED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Afbeelding 8" descr=""/>
          <p:cNvPicPr/>
          <p:nvPr/>
        </p:nvPicPr>
        <p:blipFill>
          <a:blip r:embed="rId4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9" descr=""/>
          <p:cNvPicPr/>
          <p:nvPr/>
        </p:nvPicPr>
        <p:blipFill>
          <a:blip r:embed="rId5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794A-972F-44F0-97C9-C8448DBD29B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007A-E22D-44E4-A2DE-0E3FE52844C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EFFE-A059-4AA2-AE13-AB9D4C3ED3B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0FE6-65DF-4A57-A43E-E33CDE9FDCA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C99B-473A-4092-A68F-8500B013CD6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66EB-D971-4BB4-9D94-CFFD3DAE997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3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C93E-BC86-4F9C-992A-A807D98DC83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dt" idx="3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4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4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245D-CFFA-40CA-88D4-191D5CB97FB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1C0F-AD3E-4E72-B09C-8AE7F888440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3FD7-9C4C-4A33-A20C-BEE82BC6B55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5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8B8F-E41D-4A7D-B787-C03E469159B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BA7B-9608-40D9-A24D-EE620620B12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9EFB-7926-443F-B028-D1E965B94AE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8DC5-0D8F-48C8-AA7A-32C654BD3A0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82EF-56E6-4713-A99F-E1B83D383F0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C154-9D4A-4FC5-82D7-7F5C9AC4BEE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C3BF-0A92-4F36-BB3A-67E62FEFBED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2320-729F-48B1-9D12-5A9010CAFBA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3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2D29-9A60-450B-B476-73F4026FF89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815E-EA60-465A-BC70-BE6470EFDF2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B263-E833-4B45-BB6D-73E83C1CEA4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6871-A4DF-48F1-8516-068124513F0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1389-952B-4E87-A7BD-C462537DEEF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F8E3-0804-437B-AF02-35008E30744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9F74-1557-42E0-BC5A-7A19C619900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7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9452-C985-4C6B-9229-7B43C459E0A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9F62-9880-45F7-893F-944445593FE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1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1BE3-4900-4CCF-A9E5-DDBED50C0D2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600F-738F-4764-B78F-C1E4D3C92F9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6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8066-3495-43F6-A16B-C7E977B0B97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05BF-CB8E-4337-B2FD-495ADBA7084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0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9584-C953-46C8-A56B-C37A0540F91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sldNum" idx="7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E297-8330-4223-9C90-90666523B26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5DD3-9C02-4418-B358-BE720D557A8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7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7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7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937E-3582-4E85-8D55-036632DA55C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65FE-9DA0-4181-A3A7-1129425CB9D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ldNum" idx="7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F0F8-C9E2-41C3-88E8-F23FFBAF289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4178-B8FC-443A-81E1-F1FEAB9D57A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8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B11B-A3D5-4CA9-8E7A-5A43173F0B4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FC94-CFCB-4880-A4E1-E90ADE2380D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sldNum" idx="8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EED8-4681-422A-858A-4C5645F29B3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C035-56A6-4616-86DA-1AA55334BB8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sldNum" idx="8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B06A-8913-4EF5-8060-BED9A291773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55D1-284A-4F36-BCD7-E9F28E1C927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sldNum" idx="9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DF95-2ECE-4CF8-845E-15D2D396E97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229A-26D4-474D-9D3A-5D40969C232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9D8D-B9B8-4423-B8D3-65CDAA276DE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A1DD-9881-4AB1-9AFC-66A42940A68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B3C2-BB24-4DA5-B24A-0789A915A1E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9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5D3E-D20C-491A-B954-10F4AEDAC35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F859-28D8-4D22-8088-7355928BF03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sldNum" idx="10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931F-83D9-44B5-9357-23C3A3B1E93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64CD-0669-418E-A36C-2824672EA36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 type="sldNum" idx="10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522A-6B67-48BB-80E4-4B28F512AE5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C2EF-CCB0-4CF1-9B43-9554833DD46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10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A26A-89B1-4411-A014-CE48CB5CF33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C07B-91FD-4C4E-A275-D835768C33F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 type="sldNum" idx="10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5CD7-63A9-4F5A-A431-975B4FEB9B6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6529-E287-4692-ADF2-A02B3CA19C8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Num" idx="1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0554-F082-4033-8C1D-182527A1D3F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11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112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96F3-7863-42ED-AC5E-F1E01027830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0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ldNum" idx="1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0BEB-D0F5-4149-931A-6EBFF744CEC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CB24-4BDD-405B-9202-8320ECC9F41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 type="sldNum" idx="1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215-D860-4D57-9869-88AC77AA638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D71D-59EE-463B-90E0-875974E0F04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 type="sldNum" idx="1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F4AF-C60C-4A35-91B9-B618B9E0B5E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2DA0-8F5D-40F6-A6FA-1BFDECBF701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172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05EA-2746-4685-A520-CF2B63813AC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sldNum" idx="1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1CFD-E69E-45C6-A769-3E9CA3C2B04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24DB-2656-4EEF-90D9-399AE2D6219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73FE-A55C-493C-8486-B06102AF69C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B9FC-6E95-4247-AC4E-96097639398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 type="sldNum" idx="1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4FFF-C900-4ECE-80B6-E06575C412F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B737-4F4C-4FCA-89D0-E3FD8407888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 type="sldNum" idx="1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C0CA-0C39-4359-9663-5282E2B1E2A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3DBF-9CB4-4FC4-9969-A83F8152561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 type="sldNum" idx="1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5A69-A01A-40FF-BF8B-FDA5977A119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3BB8-58C2-4CFA-B80D-6499248A1FE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 type="sldNum" idx="1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46B4-0B04-4CDD-ACE7-4A8EC411174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5D2D-C460-4200-9263-71599096F35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4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4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FAD8-38AE-41F9-A7C2-609CFCC01D7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4F52-E9C2-4FE0-9871-42A3D7A9962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sldNum" idx="1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EA22-7BC3-4C42-91A7-73F9B262676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8F13-2560-4BCF-9580-52EA96D222B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ldNum" idx="1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CCD9-10C2-4331-A501-69085B5D613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dt" idx="145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ftr" idx="146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0634-CBF7-4804-81C6-58F3F277D4C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7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578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2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ldNum" idx="1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0977-12B6-4C0D-82F1-88EB48630C5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88C1-546B-4E6A-93BE-4C07A535952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F248-C5FD-4331-A2C1-C8C5F75BC22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64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sldNum" idx="1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F31F-39DC-4737-BB32-94E72A0F9BA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26B3-F528-4D86-BEB7-758CBEADE04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1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sldNum" idx="1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92AC-F927-4F3D-BF42-C45E4DD669F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D9BF-360E-4A48-B64B-8D9F698D472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8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 type="sldNum" idx="1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A56E-1E65-4473-BA05-CC22FCBE8DC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0898-AF56-4F9F-B5B0-72280452AA6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84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E255-37DC-46B0-8BDE-18C04F2EF32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0492-741D-4A9F-8A00-B89B57E46DB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1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sldNum" idx="1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5071-55BD-4453-97FF-C359C726160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BB0-6393-46FE-8D37-AA9B256758D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8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sldNum" idx="1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2251-6AB9-4CD7-95ED-9004C1446E5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A7C5-659E-4CD6-9618-ADC9B0CF671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05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 type="sldNum" idx="1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9BAB-518C-4A45-8347-435AC47F8C2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57B5-FA97-479C-8A4B-C355C9EDBB8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2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 type="sldNum" idx="1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D4C5-C82B-4A51-895E-CE8BD20C93D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3C50-0CB8-4852-81DD-37417839E4B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8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sldNum" idx="1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A6BC-CA05-4C65-A300-F0AE28FCFA7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3B04-3192-4029-92B4-FE786C21F39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25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 type="sldNum" idx="17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5A31-EFB9-4786-94A6-0A88D4B3630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135A-C39F-40CC-AD1E-047B66A77826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806A-D10C-4955-8146-22853AE2843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32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 type="sldNum" idx="17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A05D-5050-4655-A4D3-45BCDFE9E65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 type="dt" idx="17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 type="ftr" idx="18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E6BB-F77C-4609-8DAE-FEECF5C111C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393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sldNum" idx="18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814F-0A7F-4A18-AC5E-743E1646F2C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4F2D-1316-41BA-BBC3-F738B2B12B6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 type="sldNum" idx="18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D8A5-E80A-419D-9931-C03B7CD525D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0924-9F8A-4BF2-9D62-50D341B36AC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 type="sldNum" idx="18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E569-CBCD-4015-809A-0735CF0051A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6C71-C4D0-44C2-A81A-335319D0F88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sldNum" idx="19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4A76-93D4-4311-9328-FAA859F9B29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770-8EAD-4B48-B783-F1FF7F7DF5C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dt" idx="1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 type="sldNum" idx="19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540E-0756-4D25-B80A-703315373DE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12F6-7B30-44D8-9A99-922995EE472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dt" idx="1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 type="ftr" idx="1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 type="sldNum" idx="19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05A4-AB26-44B1-93BA-88E8170FF90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882E-F062-4C1E-8B34-A0F9C265764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dt" idx="1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 type="ftr" idx="1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 type="sldNum" idx="19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6999-3396-4E46-B903-E1C4130FA75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6AE4-8CED-4CE2-B900-34B52C17C82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 type="dt" idx="2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 type="ftr" idx="2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 type="sldNum" idx="20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890D-FDCB-4F62-BDD1-58DED4D3FC9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68AD-F480-4A85-AFD0-B8E52890E7E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 type="dt" idx="2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 type="ftr" idx="2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 type="sldNum" idx="20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CA4C-6998-45FB-AC96-BD3F26CA93B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7" descr=""/>
          <p:cNvPicPr/>
          <p:nvPr/>
        </p:nvPicPr>
        <p:blipFill>
          <a:blip r:embed="rId3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D84D-0768-4A1A-A9A2-11A5A94DC4E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8F43-972C-40FA-92C1-75F391F46D3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dt" idx="2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ftr" idx="2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sldNum" idx="20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09A9-7A6D-49E5-8FF4-7E6BEBD5672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DB0A-1928-4F15-8CA9-1E24B7027A9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dt" idx="2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ftr" idx="2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sldNum" idx="21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757F-2F72-4C6B-9472-40C80043FD7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F455-618C-4215-8CCD-B3E8B9CADF7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ldNum" idx="21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A05A-BB75-493E-87E7-CF3AC7156AB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 type="dt" idx="213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 type="ftr" idx="214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6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17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8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9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0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1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2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3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4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5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6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CCC2-BF2E-472D-9E17-E2CB76D9E921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6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 type="dt" idx="2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 type="ftr" idx="2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 type="sldNum" idx="2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9C8A-899E-4043-87C3-B8D205C7DDC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2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 type="dt" idx="2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 type="ftr" idx="2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5"/>
          <p:cNvSpPr>
            <a:spLocks noGrp="1"/>
          </p:cNvSpPr>
          <p:nvPr>
            <p:ph type="sldNum" idx="2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A06D-FA57-4E72-BE64-699D4C09B84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7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dt" idx="2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4"/>
          <p:cNvSpPr>
            <a:spLocks noGrp="1"/>
          </p:cNvSpPr>
          <p:nvPr>
            <p:ph type="ftr" idx="2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5"/>
          <p:cNvSpPr>
            <a:spLocks noGrp="1"/>
          </p:cNvSpPr>
          <p:nvPr>
            <p:ph type="sldNum" idx="2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B8B6-D68E-4519-BD32-2731612C985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2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EB27-61DD-4479-8DFF-806B2D71679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7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 type="dt" idx="2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 type="ftr" idx="2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 type="sldNum" idx="2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8828-BD2F-4FE0-ADF9-1116C28697C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2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dt" idx="2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 type="ftr" idx="2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5"/>
          <p:cNvSpPr>
            <a:spLocks noGrp="1"/>
          </p:cNvSpPr>
          <p:nvPr>
            <p:ph type="sldNum" idx="2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DE57-245F-4B97-9F01-F29D37C96AE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Afbeelding 7" descr="haal het beste uit jezelf_RGB.png"/>
          <p:cNvPicPr/>
          <p:nvPr/>
        </p:nvPicPr>
        <p:blipFill>
          <a:blip r:embed="rId3"/>
          <a:stretch/>
        </p:blipFill>
        <p:spPr>
          <a:xfrm>
            <a:off x="2340000" y="3429000"/>
            <a:ext cx="4824360" cy="646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31A5-A83E-4D00-87B0-7C41AD7FD76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8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dt" idx="2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ftr" idx="2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 type="sldNum" idx="2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15D6-2A6B-413B-91BE-7FDCA4E1101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3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dt" idx="2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 type="ftr" idx="2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5"/>
          <p:cNvSpPr>
            <a:spLocks noGrp="1"/>
          </p:cNvSpPr>
          <p:nvPr>
            <p:ph type="sldNum" idx="2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38E7-9236-445C-9154-3FAADFCEFEB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8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dt" idx="2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4"/>
          <p:cNvSpPr>
            <a:spLocks noGrp="1"/>
          </p:cNvSpPr>
          <p:nvPr>
            <p:ph type="ftr" idx="2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PlaceHolder 5"/>
          <p:cNvSpPr>
            <a:spLocks noGrp="1"/>
          </p:cNvSpPr>
          <p:nvPr>
            <p:ph type="sldNum" idx="2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E8A0-46EC-4DD5-8B8E-61F85DC088AF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3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 type="dt" idx="2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 type="ftr" idx="2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 type="sldNum" idx="2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C8C0-BDE7-4797-90BE-D71E3AB34BEE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9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FE98-4268-41AF-B785-B7B1C96F23E0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4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7" name="PlaceHolder 3"/>
          <p:cNvSpPr>
            <a:spLocks noGrp="1"/>
          </p:cNvSpPr>
          <p:nvPr>
            <p:ph type="dt" idx="2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4"/>
          <p:cNvSpPr>
            <a:spLocks noGrp="1"/>
          </p:cNvSpPr>
          <p:nvPr>
            <p:ph type="ftr" idx="2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5"/>
          <p:cNvSpPr>
            <a:spLocks noGrp="1"/>
          </p:cNvSpPr>
          <p:nvPr>
            <p:ph type="sldNum" idx="2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1C25-B08A-4690-BC5E-D1ABAA4882A0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9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 type="dt" idx="25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 type="ftr" idx="25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5"/>
          <p:cNvSpPr>
            <a:spLocks noGrp="1"/>
          </p:cNvSpPr>
          <p:nvPr>
            <p:ph type="sldNum" idx="25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4294-3EA6-41D4-B050-B3732F1783B2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64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 type="dt" idx="25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 type="ftr" idx="25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 type="sldNum" idx="25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108D-2157-4220-89B9-7984E11ABDE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0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3" name="PlaceHolder 3"/>
          <p:cNvSpPr>
            <a:spLocks noGrp="1"/>
          </p:cNvSpPr>
          <p:nvPr>
            <p:ph type="dt" idx="26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PlaceHolder 4"/>
          <p:cNvSpPr>
            <a:spLocks noGrp="1"/>
          </p:cNvSpPr>
          <p:nvPr>
            <p:ph type="ftr" idx="26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PlaceHolder 5"/>
          <p:cNvSpPr>
            <a:spLocks noGrp="1"/>
          </p:cNvSpPr>
          <p:nvPr>
            <p:ph type="sldNum" idx="26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A32A-8DA9-4AF3-8087-F5A152F10B4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5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 type="sldNum" idx="26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127B-DD30-488F-A12D-74D05CF8E3D1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7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7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0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8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0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schimmel%20huid&amp;source=images&amp;cd=&amp;cad=rja&amp;docid=pqq8v0m-_Xyv1M&amp;tbnid=uJKapSVmd59xzM:&amp;ved=0CAUQjRw&amp;url=http%3A%2F%2Fwww.begeleidzelfstandigleren.com%2Fbiologie%2Fectoparasitisme.html&amp;ei=XNHCUazCBov5sgahhIDADg&amp;psig=AFQjCNGqkhKqHnueB_ik0K0m6po0kKIT9g&amp;ust=13718084344409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0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0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 en 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14" name="Picture 5" descr="Afbeeldingsresultaat voor summa college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179280" y="5097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: wel of niet ziek?!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Afhankelijk v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irul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Weerstand van de gasthe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cubatietij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Incubatietijd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tijd die ligt tuss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binnendring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verwekkers (de besmetting) 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uitbrek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cubatietijd viru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254160" y="1125000"/>
            <a:ext cx="8891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 tussen besmet raken met het micro-organisme</a:t>
            </a:r>
            <a:br>
              <a:rPr sz="2600"/>
            </a:b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en het optreden van de eerste ziekteverschijnsel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Verkoudhei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uur tot 3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Griep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4 tot 48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aterpokken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Rode hon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Noro virus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tot 24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epatitis B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6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IV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6 maanden tot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ens incubatietijd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drager</a:t>
            </a: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 van virus, dus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besmettelijk voor ande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ruisinfec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 type="subTitle"/>
          </p:nvPr>
        </p:nvSpPr>
        <p:spPr>
          <a:xfrm>
            <a:off x="826920" y="2705040"/>
            <a:ext cx="633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fectie door een besmetting van patiënt op patiënt in het ziekenhuis/instelling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Arial"/>
                <a:ea typeface="Arial"/>
              </a:rPr>
              <a:t>Doorbreken van de infectieketen/ besmettingskring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lgemene voorzorgsmaatregel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hygië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andhygiëne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beschermingsmiddelen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solatiemaatreg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Persoonlijke hygiën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1" name="PlaceHolder 2"/>
          <p:cNvSpPr>
            <a:spLocks noGrp="1"/>
          </p:cNvSpPr>
          <p:nvPr>
            <p:ph/>
          </p:nvPr>
        </p:nvSpPr>
        <p:spPr>
          <a:xfrm>
            <a:off x="684360" y="169200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Nag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Haa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Baarden en snor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Siera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Zakdoek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Werkkled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nietigen van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ro-organism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3" name="Picture 4" descr="ouderwetse sterilisatie"/>
          <p:cNvPicPr/>
          <p:nvPr/>
        </p:nvPicPr>
        <p:blipFill>
          <a:blip r:embed="rId1"/>
          <a:stretch/>
        </p:blipFill>
        <p:spPr>
          <a:xfrm>
            <a:off x="2484360" y="4653000"/>
            <a:ext cx="3743280" cy="2004840"/>
          </a:xfrm>
          <a:prstGeom prst="rect">
            <a:avLst/>
          </a:prstGeom>
          <a:ln w="0">
            <a:noFill/>
          </a:ln>
        </p:spPr>
      </p:pic>
      <p:pic>
        <p:nvPicPr>
          <p:cNvPr id="4954" name="Picture 5" descr="sterilisatie instrumenten"/>
          <p:cNvPicPr/>
          <p:nvPr/>
        </p:nvPicPr>
        <p:blipFill>
          <a:blip r:embed="rId2"/>
          <a:stretch/>
        </p:blipFill>
        <p:spPr>
          <a:xfrm>
            <a:off x="4878360" y="1689120"/>
            <a:ext cx="2700360" cy="2770200"/>
          </a:xfrm>
          <a:prstGeom prst="rect">
            <a:avLst/>
          </a:prstGeom>
          <a:ln w="0">
            <a:noFill/>
          </a:ln>
        </p:spPr>
      </p:pic>
      <p:pic>
        <p:nvPicPr>
          <p:cNvPr id="4955" name="Picture 7" descr="instrumenten"/>
          <p:cNvPicPr/>
          <p:nvPr/>
        </p:nvPicPr>
        <p:blipFill>
          <a:blip r:embed="rId3"/>
          <a:stretch/>
        </p:blipFill>
        <p:spPr>
          <a:xfrm>
            <a:off x="720720" y="173196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Reinigen/ desinfecter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Reinigen is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shoudelijk schoonmaken, poetsen waarbij niet  alle kiemen worden verwijder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Desinfecteren is: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ntsmetten, ziektekiem vrij maken, Micro-organismen vermind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Sterilis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doden micro-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Ontsmetten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9" name="Picture 4" descr="betadine 2"/>
          <p:cNvPicPr/>
          <p:nvPr/>
        </p:nvPicPr>
        <p:blipFill>
          <a:blip r:embed="rId1"/>
          <a:stretch/>
        </p:blipFill>
        <p:spPr>
          <a:xfrm>
            <a:off x="5796000" y="3141720"/>
            <a:ext cx="2890800" cy="3217680"/>
          </a:xfrm>
          <a:prstGeom prst="rect">
            <a:avLst/>
          </a:prstGeom>
          <a:ln w="0">
            <a:noFill/>
          </a:ln>
        </p:spPr>
      </p:pic>
      <p:pic>
        <p:nvPicPr>
          <p:cNvPr id="4960" name="Picture 5" descr="schaafwond hand"/>
          <p:cNvPicPr/>
          <p:nvPr/>
        </p:nvPicPr>
        <p:blipFill>
          <a:blip r:embed="rId2"/>
          <a:stretch/>
        </p:blipFill>
        <p:spPr>
          <a:xfrm>
            <a:off x="2987640" y="1197000"/>
            <a:ext cx="2751120" cy="1500120"/>
          </a:xfrm>
          <a:prstGeom prst="rect">
            <a:avLst/>
          </a:prstGeom>
          <a:ln w="0">
            <a:noFill/>
          </a:ln>
        </p:spPr>
      </p:pic>
      <p:pic>
        <p:nvPicPr>
          <p:cNvPr id="4961" name="Picture 6" descr="hand antisepsis"/>
          <p:cNvPicPr/>
          <p:nvPr/>
        </p:nvPicPr>
        <p:blipFill>
          <a:blip r:embed="rId3"/>
          <a:stretch/>
        </p:blipFill>
        <p:spPr>
          <a:xfrm>
            <a:off x="2916360" y="2997360"/>
            <a:ext cx="2280960" cy="2950920"/>
          </a:xfrm>
          <a:prstGeom prst="rect">
            <a:avLst/>
          </a:prstGeom>
          <a:ln w="0">
            <a:noFill/>
          </a:ln>
        </p:spPr>
      </p:pic>
      <p:pic>
        <p:nvPicPr>
          <p:cNvPr id="4962" name="Picture 7" descr="wondontsmetting"/>
          <p:cNvPicPr/>
          <p:nvPr/>
        </p:nvPicPr>
        <p:blipFill>
          <a:blip r:embed="rId4"/>
          <a:stretch/>
        </p:blipFill>
        <p:spPr>
          <a:xfrm>
            <a:off x="826920" y="836640"/>
            <a:ext cx="1189080" cy="2665440"/>
          </a:xfrm>
          <a:prstGeom prst="rect">
            <a:avLst/>
          </a:prstGeom>
          <a:ln w="0">
            <a:noFill/>
          </a:ln>
        </p:spPr>
      </p:pic>
      <p:pic>
        <p:nvPicPr>
          <p:cNvPr id="4963" name="Picture 8" descr="DettolBrown"/>
          <p:cNvPicPr/>
          <p:nvPr/>
        </p:nvPicPr>
        <p:blipFill>
          <a:blip r:embed="rId5"/>
          <a:stretch/>
        </p:blipFill>
        <p:spPr>
          <a:xfrm>
            <a:off x="0" y="3860640"/>
            <a:ext cx="2400480" cy="240048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Wat doen antibiotica?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6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70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Doelstelling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volgende begrippen kunnen omschrij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cro-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ir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imm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acter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uisinfecti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bro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cubatieperio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ronisol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R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accin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keten verkla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Leg uit hoe een inenting werkt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8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1" name="Picture 5" descr=""/>
          <p:cNvPicPr/>
          <p:nvPr/>
        </p:nvPicPr>
        <p:blipFill>
          <a:blip r:embed="rId1"/>
          <a:stretch/>
        </p:blipFill>
        <p:spPr>
          <a:xfrm>
            <a:off x="611280" y="762120"/>
            <a:ext cx="67262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/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9" name=""/>
          <p:cNvSpPr txBox="1"/>
          <p:nvPr/>
        </p:nvSpPr>
        <p:spPr>
          <a:xfrm>
            <a:off x="324000" y="1929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metting: Het overbrengen van levende (pathogeen) micro-organismen van de ene plaats naar de and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fectie: Na besmetting het zich handhaven en vermenigvuldigen van ziekteverwekkers waardoor een plaatselijke ontsteking of een ziekte van het gehele organisme wordt veroorzaakt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   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Viruss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Hebben </a:t>
            </a:r>
            <a:r>
              <a:rPr b="1" lang="nl-NL" sz="2800" spc="-1" strike="noStrike">
                <a:solidFill>
                  <a:srgbClr val="f92242"/>
                </a:solidFill>
                <a:latin typeface="Arial"/>
                <a:ea typeface="Arial"/>
              </a:rPr>
              <a:t>wel</a:t>
            </a: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 een gastheercel nodig om zich te vermeerder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verdracht via contact of luc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Bacterië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270000" y="206064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n principe overal aanwez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vermeerderen: tweeën 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elen kan iedere </a:t>
            </a: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 minuten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nafhankelijk van gasthe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bben wel voedingsstoffen nod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5333760" y="203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verdracht vindt plaats do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contact, voornamelijk via handen, apparatuu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lucht, aerosolen,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Schimmels en gist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immels en gisten                  (bv ,spruw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Komen overal voor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immels vormen sporen die jaren inactief kunnen blij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0" name="Picture 6" descr="http://www.begeleidzelfstandigleren.com/biologie/voetschi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141720"/>
            <a:ext cx="3648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4" name="Picture 13" descr="scabies%20mite"/>
          <p:cNvPicPr/>
          <p:nvPr/>
        </p:nvPicPr>
        <p:blipFill>
          <a:blip r:embed="rId1"/>
          <a:stretch/>
        </p:blipFill>
        <p:spPr>
          <a:xfrm>
            <a:off x="4489560" y="1566720"/>
            <a:ext cx="4267080" cy="386100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35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6" name="PlaceHolder 2"/>
          <p:cNvSpPr>
            <a:spLocks noGrp="1"/>
          </p:cNvSpPr>
          <p:nvPr>
            <p:ph/>
          </p:nvPr>
        </p:nvSpPr>
        <p:spPr>
          <a:xfrm>
            <a:off x="1371600" y="2923920"/>
            <a:ext cx="7772400" cy="15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ormen (aarswormen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intwor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Mijten (schurf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Tek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uizen (hoofdluis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aamlu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7" name="Picture 6" descr="luis_op_kam-206%20px_tcm92-42312"/>
          <p:cNvPicPr/>
          <p:nvPr/>
        </p:nvPicPr>
        <p:blipFill>
          <a:blip r:embed="rId2"/>
          <a:stretch/>
        </p:blipFill>
        <p:spPr>
          <a:xfrm>
            <a:off x="179280" y="5229360"/>
            <a:ext cx="2743200" cy="1411200"/>
          </a:xfrm>
          <a:prstGeom prst="rect">
            <a:avLst/>
          </a:prstGeom>
          <a:ln w="0">
            <a:noFill/>
          </a:ln>
        </p:spPr>
      </p:pic>
      <p:pic>
        <p:nvPicPr>
          <p:cNvPr id="4938" name="Picture 9" descr="Lineaal_tcm92-42317"/>
          <p:cNvPicPr/>
          <p:nvPr/>
        </p:nvPicPr>
        <p:blipFill>
          <a:blip r:embed="rId3"/>
          <a:stretch/>
        </p:blipFill>
        <p:spPr>
          <a:xfrm>
            <a:off x="990720" y="1176480"/>
            <a:ext cx="2743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4:36Z</dcterms:created>
  <dc:creator>GRRU</dc:creator>
  <dc:description/>
  <dc:language>en-US</dc:language>
  <cp:lastModifiedBy>Kievit, Eline</cp:lastModifiedBy>
  <dcterms:modified xsi:type="dcterms:W3CDTF">2020-10-02T13:24:11Z</dcterms:modified>
  <cp:revision>47</cp:revision>
  <dc:subject/>
  <dc:title>HC 4</dc:title>
</cp:coreProperties>
</file>