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86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85.xml" ContentType="application/vnd.openxmlformats-officedocument.theme+xml"/>
  <Override PartName="/ppt/theme/theme64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87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88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</p:sldMasterIdLst>
  <p:notesMasterIdLst>
    <p:notesMasterId r:id="rId103"/>
  </p:notesMasterIdLst>
  <p:sldIdLst>
    <p:sldId id="256" r:id="rId104"/>
    <p:sldId id="257" r:id="rId105"/>
    <p:sldId id="258" r:id="rId106"/>
    <p:sldId id="259" r:id="rId107"/>
    <p:sldId id="260" r:id="rId108"/>
    <p:sldId id="261" r:id="rId109"/>
    <p:sldId id="262" r:id="rId110"/>
    <p:sldId id="263" r:id="rId111"/>
    <p:sldId id="264" r:id="rId112"/>
    <p:sldId id="265" r:id="rId113"/>
    <p:sldId id="266" r:id="rId114"/>
    <p:sldId id="267" r:id="rId115"/>
    <p:sldId id="268" r:id="rId116"/>
    <p:sldId id="269" r:id="rId117"/>
    <p:sldId id="270" r:id="rId118"/>
    <p:sldId id="271" r:id="rId119"/>
    <p:sldId id="272" r:id="rId120"/>
    <p:sldId id="273" r:id="rId121"/>
    <p:sldId id="274" r:id="rId122"/>
    <p:sldId id="275" r:id="rId123"/>
    <p:sldId id="276" r:id="rId1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notesMaster" Target="notesMasters/notesMaster1.xml"/><Relationship Id="rId104" Type="http://schemas.openxmlformats.org/officeDocument/2006/relationships/slide" Target="slides/slide1.xml"/><Relationship Id="rId105" Type="http://schemas.openxmlformats.org/officeDocument/2006/relationships/slide" Target="slides/slide2.xml"/><Relationship Id="rId106" Type="http://schemas.openxmlformats.org/officeDocument/2006/relationships/slide" Target="slides/slide3.xml"/><Relationship Id="rId107" Type="http://schemas.openxmlformats.org/officeDocument/2006/relationships/slide" Target="slides/slide4.xml"/><Relationship Id="rId108" Type="http://schemas.openxmlformats.org/officeDocument/2006/relationships/slide" Target="slides/slide5.xml"/><Relationship Id="rId109" Type="http://schemas.openxmlformats.org/officeDocument/2006/relationships/slide" Target="slides/slide6.xml"/><Relationship Id="rId110" Type="http://schemas.openxmlformats.org/officeDocument/2006/relationships/slide" Target="slides/slide7.xml"/><Relationship Id="rId111" Type="http://schemas.openxmlformats.org/officeDocument/2006/relationships/slide" Target="slides/slide8.xml"/><Relationship Id="rId112" Type="http://schemas.openxmlformats.org/officeDocument/2006/relationships/slide" Target="slides/slide9.xml"/><Relationship Id="rId113" Type="http://schemas.openxmlformats.org/officeDocument/2006/relationships/slide" Target="slides/slide10.xml"/><Relationship Id="rId114" Type="http://schemas.openxmlformats.org/officeDocument/2006/relationships/slide" Target="slides/slide11.xml"/><Relationship Id="rId115" Type="http://schemas.openxmlformats.org/officeDocument/2006/relationships/slide" Target="slides/slide12.xml"/><Relationship Id="rId116" Type="http://schemas.openxmlformats.org/officeDocument/2006/relationships/slide" Target="slides/slide13.xml"/><Relationship Id="rId117" Type="http://schemas.openxmlformats.org/officeDocument/2006/relationships/slide" Target="slides/slide14.xml"/><Relationship Id="rId118" Type="http://schemas.openxmlformats.org/officeDocument/2006/relationships/slide" Target="slides/slide15.xml"/><Relationship Id="rId119" Type="http://schemas.openxmlformats.org/officeDocument/2006/relationships/slide" Target="slides/slide16.xml"/><Relationship Id="rId120" Type="http://schemas.openxmlformats.org/officeDocument/2006/relationships/slide" Target="slides/slide17.xml"/><Relationship Id="rId121" Type="http://schemas.openxmlformats.org/officeDocument/2006/relationships/slide" Target="slides/slide18.xml"/><Relationship Id="rId122" Type="http://schemas.openxmlformats.org/officeDocument/2006/relationships/slide" Target="slides/slide19.xml"/><Relationship Id="rId123" Type="http://schemas.openxmlformats.org/officeDocument/2006/relationships/slide" Target="slides/slide20.xml"/><Relationship Id="rId124" Type="http://schemas.openxmlformats.org/officeDocument/2006/relationships/slide" Target="slides/slide21.xml"/><Relationship Id="rId1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 type="dt" idx="27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PlaceHolder 5"/>
          <p:cNvSpPr>
            <a:spLocks noGrp="1"/>
          </p:cNvSpPr>
          <p:nvPr>
            <p:ph type="ftr" idx="27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PlaceHolder 6"/>
          <p:cNvSpPr>
            <a:spLocks noGrp="1"/>
          </p:cNvSpPr>
          <p:nvPr>
            <p:ph type="sldNum" idx="27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407A-0CC1-4596-B624-2A26A9ADD1F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EF46-3CB2-4681-BA5A-1A8E9AF256F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89AF-0E69-4D92-86C5-B1CB30B0FED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0769-C337-4EAF-96A8-B5DDF249D03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1E29-5F11-4CC3-BC0F-B9EB390CB8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8929-7F25-462E-9A60-B59CB6D04CF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2422-EC2C-4D19-AF42-AA3351AEAF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7124-4BB6-4848-9283-9F735E11CA2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FD18-1E3D-4099-A0C5-557D5309712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9A51-0057-45CB-A50F-F2792F6168E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2955-2999-44C4-ABC1-4787BE94E0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91E3-E6E7-4404-9F4A-0DF9EF847AB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50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A789-CA3B-45ED-AC90-E8DDC4D2154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0108-FAD1-472A-8C0D-F0D11710CB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D3C0-878F-4839-92F6-498BEE3FF65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DF70-9D43-425D-9C00-C98EC376915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F6A6-863A-47C2-A8AC-67BCD183DCF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73A9-CCC1-46A1-8992-29F2FC43896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E2F8-3CCC-4899-A5C0-3CFA245F0CA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f92242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2795-FB7A-4E44-82A4-07278C92BCB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CFB1-02B2-4FDE-9C70-82286DA99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1345-3E56-49C2-BFC0-BBAE719A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7E627E-D899-4A66-8B24-F6DE7870A99D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58319353-0112-48F1-87E7-F584D544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652969C9-722F-4A9B-B98C-82733423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FE77028-FB87-4C0F-BF0F-55331FCF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7F37D90B-1072-4F35-9CA1-2E6239B5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60F5D82-6EEE-47EA-83E0-66136450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D970E36-8319-4965-B2E7-EC6C34D6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09A8F4A-B8EA-4A65-8180-C0E91085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2C7F478-42FE-4F73-B333-824EF2C0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8B5215A-D9A2-4253-9183-0644866B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FF3E80A-AD4D-48E1-9269-9F10C86B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994048-0AB3-4B5C-BBC1-D85F4D114110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4BCBCB56-FFE5-4190-B6E6-A65FC0C0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D260B9A-788D-4789-8648-ED51DCB7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4B7D681-82DA-4D8D-A5E4-37B459E8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240EF17-7193-4F6F-AA5A-37C50644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0308361-D20E-4976-A308-EF1DBF95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0D56DE1-CD0F-47BA-8880-EBF39A6B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A33E311-0431-4BF8-AD33-EF36DF2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87A7C0F-F675-447B-A0E1-3718F209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155C2626-31E7-4313-8FC4-E8BCFAB9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3A7E485-34A7-4C18-A354-8842C1CB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03B5B-A694-4424-BE09-6D68F2519ABC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087AC7A-C116-4983-87F8-7A600969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F3420C8-F684-455E-AC44-53ACEC28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F6911D7-89EC-47A7-9FDF-FA481120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F5630D92-6D45-4461-BF40-05979C3D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DB2F8A0-457E-4E05-8CA9-EAA52C7A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712BBA2-CEE8-4900-8B02-84D4F3E0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A1E02BA1-4A8E-406B-BD1C-4CE0650C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C653830B-0FB5-4764-A490-B92AEDCE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EE3CC7B-9A4C-430A-9B6C-E19CC239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DF69CB3-F414-40AB-A12A-9D221A3E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F5307-83A7-49F4-B069-77583D440509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FFA86860-A04C-41D6-A8C3-EDF077F7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47DE64F-B622-4781-8D05-0E85F908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3376766-3B06-443D-B015-584BEDB1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CDD4991-C08C-42AB-812D-4AAE8DD4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A1988C6-4BBE-4739-AE56-2775025D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68EF1D1-CE2F-43F3-91B5-5105DEB3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54032C1-3420-413B-8E0E-5CA2F91E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DEA13CB-1174-4318-9384-DDCA5EF6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2A0005F-DCB3-4FA1-BF46-C2980D66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40624FE-2E83-4775-A175-4A8FBC58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FDE693-88F8-4CC0-B44F-E4F86F9560A4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2C8F39F-542F-4DA8-A830-815554D1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FC2E886-E17B-4441-84A9-BC315EB4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29E8FFC-113B-4837-B1F4-869311C2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161DE45-9CB5-496A-BE25-153EF49C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69A544F5-0921-4E86-A10A-D95A5C99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27D618C9-8D1F-4F26-8E38-97F9159C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E4F76E90-A517-4684-B02F-9DEAE3C6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5C831E7-6945-446F-B94E-0BA232E7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C8833EE-80DB-4FEF-833D-DBDA9C50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0DD975D-9834-4209-9523-CD0CE970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8A2843-5E00-4D83-AD90-449B6BA8CF4C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2C65358-1EA9-495D-9C2B-4D2F0947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07F408DB-B48A-40FA-AFE4-6BA15527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A9BE4C8-0AAF-4652-837E-3583D001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ED86DB4F-FBFE-4DD6-B108-00AACB27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79711D5-F720-4C6F-95AB-14E9B0DD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3D15EF1-A514-492F-804C-47287E6B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E86A8370-0C50-43A7-B29F-2E9CF7BC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66BFBE4-323C-40E5-AD8A-5503CD36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56F2224-D55A-4C4B-81DD-CC83C8E2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10AB72E-D598-4878-91EB-A871AFD7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06558-EF46-4ED7-B976-387E1249CCE3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7D6C427-DB1B-4F6D-8FDD-B6703ACF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1E63B66-95E1-4B8A-866C-455BD22B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5863A7B-4333-4218-A29F-E23369BF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513DB44C-3628-4D2F-9BDE-FF23ACD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22004037-25EE-492F-9887-99A0B296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1F4B2E0-D2FE-4F2D-B9EB-762FF612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900177F-00A0-45B0-A8B7-0A8AB3F1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E1076167-9078-4C6D-9E45-242685AE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DA0E8161-2994-4870-B1BE-D38BA69A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8458B04-B9DD-4BB7-81B0-BB64C143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E121C-80D1-482C-A068-D82FEA3C2B2B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CAB9591-E326-41CD-B661-25E90DE1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58D890E1-1FAF-4D19-91BE-7EBB61C0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15BB3303-F316-4D91-B457-571E0733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5938C7A8-96C8-42BA-98D2-B87B1251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D93687C-51FB-4615-8A50-0A016FFF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483C712-1C27-433D-AD03-7E013746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94CC31B-846C-438F-9223-91969D6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D83E99E-E796-4614-96B1-E3D1F459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FCA551F-9CBD-4E2E-ABF0-DD77588E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D623376-ED3E-4C87-AC4D-49D63465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E89B9C-074D-49BA-BD2C-08C42A9A80A6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50D2D451-CC69-4077-BC1A-A2C65E71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10C77B38-B07D-4054-BF25-3733B738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1DEA92F-DEDA-488E-A895-9378C342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405ABA6-69C9-463B-BA7E-ADF36A88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1A70D526-3AAC-4BD3-B89C-88AE577B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4D2AA75-7267-4013-8980-295EFB44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C0CDE64-C833-4090-8E89-48DD1E99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54FC00B-EF75-4307-B57F-03187CA7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4A6DF65-DD3C-4F8A-AFA1-3900ACA0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192668CE-CDA9-46C9-8D5E-9F49B3AF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7065A-DD5B-4AE0-A465-56DCDFDD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403BF940-FEE8-465E-BF28-432228A9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875C05CB-8539-4659-8FA0-D5DB7E70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E4AA0DD-AF85-4227-96C0-9FD5AB29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E658D6A-F90D-4C21-ADA0-5F7B1208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3C6D1C0-A628-4B0A-9898-72B2B396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5B85898-7C38-4387-B479-12C44913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B7645A0-D42A-4073-AA3A-6B53D237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EA9DF9D-D80B-4638-BD25-AD51E07A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9FA50B1-FC28-407F-8589-0FA17062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65593A0-7F55-45B0-900D-80885D54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58C3-871C-4278-8438-CC6C9716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9C01A-6C40-41D0-BBF9-F0FD7C86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B298BB5-8F1B-4613-84AC-8F9CC19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394FBFC-93B5-4D43-A148-0F258C2F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8A6DC92-B12B-48E3-A64F-833D9FBB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7F568262-9D9C-4080-B2BA-0AEA2119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B68416E-C3E0-45CB-9A26-E31699B5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FCDBACB-D199-453D-9DDC-79B5E792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332646C-E2EF-42DB-ABF3-5085F26F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BE9BA6C-B937-41D4-9F21-F809CC86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3F8B3F1-9F24-4552-84B9-F0B93891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A76788A-CC16-494C-8EF2-9B3878D0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6B4BB-4D87-4F15-BB1D-F8829113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C97712E-2EA4-4D3A-8EE0-52917166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21D81A9-B22A-4D73-9B22-3EB0250F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370F69B-DC29-4EA0-B275-8BA46E9A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5C9A96DD-5E97-4692-B577-7B3F4608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66C78E8-177B-45A9-A469-638BB1E5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1088702-0E2D-4FF9-8FEF-EF7FE4DB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A64CF7C-93AC-4529-9485-3D7BF109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E33FB0F-8EE5-4197-BCE8-719A1F6C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594278F-2480-473B-9D59-C17D961E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01CB6D1-B761-4CEA-8721-C6272493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4120E-B232-4BA5-AB1D-03BD7E61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210AA54-6CB2-416C-B75D-6A5EC1E5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924001C-6698-4808-B1F5-F4EFE9E0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A20548A-98AB-4A4D-9453-62FA2BFA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F9E1CB55-8DED-4D85-AD38-F7694C93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E89060E-D462-49AC-B48E-05794B91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20F35BB-4455-4BF8-B17E-7192C28D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F67D9A5-3A3D-4619-B62F-8E1B5F60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32B0026-8AB2-4E27-A011-867191FB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337CCA7-6199-4CD2-8F96-282C6A40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1FCAE75-5FAB-4FAF-BF8D-CEE599D0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123BCF-8DBB-4E40-ACE3-2E2FF35D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F01F618-F9DE-4750-8F5F-3E26B380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55CBD47-9A58-440F-9F10-D1354578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8312D92-1DAE-4E65-85A6-C488108E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F2411C9-1FB1-42F3-8F32-A331EB0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7D74D93-319B-47E1-AAA0-E01210E3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E972B8B-20DE-4247-8B07-1D5393F6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336BF2E-FE85-45C5-9182-D92BB62F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7404E8B-435A-42E8-90AB-0453CA06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AF20056-9EDC-473A-8995-4D7D73E3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A7D2143-8BFF-4684-80DC-FAD75CC0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2459E4-4C5B-4A42-81ED-80C4720A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5709359-5646-4B18-8178-997EE9C8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B0C73F6-3490-4C5B-BBEF-D2443DBC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4BC6EF6-0368-4653-96C7-1D684FF3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4909A8A-5850-4A94-ACB5-69CE251A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7138856-B7BE-46E7-B0D8-1322141B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0D43ECA1-265F-4F25-969B-8BD6C504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830E09B-812B-4244-8BBC-A712C2FA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1392B25D-E4DC-4EF9-9494-A3239951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5A5F77ED-1820-48F7-8B2B-E49C80B1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ED717D3-EEAF-471B-B4D1-661B3DA2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45D298-1184-4F28-AE85-3993F8E0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8C0BD39-3B0E-4AD1-910B-C53C0FAF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2F3BE28-D765-4A75-BE5B-1244F11C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434157E-6BB3-42B2-9248-552F281A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5E2ACEB9-B478-4DFD-BC23-BB977EC6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285A10F-DB4E-4DCE-9AB2-CC6E42D5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40BB902-AEF0-44F1-A350-97B2EF6C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2065EA6-D23D-4E7D-8516-C405BDDC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5EAABD5-7F9A-4556-AFA9-30C83ED6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EFCA20E-3CE7-495B-A4EE-65437E9F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A9F4C79-A7DE-4B2C-A850-78A7B970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1D3BEA-E62C-45F4-B155-837FD001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3E567C5-E7D0-414A-AA7B-12C1D5D5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E3788B78-67BE-402D-8611-396B9060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98A16B6-ADD5-4CC0-98B5-40A8A56B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4752DAE-DDB5-4736-990E-0F12A5BA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306C546-CDFC-4E6C-8D68-64D47434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71EA840-ECC4-4A84-A985-753D4883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1043A53-9781-4E0E-9F4C-458EB049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02D1114-D083-4E05-B242-DC748196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E238CA9-AEB6-44F5-A340-7ED36976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3899C2C-75B4-4E37-AFA5-4E1C0A2E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4E541-E397-4991-880F-3A0CCEC1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C6E47C3-1E64-4C3D-A264-F63A4E83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B7EB597-F304-42BA-9BBA-C52E63B1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2AA2BE1-F21C-4327-8948-EBF80A36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0CA5B7CE-E036-46BA-866C-8B62CBDD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C06AD2E-CC28-4505-BAAA-2C04AE23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AA18F62C-E35C-4F7D-A3FA-041774E0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F2B2E8D-422A-480E-B6A8-3D8704CF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ED6451E-AB2B-48E3-A8C4-13D06C1B80F0}" type="slidenum">
              <a:t>&lt;#&gt;</a:t>
            </a:fld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4DD6F84D-9ADE-40BA-A157-711AF5C57CF7}" type="slidenum">
              <a:t>&lt;#&gt;</a:t>
            </a:fld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DA081441-24E0-4282-AC08-DE666588AEB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EE080-DB17-459D-B0AC-993BB25E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A6A283E-0C7F-453B-9C80-0BAD6AAEF1EE}" type="slidenum">
              <a:t>&lt;#&gt;</a:t>
            </a:fld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0E3F92D-3987-459B-B672-A9D6101077F3}" type="slidenum">
              <a:t>&lt;#&gt;</a:t>
            </a:fld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E0D846E-7FAC-408A-B552-8DC469D06BD4}" type="slidenum">
              <a:t>&lt;#&gt;</a:t>
            </a:fld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E469B4DD-A977-4186-B360-07FA010FD2A7}" type="slidenum">
              <a:t>&lt;#&gt;</a:t>
            </a:fld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ED1FF9E9-C11C-48B0-B02A-FDD83D52991F}" type="slidenum">
              <a:t>&lt;#&gt;</a:t>
            </a:fld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E1EF7BA-BE17-4A50-A29E-D22102719806}" type="slidenum">
              <a:t>&lt;#&gt;</a:t>
            </a:fld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F196107-F6D2-4AEC-85BE-A310D54E339E}" type="slidenum">
              <a:t>&lt;#&gt;</a:t>
            </a:fld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4B6A48E6-1A18-4C7A-9BC1-CED3541F219F}" type="slidenum">
              <a:t>&lt;#&gt;</a:t>
            </a:fld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B059DE23-0BB3-4D3A-80A8-4EF478DC596E}" type="slidenum">
              <a:t>&lt;#&gt;</a:t>
            </a:fld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4BCAF80-212A-48EF-BDD3-C8DE1D4A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94C06-DD8A-4AFA-8F4A-99DD4E8F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ADBF5D4B-9635-4DDD-9A90-26160135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1641DEC7-56CD-435C-AFB6-FE293C87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34E5C8AC-3E50-474F-87DD-B035FEB3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58CF49A-55C9-4AB5-B817-0C4DFCBC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0AA9382F-44E5-49CD-A13B-8EB170EC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15CCCDB6-13CA-4E76-9087-0DDCFE68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703D0AEC-D1B2-4C8B-A2D9-7D5E718A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350CC192-FDEC-49EA-BAF4-448A94D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ABA6735E-5F58-405A-8587-2D74CFBB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749ED50-7AF9-44E7-893F-02AE236F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0ADE-8E30-4292-A651-5D9320B6CD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E3701-4A23-4F85-AFA6-97BC28F2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728A7020-CCC2-480E-B3D2-650AD1D0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F2D531E-054E-492A-AF84-EEDB7774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5F455A58-9595-44EC-BF8F-18726563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52D802B0-D27C-4AFF-B942-30406A9F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E5FF3369-429D-4B7E-93D8-4120425E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2FE721A-A4C4-4A2A-AA92-BFF5B862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4342EFF-BE9F-4DDB-9174-ED8D046C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42BEC9C-2E02-473B-B1F3-E1366AA8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36655749-E866-4936-95D2-E5D3026E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7B32F67-A309-4AA3-943D-2A75662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AF1E28-AF25-4876-85E2-1725196F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A06D113-3844-413F-9DD3-E0E48E2E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C2AC156-485B-4744-A7CA-64F02E53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DB2B01F8-5047-44EC-A4D5-6D89994C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A57F6A-512B-471A-BC8D-3D362D5A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1E83D0-5922-44E0-831A-06F738D8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FEBFAD-A221-4756-880A-ACBA2432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A43212-99D0-4D4F-ACD6-E778560D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DB5DA8-CCE5-481D-9488-336506B6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3B746E-2380-4337-86D1-DC43D5CE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0378F1-752D-4890-BF4C-9975FBA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0A97F3-300B-4633-9964-198535A4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0CD19A-AF86-4F8D-B878-3668D1DA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5B4E53-2A40-43AA-9310-64E35054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EE5BDE-CF01-4476-90D8-E848E605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13096E-5DEA-4CD8-82BF-FFEB971D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4DE210-EEEA-4227-B95A-32A690AF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EE49D1-28C4-4F02-B3EB-93F325C9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FFDC89-79AF-41CA-8A14-394765B5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25B6CF-FB18-46F5-A1E4-8967A4B3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942B67-6F48-4CAF-B4DE-44FB13E2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2AC2ED-7949-4AFB-9382-298373FA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245F1C-27BA-49C8-9937-7F627CC6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97A6C1-BD36-42AD-BDC1-79F21A4F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4D1BB5-8CF3-4DF4-A6B6-58DB2D0A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F35E8-509A-49C6-B9FD-C43736FA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A73CBE-40A4-4AD3-BFF5-6509656F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C01C32-E974-4CC9-89BF-B34DE504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592499-2747-46DB-848D-B918443D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495392-E824-4F21-A0C6-50FD19A7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C62D3F-2954-4220-A96C-CBFBE71F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853B8A-30BD-4D56-B604-7332BBF3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D5A617-9ADA-4177-B044-7849A685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E77AC1-AA54-4C1C-9A20-F6E6FF68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D4E2CA-9468-4277-962F-35CF179E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5045B5-B05B-434A-B405-235510AD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EBC1AE-3DD7-498F-9EA7-A534DC3A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1B3F7B-429D-417E-9CF9-8DBD3EAC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AEAE73-F1A9-44C6-8A18-347BA5B5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D3A52A-1A36-4698-A6AD-9C1B9DC5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122539-FEAE-41BA-BC4C-330D92B5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35C513-F305-429A-A29F-D3B94A28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40B6A2-9981-42D6-9F23-CEB830AF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E473B8-3EF2-47CA-9923-6B535616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0BFFBA-F8A5-4523-A431-60097957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8A8E3E-A48E-4D87-B53B-55CEC25A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33A1F2-7156-450C-8AF5-A9B260BC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2A6FE8-E3CA-4250-835E-F6C5FF39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08ED91-D53D-4F49-B017-F63F71A8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6D59D9-6D64-4A9D-9FA8-5ED06C8E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F4D4C4-F85B-494A-9158-291F19B7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4B821-6FFB-45F9-A5EC-1C169591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8B608-8BC9-4AA7-B12A-F6CC3B58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D5F57-D7F6-4DDB-8F61-169D40B0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53BBA-C31F-4A75-9209-9E5C0B7F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6E84A-D8DD-4B37-96B1-C18BE155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13687-2B46-4653-B191-D2B4A5A3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31140-5C41-4B8C-9491-DE6FD317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3120A-24E6-4B1E-9B30-F6BB3B26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C0686-0E92-4016-A5DA-55B4146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C8512-8BE7-4141-B9D5-499DB471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38077-B8CB-4079-98BF-4BA6A83F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60629-A4B6-45EC-B3C9-7723F048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4DACD-D523-46BF-B4C4-87E650C6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34F3B-B061-4486-BFDF-41319890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63889-699F-4AEC-AEE6-82CE76E3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CF82E-676F-468B-8B84-1843CEA3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96915-600D-4CC3-BF75-A81A14A8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9ACA0-CE3A-4DE0-BE9C-9873FDD5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5A12D-8BBA-4A38-B2C6-E3CCE27D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C638E-3EEE-4B49-B3E4-5E7490E6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3A002-628D-42C4-A342-B4982171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37DFD-362F-4446-8076-7AFC4D38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A3C94-0C9A-458C-84B3-1C8BD66D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484B4-4771-4CFA-A4C2-CCFED779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8AB379-E2CC-405F-AF11-61689117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D65F9A-D9EE-4EAD-84F6-C797D969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C58B79-5D7C-4CB1-A797-0B270AB7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71AB9C-9CE9-4F84-9596-B2577038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345205-55F9-40BF-AAB3-B11FB4D1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DBEFF3-2FA2-46F2-98C6-BF631B88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E9C6B9-FD01-44C5-829D-627F2306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7115-4164-47E6-B9FD-26EC7A2F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3294DC-4FE0-4417-BFA6-72C17D37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76F77C-ACBB-45C4-BA04-123E0CEB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30CEB4-D05B-4200-919B-06D746C8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877C1F-5564-422D-9B3B-559F9C66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F762AA-A423-4295-A238-41921E90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CB0D5-62DE-41BE-BF47-458B20F8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5A36E-F4F9-4A24-910E-CF8C4C90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C0514A-6272-461A-9C6F-414CFB35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2BDA3-68B9-46C4-BDD9-3B3E5C2C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27324-792D-47C6-95EB-22C0C947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D258A-153A-4039-886F-04E4C5CF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85C27-3BDA-4618-BACD-C4A8B4AE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8100C-06B1-47A6-9E3B-DF8FEA63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4BADF-68C2-4972-921F-4994EA59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3DFF4-64B2-4E12-9B81-CF8E393F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41DDB-14E2-4EA7-9E3F-B6FF3563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B75DE-CB5E-49EE-B630-EADB0E39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B58EA4-B0B2-4E82-814B-99AD084F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B1DCB2-023A-4367-BB26-796E9A97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1CF39E-1C28-4751-B38E-9E4ABFA8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388F89-D4E6-45F7-A2ED-0743D1E8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768313-922F-4D6F-ADFD-98466DF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510015-E7D7-4CE9-8FB9-B09D84EF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FD36A1-E8B8-4CA8-9895-9C4D622D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E8CC79-E4D5-4D99-8CB3-4EBB4232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E84BF1-1B67-42F9-A33C-4A85985A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C34DE9-54D9-47E7-A788-0908A795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519EDD-B163-4AA7-A3BB-FFFF1FF0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BDACA8-FD37-40A7-8907-8AFD7336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8960C1-613E-4753-865E-03360E3A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573369-7C78-4D9D-B90E-809A5F87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0222AD-3441-4EC3-83B3-1257F140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4A2CFD-99B9-48FF-AE1A-720FA74C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933B03-2516-427B-AF4F-11760CB1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F1E453-1317-4B75-93C5-FFCF396D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564A4E-F7B1-4A45-8623-54095C9F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EF6E19-9E6F-4177-A427-7EF58143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C19F88-3651-408B-8EB6-EAE0125D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551F00-425E-4F3E-87A2-AAD57D0F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A8567B-D131-4A2D-855A-31E410BA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1634E1-246D-4726-95F5-9BCD3D8D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B410F4-95A1-4801-8CDA-DB460762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70025A-18C4-4435-B5FA-70305A60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6C7892-143C-4E9E-A612-8C9E0B5A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28B0B8-9EB2-4CDC-9F28-CE90D60A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9B6AFC-E0A9-473C-82C2-C53ED1B2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919595-A02B-45CA-B55E-E5D60009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4A313F-1BEB-4E24-BEAD-6EFB8F0C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009E6D-CC52-40BA-91B5-5E49E962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2CC4AC-C275-4414-8EEC-7E8A44FE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BE2E40-317D-41FB-897A-6B0A779D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798314-63B0-43FB-9F30-2EDA779A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9FF25E-B3D4-4AF1-8857-13BCF3CB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A04082-9E87-449B-BFA4-A6E0D0FF8F2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65CF5B-0906-4CEC-8DF4-E899CF0AEF7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C3488C-1EC7-4410-BD1B-C8120C74E80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AB1D01-A444-4DF7-B24B-F07F6848CFB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F1C473-2DF6-4BB4-9A9E-ED2B3AEF018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45AEF2-EA1A-4E35-9B2B-B56E942475D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EA7CE1-F575-4398-8330-F5AFC3E9E9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0EFD54-B792-41BD-B6A7-C948D8F3ED7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8624B1-7826-43F8-B8FC-3C7499F0E19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7D65AE-530B-412D-827C-807F9CAD84D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CF99E6-B42B-4F8F-946F-388D0718FCB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F43C77-D4C5-4936-A765-736FDC54CF8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1B5D3C-C22D-4214-A90D-08A16408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7EEE77-7B6A-4BA5-A92F-FB73637B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93BE9A-A416-4778-B75A-60E05C46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E25818-ED26-4A38-9AB4-9D9C875B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2C48C5-C783-482D-9B22-7FA8D7CA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D94912-8CA3-4222-BC93-082FE4EB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76BD69-6851-4154-B921-1DDBB51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253A5D-A934-4E4F-A00C-549644D8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67B47A-23E5-4837-B1F1-3807C717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24F55B-D76A-4CB5-A73C-233B1DB5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B558D0-448F-4FD7-9A06-D63733C3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6DFB20-4B0A-4929-AB5B-998C7E10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A87F61-C9EC-440D-BF6C-754EB8F1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0D0A5D-94E4-423D-9CD0-580B7AD4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D574E7-795B-4AC0-A195-E28DBE3C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D8040F-D369-4BCD-89FD-1D3F3478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A1154E-D2C0-4073-9C9D-D536765E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0A21AD-9D92-44D3-9688-EB59E884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01EBD5-7AE5-49B4-A3E7-1FDEB7F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21BD3E-EC08-45B1-AEB4-96F31DD9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A9F791-52F7-4ADF-8E86-3CE062B8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C4BE82-E9D7-4E20-9110-CE3FBE2F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328E93-DCF4-4B95-AE5E-16095D1B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01E92B-93E9-4573-B6AF-ED1B86F7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B00B08B-DACE-43E8-A64F-42A48B89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AA67AA-FD89-4D5B-8DAC-B301039D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910F7F-B14D-43CD-828C-41415C0E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A9753A-6897-4FF1-9447-8374C24D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AFF190F-E781-48D5-B502-439EF521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614B17-58F1-41B9-81F1-DC5EFC9C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4AC30D2-CFBB-4854-8A8C-B5E76F9A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1180B2-6657-495E-B483-A2505F95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7E9236-B8D5-4277-AF49-40EAD3A7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8EC55A-B55E-4804-93E3-944A0AB9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CE3AF8-9AAE-4B12-97DC-07A3A079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7B85-26C6-4F27-9B3B-774F8C33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1FC3AC-9B69-4AA4-9E21-799969CB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73AD1B8-7FAB-437B-9411-EB455A5B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23437F-F8F7-4864-9A88-10A4C17D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9E8865C-6A45-43C7-A4F1-6A00FEF8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42F5E1D-8F78-4E22-97BC-7BD8035D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854798-C559-4CE7-AFEC-15BDDE02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DFF6FD-7642-40E3-A51E-E73776F5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39D44C-E941-4FAA-80AB-3B93187F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3012FF-7245-4ED0-908A-778E957D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33BC3C-572C-4BB2-84BE-0F300E05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909C12-187D-4EA0-9161-EF6C7AAC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EB53B6-23B0-477D-862E-6272BD22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74BAED0-AAFA-46D6-9FB5-A1C749E5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111CA3-DB20-416C-824E-1BEE82B4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A9EF756-4158-4E48-A456-575E9B31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5DD39A-5804-4824-98A3-CAE9F78C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8FA4C05-0A85-4A78-BD76-D8F51439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D25DEAE-BDA5-4DA3-92F8-D3990EE8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CA880F2-6AAA-4D23-A994-1A09EDB8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0BBDDAF-BF14-4FF5-B8B7-99ED3CAB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45ECBD-7952-42B3-8AFA-E3DB1819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CCDC38-E5C5-4417-9210-5B9C9B73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A312A00-4CA7-47A4-AEB7-47A81B82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DB33F29-7798-4049-A94C-2192458F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BA45C77-2775-480E-AD3D-04B54302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D027A7C-2CD5-4445-B835-E32F82C2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146144-2EFD-4B86-8D9B-50326967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A68FE8A-70A7-4E04-A6AD-9C7B7000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992F95-1D28-4437-816D-B02EDFDD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F1BFD4C-7E45-47BD-A36E-0B0B29F8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65C75A1-7911-4B2E-9D27-B3443311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79AFECA-5962-4A5A-9B17-B7278377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D350783-7A24-4C09-97B5-786125A2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FF0968-5C02-48A6-92E5-8B46AB02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EEF94ED-23E7-49F7-8270-F6AD1395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8A8CCBA-09FC-407F-9C57-659EB83B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19E1DED-CC4F-42A5-8F16-F37117EA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4EBD512-8993-4CEE-BE44-FF72DE31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1838359-87B9-44BD-841E-2A7C5AFD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C39F733-81EB-493E-93EA-AB96E112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1C89732-3EA9-4D93-837D-CB2D9085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FE31C37-804F-4CEA-84BA-04427874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EF00A03-7C07-4E39-AA40-D19B9380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E26375-3740-4683-AAB1-0E22BDE2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3B1531D-5806-4986-AC36-77FDB383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B1D973A-FD2F-48BF-9DF9-5EBD425A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7BA447D-137C-4872-B797-88CAD21D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4281C94-CF90-4021-8A51-0B69B0CF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AF73375-4D6E-4ACE-9EAA-0FC7668F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DAA835E-1EA6-443E-9515-B51DF764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1ED97AE-997B-49DE-B2FA-5A2BCEB1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370A293-EF1D-4AF7-81CE-75DC191C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DA4976-A89B-4B47-93C2-805E81B0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7BE28AA-1B0F-4B9C-AB79-21AD84AF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7824F2A-2979-4AC2-BD03-3AC6F8AA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36B7D9D-B10B-4558-937E-8C4D589D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F65C9C3-7A75-4245-A51D-9B26BD83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354FB2D-C15C-462F-BBDF-C33736FB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2DD8BED-BB80-418B-8310-1DC4EB95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3233809-BC24-498E-AD6C-EE0F3B8C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918ADF-9C71-438A-B658-83B967F7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FD41B14-60A3-4DED-88AC-3D44D748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9245AFF-798C-4C43-A32C-13065925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2B1C4EB-CFB3-4460-B4BF-E9AD9380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B400970-008D-4EB4-BDBF-1CF38FF0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30A0B96-4001-439F-955E-F2196307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83838CF-8557-450C-AD46-7D8A7306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BEE8343-0D7F-4300-8A6E-B60799E4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3FFFD3-83D0-4235-A250-D542B96D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3DAB912-1D45-41A9-B929-45BF6B05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A7E8D96-FCA8-4071-9E4C-9FBA23EC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AC761DC-2DCC-4A94-B279-80CDD736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3EDCCD9-A83B-4A07-ADD9-F664B0EE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1E29063-A8D0-4639-9540-B12DDCF4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CB62355-BAEE-4AFC-B1C6-3ABE4B63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4FC0C30-B060-4A38-A3E2-8D9DE6BB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7FD6FC1-E4C8-432F-AF09-ABBAA170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F9F7CB8-739A-4EA2-958B-1FAE51CF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69982EE-B6AF-49FE-8398-256EC56C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9B20E3D-11CD-4E90-B13E-09018A05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21AFFE-F997-4D12-A3AB-B18D6F1D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6095FC7-E102-4C2E-923E-1E474005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0349AD-3103-473B-B85B-BA8CC703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EC44CF4-2499-4F37-9366-6476920E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7C4A5DF-0737-47BE-862E-0A24D0EF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D211F5-104A-4873-AB9F-370BFA97C2F3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406D87-B68F-4896-9737-C34147DD234A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FB1066-5773-4363-8830-0F35CF863BFA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BB787D-BF16-4358-A09B-8579A6573DFA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6FC26B-3A1D-45FD-8E6B-042160EA15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E7F162-7460-4351-A098-3F096883759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066678-304B-4AA2-8F11-E60490D4E851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5E6518-24D1-482A-A575-2C7B440591C5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A03936-CF83-40AB-9624-58BFAA2916AA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AEE812-6D7F-4B6B-9D59-C9BADE9B87A9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1F1E9C-7710-4B10-9409-0F678624E474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F14F29-289B-4473-8322-094559597BD1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ACC0E6-BAE3-45C8-B3E8-BDEED4A4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78617B-6733-4F2F-8F41-7AFF6BC6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DD1337-83A4-45D9-A212-D1322F3F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FEF1-AF41-4313-BDFB-A01EF2D4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4A4FC0-8C3B-43B1-9159-6D135F06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DCA712-831E-4259-92EB-BAD0316D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82A8FC-FBF6-4873-A633-3EEEC6DE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984A2E-B64D-45FA-977A-89E46328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631184-4117-4322-9D86-5FAF7705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C9118F-E375-4A04-BE18-B82E1A2E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CA623C-3234-4ED7-AD73-88B2E996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32B53E-63E9-4BF3-A3AC-F6287975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9B19A4-A147-40DB-B024-E538CF88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0AC4A35-35F5-442D-85A8-6FB831F4BC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D03DC3D-410E-4BBE-9F13-75A990DA8D0D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963DAEC-DBDA-4DC9-BF55-5AA72CA99D0C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A2AFD25-5E46-4D1F-A8F6-0D9EA87CF609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36C6E81-AC19-45D5-B345-B5B52D90217E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99431E4-5EF3-4AAC-83EE-39F2B0008902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B4DF09C-9D08-4E24-A0E3-F4D7562A4B5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46F73AE-59EB-4738-A4AA-16BEB2D5A7C5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B28A173-7AF8-4132-86FF-C17F6A4FB80E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9AC7CCF-8FBE-4462-9B17-572D7DF4B167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ED0C59B-6037-4000-AF20-6EDA6AC3C1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EBC9986-4A4F-4D2D-9D17-F6AC748E011E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C4199B4-BC73-43A1-BCFC-B250A80A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31333FC-D330-4666-8D70-EA3DDE90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B9DF045-7F93-4254-AE2B-97012221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B87423C-13CF-4A57-A472-5A04C5FC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4132C1D-CC33-40B0-A39E-34C8F2F9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D452E21-B9B6-49C4-9D01-8E1F73F2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6249A46-1E3D-4DEA-BF7F-31A83AC8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37A7A66-BE94-4458-91EE-A70195D0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26B2B37-3B85-427A-8D7A-0640A6C6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17FFEED-6DED-4516-9763-3D3BC488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BDB25E4-4E1E-4C75-81B9-E855B228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3EAB7F3-6EFD-4550-AE2F-6DB90437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58B2A76-AE2F-44BD-8280-D4EC7FB0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50D2433-BDF5-4A9D-A7C9-B0A58168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8D29AD5-E4EF-423A-A0E0-F5C39651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E94B375-9569-4192-A56C-EB589660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87179B7-4E43-4BEA-8372-78E7C0EB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D49455A-AE70-4A7A-98DF-0F6F46CD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75F12E5-B255-4791-82C2-60D6472C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49B1689-20AB-43AE-9406-6DAC4857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11BBF8A-7FE3-4F27-A5B7-33A1BE33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EB6F827-58BB-4099-8FAA-F70B30FA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7231667-8A00-420C-833A-7674B530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BB42E6F-6DCA-45F6-92AE-41C4F6D1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BEEE764-60ED-4B9A-BA49-3B6942B1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5634E4D-F12B-4027-9F0A-87FD766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7BE6E18-2D65-4838-A1DD-947C1195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90F1004-7901-4DE4-8DB6-F76F35D1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A72493A-D26D-45BB-89E1-B3D6A68C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B81BC2F-232D-4A5C-BB2E-189B8D51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80E7181-62B1-455D-855B-8C68341D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DC3E5A3-FD05-4756-98E6-EAB90BB3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BEC97B9-5B99-4C9A-88BC-C0BF6C7E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1816CA0-1F7C-4272-A4F8-6FAF8EC0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0155BB0-89C4-4879-9664-C66E4434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A22C7EB-3BD7-4CD0-9566-F653DF59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9ED5789-FB37-4B8F-B1C1-8CBC4C6E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C444F76-3B06-4C39-BAA6-E7ED830F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234B4F9-FDC4-4279-839E-BB92C362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D1BE69-A2B3-4636-A035-D97A5C17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3FF3399-2518-40F6-9A2E-22CAED68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B66997F-0FE4-4738-A3B0-9D53C2F0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3BF9D10-48EE-475C-8424-CFC55973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F5E2E12-42FE-49FC-AFA2-FA55864E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F82860E-A6F8-4B51-BF72-08346D9F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2E08360-7ED2-4FA7-9974-62656482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82D460E-5531-4AAA-B5F5-205E5D2E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AFC6708-4F2D-4C28-AAD8-299FE236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DD17CD7-049A-46AC-8EE4-AB1ED341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9BD16DA-0425-4E49-9550-84A9D0E9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857E2AF-0339-4316-975C-4C8ADEF9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7115F29-C55A-4C2E-8417-BD0E74C0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E35C975-B961-4DF1-9877-1DC3BC2E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697418F-A261-4818-8A2E-7EAD00C5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FF927A4-9510-4BE4-AF81-FCE38447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9C50BA7-453A-41FB-91FB-59C2C4F5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CC2A0AF-A6B4-4F4F-817C-87C21C81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868DD51-B9FF-44F4-8B2E-A1FB8467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D8A0C58-680C-4440-A858-0CBAA7AB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0037440-E971-4249-816C-FABF6289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7E3B714-B859-404B-8724-EFC72506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3582EFA-9D1D-4CC6-9B4F-339737F3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220F407-1B64-4CCC-81DF-F76C192F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FD106C6-375C-4D02-8C3D-8A17B2CB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26EC280-BA3E-4C5E-93DE-4ADE92D7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6A3D310-181D-430B-9E07-43E26D4A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C236EC6-E0E0-4D20-8D88-AD0DE0F8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6CE8A94-1D15-4170-8DC3-9D0CCD19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743B992-3AD5-4264-A56B-CA31E03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5586672-D807-45E8-BFA3-945BC803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DBC045D-45B3-4E0D-88D5-B7CDBB7F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9A8E67F-22E6-46D9-B587-C51A8C51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EAA322F-D09F-4071-B018-FE522CAD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A29444E-532D-467F-B582-08E28201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1BB2A52-5135-4D38-AA91-5BF0B9CC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A692CBE-8DD0-4CAA-B59F-5EBED5C1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D13E8C8-FD1B-4F7E-B162-F02D4D15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1E9ECF0-71EB-42F9-A5E6-394929BD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0191413-780E-45FD-8723-DBC3D6C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5690-B738-4D0E-AB30-3088026E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C8A459E-CDFB-4D21-A109-12A07A96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84E3C65-C2DF-4A81-B0D5-67A761CA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131CFFC-31EA-4EA5-8B69-9C7E20B0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1AB8701-6A1F-4F07-AD2B-88BE986C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8F267A4-5F98-4A73-A21E-C001DC50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3D2BC91-F6E4-48B7-BD20-95DD835D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2A3CB6D-4DA5-4565-BF3B-0CAC5621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64DCA8A-1A86-4B0B-B99B-66592093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B33143B-B701-43B9-8657-B3D6CE05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3B6FCB0-34A0-46E9-8F75-9F6858E1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78744DD-3211-4798-8FCF-B5243D9E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77434F0-BACB-453F-85DA-9AE225CB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E934575-6138-4E25-AF38-39B54567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F023BEF-A270-443E-8A4C-8B02887C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9FCB872-508B-47D7-9604-FF313082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884C619-31F3-4D60-9406-6FF0564A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E2E35B9-3B23-417E-BF1B-0ADC0E48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8C51BA0-B303-41D3-BBE2-0DFD7902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19D7011-EC9A-4352-846B-ADABD895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2AD5B67-3F05-40CA-A404-880F9D61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D4988CE-93B2-477B-8E27-30F76EB0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ED082FF-E931-4FF4-8C29-87A6206D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88A7763-FCD6-4648-96AF-39477F54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3C66D6B-C8E4-4F0F-83D7-96AA241C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7DB6158-1DD0-49BE-80CD-99DD4DC0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D70D5BA-4A74-4B43-86CA-6417B2FC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4E269FB-80CD-4BC8-B6B3-F9A26287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4EC0FE8-F320-43C0-B7F3-89EF46C1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9B4AAE6-1513-4A78-BDAB-CCA3E9AE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309728E-B5F9-4B6C-BEA0-8536EE7F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4526F35-3DBE-4274-8C67-C23AEF2E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7A82CF1-6D43-4EB2-AC20-4A27CA2A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B9F9537-79A5-4B58-ADFC-8E7317A1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ABAB229-9344-4B50-BEAB-8DEE0CE3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B07E38C-C8DD-4329-84FC-624AFE86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308CCE0-6DDB-429D-ACB7-F8D26DEF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8BB16D8-C653-4874-9C42-890E7085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85F7D21-34A3-449B-92CE-EE4A9CF1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AAABC62-AF27-4313-8C88-7225D25A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6657274-1103-487F-B7B4-248B92F2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061C1D3-861F-439E-8FCD-25E5534D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2A45051-0462-4261-9324-7D4D6CC8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03AE328-0BC7-4B7B-96F9-83B03E5A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452173E-76A1-45ED-A243-DA0EA8E5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5D88A88-4878-421E-AEE4-B28FBB1C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5555CA9-1BCD-4AFF-B5AD-F031C019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A5A34AD-8C15-4C54-85A5-1531D13F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CB4CE05-550F-4366-8270-CBC9EE5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B05C145-A496-4B80-8C4C-35DE5AD9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E3F8485-1451-4CEA-B3C9-79FEE04F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D17927C-3DD2-4EC0-BB5B-C9B98F5F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8365C15-1904-49DF-A144-1250F792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6635808-23E5-4B43-9E0C-202E0B6F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C52D1FC-76D4-4BB1-9DFD-2CCC93D91EAD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8FE2EF0-0DE6-4438-9129-5660B2AC349D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E03D2AE-730E-48A4-B15B-9A3919D8920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0F3A91F-C4A4-4636-A83C-C47CC93EAF1C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053DF87-3173-445C-B796-38BDFDB01381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52A7860-1350-41E0-9EAE-665FB5BED778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8C42E1E-07F5-414C-A0E8-7F7D92778C6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891B861-4184-42B5-9B0F-FE88C5DF7347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1EBF327-17DF-43C3-919A-46B443099D35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D595CBA-A7BA-4CE3-9269-F8671B3595FB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30F0CF2-A134-4C9A-B40F-6ECE144F0A50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0CED84D-4A31-4F46-89C1-8F59B9344F70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E122630-6B31-4441-96C2-F5E08D9E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36C6E17-C4E8-4EE0-AB9A-C8D24016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A3EA908-C2DD-4D49-99A8-98D7F352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4B5A3AC-500C-4237-9E4D-6FD62476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04A8A39-DA8E-4039-B88D-42CF8894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EF0BA9A-9392-4BB8-8CE4-5E1846B8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3D9360B-EBB8-4F31-8D58-41A8999E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FF4BFB6-8888-4BEF-B161-73116ABD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EDD7B98-53AC-423D-ACCB-AE3565F5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7522898-1712-4953-AFED-F7A6E29E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FD12023-D1BA-4476-9D29-C89F35E1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CCC2B64-1C58-42E4-8106-951353B4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21FD9CC-1D27-4CCE-91EC-C4215DDF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8AE0CB6-4D9B-4F66-8EE2-BF353FE6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22ACB97-637B-4174-98BD-A3EFC229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DC4F6D6-0324-4084-83D2-6150D798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8549626-8A27-42EE-848A-5B516517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A78D8C8-DCFE-4410-B4F1-275AC3D4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1DDE480-C944-4723-AD92-835E2728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576A889-525C-4A73-BD8C-4300734A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DFAF028-E975-458F-B5BF-E746EF8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DCFF1C0-1A84-4A55-8CB2-411E2AF7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BA1B050-0CCB-4F64-9D36-AED328F1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3974A79-0D85-411A-A2F9-052065D4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E32DADE-5819-4B55-A8BD-DE9D5FCC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AAC2758-7302-4F8C-AE5C-A3F811FC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51EA52E-4BE7-4E5D-8BAD-514EDE16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DC4CC43-DA91-4489-AACD-D67DDAB0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19B33FF-9509-467E-80D6-D89480D6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0CB8CB2-0B35-4845-BF45-FA4A6822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061E563-CBB1-4F53-B238-F8A9BCD6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2F47211-7516-48E2-8F2D-79ABDECE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BD8CD24-843B-4F19-863D-17B1316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5C46364-6F46-4858-9B2A-68769150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95A3DEE-4C82-45FF-BE64-E0988896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4CB9-E733-45A6-B954-D8E6B5DA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2A2C5A2-397F-40B6-A117-5AFE4E2D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C702075-B3C8-4FEA-8906-5C70943C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A888DC0-6EB2-4FEC-B172-89F8920D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F29E584-767B-495F-85BF-D441D337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F885239-32BE-4BF3-AE1A-444231BC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DE26B0E-67C8-40EC-9208-8971815C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C223EEB-719C-4195-8670-DA64353A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5569C7A-EAC8-4A60-B8E1-CC3C299A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8D4BB5C-A068-437B-8014-9DB4BE37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9532EB4-EF0F-4ABC-BBB3-4BAE7BD8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CC0460C-7175-4E4E-8630-38D2E02C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07984E8-C9DC-4792-A047-CAF15A0D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D3B46AE-F082-4F8E-BE0C-C4E2ACCB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D0E5B18-6C7D-421D-B0D6-2C530F6A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C02493F-8E46-4D82-BD36-133C7E93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285F4DB-1C15-4A99-911C-A949041F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24B547F-4FDA-476B-B33F-BB0BCC96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475B858-0659-4165-BC80-219BB286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AF332B9-1925-4E77-9DCF-0D87491D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699A917-2D1B-4EFF-99F2-F75E216D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06DE6C9-D86B-45F8-9D56-40393E79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CEF0042-E023-4ACD-9544-64E72AAB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3CC58E3-AB4C-43DB-9F07-549AC40F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51D7356-6275-4A5B-A399-8A2E8CF0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79A4F03-2563-4F18-A83F-FE207F74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80E3F77-5DF7-4A17-9559-895C519B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01051DE-1C63-467D-95B8-12CA6EB4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9BFA53F-F02B-472C-90FF-9AAE1D4A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5F1F2EF-8AC9-49FD-81C2-98FE7C84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0745644-FB6C-49C9-A265-D6A4815A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7072C17-3D55-4CE2-9D0E-9A43E990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70F579D-D464-4DF3-B887-BE433360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CD0EB90-9CC6-43F4-AB8D-E7A1D14B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B4180A3-C8A2-4DAC-B0C8-8F0931BE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AC4831E-70EB-4E81-BB1E-F1D03A69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A6CE0E2-F565-4D21-9F90-25B9FF48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04F84BE-3A21-4B4F-8125-4EBB3DB5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CC886E9-53AB-4BEB-B3E8-D3F477E6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C46BE02-1B5D-4449-BC9D-7B56D8CF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B247962-610B-441E-8EF4-33CB6392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E620780-3AD2-4AA4-89D3-56BC7474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1F402CF-DC93-42DC-AAB4-4B6F071B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85D0AF0-2123-4E01-9E40-ADB97121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47861CF-998E-45D3-9983-0431F179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26F841A-AB9C-4C42-921A-774C42FF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AEC6EC7-EC2E-4B27-90CA-53A4E989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D13E3E6-E252-4C88-BD5C-D38A8EAC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090BFD3-E8A8-499A-966F-4846F3F3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D1A7759-3C1E-40E3-8555-329C6088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88D93A0-C3E4-408A-8515-743F6936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D5AFB73-F84E-4412-A6E5-C4F6B2DB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A6ADE19-ED5E-4573-B5AD-C0B8B5B8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C5A15A1-2BA7-4FBC-A2A4-C326C819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D14D0C2-BAC3-4530-81E5-ABFFBBD6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807F93C-72CF-41D3-9170-657350FF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8E8E940-C7A7-4DBD-BEE7-94FC4E2B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BAC341E-C831-4975-A877-1EA3CDB0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82FE755-7BC5-41C9-ADDF-8F26D6FA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C310EEE-C2F0-4BA7-A707-DA5C97EE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6F95331-9EB8-4810-BF7E-198B71D5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4203CCF-2511-4753-8BFF-25B99B3A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FC67242-7AE8-479F-A980-49F6DF26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3855EF9-ADD9-47C8-B69E-00DD007B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07E6665-EB86-470B-AE2F-EF36ADB8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67C3692-48A3-477D-9866-1C66A263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76F4E2A-2510-40F9-85F6-2AAAD38A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BEC0C05-9CB5-4B76-9309-9B3EED14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913659B-3C58-41C9-9702-3BAC3E73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658F40F-ED39-436C-BDD4-D5BCFE28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7DFB8FA-619A-4E88-8539-3517430D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1689111-CE5C-41EA-B4B1-70822C18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52E3252-146E-4BFF-A577-7EC5F287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D77CE9C-FCE7-4A36-AEFF-37EC0A5A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B7AFFEE-DAE3-4E86-BE6F-70EE00A7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A605ED2-21EC-45DC-9D64-0AFA70FD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4E272B8-DE2A-4440-B7BB-0BC2ECE5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97531C4A-0985-45AB-ACD6-DE70936E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4600386-70BE-497C-90D6-2BA7CEEE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E7DD550-85BC-4311-B336-C272DABC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527BA7C-6D6B-4643-8D7D-C948C0F6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8617BBF-49DC-4EA7-96AF-D068F4C2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4641FA3-A7DF-41F6-990D-3CC51442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0D7922E-4133-4CB3-B80F-7F1ABF26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0004027D-4662-49D8-8F30-813E37FB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8E889DA-0F23-47F8-95D7-3ADC0C28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2430BC-9C84-4612-8D9B-66190AD8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F3FF8F2-97AF-4325-9911-FB96A85C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337BFD2-2057-4B74-9613-71F6DA7C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CF1841-DF08-4A18-834F-44F0D45E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8ADED3-1FEE-478C-B396-4F56B456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661421B-FDBC-4830-92B5-3EEA3357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C34392-3F3C-444D-830D-2F94C8D0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DADAC8F-6856-4E9B-A30B-9AAF9BB0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5984E00-4201-4BAF-B509-D95AC7D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0829802-98F5-4AC6-AC36-DA07F40C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7456E8C-5F03-47B6-B650-7ED6E2A9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E54D63-7144-4644-A62A-96B24ED7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42EA597-6927-458D-A0CC-1CF02DC21A62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97A80FD-370D-495B-AAEA-3E265C56F743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F2FA52-0C48-4079-91F3-1A609D478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15CA-BD08-4343-A099-F9603F56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0DA7A1A-B459-4CD5-A93F-E1369B8EA1BB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A61977D-D189-4F90-A398-F38BC489E481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947D5B6-AEB9-43AE-929D-A3CE2B7E92C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FF12300-1459-4753-A9EF-E524571F4FD3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24C3D39-7A60-4524-AA23-1F758F77F407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E53E25-2762-4460-993B-C37F0A57B9A1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7C501BD-9C52-4208-BEFB-2A6CBEC66F24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056366D-F3E7-4978-8179-2CE0744F6E5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2739F7E-A427-425B-8DAE-C1FC878E93D0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FE9872D-C672-4D84-B1B6-AA68DE25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B15C78C-465D-4793-8C76-7BB3A8FF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0BDB81-6440-4023-BEA2-C8A1BA69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BBD88EB-E135-4BF3-ADDC-32382AEC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F84AB01-557B-445E-9EB8-FDC290EF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8099051-B0B3-4451-8EE6-DE595F99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0D369F0-94CC-48DE-ACD8-23F19EC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2B27198-6917-49F7-BD9D-2AA7CB0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107CEA7-8222-4F1B-9FF6-7FE57940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51DCD76-73F3-455D-A07E-02EA1FE0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732845F-E740-4897-A393-8130E817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555C7AB-3DEC-4334-8D40-7A84E480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24DC540-6B93-4B9E-B4E5-9EDB79AD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DB83FA8-165F-4DE5-A3FD-B967462F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16888AB-6F14-4F1C-A0D3-2F0498BE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4E09E62-A7BF-4791-BB1C-8DFAE65F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62B7529-4710-4A3E-AFFB-34F1A71A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86E118B-8CCF-4191-BAFE-1D8AC83B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EFA9571-52F9-4783-9A45-8FAFD5E8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C07087D-FFF0-4FCC-B027-7D912D16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07A7B94-8408-4A98-8D41-3BAEC7F3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414B2-F892-45E0-946A-5A07BB92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361CBA1-8232-46A3-A5B2-FBDDFF71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08A5D2C-49B6-4147-8232-7B62F326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FBC5B79-FBC6-4369-B699-4160721E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69084FC-823B-4D92-91FB-96571C0A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021AE30-C26A-41D0-987F-1859ADB1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359F569-7307-495F-9403-3701D46C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FAA283E-495F-499A-8530-70000C84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FF81861-DD18-4FAD-BBDC-668E1395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C05B469-096A-4885-8BAC-BD7785AB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D5311F6-7921-4051-B1F9-4EE81E35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A3DCE-3C38-4CE3-8656-CD8B03EB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85697C8-EE9B-4E6F-8034-151D7B5F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EAC925D-30AB-4537-B639-86E5D8F8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87544F2-A126-4668-AB5C-4DD9F50B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07BBE7D-454F-4804-B089-9058053C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FC36637-609A-4D51-8920-7916779E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249BFD0-6CE1-47B1-8F4B-DE7AC73B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AC2407B-FFF0-48D7-92F8-C87427C6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B8192FE-9CBE-44C0-8A37-1A86A0BB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58D6017-2FEB-47BA-9FA4-E0403CAC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F6DB43-B8CD-4393-80A1-9BFBE184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51DCF-6106-4B3D-A05D-EBF370FA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FAE226-AC93-4CD6-939E-1B9C4343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3CFE4BF-F6D1-4098-BA62-605AD168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0139FC3-C741-4FAC-9890-3C8599D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9AAEDF1-E7EC-4DBC-A3AD-9C406435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71A91A6-DAAF-4C23-82FA-1B5A73D3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94864D7-E701-46A7-BB66-65D5E4AD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06E6BE4-4506-48F4-9872-309D81BE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4D71ED4-67D9-4E48-B9E4-63B0122D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4673E51-AD8C-40E9-B8FC-A562DD99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A751F03-37D6-4C83-BAA3-CD63EFF5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9422A-B3F1-4413-BAC6-B0B899F9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0F94FD5-3F9E-445B-B1EB-FA0441B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95417FA-9F30-4943-9FA3-1AFA7B2D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A638DC1-AC90-4326-BFD9-D52D26A3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133CDFA-50AE-451F-AA6E-AE1454E7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71C193D-F9B8-4C89-BEB8-4CFB86B7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6097C07-E367-43BE-B775-BBEC67FF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9CC72FB-A061-4CC1-9CE5-6D573E63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13958A6-570A-4392-8B53-452073A8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BF52E07-F70F-4108-83C9-C104892A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A9C0E9D-4540-453A-8B61-BDC17E64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BCB26-1D4B-424B-A767-F5356E1D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18C0FE6-9C0B-489E-8ED9-4B618A23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B34FFC8-DB68-41AA-9E3F-BBAB4BBD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EC05E0D-83C2-4DFB-B022-E476638D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4B90531-552B-450E-B8CF-CA0A5111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CB3B4B4-73B7-4717-BC59-172B91BB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A81482A-3F12-46FA-BF08-49855545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0108D0F-B38D-4EDE-B69A-5DFED5A0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86B3A01-97DD-4788-BF49-54BA4121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32DD3C9-5A4A-4586-A2F9-E851D94D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BD69018-FE4C-4D48-BF26-535C44C8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58985-1765-4D78-AC0F-086CFD0A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04EB330-2AB6-4564-905A-82134CFF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A39BE56-78E7-4376-8A0C-FBBF176F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421F6D6-15C7-4533-91DA-D2D4513C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982E230-4BF7-408A-BC78-A91A8F72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E805BDC-0AB6-47D3-9747-FC6B6AAD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967022B-25EB-40F7-B8A8-5DDF2227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6889ADC-A1BC-4AE0-82D3-1D8245AB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9B744B1-A8F5-4AF2-B849-BEA04D74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DFD666A-BDB4-4E5B-B29D-D333B7A6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13BC8E7-7160-41C7-8329-1F8F3153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F59C8-CD3C-4D73-AC54-B2E654BE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44B9772-03F9-49D1-BD45-9AC893C5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EA5C53B-A27C-42FC-A4FC-44650168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F6254D3-BD60-4086-96C5-1FF3D8E0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CECBEB2-A808-4BAF-B2D7-E8B6EA89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7D0D644-7503-4A89-A89A-33D7EAD7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FE28850-F4BA-434F-875D-EAC89372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A4FE515-7CAD-4335-A0E7-6ACB7A32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6F50034-3E24-46EF-AC45-C8339F85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3C5A61F-EF17-4436-9AF0-59B8CFA3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B6EACD8-E734-480F-B5B1-75D373FD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6A78-5D6D-49FA-BBE4-C79915E1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8F0F3-96C5-4CF9-8AFB-DD1D5A67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08B0892-084E-4789-91EF-83A6763E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288EC18-90ED-4C94-B331-6B24E66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8736B89-6A60-4281-AA9E-495A9C0A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3E4C89D-980B-4083-BD61-0D4991B1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A243C12-CD56-4A2B-8D4A-739F1256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16833FE-732D-4370-8EC9-EFEA810A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150E17F-EAD1-4D77-B433-892B841D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4CE9B8E-254B-47E4-B0B6-0410EE59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05C82F4-090D-4D61-BFF5-F92CBA47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364E749-B46B-46CF-B8FA-BBFE8276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E8CA6-B39A-4287-B66D-E0AAB72D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7875CEB-4017-4BAD-B815-C2B4573A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829D72F-07C1-4932-BEA5-3761B341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75FB8C2-889A-4AC1-B58F-6A63CC18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CC469CD-D723-4E3F-86EC-C72D5004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513DA8F-E096-434E-813E-B07900DD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6636CBC-9161-4377-A348-0E8D982C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7735338-3346-4072-8C2C-10671069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EBA87A5-8DA5-499E-A1E8-D7FC6554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CFA519C-9503-47A6-A82B-729D21D7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7E07E0F-30BD-48F8-BECF-81C70B1C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AAB15-5343-48CE-B18B-B49D62FC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E28C9FB-1A55-4E59-B7D9-7498C8D7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177F072-7CE1-4390-82FF-DA9ED21A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829B028-9F0E-4245-B53C-7DABC681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0699F85-080E-4B20-8F16-902C2A0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DB53AD0-CA01-4205-8456-F46A66B0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AE26111-DAB6-48EE-8985-9CACA172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F0A78C1-1215-493A-B8AD-73553089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F2FDC4-853B-4434-BA9D-75D24E7B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1F7E9D7-5F41-4A05-91B3-CC6B6400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70C2EF4-3889-43FC-AE7D-A2D20261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BD5D6-9291-4C65-85AB-F7E5A95D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C41F5FB-5274-44CA-A7F8-C60C26BC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C27EF88-6FBF-4B85-8370-48CB9D5F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5C4F5AE-ABFB-4273-8731-F2F7E7E9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95E7CE1-24B1-4E50-80F8-CAF24AC0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F87191A-6DC2-46C2-980E-1C8834C0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3DC13BB-2F56-4220-881F-A18E6E74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C92D291-9D9C-4E60-8825-C462C945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8E7E621-9560-45A0-9D94-D084A09B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7B80D79-8114-4E5A-A356-9CCAC6A5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BC3C573-86A0-4E17-9538-6601C27B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0C9F2-7C0D-4188-A175-E94E91DB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5B3DD08-3F62-4D07-8EF4-E0AF2E59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571F57B-F846-4C36-81CC-24428B940F1D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C391E83-1CC4-44E5-BF97-4030C39D3631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CD8181C-1CE5-4275-B365-37A2430EBAF9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217823F-A1C9-4562-A915-FADF14214259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7CAB9E3-787D-4C29-AC44-FC9192B4FD8A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B2CCA4A-0804-417A-99A4-8DCE7A7D0E22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1FC5B39-BB73-4C70-83AB-C9226CA34847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3922902-EA0F-4136-B5BB-F21F3235BB17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3E1B09A-4E96-4C25-AECD-600A50C77E5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AA21-2943-4148-B9E2-3781981EB619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65E2238-047A-4457-B07B-55FB73CCEA39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7F7235D-AF87-4F3B-862A-C95A70AE085E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0B0DABF-ADDE-4A97-91BE-B55E40435497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39DD5A1-BE36-4D3F-A82F-7B995144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9CED812-CEFE-4D94-86FC-F3FC07F5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A980F91-71F7-451C-B3B5-1B5DF830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A2AD363-C20D-4559-AD3A-2E26FEBB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837AB2C-6887-4E6A-89FD-F8339703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14791AD-7CDC-4A97-BFB7-8C298773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B96ABC9-FF17-4402-BDBE-D9F8AA5B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5A30-DD25-4771-AE76-47AF617DCA39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630423E-A6DF-4936-B0AB-B5F8EA99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AE1F3D3-2CB2-420D-8D31-0AFF055A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4795B50-2354-4EB1-974A-8338D72C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DCB9FE1-D089-4530-91F3-DD9AF3EB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5BE89DB-4102-4304-B275-D722B5A1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E523320-7C47-4E5D-9E2B-570A296B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C0963D5-6DD6-4C57-9790-F981294A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D79B82E-B461-4053-BCA0-575D8CF4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290B9DE-B1E2-4094-9B95-EB04C092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27EED6E-0DD6-4724-B78A-871A964E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CB1E-7569-455F-B57B-9719B059802E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1B108CC-E491-4BFC-9526-26C086D8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654BFA5-4883-43BA-AFA4-A06C6919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7D65312-2985-46C5-8B28-BD4FEB0C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044A768-E187-485D-BCBF-57A37C5F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033E5E6-0BEB-42EB-B796-136E4948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1FBFB4A-085C-4314-968C-E7683687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A3BAFF1-BF56-4766-996D-9C78F41F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4D8A189-BDAF-4B9A-8E9F-C11107CB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9ED9204-E217-4EDE-9593-40BB0595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9FCE607-1125-4974-A0A7-5AD6B07E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17EB-EC23-439D-90EF-279D0EB45685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E67E018-7A8D-4957-8F61-5AE6F4D8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F4E6220-DC5E-4D00-9E8D-EFA3F4B0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AD9DAD4-6EF3-4C7F-8A3C-3D1BF0C9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1FEC9FF-D7FA-43E7-8291-1A6F3535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5143FBE-5339-4BA1-B3E9-C7DB4049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1EF6EB6-7945-4C0A-9F2A-647C4581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465078F-3372-4E3F-8AE7-C6C14365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0D70790-6ED0-4367-A7E7-A625D229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5937B9C-15DA-4594-9EDB-3925600F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D4BF9CB-2CCD-4EC6-B42A-1F279E30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C611-ADF5-43DA-9F81-A144CB087FF7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F1D94EC-661A-4AEA-B289-E3651D64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A443FAC-229E-4A94-9BD1-296D7B2C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8CE96CE-2D73-471F-B35A-7F4831FB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AD9A3A8-435E-4AFA-BF4A-831876DD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0C26D91-CB43-4827-B059-2203D3DE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552BB3F-529B-4149-A906-2C24D56B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21B3CB5-2C9E-4FF7-9E12-17B05923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56BF1F4-F66F-4136-9678-DF4DDB67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216E1218-478A-4A0E-8BF5-E351B477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D0142F5-E441-4105-8D29-5BBCC20B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6FAA-207A-4467-93AE-D66A0E80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B8CA-1211-417F-9A98-3744EFA43D11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E480F5D-D3A9-4885-B333-00AB6D42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15DE1305-2021-45D3-880A-D33CAC27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6173A4C-22BB-483E-9AA8-EDF5D508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584A4AB-4A2C-4D72-B811-ED10F087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7D4A3D4-B8AE-40A5-A517-9E72D8FF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FCA9801-7C05-4208-9544-F996E033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8FE51FC-7721-4815-91E6-00F6745E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40D8C52-D9FC-44CF-8877-AE384A88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668C664-A6D1-4232-AA07-3AF1659C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C6B442B-B9D6-461D-96BE-35DCDD5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4F8C-734A-4C4F-9C40-86657CDBFD16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BA63442-A374-485B-BFE0-E446AFC6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8B9EBA4-24B3-4AB1-9673-E8BACB91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105CD5BC-97C0-42BE-9B5A-633D2F78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CE3AEEC-64D8-4637-861E-94AB2B33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117E099-DCCC-4572-BB9F-C2B62B79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D6EEF1D-BC09-4501-9E1D-5E5ED1B0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BD990B24-F460-4B92-BBC5-7B999925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26BADC6-10EF-4CE5-9F60-915669C5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1BD56B5-1B19-441A-A945-DA871DF0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E17E241-3E74-4FA7-B129-2604E3BD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81E4-B20B-4114-BD0F-4F99931A1B73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C9CDD38-1EAF-4C53-9BDA-AC5F00D4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04BEBDC7-1E0B-4CEB-9757-ADBD2194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F885D32B-3CD4-4431-8160-7B2E6D00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B34BF9F-9174-4740-82F4-5037D9C6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00D5561-2F2A-4094-A972-D78C2869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AF98287-3645-4792-8BE4-E8F25BD4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AF11B25-1A55-4C77-8F46-5D64966E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4F68A4D-D47C-44A4-BBAC-CD7D32EC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7526C07-80F6-48CD-BB3C-F8A258C8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758171F-606C-4E33-8AB7-6EAC51D5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2173-F8B0-43E4-90DE-840FB0D639B9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73EF6029-8A52-4973-83B2-29874BE2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5E45BCF-9084-4E06-895B-3822A20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58B4CF69-9DEE-4432-933C-65877966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EF55C1C-3A45-4B83-8821-FE1D26D2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490A1A5-E8E2-4C7C-9221-3A1DF574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D951C99-1775-4141-BF14-03234080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88F5743D-AE91-421D-B098-03BCC76C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A49278C-671C-4C25-83C4-61CC8BB6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3FE4352-5B5B-4EEC-ADFF-115CBEE6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6A48C2A-D194-44C1-9BF8-8F3197C4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6150-4FC5-492D-92B5-EEAA32AC2F4F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ABCAC55-4023-4702-86F7-9282FD6E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A57113F-7C7B-47C1-8CA4-B332E74E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937642E-389B-404D-9799-A80CFF29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83EAAEE-CA4C-4CD0-BE36-7148D815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3568759-23BC-4AEC-AFB6-C73459A6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045F31B-E249-41EC-8E66-2DD8640C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64509E5-3132-4C97-8123-AB89C94E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6AD3B21-D5B2-4ECE-89E1-F2674FE2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AC4FF5E-5650-480E-8EF5-9F9D9322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E451CAEE-8CB3-4724-A6A1-C9F5E3C4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5B41-1510-4895-AD93-84CA9C03313A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91BCF22-C25A-49F6-97EA-969EE19A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C0A5A44F-1DE6-4D0E-8890-BD25DC07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0B31499-2400-49A4-982E-3C8B2C97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E0465098-FEA6-43C9-800D-57ADFAE4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F324BB5-110A-4D2D-B8CA-60E27DD2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6F964B08-A2B5-412A-9271-5AC49130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4F59B889-D09C-4B48-93E5-230658E6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FEAEC4D-936F-4D48-ACED-C15C5EB3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BB789CB-ADE0-4230-9A45-7CE87BF5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3D884E4-20E2-4B1C-A980-CF768FF0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0F4A-5D79-46EF-825F-16000D74B190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20ACBBB-D778-4216-9A51-1E0D6A07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AA7D9F2-D61B-4388-93BB-174A0906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681C1030-1B64-4267-BDEF-3D8771A5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5C3B86C-EB8C-4506-8B11-2785EDFD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D0A99C2-6B67-49F8-AFB4-CB00F586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99716E4-5F88-43C7-B33B-1F930D54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5D4BC0E-7746-4D03-A166-10C16EB7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07DC280-374F-4460-80A7-CC8F24DA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C5DF1C6-B253-461A-9197-08F95D6B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AD9B7A6-3CA5-4E31-AC6D-AD3470C6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031D9-DED9-4D17-9043-8CDBE6831D81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2906D40-7F37-4A4D-B991-8DDA2FE7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C8432AF-E069-495F-AF54-AC67D6C5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EE154E0-E9BB-4D34-905A-DD2A39EA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99CC44B-0E83-4F3A-89BC-A2E067E9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C39A0BB0-718A-4A8C-B0BF-0C547DB4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45956C2-C355-4B49-B17D-0A162D54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1D258B4-3DD4-41EA-8F1A-F3F973A6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3B33D30-68AA-4EAE-9C31-DFCA8C96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415D988-11AB-4830-B21D-5BC3D527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40FCD9B-00D5-4179-9DB1-FE1810D8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0AD231-41A9-4CA5-B2DB-6A14DEC8A8FB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4ABC8DBD-0AC1-49A7-A69F-A65763B3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FD39455-D81C-4484-AF53-9799489B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153552D-5A16-4C22-BBF5-324CCD32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88FA46D-619E-4671-903A-F619393E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865619B2-4686-42B7-A0FD-2EB0B0A2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C4E661D-00C0-44DD-8B50-14524B88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A841278-F422-4372-8B81-1044D62F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E77C66CE-0D50-4B05-848C-14689E76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5ADD6B1-5C51-4283-99BF-7540B5BA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C4E51E1-C770-48CC-A3DD-0CAE2DD0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AC8D17-7430-4579-B4F1-286C14CA2EF2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76F4416-A89F-4BBA-A4E8-DA9DBA62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5002F89-E7B2-46C2-901B-72207BED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E6077FC-CBD6-46B9-8337-E1C83FC4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E7407AF7-B867-410B-A791-7745861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D5FE23B-F5EB-4036-B4EE-44A2F7EE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DC5A0F2-7516-437C-82C0-0097A361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E58F5D8-A5CF-4495-BEFA-6C16F8A5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2C14587-F19B-48CC-852F-7F4AC376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5F58D77-4671-40BD-9050-260DBF16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9209C77-7C8D-43A8-AC29-980DF2BE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001B-1715-4AE1-A300-5EE790B8801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7D86-4E5F-477F-954D-A8DC424D3B3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0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 type="dt" idx="26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4"/>
          <p:cNvSpPr>
            <a:spLocks noGrp="1"/>
          </p:cNvSpPr>
          <p:nvPr>
            <p:ph type="ftr" idx="26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5"/>
          <p:cNvSpPr>
            <a:spLocks noGrp="1"/>
          </p:cNvSpPr>
          <p:nvPr>
            <p:ph type="sldNum" idx="26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5253-FC6D-45F0-8907-A696CFFA1558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85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 type="dt" idx="26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 type="ftr" idx="26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5"/>
          <p:cNvSpPr>
            <a:spLocks noGrp="1"/>
          </p:cNvSpPr>
          <p:nvPr>
            <p:ph type="sldNum" idx="2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64CC-EFE8-487E-B6F7-833D17592BF1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F450-C61F-4BFC-9A16-7E74080C595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3216-3518-4190-BCE7-F5D04A087DA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9845-DB20-4507-BD31-1F18305BCC2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F552-C510-42E0-990C-357E8F589AF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Afbeelding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9" name="Afbeelding 8" descr=""/>
          <p:cNvPicPr/>
          <p:nvPr/>
        </p:nvPicPr>
        <p:blipFill>
          <a:blip r:embed="rId4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pic>
        <p:nvPicPr>
          <p:cNvPr id="620" name="Afbeelding 9" descr=""/>
          <p:cNvPicPr/>
          <p:nvPr/>
        </p:nvPicPr>
        <p:blipFill>
          <a:blip r:embed="rId5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8DE2-F50D-440C-ABB8-AB2918ED668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A2AD-98B4-4AB3-94D1-69E5A5DA886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FC96-BC27-4E69-90CB-557F29F613D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26D1-378C-4CE4-B565-9E309900925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F200-639B-4143-A5FC-525449A5032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9FA7-97BF-4264-B5FF-C735B48D497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3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5E33-D917-4985-81EA-4643986571B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dt" idx="3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4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4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4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BDCE-983A-432E-8431-F87D356E330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15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DAC7-52F6-486F-BC34-4322625F6FC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81B1-0DF7-43DF-A0C1-6431ACA58F7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95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50CA-B3A7-499D-932D-4FC8F5E23CA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5737-C704-4BDB-903E-AAED86503C7F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7F84-AF9D-466D-8A7D-7856D35DEA5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4D89-CB64-408C-8AFC-B845DE8D983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FA2A-D7AD-4C96-9533-DEB0E188DB4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9AEF-8558-457E-95D2-FFB8CEA24C5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6A13-6A34-4885-8C98-E55A85752A5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D551-41F7-4C12-AEB4-E1B3CCFFFED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3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9605-5FD5-4A9C-8265-96ADA4BC6AC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D03C-C572-4EC5-BF6D-EB8285F9780A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18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86D3-4E6B-49AF-8AD7-3B29BE9D779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E3D8-637C-42B7-9C45-45D9913A1F2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6EF0-B0E6-4EC5-AFC5-41D483AD85F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2053-4E05-49CC-855A-F5C210EAC3F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1586-3D81-4F8B-B4C9-99A8A305EBC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27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ABE7-E0E2-4F71-922B-F17D54ABFBE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25F3-DFD4-417F-AC39-FB9DD4F189F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1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55E4-D098-4725-88DB-61302CA5067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A44D-9B16-4E39-A711-B77B3F859D5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364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961A-085D-4CC0-9B08-C2053EB0ABC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7044-0A15-4866-9C5E-DEC86C029AC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09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B7D2-60EA-41A7-8E90-82E4F708540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sldNum" idx="7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B7B3-73D7-4F70-B1C7-36524C271D9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Afbeelding 5" descr=""/>
          <p:cNvPicPr/>
          <p:nvPr/>
        </p:nvPicPr>
        <p:blipFill>
          <a:blip r:embed="rId3"/>
          <a:stretch/>
        </p:blipFill>
        <p:spPr>
          <a:xfrm>
            <a:off x="166680" y="6165720"/>
            <a:ext cx="746280" cy="50004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3"/>
          <p:cNvSpPr/>
          <p:nvPr/>
        </p:nvSpPr>
        <p:spPr>
          <a:xfrm>
            <a:off x="856764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23A8-BC16-4255-B6C1-392D1615436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4"/>
          <p:cNvSpPr/>
          <p:nvPr/>
        </p:nvSpPr>
        <p:spPr>
          <a:xfrm>
            <a:off x="4788000" y="6591240"/>
            <a:ext cx="12240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8"/>
          <p:cNvSpPr/>
          <p:nvPr/>
        </p:nvSpPr>
        <p:spPr>
          <a:xfrm>
            <a:off x="5759280" y="6591240"/>
            <a:ext cx="252108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7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7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7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FF02-735D-4C54-908B-E4EF947ADC0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2776-6F34-47A5-B07D-244311A55E6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ldNum" idx="7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3213-AC2B-4A08-86C0-136BC80A20F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5B7B-8285-4EDD-9A1A-0F26F71711C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sldNum" idx="8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4525-E2E6-4AE5-9F0B-16EBE2A2A3A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E58C-3B75-4212-B07D-D686CAF07D0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sldNum" idx="8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3ED7-E13E-4A43-B98B-480BC3CD84E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EF72-25E6-4C0D-9F85-1D3E742816A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3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sldNum" idx="8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C50D-6BA1-42D7-AF6E-8CC51939C90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AC18-94F9-4ED1-900C-B33F0DD507F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dt" idx="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ftr" idx="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sldNum" idx="9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B7E5-335E-47C3-BDB0-D6139FF2FB2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1C4C-3B68-45F5-B261-A8B9E8EC7A4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50C1-A4CE-4AAB-AB2B-96E8CDC4CBC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sldNum" idx="9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97A6-5E14-4A9B-A574-1AD7F4873CC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E6C6-41A3-4FF8-B460-49C532789F3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sldNum" idx="9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EF69-750A-4954-ADAA-E5FF108FAEF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6F9E-FE4E-470C-BEAB-01B9BF78C9D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sldNum" idx="10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135A-8D42-4564-A0E0-C6331470F18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C94-50CD-424F-97D9-DD803C47D18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 type="sldNum" idx="10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AFE6-C5A8-4F13-8F6B-6674661EAF5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07CE-8495-4349-AD87-E3E47F8D761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sldNum" idx="10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806C-6F13-435D-88F2-8119DE714BE6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B322-5019-4912-BDF2-3AC129E5880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 type="sldNum" idx="10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56B7-0D4F-4263-A7A4-E05EF590E71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D89D-907E-47B8-A095-74D0EA6A452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3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4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Num" idx="11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69CA-D22A-4734-A9D5-DA99E617AF60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 type="dt" idx="111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 type="ftr" idx="112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8717-FC80-4BE5-9D78-25358E00BFB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8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9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0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ldNum" idx="11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AF2D-E987-4F86-86BE-D088A645481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27AB-A156-4AC3-8689-75A2DB12A75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 type="sldNum" idx="11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7E9A-43E4-4981-B4B3-83FD7B2DE69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4D48-45EB-4F0F-AC9F-B19B2153926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 type="sldNum" idx="11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E9C6-DF95-4F0A-98AE-9D719836F90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8717-0124-48FC-8AB9-673CF709E10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172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B711-F78D-4436-9155-2664FB02049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7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sldNum" idx="12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F14D-FDF7-4444-8946-DFC2E5421D9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96DD-14BA-40BA-9244-3700341BAA8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1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dt" idx="1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 type="sldNum" idx="12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344-76F3-4113-B0A7-0D4814FBA25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844A-CEB2-4DD7-8517-82442E7E1F1B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dt" idx="1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 type="ftr" idx="1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 type="sldNum" idx="12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7A25-481E-4F39-ABA6-5C34068FFBD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FC40-03CA-4325-B65F-726E590C6F9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dt" idx="1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 type="ftr" idx="1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 type="sldNum" idx="13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5C08-AFC1-4CB1-A6B4-889EEA49F4E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5E4E-C8FF-49C6-BA91-486B1ECB412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dt" idx="1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 type="ftr" idx="1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 type="sldNum" idx="13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F9DB-4982-48E7-85DF-D419EA4DC93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7F22-D366-4B1B-AFBB-E76F3A3859F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 type="dt" idx="1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 type="ftr" idx="1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 type="sldNum" idx="13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B82A-F18B-498D-9523-2BAB1142A12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7B03-CDB0-445E-A723-F532FF4CF28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4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dt" idx="1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ftr" idx="1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sldNum" idx="14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C682-BF75-4129-957A-61226FFA317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E1EB-0B68-40CF-83F1-324EAFA95E9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7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8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dt" idx="1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 type="ftr" idx="1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 type="sldNum" idx="14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D7AB-835D-44CA-994B-509C822FC65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58AA-3838-4277-8A18-CC304D5E8F5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2" name="Tijdelijke aanduiding voor inhoud 6"/>
          <p:cNvGraphicFramePr/>
          <p:nvPr/>
        </p:nvGraphicFramePr>
        <p:xfrm>
          <a:off x="488880" y="1652760"/>
          <a:ext cx="8410680" cy="456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3" name="Tijdelijke aanduiding voor inhoud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80" y="1652760"/>
                    <a:ext cx="841068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sldNum" idx="14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A6EE-F398-4C8C-A3F0-1717B0A35D3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 type="dt" idx="145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 type="ftr" idx="146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D158-1E93-4063-BB89-B105B3ACF16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7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578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2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sldNum" idx="14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C416-3A98-446D-A50D-2BC07422912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7CE3-6877-4BAC-8B7D-275D6FDD2E13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D9A0-6CDF-4494-827A-5C60B764A7F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64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sldNum" idx="15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27C8-A465-4C1F-8FE6-60147CE42FE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7BE1-39F5-4500-B01C-635239E6919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1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 type="sldNum" idx="15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E9E4-FECC-4D1D-B951-CA350FC4ADC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39FE-5900-4997-BE5F-E8D2E8C9438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78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 type="sldNum" idx="15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808A-B1BF-4503-AA53-BEA9B0C22AE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487E-5AB8-4BF2-9150-7101BB7C794E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84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 type="sldNum" idx="15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F565-4817-4714-AE0A-5C94AAAB656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7DC3-DC6E-4FA8-BACE-2B744110591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1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 type="sldNum" idx="16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7225-5213-4D9A-BD02-9CD61706289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F1D8-B494-4399-A266-D94EBC19F1E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298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 type="sldNum" idx="16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3C8B-9D61-4CA5-A1F8-7C5D48E550B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AE22-0E4C-4E21-BE1B-60DE21EE2A34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2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053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 type="sldNum" idx="16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0B54-5BEC-48E7-8047-BF690A61241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A102-4146-4F8C-872D-A2CD29DDF14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0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21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 type="sldNum" idx="17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5AD4-1BEC-47F3-8704-DE006919C4FB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33AA-679F-4815-A1A5-436075E42B6D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6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8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189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sldNum" idx="17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E4D9-5B1A-446B-AD88-B85CA7551929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CB32-FE72-436B-8E59-A9A4F9306CD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6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257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 type="sldNum" idx="17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AC97-B94C-4C95-83DF-CE9DC3D48394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CC9F-CCAD-49BF-A311-8C38397B225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27EA-9612-43D6-8592-5246228E4398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4" name="Tijdelijke aanduiding voor inhoud 6"/>
          <p:cNvGrpSpPr/>
          <p:nvPr/>
        </p:nvGrpSpPr>
        <p:grpSpPr>
          <a:xfrm>
            <a:off x="546120" y="1698480"/>
            <a:ext cx="8307360" cy="1854360"/>
            <a:chOff x="546120" y="1698480"/>
            <a:chExt cx="8307360" cy="1854360"/>
          </a:xfrm>
        </p:grpSpPr>
        <p:sp>
          <p:nvSpPr>
            <p:cNvPr id="3325" name=""/>
            <p:cNvSpPr/>
            <p:nvPr/>
          </p:nvSpPr>
          <p:spPr>
            <a:xfrm>
              <a:off x="5461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314880" y="1698480"/>
              <a:ext cx="276984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084720" y="1698480"/>
              <a:ext cx="2768760" cy="371520"/>
            </a:xfrm>
            <a:prstGeom prst="rect">
              <a:avLst/>
            </a:prstGeom>
            <a:solidFill>
              <a:srgbClr val="251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461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314880" y="2070000"/>
              <a:ext cx="276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084720" y="2070000"/>
              <a:ext cx="2768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461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314880" y="244008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084720" y="244008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461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314880" y="2811600"/>
              <a:ext cx="276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084720" y="2811600"/>
              <a:ext cx="2768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461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314880" y="3181320"/>
              <a:ext cx="2769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6084720" y="3181320"/>
              <a:ext cx="27687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4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31488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31488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84720" y="1698480"/>
              <a:ext cx="0" cy="3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084720" y="2070000"/>
              <a:ext cx="0" cy="148284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546120" y="20700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46120" y="244008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46120" y="281160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46120" y="318132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46120" y="3552840"/>
              <a:ext cx="8307360" cy="0"/>
            </a:xfrm>
            <a:prstGeom prst="line">
              <a:avLst/>
            </a:prstGeom>
            <a:ln w="12600">
              <a:solidFill>
                <a:srgbClr val="25126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 type="sldNum" idx="17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4E6D-A7E6-4C40-A373-1881B3F6F19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 type="dt" idx="179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 type="ftr" idx="180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6609-A00B-4DCC-8D2C-ACE07ED456F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393" name="Ondertitel 2"/>
          <p:cNvSpPr/>
          <p:nvPr/>
        </p:nvSpPr>
        <p:spPr>
          <a:xfrm>
            <a:off x="4643280" y="4941720"/>
            <a:ext cx="381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rebuchet MS"/>
              </a:rPr>
              <a:t>Spee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sldNum" idx="18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DB7E-B5E0-46CF-B8AD-3B31B165A4E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FFEC-7290-485F-8E71-942F5BE7FDD6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 type="sldNum" idx="184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36CE-B2DE-428B-9FA4-AD4FB581C77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7087-A8EF-4897-BA69-71095B7DD3D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 type="sldNum" idx="18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9B9B-A8B5-4052-8720-F3E1BE826EFC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3E96-3540-4FCF-B305-119F9D3ADFF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sldNum" idx="190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5A7F-DF50-4F83-9A49-E1301C31985E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08D1-E3E1-4665-97C3-2A27EA763B49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 type="dt" idx="1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PlaceHolder 4"/>
          <p:cNvSpPr>
            <a:spLocks noGrp="1"/>
          </p:cNvSpPr>
          <p:nvPr>
            <p:ph type="sldNum" idx="193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16CC-FD13-49E0-80EE-EF3DC338D045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C9BF-079B-4E62-9AEC-1DFBF3B9225C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 type="dt" idx="1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 type="ftr" idx="1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 type="sldNum" idx="19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5CCC-4B4B-4BF7-BC1A-20C9989DA1B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9148-55D2-422B-92B9-F0CE92170281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dt" idx="1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 type="ftr" idx="1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 type="sldNum" idx="199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BC8D-5E5D-478A-8F30-DB9577CC162D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01C5-163A-480E-9113-AD6038B2423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9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 type="dt" idx="2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 type="ftr" idx="2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PlaceHolder 4"/>
          <p:cNvSpPr>
            <a:spLocks noGrp="1"/>
          </p:cNvSpPr>
          <p:nvPr>
            <p:ph type="sldNum" idx="20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A63A-D086-47A7-8396-7257F7DDEE08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ADDB-C8F1-4707-97C9-CFAA07942A82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3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 type="dt" idx="2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 type="ftr" idx="2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 type="sldNum" idx="205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DC9F-537A-4030-BBF4-0896997FE091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Afbeelding 7" descr=""/>
          <p:cNvPicPr/>
          <p:nvPr/>
        </p:nvPicPr>
        <p:blipFill>
          <a:blip r:embed="rId3"/>
          <a:stretch/>
        </p:blipFill>
        <p:spPr>
          <a:xfrm>
            <a:off x="7178760" y="5230800"/>
            <a:ext cx="1673280" cy="15429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6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6350-24BB-4186-BFC4-7DD1B05FC96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1271-5668-4C4F-954F-9FB5EAE57DE0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5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6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7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dt" idx="2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ftr" idx="2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sldNum" idx="208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CD0D-B129-43D3-B62E-7BF0FB641AF7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D667-2D49-4795-B1EB-2C76E454C69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1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dt" idx="2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ftr" idx="2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sldNum" idx="211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ED25-0788-40FD-ACED-B77574CE85F2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TextBox 3"/>
          <p:cNvSpPr/>
          <p:nvPr/>
        </p:nvSpPr>
        <p:spPr>
          <a:xfrm>
            <a:off x="8388360" y="6591240"/>
            <a:ext cx="2984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90B5-BE9D-4475-93C6-1BCFA5BCEDAA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TextBox 4"/>
          <p:cNvSpPr/>
          <p:nvPr/>
        </p:nvSpPr>
        <p:spPr>
          <a:xfrm>
            <a:off x="4788000" y="6591240"/>
            <a:ext cx="86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TextBox 8"/>
          <p:cNvSpPr/>
          <p:nvPr/>
        </p:nvSpPr>
        <p:spPr>
          <a:xfrm>
            <a:off x="6300720" y="6591240"/>
            <a:ext cx="2014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eeece1"/>
                </a:solidFill>
                <a:latin typeface="Trebuchet MS"/>
              </a:rPr>
              <a:t>Author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5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549360" y="1682640"/>
            <a:ext cx="8313480" cy="4480200"/>
          </a:xfrm>
          <a:prstGeom prst="rect">
            <a:avLst/>
          </a:prstGeom>
          <a:ln w="0">
            <a:noFill/>
          </a:ln>
        </p:spPr>
      </p:pic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sldNum" idx="212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D4DA-5B5A-4262-8FBE-66C20A1AA283}" type="slidenum"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 type="dt" idx="213"/>
          </p:nvPr>
        </p:nvSpPr>
        <p:spPr>
          <a:xfrm>
            <a:off x="4788000" y="6593040"/>
            <a:ext cx="122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 type="ftr" idx="214"/>
          </p:nvPr>
        </p:nvSpPr>
        <p:spPr>
          <a:xfrm>
            <a:off x="6300360" y="6593040"/>
            <a:ext cx="201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6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17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8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9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0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1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2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3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4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5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6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1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1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1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DB9B-8CEC-4E2D-95D6-1FFA71D4EF8F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96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 type="dt" idx="21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PlaceHolder 4"/>
          <p:cNvSpPr>
            <a:spLocks noGrp="1"/>
          </p:cNvSpPr>
          <p:nvPr>
            <p:ph type="ftr" idx="21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5"/>
          <p:cNvSpPr>
            <a:spLocks noGrp="1"/>
          </p:cNvSpPr>
          <p:nvPr>
            <p:ph type="sldNum" idx="22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E56B-1034-40AF-9F77-C39171E997B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2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 type="dt" idx="22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 type="ftr" idx="22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5"/>
          <p:cNvSpPr>
            <a:spLocks noGrp="1"/>
          </p:cNvSpPr>
          <p:nvPr>
            <p:ph type="sldNum" idx="22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BE38-EBF5-414E-B188-57203D89332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07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dt" idx="22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4"/>
          <p:cNvSpPr>
            <a:spLocks noGrp="1"/>
          </p:cNvSpPr>
          <p:nvPr>
            <p:ph type="ftr" idx="2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5"/>
          <p:cNvSpPr>
            <a:spLocks noGrp="1"/>
          </p:cNvSpPr>
          <p:nvPr>
            <p:ph type="sldNum" idx="2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6E49-F2F2-4A05-BC42-FB8FD4A2364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2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 type="dt" idx="2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 type="ftr" idx="22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 type="sldNum" idx="22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93A5-01ED-447E-ADF3-2D9C46EDFBF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17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 type="dt" idx="23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 type="ftr" idx="23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 type="sldNum" idx="23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D65C-6CAB-4A8C-917C-DF86417D3AA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2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dt" idx="23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 type="ftr" idx="23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5"/>
          <p:cNvSpPr>
            <a:spLocks noGrp="1"/>
          </p:cNvSpPr>
          <p:nvPr>
            <p:ph type="sldNum" idx="23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3D66-F323-4CEA-B2AB-4E6D9161DD6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Afbeelding 7" descr="haal het beste uit jezelf_RGB.png"/>
          <p:cNvPicPr/>
          <p:nvPr/>
        </p:nvPicPr>
        <p:blipFill>
          <a:blip r:embed="rId3"/>
          <a:stretch/>
        </p:blipFill>
        <p:spPr>
          <a:xfrm>
            <a:off x="2340000" y="3429000"/>
            <a:ext cx="4824360" cy="646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7632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24126e"/>
                </a:solidFill>
                <a:latin typeface="Trebuchet MS"/>
              </a:rPr>
              <a:t>Click to edit the title text format</a:t>
            </a:r>
            <a:endParaRPr b="1" lang="en-US" sz="2100" spc="-1" strike="noStrike">
              <a:solidFill>
                <a:srgbClr val="24126e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9280" y="1698120"/>
            <a:ext cx="8309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3176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2635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39672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528480" indent="-131760">
              <a:spcBef>
                <a:spcPts val="400"/>
              </a:spcBef>
              <a:buClr>
                <a:srgbClr val="d70073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528480" indent="-131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7"/>
          </p:nvPr>
        </p:nvSpPr>
        <p:spPr>
          <a:xfrm>
            <a:off x="8388000" y="6590880"/>
            <a:ext cx="298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16A8-CED8-4D35-9C15-77EE54598FB5}" type="slidenum">
              <a:rPr b="0" lang="nl-NL" sz="6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28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 type="dt" idx="23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 type="ftr" idx="23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 type="sldNum" idx="23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55BD-429B-447E-A969-78B6377407D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3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dt" idx="23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 type="ftr" idx="24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5"/>
          <p:cNvSpPr>
            <a:spLocks noGrp="1"/>
          </p:cNvSpPr>
          <p:nvPr>
            <p:ph type="sldNum" idx="24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1541-B7F2-498F-B019-0DB1B1AAA82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38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dt" idx="24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4"/>
          <p:cNvSpPr>
            <a:spLocks noGrp="1"/>
          </p:cNvSpPr>
          <p:nvPr>
            <p:ph type="ftr" idx="24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9" name="PlaceHolder 5"/>
          <p:cNvSpPr>
            <a:spLocks noGrp="1"/>
          </p:cNvSpPr>
          <p:nvPr>
            <p:ph type="sldNum" idx="24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C874-F216-49A7-AF35-1F474FC64CE1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3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 type="dt" idx="24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 type="ftr" idx="24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5"/>
          <p:cNvSpPr>
            <a:spLocks noGrp="1"/>
          </p:cNvSpPr>
          <p:nvPr>
            <p:ph type="sldNum" idx="24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17DD-94BB-434D-AE77-46051806EB01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49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4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4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5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1F58-CCF6-4F10-BF9E-94947CC6F1BD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4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3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4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7" name="PlaceHolder 3"/>
          <p:cNvSpPr>
            <a:spLocks noGrp="1"/>
          </p:cNvSpPr>
          <p:nvPr>
            <p:ph type="dt" idx="25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4"/>
          <p:cNvSpPr>
            <a:spLocks noGrp="1"/>
          </p:cNvSpPr>
          <p:nvPr>
            <p:ph type="ftr" idx="25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5"/>
          <p:cNvSpPr>
            <a:spLocks noGrp="1"/>
          </p:cNvSpPr>
          <p:nvPr>
            <p:ph type="sldNum" idx="25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AB05-6227-44CB-B8FE-2DCD94C73D67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597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8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9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0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1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2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3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4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5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6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9" name="PlaceHolder 3"/>
          <p:cNvSpPr>
            <a:spLocks noGrp="1"/>
          </p:cNvSpPr>
          <p:nvPr>
            <p:ph type="dt" idx="25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PlaceHolder 4"/>
          <p:cNvSpPr>
            <a:spLocks noGrp="1"/>
          </p:cNvSpPr>
          <p:nvPr>
            <p:ph type="ftr" idx="25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5"/>
          <p:cNvSpPr>
            <a:spLocks noGrp="1"/>
          </p:cNvSpPr>
          <p:nvPr>
            <p:ph type="sldNum" idx="25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5D44-BE67-4937-B9B0-EF3B9600F897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64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 type="dt" idx="25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 type="ftr" idx="25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5"/>
          <p:cNvSpPr>
            <a:spLocks noGrp="1"/>
          </p:cNvSpPr>
          <p:nvPr>
            <p:ph type="sldNum" idx="25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FF66-75B4-475F-A4D8-B93995E6AE2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0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3" name="PlaceHolder 3"/>
          <p:cNvSpPr>
            <a:spLocks noGrp="1"/>
          </p:cNvSpPr>
          <p:nvPr>
            <p:ph type="dt" idx="26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PlaceHolder 4"/>
          <p:cNvSpPr>
            <a:spLocks noGrp="1"/>
          </p:cNvSpPr>
          <p:nvPr>
            <p:ph type="ftr" idx="26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5" name="PlaceHolder 5"/>
          <p:cNvSpPr>
            <a:spLocks noGrp="1"/>
          </p:cNvSpPr>
          <p:nvPr>
            <p:ph type="sldNum" idx="26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6EFB-E92A-483A-9ED1-2C267698A84F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4753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4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5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6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7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8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9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0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1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2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 type="sldNum" idx="26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548B-D0FB-46A8-B6EA-33DE70C89C02}" type="slidenum">
              <a:rPr b="0" lang="nl-NL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7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7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05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8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9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0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schimmel%20huid&amp;source=images&amp;cd=&amp;cad=rja&amp;docid=pqq8v0m-_Xyv1M&amp;tbnid=uJKapSVmd59xzM:&amp;ved=0CAUQjRw&amp;url=http%3A%2F%2Fwww.begeleidzelfstandigleren.com%2Fbiologie%2Fectoparasitisme.html&amp;ei=XNHCUazCBov5sgahhIDADg&amp;psig=AFQjCNGqkhKqHnueB_ik0K0m6po0kKIT9g&amp;ust=13718084344409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0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0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0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Thema 1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asiszorg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 en 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14" name="Picture 5" descr="Afbeeldingsresultaat voor summa college"/>
          <p:cNvPicPr/>
          <p:nvPr/>
        </p:nvPicPr>
        <p:blipFill>
          <a:blip r:embed="rId1"/>
          <a:stretch/>
        </p:blipFill>
        <p:spPr>
          <a:xfrm>
            <a:off x="539640" y="404640"/>
            <a:ext cx="3240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179280" y="5097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: wel of niet ziek?!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Afhankelijk v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irul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Weerstand van de gasthe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1280" indent="-3412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cubatietij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Incubatietijd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tijd die ligt tuss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binnendring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verwekkers (de besmetting) en het </a:t>
            </a:r>
            <a:r>
              <a:rPr b="0" lang="nl-NL" sz="2400" spc="-1" strike="noStrike">
                <a:solidFill>
                  <a:srgbClr val="ff3300"/>
                </a:solidFill>
                <a:latin typeface="Trebuchet MS"/>
              </a:rPr>
              <a:t>uitbrek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an de ziek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cubatietijd viru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254160" y="1125000"/>
            <a:ext cx="8891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 tussen besmet raken met het micro-organisme</a:t>
            </a:r>
            <a:br>
              <a:rPr sz="2600"/>
            </a:b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en het optreden van de eerste ziekteverschijnsel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Verkoudhei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uur tot 3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Griep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4 tot 48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aterpokken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Rode hond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2 tot 3 wek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Noro virus: 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2 tot 24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epatitis B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1 tot 6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HIV: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6 maanden tot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Tijdens incubatietijd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drager</a:t>
            </a: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 van virus, dus </a:t>
            </a:r>
            <a:r>
              <a:rPr b="0" lang="nl-NL" sz="2600" spc="-1" strike="noStrike">
                <a:solidFill>
                  <a:srgbClr val="f92242"/>
                </a:solidFill>
                <a:latin typeface="Arial"/>
                <a:ea typeface="Arial"/>
              </a:rPr>
              <a:t>wel besmettelijk voor ande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ruisinfec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 type="subTitle"/>
          </p:nvPr>
        </p:nvSpPr>
        <p:spPr>
          <a:xfrm>
            <a:off x="826920" y="2705040"/>
            <a:ext cx="6336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Infectie door een besmetting van patiënt op patiënt in het ziekenhuis/instelling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Arial"/>
                <a:ea typeface="Arial"/>
              </a:rPr>
              <a:t>Doorbreken van de infectieketen/ besmettingskring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3240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lgemene voorzorgsmaatregel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hygiën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andhygiëne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ersoonlijke beschermingsmiddelen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solatiemaatreg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Persoonlijke hygiën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1" name="PlaceHolder 2"/>
          <p:cNvSpPr>
            <a:spLocks noGrp="1"/>
          </p:cNvSpPr>
          <p:nvPr>
            <p:ph/>
          </p:nvPr>
        </p:nvSpPr>
        <p:spPr>
          <a:xfrm>
            <a:off x="684360" y="169200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Nag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Haa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Baarden en snorr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Siera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Zakdoek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Arial"/>
                <a:ea typeface="Arial"/>
              </a:rPr>
              <a:t>Werkkled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nietigen van </a:t>
            </a:r>
            <a:br>
              <a:rPr sz="3600"/>
            </a:b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ro-organism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3" name="Picture 4" descr="ouderwetse sterilisatie"/>
          <p:cNvPicPr/>
          <p:nvPr/>
        </p:nvPicPr>
        <p:blipFill>
          <a:blip r:embed="rId1"/>
          <a:stretch/>
        </p:blipFill>
        <p:spPr>
          <a:xfrm>
            <a:off x="2484360" y="4653000"/>
            <a:ext cx="3743280" cy="2004840"/>
          </a:xfrm>
          <a:prstGeom prst="rect">
            <a:avLst/>
          </a:prstGeom>
          <a:ln w="0">
            <a:noFill/>
          </a:ln>
        </p:spPr>
      </p:pic>
      <p:pic>
        <p:nvPicPr>
          <p:cNvPr id="4954" name="Picture 5" descr="sterilisatie instrumenten"/>
          <p:cNvPicPr/>
          <p:nvPr/>
        </p:nvPicPr>
        <p:blipFill>
          <a:blip r:embed="rId2"/>
          <a:stretch/>
        </p:blipFill>
        <p:spPr>
          <a:xfrm>
            <a:off x="4878360" y="1689120"/>
            <a:ext cx="2700360" cy="2770200"/>
          </a:xfrm>
          <a:prstGeom prst="rect">
            <a:avLst/>
          </a:prstGeom>
          <a:ln w="0">
            <a:noFill/>
          </a:ln>
        </p:spPr>
      </p:pic>
      <p:pic>
        <p:nvPicPr>
          <p:cNvPr id="4955" name="Picture 7" descr="instrumenten"/>
          <p:cNvPicPr/>
          <p:nvPr/>
        </p:nvPicPr>
        <p:blipFill>
          <a:blip r:embed="rId3"/>
          <a:stretch/>
        </p:blipFill>
        <p:spPr>
          <a:xfrm>
            <a:off x="720720" y="1731960"/>
            <a:ext cx="3529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Reinigen/ desinfecter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Reinigen is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ishoudelijk schoonmaken, poetsen waarbij niet  alle kiemen worden verwijder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Desinfecteren is: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ntsmetten, ziektekiem vrij maken, Micro-organismen vermind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Sterilis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doden micro-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3563640" y="-36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52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Ontsmetten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59" name="Picture 4" descr="betadine 2"/>
          <p:cNvPicPr/>
          <p:nvPr/>
        </p:nvPicPr>
        <p:blipFill>
          <a:blip r:embed="rId1"/>
          <a:stretch/>
        </p:blipFill>
        <p:spPr>
          <a:xfrm>
            <a:off x="5796000" y="3141720"/>
            <a:ext cx="2890800" cy="3217680"/>
          </a:xfrm>
          <a:prstGeom prst="rect">
            <a:avLst/>
          </a:prstGeom>
          <a:ln w="0">
            <a:noFill/>
          </a:ln>
        </p:spPr>
      </p:pic>
      <p:pic>
        <p:nvPicPr>
          <p:cNvPr id="4960" name="Picture 5" descr="schaafwond hand"/>
          <p:cNvPicPr/>
          <p:nvPr/>
        </p:nvPicPr>
        <p:blipFill>
          <a:blip r:embed="rId2"/>
          <a:stretch/>
        </p:blipFill>
        <p:spPr>
          <a:xfrm>
            <a:off x="2987640" y="1197000"/>
            <a:ext cx="2751120" cy="1500120"/>
          </a:xfrm>
          <a:prstGeom prst="rect">
            <a:avLst/>
          </a:prstGeom>
          <a:ln w="0">
            <a:noFill/>
          </a:ln>
        </p:spPr>
      </p:pic>
      <p:pic>
        <p:nvPicPr>
          <p:cNvPr id="4961" name="Picture 6" descr="hand antisepsis"/>
          <p:cNvPicPr/>
          <p:nvPr/>
        </p:nvPicPr>
        <p:blipFill>
          <a:blip r:embed="rId3"/>
          <a:stretch/>
        </p:blipFill>
        <p:spPr>
          <a:xfrm>
            <a:off x="2916360" y="2997360"/>
            <a:ext cx="2280960" cy="2950920"/>
          </a:xfrm>
          <a:prstGeom prst="rect">
            <a:avLst/>
          </a:prstGeom>
          <a:ln w="0">
            <a:noFill/>
          </a:ln>
        </p:spPr>
      </p:pic>
      <p:pic>
        <p:nvPicPr>
          <p:cNvPr id="4962" name="Picture 7" descr="wondontsmetting"/>
          <p:cNvPicPr/>
          <p:nvPr/>
        </p:nvPicPr>
        <p:blipFill>
          <a:blip r:embed="rId4"/>
          <a:stretch/>
        </p:blipFill>
        <p:spPr>
          <a:xfrm>
            <a:off x="826920" y="836640"/>
            <a:ext cx="1189080" cy="2665440"/>
          </a:xfrm>
          <a:prstGeom prst="rect">
            <a:avLst/>
          </a:prstGeom>
          <a:ln w="0">
            <a:noFill/>
          </a:ln>
        </p:spPr>
      </p:pic>
      <p:pic>
        <p:nvPicPr>
          <p:cNvPr id="4963" name="Picture 8" descr="DettolBrown"/>
          <p:cNvPicPr/>
          <p:nvPr/>
        </p:nvPicPr>
        <p:blipFill>
          <a:blip r:embed="rId5"/>
          <a:stretch/>
        </p:blipFill>
        <p:spPr>
          <a:xfrm>
            <a:off x="0" y="3860640"/>
            <a:ext cx="2400480" cy="2400480"/>
          </a:xfrm>
          <a:prstGeom prst="rect">
            <a:avLst/>
          </a:prstGeom>
          <a:ln w="0">
            <a:noFill/>
          </a:ln>
        </p:spPr>
      </p:pic>
      <p:sp>
        <p:nvSpPr>
          <p:cNvPr id="496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1763640" y="508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Wat doen antibiotica?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6" name="Picture 2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70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Doelstellingen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6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De volgende begrippen kunnen omschrij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cro-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ir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chimm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acter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7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uisinfecti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bro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mettings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cubatieperio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ronisol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R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accin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ectieketen verkla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3d9f"/>
                </a:solidFill>
                <a:latin typeface="Trebuchet MS"/>
              </a:rPr>
              <a:t>Leg uit hoe een inenting werkt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4968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7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71" name="Picture 5" descr=""/>
          <p:cNvPicPr/>
          <p:nvPr/>
        </p:nvPicPr>
        <p:blipFill>
          <a:blip r:embed="rId1"/>
          <a:stretch/>
        </p:blipFill>
        <p:spPr>
          <a:xfrm>
            <a:off x="611280" y="762120"/>
            <a:ext cx="67262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smetting/infecti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19" name=""/>
          <p:cNvSpPr txBox="1"/>
          <p:nvPr/>
        </p:nvSpPr>
        <p:spPr>
          <a:xfrm>
            <a:off x="324000" y="1929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metting: Het overbrengen van levende (pathogeen) micro-organismen van de ene plaats naar de ande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fectie: Na besmetting het zich handhaven en vermenigvuldigen van ziekteverwekkers waardoor een plaatselijke ontsteking of een ziekte van het gehele organisme wordt veroorzaakt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44272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   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Viruss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Hebben </a:t>
            </a:r>
            <a:r>
              <a:rPr b="1" lang="nl-NL" sz="2800" spc="-1" strike="noStrike">
                <a:solidFill>
                  <a:srgbClr val="f92242"/>
                </a:solidFill>
                <a:latin typeface="Arial"/>
                <a:ea typeface="Arial"/>
              </a:rPr>
              <a:t>wel</a:t>
            </a: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 een gastheercel nodig om zich te vermeerder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verdracht via contact of luc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Bacterië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270000" y="206064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n principe overal aanwez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vermeerderen: tweeën 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elen kan iedere </a:t>
            </a: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 minuten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nafhankelijk van gasthe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bben wel voedingsstoffen nodi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5333760" y="203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Overdracht vindt plaats do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contact, voornamelijk via handen, apparatuu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lucht, aerosolen,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 </a:t>
            </a:r>
            <a:r>
              <a:rPr b="0" lang="nl-NL" sz="3600" spc="-1" strike="noStrike">
                <a:solidFill>
                  <a:srgbClr val="eb3d9f"/>
                </a:solidFill>
                <a:latin typeface="Wingdings"/>
                <a:ea typeface="Wingdings"/>
              </a:rPr>
              <a:t></a:t>
            </a: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 Schimmels en gisten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immels en gisten                  (bv ,spruw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Komen overal voor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immels vormen sporen die jaren inactief kunnen blij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0" name="Picture 6" descr="http://www.begeleidzelfstandigleren.com/biologie/voetschimm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141720"/>
            <a:ext cx="36482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cties &amp; 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c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viruss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bacterië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schimmel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3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Infestaties door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worm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mijt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tek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- luizen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4" name="Picture 13" descr="scabies%20mite"/>
          <p:cNvPicPr/>
          <p:nvPr/>
        </p:nvPicPr>
        <p:blipFill>
          <a:blip r:embed="rId1"/>
          <a:stretch/>
        </p:blipFill>
        <p:spPr>
          <a:xfrm>
            <a:off x="4489560" y="1566720"/>
            <a:ext cx="4267080" cy="386100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3524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Arial"/>
                <a:ea typeface="Arial"/>
              </a:rPr>
              <a:t>Infestati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936" name="PlaceHolder 2"/>
          <p:cNvSpPr>
            <a:spLocks noGrp="1"/>
          </p:cNvSpPr>
          <p:nvPr>
            <p:ph/>
          </p:nvPr>
        </p:nvSpPr>
        <p:spPr>
          <a:xfrm>
            <a:off x="1371600" y="2923920"/>
            <a:ext cx="7772400" cy="15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"/>
          </a:bodyPr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Wormen (aarswormen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intworm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Mijten (schurf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Tek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-684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Luizen (hoofdluis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Arial"/>
                <a:ea typeface="Arial"/>
              </a:rPr>
              <a:t>schaamlu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37" name="Picture 6" descr="luis_op_kam-206%20px_tcm92-42312"/>
          <p:cNvPicPr/>
          <p:nvPr/>
        </p:nvPicPr>
        <p:blipFill>
          <a:blip r:embed="rId2"/>
          <a:stretch/>
        </p:blipFill>
        <p:spPr>
          <a:xfrm>
            <a:off x="179280" y="5229360"/>
            <a:ext cx="2743200" cy="1411200"/>
          </a:xfrm>
          <a:prstGeom prst="rect">
            <a:avLst/>
          </a:prstGeom>
          <a:ln w="0">
            <a:noFill/>
          </a:ln>
        </p:spPr>
      </p:pic>
      <p:pic>
        <p:nvPicPr>
          <p:cNvPr id="4938" name="Picture 9" descr="Lineaal_tcm92-42317"/>
          <p:cNvPicPr/>
          <p:nvPr/>
        </p:nvPicPr>
        <p:blipFill>
          <a:blip r:embed="rId3"/>
          <a:stretch/>
        </p:blipFill>
        <p:spPr>
          <a:xfrm>
            <a:off x="990720" y="1176480"/>
            <a:ext cx="2743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4:36Z</dcterms:created>
  <dc:creator>GRRU</dc:creator>
  <dc:description/>
  <dc:language>en-US</dc:language>
  <cp:lastModifiedBy>Kievit, Eline</cp:lastModifiedBy>
  <dcterms:modified xsi:type="dcterms:W3CDTF">2020-10-02T13:24:11Z</dcterms:modified>
  <cp:revision>47</cp:revision>
  <dc:subject/>
  <dc:title>HC 4</dc:title>
</cp:coreProperties>
</file>