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25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26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 type="sldNum" idx="27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1BDE92-2E28-4193-9AC6-1020744353F2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04832-E8B2-4E02-B313-37C36ABD908F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68D51-B836-4EA8-80BB-3E3912BD9103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1FF1E2-2046-4892-BE69-6B5A524B17B6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6CBDAD-2D4B-420B-A328-093AAC53A682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2B57E-7D0F-401C-B552-AC0DEA1A8D68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6751A6-DD1C-4211-9628-7140B03DE7A4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93CE1C-A27F-458F-9D72-A0358537EA62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A05C7C-35EC-46F2-B079-1230F2DF7AFA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C53530-E3AA-4642-9A57-FC8BAA6F2110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9C47F8-C6EB-44DF-A315-33C130F97D00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A5AEF1-10DE-4166-9079-288375CD8C12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640E46-C0A3-48B5-AAEE-50D90F877071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53B5D-C38A-4398-B706-B21699E94E00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CF86A0-907D-4CEC-B14B-CD68DDE2CF90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8240-EAA3-4EDE-8046-B72EEE62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97ED-68BA-400A-BE05-B5EEE324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078E-2CFE-48D6-A61C-DBBE66EC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E50C-6B9B-4377-9C81-DDADA27B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EAD8-6C81-454C-BA17-902FB9D7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ED49-20E0-4B41-9C0F-24006308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B7FF-278B-4D68-8B05-DC3DF3BB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EEC4-512F-4CF4-AAC3-553AB7ED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C662-0D78-40B9-8124-BD113694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5D1F-38B7-4230-8F58-452320BD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0A28-8B86-4A3F-A640-2698FEE6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8CBF-90A2-4048-931F-E46CCEC4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9A22-557E-4841-98BB-7F2DE8EE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E40A-89AB-418F-B4ED-E985C001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FA6E-E3F3-405A-B66D-B9A45A34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F05F-D659-4AC9-9794-7B79A569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D80F-2B18-4A32-9CB6-E80195D0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86F5A-61B9-4B8A-8E5A-59A0F705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3D8E1-02A9-453A-97B1-69B6F9D0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34A80-44A7-43EB-B7B9-70871800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B01B6-253A-495A-A958-FDC32884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07B21-71E7-4197-8916-ECB53989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B278-76D9-4F6A-910A-0CCBB537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F5E0E-818C-4A97-942A-F8C3BC63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72BEB-6733-4700-A2AE-551F57F5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C97E3-E97C-45BC-AA5C-B8DF1365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4FED7-D410-47B6-9FE1-98F509E8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1C75A-88DA-4C86-8CDA-82C61E4E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46CE9-FB22-4AE4-B5C5-467F6944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EACC9-CBBC-4266-9047-F0AAE781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8FA4E-EF87-4855-88CD-A93E1936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5588E-21C3-43B0-9864-57CDEAB8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1D5AA-D36B-46C3-9F03-64F6D68F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5FC8-12D6-4728-8E46-E650C350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ECBCD-4329-4BEC-9F3C-6BEB30B9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FA715-576E-4DB7-96C8-8DB858F0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960F5-F921-429D-A0F5-C7BA0D3B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EA8EA-C7CF-476C-9E37-B5135598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52FAB-2544-4B41-A3FA-92D4639A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82BA4-1A71-419A-932A-1F3FDB32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4CD8A-C405-4FCC-ADF8-D4ECB6F3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791A2-E319-493A-8654-13B1176A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25A8F-B428-425C-831B-53171CE0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8F608-F1A0-4E9B-9D79-299FB8D8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0F6-EC96-4646-81B7-D657C7B2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BC53F-21A1-4B48-9E6B-F3A482D9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BAF93-B1F8-4F0B-9921-F7FBAF7A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B376E-4D74-44EE-8D8A-2662FE20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FCE07-100E-4095-8332-94798ED7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60E91-8B4E-4A4D-B0DA-5A7569E4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0F99A-2F6B-4021-8114-FE98B105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E9683-F15B-45B1-AEA1-7E8DE65A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2FFAA-CE4E-4367-88BE-FC912176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D4D0E-0D2B-47A3-B368-DD9B79CA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CCBB1-4280-4FE8-A480-7F90479B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0075-9DFD-479E-ADB0-CE9159C3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1BCAD-BB7E-48D2-9705-5D7877F3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9A230-051E-4986-AD4B-B04DCAC3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2A3FE-11BD-4B54-896F-E45A0478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1C076-23D7-4E65-B6AC-D0F3EA49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DCE75-A9F2-4AE9-AD6D-F9EF3F2A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B77E4-C3C2-4313-8504-6A2F7247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DEA26-92EF-4A08-A663-79FDF28E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9348E-D3B0-4EF4-88B0-00A84D72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544BE-6690-4EC7-B13B-6D810226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73E08-071C-491B-BF35-F902656A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C36C-B488-4A3D-95BF-6542DFE3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02515-DE3E-411C-B384-E8F76EDB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3D0D9-E6FA-4EA1-9705-7266D031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D9E63-75F5-4238-8763-F7B2D529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BE801-C607-4E78-A997-D84B7BD5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ED421-2831-49B9-A72F-689FBB8B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8D18C-D66B-4419-8F9C-19BA8CB9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DCB00-386B-4789-B1B8-47181950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B9564-09A3-4044-BEBC-9A0DD58B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7D6A4-69B7-4CA7-B162-575B0CE3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88345-DABD-4062-AF4A-A3127BC3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B070-93C1-4A42-8E99-E1037950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13F9B-3F66-4A8A-ABEF-5D35264C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E2C6E-598C-4DD3-9F78-47421096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8DED3-D323-44D7-BCA7-7B7F261D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B4232-4AA0-4924-A2AB-18F522FF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87E27-8786-40FB-81B2-1C34D0DD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2C0BB-0776-42E4-BCBB-1979C734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28A53-14D6-4069-A166-C7DE0903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A48F3-B4CD-4B11-83BB-21AFE3FC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AB30F-44BF-4836-8B7C-661DF2B3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14D22-B559-4721-8561-C0289B85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29B8-89B5-4CAA-8487-D06DA4EB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5EA1E-DA7F-4576-96BD-7998F0D7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F8618-74D2-4A5C-8CBA-13951CBD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50A74-FDFD-49AB-8614-0154395E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50BA2-247C-43DD-A7C7-8404F99C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F4432-6E4C-485B-98AB-15B7385C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033B4-97C9-4DA4-8B58-B705083F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EA988-CC15-4E2D-8F84-B62EAD8A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97756-36CA-4DF0-8059-9E5341AE35B3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08479-6AFB-457C-B0C7-CC6D54FD9568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4CDCA-DB18-4597-9626-CE6FF24BBA14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32A3E-45CE-42A9-B3FA-CCEDB7FCFB62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0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879857-60D8-454F-9AE1-B4E0F31980EF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6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15AAD-C95D-4C55-8B1A-7DBC020328F8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1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23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D840DA-2B7B-4ABE-A5EF-89661E931A9B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6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7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EAF156-A96C-4D2B-8B77-017DB7C0FF33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30400" y="2077560"/>
            <a:ext cx="4309920" cy="307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Thema 1 </a:t>
            </a:r>
            <a:br>
              <a:rPr sz="4000"/>
            </a:b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Basiszorg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28" name="Afbeelding 3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3764160" cy="136836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1"/>
          <p:cNvSpPr/>
          <p:nvPr/>
        </p:nvSpPr>
        <p:spPr>
          <a:xfrm>
            <a:off x="1692360" y="4386240"/>
            <a:ext cx="57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eb3d9f"/>
                </a:solidFill>
                <a:latin typeface="Trebuchet MS"/>
              </a:rPr>
              <a:t>Wassen &amp; aankled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Schere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585360" y="1654200"/>
            <a:ext cx="7921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ij meeste mannen onderdeel van de dagelijkse verzorg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eer eerst met de haargroei mee daarna nog ertegen in indien gewenst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Trek de huid strak bij scheren met scheerme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eren vrouw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atsch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oogsch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6" name="Afbeelding 3" descr=""/>
          <p:cNvPicPr/>
          <p:nvPr/>
        </p:nvPicPr>
        <p:blipFill>
          <a:blip r:embed="rId1"/>
          <a:stretch/>
        </p:blipFill>
        <p:spPr>
          <a:xfrm>
            <a:off x="395280" y="4789440"/>
            <a:ext cx="2724120" cy="1676520"/>
          </a:xfrm>
          <a:prstGeom prst="rect">
            <a:avLst/>
          </a:prstGeom>
          <a:ln w="0">
            <a:noFill/>
          </a:ln>
        </p:spPr>
      </p:pic>
      <p:pic>
        <p:nvPicPr>
          <p:cNvPr id="457" name="Afbeelding 4" descr=""/>
          <p:cNvPicPr/>
          <p:nvPr/>
        </p:nvPicPr>
        <p:blipFill>
          <a:blip r:embed="rId2"/>
          <a:stretch/>
        </p:blipFill>
        <p:spPr>
          <a:xfrm>
            <a:off x="2530440" y="4832280"/>
            <a:ext cx="1606680" cy="1608120"/>
          </a:xfrm>
          <a:prstGeom prst="rect">
            <a:avLst/>
          </a:prstGeom>
          <a:ln w="0">
            <a:noFill/>
          </a:ln>
        </p:spPr>
      </p:pic>
      <p:pic>
        <p:nvPicPr>
          <p:cNvPr id="458" name="Afbeelding 5" descr=""/>
          <p:cNvPicPr/>
          <p:nvPr/>
        </p:nvPicPr>
        <p:blipFill>
          <a:blip r:embed="rId3"/>
          <a:stretch/>
        </p:blipFill>
        <p:spPr>
          <a:xfrm>
            <a:off x="4268880" y="3763800"/>
            <a:ext cx="1952640" cy="2806920"/>
          </a:xfrm>
          <a:prstGeom prst="rect">
            <a:avLst/>
          </a:prstGeom>
          <a:ln w="0">
            <a:noFill/>
          </a:ln>
        </p:spPr>
      </p:pic>
      <p:pic>
        <p:nvPicPr>
          <p:cNvPr id="459" name="Afbeelding 6" descr=""/>
          <p:cNvPicPr/>
          <p:nvPr/>
        </p:nvPicPr>
        <p:blipFill>
          <a:blip r:embed="rId4"/>
          <a:stretch/>
        </p:blipFill>
        <p:spPr>
          <a:xfrm>
            <a:off x="6603840" y="4170240"/>
            <a:ext cx="1994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ogverzorging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09480" y="1323720"/>
            <a:ext cx="7707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sen van de buitenste naar de binnenste ooghoe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geen zeep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zn. watten/gaasjes en een fysiologische zoutoplossing bij korstvorm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t op hygiëne van bri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Contactlenz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ogprothes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2" name="Afbeelding 3" descr=""/>
          <p:cNvPicPr/>
          <p:nvPr/>
        </p:nvPicPr>
        <p:blipFill>
          <a:blip r:embed="rId1"/>
          <a:stretch/>
        </p:blipFill>
        <p:spPr>
          <a:xfrm>
            <a:off x="4908600" y="4884840"/>
            <a:ext cx="2533680" cy="1689120"/>
          </a:xfrm>
          <a:prstGeom prst="rect">
            <a:avLst/>
          </a:prstGeom>
          <a:ln w="0">
            <a:noFill/>
          </a:ln>
        </p:spPr>
      </p:pic>
      <p:pic>
        <p:nvPicPr>
          <p:cNvPr id="463" name="Afbeelding 4" descr=""/>
          <p:cNvPicPr/>
          <p:nvPr/>
        </p:nvPicPr>
        <p:blipFill>
          <a:blip r:embed="rId2"/>
          <a:stretch/>
        </p:blipFill>
        <p:spPr>
          <a:xfrm>
            <a:off x="971640" y="4870440"/>
            <a:ext cx="3012840" cy="1703520"/>
          </a:xfrm>
          <a:prstGeom prst="rect">
            <a:avLst/>
          </a:prstGeom>
          <a:ln w="0">
            <a:noFill/>
          </a:ln>
        </p:spPr>
      </p:pic>
      <p:pic>
        <p:nvPicPr>
          <p:cNvPr id="464" name="Afbeelding 1" descr=""/>
          <p:cNvPicPr/>
          <p:nvPr/>
        </p:nvPicPr>
        <p:blipFill>
          <a:blip r:embed="rId3"/>
          <a:stretch/>
        </p:blipFill>
        <p:spPr>
          <a:xfrm>
            <a:off x="5003640" y="2708280"/>
            <a:ext cx="26416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ond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09480" y="1412640"/>
            <a:ext cx="7562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langrijk voor de conditie van het gebit en de slijmvliez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zn. tandenstokers, tandflos, spoelwater,borsteltj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einig de gebitsprothes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n alert op stomatitis (pijnlijk, ontstoken slijmvlies: rood, glimmend en opgezwollen); verhoogde kans bij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ge koort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en/geringe vochtinnam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sufte of bewusteloze zorgvrag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lechte slikfunct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paald medicatiegebruik (antibiotica, cytostatica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minderde weerstand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7" name="Afbeelding 3" descr=""/>
          <p:cNvPicPr/>
          <p:nvPr/>
        </p:nvPicPr>
        <p:blipFill>
          <a:blip r:embed="rId1"/>
          <a:stretch/>
        </p:blipFill>
        <p:spPr>
          <a:xfrm>
            <a:off x="7716960" y="529416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468" name="Afbeelding 1" descr=""/>
          <p:cNvPicPr/>
          <p:nvPr/>
        </p:nvPicPr>
        <p:blipFill>
          <a:blip r:embed="rId2"/>
          <a:stretch/>
        </p:blipFill>
        <p:spPr>
          <a:xfrm>
            <a:off x="5945040" y="4149720"/>
            <a:ext cx="171792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or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50560" y="1396800"/>
            <a:ext cx="7994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ij normale functie van het oor: wassen van het buitenoor is voldoend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erwijder zn. oorsmeer een opgerold, vochtig watj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inig zn. het gehoortoestel. (oorstukje met wat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et goed op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li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-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re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hoorappara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Controleer batterij van het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hoortoestel regelmati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1" name="Afbeelding 3" descr=""/>
          <p:cNvPicPr/>
          <p:nvPr/>
        </p:nvPicPr>
        <p:blipFill>
          <a:blip r:embed="rId1"/>
          <a:stretch/>
        </p:blipFill>
        <p:spPr>
          <a:xfrm>
            <a:off x="5913360" y="3645000"/>
            <a:ext cx="208908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Nagel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94920" y="1557000"/>
            <a:ext cx="77072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komen van ingegroeide nagels en ontsteking aan het nagelbe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ud rekening met persoonlijke gewoon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Uitgangspunten bij verzorging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ingernagels rond knip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Teennagels recht knip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agels niet te kort knippen i.v.m. beschadiging nagelbe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arde nagels/zeer broze nagels: 10 minuten weken in wat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t op bij zorgvragers met een slechte bloedcirculatie in benen en voet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000" spc="-1" strike="noStrike" u="sng">
                <a:solidFill>
                  <a:srgbClr val="404040"/>
                </a:solidFill>
                <a:uFillTx/>
                <a:latin typeface="Trebuchet MS"/>
              </a:rPr>
              <a:t>knip zelf geen nagels bij diabeten!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immelnagels? Let extra op hygiëne!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zorging geslachtsorgan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250560" y="1699920"/>
            <a:ext cx="8064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n alert op schaamtegevoelens bij de zorgvrag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nitaal gebied: geslachtsorganen en anu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langrijk t.a.v. psychisch en sociaal welzijn, voorkomt infecties en een onaangename ge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rhoogde kans op infecties (warm, vochtig en weinig ventilatie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Zeepgebruik kan zuurgraad in de vagina verstoren (zuurgraad biedt bescherming tegen micro-organismen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Geslachtsorganen vrouw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80720" y="1628280"/>
            <a:ext cx="3601800" cy="42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 vanaf de schaamheuvel in de richting van de anu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 de anus in de richting van de ru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 u="sng">
                <a:solidFill>
                  <a:srgbClr val="404040"/>
                </a:solidFill>
                <a:uFillTx/>
                <a:latin typeface="Trebuchet MS"/>
              </a:rPr>
              <a:t>Verzorging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van boven naar beneden en van schoon naar vuil (vergeleken met de anus is de uitgang van de urinebuis een schoon gebied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8" name="Picture 2" descr="Afbeeldingsresultaat voor geslachtsorganen"/>
          <p:cNvPicPr/>
          <p:nvPr/>
        </p:nvPicPr>
        <p:blipFill>
          <a:blip r:embed="rId1"/>
          <a:stretch/>
        </p:blipFill>
        <p:spPr>
          <a:xfrm>
            <a:off x="4184640" y="2160720"/>
            <a:ext cx="49593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236520"/>
            <a:ext cx="634860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Geslachtsorganen ma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50560" y="1002960"/>
            <a:ext cx="670716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uif voorhuid terug tot achter de eikel, reinig de eikel en evt. smegma. Schuif voorhuid terug over de glans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 de anus in de richting van de ru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 u="sng">
                <a:solidFill>
                  <a:srgbClr val="404040"/>
                </a:solidFill>
                <a:uFillTx/>
                <a:latin typeface="Trebuchet MS"/>
              </a:rPr>
              <a:t>Verzorging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van boven naar beneden en van schoon naar vuil (vergeleken met de anus is de uitgang van de urinebuis een schoon gebied)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81" name="Picture 3" descr=""/>
          <p:cNvPicPr/>
          <p:nvPr/>
        </p:nvPicPr>
        <p:blipFill>
          <a:blip r:embed="rId1"/>
          <a:stretch/>
        </p:blipFill>
        <p:spPr>
          <a:xfrm>
            <a:off x="6156360" y="4786200"/>
            <a:ext cx="2987640" cy="20718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Afbeeldingsresultaat voor spaanse kraag"/>
          <p:cNvPicPr/>
          <p:nvPr/>
        </p:nvPicPr>
        <p:blipFill>
          <a:blip r:embed="rId2"/>
          <a:stretch/>
        </p:blipFill>
        <p:spPr>
          <a:xfrm>
            <a:off x="0" y="3670200"/>
            <a:ext cx="615636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6562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schillende soorten penisse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8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893880" y="2160720"/>
            <a:ext cx="2519280" cy="3881160"/>
          </a:xfrm>
          <a:prstGeom prst="rect">
            <a:avLst/>
          </a:prstGeom>
          <a:ln w="0">
            <a:noFill/>
          </a:ln>
        </p:spPr>
      </p:pic>
      <p:pic>
        <p:nvPicPr>
          <p:cNvPr id="485" name="Tijdelijke aanduiding voor inhoud 5" descr=""/>
          <p:cNvPicPr/>
          <p:nvPr/>
        </p:nvPicPr>
        <p:blipFill>
          <a:blip r:embed="rId2"/>
          <a:stretch/>
        </p:blipFill>
        <p:spPr>
          <a:xfrm>
            <a:off x="3868560" y="1930320"/>
            <a:ext cx="488016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Inhoud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09120" y="141264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achtspunten tijdens 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bservatie punt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uid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aar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ch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og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or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gel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zorging van de geslachtsorga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ssen zonder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kleden van de zorgvrag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5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Aandachtspunten tijdens verzorging 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22200" y="1250640"/>
            <a:ext cx="813744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In hoeverre heeft de zorgvrager ondersteuning/hulp nodig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Houd rekening met schaamtegevoelens!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Laat de zorgvrager niet onnodig bloot ligg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5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Aandachtspunten tijdens verzorging 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50920" y="1268280"/>
            <a:ext cx="81374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rivacy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ud rekening met hygiënische gewoonten van de zorgvrag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ijv. culturele gewoonten (bijv. scheren okselharen en schaamharen volgens de islam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as je aan, aan de mogelijkheden van de zorgvrag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(ZELFREDZAAMHEID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bservatie pun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ertheid/ gedra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mm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nditie huid/nagels/o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uid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590040" y="1557360"/>
            <a:ext cx="8310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ventariseer persoonlijke wensen van de zorgvrager t.a.v. watertemperatuur, zeepgebruik, bijzondere huidverzorging, evt. bijzondere aandachtspunten (bijv. pij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bserveer de eigenschappen van de huid; droge of vette huid? Pas zeepgebruik hierop aa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ij iedere wasbeurt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erk van boven naar bene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erk van schoon naar vui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Afdrogen van de huid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68360" y="1154160"/>
            <a:ext cx="6859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t vooral op de huidplooien!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chtige huid; kans op smetten (intertrigo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xtra alert zijn op smetten bij zorgvragers met overgewicht, veel transpiratie, incontinentie, contractu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un aanbrengen van barrièrespray/zalf of zinkolie, gebruik van scheurlinnen of non-wovengaa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dviseer katoenen kleding en goed aansluitende, niet knellende onderkled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kom onnodig transpireren van de zorgvrag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42" name="Afbeelding 1" descr=""/>
          <p:cNvPicPr/>
          <p:nvPr/>
        </p:nvPicPr>
        <p:blipFill>
          <a:blip r:embed="rId1"/>
          <a:stretch/>
        </p:blipFill>
        <p:spPr>
          <a:xfrm>
            <a:off x="5219640" y="4919760"/>
            <a:ext cx="37339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96520" y="246240"/>
            <a:ext cx="6348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Smet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61640" y="836280"/>
            <a:ext cx="6840360" cy="36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1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geïrriteerde huid is rood, intact. Preventieve maatregelen zijn voldoend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2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huid intact, felrood en glanzend.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reng zinkzalf, barrière crème/spray aa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3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kapotte, felrode of ontvelde huid, weke huid, scherpe rode wondlijn, schrijnend/brandend gevoel. </a:t>
            </a:r>
            <a:br>
              <a:rPr sz="2000"/>
            </a:b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reng zinkzalf aan, iom. arts een antischimmelprepara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4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huid is kapot; er is een witte, gele of groene verkleuring. Kans op onaangename geur: aanwijzingen voor infectie met Candida schimmel.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reng zinkzalf aan, iom. arts een antischimmelprepara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45" name="Afbeelding 3" descr=""/>
          <p:cNvPicPr/>
          <p:nvPr/>
        </p:nvPicPr>
        <p:blipFill>
          <a:blip r:embed="rId1"/>
          <a:stretch/>
        </p:blipFill>
        <p:spPr>
          <a:xfrm>
            <a:off x="2627280" y="5122800"/>
            <a:ext cx="1909800" cy="1443240"/>
          </a:xfrm>
          <a:prstGeom prst="rect">
            <a:avLst/>
          </a:prstGeom>
          <a:ln w="0">
            <a:noFill/>
          </a:ln>
        </p:spPr>
      </p:pic>
      <p:pic>
        <p:nvPicPr>
          <p:cNvPr id="446" name="Afbeelding 4" descr=""/>
          <p:cNvPicPr/>
          <p:nvPr/>
        </p:nvPicPr>
        <p:blipFill>
          <a:blip r:embed="rId2"/>
          <a:stretch/>
        </p:blipFill>
        <p:spPr>
          <a:xfrm>
            <a:off x="4829040" y="5110200"/>
            <a:ext cx="1881360" cy="1444680"/>
          </a:xfrm>
          <a:prstGeom prst="rect">
            <a:avLst/>
          </a:prstGeom>
          <a:ln w="0">
            <a:noFill/>
          </a:ln>
        </p:spPr>
      </p:pic>
      <p:pic>
        <p:nvPicPr>
          <p:cNvPr id="447" name="Afbeelding 5" descr=""/>
          <p:cNvPicPr/>
          <p:nvPr/>
        </p:nvPicPr>
        <p:blipFill>
          <a:blip r:embed="rId3"/>
          <a:stretch/>
        </p:blipFill>
        <p:spPr>
          <a:xfrm>
            <a:off x="6945480" y="5113440"/>
            <a:ext cx="1969920" cy="1477800"/>
          </a:xfrm>
          <a:prstGeom prst="rect">
            <a:avLst/>
          </a:prstGeom>
          <a:ln w="0">
            <a:noFill/>
          </a:ln>
        </p:spPr>
      </p:pic>
      <p:pic>
        <p:nvPicPr>
          <p:cNvPr id="448" name="Afbeelding 6" descr=""/>
          <p:cNvPicPr/>
          <p:nvPr/>
        </p:nvPicPr>
        <p:blipFill>
          <a:blip r:embed="rId4"/>
          <a:stretch/>
        </p:blipFill>
        <p:spPr>
          <a:xfrm>
            <a:off x="550800" y="5129280"/>
            <a:ext cx="178596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aar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94920" y="14842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langrijk t.b.v. psychisch welbevinden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agelijks: borstelen of kam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aren wassen naar behoeft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1" name="Afbeelding 3" descr=""/>
          <p:cNvPicPr/>
          <p:nvPr/>
        </p:nvPicPr>
        <p:blipFill>
          <a:blip r:embed="rId1"/>
          <a:stretch/>
        </p:blipFill>
        <p:spPr>
          <a:xfrm>
            <a:off x="604800" y="4067280"/>
            <a:ext cx="2205000" cy="2205000"/>
          </a:xfrm>
          <a:prstGeom prst="rect">
            <a:avLst/>
          </a:prstGeom>
          <a:ln w="0">
            <a:noFill/>
          </a:ln>
        </p:spPr>
      </p:pic>
      <p:pic>
        <p:nvPicPr>
          <p:cNvPr id="452" name="Afbeelding 4" descr=""/>
          <p:cNvPicPr/>
          <p:nvPr/>
        </p:nvPicPr>
        <p:blipFill>
          <a:blip r:embed="rId2"/>
          <a:stretch/>
        </p:blipFill>
        <p:spPr>
          <a:xfrm>
            <a:off x="3203640" y="406728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453" name="Afbeelding 5" descr=""/>
          <p:cNvPicPr/>
          <p:nvPr/>
        </p:nvPicPr>
        <p:blipFill>
          <a:blip r:embed="rId3"/>
          <a:stretch/>
        </p:blipFill>
        <p:spPr>
          <a:xfrm>
            <a:off x="5999040" y="3781440"/>
            <a:ext cx="191772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3T12:23:11Z</dcterms:created>
  <dc:creator>v/d Klooster</dc:creator>
  <dc:description/>
  <dc:language>en-US</dc:language>
  <cp:lastModifiedBy>Kievit, Eline</cp:lastModifiedBy>
  <dcterms:modified xsi:type="dcterms:W3CDTF">2020-10-09T14:07:06Z</dcterms:modified>
  <cp:revision>167</cp:revision>
  <dc:subject/>
  <dc:title>Dia 1</dc:title>
</cp:coreProperties>
</file>