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9D3B6-C7B3-4AE0-9519-FC0B014B325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AEA2F-E04C-4528-BEE0-730942313ED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7B24A-466A-43AD-9C76-2450363FFB9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CADCD-D418-49BA-A1AA-46C5475A1948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90E57-E67E-4068-AA95-2E4AD211940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AFD81-D0D4-4420-B193-D91441596F0C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71996-9842-4523-8130-7F1973B7AD5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FC36C-EF3D-4090-B9D3-DDD6B71ADD1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3CDE0-24F8-4C3B-B770-7C951EAEE71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3C7A4-E2F2-481C-AB28-5E6FAE4C5FB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B3519-0E88-484D-906F-88DAA550EC3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6C504-F493-4981-A1A0-A84D7C85E54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57E0B-1612-4EC7-89C7-FE7A0EE4638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08C65-F425-4E37-97E8-9D20742141F5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7B3F2-CABC-4F9E-902D-BAA60200989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276-9D08-4A76-97B0-868ECD09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791-F171-4CD6-BE3B-F258BF40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292-9157-4623-A748-ED9DF010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54A-3A04-45C1-BBFF-5CC9BF92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5580-B190-4396-8111-9B171472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ABB2-05C2-4CC1-9AFA-67E67E8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2A51-1E11-4197-A5B6-144F13D5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CE35-6CB0-4EA9-85F8-CC294F98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5ADD-CD5E-4D7D-A03E-8D08C370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9590-A090-4E66-BD0E-8F990329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9D26-6B61-4D1E-8610-B4FFD5F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8DA-545F-4589-99DA-86D820A0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F63A-0BF1-42E7-80EE-90216603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8A0B-A334-4BA4-9880-4599F938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B1F2-7314-4633-89F3-B6D2ACCB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DCB7-1E75-44C9-A3D9-D6FA2A91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9A89-5C30-478B-9409-F9523546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3433-336F-4117-A919-6244B23B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9A906-C68C-4AD7-92E7-9DB9249F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667B-145A-4297-BC05-3920C7D6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B98D-5948-47EB-8B38-70E72D6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4DBB-1A83-4BA7-A6DD-72ED1966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826-A3F5-4F41-BF5C-BC18EA47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8FA6-B762-464D-B95C-C737E373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A20E-AAAA-4B4B-A4E1-588D83F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1ED37-8F22-4D03-AF0C-AB8287AE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B55B-1BED-4081-B551-11E5FADD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63C2-8190-47D2-816A-BABEA71D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A663-CDFE-41B5-808F-3C9D4375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AA08-4C98-4DF3-AA36-83A3BF96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D129C-5E1B-4D2C-B1B5-989497E4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47BE-F373-4E40-88CF-A61E0B16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352B8-3E9B-4828-A76B-71E2F2E0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201-BB8B-4831-92B2-30757B10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9FDF-368B-41CE-866E-ED9B0E26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DFF1A-0D3B-4052-BEF5-69DEAAC3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BAD1-0A51-4948-8F40-555D924C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CBFCC-E91C-4420-B210-AD2D820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1EE5-FB61-4D6D-B126-1A3C8198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A3F2-2ECC-4979-9364-9377CFD1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DEC3-BCF6-4AD8-83FE-6C2C62B5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B8E8-32E4-4123-8BA2-84B80A04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B37B8-42D7-498F-9CA2-FEE2CEDF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711A-E1B4-45C5-A18D-837B9526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8E0-E2F0-4112-A454-CCEEEB21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8E67F-0944-4CC7-97AF-49C92D2B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3F85-D713-4BFA-B167-EC03A65A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BFDF0-04B8-43A6-8D57-71DF714E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2BCD-2A82-4A77-ABB9-20745C04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3D556-7E6E-4BA3-B8AA-1B9082CE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570D-D0C2-49DC-BAFE-9CE24D5A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3957-7330-4916-BD2B-74EC9F5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C126A-D0A2-4240-8EB2-CE4F7F99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169AE-9FDA-4379-A0C0-739E64A7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12D44-FFBF-4A05-8C2B-EA05980E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5A1-9BDA-4AFE-8DE8-B782B0EC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42A8D-BEC8-48CB-8D70-7CC09822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2954-A2C4-45A8-BEF0-EDCAEF45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1219D-8F7A-49EF-BF89-588870A0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9C5CC-DD2A-4C15-A557-F444E045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9AEB-A3D4-4C9E-BE05-5A6933AF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5852B-2674-4CC4-82F6-D1530558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FB422-FCA0-4DCE-9E1E-3A6D4CB6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F05F-7971-4070-A068-B177F32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18347-D078-4D99-9368-DF0E55F8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8E216-5378-4DB6-84D5-7DC26A88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758-F12E-4647-B643-7D5CE06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3C70-06E0-4AF7-8229-05C74E9A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8E1D7-1A40-42F9-8A10-94D15E00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EC0BC-F2B4-4999-8AD8-EF344FE1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6D601-D5A8-4563-AD09-D388E5F8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F670-2334-4482-82AC-AD88ADEC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49BE-F626-4B7A-9CDA-0A8CCD2A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88145-AD32-4BFF-B16E-71F1B9B0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B4386-172D-4FED-B80A-792D4112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AD4AB-BF9E-4800-95BB-2D666DC9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4D02-8A93-48A3-BF34-6CC619A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AD5-DBED-461C-8522-7162A6F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7111C-4943-4E92-A46D-D9FBF7B8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4F56-89C5-4BE7-BB95-809D857F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BBE60-3E00-4BB0-9EE4-7CB3D1D4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1B2B2-65FD-4B1B-ACEA-0297F6B4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CC92-92C8-41B7-9BAF-09BB8AE1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80C4B-E1DE-47DA-91AB-0BA33AF9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22E1F-150B-4F61-A54D-33078A49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DECD-89A9-4D65-8073-31999247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0A174-13B3-4AC1-A35E-27C0F589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AA2C8-7EE6-4C56-9EF8-4F66C1AC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B9A-3E4F-4D6C-8584-9FB0F85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0DF4-934E-4141-B738-23242C00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B3E9-9A3A-47A0-8180-0BEE76A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28D50-F356-411B-AAA3-5BF25EE4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634A1-830A-4252-B35B-FA14BB52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E71B6-3B43-417A-B467-B5525780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9C1DE-4522-434A-AFE8-F4DF68B4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6CFFC-3F2A-4891-A23C-B4C43D37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8B98A-5935-452E-807C-9ACF8305795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3E130-EA3E-4643-BA9F-867FB9293C95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A7151-3881-4D95-B106-30EB7EF0C46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E5083-E867-43AA-8055-C1297941F78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0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D1982-9C39-47B8-B3CA-98B05118AE1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24D78-5AC7-499A-95E2-573E6797223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1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92B4A-7E78-4EB1-9BDB-120D6E2B7F5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6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AF3CF-6ADD-4EE7-BCBC-5DE040629DE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30400" y="2077560"/>
            <a:ext cx="4309920" cy="307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4000"/>
            </a:b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3764160" cy="136836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1"/>
          <p:cNvSpPr/>
          <p:nvPr/>
        </p:nvSpPr>
        <p:spPr>
          <a:xfrm>
            <a:off x="1692360" y="43862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eb3d9f"/>
                </a:solidFill>
                <a:latin typeface="Trebuchet MS"/>
              </a:rPr>
              <a:t>Wassen &amp; aankled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cher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585360" y="1654200"/>
            <a:ext cx="7921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meeste mannen onderdeel van de dagelijkse verzor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er eerst met de haargroei mee daarna nog ertegen in indien gewens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rek de huid strak bij scheren met scheerm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en vrouw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sch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6" name="Afbeelding 3" descr=""/>
          <p:cNvPicPr/>
          <p:nvPr/>
        </p:nvPicPr>
        <p:blipFill>
          <a:blip r:embed="rId1"/>
          <a:stretch/>
        </p:blipFill>
        <p:spPr>
          <a:xfrm>
            <a:off x="395280" y="478944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457" name="Afbeelding 4" descr=""/>
          <p:cNvPicPr/>
          <p:nvPr/>
        </p:nvPicPr>
        <p:blipFill>
          <a:blip r:embed="rId2"/>
          <a:stretch/>
        </p:blipFill>
        <p:spPr>
          <a:xfrm>
            <a:off x="2530440" y="4832280"/>
            <a:ext cx="1606680" cy="1608120"/>
          </a:xfrm>
          <a:prstGeom prst="rect">
            <a:avLst/>
          </a:prstGeom>
          <a:ln w="0">
            <a:noFill/>
          </a:ln>
        </p:spPr>
      </p:pic>
      <p:pic>
        <p:nvPicPr>
          <p:cNvPr id="458" name="Afbeelding 5" descr=""/>
          <p:cNvPicPr/>
          <p:nvPr/>
        </p:nvPicPr>
        <p:blipFill>
          <a:blip r:embed="rId3"/>
          <a:stretch/>
        </p:blipFill>
        <p:spPr>
          <a:xfrm>
            <a:off x="4268880" y="3763800"/>
            <a:ext cx="1952640" cy="2806920"/>
          </a:xfrm>
          <a:prstGeom prst="rect">
            <a:avLst/>
          </a:prstGeom>
          <a:ln w="0">
            <a:noFill/>
          </a:ln>
        </p:spPr>
      </p:pic>
      <p:pic>
        <p:nvPicPr>
          <p:cNvPr id="459" name="Afbeelding 6" descr=""/>
          <p:cNvPicPr/>
          <p:nvPr/>
        </p:nvPicPr>
        <p:blipFill>
          <a:blip r:embed="rId4"/>
          <a:stretch/>
        </p:blipFill>
        <p:spPr>
          <a:xfrm>
            <a:off x="6603840" y="417024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gverzorg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32372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sen van de buitenste naar de binnenste oogh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geen zee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watten/gaasjes en een fysiologische zoutoplossing bij korst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hygiëne van br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tactlen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ogprothe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2" name="Afbeelding 3" descr=""/>
          <p:cNvPicPr/>
          <p:nvPr/>
        </p:nvPicPr>
        <p:blipFill>
          <a:blip r:embed="rId1"/>
          <a:stretch/>
        </p:blipFill>
        <p:spPr>
          <a:xfrm>
            <a:off x="4908600" y="4884840"/>
            <a:ext cx="2533680" cy="1689120"/>
          </a:xfrm>
          <a:prstGeom prst="rect">
            <a:avLst/>
          </a:prstGeom>
          <a:ln w="0">
            <a:noFill/>
          </a:ln>
        </p:spPr>
      </p:pic>
      <p:pic>
        <p:nvPicPr>
          <p:cNvPr id="463" name="Afbeelding 4" descr=""/>
          <p:cNvPicPr/>
          <p:nvPr/>
        </p:nvPicPr>
        <p:blipFill>
          <a:blip r:embed="rId2"/>
          <a:stretch/>
        </p:blipFill>
        <p:spPr>
          <a:xfrm>
            <a:off x="971640" y="4870440"/>
            <a:ext cx="3012840" cy="170352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1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26416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on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480" y="141264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langrijk voor de conditie van het gebit en de slijmvliez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zn. tandenstokers, tandflos, spoelwater,borsteltj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inig de gebitsprothes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n alert op stomatitis (pijnlijk, ontstoken slijmvlies: rood, glimmend en opgezwollen); verhoogde kans bij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koo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/geringe vochtinna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sufte of bewusteloze zorgvrag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echte slikfunc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aald medicatiegebruik (antibiotica, cytostatica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minderde weer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Afbeelding 3" descr=""/>
          <p:cNvPicPr/>
          <p:nvPr/>
        </p:nvPicPr>
        <p:blipFill>
          <a:blip r:embed="rId1"/>
          <a:stretch/>
        </p:blipFill>
        <p:spPr>
          <a:xfrm>
            <a:off x="7716960" y="529416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8" name="Afbeelding 1" descr=""/>
          <p:cNvPicPr/>
          <p:nvPr/>
        </p:nvPicPr>
        <p:blipFill>
          <a:blip r:embed="rId2"/>
          <a:stretch/>
        </p:blipFill>
        <p:spPr>
          <a:xfrm>
            <a:off x="5945040" y="4149720"/>
            <a:ext cx="17179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o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560" y="1396800"/>
            <a:ext cx="79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 normale functie van het oor: wassen van het buitenoor is voldo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wijder zn. oorsmeer een opgerold, vochtig watj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inig zn. het gehoortoestel. (oorstukje met wa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t goed op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l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r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hoorappar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roleer batterij van he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hoortoestel regelmat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1" name="Afbeelding 3" descr=""/>
          <p:cNvPicPr/>
          <p:nvPr/>
        </p:nvPicPr>
        <p:blipFill>
          <a:blip r:embed="rId1"/>
          <a:stretch/>
        </p:blipFill>
        <p:spPr>
          <a:xfrm>
            <a:off x="5913360" y="3645000"/>
            <a:ext cx="20890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agel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557000"/>
            <a:ext cx="7707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en van ingegroeide nagels en ontsteking aan het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ud rekening met persoonlijke gewoon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gangspunten bij verzorging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ingernagels rond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eennagels recht kni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gels niet te kort knippen i.v.m. beschadiging nagelb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de nagels/zeer broze nagels: 10 minuten weken in 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op bij zorgvragers met een slechte bloedcirculatie in benen en voet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knip zelf geen nagels bij diabeten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immelnagels? Let extra op hygiëne!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ing geslachtsorgan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560" y="169992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n alert op schaamtegevoelens bij de zorgvrag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nitaal gebied: geslachtsorganen en an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 t.a.v. psychisch en sociaal welzijn, voorkomt infecties en een onaangename ge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hoogde kans op infecties (warm, vochtig en weinig ventilatie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eepgebruik kan zuurgraad in de vagina verstoren (zuurgraad biedt bescherming tegen micro-organism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vrouw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80720" y="1628280"/>
            <a:ext cx="36018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vanaf de schaamheuvel in de richting van de an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Picture 2" descr="Afbeeldingsresultaat voor geslachtsorganen"/>
          <p:cNvPicPr/>
          <p:nvPr/>
        </p:nvPicPr>
        <p:blipFill>
          <a:blip r:embed="rId1"/>
          <a:stretch/>
        </p:blipFill>
        <p:spPr>
          <a:xfrm>
            <a:off x="4184640" y="2160720"/>
            <a:ext cx="4959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36520"/>
            <a:ext cx="63486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Geslachtsorganen ma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560" y="1002960"/>
            <a:ext cx="6707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f voorhuid terug tot achter de eikel, reinig de eikel en evt. smegma. Schuif voorhuid terug over de glans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s de anus in de richting van de ru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 u="sng">
                <a:solidFill>
                  <a:srgbClr val="404040"/>
                </a:solidFill>
                <a:uFillTx/>
                <a:latin typeface="Trebuchet MS"/>
              </a:rPr>
              <a:t>Verzorging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van boven naar beneden en van schoon naar vuil (vergeleken met de anus is de uitgang van de urinebuis een schoon gebied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156360" y="4786200"/>
            <a:ext cx="2987640" cy="2071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fbeeldingsresultaat voor spaanse kraag"/>
          <p:cNvPicPr/>
          <p:nvPr/>
        </p:nvPicPr>
        <p:blipFill>
          <a:blip r:embed="rId2"/>
          <a:stretch/>
        </p:blipFill>
        <p:spPr>
          <a:xfrm>
            <a:off x="0" y="3670200"/>
            <a:ext cx="6156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6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schillende soorten peniss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893880" y="2160720"/>
            <a:ext cx="2519280" cy="3881160"/>
          </a:xfrm>
          <a:prstGeom prst="rect">
            <a:avLst/>
          </a:prstGeom>
          <a:ln w="0">
            <a:noFill/>
          </a:ln>
        </p:spPr>
      </p:pic>
      <p:pic>
        <p:nvPicPr>
          <p:cNvPr id="485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3868560" y="1930320"/>
            <a:ext cx="488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Inhoud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4126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spunten tijdens 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bservatie punt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a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g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r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gelverzor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zorging van de geslachts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ssen zond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kleden van de zorgvrag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22200" y="1250640"/>
            <a:ext cx="8137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hoeverre heeft de zorgvrager ondersteuning/hulp nodig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oud rekening met schaamtegevoelens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aat de zorgvrager niet onnodig bloot ligg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Aandachtspunten tijdens verzorging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268280"/>
            <a:ext cx="8137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ivac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 rekening met hygiënische gewoont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v. culturele gewoonten (bijv. scheren okselharen en schaamharen volgens de isla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as je aan, aan de mogelijkheden van de zorgvrag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(ZELFREDZAAMHEI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bservatie pun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ertheid/ gedr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m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ditie huid/nagels/o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uid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040" y="1557360"/>
            <a:ext cx="8310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ventariseer persoonlijke wensen van de zorgvrager t.a.v. watertemperatuur, zeepgebruik, bijzondere huidverzorging, evt. bijzondere aandachtspunten (bijv. pij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bserveer de eigenschappen van de huid; droge of vette huid? Pas zeepgebruik hierop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ij iedere wasbeurt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boven naar bene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 van schoon naar vui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fdrogen van de huid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8360" y="1154160"/>
            <a:ext cx="685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t vooral op de huidplooien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chtige huid; kans op smetten (intertrigo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xtra alert zijn op smetten bij zorgvragers met overgewicht, veel transpiratie, incontinentie, contractu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un aanbrengen van barrièrespray/zalf of zinkolie, gebruik van scheurlinnen of non-wovengaa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dviseer katoenen kleding en goed aansluitende, niet knellende onderkl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kom onnodig transpireren van de zorgvra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2" name="Afbeelding 1" descr=""/>
          <p:cNvPicPr/>
          <p:nvPr/>
        </p:nvPicPr>
        <p:blipFill>
          <a:blip r:embed="rId1"/>
          <a:stretch/>
        </p:blipFill>
        <p:spPr>
          <a:xfrm>
            <a:off x="5219640" y="4919760"/>
            <a:ext cx="3733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96520" y="246240"/>
            <a:ext cx="6348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Sme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640" y="836280"/>
            <a:ext cx="684036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1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geïrriteerde huid is rood, intact. Preventieve maatregelen zijn voldoen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ntact, felrood en glanzend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, barrière crème/spray aa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3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kapotte, felrode of ontvelde huid, weke huid, scherpe rode wondlijn, schrijnend/brandend gevoel. 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se 4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: huid is kapot; er is een witte, gele of groene verkleuring. Kans op onaangename geur: aanwijzingen voor infectie met Candida schimmel.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reng zinkzalf aan, iom. arts een antischimmelprepa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Afbeelding 3" descr=""/>
          <p:cNvPicPr/>
          <p:nvPr/>
        </p:nvPicPr>
        <p:blipFill>
          <a:blip r:embed="rId1"/>
          <a:stretch/>
        </p:blipFill>
        <p:spPr>
          <a:xfrm>
            <a:off x="2627280" y="5122800"/>
            <a:ext cx="1909800" cy="14432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"/>
          <p:cNvPicPr/>
          <p:nvPr/>
        </p:nvPicPr>
        <p:blipFill>
          <a:blip r:embed="rId2"/>
          <a:stretch/>
        </p:blipFill>
        <p:spPr>
          <a:xfrm>
            <a:off x="4829040" y="5110200"/>
            <a:ext cx="1881360" cy="1444680"/>
          </a:xfrm>
          <a:prstGeom prst="rect">
            <a:avLst/>
          </a:prstGeom>
          <a:ln w="0">
            <a:noFill/>
          </a:ln>
        </p:spPr>
      </p:pic>
      <p:pic>
        <p:nvPicPr>
          <p:cNvPr id="447" name="Afbeelding 5" descr=""/>
          <p:cNvPicPr/>
          <p:nvPr/>
        </p:nvPicPr>
        <p:blipFill>
          <a:blip r:embed="rId3"/>
          <a:stretch/>
        </p:blipFill>
        <p:spPr>
          <a:xfrm>
            <a:off x="6945480" y="5113440"/>
            <a:ext cx="1969920" cy="1477800"/>
          </a:xfrm>
          <a:prstGeom prst="rect">
            <a:avLst/>
          </a:prstGeom>
          <a:ln w="0">
            <a:noFill/>
          </a:ln>
        </p:spPr>
      </p:pic>
      <p:pic>
        <p:nvPicPr>
          <p:cNvPr id="448" name="Afbeelding 6" descr=""/>
          <p:cNvPicPr/>
          <p:nvPr/>
        </p:nvPicPr>
        <p:blipFill>
          <a:blip r:embed="rId4"/>
          <a:stretch/>
        </p:blipFill>
        <p:spPr>
          <a:xfrm>
            <a:off x="550800" y="5129280"/>
            <a:ext cx="1785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aarverzorging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84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 t.b.v. psychisch welbevinden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agelijks: borstelen of kam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aren wassen naar behoef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1" name="Afbeelding 3" descr=""/>
          <p:cNvPicPr/>
          <p:nvPr/>
        </p:nvPicPr>
        <p:blipFill>
          <a:blip r:embed="rId1"/>
          <a:stretch/>
        </p:blipFill>
        <p:spPr>
          <a:xfrm>
            <a:off x="604800" y="4067280"/>
            <a:ext cx="2205000" cy="2205000"/>
          </a:xfrm>
          <a:prstGeom prst="rect">
            <a:avLst/>
          </a:prstGeom>
          <a:ln w="0">
            <a:noFill/>
          </a:ln>
        </p:spPr>
      </p:pic>
      <p:pic>
        <p:nvPicPr>
          <p:cNvPr id="452" name="Afbeelding 4" descr=""/>
          <p:cNvPicPr/>
          <p:nvPr/>
        </p:nvPicPr>
        <p:blipFill>
          <a:blip r:embed="rId2"/>
          <a:stretch/>
        </p:blipFill>
        <p:spPr>
          <a:xfrm>
            <a:off x="3203640" y="4067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453" name="Afbeelding 5" descr=""/>
          <p:cNvPicPr/>
          <p:nvPr/>
        </p:nvPicPr>
        <p:blipFill>
          <a:blip r:embed="rId3"/>
          <a:stretch/>
        </p:blipFill>
        <p:spPr>
          <a:xfrm>
            <a:off x="5999040" y="3781440"/>
            <a:ext cx="19177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2:23:11Z</dcterms:created>
  <dc:creator>v/d Klooster</dc:creator>
  <dc:description/>
  <dc:language>en-US</dc:language>
  <cp:lastModifiedBy>Kievit, Eline</cp:lastModifiedBy>
  <dcterms:modified xsi:type="dcterms:W3CDTF">2020-10-09T14:07:06Z</dcterms:modified>
  <cp:revision>167</cp:revision>
  <dc:subject/>
  <dc:title>Dia 1</dc:title>
</cp:coreProperties>
</file>