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2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2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 type="sldNum" idx="2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AB2D2-B2EE-443E-9A0F-ABC81ECAB781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68124-B8F8-4569-AD5F-774109FA23FC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0F6023-0F76-49CC-88F2-AF046A305458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98602-C035-4CFA-ADB2-FD941AE32D14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8B537-BBC7-4018-8B68-D91A24B5D49B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29B244-90D2-4AA6-BAA6-6F3BA5D4655E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66FDF-00C9-4DF1-8D14-39E3877496AC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5EB1B-3F56-4C22-96E7-0465CB502CCA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D15A2-117C-44BA-843E-3835A9D8C1A1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EAA5A-26AF-4205-B3E1-FFB42AF31954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E871D-03FD-45DF-B986-7EDE6557A938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804AD-5627-4337-9422-0BDF58B8341D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67B00-FB07-4078-9DF6-384BD2B2163F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F8FEE-3093-4022-9811-BAF277284E59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4AFF3-DB8C-444F-8A79-9E9F74346CD2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7B5-BAC0-40B3-8E25-0E2E6E0C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5AC4-7180-4766-A31D-6F71D901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514-93B7-43C3-969F-677F690A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2A6-5B68-47BA-AA5A-DDA768BB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1D84-A817-4D05-8A3E-50CDA797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FE14-4A6A-459C-A701-0D2220A5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B155-A702-413F-97E2-99E89776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56FF-78A0-436B-B787-F6530FF3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2DF6-34CF-4DD9-9842-61EB1E3C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A13F-1577-4101-8D78-40F9AC4B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2C50-3DA3-448B-99DA-86ABE70E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39F-4DBE-4CE2-9FED-E82323F3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8627-956E-4CE0-B0DE-67A10B39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4103-BBC8-45B1-957B-8420A072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97A8-BE47-42BE-9E95-B1433430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EC9F-51F0-40A8-9F8A-73E65138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492F-2A86-4C94-AC04-056072AA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90AF5-7DE0-456F-A180-7A335CF9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627C8-0614-4EB7-98B5-9DFB8A22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9F92C-517A-41CD-AE27-46EFCD16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9CA23-5ECB-4833-9FBF-4A457358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7A8B8-3C83-463A-BE01-B0821672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E2B9-A72B-47DC-8BC6-C41F8973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41210-9B9A-446C-8D80-43DAB75B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1EA17-023F-43E5-937C-EFAC58B4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5F66F-5DBC-484D-A541-7EE7DE6E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B77D2-C490-44C3-9C53-95069846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99EA9-3EAA-4308-A4E1-1ABE9E1D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694A4-E6F4-4C3D-8E66-E22A8D5A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449EE-A539-4E35-BB7A-24BBE903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02226-B5B8-4B93-B24F-7B27FE8F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12FB0-8E5F-4F21-B84B-6D76EC6A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17CDC-5D11-4876-93EF-E275766D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788A-469A-4630-827B-67827993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5CC16-60B8-4E2D-9FC7-C54A7F04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9DCEA-ABBC-4E71-9833-CCD2EA58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53873-821B-4C32-9F8E-6D725B46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0409F-84DC-46A8-9338-2645C501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1C680-BAE1-4A82-B0D1-0ADBD131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87B01-C5EF-4602-AA05-B0C46176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BB5F7-18A8-46F6-89EB-8C37ED0F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95253-B42E-4414-BBFA-12CFEC26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3C0F0-3641-44E5-946B-0A16A629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771E6-6582-47BD-BD25-CFDE102D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5FB-1824-4495-A06A-FC2898BB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4686A-F059-4F6D-B174-44C26397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5BAE7-E7B3-4185-A9CE-78540CFD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20CBA-B3E9-4B83-8334-B2C63943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2BDC0-B6AD-4CE9-88BA-BBF8351A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46498-CDB9-44CA-8F65-1DB136D1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60401-7201-43B4-82FD-A836CADD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0FA29-64BA-4A3C-8AE2-5EB10EC7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E7C27-94BA-4C88-9612-8F2C81CD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B211D-44EC-41B4-BE13-2B52624B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762F5-6A78-4B39-8026-7BB5E490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AB4-57B7-41ED-84F6-1387AA4E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3A90F-8591-4FEF-875B-9B106666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E5389-B88E-4AF3-A4A3-58243043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2B927-4B38-4F19-8F97-0F01130E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917E3-2251-4AEE-9AB0-2A04175A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B59A4-5146-4102-ADBB-EFA2D8FB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EC225-0CD3-46F8-A50B-838CE48C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7C17A-8BF2-420D-ACF8-13328A05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61A87-0E94-4EF7-A1F7-80CCC4C5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295E2-EDD2-4E1F-8A57-13380021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72289-BA17-437E-9EED-5F43EC4F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FEA2-B120-4A06-802C-6E7205E5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39F72-C899-4615-BFA5-6FC28D1B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C4B78-1A1F-4F3C-9F61-DFA9AE14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6D606-22DF-45DD-B571-BE40100B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4F769-E3EB-45D1-AB6D-49F7F586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32252-9204-4A94-86B7-22D03AAF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7DCE0-575C-4B01-A982-A28EA241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15398-07F3-4451-B952-4AEB93EE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88E2E-EC51-47E8-A4DC-DF3E1761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F1FEA-09C9-4475-AA0E-F9500316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6058E-68DF-4C97-A408-BD02FCB9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1541-F83E-4602-8F49-846871B1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C2253-DE31-454F-B72B-B7B2E28C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4DD5C-D80B-4D4A-9E70-6C9AE09D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7CAED-F4E4-4659-B702-AAAB93F5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FA3D0-BA21-4CE6-9B66-C489140F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F794E-7DA2-450C-9B21-D3C593FB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C5C59-F7A0-4032-84B1-B690054E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0AFA3-1A5E-4FE8-B37B-03A0DAE1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75BFB-5D09-4D9E-9D52-11DFA152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64C40-972A-48D1-B4CF-9A6B1D84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0D3F6-DD82-46D4-91C0-FBB96270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0C39-A4E5-4432-94F8-6F0B2059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28DB0-A434-489D-99E9-1E049F09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91010-F425-4E0D-994E-8B77951D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4FDAB-1572-41C8-A9CC-77F99E49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6C30F-D431-437C-8799-6B3CEA37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894A0-81C9-4E26-8D8C-B542CDBF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8C1F3-0392-437F-939D-01131E7E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44528-426E-4448-BA73-7068AFAD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49B8E-0132-42BE-91E6-E6C75437D18F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9679B-A81D-44E1-83FA-D4E44E9363DF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4F0A5-61ED-4F8F-AF47-DEF97D3F5134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12A32-33AD-4F25-A22C-D0B7BE6A253D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0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66B0A-D007-4280-9A9E-F3C803C1A421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6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F582F-17CD-4B7F-929F-56DF5117F96B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1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3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94B96-D225-4796-A2E8-E3B5230CA13A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6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7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19A3B-3AFA-4712-8C6A-62E9998BA13E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30400" y="2077560"/>
            <a:ext cx="4309920" cy="307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Thema 1 </a:t>
            </a:r>
            <a:br>
              <a:rPr sz="4000"/>
            </a:b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Basiszorg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28" name="Afbeelding 3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3764160" cy="136836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1"/>
          <p:cNvSpPr/>
          <p:nvPr/>
        </p:nvSpPr>
        <p:spPr>
          <a:xfrm>
            <a:off x="1692360" y="4386240"/>
            <a:ext cx="57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eb3d9f"/>
                </a:solidFill>
                <a:latin typeface="Trebuchet MS"/>
              </a:rPr>
              <a:t>Wassen &amp; aankled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Scher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585360" y="1654200"/>
            <a:ext cx="7921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ij meeste mannen onderdeel van de dagelijkse verzorg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er eerst met de haargroei mee daarna nog ertegen in indien gewenst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rek de huid strak bij scheren met scheerm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ren vrouw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tsch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oogsch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6" name="Afbeelding 3" descr=""/>
          <p:cNvPicPr/>
          <p:nvPr/>
        </p:nvPicPr>
        <p:blipFill>
          <a:blip r:embed="rId1"/>
          <a:stretch/>
        </p:blipFill>
        <p:spPr>
          <a:xfrm>
            <a:off x="395280" y="4789440"/>
            <a:ext cx="2724120" cy="1676520"/>
          </a:xfrm>
          <a:prstGeom prst="rect">
            <a:avLst/>
          </a:prstGeom>
          <a:ln w="0">
            <a:noFill/>
          </a:ln>
        </p:spPr>
      </p:pic>
      <p:pic>
        <p:nvPicPr>
          <p:cNvPr id="457" name="Afbeelding 4" descr=""/>
          <p:cNvPicPr/>
          <p:nvPr/>
        </p:nvPicPr>
        <p:blipFill>
          <a:blip r:embed="rId2"/>
          <a:stretch/>
        </p:blipFill>
        <p:spPr>
          <a:xfrm>
            <a:off x="2530440" y="4832280"/>
            <a:ext cx="1606680" cy="1608120"/>
          </a:xfrm>
          <a:prstGeom prst="rect">
            <a:avLst/>
          </a:prstGeom>
          <a:ln w="0">
            <a:noFill/>
          </a:ln>
        </p:spPr>
      </p:pic>
      <p:pic>
        <p:nvPicPr>
          <p:cNvPr id="458" name="Afbeelding 5" descr=""/>
          <p:cNvPicPr/>
          <p:nvPr/>
        </p:nvPicPr>
        <p:blipFill>
          <a:blip r:embed="rId3"/>
          <a:stretch/>
        </p:blipFill>
        <p:spPr>
          <a:xfrm>
            <a:off x="4268880" y="3763800"/>
            <a:ext cx="1952640" cy="2806920"/>
          </a:xfrm>
          <a:prstGeom prst="rect">
            <a:avLst/>
          </a:prstGeom>
          <a:ln w="0">
            <a:noFill/>
          </a:ln>
        </p:spPr>
      </p:pic>
      <p:pic>
        <p:nvPicPr>
          <p:cNvPr id="459" name="Afbeelding 6" descr=""/>
          <p:cNvPicPr/>
          <p:nvPr/>
        </p:nvPicPr>
        <p:blipFill>
          <a:blip r:embed="rId4"/>
          <a:stretch/>
        </p:blipFill>
        <p:spPr>
          <a:xfrm>
            <a:off x="6603840" y="417024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ogverzorg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09480" y="1323720"/>
            <a:ext cx="7707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sen van de buitenste naar de binnenste oogho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geen zee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zn. watten/gaasjes en een fysiologische zoutoplossing bij korstvorm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op hygiëne van bri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ontactlenz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ogprothe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2" name="Afbeelding 3" descr=""/>
          <p:cNvPicPr/>
          <p:nvPr/>
        </p:nvPicPr>
        <p:blipFill>
          <a:blip r:embed="rId1"/>
          <a:stretch/>
        </p:blipFill>
        <p:spPr>
          <a:xfrm>
            <a:off x="4908600" y="4884840"/>
            <a:ext cx="2533680" cy="1689120"/>
          </a:xfrm>
          <a:prstGeom prst="rect">
            <a:avLst/>
          </a:prstGeom>
          <a:ln w="0">
            <a:noFill/>
          </a:ln>
        </p:spPr>
      </p:pic>
      <p:pic>
        <p:nvPicPr>
          <p:cNvPr id="463" name="Afbeelding 4" descr=""/>
          <p:cNvPicPr/>
          <p:nvPr/>
        </p:nvPicPr>
        <p:blipFill>
          <a:blip r:embed="rId2"/>
          <a:stretch/>
        </p:blipFill>
        <p:spPr>
          <a:xfrm>
            <a:off x="971640" y="4870440"/>
            <a:ext cx="3012840" cy="1703520"/>
          </a:xfrm>
          <a:prstGeom prst="rect">
            <a:avLst/>
          </a:prstGeom>
          <a:ln w="0">
            <a:noFill/>
          </a:ln>
        </p:spPr>
      </p:pic>
      <p:pic>
        <p:nvPicPr>
          <p:cNvPr id="464" name="Afbeelding 1" descr=""/>
          <p:cNvPicPr/>
          <p:nvPr/>
        </p:nvPicPr>
        <p:blipFill>
          <a:blip r:embed="rId3"/>
          <a:stretch/>
        </p:blipFill>
        <p:spPr>
          <a:xfrm>
            <a:off x="5003640" y="2708280"/>
            <a:ext cx="26416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ond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09480" y="1412640"/>
            <a:ext cx="7562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langrijk voor de conditie van het gebit en de slijmvliez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zn. tandenstokers, tandflos, spoelwater,borsteltj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inig de gebitsprothes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n alert op stomatitis (pijnlijk, ontstoken slijmvlies: rood, glimmend en opgezwollen); verhoogde kans bij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ge koort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en/geringe vochtinnam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sufte of bewusteloze zorgvrag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echte slikfunc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paald medicatiegebruik (antibiotica, cytostatica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minderde weerstand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7" name="Afbeelding 3" descr=""/>
          <p:cNvPicPr/>
          <p:nvPr/>
        </p:nvPicPr>
        <p:blipFill>
          <a:blip r:embed="rId1"/>
          <a:stretch/>
        </p:blipFill>
        <p:spPr>
          <a:xfrm>
            <a:off x="7716960" y="529416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468" name="Afbeelding 1" descr=""/>
          <p:cNvPicPr/>
          <p:nvPr/>
        </p:nvPicPr>
        <p:blipFill>
          <a:blip r:embed="rId2"/>
          <a:stretch/>
        </p:blipFill>
        <p:spPr>
          <a:xfrm>
            <a:off x="5945040" y="4149720"/>
            <a:ext cx="17179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or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50560" y="1396800"/>
            <a:ext cx="7994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 normale functie van het oor: wassen van het buitenoor is voldoen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rwijder zn. oorsmeer een opgerold, vochtig watj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inig zn. het gehoortoestel. (oorstukje met wat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et goed op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li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re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hoorappara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ontroleer batterij van he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hoortoestel regelmat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1" name="Afbeelding 3" descr=""/>
          <p:cNvPicPr/>
          <p:nvPr/>
        </p:nvPicPr>
        <p:blipFill>
          <a:blip r:embed="rId1"/>
          <a:stretch/>
        </p:blipFill>
        <p:spPr>
          <a:xfrm>
            <a:off x="5913360" y="3645000"/>
            <a:ext cx="208908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agel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94920" y="1557000"/>
            <a:ext cx="77072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komen van ingegroeide nagels en ontsteking aan het nagelb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ud rekening met persoonlijke gewoon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Uitgangspunten bij verzorging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ingernagels rond kni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eennagels recht kni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gels niet te kort knippen i.v.m. beschadiging nagelb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rde nagels/zeer broze nagels: 10 minuten weken in 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op bij zorgvragers met een slechte bloedcirculatie in benen en voet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knip zelf geen nagels bij diabeten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immelnagels? Let extra op hygiëne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ing geslachtsorgan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50560" y="169992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n alert op schaamtegevoelens bij de zorgvrag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nitaal gebied: geslachtsorganen en anu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langrijk t.a.v. psychisch en sociaal welzijn, voorkomt infecties en een onaangename ge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hoogde kans op infecties (warm, vochtig en weinig ventilatie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Zeepgebruik kan zuurgraad in de vagina verstoren (zuurgraad biedt bescherming tegen micro-organism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Geslachtsorganen vrouw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80720" y="1628280"/>
            <a:ext cx="3601800" cy="42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vanaf de schaamheuvel in de richting van de anu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de anus in de richting van de ru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Verzorging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van boven naar beneden en van schoon naar vuil (vergeleken met de anus is de uitgang van de urinebuis een schoon gebied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8" name="Picture 2" descr="Afbeeldingsresultaat voor geslachtsorganen"/>
          <p:cNvPicPr/>
          <p:nvPr/>
        </p:nvPicPr>
        <p:blipFill>
          <a:blip r:embed="rId1"/>
          <a:stretch/>
        </p:blipFill>
        <p:spPr>
          <a:xfrm>
            <a:off x="4184640" y="2160720"/>
            <a:ext cx="4959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236520"/>
            <a:ext cx="63486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Geslachtsorganen ma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50560" y="1002960"/>
            <a:ext cx="67071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uif voorhuid terug tot achter de eikel, reinig de eikel en evt. smegma. Schuif voorhuid terug over de glans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de anus in de richting van de ru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Verzorging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van boven naar beneden en van schoon naar vuil (vergeleken met de anus is de uitgang van de urinebuis een schoon gebied)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81" name="Picture 3" descr=""/>
          <p:cNvPicPr/>
          <p:nvPr/>
        </p:nvPicPr>
        <p:blipFill>
          <a:blip r:embed="rId1"/>
          <a:stretch/>
        </p:blipFill>
        <p:spPr>
          <a:xfrm>
            <a:off x="6156360" y="4786200"/>
            <a:ext cx="2987640" cy="20718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Afbeeldingsresultaat voor spaanse kraag"/>
          <p:cNvPicPr/>
          <p:nvPr/>
        </p:nvPicPr>
        <p:blipFill>
          <a:blip r:embed="rId2"/>
          <a:stretch/>
        </p:blipFill>
        <p:spPr>
          <a:xfrm>
            <a:off x="0" y="3670200"/>
            <a:ext cx="61563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6562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schillende soorten peniss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8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893880" y="2160720"/>
            <a:ext cx="2519280" cy="3881160"/>
          </a:xfrm>
          <a:prstGeom prst="rect">
            <a:avLst/>
          </a:prstGeom>
          <a:ln w="0">
            <a:noFill/>
          </a:ln>
        </p:spPr>
      </p:pic>
      <p:pic>
        <p:nvPicPr>
          <p:cNvPr id="485" name="Tijdelijke aanduiding voor inhoud 5" descr=""/>
          <p:cNvPicPr/>
          <p:nvPr/>
        </p:nvPicPr>
        <p:blipFill>
          <a:blip r:embed="rId2"/>
          <a:stretch/>
        </p:blipFill>
        <p:spPr>
          <a:xfrm>
            <a:off x="3868560" y="1930320"/>
            <a:ext cx="48801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Inhoud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09120" y="141264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spunten tijdens 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bservatie punt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uid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aar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ch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g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r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gel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zorging van de geslachtsorga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ssen zonder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kleden van de zorgvrag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Aandachtspunten tijdens verzorging 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22200" y="1250640"/>
            <a:ext cx="81374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 hoeverre heeft de zorgvrager ondersteuning/hulp nodig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Houd rekening met schaamtegevoelens!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Laat de zorgvrager niet onnodig bloot ligg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Aandachtspunten tijdens verzorging 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50920" y="1268280"/>
            <a:ext cx="8137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ivacy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ud rekening met hygiënische gewoonten van de zorgvrag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v. culturele gewoonten (bijv. scheren okselharen en schaamharen volgens de islam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as je aan, aan de mogelijkheden van de zorgvrag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(ZELFREDZAAMHEID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bservatie pun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ertheid/ gedr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mm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ditie huid/nagels/o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uid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90040" y="1557360"/>
            <a:ext cx="8310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ventariseer persoonlijke wensen van de zorgvrager t.a.v. watertemperatuur, zeepgebruik, bijzondere huidverzorging, evt. bijzondere aandachtspunten (bijv. pij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bserveer de eigenschappen van de huid; droge of vette huid? Pas zeepgebruik hierop aa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ij iedere wasbeurt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 van boven naar bene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 van schoon naar vui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fdrogen van de huid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68360" y="1154160"/>
            <a:ext cx="6859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vooral op de huidplooien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chtige huid; kans op smetten (intertrigo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xtra alert zijn op smetten bij zorgvragers met overgewicht, veel transpiratie, incontinentie, contractu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un aanbrengen van barrièrespray/zalf of zinkolie, gebruik van scheurlinnen of non-wovengaa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dviseer katoenen kleding en goed aansluitende, niet knellende onderkle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kom onnodig transpireren van de zorgvrag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2" name="Afbeelding 1" descr=""/>
          <p:cNvPicPr/>
          <p:nvPr/>
        </p:nvPicPr>
        <p:blipFill>
          <a:blip r:embed="rId1"/>
          <a:stretch/>
        </p:blipFill>
        <p:spPr>
          <a:xfrm>
            <a:off x="5219640" y="4919760"/>
            <a:ext cx="37339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96520" y="246240"/>
            <a:ext cx="6348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Sme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640" y="836280"/>
            <a:ext cx="684036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1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geïrriteerde huid is rood, intact. Preventieve maatregelen zijn voldoen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2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huid intact, felrood en glanzend.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, barrière crème/spray aa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3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kapotte, felrode of ontvelde huid, weke huid, scherpe rode wondlijn, schrijnend/brandend gevoel. </a:t>
            </a:r>
            <a:br>
              <a:rPr sz="2000"/>
            </a:b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 aan, iom. arts een antischimmelprepa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4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huid is kapot; er is een witte, gele of groene verkleuring. Kans op onaangename geur: aanwijzingen voor infectie met Candida schimmel.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 aan, iom. arts een antischimmelprepa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5" name="Afbeelding 3" descr=""/>
          <p:cNvPicPr/>
          <p:nvPr/>
        </p:nvPicPr>
        <p:blipFill>
          <a:blip r:embed="rId1"/>
          <a:stretch/>
        </p:blipFill>
        <p:spPr>
          <a:xfrm>
            <a:off x="2627280" y="5122800"/>
            <a:ext cx="1909800" cy="1443240"/>
          </a:xfrm>
          <a:prstGeom prst="rect">
            <a:avLst/>
          </a:prstGeom>
          <a:ln w="0">
            <a:noFill/>
          </a:ln>
        </p:spPr>
      </p:pic>
      <p:pic>
        <p:nvPicPr>
          <p:cNvPr id="446" name="Afbeelding 4" descr=""/>
          <p:cNvPicPr/>
          <p:nvPr/>
        </p:nvPicPr>
        <p:blipFill>
          <a:blip r:embed="rId2"/>
          <a:stretch/>
        </p:blipFill>
        <p:spPr>
          <a:xfrm>
            <a:off x="4829040" y="5110200"/>
            <a:ext cx="1881360" cy="1444680"/>
          </a:xfrm>
          <a:prstGeom prst="rect">
            <a:avLst/>
          </a:prstGeom>
          <a:ln w="0">
            <a:noFill/>
          </a:ln>
        </p:spPr>
      </p:pic>
      <p:pic>
        <p:nvPicPr>
          <p:cNvPr id="447" name="Afbeelding 5" descr=""/>
          <p:cNvPicPr/>
          <p:nvPr/>
        </p:nvPicPr>
        <p:blipFill>
          <a:blip r:embed="rId3"/>
          <a:stretch/>
        </p:blipFill>
        <p:spPr>
          <a:xfrm>
            <a:off x="6945480" y="5113440"/>
            <a:ext cx="1969920" cy="1477800"/>
          </a:xfrm>
          <a:prstGeom prst="rect">
            <a:avLst/>
          </a:prstGeom>
          <a:ln w="0">
            <a:noFill/>
          </a:ln>
        </p:spPr>
      </p:pic>
      <p:pic>
        <p:nvPicPr>
          <p:cNvPr id="448" name="Afbeelding 6" descr=""/>
          <p:cNvPicPr/>
          <p:nvPr/>
        </p:nvPicPr>
        <p:blipFill>
          <a:blip r:embed="rId4"/>
          <a:stretch/>
        </p:blipFill>
        <p:spPr>
          <a:xfrm>
            <a:off x="550800" y="5129280"/>
            <a:ext cx="17859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aar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94920" y="14842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langrijk t.b.v. psychisch welbevinden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agelijks: borstelen of kam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aren wassen naar behoef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1" name="Afbeelding 3" descr=""/>
          <p:cNvPicPr/>
          <p:nvPr/>
        </p:nvPicPr>
        <p:blipFill>
          <a:blip r:embed="rId1"/>
          <a:stretch/>
        </p:blipFill>
        <p:spPr>
          <a:xfrm>
            <a:off x="604800" y="4067280"/>
            <a:ext cx="2205000" cy="2205000"/>
          </a:xfrm>
          <a:prstGeom prst="rect">
            <a:avLst/>
          </a:prstGeom>
          <a:ln w="0">
            <a:noFill/>
          </a:ln>
        </p:spPr>
      </p:pic>
      <p:pic>
        <p:nvPicPr>
          <p:cNvPr id="452" name="Afbeelding 4" descr=""/>
          <p:cNvPicPr/>
          <p:nvPr/>
        </p:nvPicPr>
        <p:blipFill>
          <a:blip r:embed="rId2"/>
          <a:stretch/>
        </p:blipFill>
        <p:spPr>
          <a:xfrm>
            <a:off x="3203640" y="406728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453" name="Afbeelding 5" descr=""/>
          <p:cNvPicPr/>
          <p:nvPr/>
        </p:nvPicPr>
        <p:blipFill>
          <a:blip r:embed="rId3"/>
          <a:stretch/>
        </p:blipFill>
        <p:spPr>
          <a:xfrm>
            <a:off x="5999040" y="3781440"/>
            <a:ext cx="191772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2:23:11Z</dcterms:created>
  <dc:creator>v/d Klooster</dc:creator>
  <dc:description/>
  <dc:language>en-US</dc:language>
  <cp:lastModifiedBy>Kievit, Eline</cp:lastModifiedBy>
  <dcterms:modified xsi:type="dcterms:W3CDTF">2020-10-09T14:07:06Z</dcterms:modified>
  <cp:revision>167</cp:revision>
  <dc:subject/>
  <dc:title>Dia 1</dc:title>
</cp:coreProperties>
</file>