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D251A-8416-4887-9E6A-D8D13D082DC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4C8C5-1BC7-412D-BEDF-6E4D6EE2269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4DFAC-364C-4B5D-9889-AA4B9EF6EE2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A75D9-D1FC-4954-BF54-CC115918778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D3D4E-61AB-476E-A1B3-B05551BFC0A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16F01-EBFD-4237-9413-A003367FDB7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DBC18-4686-47BA-AAD2-3E751081BE7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87E76-9278-4C27-ACC9-A4066BD9F92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95EC0-6507-492B-844C-598E8CDCED9E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B95CD-A70A-43EE-8F90-1ED2096FE9D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C8245-6EAB-4388-AE52-F5EB30D267C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DE798-A657-43C4-BB7F-30D06DFF916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2DBD5-7C1D-44AE-AFB5-1CAB9BEDD65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86ED5-25E9-4D4F-9DC7-3B755E5C301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C3D26-0CF0-4EA0-8EC8-6B99B210A3A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6DA-69D9-4A3A-8D15-C1FA10E3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D03-8EE6-41A4-B375-E814D85B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909-CF7F-422A-804D-7C40A31C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8FF-4F7B-4E0A-BFBC-773EA635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9BA1-0C4E-46A2-961F-CE601D57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4AFA-6DC9-4908-B7EA-310425F4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9F9A-AD52-4E2E-9D58-CCE7DC3B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ECC1-2BD6-4671-815C-1AC228ED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6CA9-50E9-4B23-8055-50B66B02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4985-4987-412F-AC31-41BDA420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0FF0-27A6-4D2A-AB7B-7FA527FB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3DD-663C-4166-993E-70AD8CC2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FB78-DB2A-4E4B-BE17-AA05393D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B4A3-EF68-4367-AC82-0DDF72EC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41EC-26F8-4D59-BA41-9E78F36A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4099-21BF-420B-AED2-F9EEA526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9D59-F9AE-40BE-A88A-F5DA6C7C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2FA2-B4B0-4333-A910-701CB745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65B5-8FB7-46CF-973F-6E003CA6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90C9-6951-4F51-B662-763D11B4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1286-4624-4B7E-A98F-2C5F265C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95583-C67C-46F0-8231-77320F7D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20B-D708-45B6-A18E-61244E19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70E3-1A5F-475F-83FF-4CF87213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A79D-F9AA-4844-A6FA-215C5974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8209-5D0A-4941-9C0A-4AEC569D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714A-1FCC-4E0D-AE44-4B09D268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EA49-80AD-4F86-81E2-E17D9EFA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34B1-C31F-4AB6-9A7A-7E5EE0B9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80C3-8807-4A4C-AA6C-50F05F64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B6007-2475-4A5E-905B-60E0DC28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52F0C-B749-456C-9A21-06F434DB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34506-1332-4748-8329-5D803F02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5F5-8E8D-4196-A5FD-03DF3D77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1C489-0162-4B9A-97B2-0446A380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9B93F-FE46-4098-90C8-B688A5D0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C968-52A2-4562-994D-5367F966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CC17-95B5-476D-B1E9-6712235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F169-BECC-4317-9804-88B20C38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DEC5-659F-466A-B665-17B87B3C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DE4EA-31D2-4A29-A2C3-E6E9D1C5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3AD46-3EAB-49A9-B6E1-ED2D8C5D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128F1-76A1-478A-BCE0-17BCE0A6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C3DF8-0E00-4A95-82DC-3D222BBE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1B7-AAFE-4270-A3FB-1F01FC8D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90E16-E6BB-4FF3-B195-4C7B84AF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4A8C-5929-48D8-B9A4-78DC93E4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ED3D4-602E-434B-A120-1D42F88F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F367A-F01A-4FE4-8EFC-4DFD9592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68EAB-C1B8-4B6A-AE12-3B955D0B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FE4B3-9E89-4134-9657-758F83B3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0E7D6-7FE0-4A26-83E8-B22FF09E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2FA1-CE5C-4B4E-8A4A-9242EC6A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5A4C8-54C5-4800-B8E5-6677C2E1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2068D-E80C-412E-86AC-35D099D5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0C2-2CD7-4831-8CD2-544E3C54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054A6-F80B-418F-9EDC-8BBCD692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B960D-F5C2-4D05-9B9B-BEB90DD0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21EAC-2392-4CA9-8FF5-EDC91114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37091-4B08-4548-8511-56DEDEC5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49373-AC8C-4699-8DBD-0B9E0AAE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FCA4D-35A1-4AE0-ABE0-02356EBD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6093B-F3AB-4499-BD93-9ABCEA5A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53789-9169-4EE7-9BCC-A3523DE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32EE-AC43-4E54-A18F-242E9458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EA76-48EE-4146-89E0-AE4445C4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D46-5167-40FD-AAF5-A72C7377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17CC3-8813-4614-9262-5AB0EA45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73BED-53B1-4271-8B7D-0CBCF1FC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A4FA-DD2C-4F7D-A34F-80F5C5CB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76A09-D975-4E61-87CC-2D143123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8E4BA-09F5-442E-9E0C-3B6356AE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5E542-AA1C-4338-84A7-C6C2E4A4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BD08F-05F1-4F0D-A744-F3D4EA0D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59F4E-D583-4F72-B592-950B67A4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F169-26B5-42E9-B586-558EBF9A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8435D-D6AB-4C5F-9EF7-9C80089F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858-B683-4314-993C-3404E580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9B21-8162-48B5-9C69-BF4AE56F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5070-9F69-41F8-86CB-6310077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82D6E-136A-40DD-9F11-6E351699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0C73E-A867-4321-A0F9-DCB48452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F3EEB-0CF7-4201-80BA-078F422E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D6B06-1236-4D3E-BA13-8C6D2CB9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48805-B4F1-426F-BAA4-DFA1875C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EE8C6-4FAD-4BD3-96B2-05AEB8B5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768B3-01F0-4CB5-95FB-32E218F1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352BB-4AD4-4076-A898-5E1C3A39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6B7-C737-4C9B-BD97-5FAEAC90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1532A-F809-4208-A9E6-7501B734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B69D7-F27D-4192-A040-384D18C7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236E8-1EC0-4E6E-8889-F00DBE2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73BE0-E07A-4724-9714-4BB561BD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5B560-0E2A-4117-8E3C-113C71FA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CD5B6-538B-4BC9-966A-0EF6B41F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F2549-1A68-48F0-9C1E-56014375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34D7C-03B5-4F22-B138-CAA86B725FB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0B2CF-F27D-47C2-917C-0263B8045086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22AFC-F833-4CB6-BBAD-B4F385AF61A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1F792-B317-4251-8C7A-199FD9E68FE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0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A3727-8AD0-4788-A2BA-C05973E4E01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FF461-AE00-43DF-BD1B-686B4DEB8F3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1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36848-0A6E-4BA5-810C-A0D64EB0CBF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6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07B1C-A95A-4389-BA77-E406502079D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30400" y="2077560"/>
            <a:ext cx="4309920" cy="307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4000"/>
            </a:b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3764160" cy="136836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1"/>
          <p:cNvSpPr/>
          <p:nvPr/>
        </p:nvSpPr>
        <p:spPr>
          <a:xfrm>
            <a:off x="1692360" y="43862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eb3d9f"/>
                </a:solidFill>
                <a:latin typeface="Trebuchet MS"/>
              </a:rPr>
              <a:t>Wassen &amp; aankled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cher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85360" y="1654200"/>
            <a:ext cx="7921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meeste mannen onderdeel van de dagelijkse verzor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er eerst met de haargroei mee daarna nog ertegen in indien gewens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rek de huid strak bij scheren met scheerm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en vrouw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6" name="Afbeelding 3" descr=""/>
          <p:cNvPicPr/>
          <p:nvPr/>
        </p:nvPicPr>
        <p:blipFill>
          <a:blip r:embed="rId1"/>
          <a:stretch/>
        </p:blipFill>
        <p:spPr>
          <a:xfrm>
            <a:off x="395280" y="478944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457" name="Afbeelding 4" descr=""/>
          <p:cNvPicPr/>
          <p:nvPr/>
        </p:nvPicPr>
        <p:blipFill>
          <a:blip r:embed="rId2"/>
          <a:stretch/>
        </p:blipFill>
        <p:spPr>
          <a:xfrm>
            <a:off x="2530440" y="483228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458" name="Afbeelding 5" descr=""/>
          <p:cNvPicPr/>
          <p:nvPr/>
        </p:nvPicPr>
        <p:blipFill>
          <a:blip r:embed="rId3"/>
          <a:stretch/>
        </p:blipFill>
        <p:spPr>
          <a:xfrm>
            <a:off x="4268880" y="3763800"/>
            <a:ext cx="1952640" cy="2806920"/>
          </a:xfrm>
          <a:prstGeom prst="rect">
            <a:avLst/>
          </a:prstGeom>
          <a:ln w="0">
            <a:noFill/>
          </a:ln>
        </p:spPr>
      </p:pic>
      <p:pic>
        <p:nvPicPr>
          <p:cNvPr id="459" name="Afbeelding 6" descr=""/>
          <p:cNvPicPr/>
          <p:nvPr/>
        </p:nvPicPr>
        <p:blipFill>
          <a:blip r:embed="rId4"/>
          <a:stretch/>
        </p:blipFill>
        <p:spPr>
          <a:xfrm>
            <a:off x="6603840" y="417024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gverzorg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32372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sen van de buitenste naar de binnenste oogh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geen zee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watten/gaasjes en een fysiologische zoutoplossing bij korst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hygiëne van br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tactlen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ogprothe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2" name="Afbeelding 3" descr=""/>
          <p:cNvPicPr/>
          <p:nvPr/>
        </p:nvPicPr>
        <p:blipFill>
          <a:blip r:embed="rId1"/>
          <a:stretch/>
        </p:blipFill>
        <p:spPr>
          <a:xfrm>
            <a:off x="4908600" y="4884840"/>
            <a:ext cx="2533680" cy="1689120"/>
          </a:xfrm>
          <a:prstGeom prst="rect">
            <a:avLst/>
          </a:prstGeom>
          <a:ln w="0">
            <a:noFill/>
          </a:ln>
        </p:spPr>
      </p:pic>
      <p:pic>
        <p:nvPicPr>
          <p:cNvPr id="463" name="Afbeelding 4" descr=""/>
          <p:cNvPicPr/>
          <p:nvPr/>
        </p:nvPicPr>
        <p:blipFill>
          <a:blip r:embed="rId2"/>
          <a:stretch/>
        </p:blipFill>
        <p:spPr>
          <a:xfrm>
            <a:off x="971640" y="4870440"/>
            <a:ext cx="3012840" cy="170352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1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2641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on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480" y="141264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langrijk voor de conditie van het gebit en de slijmvlie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tandenstokers, tandflos, spoelwater,borstelt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inig de gebitsprothes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n alert op stomatitis (pijnlijk, ontstoken slijmvlies: rood, glimmend en opgezwollen); verhoogde kans bij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koo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/geringe vochtinna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sufte of bewusteloze zorgvrag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echte slikfunc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aald medicatiegebruik (antibiotica, cytostatica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minderde weer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Afbeelding 3" descr=""/>
          <p:cNvPicPr/>
          <p:nvPr/>
        </p:nvPicPr>
        <p:blipFill>
          <a:blip r:embed="rId1"/>
          <a:stretch/>
        </p:blipFill>
        <p:spPr>
          <a:xfrm>
            <a:off x="7716960" y="529416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8" name="Afbeelding 1" descr=""/>
          <p:cNvPicPr/>
          <p:nvPr/>
        </p:nvPicPr>
        <p:blipFill>
          <a:blip r:embed="rId2"/>
          <a:stretch/>
        </p:blipFill>
        <p:spPr>
          <a:xfrm>
            <a:off x="5945040" y="4149720"/>
            <a:ext cx="17179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560" y="1396800"/>
            <a:ext cx="79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 normale functie van het oor: wassen van het buitenoor is voldo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wijder zn. oorsmeer een opgerold, vochtig wat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inig zn. het gehoortoestel. (oorstukje met wa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t goed op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l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r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hoorappar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roleer batterij van he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hoortoestel regelmat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1" name="Afbeelding 3" descr=""/>
          <p:cNvPicPr/>
          <p:nvPr/>
        </p:nvPicPr>
        <p:blipFill>
          <a:blip r:embed="rId1"/>
          <a:stretch/>
        </p:blipFill>
        <p:spPr>
          <a:xfrm>
            <a:off x="5913360" y="3645000"/>
            <a:ext cx="20890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agel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557000"/>
            <a:ext cx="770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en van ingegroeide nagels en ontsteking aan het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ud rekening met persoonlijke gewoon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gangspunten bij verzorging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ingernagels rond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eennagels recht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gels niet te kort knippen i.v.m. beschadiging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de nagels/zeer broze nagels: 10 minuten weken in 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bij zorgvragers met een slechte bloedcirculatie in benen en voet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knip zelf geen nagels bij diabeten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immelnagels? Let extra op hygiëne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ing geslachtsorgan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560" y="169992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n alert op schaamtegevoelens bij de zorgvrag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nitaal gebied: geslachtsorganen en an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 t.a.v. psychisch en sociaal welzijn, voorkomt infecties en een onaangename ge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hoogde kans op infecties (warm, vochtig en weinig ventilatie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eepgebruik kan zuurgraad in de vagina verstoren (zuurgraad biedt bescherming tegen micro-organism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vrouw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80720" y="1628280"/>
            <a:ext cx="36018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vanaf de schaamheuvel in de richting van de an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Picture 2" descr="Afbeeldingsresultaat voor geslachtsorganen"/>
          <p:cNvPicPr/>
          <p:nvPr/>
        </p:nvPicPr>
        <p:blipFill>
          <a:blip r:embed="rId1"/>
          <a:stretch/>
        </p:blipFill>
        <p:spPr>
          <a:xfrm>
            <a:off x="4184640" y="2160720"/>
            <a:ext cx="4959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36520"/>
            <a:ext cx="63486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ma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560" y="1002960"/>
            <a:ext cx="6707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f voorhuid terug tot achter de eikel, reinig de eikel en evt. smegma. Schuif voorhuid terug over de glans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156360" y="4786200"/>
            <a:ext cx="298764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fbeeldingsresultaat voor spaanse kraag"/>
          <p:cNvPicPr/>
          <p:nvPr/>
        </p:nvPicPr>
        <p:blipFill>
          <a:blip r:embed="rId2"/>
          <a:stretch/>
        </p:blipFill>
        <p:spPr>
          <a:xfrm>
            <a:off x="0" y="3670200"/>
            <a:ext cx="6156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5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schillende soorten peniss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893880" y="2160720"/>
            <a:ext cx="2519280" cy="3881160"/>
          </a:xfrm>
          <a:prstGeom prst="rect">
            <a:avLst/>
          </a:prstGeom>
          <a:ln w="0">
            <a:noFill/>
          </a:ln>
        </p:spPr>
      </p:pic>
      <p:pic>
        <p:nvPicPr>
          <p:cNvPr id="485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3868560" y="1930320"/>
            <a:ext cx="488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Inhoud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126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spunten tijdens 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bservatie punt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a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g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gel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zorging van de geslachts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ssen zond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kleden van de zorgvrag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22200" y="1250640"/>
            <a:ext cx="8137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hoeverre heeft de zorgvrager ondersteuning/hulp nodig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oud rekening met schaamtegevoelens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aat de zorgvrager niet onnodig bloot ligg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268280"/>
            <a:ext cx="8137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ivac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 rekening met hygiënische gewoont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v. culturele gewoonten (bijv. scheren okselharen en schaamharen volgens de isla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as je aan, aan de mogelijkhed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(ZELFREDZAAMHEI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bservatie pun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ertheid/ gedr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m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ditie huid/nagels/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ui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040" y="1557360"/>
            <a:ext cx="8310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ventariseer persoonlijke wensen van de zorgvrager t.a.v. watertemperatuur, zeepgebruik, bijzondere huidverzorging, evt. bijzondere aandachtspunten (bijv. pij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bserveer de eigenschappen van de huid; droge of vette huid? Pas zeepgebruik hierop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iedere wasbeurt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boven naar bene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schoon naar vu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fdrogen van de huid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154160"/>
            <a:ext cx="685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vooral op de huidplooien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chtige huid; kans op smetten (intertrigo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xtra alert zijn op smetten bij zorgvragers met overgewicht, veel transpiratie, incontinentie, contractu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un aanbrengen van barrièrespray/zalf of zinkolie, gebruik van scheurlinnen of non-wovenga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dviseer katoenen kleding en goed aansluitende, niet knellende onderkl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 onnodig transpireren van de zorgvra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2" name="Afbeelding 1" descr=""/>
          <p:cNvPicPr/>
          <p:nvPr/>
        </p:nvPicPr>
        <p:blipFill>
          <a:blip r:embed="rId1"/>
          <a:stretch/>
        </p:blipFill>
        <p:spPr>
          <a:xfrm>
            <a:off x="5219640" y="4919760"/>
            <a:ext cx="3733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6520" y="246240"/>
            <a:ext cx="6348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me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640" y="836280"/>
            <a:ext cx="68403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1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geïrriteerde huid is rood, intact. Preventieve maatregelen zijn voldoen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ntact, felrood en glanzend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, barrière crème/spray aa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3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kapotte, felrode of ontvelde huid, weke huid, scherpe rode wondlijn, schrijnend/brandend gevoel. 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4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s kapot; er is een witte, gele of groene verkleuring. Kans op onaangename geur: aanwijzingen voor infectie met Candida schimmel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Afbeelding 3" descr=""/>
          <p:cNvPicPr/>
          <p:nvPr/>
        </p:nvPicPr>
        <p:blipFill>
          <a:blip r:embed="rId1"/>
          <a:stretch/>
        </p:blipFill>
        <p:spPr>
          <a:xfrm>
            <a:off x="2627280" y="5122800"/>
            <a:ext cx="1909800" cy="14432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"/>
          <p:cNvPicPr/>
          <p:nvPr/>
        </p:nvPicPr>
        <p:blipFill>
          <a:blip r:embed="rId2"/>
          <a:stretch/>
        </p:blipFill>
        <p:spPr>
          <a:xfrm>
            <a:off x="4829040" y="5110200"/>
            <a:ext cx="1881360" cy="1444680"/>
          </a:xfrm>
          <a:prstGeom prst="rect">
            <a:avLst/>
          </a:prstGeom>
          <a:ln w="0">
            <a:noFill/>
          </a:ln>
        </p:spPr>
      </p:pic>
      <p:pic>
        <p:nvPicPr>
          <p:cNvPr id="447" name="Afbeelding 5" descr=""/>
          <p:cNvPicPr/>
          <p:nvPr/>
        </p:nvPicPr>
        <p:blipFill>
          <a:blip r:embed="rId3"/>
          <a:stretch/>
        </p:blipFill>
        <p:spPr>
          <a:xfrm>
            <a:off x="6945480" y="5113440"/>
            <a:ext cx="1969920" cy="1477800"/>
          </a:xfrm>
          <a:prstGeom prst="rect">
            <a:avLst/>
          </a:prstGeom>
          <a:ln w="0">
            <a:noFill/>
          </a:ln>
        </p:spPr>
      </p:pic>
      <p:pic>
        <p:nvPicPr>
          <p:cNvPr id="448" name="Afbeelding 6" descr=""/>
          <p:cNvPicPr/>
          <p:nvPr/>
        </p:nvPicPr>
        <p:blipFill>
          <a:blip r:embed="rId4"/>
          <a:stretch/>
        </p:blipFill>
        <p:spPr>
          <a:xfrm>
            <a:off x="550800" y="5129280"/>
            <a:ext cx="1785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aa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84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 t.b.v. psychisch welbevinden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agelijks: borstelen of kam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aren wassen naar behoef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1" name="Afbeelding 3" descr=""/>
          <p:cNvPicPr/>
          <p:nvPr/>
        </p:nvPicPr>
        <p:blipFill>
          <a:blip r:embed="rId1"/>
          <a:stretch/>
        </p:blipFill>
        <p:spPr>
          <a:xfrm>
            <a:off x="604800" y="406728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452" name="Afbeelding 4" descr=""/>
          <p:cNvPicPr/>
          <p:nvPr/>
        </p:nvPicPr>
        <p:blipFill>
          <a:blip r:embed="rId2"/>
          <a:stretch/>
        </p:blipFill>
        <p:spPr>
          <a:xfrm>
            <a:off x="3203640" y="4067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453" name="Afbeelding 5" descr=""/>
          <p:cNvPicPr/>
          <p:nvPr/>
        </p:nvPicPr>
        <p:blipFill>
          <a:blip r:embed="rId3"/>
          <a:stretch/>
        </p:blipFill>
        <p:spPr>
          <a:xfrm>
            <a:off x="5999040" y="3781440"/>
            <a:ext cx="19177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2:23:11Z</dcterms:created>
  <dc:creator>v/d Klooster</dc:creator>
  <dc:description/>
  <dc:language>en-US</dc:language>
  <cp:lastModifiedBy>Kievit, Eline</cp:lastModifiedBy>
  <dcterms:modified xsi:type="dcterms:W3CDTF">2020-10-09T14:07:06Z</dcterms:modified>
  <cp:revision>167</cp:revision>
  <dc:subject/>
  <dc:title>Dia 1</dc:title>
</cp:coreProperties>
</file>