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86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4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87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88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</p:sldMasterIdLst>
  <p:notesMasterIdLst>
    <p:notesMasterId r:id="rId103"/>
  </p:notesMasterIdLst>
  <p:sldIdLst>
    <p:sldId id="256" r:id="rId104"/>
    <p:sldId id="257" r:id="rId105"/>
    <p:sldId id="258" r:id="rId106"/>
    <p:sldId id="259" r:id="rId107"/>
    <p:sldId id="260" r:id="rId108"/>
    <p:sldId id="261" r:id="rId109"/>
    <p:sldId id="262" r:id="rId110"/>
    <p:sldId id="263" r:id="rId111"/>
    <p:sldId id="264" r:id="rId112"/>
    <p:sldId id="265" r:id="rId113"/>
    <p:sldId id="266" r:id="rId114"/>
    <p:sldId id="267" r:id="rId115"/>
    <p:sldId id="268" r:id="rId116"/>
    <p:sldId id="269" r:id="rId117"/>
    <p:sldId id="270" r:id="rId118"/>
    <p:sldId id="271" r:id="rId119"/>
    <p:sldId id="272" r:id="rId120"/>
    <p:sldId id="273" r:id="rId121"/>
    <p:sldId id="274" r:id="rId122"/>
    <p:sldId id="275" r:id="rId123"/>
    <p:sldId id="2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notesMaster" Target="notesMasters/notesMaster1.xml"/><Relationship Id="rId104" Type="http://schemas.openxmlformats.org/officeDocument/2006/relationships/slide" Target="slides/slide1.xml"/><Relationship Id="rId105" Type="http://schemas.openxmlformats.org/officeDocument/2006/relationships/slide" Target="slides/slide2.xml"/><Relationship Id="rId106" Type="http://schemas.openxmlformats.org/officeDocument/2006/relationships/slide" Target="slides/slide3.xml"/><Relationship Id="rId107" Type="http://schemas.openxmlformats.org/officeDocument/2006/relationships/slide" Target="slides/slide4.xml"/><Relationship Id="rId108" Type="http://schemas.openxmlformats.org/officeDocument/2006/relationships/slide" Target="slides/slide5.xml"/><Relationship Id="rId109" Type="http://schemas.openxmlformats.org/officeDocument/2006/relationships/slide" Target="slides/slide6.xml"/><Relationship Id="rId110" Type="http://schemas.openxmlformats.org/officeDocument/2006/relationships/slide" Target="slides/slide7.xml"/><Relationship Id="rId111" Type="http://schemas.openxmlformats.org/officeDocument/2006/relationships/slide" Target="slides/slide8.xml"/><Relationship Id="rId112" Type="http://schemas.openxmlformats.org/officeDocument/2006/relationships/slide" Target="slides/slide9.xml"/><Relationship Id="rId113" Type="http://schemas.openxmlformats.org/officeDocument/2006/relationships/slide" Target="slides/slide10.xml"/><Relationship Id="rId114" Type="http://schemas.openxmlformats.org/officeDocument/2006/relationships/slide" Target="slides/slide11.xml"/><Relationship Id="rId115" Type="http://schemas.openxmlformats.org/officeDocument/2006/relationships/slide" Target="slides/slide12.xml"/><Relationship Id="rId116" Type="http://schemas.openxmlformats.org/officeDocument/2006/relationships/slide" Target="slides/slide13.xml"/><Relationship Id="rId117" Type="http://schemas.openxmlformats.org/officeDocument/2006/relationships/slide" Target="slides/slide14.xml"/><Relationship Id="rId118" Type="http://schemas.openxmlformats.org/officeDocument/2006/relationships/slide" Target="slides/slide15.xml"/><Relationship Id="rId119" Type="http://schemas.openxmlformats.org/officeDocument/2006/relationships/slide" Target="slides/slide16.xml"/><Relationship Id="rId120" Type="http://schemas.openxmlformats.org/officeDocument/2006/relationships/slide" Target="slides/slide17.xml"/><Relationship Id="rId121" Type="http://schemas.openxmlformats.org/officeDocument/2006/relationships/slide" Target="slides/slide18.xml"/><Relationship Id="rId122" Type="http://schemas.openxmlformats.org/officeDocument/2006/relationships/slide" Target="slides/slide19.xml"/><Relationship Id="rId123" Type="http://schemas.openxmlformats.org/officeDocument/2006/relationships/slide" Target="slides/slide20.xml"/><Relationship Id="rId124" Type="http://schemas.openxmlformats.org/officeDocument/2006/relationships/slide" Target="slides/slide21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 type="dt" idx="2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 type="ftr" idx="2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PlaceHolder 6"/>
          <p:cNvSpPr>
            <a:spLocks noGrp="1"/>
          </p:cNvSpPr>
          <p:nvPr>
            <p:ph type="sldNum" idx="2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C8A2-39BF-43CC-ACF0-6C747D138E1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1010-FF36-4A1B-A6E9-9872D06E925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8647-BD1D-42DA-AC4C-3BA6E5BC16F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9910-36DE-49D6-9A9E-AC0DD08377A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76BB-DF5E-4CB8-BEDF-C4A88C21E5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7CDD-5645-4C91-B700-185200DC843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1A3-AD9D-4E6A-B253-F9DD4ABE3E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CB07-AD9D-4798-AC34-89EC2B283C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4F47-2D45-4670-93FB-938645B439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E011-D73D-4C94-A52A-03FEA735F2D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0B2B-B9E7-49F8-BA83-B3D305AE17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1FFD-0B17-436E-833B-39A07C4E4AB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0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9A87-9AEE-4EB6-B322-9B337E886CE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0B23-54E5-4D88-88DE-40EF416AFD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169F-2D78-47DF-A2AF-116D9159AA6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3F23-AF95-4FCF-A159-11C40FD841F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BBF7-88FE-4E3A-B9E2-24A375A800C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1D13-ECD0-480E-AE0A-0380CCE4ACF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EBC-456F-4A88-A1CC-B4CD902D341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81C8-CFFF-4759-908A-A728C6F43E0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5FB6-059E-4F24-B8BB-39A31A5002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6DB0-D784-40E7-BA9D-0980AACD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F809B-AD43-4639-A806-4C557C8CE3FA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E023E11-5F20-4D3C-A3CD-A74A1C3F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D5BEDBB-D73D-466C-8129-CA71E104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96997AD-0BF1-488E-8340-73500E94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60E095A-83F5-4D3C-A230-F993811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4CFACE9-C892-49D7-9DF3-DE8E85DA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24A5637-A86D-4485-883A-A32D4A7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6C6891C-8E4A-488B-B1B0-7672E871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5DD93AC-2724-4E8E-B18E-0AF50314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A59CF40-4591-407E-9FF9-6DD6ED40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268CB75-2F8D-4770-97A4-17EA18B7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AEB771-E75B-41D6-8494-3FD05E6EED95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474766A-908C-42D4-947C-968D61B5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DF46FF6-616B-43FA-BF6B-3A4472E8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BAE85A27-A333-4FBE-9961-3C2D2CF0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BC086B91-3EBB-4BBC-A4E1-2E13101D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0FF592A-66CA-404E-903E-637B8878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CED62D5-918C-418E-8104-14E73B01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25B542A-397D-4248-810E-EB2E136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5D4CCBD-31A0-4C4B-814A-45E7623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E31A76B-3519-4DEF-8821-920CF5E2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A39C13C-401B-4698-87EF-7E5D7C41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79DF6-19FE-44C3-B433-042DDF81DE4B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B1838EB-C63A-4BF4-AC65-9168D6C9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21E9FAF-F925-4786-B981-4C56EACA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E8250F7-FC0D-4940-925C-8FE20A09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946E520-7923-4FAB-A6DE-28790A86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48A666E-29E5-49A1-9653-DE2B2462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E083CDD-D71D-47C6-89B2-41BE58AB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3400E80-4D5E-46B4-9257-8AD8C7C9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23C1846-FCB3-4DC2-94EB-435E4D0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B22C716-7280-4475-9261-75DBAE67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52BCBBA-B20A-4092-90F3-453196F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DB986-15AC-4929-838E-D0A2EC65C84D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1A9E0BA-312F-4716-884A-FD0D15EA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861DF57-7C65-452F-AE4D-77B0C195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DD3AB51-B52A-4A86-9AAC-4111A02C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17626C8-7905-4510-92B9-583E3F9C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8F3BDC7D-7E3E-4283-AD6F-389BE185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5F8CB9D-92E5-457E-A6FE-DC87C4F0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521C30B-067C-4B93-8BFC-A82E32C5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46ABCF4-0258-4F17-ADDB-27C8DFD8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605EDC0-BF9A-474E-92F2-3705D8BF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A98FEA7-DFAB-46DB-9D28-8E28A7C5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7FA02-736F-4646-9B0B-915171E9269E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00D9AB9-0F2C-47F0-BA18-32FAE261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1E75F48-59C7-4EDD-8F82-309FC4C8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021C9EA-494D-4628-9F61-2AC8E1C0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270F890-E656-4EC7-8950-316988CA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D9B39E5-63BC-40D0-B27E-93574104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B40CEF3-0C0A-42F1-857F-BC05A67F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0E061F0-3B94-4B10-9B5F-AD8B8117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E0EA9AA-27EF-4D73-82A9-CFF7C593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902E72B5-3D93-4D2D-A273-05D25EA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CD5E7E0-FBD5-45EF-8227-BC6BFA17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27AB1-59F4-49F0-A036-838C2E0A6CC5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28F6A04-5085-459C-A6E8-E9EB7C3C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73EBF66-482E-4265-970C-79E0BA8F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53E12FB-F674-4D26-A96F-161E5C7D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1AFF90A-B156-48F0-8A2D-08238D2C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58231C3-846E-49E2-9836-8C777185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723D689-37CD-426C-8538-CB83D73F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838DBDC-405F-40B7-9FFE-4F8A0C02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C4E612C-95CD-41F8-8240-EBC7AFA4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E475B25-0676-4D75-BA3F-718B769B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513C3F1-B46B-4599-9D2D-14E8703D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38E29D-7762-4FC4-BE7F-59BF7391CE44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88C971B-2F72-4BE2-A5D9-FDBF5C3B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0FA3867-2100-4C33-8FCC-B95BB5F8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5F171D8-446B-46EB-8ED3-25E94B2F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5A8994A-5C6E-437A-9B3C-116E17C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46F5397-C67B-4D1C-A782-6A11731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8B2698A-C5AE-4175-883F-FF400D96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AA710B6-96F8-482A-B565-61446187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D4839E6-C856-4A7B-94BA-90C467E7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E26ED56-084C-4C5E-B1B0-7A54ACF9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3589B48-5947-4F85-BCA6-96536073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C8E9BE-0950-4F71-91F8-C8827541BAD0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F9B4CC1-F676-48D9-ABF2-3E79911E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7D5E0E6-F54B-473C-B89D-D241C25A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443BF0A-EEC2-4E94-89E1-07410A0A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7EAB37E-4E3B-43F6-B76C-3B7943A1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A83BCCB-565A-4D09-BF76-BE051621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EBEB7D7-577B-43E8-932E-FCEE3558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0D04050-8FE6-43F5-BF25-9A658D5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4B84599-09A6-490B-917C-AC43B12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BB0872E8-6EA5-4929-A43D-2175E83D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DAE125F-59C1-498C-8E06-0A0A0B26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860CA1-18D0-4221-ACAE-86207ECD85E7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4E61C35-4625-4794-9705-3FEFBA84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41413B3-FF69-4BEF-BD81-12BE270F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CD1C868-9699-427B-8B17-79282BCC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B1401F9-3CE2-4115-ADA3-5262C231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2C1A692-A661-4015-A936-383DE2B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B773232-8C9E-49E7-B8E4-F5434F2D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24A194B-E881-47C0-B01D-3E181BA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5D0F892-D57E-4493-9176-937CECEF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3A2F755-96C7-4FE5-B54B-4B262880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026DAFC-A356-48B9-8F9B-E0BBCADF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9D0DC-C615-4BA5-A821-069283B5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BBE7D13-F3DA-4D41-BAE7-44D1CF6B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AE91FAC-E342-4F52-B4A7-D7126BD0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08D8777-046C-4925-A04B-DD1E9790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B18469A-36F5-4E15-B937-6766811D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6CF9DAB-09B7-4F32-A421-AEFB8C1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8A11B0A-1A51-47DA-9778-9E12077B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F82DBC6-DFD6-47AB-A6FB-4443150E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5E78AFCC-D80E-4C4B-B3F3-9CDD12C7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9EDC008-23B1-4373-9BD6-118C4D35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EB81B7E-E10C-4E98-8E4D-684960DA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BDD4-510C-462A-8A2E-B55A0ADA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74EF0-1CDB-4561-ABBF-DFA17159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E86D483-EA9F-4E50-AAE0-4989CCC4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3D3A5EB-33EC-4EA0-AB3F-DF55C8F2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C93DA4F-A432-40E4-BB70-EB4D2569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E875CD3-D768-46BF-A631-99926257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70A15E3-F6AD-4241-8638-8E1C4909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4D04CD5-FD63-4798-8752-88F2D5AB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85AA71D-B630-4062-A551-9FB2E03D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320465C-E994-458F-96F9-60512856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26F1EAC-B8E6-4169-BF95-CD761E69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B5A2BDC-8B31-45D2-BC95-54A590C9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FE2E1-BD14-4663-9C59-4F708A12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68CFBF4-713E-43A6-9F9F-B1885220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A3DFC76-1FC3-4145-8C39-2FA75574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5BD27FC-1A7C-42FF-AE60-5A8EDD4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CD1A7D5-2A3D-442F-BDBE-9E6368FC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D5031DE-F314-4D64-B902-0C2484EA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830D94D-3243-4CCB-8132-D18F2C5B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7EEF062-5A01-412B-9B5A-3E1F0FAD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7494A01-155A-4FD9-85D7-796ECAC4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D0E7C07-BB87-432E-8D9D-43B4AAFA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669A88E-5C4E-48E1-80A1-7F77525B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F6E4F-3DCF-499F-9FFC-ABD86CC8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BD415B7-8208-4FDC-A26B-1A24C7FD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0A074E9-324A-45AC-8AD1-8949481B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C6857F8-D437-44FA-8896-098BD2DA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83295E9-6BAA-4B46-9658-9B6C12A9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840B9FF-9051-4EC5-A5E9-49AFF100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1A5B837-5C90-4EBB-A4E3-06BE6E8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9655C70-FC7D-4E95-B1B6-8DB2E22D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28F858D-3505-4017-B55B-0F9F690D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9FCBF3E-8418-49D7-A892-1F204225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DA24FF4-7D7A-476C-8A87-0B21CDCB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6A6C7-6F0A-401E-BE99-8E6DC581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8C5E1C9-76B1-4042-9476-D2902B0C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73947B6-6B6D-4BF4-9394-2A15C880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562D369-2B50-49E6-8D2D-FEDC646B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EB1B179-362D-4953-B037-436B1E49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F5999F1-DB52-43A8-929D-DF7D2024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FB3EE05-4F26-4AA6-9555-A9271451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2602179-27C0-42C6-B5E0-3C24FF6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A114100-283C-4A71-B987-16AEEAFF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420F7C4-92D0-4012-809A-5CF7CE75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803DE36-A1FF-4F6C-8A2D-7E8606A8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39C75-AA1E-4107-BEA6-A7F39D84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6A3DAE7-33B9-482A-A5A6-A562B141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C838B04-004D-4486-988C-C4A1A599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F8166FE-231E-420E-82C9-D64A7006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7D43E67-24B7-4EE5-A0D9-9950BD4E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A52538D-84BF-4C12-A35D-160FD81A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40ACCFB-5C98-499C-9624-5E86CED9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235F420-989D-45CB-9F66-3965DC7B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8253F49-5F78-4917-A282-4B3D575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8A9858F8-8828-4113-9141-F01F2F8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CB3F8A2-EB52-4BA1-94AD-6154689C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EC563C-95E0-4500-A31C-B491F99F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DE1E76A-411D-4A33-BC99-24A442C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1E712B6-6B60-4A30-B326-ECB027AB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897051E-FD15-4F37-9691-B7828A07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39D0569-FF63-463B-93D2-8FCD0E50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256D21D-8B01-48A7-A4E5-0C3294AE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C8FE5BB-D308-47A6-8336-4BE5C691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51AF52C-6A9D-433E-9DE6-592384B8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F89F49B-E86D-475C-A2D9-FF038314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889EB3E-BE6C-4303-A0F2-5A3EF123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CCD51F5-9DEB-4D3E-80AA-21868C88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09416-0936-4AF3-B280-25371DAE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FA08936-EEC1-4DA5-A8A4-1DD65BBD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1C1D45E-FEA8-4F3F-B0E5-F63BBBB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9B3DAB7-28BF-4EB8-8DFA-00A4C4A1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439E085-5A45-4935-BE1A-C4DD5473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7E0AC93-8E06-425B-B394-4B313264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298DC79-38F3-4FAF-9676-6A1863A2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A7E4DCB-11B1-4D5B-A56A-3E92A7E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FEEAEA8-AF24-4C20-B95E-6A78252C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C911CBE-1F98-4953-9086-566D43E4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D33B40A-E952-4FD8-A6DF-9612E03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E145C-AFD2-4893-81B7-CEF9DE41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0EF1D74-7D68-4270-9123-CC0A3FF9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7F0A47B-D333-456A-8850-AE940FB5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9B7844E-92EC-46BA-9436-CD4B05BD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5262C57-2243-4A1F-8D3B-D453ECF2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CF7EBB8-C632-4993-9FA6-1121257A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26C4AFD-1F3F-481C-9ECC-C88F95FD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9F207F2-0ADF-44E4-86F0-71A198BE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EA4779F-E365-44D7-985C-3DD92EC7F65A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9689F80B-A855-429B-9657-5FE0AEBA2D1A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1D6F16BA-ACA0-402D-824A-E520B4F468C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D96CF-7942-4ED0-8B57-19B5EA81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99FD8812-4AB6-44C0-9009-25A3FA1BD608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546238E-9199-4001-AF8E-5D4BA05B2252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F9BB025-4F9C-4F02-A51E-ABC8186A9C36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190089C4-9364-432D-B09D-719439936898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D201B12-DF49-497D-9272-0321B1C773F9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B64E86C-08D3-4AB3-825B-0B614F623E33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2061C5B-FCFA-41A1-9FB6-1F5FC413B658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A6CBFDD0-0ACA-4E04-9905-9BD50F9A07F4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BF504C9-D825-41BD-9CE2-66DABC246069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0AFD475-46CA-49AD-ADB3-BA53EA6F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5A0C7-126E-4832-960D-62BC603E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0FB6029E-7721-4484-8C5D-93AE9291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D12D93C-1A9C-441F-A324-73ED7E2F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9AF2B44-4561-427D-A5DE-10AD2294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9AE719A-18C8-492A-BDB3-A2DDF14F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FB8403D-6E46-4874-9C02-86482083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9578E31-EC0A-48A5-8041-08E8481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A7A4D95-BC0C-4366-9A8E-15481641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04F9E520-CAF4-4772-8A8A-7E723C19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4E4DDCF-252F-4ADA-ACE0-0C54D221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F590E64-2ED1-4732-8DE8-886F1E35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6A8D-FB98-4277-B82C-B3F039FE2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57905-3422-4500-98FF-190B77D8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77B7B36D-5144-4FAE-9A84-7C897728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F364E3F8-0950-4E86-ABE1-20E81943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EB912F4-3B16-4E90-B18F-BA7BF28C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84ED47E0-044A-4BFE-B520-29DB97DB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E5D18DB2-FD39-42C6-8D7A-0C0C7173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58E38F7D-F3A2-42FF-A423-93A640CB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4252AF83-525E-49B5-8D59-05C9BE8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5D4EFEB-63F7-483A-BEFC-55D0AB35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3161596-85E8-4DCF-B671-4EFA72C9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FBC855F1-FD57-4202-9C16-E57D26BB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E23922-9B86-4CAE-AF43-73C8453E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04D3585-1010-46EF-8DCC-B07C87A7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F1F9B206-F002-4B54-B686-D5600A9A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30D2254-C113-42AE-9AA5-DDA836B4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0D9F0D-17DE-4574-9D97-283495A0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557FAE-A7FD-4714-B4E0-9369C8BB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19E100-EF39-483F-A6A8-E3180AC0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FDFFE6-E767-49E9-82A2-C363BC0A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BCDCB8-BCB5-454B-97F6-7C72C793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72E856-42BE-4AAC-9AC5-AAAE912E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465970-50AE-4CEA-B290-F9E52FD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5F0410-EFB9-4876-89AB-79AACDEB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C1132D-46B0-4689-B261-F462CE56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ACD84F-5946-48E3-87B1-2179E853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BCBD70-3A9F-4477-B256-36E92B01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8C9FA-722D-499A-B094-C1B3093B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6A4DE-9F23-40AB-B509-89CE48E3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55E78A-DE7E-401A-8434-39C2129D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DDA8CF-903A-4400-8FCD-BB499F6D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29FA66-1EBE-48EC-A3CF-8823B6A0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68B1A8-4B1E-4268-A5A0-5EFA2257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B5B1B9-1A64-4F4A-8A2F-14E747B1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4F3B15-6AA4-430F-BEFE-557D0AB6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9A63D3-CA22-4285-976E-189666DC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D9A659-AD5B-405E-9A29-ADC90ED3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4C4D38-56B5-40F6-9A03-E39DB8F5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01AE5B-2DA9-4C4E-B434-AAC3AFC4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F058CD-E70F-4E49-AD34-DA183712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91CA49-6D56-4979-A6A0-000D0F1A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FD9BC5-0CA5-4EE9-BFFA-F29E0DA6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902850-65B9-4A24-A72E-48FDB213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033AEC-C87D-4146-8EAE-5605F384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A7DC12-835F-4393-9EA4-AF6166E5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5F45F4-2798-4305-8A9C-9CB089F4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30320B-3A24-49A2-93CD-406F2FD5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BA4EE2-4319-4CC8-8FC7-A751330C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096783-A6D0-4C4E-B812-8380D23C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A22BA5-BE29-4523-B899-B31BB4EE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8A40BA-67BB-4194-9DA3-44C92CEF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02EDFC-F973-401E-8146-7E2F7147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76EA2A-7D88-41CE-957C-CF44BE2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B435E8-2698-4E89-B513-B6D0A1C1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F1C556-4435-45E3-8F62-ED4631DA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4AA249-1345-4A36-8EE0-A08DCB55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454881-BFD2-4BA6-991D-13EF449F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C6FFD4-2CE2-40AC-AEBB-F43C854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5FF220-FEE5-4FCC-AB4F-C0A76ECD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DD8419-BAA1-4791-9226-B8882B3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47D53D-DAB0-42AA-A5EF-F2FC0CF0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AF3A89-4777-4011-9084-74EAE460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ABDAC8-C0ED-4BAB-9A1F-56BEB7E3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9D5BE-732F-49F0-A9DF-B37F9985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94C69-CAB2-43C0-8DD9-D3FB1A9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5BBD3-7267-4CF6-807E-7ACDB0E6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6A347-A029-4ECD-9B3A-36C0B981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796FC-DB99-4DDC-A064-2009B2D7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65A2F-1354-464E-B8B0-62B69587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F3878-674B-42B6-843B-A7773E97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06B9B-D08A-4DDF-BE35-F1A6C8DC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0892F-4D47-4E79-95C5-6E7CFB3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575BD-4046-421D-8F3E-61FF402E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3443D-FD9D-40E5-9C6C-3886B940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75260-07AD-42E5-86EB-E23B61A3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D557F-2675-4396-8157-515DA7E5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1C771-CFC1-4BAD-9C9B-451E77AA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A8992-D535-40C3-A2D3-06070126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4868A-7D56-4AFD-9CCF-FBAD75E5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8A2A3-7BCC-4392-89E6-518538AB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9C2C8-02B1-4825-838F-DD56DF76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1822D-222C-421B-B552-556DE058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6E740-20D9-4F96-852E-7A52A3FE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7A03C-D2C1-480F-BDC0-66473963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4FACB-DDF2-4C38-9C7E-07EA778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0F75D-70C7-486C-ADCC-686FB3C9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76E4C-5011-4B1F-B2B6-E8B6B32F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6B8A5B-6C41-422A-91F5-DFAC33D7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CDF950-AD46-4760-B74E-BDC6A880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8787A4-103D-4550-B535-7B27C485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B23C69-FBF2-43D2-8458-728C1613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E841FC-A319-478E-BA5F-91B38CA6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B86BD0-4195-4915-9722-D8E78C96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053E7A-9BBF-45C8-A1DB-781BC758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1CE0-13E5-4F97-8DFD-A90493B7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B5FE65-9E8F-404E-BD0E-91762314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BEE8BF-5E06-46F2-8E41-9FD4666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783F0A-A889-48F4-895B-7A680A7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154550-7B0A-4128-9F4A-DEE24CBF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30850F-A0AD-4EA2-95BF-95E8E317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8C370-DAE7-4386-B1A8-C5AD20E0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7AD1B-5E0F-4B2E-9719-EB31688C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E76F8-D4D9-4F7F-B9C4-4FF12987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AC0AF-C48E-46EF-AB01-4B2D20F0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2DA3D-F35D-4C05-BB22-06EA6B90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12AE3-7F45-46BF-A758-937D0863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4DEA5-16D7-4206-86F8-F209E3A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2F392-E85C-4F2B-A745-1793C38D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6F378-CB7E-483D-8CCF-35DEB4D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C1ECE-53B5-484D-ACDC-9AFF173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2067F-1AB6-4D5F-980D-97F4A480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09E6F-2FAD-4F0E-8B3A-09F81F47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8AE120-AA23-4B78-A161-4CC560B7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627D2A-2B78-4144-B297-8F91AFB7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865AB1-72E1-41B4-94CF-C267ECC2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C3D57F-DF3F-41F6-8444-282959B1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991CD7-92FC-4941-9BB3-B3FD681A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DB4362-1778-47A9-91C6-2EB252BE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620DFF-C0A1-4D2D-99B9-69B2EFA3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C1A3B4-3543-4A40-85B8-6AECDDA6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C431D2-7D84-4E45-B2A0-0C698FA2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8F272A-F85C-4659-AE80-184B449D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BDFD88-FD9A-4B77-9CFF-7810ED9B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438EF0-50AA-499B-A784-031EFE4A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C59561-C40B-4DA0-B172-3E06012B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112241-3F9E-4345-B021-2E4E3EC1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866DCC-A3A5-43B7-8315-F233E9EB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FD06E6-6B24-4D75-8563-2FD6FBA4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DC8DD0-5D2E-4002-BF37-3E175C4B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493F52-F260-488E-AC47-2B865295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5079EB-7780-41F7-80F1-9AEC5A29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CED992-5B7F-4B0C-AE86-73786A4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38A0B4-C498-4796-AE66-F7D902A3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008AE9-C088-4218-ACA5-8570C7C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A32C2A-567A-4586-AFE9-FD2C03F6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376D22-450B-471C-BF86-F7735681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70A23A-A745-4EA0-8B0D-8409DBA5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D7AC30-016D-4F9C-9BFE-E2F45C74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2CAE69-12EB-44F6-929D-72A99C58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520E82-BFB4-4DD0-8BB7-A1043436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A935B6-AB91-4685-B25F-1EA3C7D2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18B8D8-F31E-43FF-9F4D-49E1AD5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4E92ED-C241-4DE9-AE7A-D38CE029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11A7B4-CAC1-43C1-8C61-ACE1D73A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F6B9136-6333-4D51-B187-709BDF85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8AAE30-CAEA-4856-9FD7-AB2FE0C3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246013-102D-499C-BBE9-11903BB2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341C83-4E81-41F2-8E52-CE19E70D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78A493-E116-4677-AED0-8841ED86493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CAC122-51AA-4EC4-B732-81AD6257CD9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716316-9E22-41D5-8D13-6729414C0CE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91372C-3E2F-4838-AF28-1B26BC237BB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D0F695-53CC-4D79-AFC1-BC8FCA0ADE1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788329-07D6-49B9-AAF3-970B75BD2BD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6EA2E5-313B-471F-9269-2EE8F006FA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EF4B01-3765-4833-91C1-D52AA2E9941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74C900-1B29-4D8E-A65D-12F18C29FDC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1E8666-775E-4216-9E57-1AE125F036D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CBA60C-F578-493F-9174-25363B92B5D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5846D6-2677-4A5F-8B20-BF005ACEAB8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A43579-5447-4B39-9876-9A070013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B4750F-CB00-48C5-98F3-C15BD2DD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CA845D-CD48-4136-803E-A9905BB5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200E2D-2D57-4969-9F0D-FA184478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9C3722-1B3E-40F3-B14A-FF998504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6BF647-DB22-4E0A-9A59-47DE9A40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00AE9A-628E-4D24-9AC0-90C2205B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A30440-9860-4F33-840E-A256397E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EAEDE3-3C8D-43F4-B99A-F2C9D6E8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5BB5C6-A772-4983-B9B1-676983FF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57DA93-FFFF-43AE-98CB-2DE08A8A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A47806-DF38-41E7-8FD7-BA10B145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963439-4175-4AA2-B497-20BC3421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96A9F7-A80C-4268-B661-4965C714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119AEE-8613-49A7-A1CD-6CD14741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F1C668-6F1F-4F67-988B-C4CACB19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789648-C56E-4493-9496-3B1506BA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AA246C-7859-4985-8EA5-17772A20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F37E66-30FB-402D-B551-C876EE5F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8E2211-0C9B-49FA-974E-0965EB8E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1CF730-0268-450B-AED2-40D15183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7ECE94-7BC2-4783-A155-D67F3557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45B1D5-8AF3-4492-B019-CCC7F7F0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BE8897-66EE-4A81-A35A-57F05901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9298476-E75A-4F7D-9FB9-644CD96A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205ACC-BA21-4B14-B985-402F23B2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9F5688-9C97-466F-8B2C-F8918881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05C859-8A77-4246-AB6B-ED787D15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48370C-6B48-4E58-9B54-1AD2CB4A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9FD729E-35CF-4BF8-86F4-C8915063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3EF43F-3161-41F5-8383-BED536C8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77BB7F6-3E12-45E2-AC60-5498874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950700-BA20-41EA-AD77-A437369F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F14236-5DA4-4A86-BA90-9E445B11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D31C5C-1EC4-4BA5-B8CC-C607CB9B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7D03-06C2-4776-8ED2-89B9771F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E7A3358-1ED7-4641-B6C9-1AE64004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00D321-36BB-4356-8A51-4ACA6BEE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D6DC8E-B343-491D-A812-7B803DB1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B3549C-DC0D-475C-9792-F3F96145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B3E86A4-6138-47E6-A149-C4F7C5B0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3273EE-2D93-484F-A12C-E0AAF7E9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50BA88-79DD-4FC3-80FB-37C865D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9149E1-E8AE-46FF-8E5C-35B926F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22E2AA-875F-4A64-B400-F82938C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45C7DC-8065-4270-ADCD-B3777B5C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FF9684-75FD-46C6-84A2-85DAAD66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AAD112-B7DF-469F-ABC3-24A547A8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2256F6-6822-44AA-B65C-23B6A1E1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2CD850-C4A3-49A2-8FF4-255CCCB6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4F91C3-71B0-4B01-93A5-47AE95CB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9EE8E6-1320-4ACF-A89B-CFC4D1AA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8ADC4A-6977-4C9D-9C8F-EDFDA2F3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9F06F9-D6EF-443F-B83F-8CED7CCC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4B66907-8131-4BB8-A1D6-513C0808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EA42C7C-1A3D-408C-B927-FBE4CF6F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0DEC23-F564-453D-834C-7211396D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4D0069-1F1F-4A5B-9145-7F1C4824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4D7A77-16C0-487D-A5E6-11644FDF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ED517F-560A-4F50-95EE-BA450DE9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BA74A9-AC2C-44D4-A834-93C3CB7D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8D1C594-C4CC-4942-8B6D-02D42FF9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BD47324-6D32-4FC2-8E0D-5E117099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40CC43B-82E7-4BA4-8BB0-FE2A13B5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DDD7867-7237-499E-B051-EDB77027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61362C-95E7-4B85-908D-EF3F6EAE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A58EB8-21E5-4292-BEC6-EBE6B22F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F6B9D0-6D4E-4F88-9D57-AE4512E4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7F7294F-84E7-48AD-B170-6652A672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CA26A59-A9F6-4209-87BA-51715099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AEA0A9E-D152-426F-B469-F70116B6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9E29D12-67C1-4585-BBD9-D9AB4AA1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C6FB875-391A-4E88-AEE3-30B4F583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C1CF06C-2259-4AD7-A284-326CF428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1B65B21-D60F-496C-9B3B-A46442F3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4544A6-CA75-4B33-9A49-A9EB6972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EAF1944-6CDE-4FD9-BE5A-8873E1B9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D4227FB-E5A1-42F9-BCD8-7F8E2D64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52DCD67-C2E0-4A04-A0D2-55A352E9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8A9FB71-778A-4000-8F23-AC30370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F93998C-DA23-482C-AC57-6FE9F69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B8B8DCC-9226-498A-947E-7B765F23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463A947-4296-4E09-899B-9C7B96EC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78B5DE-A8F3-4BCD-8B3F-56A250EA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09FAD8-0BE0-4B59-88BE-663A1FB9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3B8EFE0-C3D6-48DB-BC59-F11A9C57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CF809F9-361D-4628-956D-70C5C809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BC5120-3DFD-4C64-827F-24EDAF86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9979E72-D0B6-478F-A7B3-11E37910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F959A9C-9343-4619-8D82-CD275494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1978C69-9366-47AD-9D70-8DCC0AB1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1BBC992-A7F8-4166-ABE9-EF17DF7F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30B70B8-0238-4D5F-93EA-577878BC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168CF53-B887-44B1-96F1-83EA1111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A7D5E0-59A9-4CFF-94AD-680A92DF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A7CA236-5331-4F05-A2EA-A5A92602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3CBE17-B505-4240-BCEE-17CA22AF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1EE7FA2-F346-4A5D-836D-AD1414F7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3EC5AA-795C-4D62-A43B-94FA7C01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C6789D-6861-4B04-AC5F-E5B0ACCF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BD9E995-D522-44A7-A2D3-330C56C1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9ED42B-E8F6-4681-8021-A817C45B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099E48-914D-491C-9C9A-D3CBE1F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8457B10-4350-4142-8EDA-9EB17700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69E3040-BC9A-4E74-AB09-2738F78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990D663-5E2F-4C88-B290-C4A5CEB6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E7C023-EF51-4B42-BBB4-B36264B0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E52B75-8B73-4128-BB3C-0AF5A69D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0879ED-8EEA-413F-B5E2-A702E959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0193810-080C-4625-903D-3795145D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D6BC91D-734C-48A6-8BD2-CA22F3A0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56CC294-6A9A-4D5A-AB85-8BAAC394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EC91F7-9092-48B7-B7CC-3A226015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3B0576-3B06-4247-BFF8-0FB5D8C7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B9F1BA-A6B4-4690-8907-DC82109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3EBEDD9-6759-4B11-92EF-55133026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A7E01F3-8453-4301-AF64-2740EC66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17A6E85-BA74-4B9C-BF08-33DBF3A1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B41310D-0BD8-4049-ACB4-C2B81E57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0478DE4-3278-4A95-B83A-01318AE3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6D82B6-C54D-4D5F-9ADA-1C7C6EA8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7AF637-E222-4E9C-A8BD-14D6E53BC9FF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5891B7-DB92-48E7-A242-9A4486B63ADC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F26930-F523-4379-AEA3-F5803EDC1B69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93C9D3-9A9D-4E8F-8BA3-CFB8D1956FC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83692C-7E7A-43C9-B8C4-7828B9EDA2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EA07C3-4BB7-4DAD-A17B-FE0496702176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ECBB33-00A0-4747-BDE8-170BC338E526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EBD87F-3338-44E8-B469-BAE8F6C39A50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EB34C4-64B7-4C5A-AC2B-F810355761F4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D3E146-5788-4220-AD62-C53372AE53A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554799-E835-4568-AF45-8A4D054D1F20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B04B52-C6C2-44BF-A3FD-324749DD5D6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F6C92B-D8DD-4DC6-A35C-37D5CD47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E4C40C-1E93-47C6-8703-CD0589B7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2A5893-D87A-40A7-9DBC-83047362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0083-A233-487D-BF1C-7EF2666B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37DDB3-0E8E-4B35-916C-AC6ABB33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DCD814-75FC-4541-B325-6D615F6F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90C584-CDDA-4E6B-B353-19FADB64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4F61DC-53E5-4F25-8BF0-07A8BBC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C8001D-1A18-42E2-8E1D-EDA99119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611F5C-DE23-4C2A-AA84-A7A3FB3F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053FA4-DCB6-4AF7-AB4F-7B8F2B0D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72193B-9A14-45C4-9AAB-84C34183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0800D1-0EF6-440C-B48F-C904E50F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D29C23C-C3EE-47FA-8AF1-0647FB8922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F48B364-50C9-4321-AF3F-A90968B694AA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F0DEA1C-972E-4D9A-951B-57C82C6B41B4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058F589-B404-4627-B8F4-1E8A5246DD1C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642EE73-C7CF-4113-8D86-83129D9D786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F3CA39E-DCB9-464D-AE8F-C5B26E9B5003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2A4FD88-270D-47FA-918A-028D7F2B5BBC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81A142B-6702-434F-9A61-453C5D92F832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F1A9161-9753-4EA9-9DE2-9B6F4979E375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E71709D-ABE1-4FE8-AB3E-DC3579AB451D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4D1BA0F-FCA4-4A73-B940-CF5F9CDF34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E97B562-F350-4B5C-9067-55094856D6B9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5A4DB88-AD6B-45B1-8E35-83F048D7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A5D012A-D38C-41FF-94A8-EA4E9D92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D926C8-2006-4923-AC7E-72E5E280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B3A32E3-4780-4269-B947-2766CD12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D9C4135-7D54-4B64-807E-0BDDAFFA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8A582C8-0624-4AAE-93C2-757C6898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8A4B18-9849-4980-AD32-37FB5A30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39EA6A0-2326-47CD-A668-14C5F966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0B89EF1-8897-4C17-B643-2D802C47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9123824-1B2D-4FD3-A3D7-CD5C5261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FA35F15-D0D6-4B3C-9CCD-2A062FF6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9732FCA-A365-4AF4-8161-A6A5EDE3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77CEF71-A83A-4AD4-97B3-4BC4C8DB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5D9977D-5875-41EB-98F3-7DEFB011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12DF8C5-7636-4B57-9342-E88FE1E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ADD7C48-2DD2-4EA5-B9C5-59604D4C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7B9137F-32AB-4C81-A42B-76AAD82A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FD33473-9F4E-4022-8260-D64F4223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3D8F45F-57E5-4EF4-BF5C-C3DEB494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823289C-D49D-4E9D-ADB4-C515D75F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36BFBDB-E7E1-4892-815B-95874E66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CFD167C-57F6-4D05-8F8B-E9AC274F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904554A-92CC-4BDD-9DE5-7C0087C1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CBDA3BC-DB60-4549-ADAF-5F754B73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95AFC14-DBD1-47EE-9676-1331FF3E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45B853E-9F27-4C69-9F1D-C7D7EC04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D652533-A135-42C5-A877-47A92550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80B9EE8-457F-419D-B421-A77FDF3E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CBFA93D-7F6F-4855-9C9C-4669B393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D7A2273-829C-4B8C-AAEE-D168812D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5BED8D3-EAD6-4D34-9F2D-77319189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63C4F25-00DD-4992-A0EE-D26A3943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957D061-9AD5-4228-9A50-384872E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F746958-6666-4D2E-9197-2067BCB8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AFFA437-EAC0-47E9-843D-C68AD9E5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382114F-4529-4AEE-8EF8-F134FE77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F9C1DE6-A867-4FE0-B010-246A969D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71CEFCF-B477-49BB-949E-A5F6F9B9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25637F6-F117-40A1-90F0-0EAA21A3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714B760-FE83-4A3B-9543-805A47D6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3735D9C-1D86-41AD-B9A3-33EC3D8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54AD7EC-83CE-4CA1-995D-12A8BBD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A44FA88-4170-4404-9367-6583E19A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013DC71-D16A-4C88-83B6-1F3AB484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AC4ACA9-F309-45C9-A991-67DDC88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329E0AD-E78B-4F9D-87F0-AF822DE4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6D8ABDB-7DB5-436D-A384-EF6C407C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F7714A7-8B01-4F51-B1B0-6AA454A2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75770C0-548B-4D1C-AE7B-25E0FFB7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3904658-433F-4A8D-AAF2-7F18FB9D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31A7D2B-E870-4CFE-9CA0-093F93AC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15B688A-CE06-44CB-A00F-D42E057D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2195BD8-078D-435D-99A8-F2DA645C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89898B6-6F4A-4A4F-9F9E-EBF718B4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E82FAF6-B199-4BAE-9B40-A2151778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3368BA9-0273-42C9-9F6E-CECCD0B1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2AB0179-FC06-48E8-A958-DFE6532E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0674800-A788-4DAB-9171-0CAF6592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7D9303E-AD7A-4089-94E0-A25F001E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C11FD03-9690-48B0-AC33-B988EE88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85B597B-2721-468B-9D8A-858035C1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A6A5511-933D-4569-A7B6-B0023FB5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BA267F1-D685-4CB2-AFF3-BFFACCA0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D6680F5-4581-4D0C-B30B-D6C65A3E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81FC46A-BF4A-4A87-A793-AB0C201B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BBB68FF-2048-4CD4-BE55-281319FF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FACD1B7-8A46-4E23-BB6C-F546F6D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08063B4-A584-4260-B1AF-1A2ABB1E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61D4B54-BF08-42F0-819F-C470E047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57A7448-AE17-4859-9228-6B016EF1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D4E2E66-1D7A-4AD1-92BA-BB540687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29FC72A-4486-47F1-9444-17AE36CD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79FAFE-B1B4-476A-B3D6-FC839EE5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03BD21B-211B-42D7-842C-6D570A4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3600700-7269-44FB-ADED-BCD7BEA9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9ABFC3E-94D3-4AAC-B074-7D26F137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CCB9996-5441-4CD4-8C66-ECEB1809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BA1988C-A774-4CEF-9C4B-E362E9CE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290F517-0C11-4A39-8B87-238B2EC6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FCA1-C802-4A93-A6B3-FF529B91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500156D-5359-49F1-91D9-3862FA29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A4E0679-B41F-4224-8AED-3E44260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99A2388-132B-49D3-8098-64A24E7F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4956696-050A-45E9-93B3-F3D6886B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870B64E-B6F2-46D4-BE2E-1BA0327A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416E371-BF86-40A5-B352-7AA88E29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63CFA1C-3C8D-4E98-80B0-5850DBB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6AB6306-A0CD-4BC6-A841-5BA198D5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4B8E125-C2D0-44DB-A7A7-B15EE26C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23B3888-8B38-4FF3-BC7C-85FD5AFE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343227B-A6A0-4777-BA7B-A5CEBE35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0FC9D79-AF88-43F2-A886-C277F6F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1B73367-C9FF-42C7-88CE-9E7CF73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F138BCE-B97F-429C-835E-6ED6C4D6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D02C429-1DDC-44F9-B375-839036DB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F065AB5-CDEF-4B46-AC1C-9EB1C81D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06A305C-3A0B-43C3-B6F0-B4DA5DD4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BF72564-6EFB-4DD5-93CE-6EE5980F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A7756A3-8F83-46EF-A653-C95ECC4C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B747362-AEB2-473C-A03F-94252DFF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C72D3CB-462D-42BA-8CC3-EA57F02E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417A020-2E85-4949-8C28-4E096E95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D3B1B97-D9F5-40BD-B823-BA69650B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6422EC6-9996-46D1-9D98-7D5DA0C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926EC8E-B8FC-4310-A271-54E98401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6E92B29-A011-4CB9-892C-6C2E480C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91130C5-DF89-4EDC-9E56-E2B50D0E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8ADD3F5-47D4-4106-BDAB-CB1EAF2C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3C53790-A19B-4D6B-BBFF-23E08F80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D72BE9C-CD55-4E66-995D-8991C91F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0E69903-F1A3-480F-BBD2-F7EA239C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7B23CD3-5D4E-49FB-8792-EDAC3E75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2C9DEF2-B465-48CC-A7F1-988A5DE0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9D406B9-279D-486A-9076-72057292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B27EAAF-2891-4B44-B91D-5B4C79E3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2470DCB-F0B2-40B9-8817-1FCCA69E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D81541B-0754-465C-81C0-9D0DC74B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3157E8D-81FB-44A4-B2A5-13611C9F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749D6E3-B357-4DEE-8523-D699022F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0B6A93C-F3C9-4661-9586-1AEBF58B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A04AA43-5BD5-4BF3-A48C-2E8A7EB8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7C27537-88D3-4C70-9691-4045F0D4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1D46188-0954-4237-A161-E90F82B1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4BC9D80-2CD4-4D1E-ACC4-E26F64EA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C50213C-E118-46C1-B2C6-E91FE5A7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5D62852-AAE0-4CB0-A6C8-A673E790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157AB09-3B2A-4A98-BF0B-5CBB5F43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04A4824-5486-4C7B-9972-7B7AD88F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989ABFC-485B-4639-AB93-49DC1D37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282A776-CDD7-47E1-9EFE-4AEAC6BF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D383995-04DF-40E7-BB9C-0DA185ED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CCC9263-3611-4DE4-8013-A2CCBD1F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ADC3189-4A84-4178-84F4-16DF4AB3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6B97F90-3F5F-4BF0-9329-D2545621CD7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7643BDA-11D4-4C87-A031-67936726F91F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A46A1C8-E8B4-4825-AE78-201AB4008FEF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A53322D-E1B5-4A10-8092-48A918734F6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5B6C951-9B09-472E-B8AC-1EB10ED9A074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629246C-A2BC-4438-A473-7A3885EC5C15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015A195-E691-42DC-A0B3-CAD350B3F91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8C5275B-D728-466D-9E29-C02612CE827C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B1DB4EB-3A05-4B73-89E6-4920E01B4884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03A479F-BD10-4166-90E9-31C72994B1F4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478B84A-7514-4C74-8E93-42C0EDD7D257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CB76F3A-D522-4CA9-AD70-E0CA56B0350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37CAF36-40F5-492B-BD89-433E5909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8AC9CE0-FB9C-4696-A9A9-E82C511F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8B63431-0A17-4DD3-9853-6CC66A7E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CD5EFE7-4B3A-4908-91C1-FCA00215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7424A4B-3AFB-4CC1-9EF1-E0EBF242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383A8F9-9357-4A56-9583-7F8BD696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108DE3D-951E-4132-A8BD-F288D6E4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1BEBDC1-3A1C-406C-B75E-651BCF28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5505E95-2C3D-4D59-A442-64F77E6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8AFECE3-9FEB-42CE-AB9B-A8F7FEEC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6A1B230-3F8A-4D72-AAB8-CACAC246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3954B69-8DA3-4265-B316-1E63534C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A659D2C-9728-423D-88A3-0AB2664E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43935C9-B7C9-4993-B981-F09AF97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CF43668-F5AD-42A7-BAD8-A923B60C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6EAF85B-F3CE-4CCC-8E5F-372CF095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57D6139-16AB-4CA8-B7E3-702A49EB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4FAA646-FE1F-4FF2-A703-8DC568BC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133C3C9-4DED-4E2B-9ED7-15C4C175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C399EF0-01B7-45BD-A15D-570B70DF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51D8FCA-5CE3-4FB5-B26A-CD5A106E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2D12664-123C-49A7-8F8D-B0EC5C29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663764E-1DD6-4841-B54A-131CEBB6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3B1BF6B-45DB-46BB-95FF-90999375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B353FE8-AAD7-47C0-B0E5-178A834C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7AAE6F2-E90D-41FA-AF94-6CF9D6D3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833E649-13BD-4BB0-9AA3-6D4FEECD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1DCC373-426E-4CE0-9BB0-7D56AD34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B441EDA-8483-43E5-8DED-175164AC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BA89768-C760-4A53-A5BB-D9339F2B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1DD799E-828F-4DC8-A68F-81468731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5ED7B60-F534-4331-9E3A-3389F20C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9D92DDE-6399-4C1E-B32A-D2EE3892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21106CC-EE61-40F0-957D-97D79B44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D1261DE-DD2A-4E1F-9FB8-7853B41B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E5ED-EAD7-4008-883C-B8AB8E79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EB60AE1-3F85-4635-8EF7-9E3B7F49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52B5707-CF8B-41C5-B624-897D17F6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99497B4-E709-4DA0-A730-65E0130C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4CC823D-8E7F-4BE6-8FBB-48180F78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4A2E951-A6CB-4916-BCD7-B502427A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09036E4-1306-4E3C-9C29-ABE4C86D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9539128-2195-45B6-B80A-55460694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3E94FE9-8752-44AB-A4E0-9F57A35A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3C0BF45-D3AB-4A42-BFEB-87240812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3E62422-6923-4161-9AB8-545B418D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995E520-FC0F-4E36-91A1-375495F9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F3F6957-2560-4165-A614-9E1B7FFD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213E706-836A-4CF3-9362-D5507564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5A03CBD-94A1-41E9-9C50-90E918E8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9E94216-D403-4162-A97E-66D2CD54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28306E1-B016-494B-8584-24162B47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9B147D8-0E93-48DF-A179-B54C9168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F9535E6-836F-491D-BAF5-B8B16DBB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CCD8798-B243-4B20-B8B1-6742F17E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ED3AE56-A443-4AFD-AB58-52D0A75C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8D62C19-914E-4519-AD09-AB17F41D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DDD7592-630C-47A2-9376-9AC7AE5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A819E39-0521-4015-9C64-655206B9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407C84B-32B6-4D79-AC34-EC4ACE74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1B151C5-7491-4753-A9F3-D7BC6D92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45F6940-A3FE-4F7B-BA08-E8DCA2EA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6672172-A0F5-4081-A289-68688F91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72BD586-4AA7-4A3E-8828-1D9F8B5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33281B7-DF77-4D12-B8D5-512CFEA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ABCE4A7-A0CF-494B-9489-93697E65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2780E42-81E3-49EB-AEC5-9B390A18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ADC0558-BFDB-4F70-90C3-2F460E1F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5CB6FE2-A276-4D0E-9493-9CDEF0A0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98DFD34-B777-4310-8D30-FD506CB1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001D3ED-FA9C-4A90-A8E6-69D325F7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1690E23-F6EC-4E44-B41D-D551604D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AC82FBA-89B5-42A2-A74F-2EDC542F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8DF9A5F-1F12-46E4-AD40-BE3C8F18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5029511-AA9E-4FA2-8F0F-CC7319C6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A442817-A062-4857-9651-02A4636A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E969F66-5DF1-4BEF-A20E-9C74961B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9BE389F-8595-4EEC-86E4-CACE530C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AD5CAFC-2CE2-43D6-BB75-82835761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D885F89-E355-48AA-9E5D-17177CC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5C286AA-A6A8-4EAD-94DE-96BD7B59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DC0091A-3516-482E-81F7-37CC6EE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DC56BEE-5245-496D-8F60-C72080FF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613D3CB-B07E-49D8-BAFC-4370E82E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DE8FD96-FA02-4744-913F-EFE57E8E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A11A0A8-1BF3-44E1-8C4A-1F442082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BE0F0DF-774C-45F5-9677-01F9587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618C7EB-211F-47E3-9609-5F78AF2D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8A36242-7449-47DF-AD40-ADF08B21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4D73B9F-F657-45E0-BBC3-9F3848A3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A7646C1-19D8-45B9-BABC-FFB4B195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C82B18C-04C3-4EA0-8D14-9994AA5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34D36ED-9500-4D16-A4FB-7DDE2EF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D603B41-C865-47A4-9CCE-FC4DB41A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A2AE0A1-88FE-459E-BB26-D8696FE1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2372329-1125-4374-A4F6-2665A858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D9B401F-7257-4FA4-9416-C1380E2D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6CCB048-2703-4C21-928A-2556AAD6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32202B9-0F74-4D5B-982A-123277C5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D9F11D3-FD0C-4F19-AB9F-6A6EA343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12B91E6-6C39-4AAA-8730-BDECF1B8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8C0D313-345D-4213-ADB8-7735D0C5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674935A-57C5-4D7E-8097-17994B05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6321706-13D0-4DAC-9929-5D283CB6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3220D29-F139-4ABC-AC70-E817F47C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841ACA0-0182-4AE6-A42F-29F78379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9F6AB5F-084A-4EBF-8D6C-362C04DD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D0D9590-FF51-4C90-AC50-8A120E4B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E2AC452-BE13-4AE9-A68E-CFDDD8F3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DB1899C-3453-4A71-8CAA-73266093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F7E1A27-DACE-49B6-9714-76A385E1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5784745-2C97-40DB-9B1F-25A6BFDE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DF7E985-930C-469B-9A73-37FE8938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513A878-3A67-4DAD-9131-76818E1B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495E316-DEDE-4C23-A370-47676693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4C55DA5-4AEF-41AB-9392-32C251A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CCC348D-201F-4FE9-A733-A9FB9FEA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6A17DE5-C81D-4DA5-9A31-6FE88113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8F0D190-1612-463B-AF44-B97896E4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11BFA88-6654-4E7B-B819-995EDE49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AC0AA69-5C3C-4AB1-BC60-F462EC2B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7E02AC-2B32-4791-9850-F992139E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80696A2-B6FF-4B0C-A799-B3D3CAE0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96245FF-2067-4F61-9C93-54B448EE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A7EB0B4-DEAC-47BA-AAEF-1A418CF5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E5B24D9-E5B7-4448-9738-072B9BEA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93E9AE-2F20-4486-81A0-31B29767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81ED75A-BC23-4F47-B000-C0C70433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566A8B-C8F4-4CC7-9E53-77B3551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575FB7A-4257-44EF-83C4-A5E13880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6662A61-000C-4779-AF6E-396C1B1C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CB9085-10BD-48FC-8EDA-34C0312C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24F4989-A94A-4BC3-A063-E9AE8B09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77D075-BB19-4E7C-A1FE-C9F4FE4DEAA3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00952B-4F67-4420-9316-936EFEA1A8CE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46E192-C24D-4572-BE4E-B5D1F12AB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61EE-F269-4B3D-967F-62124944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86BCE2E-83E6-4D6F-A34E-3E79A55F0574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A216FBF-1849-4061-A344-930BD5E8E30D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C1AB79-E913-4624-B743-AC5EEAA61EA3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9521E14-0807-4590-8BE3-B7560B09303E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7255BD0-9FEF-4B18-BF53-E3029C4CA8A0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172EE9C-1228-4F9F-8CAB-3BB2A88EAE4C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FB90F6D-1077-4829-952D-FC5047925C28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23C99F-C48A-4164-A8EB-7471BF047E72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29A5E0C-B530-4C5B-943D-15896093FBCF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484FBA7-7F8F-45B3-B059-0D2655DB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9D999AC-D185-4BBD-9E4C-DE038265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15D5E54-29B4-4B49-A37F-AB209E31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231724E-BBD9-40E6-BBD7-19D0A797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06F63C1-EA55-4723-A95B-3B6C8DBD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949F909-2CEC-436E-8338-EB6B4B33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A8956A8-7CAD-4B05-8799-2CC6A0E9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E837C9F-B516-4E7C-8ADF-24EA1E3C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2CE0CFD-545D-4DE5-8D59-2A90AAB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06AA0A7-07D1-4B38-8758-55E0E33C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51B215-8968-46EE-9D50-91BA6858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C0BC732-68CC-433B-ADD6-AF7C9DE6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860A273-5123-4CD3-A3A7-E18E4D00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95BBA1A-4385-436F-9422-1EBEEEB6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947034E-DDB8-42BF-903F-7DF61EB0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EBD2206-3562-42D0-BB30-040448F2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E29B13-6484-4108-B935-3B64DCCE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EC4D60A-5A21-465D-873B-3312156D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4465D86-2FC4-4216-A2F4-EF1C066D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A15F5C6-D7F8-43E0-880B-D5F775FA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0A43C7F-215E-4FB7-B157-31A79B3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1B62F-DC6B-4C2C-929A-CFC99490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7B0D1C0-5FF2-40D1-A9E7-445AF3A6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FC70BEB-D464-48AB-BA27-C8623EEB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44D0633-3B50-43D9-86DD-D61FCD7C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A88D6C-F611-45DB-A6C2-D2E0F07F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0916A0B-9D61-4AE4-B9DE-6ACC9796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C64670C-4973-49D9-8AE1-09745F2C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2CA8C29-A97B-46F7-A773-69634F8F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98FDCED-0603-4A18-BF2E-D4175A6A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CD8CE9F-48B8-4E90-9F25-D5376359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50C330B-0208-4C2F-A235-3A2A5341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A2F24-254C-4A83-8871-FE9BCEEF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BA1939-A2D3-4C92-A4A4-FA63DF6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6415166-EA54-4BC1-836E-14ECB52F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52E5155-A39C-4C72-965B-97DF7B5C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EBCFA46-781A-4C12-A8D2-791A1F38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0A1A98-9135-4EB5-A64B-FA5E7675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1AEEB68-E6A6-4D8F-8ABA-8B61B9FD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A22F15C-A66E-41E2-93C1-A4799C43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8C45D7D-E6CD-41EB-A910-1267D546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4B50A79-2FD2-419D-9E4D-32A99B85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E78E9D9-E401-4490-8E0E-2D3E7829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49CAF-B42D-470B-83AB-963CD43C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BE830E9-94CA-4C19-A558-2EB343E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1C4414C-0F82-47C3-AD55-C2A00B5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CE99FD2-2098-4AFD-8B30-82DFD81D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AE22F82-721D-467B-A519-0659E3DF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761125D-ADAB-46E4-AA73-891EC3C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5D91B1C-BEE3-407B-9996-D9EEB58D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D47DB0-F371-44E1-9652-C501F342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85B6B81-7399-42C2-9384-DEE3CA94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AB3234E-4EE1-4E2F-BD96-BF3D1993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F82AB5D-423D-4835-A642-0FD175B9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CA6E-E5D1-4687-9DFF-C541D286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74092A8-876D-481B-9084-7A5F013A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0EEE9C4-8535-4C3F-AE72-A1B7E0CE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511E0BB-046A-411A-A7F8-12765F84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89D90F-301D-41EF-BBC7-6B8F14E1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DCB5C39-05BF-4887-AC13-D8CEF0D8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A8AA65A-B9DE-474F-8045-7EAADA8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AC2F364-5B4A-429A-8482-13B5A504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DCF944E-1095-4A84-8B18-4022E15E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3A146A-772D-4949-B660-0E3D5593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F6430E5-7D2A-4766-8BAA-6DDA242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1697E-50B0-4D1A-B5F9-B4922E38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A16EE6B-0DC6-4E9E-9209-4A63DA21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3CB9DD0-9835-4165-9CF6-B5446F23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ECFE9A6-A6BF-4E6E-821B-2AB06DE4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954AA73-8E20-4E0D-9AD3-79C3D012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05C32D2-127F-42F2-96A2-535C5DB9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A4EF838-BC3F-4D3B-B54D-190BADDC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B6D01DE-58CE-4FD5-BE09-706CEFEB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872F04F-4A20-46CD-9359-5B52A05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DFEA8AE-F4F9-4E5D-B523-C30B7519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FB0E7E9-19B3-47FA-842F-0EBD6165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A658C-73FA-46C7-9CDF-9991E7B8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D6883A8-96B0-4920-8F82-A294ADF7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497E0D-C3B2-402C-9E0B-D4948B3E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3AA90E3-0D31-4604-A198-7B3E8F64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194125-1F8A-4654-B707-EF948CF6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CA67DB-98F0-43F9-A4D7-875B24A1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FC3A63E-D8CA-48FB-836D-2752D9F3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0D797A1-19B0-4B0A-BADB-4E05BBB2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B5C11E1-898C-40DA-8039-6C55319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ABB28D0-AB4F-4241-890C-5AF9E4DF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043E41A-FAF7-4949-9B1E-D9D2F68B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3253E-2575-4D39-9A66-2F907022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EED09CC-CD08-4AE1-842E-1AEAAADF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5F6A25F-4547-4290-A703-114A530A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5667B5A-5B23-4DE6-A1E7-0B988485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6774ED7-05C6-45A3-93CE-323804F5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8A9987C-EDC2-4A79-9C6A-5A0B1EC9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0B75802-57D7-4C78-9F13-145C810B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61E534D-1932-4A05-ACC7-4DF5D8CC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9163D28-E527-4F2E-86F9-11672AC5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9CC6C51-92F4-456D-A5FA-EB4897C8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BE0A6DA-9081-4360-BA8D-3B0F785E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53F6-A356-49AE-B5CA-BBAE1FBB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F14FE-4BCB-4351-B722-D74272F5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AB36886-962D-4A95-B7D0-886D69D9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6D305B7-AE58-47CA-B4B5-B6B2C2A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1EB1961-28A3-4C23-A5CB-A8D744ED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009CC30-7CEE-49D2-A61C-2ACD36F3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EB20CEE-ACDE-4CA1-B81D-432B3072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28A9476-9208-4FC9-884A-28205A86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3E4E90C-3CF8-448F-9FD8-3F1CD37E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7593754-535C-412C-8334-0DAA0603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B247A36-79E8-4383-91F4-CA8605FC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5F7D09B-E84D-4CA4-B7AE-F390351D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0D5E1-1559-4EAC-923C-D3B020D9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71FF06A-67B9-4277-BD99-9167AE7E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6A0533D-FB10-43A3-939D-2FC2761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46E6475-AB21-47A3-983C-D2085691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F32DC2C-A0A6-4999-9A56-00A32C87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7FC3DE6-B00D-48EE-B3A7-BCD7BC22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497CB76-67FC-47D0-8F2A-93E3A88E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5B1677D-C470-4D3E-A6A7-F7D3ED41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BD41D43-A739-4C81-924D-93725A9E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F013FAB-A160-4C21-9B60-EB35FE0E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011F737-B282-4775-AF59-3F1BE604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DB24D-B56B-413F-87ED-2E79535B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59C1137-A7CE-437D-BED6-D1BC2267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C77AD2D-8041-4C45-B298-1DD184B6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56B2E0-F513-485E-9DB9-063A59C6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144F1E6-9B29-4A00-A3D6-4CE98D1B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9852EEE-6212-4888-B268-985E8B60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27EF170-8E5C-42FA-B0E1-8EB87A4B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1C616B0-1AF8-47CB-93CB-CB9F4CA3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7C1257E-0172-4FDC-94E8-72E62EB2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574A3E3-4EC5-4315-9456-FAED37CA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D76FC9E-989F-42DE-B073-D5EA44EC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DE8A5-7044-4C98-9644-C0A98683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2B8211F-2D36-4C9A-BC27-C224A2AA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EBCE658-FE3C-469D-AE30-8CD0ABA6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2F76270-1BEA-4E14-BA6C-086D211F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2505B7C-FED2-4C0C-91EA-E15938B5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CB516BC-ADCA-40D0-82E3-764F32E2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54AFDD5-E1F7-4D1D-B460-ECCFF044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B02D7C0-A2A8-4F1C-9395-D5511BED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E3D419E-8826-497E-BED0-CDF1E60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C18EF12-E041-4DF3-A417-C380BCB5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211CA5A-3C26-4599-9FF0-B43782F2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C648C-2158-4B2E-A088-06EE5314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E77B71F-3D63-4785-AC02-ED7821AB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1296A48-EB7F-444D-BFDD-04710087270C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7D4F98F-C001-4B4E-80E9-E50F20A7E397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31AE033-8E63-4BD8-86B7-40300A5A1757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2432509-DF79-4C68-B04F-EF7869547D56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77905EE-66E3-466E-8391-4FB4C140DDFB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C1BC5D6-77E4-43FC-81FD-5263D675D502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BDCBB77-FAB8-4981-9DB5-70A8A3E94089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757793D-7D72-436C-B6BD-D8DFE40DC2A2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4631A01-A84C-4887-A856-A5183ADBF0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2CD9-6F45-439C-A084-A1A5749A33E0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5972B99-ED60-4FD0-B2B2-738DBDF50737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A9C3FFB-11B3-46B9-875C-08097A263FB9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09F3EE5-2EB9-47FD-A97C-064703F22332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AAC2EB6-14F3-4950-8481-9D1FB539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63E1D37-3F68-4A1F-AD8A-5FD59894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D0A1ED2-F4DF-477A-A0DF-A4B3657C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9B4FD87-652D-4AD3-9C28-453897FD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B93A6F9-45DB-4785-972D-9A4DF58D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FFEB414-E72A-4E94-9E9D-D6435285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5058C24-E86C-465A-A32A-840E2B82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C9EC-EBFC-445E-9BB3-0DC86D6805AD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F875365-1B9D-46F4-84C0-2D2DD2B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FC2BA6C-CF76-48D1-9C12-E0C06C3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087B12D-EF7F-437D-9D93-6EAC9C18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72A93B0-EF91-4297-85DA-D6472E28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2F8FCAE-752F-49A3-80B9-A15E50B1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C20AEB6-852E-4DA4-A8DE-AAC4EF3E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29433F2-56AA-47CB-8549-85757C9F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B9F0F1D-0ADD-4415-9794-4E3D7B1A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56566DB-AB08-4F3D-AC77-20153EDE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06283F8-86A9-4647-91DC-FCD58E63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B3A4-A139-4290-ADB4-F1D4C35E5F03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FFE0E36-9355-4E91-BE57-7FCF899C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59E9F62-1FB9-4B8A-A273-11AD36CF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A8A9956-E368-4DC8-9EBD-59C5DA99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510FCF9-3379-4F94-A6F1-FD44A33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6864910-7ECF-48E1-A9B6-46F85835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33C3761-46A4-4CD1-96F5-D1FB31B3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BF18D8B-3E7F-48C3-93CD-7648C3DF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766056D-114B-49A3-BC32-34EA0047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FC6A09D-A76F-4073-AFAA-78461F14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FCE9C11-C9BE-48FB-B480-D9A7010C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BC7B-13D7-4DB5-AA9F-4DDECC3974A8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968A8AB-2CFD-4BB3-B3EA-4D7E9B76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688E9F6-18AD-4FF9-A4A2-353A1641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EC6EBED-29DD-457C-82C5-C1D769CB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2C62DD9-FC48-47A8-92F5-45AEE533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149D4DA-CD51-4372-A9A4-6CBDC655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D70DF66-6605-47D1-85AB-79DB45B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DA152EB-4E78-4F93-9CAE-5BBE8E3B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2DEFDED-8C6D-4DE1-88B0-59931C93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099DF73-35D8-42AA-8ABF-02FB4C35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5F7F7EA-5D24-4490-828E-0485CF0E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B014-A3A7-43BA-8FBB-1F5738BA961A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1A80C07-756F-4340-A5EF-738F03A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CA5CFE7-71BF-4BF0-A40F-C8FE3422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FDEB47E-9761-44A8-801D-1B1286B6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D29850F-4CC6-4953-B190-DB9FFA60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42D8AED-1426-4D79-8064-17E5955C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FBDCF1C-9E1A-4DCC-BF98-DAB2179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92E6D8F-B6B3-423C-822F-E7F720EA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EC345F8-2CAF-4028-883F-DF26554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D6F379D-6A57-46E8-B223-F0FA39A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D39DCC4-2351-4381-A272-84F11A65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0D72-D4AB-46B2-B8DC-9DE978C2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6802-81BA-4A03-9330-73F51639D734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BE5F681-AFFE-47C6-B326-CAF18834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C5EF86C-BF58-466A-ACD5-0B094060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7F87FF4-AA39-43E9-B807-D06CA911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E3AE70C-0207-401E-846B-18CDDCA4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50A7C6E-91F5-4B84-A03C-47365FFE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1DBA578-C4B3-45D3-B6D6-6663A33C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3EDE71F-F18C-46AD-8B4D-79BE9223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3D46469-0462-4A7A-93FA-9F317210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DC62C28-B0DD-4712-B852-263F5AE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8A41AC2-B9C5-407D-9DBD-4ECC40F9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42EE-C361-4FD9-A1CE-A8C2DF50BB52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0C5EF6A-943C-45F9-8182-877FF961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1642313-3D59-43C3-9F0F-114DB2C3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FFFB40C-3C9C-47C2-877A-4254B608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5873A35-5967-4159-B0CE-B9840C71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E226375-237D-4748-9290-1A40692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E848D9C-67BF-414C-8FA8-466207FB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5AF4298-559A-4065-9D89-5DCF9E5E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34F77D6-568C-4279-80FD-1D14A673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C768A94-57A3-4F3F-99CF-9CD937FB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F78908D-4E72-41A0-A1BA-8DE07F0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546E-8D6C-463C-955F-9AEFD8A97732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76FE3A6-77B5-4EB6-99C4-D7C34362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5053A2A-E106-4394-9198-CCE40091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4590BB7-2477-4A69-9A00-7F47FA81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FD3387D-6248-4D72-90C7-888F713C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81110F5-7FBD-47E6-81E2-71F94F8A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A9B8998-7DCC-4BCC-A1DB-A79FAFA7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6F0782B-ED53-4D22-94BE-50D276D5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1617669-8181-4891-A35E-4BBD79E1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5FA74F4-481C-4081-AC15-4DA82BFC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954A076B-2218-4551-8F5A-17E86664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48E4-1CF7-4B5E-8A70-DCBDA5D6A697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CD7E21C-05EE-4027-9FE2-6729EEFD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D58B6A3-C5B8-44E8-88FE-A00094C8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F7FE205-827E-4C74-B164-7D853A6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DFFFACA-7F00-45DC-B4B4-E3C202D3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50503FE-ED60-4326-A1E8-E1A350C4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7240489-DCB1-42C5-9327-2B02EBAD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B410336-5E80-45C6-BCE6-80C906C6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12F25D8-5E92-43FB-99BE-2DD007CC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26A56D1-76D4-4043-BD1B-6BF48DA0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0A6C988-AE6E-4CE2-995F-06AEE07E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B507-9938-4649-968A-49077432A7ED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63270AF-156C-486A-AF36-7AFE2162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24A4186-6272-456F-94F8-91562AB9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BBB5080-6111-4866-99F6-0660CF0D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81BCBA7-ADDC-4C41-AB9B-38CDF8FC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DE1329F-0A33-4E1A-A208-C63753FB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510A55C-4907-4835-99B4-C0CFC927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2A4B772-B413-439E-B190-27095FD4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39A3BA8-1751-4834-9964-84A9BDEA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3F4A159-B5D0-4F09-BFA6-8A25114D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6C8D7F8-8CED-4829-8C54-5929BFD9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ED1C-0277-47A2-BB10-A5EAB06805BA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E04709F-03DB-46AE-8289-AE7407C7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9C880CF-D3D1-43EE-AC76-7A4CE5A1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4D06D27-5114-4653-AC25-69CBE770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7EB2B85-5937-4D54-B658-F5B494A9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23DDCA1-9C7D-4FF2-84E5-81212B59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CC2A0EF-9C50-4B96-9331-166A079D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44E7FE3-210B-4BAB-AB65-5DE0285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15F5B66-86FE-420B-AE5E-BA50214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38D4C5D-8CE0-4B8D-9443-DE0CDB12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D2DAF0E-3894-4665-B70D-19852E73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4DAC-4CBB-4873-B3E9-AC63B36D8A96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0F8F0F2-20F6-4B75-8DCB-F828C1EE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86EA721-48B9-4D60-A580-DEB365B6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F85C7C0-67CA-417D-B06D-45041E92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E915373-3954-454F-9ED8-435ED1B8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9DBF1BD-A5E1-4820-AC0C-9392D02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3ACB3C87-140B-461A-9F15-0EDC1DCF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7DF0727-89A0-4987-836C-8FBBCED8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CC59458-7747-4525-B85B-FC94A9EE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5451A07-89AA-43C1-8DDD-49D53891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17CD342-E6E9-4D12-84A0-1B3E4307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89BA6E-7DAC-4FA5-8BAD-BBC0ED01BF3C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8D4F752-DA35-4431-B5F9-709CD12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128E5D5-53AA-42FE-9868-13D1B5A9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282D509-80BB-4DDC-8524-1021EB9F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2D55D7D-FB28-455B-AEED-D764796C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090E98D-A192-4A6E-AFB4-690BBD61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C4EF77F-BD9F-4B29-8E1B-C76DC9C1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63F02C5-04BA-4D8E-96E8-64277E4B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288FD43-EA8A-4A28-B98A-07F1768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7902D5A-9BA3-4701-81F2-E7BE6AF8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949409F-FFFD-4580-BA17-747EA00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B6C51-D41D-4E51-8918-CED62F4FE215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5424090-4CF5-49CD-B37E-5BB7E1E2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B4284BC-1148-4D94-BFCC-A78E0142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44EE130-CAED-4E6A-B360-010C1713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80A197A-EE8E-4CDD-82FA-FD29500E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74F9E46-0BDE-4EAA-8212-C3078085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485A77B-B5F9-4590-B1D9-83F306BA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F043E0D-F2A8-4953-8A48-6B3D210D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C2C806D-53B0-4BAA-9F17-C80FBCB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80C6C86-9D51-4233-A2E6-3E0CAE47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B9698D6-AC74-45AB-A93A-94D42E12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EF669-4F9D-42D4-92B7-E9027ED6B1E3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18AE3A3-7A14-418E-B06E-62B70C66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65992A4-58D1-44A8-AF4A-A79C05C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A03AE1D-CE1E-45C7-8EA5-28CEE0B7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0406720-F792-422E-ADEC-4ADD3BE1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ABCD922-D06C-42D1-9F7D-8F3CDD1E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B4D7F00-1145-4412-9336-21D40A99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C52B709-3385-48C0-8521-C253EF35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4DDBBFC3-DF55-4970-A3C2-A983DAFD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8F69ED5-29BD-4AB8-AFC0-E5E09BA3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FB1AFAE-E747-4119-B8B3-CCB330A2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7E38-82E9-4548-B1B2-2C3F2893AA2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3645-50A4-4D37-BCD8-8A7F3A79094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0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 type="dt" idx="26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 type="ftr" idx="26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5"/>
          <p:cNvSpPr>
            <a:spLocks noGrp="1"/>
          </p:cNvSpPr>
          <p:nvPr>
            <p:ph type="sldNum" idx="26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2C93-951D-4D0F-BF9B-D58361A49380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5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 type="dt" idx="26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 type="ftr" idx="26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 type="sldNum" idx="2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D62B-B6F1-470F-9766-7C5666D5BDA7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9058-E739-4578-89E8-80A1F0085DA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33B1-7CA2-4A5E-A1F2-595F9AEF910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A11F-7871-45D7-82FB-7FD6585BCEF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E6AE-8451-4489-B48D-DC2ACCFA32D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Afbeelding 8" descr=""/>
          <p:cNvPicPr/>
          <p:nvPr/>
        </p:nvPicPr>
        <p:blipFill>
          <a:blip r:embed="rId4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9" descr=""/>
          <p:cNvPicPr/>
          <p:nvPr/>
        </p:nvPicPr>
        <p:blipFill>
          <a:blip r:embed="rId5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BBED-391D-4A24-BAEC-3148155452F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D756-31EF-401B-AECC-22ACF29E092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9FCB-E83E-4801-A9EF-D65D3C84503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2EB4-BE2A-4625-95EB-F25283DCA5B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ABAE-3B63-49FD-9B2D-B292822D32F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7048-63AB-4661-8C1B-CBE5541C556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3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0005-3ABD-410C-9959-3ABEFF28608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dt" idx="3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4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4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09F6-3FF3-4D29-BA69-384770C87DE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497-E837-4D99-9C38-EEDCC3112F2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3E15-61FE-453C-9B8C-5F4938E28DA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5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A1AA-2E48-410F-9EE0-1CD6D0228C3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50E1-45AA-48F5-B840-8214056609B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AEB7-01F0-499E-A9EE-0B696E0ED8B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B0E2-73C8-41A6-BBF4-53E98581246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16E9-4A32-4102-8258-84AED67DD1F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22B9-A2A9-4413-9BA6-255FCA3D08B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38D7-5555-4F31-95AA-CA5C2DC9431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2F78-BC1A-4740-B87B-AD148CA7BE1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5169-FBE3-45CE-96FC-CC179151ECD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77AF-8FB9-4626-949C-343D7540700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1D47-53F1-4AE9-ADC2-383F180C59C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2232-509E-4F76-B787-E6036D4F9EA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2682-B022-43E9-8280-CAA66C47A35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7443-338F-4A80-A438-1F1215554D1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8AAF-EB1E-435C-84E8-E026D790A8B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7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BF93-EA54-4C28-A510-0A10421ACC1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8B1-DEDA-4420-B34D-DA281C75F88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1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2E49-3544-4DB0-8A41-549D3166C3A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EFD5-FEAE-4E51-8F3C-5B1E77DA6D6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871B-FF97-44C2-8EF5-11E012A5A27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3CD5-A727-4B81-B54C-F87CC90766D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0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C8DE-963B-4290-A0A4-07E7DB05E8E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sldNum" idx="7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01ED-E41A-436E-94CF-5D93057D826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B8A0-41F9-4753-860F-2FF454E1AEA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7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7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7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9D86-6D60-4E35-BA5C-A36329AF9DD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F5D6-9D53-45ED-A477-0A20ABE56F7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Num" idx="7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F00C-3161-40A8-9EF9-CBCA8E2CB4F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3077-CD59-43A3-A408-66900567A8E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8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C325-7568-474B-8F1F-555E14EC1E9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48CD-C484-4300-9C33-85E2504B239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sldNum" idx="8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663E-B688-4ACA-8E1A-025684F8A1A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E41B-AB71-4476-A9B6-E757E6EE23D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sldNum" idx="8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E58A-0958-4063-BCCB-7A7D13ACE00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762E-43B0-4B28-B40D-EE81F930B96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sldNum" idx="9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C503-6214-4E3B-896F-F51876926ED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467A-D7CE-475F-91A1-295564D7BD8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A3BF-C979-4A12-B955-7565288B73D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D3BB-5F15-44C0-8F8D-FA4805FFFE2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4BB7-2B9E-46B6-93BE-3A3051A0FCD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9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F5A9-2E2B-4FB3-9294-6A9A92405CF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C0E6-2B89-4177-888C-538E0551B25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sldNum" idx="10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EC73-CA31-40F6-96FE-173DB81B5E1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7760-55D1-4050-B424-E0A548E856A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sldNum" idx="10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C588-3D75-48B9-84A4-05096C5B593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7201-5FC2-4E38-8FCA-C8890F6AE3C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10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AA30-3A81-4712-BBEC-37105BE09A3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FEFB-9A3A-4D0D-8B44-9C636293916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 type="sldNum" idx="10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D805-FAFD-4E12-93C7-E6DAFCD4B36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141B-74BF-487D-9984-32FF3CFB84D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Num" idx="1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C6C6-7F86-4114-90FC-30320943EC7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1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12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6443-FB25-4333-9810-88C03F0CFA4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ldNum" idx="1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93E8-FF32-411E-BE2F-35946490583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DB5B-4721-4504-97BD-EA0075260D0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 type="sldNum" idx="1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8D6E-D6D4-4DCC-8DEA-4A5AFE30DD8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EF29-548E-4B3E-8E20-5C1F6808BDA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sldNum" idx="1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73F6-6D60-4EFE-B1D2-0A17F9212B2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3019-CCBE-430C-B693-D6EDFCC7C01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172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4B15-CC3A-4A97-B94B-AF1105596FC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sldNum" idx="1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2C1B-EE17-43C9-9E3E-B3A13A0B229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C6CE-B763-4CB2-A1DD-366FD0CCFD6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62E-A059-493D-9100-BFD22039144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9E8F-D5BC-468F-9A7E-DBB3BEE1444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 type="sldNum" idx="1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BAD7-D018-421F-B05B-A2232D6AC2A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22E9-EFBF-4BE4-80C2-F1936B24FDA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 type="sldNum" idx="1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C1A2-02DB-48F6-AA51-33FFBB0FD8A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6771-21F8-4E1E-8DC2-25CAEE5EECF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 type="sldNum" idx="1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8914-753B-4157-9B1E-BE26A840DD5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2F49-712D-41E4-9327-2D53D309A50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 type="sldNum" idx="1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CF7A-39CE-416C-B308-DC62B61C70F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666D-93E6-4011-B2CA-384DDBC2146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4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568D-84F7-4306-BEA3-F989AEF4C69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5330-4278-4BB8-B431-099F7CC735E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sldNum" idx="1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8DA-A61D-4ABD-9CCE-61107C95859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97DC-BEEF-4A72-8A06-5D2EA196033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ldNum" idx="1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885F-631C-44AB-A6C9-C70D5CCD908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dt" idx="145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ftr" idx="146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E03F-3AFD-45B5-96DC-364F085B3D4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7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578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2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ldNum" idx="1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F9E5-72BA-42DF-996C-B457AB635DF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F51C-299C-4956-B920-CABBB22C626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3905-EA18-4BCA-9DA9-AB77079541C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64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sldNum" idx="1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685F-92F3-46DF-BE5C-34C25BBC85F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B29B-2FF3-403E-AE5C-7E830F334FD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1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sldNum" idx="1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6FD3-575A-4F63-9DD9-81B9EE98B68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09F3-AB5A-4718-959A-F57E3B19F33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8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 type="sldNum" idx="1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AD5D-DC1E-4CC0-A881-4205953ACC8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9947-13A0-4CF3-94A8-E8799E7FEE4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84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E68E-DF9F-42E3-AF19-091416BC07A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E103-DFC6-48BC-B361-5C0165CBD43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1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sldNum" idx="1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496E-5754-47A8-B53F-E675F6CA3B4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66A3-A33C-45BB-8F34-3F333971127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8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sldNum" idx="1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768-E930-4BFF-8C45-AAE04AB0AB0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B7AE-F3A2-4614-9CD0-B9D605EC83B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05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sldNum" idx="1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F8EE-BE12-45B2-B637-8058BE868B2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BACA-430C-40BC-B671-70BEEEFACEE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2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 type="sldNum" idx="1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0D38-0C77-4BD5-BF76-82D91A64132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E8C0-15DC-418C-A33B-AF8C0352770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8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sldNum" idx="1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D825-33A1-4BDD-A08D-AAFBA4562D1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1945-3B86-4D2D-9439-5E72F418BDF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25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 type="sldNum" idx="17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65C6-5E96-4799-8FC5-30A374EDD6B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5F18-AC9B-4E62-BC6F-C8C4B956257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4F5-95CF-4243-AF0D-13334931C14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32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 type="sldNum" idx="17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F1F4-C2E7-442A-9FA5-D530B319EF5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 type="dt" idx="17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 type="ftr" idx="18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F1A1-7638-4EDE-9E19-23D15E6F947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393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Num" idx="18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802A-8077-49FE-90FA-DC52A98E6ED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B91-FA54-4010-8BFA-68A20D4C144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 type="sldNum" idx="18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9433-DC83-49EF-AC10-A1A04FA3D01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612F-3952-4DE5-811B-442AAE20E21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sldNum" idx="18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CD69-D9B6-4679-985A-23729B6B243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7DA7-903F-4DD2-AAB4-2866E5DCEE9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sldNum" idx="19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3086-2559-40DE-A177-01D73972A44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C465-4D4E-496A-AE4B-CD8D5E6EFB8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dt" idx="1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 type="sldNum" idx="19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7094-7A78-4A26-96DE-12C46F2C00D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2BD4-008E-4C2B-AF7F-0C86D6CDD5C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dt" idx="1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 type="ftr" idx="1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 type="sldNum" idx="19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7182-FAB3-4929-8498-B365AD3B658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9BAA-F9A2-43B9-98DF-F13F5154BDD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dt" idx="1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 type="ftr" idx="1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 type="sldNum" idx="19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DE6C-9CF6-4A2A-924D-60785516370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0DEB-046A-4A95-AD75-EB7E81889EA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 type="dt" idx="2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 type="ftr" idx="2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 type="sldNum" idx="20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F6D1-4E1B-4C4D-AFC4-3D9BCAD5C40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75B5-E9FF-4366-B961-B4E55E58FCB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 type="dt" idx="2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 type="ftr" idx="2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 type="sldNum" idx="20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191A-E1B6-4D3E-B292-BA667CB231B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7" descr=""/>
          <p:cNvPicPr/>
          <p:nvPr/>
        </p:nvPicPr>
        <p:blipFill>
          <a:blip r:embed="rId3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812E-7CB3-49EE-BA62-FB89A399221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2BC1-9903-4AA9-BEAB-947503F430D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dt" idx="2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ftr" idx="2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sldNum" idx="20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4C35-4A6C-43E3-B9BE-AA4411798F4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EF8C-4987-48A7-92AB-6055DA00CDC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dt" idx="2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ftr" idx="2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sldNum" idx="21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4EA1-50EE-4E6E-8D12-D8ABF47F65C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6F77-83A6-423F-8FCA-53AFC8A18FD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ldNum" idx="21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24F0-80A4-48F7-80E2-7275F268E16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13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14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6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17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816C-5083-45AB-8B52-FA90AE3B2A7F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6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 type="dt" idx="2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 type="ftr" idx="2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 type="sldNum" idx="2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3875-F915-4BE9-8AC1-D15D733A630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2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 type="dt" idx="2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 type="ftr" idx="2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5"/>
          <p:cNvSpPr>
            <a:spLocks noGrp="1"/>
          </p:cNvSpPr>
          <p:nvPr>
            <p:ph type="sldNum" idx="2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D6AE-F289-4251-A677-B15B8E7BFA2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7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dt" idx="2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 type="ftr" idx="2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5"/>
          <p:cNvSpPr>
            <a:spLocks noGrp="1"/>
          </p:cNvSpPr>
          <p:nvPr>
            <p:ph type="sldNum" idx="2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986F-98BF-4CF6-8A09-986E1D3A45C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2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79BB-EBD8-430D-9A45-3291DDD6936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7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 type="dt" idx="2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 type="ftr" idx="2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 type="sldNum" idx="2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298D-A758-48EA-A0B9-3B795F8904B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2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dt" idx="2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 type="ftr" idx="2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5"/>
          <p:cNvSpPr>
            <a:spLocks noGrp="1"/>
          </p:cNvSpPr>
          <p:nvPr>
            <p:ph type="sldNum" idx="2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C7AB-3759-432D-8C08-9E3816E8A05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Afbeelding 7" descr="haal het beste uit jezelf_RGB.png"/>
          <p:cNvPicPr/>
          <p:nvPr/>
        </p:nvPicPr>
        <p:blipFill>
          <a:blip r:embed="rId3"/>
          <a:stretch/>
        </p:blipFill>
        <p:spPr>
          <a:xfrm>
            <a:off x="2340000" y="3429000"/>
            <a:ext cx="4824360" cy="646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DE9F-EA03-456C-8E6A-F688B184FF2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8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dt" idx="2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ftr" idx="2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 type="sldNum" idx="2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886F-96CD-473C-B23D-1798A8C7DB5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3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2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2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2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520A-225A-424A-9A15-59B3DD1BD05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8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dt" idx="2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 type="ftr" idx="2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PlaceHolder 5"/>
          <p:cNvSpPr>
            <a:spLocks noGrp="1"/>
          </p:cNvSpPr>
          <p:nvPr>
            <p:ph type="sldNum" idx="2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430B-B044-41BF-8072-0126841DAA2D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3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 type="dt" idx="2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 type="ftr" idx="2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 type="sldNum" idx="2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A0A8-B08F-4600-8D03-403CB2207EB0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9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8714-27E1-44AD-ACCB-56F7BB29AD2B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4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7" name="PlaceHolder 3"/>
          <p:cNvSpPr>
            <a:spLocks noGrp="1"/>
          </p:cNvSpPr>
          <p:nvPr>
            <p:ph type="dt" idx="2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4"/>
          <p:cNvSpPr>
            <a:spLocks noGrp="1"/>
          </p:cNvSpPr>
          <p:nvPr>
            <p:ph type="ftr" idx="2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5"/>
          <p:cNvSpPr>
            <a:spLocks noGrp="1"/>
          </p:cNvSpPr>
          <p:nvPr>
            <p:ph type="sldNum" idx="2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C5BE-9F2F-4334-91E1-4F45076A6612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9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 type="dt" idx="25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 type="ftr" idx="25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 type="sldNum" idx="25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CECC-218F-4FDF-A78F-E33A53CED412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64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 type="dt" idx="25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 type="ftr" idx="25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 type="sldNum" idx="25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57FA-0C75-470A-AD1F-1587E1C0370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0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 type="dt" idx="26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4"/>
          <p:cNvSpPr>
            <a:spLocks noGrp="1"/>
          </p:cNvSpPr>
          <p:nvPr>
            <p:ph type="ftr" idx="26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PlaceHolder 5"/>
          <p:cNvSpPr>
            <a:spLocks noGrp="1"/>
          </p:cNvSpPr>
          <p:nvPr>
            <p:ph type="sldNum" idx="26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8266-00C6-4884-8447-4DB0EBBE4A9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5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 type="sldNum" idx="26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3984-BA80-4170-8129-3D6665AA0A29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7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7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8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0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schimmel%20huid&amp;source=images&amp;cd=&amp;cad=rja&amp;docid=pqq8v0m-_Xyv1M&amp;tbnid=uJKapSVmd59xzM:&amp;ved=0CAUQjRw&amp;url=http%3A%2F%2Fwww.begeleidzelfstandigleren.com%2Fbiologie%2Fectoparasitisme.html&amp;ei=XNHCUazCBov5sgahhIDADg&amp;psig=AFQjCNGqkhKqHnueB_ik0K0m6po0kKIT9g&amp;ust=13718084344409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0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0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 en 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14" name="Picture 5" descr="Afbeeldingsresultaat voor summa college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179280" y="5097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: wel of niet ziek?!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Afhankelijk v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irul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Weerstand van de gasthe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cubatietij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Incubatietijd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tijd die ligt tuss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binnendring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verwekkers (de besmetting) 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uitbrek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cubatietijd viru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254160" y="1125000"/>
            <a:ext cx="8891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 tussen besmet raken met het micro-organisme</a:t>
            </a:r>
            <a:br>
              <a:rPr sz="2600"/>
            </a:b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en het optreden van de eerste ziekteverschijnsel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Verkoudhei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uur tot 3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Griep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4 tot 48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aterpokken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Rode hon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Noro virus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tot 24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epatitis B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6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IV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6 maanden tot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ens incubatietijd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drager</a:t>
            </a: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 van virus, dus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besmettelijk voor ande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ruisinfec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 type="subTitle"/>
          </p:nvPr>
        </p:nvSpPr>
        <p:spPr>
          <a:xfrm>
            <a:off x="826920" y="2705040"/>
            <a:ext cx="633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fectie door een besmetting van patiënt op patiënt in het ziekenhuis/instelling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Arial"/>
                <a:ea typeface="Arial"/>
              </a:rPr>
              <a:t>Doorbreken van de infectieketen/ besmettingskring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lgemene voorzorgsmaatregel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hygië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andhygiëne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beschermingsmiddelen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solatiemaatreg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Persoonlijke hygiën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/>
          </p:nvPr>
        </p:nvSpPr>
        <p:spPr>
          <a:xfrm>
            <a:off x="684360" y="16920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Nag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Haa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Baarden en snor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Siera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Zakdoek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Werkkled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nietigen van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ro-organism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3" name="Picture 4" descr="ouderwetse sterilisatie"/>
          <p:cNvPicPr/>
          <p:nvPr/>
        </p:nvPicPr>
        <p:blipFill>
          <a:blip r:embed="rId1"/>
          <a:stretch/>
        </p:blipFill>
        <p:spPr>
          <a:xfrm>
            <a:off x="2484360" y="4653000"/>
            <a:ext cx="3743280" cy="2004840"/>
          </a:xfrm>
          <a:prstGeom prst="rect">
            <a:avLst/>
          </a:prstGeom>
          <a:ln w="0">
            <a:noFill/>
          </a:ln>
        </p:spPr>
      </p:pic>
      <p:pic>
        <p:nvPicPr>
          <p:cNvPr id="4954" name="Picture 5" descr="sterilisatie instrumenten"/>
          <p:cNvPicPr/>
          <p:nvPr/>
        </p:nvPicPr>
        <p:blipFill>
          <a:blip r:embed="rId2"/>
          <a:stretch/>
        </p:blipFill>
        <p:spPr>
          <a:xfrm>
            <a:off x="4878360" y="1689120"/>
            <a:ext cx="2700360" cy="2770200"/>
          </a:xfrm>
          <a:prstGeom prst="rect">
            <a:avLst/>
          </a:prstGeom>
          <a:ln w="0">
            <a:noFill/>
          </a:ln>
        </p:spPr>
      </p:pic>
      <p:pic>
        <p:nvPicPr>
          <p:cNvPr id="4955" name="Picture 7" descr="instrumenten"/>
          <p:cNvPicPr/>
          <p:nvPr/>
        </p:nvPicPr>
        <p:blipFill>
          <a:blip r:embed="rId3"/>
          <a:stretch/>
        </p:blipFill>
        <p:spPr>
          <a:xfrm>
            <a:off x="720720" y="173196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Reinigen/ desinfecter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Reinigen is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shoudelijk schoonmaken, poetsen waarbij niet  alle kiemen worden verwijder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Desinfecteren is: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ntsmetten, ziektekiem vrij maken, Micro-organismen vermind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Sterilis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doden micro-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Ontsmetten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9" name="Picture 4" descr="betadine 2"/>
          <p:cNvPicPr/>
          <p:nvPr/>
        </p:nvPicPr>
        <p:blipFill>
          <a:blip r:embed="rId1"/>
          <a:stretch/>
        </p:blipFill>
        <p:spPr>
          <a:xfrm>
            <a:off x="5796000" y="3141720"/>
            <a:ext cx="2890800" cy="3217680"/>
          </a:xfrm>
          <a:prstGeom prst="rect">
            <a:avLst/>
          </a:prstGeom>
          <a:ln w="0">
            <a:noFill/>
          </a:ln>
        </p:spPr>
      </p:pic>
      <p:pic>
        <p:nvPicPr>
          <p:cNvPr id="4960" name="Picture 5" descr="schaafwond hand"/>
          <p:cNvPicPr/>
          <p:nvPr/>
        </p:nvPicPr>
        <p:blipFill>
          <a:blip r:embed="rId2"/>
          <a:stretch/>
        </p:blipFill>
        <p:spPr>
          <a:xfrm>
            <a:off x="2987640" y="1197000"/>
            <a:ext cx="2751120" cy="1500120"/>
          </a:xfrm>
          <a:prstGeom prst="rect">
            <a:avLst/>
          </a:prstGeom>
          <a:ln w="0">
            <a:noFill/>
          </a:ln>
        </p:spPr>
      </p:pic>
      <p:pic>
        <p:nvPicPr>
          <p:cNvPr id="4961" name="Picture 6" descr="hand antisepsis"/>
          <p:cNvPicPr/>
          <p:nvPr/>
        </p:nvPicPr>
        <p:blipFill>
          <a:blip r:embed="rId3"/>
          <a:stretch/>
        </p:blipFill>
        <p:spPr>
          <a:xfrm>
            <a:off x="2916360" y="2997360"/>
            <a:ext cx="2280960" cy="2950920"/>
          </a:xfrm>
          <a:prstGeom prst="rect">
            <a:avLst/>
          </a:prstGeom>
          <a:ln w="0">
            <a:noFill/>
          </a:ln>
        </p:spPr>
      </p:pic>
      <p:pic>
        <p:nvPicPr>
          <p:cNvPr id="4962" name="Picture 7" descr="wondontsmetting"/>
          <p:cNvPicPr/>
          <p:nvPr/>
        </p:nvPicPr>
        <p:blipFill>
          <a:blip r:embed="rId4"/>
          <a:stretch/>
        </p:blipFill>
        <p:spPr>
          <a:xfrm>
            <a:off x="826920" y="836640"/>
            <a:ext cx="1189080" cy="2665440"/>
          </a:xfrm>
          <a:prstGeom prst="rect">
            <a:avLst/>
          </a:prstGeom>
          <a:ln w="0">
            <a:noFill/>
          </a:ln>
        </p:spPr>
      </p:pic>
      <p:pic>
        <p:nvPicPr>
          <p:cNvPr id="4963" name="Picture 8" descr="DettolBrown"/>
          <p:cNvPicPr/>
          <p:nvPr/>
        </p:nvPicPr>
        <p:blipFill>
          <a:blip r:embed="rId5"/>
          <a:stretch/>
        </p:blipFill>
        <p:spPr>
          <a:xfrm>
            <a:off x="0" y="3860640"/>
            <a:ext cx="2400480" cy="240048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Wat doen antibiotica?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6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70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Doelstelling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volgende begrippen kunnen omschrij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cro-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ir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imm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acter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uisinfecti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bro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cubatieperio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ronisol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R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accin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keten verkla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Leg uit hoe een inenting werkt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8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1" name="Picture 5" descr=""/>
          <p:cNvPicPr/>
          <p:nvPr/>
        </p:nvPicPr>
        <p:blipFill>
          <a:blip r:embed="rId1"/>
          <a:stretch/>
        </p:blipFill>
        <p:spPr>
          <a:xfrm>
            <a:off x="611280" y="762120"/>
            <a:ext cx="67262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/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9" name=""/>
          <p:cNvSpPr txBox="1"/>
          <p:nvPr/>
        </p:nvSpPr>
        <p:spPr>
          <a:xfrm>
            <a:off x="324000" y="1929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metting: Het overbrengen van levende (pathogeen) micro-organismen van de ene plaats naar de and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fectie: Na besmetting het zich handhaven en vermenigvuldigen van ziekteverwekkers waardoor een plaatselijke ontsteking of een ziekte van het gehele organisme wordt veroorzaakt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   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Viruss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Hebben </a:t>
            </a:r>
            <a:r>
              <a:rPr b="1" lang="nl-NL" sz="2800" spc="-1" strike="noStrike">
                <a:solidFill>
                  <a:srgbClr val="f92242"/>
                </a:solidFill>
                <a:latin typeface="Arial"/>
                <a:ea typeface="Arial"/>
              </a:rPr>
              <a:t>wel</a:t>
            </a: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 een gastheercel nodig om zich te vermeerder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verdracht via contact of luc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Bacterië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270000" y="206064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n principe overal aanwez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vermeerderen: tweeën 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elen kan iedere </a:t>
            </a: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 minuten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nafhankelijk van gasthe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bben wel voedingsstoffen nod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333760" y="203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verdracht vindt plaats do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contact, voornamelijk via handen, apparatuu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lucht, aerosolen,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Schimmels en gist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immels en gisten                  (bv ,spruw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Komen overal voor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immels vormen sporen die jaren inactief kunnen blij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0" name="Picture 6" descr="http://www.begeleidzelfstandigleren.com/biologie/voetschi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648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4" name="Picture 13" descr="scabies%20mite"/>
          <p:cNvPicPr/>
          <p:nvPr/>
        </p:nvPicPr>
        <p:blipFill>
          <a:blip r:embed="rId1"/>
          <a:stretch/>
        </p:blipFill>
        <p:spPr>
          <a:xfrm>
            <a:off x="4489560" y="1566720"/>
            <a:ext cx="4267080" cy="386100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35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1371600" y="2923920"/>
            <a:ext cx="7772400" cy="15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ormen (aarswormen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intwor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Mijten (schurf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Tek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uizen (hoofdluis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aamlu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7" name="Picture 6" descr="luis_op_kam-206%20px_tcm92-42312"/>
          <p:cNvPicPr/>
          <p:nvPr/>
        </p:nvPicPr>
        <p:blipFill>
          <a:blip r:embed="rId2"/>
          <a:stretch/>
        </p:blipFill>
        <p:spPr>
          <a:xfrm>
            <a:off x="179280" y="5229360"/>
            <a:ext cx="2743200" cy="1411200"/>
          </a:xfrm>
          <a:prstGeom prst="rect">
            <a:avLst/>
          </a:prstGeom>
          <a:ln w="0">
            <a:noFill/>
          </a:ln>
        </p:spPr>
      </p:pic>
      <p:pic>
        <p:nvPicPr>
          <p:cNvPr id="4938" name="Picture 9" descr="Lineaal_tcm92-42317"/>
          <p:cNvPicPr/>
          <p:nvPr/>
        </p:nvPicPr>
        <p:blipFill>
          <a:blip r:embed="rId3"/>
          <a:stretch/>
        </p:blipFill>
        <p:spPr>
          <a:xfrm>
            <a:off x="990720" y="1176480"/>
            <a:ext cx="2743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4:36Z</dcterms:created>
  <dc:creator>GRRU</dc:creator>
  <dc:description/>
  <dc:language>en-US</dc:language>
  <cp:lastModifiedBy>Kievit, Eline</cp:lastModifiedBy>
  <dcterms:modified xsi:type="dcterms:W3CDTF">2020-10-02T13:24:11Z</dcterms:modified>
  <cp:revision>47</cp:revision>
  <dc:subject/>
  <dc:title>HC 4</dc:title>
</cp:coreProperties>
</file>