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E04E-AA56-4E21-A876-74A25B73B1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6190-5D65-4924-9DF8-33C71535EE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5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55C2-C4C5-4F48-AE0C-9AF6CF9377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C925-9627-437B-8614-28A9A303B9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30BF-E04B-4C13-9F87-DF451BAAE2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16CB-8FCB-46CA-AF1D-A3BBA4A07D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67C66-3828-478D-B1E5-640C91DC7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E6A57-7843-405D-AEED-B58CD942F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BFD067-F96A-4EE2-91A0-ED825AC0CA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FBBD67-3BDD-40CE-A9F9-E5FFF52F51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DC30EC-215A-438A-9538-A74EFD6ACC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DF71A1-9DE5-4F34-8425-9A27756F4C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76C35-24B9-4CCD-AFB4-D8A050BF32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E6E1D-0EB2-406F-849F-F10C9A7B6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600971-EB3F-4DF6-B96D-8FD4492822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33A51B-A088-4A04-8678-F4C4BA4B37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FEB7AA-65FA-4AC2-99D3-7545624D41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ED4C1B-707D-4985-B08C-4AF307F47AC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99E6B-4BEB-403A-85BA-4BD15C590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8B6DA9-478D-42D8-AEC0-A513B4395E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39BA90-3F50-44C0-AD65-1E0CDB8FC5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D0F4E8-31F3-4877-814A-AD18F3DDF1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CB2551-36B9-441D-AACE-1DA9E60DE6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9280AD-38A0-41A6-81D4-F36652560E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E78941-86ED-42CA-A89B-67564963E6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F50AB5-4FA0-461B-8E2B-5700A33537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98A7C1-9D5D-46D3-A01A-3AFFFD3624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5D5FBB-7B80-4BA1-BC22-A9818237C2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9DA4E6-7CDE-4678-AB1D-84F10385AC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18CDF-A463-4CAF-A5A5-51D8FD59B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C88DF9-9FA5-4A68-9374-EE64A8773F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584BEE-778B-41FA-B04A-208CD49170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77673C-247B-40B1-AD50-CD029EA06B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0D40F0-84FC-413D-8828-6971E59340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409276-5668-4BD5-8985-EACD584F16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F9B4EA-FFA0-4129-8227-DEA71CFC74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EAE774-3714-4A13-8204-668F0AB072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480D8B-9B65-4D21-A66F-1E9FAB71CE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470284-E5B4-4508-BAF7-7A2D18749C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FFA7CD-1C67-4AB6-BDF3-494DD59B13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8E6F8-E0AC-40CC-9E16-504283BCB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7781A9-8B38-4D04-8FF4-5E056F7314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26F5A6-1E92-441A-B7FC-D73ADC842F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80AD2C-6DB7-4D5E-ACC1-A6B071E2B0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B231F2-F259-4E17-9E51-1A3ECCC98BA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07033A-013C-490E-A5DF-EAB49AAA56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64031B-3FEA-4A31-BBA4-26F2F8D46D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6065F8-ED46-4BBE-87E5-D34086D991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2CB966-C37B-41EF-96E3-FF715941D5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FC9E95-7520-4FEE-A4ED-207413D371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F9546F-4613-44A4-9BD2-873B569F1C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E13F0-0A13-4D01-9F12-AF47E399A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6CB302-4CCF-43CD-AF02-F8D64508A1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54664C-21E7-41E3-A2AF-6ED06D82F2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29B67E-558F-4D87-A4D2-3C7B6E4A4C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879793-9D24-4968-9E9B-03FD1A0E7B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AD9C9F-56AD-4D8B-879F-900A54C2EE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67B25-9551-48EB-A507-A18A3AAA8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FCEB8-96CE-45D4-8537-21BDCE295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CDA52-57EE-4B05-8436-6BB01A817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F298E-717B-4A40-BB1A-CE29EF98F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26359-37DC-466B-8329-580D08A4D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D4DAC-4F83-43A5-9F3E-5220BE98A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1B0AF-E69E-4193-86FB-AF1F46F23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88B67-A639-4F9D-B71C-4EBAEF1A8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77E9B-0C63-4759-AC5B-4C49A394D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0D6E1-8048-44E7-82D6-10B6B1B80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98C4D-3ACC-44FD-981B-952F051C0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C089F7-D486-4329-870F-EFB0A725B9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04EFBD-A9F3-45A4-85B2-F32D828B6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F12E8-17C0-4D23-BFC5-10D522F64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E6CA4E-29A2-4989-AE79-BB647C6DB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B762B-3068-41EF-AA4D-05648F18B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B5BDC-C67D-4B47-B6CD-442601DF6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50FDE-C2DF-4D8A-93EE-0D44663ED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3F5EC-6FA0-4E48-99BE-D6592D0DB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149D5-7A85-4E9C-A78D-C256706BB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98267-5089-4FBC-A339-E412EE01E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14E1C-B83B-4C51-B6BD-69D993690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0560D-D2C7-4246-BF7B-20407C9DDF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2C6841-6A95-46D6-9C62-F7F04AECD7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FAF504-9B57-4AA8-9CF2-10A0735195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4A20F-9A9E-47A2-89C2-D04202D33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636914-B881-420F-B52F-8E277586C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0D056-C517-490D-AAF4-21E69AA6E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1DBB8-C491-403F-9ADD-34419C123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D9DC2A-D2E9-4519-AB66-80CC753F4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19508-AD50-4F6B-956D-ED89E2E95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BA694-78BA-415A-A0F1-BB6660BA4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F6397-E0F0-4627-B37C-BFBE35E5B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CE49F-452F-4941-B882-907ED72E3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A8125C-DCB0-4C0C-A8C1-52468D1B01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C02BE-525B-478C-A8D1-2C82E9AB5A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60B09F-676F-47B2-8C96-B8356C5181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F07D2F-35AD-4A67-9950-5B7D376A5A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12A3-31BD-4EF7-A0F7-7B07C843E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5CF9F-1882-44B0-9EF3-E65154036E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740F0-12A4-4061-B76E-E92F082C1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8FF363-8F5B-4F9A-B05B-FBAB7C4A99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85537C-9136-43FB-B55A-40B2AB93D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904E4-C01D-4B52-BFD1-75F04B2E41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4688F7-159C-43A9-8156-0B8A813C4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0F73C-0150-4FAC-92CE-5762D2FCE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3B2E3-299A-4116-8A95-C7865BED5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91EB2-BC6A-40E5-AD4E-AF8784E3D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40FB1-EEBD-4C67-ABCE-04C1F19D45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B495F-CDCA-419F-96BD-FD3E44104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57F436-1BDF-4F3B-9CFD-477412C7BD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B722DB-E8BA-4215-8A99-D8EC07A3DD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01570D-C249-40C4-A2DE-9886357B0B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C1E42-2E9C-4B55-82D2-23FAAAB4EB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E077F4-84D2-4437-B592-DB289BCB05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00228-CF18-4540-B826-A13DB9C1D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19D49-E9DB-4F43-A07D-ABA3DA7B9E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6A26F-108D-4E19-A2B9-DDF8837A98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CD628-24D4-463A-BE2C-41C1AAC56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C264F-B38C-470A-BA30-D0B450843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4C0B6-4D10-4382-A24F-8926506D2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9EEECA-5707-42D4-9C60-67CCB39A4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52668D-D1EE-4C14-8EEF-F2D9AB2146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87B22F-8167-4E1B-9C49-E31DB32ABC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97E57B-1FFE-4524-9525-5D7571008D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D03265-E299-478F-9522-D772AF8C8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DCD245-7F43-40EF-82F0-79B581699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F65E9A-D1A0-48FA-81F5-B44088133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F0828-3CBD-4F12-8BBF-DD677E3C26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A1760E-D1E8-4EDC-BD18-D12FCF814B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B41A7-016A-4789-9E12-ACCE01D5E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B41C-BCA2-417A-BE02-DE2A39138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466C6-83FA-4B63-AFD2-A7C731985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213EA-7A53-44BB-BFA5-665005794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D183C-DBED-4D1E-844A-C1DB42D9BC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FF2F60-1E2F-4CA3-A0CC-6E29DA0A87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A89BB0-B943-4CE2-9059-CBE6759DE9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0E5C0E-E5EE-46F4-B8CF-1DF51EACA4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81DA5B-61E9-43C3-9306-FB2552C1FF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5CE3BD-37F7-40C8-915E-B57DE21859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B8452E-F611-4DC8-BBEE-281A9EF2D0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3EB086-3ABE-47AC-B895-6C429AC9F8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6CEB-4B82-412E-9398-07A222A9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74A1E1-6BDF-4FD4-8A7C-7DE509A0C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B834FB-9331-4CDC-8C01-9CD431E62B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C0FBBA-52E9-447B-8AB2-2F7FBA905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340D3-6C02-45E3-8D2E-4DA5D28A4E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DBB9A4-6A86-4650-85EA-4EDE6DD4AE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0BA004-B7E0-4907-8498-1842C9E0A1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E138EC-968A-44E4-A6E8-91E165F9B5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675F14-0E6F-4278-ABC8-3713EC8AC0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8C6CD7-6992-4336-AEB0-B0F620B83B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DF7DCD-270A-4F9A-A927-6133436D85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52CD-F768-496B-8B76-9CFD8B8A32E4}" type="datetime">
              <a:rPr b="0" lang="nl-NL" sz="1200" spc="-1" strike="noStrike">
                <a:solidFill>
                  <a:srgbClr val="f77f00"/>
                </a:solidFill>
                <a:latin typeface="Calibri"/>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B9FE-7126-40B1-90B3-5AF78468CFF7}"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5C4E-64A3-4E94-8077-DE265D237642}"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5878-DD06-4FE1-9FCE-FED2478A98B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11E5-18A1-4953-910D-E41497B36C41}"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31F4-0159-4F02-A79A-6AF66C663F2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B4D9-C038-4CF0-BBD9-66DC269D68AD}"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9268-C569-490A-B3AD-1D2959C2A96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CD29-79D9-47E1-BB45-061A103178F3}"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1198-38CA-4684-8A05-9F2E8A48677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848F-8D2D-4960-8B0D-0FAA5C86EA6A}"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A77C-DB2E-4483-A5E8-F9FD03E6D9E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71B6-7DCC-4A9C-AE71-B7E70B6075C2}"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0035-CEAB-42A0-A6AC-97FFDDC0B85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489B-9F95-461E-A3BC-F6C650872A83}"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34B5-901B-4E6D-AE47-89D65FB70F2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7632-2C99-4547-88C9-C9D3B6E6C1CD}"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810A-8F6A-41A6-BF1A-3306CC28A22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8957-B361-4561-8149-1B825CC10810}"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068D-C916-448D-A090-267BB1C2FA0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ED24-C12C-491A-ACB2-9098C42D7DD8}"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662D-8D75-4D23-953A-4095D10867E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EB9E-D366-48CB-9317-18E63B5079FB}"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592A-0C30-4600-A630-12CBF2F4E83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8"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9"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E901-B048-45A8-9047-7260606D14F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0"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22" name="" descr=""/>
          <p:cNvPicPr/>
          <p:nvPr/>
        </p:nvPicPr>
        <p:blipFill>
          <a:blip r:embed="rId1"/>
          <a:stretch/>
        </p:blipFill>
        <p:spPr>
          <a:xfrm>
            <a:off x="628560" y="1825200"/>
            <a:ext cx="7886880" cy="4351320"/>
          </a:xfrm>
          <a:prstGeom prst="rect">
            <a:avLst/>
          </a:prstGeom>
          <a:ln w="0">
            <a:noFill/>
          </a:ln>
        </p:spPr>
      </p:pic>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F11B-44A6-4202-9035-F062E7E3819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3" descr=""/>
          <p:cNvPicPr/>
          <p:nvPr/>
        </p:nvPicPr>
        <p:blipFill>
          <a:blip r:embed="rId2"/>
          <a:srcRect l="0" t="25495" r="0" b="0"/>
          <a:stretch/>
        </p:blipFill>
        <p:spPr>
          <a:xfrm>
            <a:off x="-7920" y="1773360"/>
            <a:ext cx="8978760" cy="4246560"/>
          </a:xfrm>
          <a:prstGeom prst="rect">
            <a:avLst/>
          </a:prstGeom>
          <a:ln w="0">
            <a:noFill/>
          </a:ln>
        </p:spPr>
      </p:pic>
      <p:sp>
        <p:nvSpPr>
          <p:cNvPr id="525"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27"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350E-D4F0-4F58-B0DC-EFE6FDA9365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29"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9659929A-E02F-438D-A6E4-24517AFD5846}"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2"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33" name="Tijdelijke aanduiding voor inhoud 15" descr=""/>
          <p:cNvPicPr/>
          <p:nvPr/>
        </p:nvPicPr>
        <p:blipFill>
          <a:blip r:embed="rId1"/>
          <a:stretch/>
        </p:blipFill>
        <p:spPr>
          <a:xfrm>
            <a:off x="6480" y="1590840"/>
            <a:ext cx="8229600" cy="4535280"/>
          </a:xfrm>
          <a:prstGeom prst="rect">
            <a:avLst/>
          </a:prstGeom>
          <a:ln w="0">
            <a:noFill/>
          </a:ln>
        </p:spPr>
      </p:pic>
      <p:sp>
        <p:nvSpPr>
          <p:cNvPr id="534"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35"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36"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38"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ea typeface="ＭＳ Ｐゴシック"/>
              </a:rPr>
              <a:t>http://www.venvn.nl/themas/richtlijnen-en-protocollen</a:t>
            </a: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39" name="Picture 7" descr="protocollen"/>
          <p:cNvPicPr/>
          <p:nvPr/>
        </p:nvPicPr>
        <p:blipFill>
          <a:blip r:embed="rId1"/>
          <a:stretch/>
        </p:blipFill>
        <p:spPr>
          <a:xfrm>
            <a:off x="5867280" y="2205000"/>
            <a:ext cx="2513160" cy="2581200"/>
          </a:xfrm>
          <a:prstGeom prst="rect">
            <a:avLst/>
          </a:prstGeom>
          <a:ln w="0">
            <a:noFill/>
          </a:ln>
        </p:spPr>
      </p:pic>
      <p:pic>
        <p:nvPicPr>
          <p:cNvPr id="540"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4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50C6-6A45-461B-81AA-9B1D769287C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4" name="Picture 3" descr=""/>
          <p:cNvPicPr/>
          <p:nvPr/>
        </p:nvPicPr>
        <p:blipFill>
          <a:blip r:embed="rId1"/>
          <a:stretch/>
        </p:blipFill>
        <p:spPr>
          <a:xfrm>
            <a:off x="6064200" y="2421000"/>
            <a:ext cx="2595600" cy="1439640"/>
          </a:xfrm>
          <a:prstGeom prst="rect">
            <a:avLst/>
          </a:prstGeom>
          <a:ln w="0">
            <a:noFill/>
          </a:ln>
        </p:spPr>
      </p:pic>
      <p:sp>
        <p:nvSpPr>
          <p:cNvPr id="545"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6" descr=""/>
          <p:cNvPicPr/>
          <p:nvPr/>
        </p:nvPicPr>
        <p:blipFill>
          <a:blip r:embed="rId2"/>
          <a:stretch/>
        </p:blipFill>
        <p:spPr>
          <a:xfrm>
            <a:off x="3714840" y="3284640"/>
            <a:ext cx="1714320" cy="1714320"/>
          </a:xfrm>
          <a:prstGeom prst="rect">
            <a:avLst/>
          </a:prstGeom>
          <a:ln w="0">
            <a:noFill/>
          </a:ln>
        </p:spPr>
      </p:pic>
      <p:sp>
        <p:nvSpPr>
          <p:cNvPr id="547"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0" descr=""/>
          <p:cNvPicPr/>
          <p:nvPr/>
        </p:nvPicPr>
        <p:blipFill>
          <a:blip r:embed="rId3"/>
          <a:stretch/>
        </p:blipFill>
        <p:spPr>
          <a:xfrm>
            <a:off x="390600" y="4581360"/>
            <a:ext cx="2178000" cy="1274760"/>
          </a:xfrm>
          <a:prstGeom prst="rect">
            <a:avLst/>
          </a:prstGeom>
          <a:ln w="0">
            <a:noFill/>
          </a:ln>
        </p:spPr>
      </p:pic>
      <p:pic>
        <p:nvPicPr>
          <p:cNvPr id="549" name="Picture 11" descr=""/>
          <p:cNvPicPr/>
          <p:nvPr/>
        </p:nvPicPr>
        <p:blipFill>
          <a:blip r:embed="rId4"/>
          <a:stretch/>
        </p:blipFill>
        <p:spPr>
          <a:xfrm>
            <a:off x="6073920" y="4005360"/>
            <a:ext cx="2628720" cy="1334880"/>
          </a:xfrm>
          <a:prstGeom prst="rect">
            <a:avLst/>
          </a:prstGeom>
          <a:ln w="0">
            <a:noFill/>
          </a:ln>
        </p:spPr>
      </p:pic>
      <p:pic>
        <p:nvPicPr>
          <p:cNvPr id="550"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Fluit-van der Molen, Gerda</cp:lastModifiedBy>
  <dcterms:modified xsi:type="dcterms:W3CDTF">2021-02-08T12:37:58Z</dcterms:modified>
  <cp:revision>186</cp:revision>
  <dc:subject/>
  <dc:title>Dia 1</dc:title>
</cp:coreProperties>
</file>