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BCAD-E39D-4414-B77B-5EDC9BBBB0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C7DD-0E0A-452A-9CE7-80F81B87C6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5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E7ED-DECE-44A2-A2B8-A520A34717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ADA2-27B8-4776-836D-78D72793EF7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E63C-DEEC-415B-A99F-DAF35BFDD5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E4F0-87E0-443E-A90E-6916F381E9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365C7-2826-482A-9070-E0E98B2B0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7354-93AB-48A7-BA43-71E7B9DA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6804E-2376-4EF7-BEE7-0FC26A9786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4E57B-10CF-44CE-A2FD-26F24031E0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EA7585-8A56-48B9-A77B-C4577BC376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85832-54EE-4CEF-AB63-5892EF0212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D24FFB-126A-460D-ADA7-89BF86CFC4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DA0692-3DD7-484D-8FA0-5382A9D5E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DBBCF3-AC5A-4EB3-A51E-B2FEE5BE01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0EA128-EEC4-47F4-92EB-F368C92817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97F632-493B-47E0-A124-39923BEAA6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E2C875-D086-4CD2-B3B4-11C2E20008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B580D-FF0C-479E-83A9-337F8BBD4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F8017F-683F-442A-AFB6-1D529119E8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4EFBF9-1D30-4447-AD73-5DBA77E0C6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6C766C-D212-4144-9AAA-5F2B36EA40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AE04A9F-D14C-4748-A3A7-DA2BC0285F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1DA826-5198-4E88-AD68-360CF11FB0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30583C-3F4B-4F17-B7DF-F68A3B3941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12D587-7F46-4F41-920C-FE783AEDCA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96DC5E-7F29-4A9B-82DD-896047F7D1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21F4EC-2B05-4085-9740-BA4906C165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2020B4-2C83-4444-A1C0-8C5F3F256D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4DF40-E270-4125-8DC1-7E16F0156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4C6174-6A75-4FF3-BDC4-91EB457AFA4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60C050-2DFE-4877-8E2E-DB20507CD4D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4BBD81-3A8F-4A6D-A25C-E37DB32FC7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4EE941-1684-4242-824C-92F5D4694F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338862-9446-4D33-BF28-1833FEF858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0DC3BB-D9B6-4CC4-A066-E4A2AE2557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770B20-9414-482B-8D79-3F51E906C8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2D1507-0E8B-4451-8B28-E4E702809A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D20079-F711-4C70-A9E5-6E6C97A0C3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4BDAD7-067D-4FB2-B777-2AA1B96520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DBB55-ADE7-4E57-AD87-80ABD1048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689AEB-49D3-42FF-A704-8833BA8D28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7D8650-2EEB-4944-AAFE-DA3AA5BC7AE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0848ED-E53A-4497-857A-46A0C6CF06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446080-1666-4385-B87E-245ACAACEF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E1A282-50BA-40E3-B366-13DF133C90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26EF40-C8FD-4560-9D70-78A177A508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A44132-8ED4-4CAF-97F8-6C353D17B1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129CCC-7A7D-4DFA-8532-8AE0B86763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04C950-5E56-4855-A3C2-9A6A9CDD9A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1993D3-95A6-4BCB-9253-0D1737A7BC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57C01-9AC6-4B8F-932B-00985400E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333ACD-9FB4-47D6-980B-3E203C6FE5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34956-3A3B-4141-B82A-B1782A3CE5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E64574-9A16-47E7-BEF8-98EEFA798D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D38F0A-279D-4808-A066-5CA909D0696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559EC7-FA40-49A4-8C13-81D91A796BF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C27C8-2535-4B60-B5B8-11D0E3295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2F419-263C-45B3-AFDA-975397097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BA5B0-0CA1-47C7-9CC2-DCEA75B14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7268C-8B10-40EA-ABD7-AACA294EB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B0694-7B8E-4B0F-8F22-7A85748FA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83EB-4612-44C8-9ACC-CACABC0E6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598B3-EF3B-4680-A2AB-598B46844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DEE2A-CAA9-4F68-AD28-FA61D9718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30B02-A61F-44C3-AB42-8668C0F8C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F63BA-A09F-4B46-B2C1-F63EDB0D4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7BADC-BE53-4764-9099-EC6AC71F7C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4118A0-ECF7-471C-88BB-6AD077C86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705B1-A17F-4502-B09C-DD7B9F1EF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350B7-48D8-4231-BDAC-B022E499CD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2E107-768F-4778-9BD3-76734CF76F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E574C-52D9-40BF-A954-3909501F6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15E3E-3D6A-4024-AD6F-5B4D51E87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93E29-E536-4FC5-8C27-60A07076D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001826-7F7B-4B42-A532-3BDB087E7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D9B0F1-ABD5-4A61-87A4-008671680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1A5FC2-6E05-4514-BABA-FA98CE1D3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3166F-A872-4D9A-83C9-C7C8B8D34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A9542D-48A2-4FB9-92FE-2724DEACD9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E6516A-C1CB-4B35-A3ED-465CCE3DF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390647-8859-4272-A70F-1785B79313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C2889D-6FB7-40E7-BB82-EF822BB17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874631-6E02-439A-9327-8868CDBA69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93614-AF14-4330-BAA0-50AD457BB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C76BF-5934-4187-89D5-CEF4AAC349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BE578-4660-4F96-8717-79E2D66E8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DA44B-6A70-40DF-94B7-B63A8599D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285AD-EC99-4227-8E2B-A188A24AE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25FBD8-6FC7-415D-9347-D6BBF4734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D7273-BB43-486C-AB9D-E0B18BD5C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EF082D-99A5-4D0C-A6CD-8C1EBFCD2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07A7F3-4AEA-488E-8361-077E642FD3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97AF5C-FA62-47B2-8868-8465D4924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B92B78-162B-47EC-8FD6-252310FC7F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C393-1A53-467A-B4FC-D7D896DF9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17ACD-F8A9-4B73-97AE-F2A102090D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745FF-7A33-41D2-8BC3-DC96F32A7F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C02812-5083-4ED9-907F-31C9A9119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455A1-4C3B-4950-B70D-FEE5CD9ECD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AA7E21-4938-46CA-B08E-8720CE7EB8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07F37-AC89-40CF-BEAA-A0F06A50D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907E49-153B-46C2-AFA4-1B6E94DE8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631B0A-FA9E-47AC-B62E-DE56024EF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C535B4-3BB2-46C2-B40B-7599261204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EADF87-432E-4BFE-AD2B-FFFAA5C951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04C40-3DA2-48B4-8736-A19D4AF9D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1A27CA-FEFA-49CB-B0D2-7F94557F8F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09EE33-0D04-4C3E-8353-FEBCEA181F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C51F5F-54F1-46DA-9C8E-A0599BE4F1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20A4A9-07E9-4460-A7AF-3EE264010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0F1F7-FB30-4D62-B5E4-5EAC230FFB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DB9DCD-10B9-47C0-98D6-5BFA505D4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5389E-1AC9-406C-86BD-9DB435604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C4688-7677-4C68-A53E-6D000E84A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7B8EC-581F-4376-A50D-DE6981900B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55870-9005-4A32-B2E1-86B520457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77CD8-741F-49EB-8EB7-3EEBB9B67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C2D092-1826-416D-BC10-2921228D35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B6E1D2-A695-4FFC-95FE-17C715EE19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22657-72FA-4269-9EFB-45B56F4A52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BFF980-1736-4177-815D-70BDF59108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4FE6D-2733-4B65-A09E-029B942B1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49FBA-E1D8-4DB0-92A6-F0B0ADB5F9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AB817-CDB3-4D15-819F-984E3BE012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36BDE-0ACD-4973-BBA4-E9C74719E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4B3C3C-048D-4C02-89CF-555B29A130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28B10-8ABA-4C57-9F16-E8684148A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BD0CF-2A4F-4F52-88EB-C10E576EC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D4E39-1EC0-49B9-8249-8DA1EE12F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1A5A18-7579-4E3E-A36E-DBFE92C28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239359-CF23-4AB9-BE6C-3C90DBA6E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A42423-3E97-4666-9B40-74572C7226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AE062D-F740-4CC6-B3BC-A331CABCEF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C3A698-16C8-4C8A-870C-DF1C09480F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33CA04-7C27-4469-8E9A-3CA3FF291C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1EB21B-1E1E-48EE-81B9-FC9824C54F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A95052-E621-4B25-A93D-E56256AB80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0A7A0F-363C-412E-AE51-3456137DF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F906-BBB8-4930-B809-920118A7D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DCF678-8559-44DA-B441-41D1A4490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A4454A-48B8-4106-B346-12676526A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48B83-3EF4-4DCB-8542-34A33EA77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99F8AA-D65B-4856-AAC5-CA5F2F552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B38A22-1549-4D9C-9D6D-7EEFFBA643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B0BA86-8E94-4336-9658-F1758AAD02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4E68F8-F174-43FB-B09E-F7BCC45ACB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EFBFA8-E458-4D0B-9B56-D4C0D970CB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A61558-A72D-4648-9D4D-2655E284D3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FBDBC-2F21-4430-91D9-F678E96BA8B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DEA7-C323-4122-BBD8-A2AC53E8EF53}" type="datetime">
              <a:rPr b="0" lang="nl-NL" sz="1200" spc="-1" strike="noStrike">
                <a:solidFill>
                  <a:srgbClr val="f77f00"/>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3BEE-C50B-4D49-B7F7-F710F493E35E}"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AEFB-7EBE-4ADF-8CFA-D530A7D95B70}"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B90A-42D3-4642-BEB8-81274B04E97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44A2-6B91-4606-8DFF-8587604ED1ED}"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C592-8CCC-48C3-94E0-F9452F22B34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4C79-3336-43B1-B5D8-90A40500B165}"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DEBB-635E-476C-A610-50B5AD60344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8EA57-8601-455E-9394-5888FD7DB31E}"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B5B3-5681-4480-99FD-2949EBD7619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5F5F6-F92B-495A-B3C3-EFED23038853}"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FE1B8-43AC-4EDA-9F44-E809BE9BC22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0876-EAD4-4D0F-9D39-98C7CEDB5210}"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183C-B28D-4535-ACDE-D2989DA9017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A644-6FDE-4978-A7FC-29DB0C14A6BE}"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C9CF-A4FD-4C2B-9B11-98835813715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417E-7A3E-4C2C-8A12-C2E429575F31}"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6ACD-21F3-4E9D-B2E0-D6CED182FA8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4FD1-C8BA-4043-8053-1E9FE9A6BA22}"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A6B8-5AAD-4858-B120-DED37B18D92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11F4-2EC1-4BCD-B99D-AB09E85BB000}"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1EE4-D7E9-4FE3-AA40-881B27DA61C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7D70-5412-4845-921C-EC0F520D1F34}"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66D4-0319-41EF-8A22-4D8661678C5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8"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9"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FBB4-BBDE-4994-A5FD-F2D9D938DC3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0"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22" name="" descr=""/>
          <p:cNvPicPr/>
          <p:nvPr/>
        </p:nvPicPr>
        <p:blipFill>
          <a:blip r:embed="rId1"/>
          <a:stretch/>
        </p:blipFill>
        <p:spPr>
          <a:xfrm>
            <a:off x="628560" y="1825200"/>
            <a:ext cx="7886880" cy="4351320"/>
          </a:xfrm>
          <a:prstGeom prst="rect">
            <a:avLst/>
          </a:prstGeom>
          <a:ln w="0">
            <a:noFill/>
          </a:ln>
        </p:spPr>
      </p:pic>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23B5-4653-4255-BFD4-5D8F261DBAB0}"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3" descr=""/>
          <p:cNvPicPr/>
          <p:nvPr/>
        </p:nvPicPr>
        <p:blipFill>
          <a:blip r:embed="rId2"/>
          <a:srcRect l="0" t="25495" r="0" b="0"/>
          <a:stretch/>
        </p:blipFill>
        <p:spPr>
          <a:xfrm>
            <a:off x="-7920" y="1773360"/>
            <a:ext cx="8978760" cy="4246560"/>
          </a:xfrm>
          <a:prstGeom prst="rect">
            <a:avLst/>
          </a:prstGeom>
          <a:ln w="0">
            <a:noFill/>
          </a:ln>
        </p:spPr>
      </p:pic>
      <p:sp>
        <p:nvSpPr>
          <p:cNvPr id="525"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27"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7759-D7D3-40EE-A263-1C637EAD924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29"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34FCCB82-2FBC-40E9-AE97-419AF2442A9B}"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2"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33" name="Tijdelijke aanduiding voor inhoud 15" descr=""/>
          <p:cNvPicPr/>
          <p:nvPr/>
        </p:nvPicPr>
        <p:blipFill>
          <a:blip r:embed="rId1"/>
          <a:stretch/>
        </p:blipFill>
        <p:spPr>
          <a:xfrm>
            <a:off x="6480" y="1590840"/>
            <a:ext cx="8229600" cy="4535280"/>
          </a:xfrm>
          <a:prstGeom prst="rect">
            <a:avLst/>
          </a:prstGeom>
          <a:ln w="0">
            <a:noFill/>
          </a:ln>
        </p:spPr>
      </p:pic>
      <p:sp>
        <p:nvSpPr>
          <p:cNvPr id="534"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35"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36"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38"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ea typeface="ＭＳ Ｐゴシック"/>
              </a:rPr>
              <a:t>http://www.venvn.nl/themas/richtlijnen-en-protocollen</a:t>
            </a: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39" name="Picture 7" descr="protocollen"/>
          <p:cNvPicPr/>
          <p:nvPr/>
        </p:nvPicPr>
        <p:blipFill>
          <a:blip r:embed="rId1"/>
          <a:stretch/>
        </p:blipFill>
        <p:spPr>
          <a:xfrm>
            <a:off x="5867280" y="2205000"/>
            <a:ext cx="2513160" cy="2581200"/>
          </a:xfrm>
          <a:prstGeom prst="rect">
            <a:avLst/>
          </a:prstGeom>
          <a:ln w="0">
            <a:noFill/>
          </a:ln>
        </p:spPr>
      </p:pic>
      <p:pic>
        <p:nvPicPr>
          <p:cNvPr id="540"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4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3DC1-2CF3-4363-BAC7-E906DE03DCE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4" name="Picture 3" descr=""/>
          <p:cNvPicPr/>
          <p:nvPr/>
        </p:nvPicPr>
        <p:blipFill>
          <a:blip r:embed="rId1"/>
          <a:stretch/>
        </p:blipFill>
        <p:spPr>
          <a:xfrm>
            <a:off x="6064200" y="2421000"/>
            <a:ext cx="2595600" cy="1439640"/>
          </a:xfrm>
          <a:prstGeom prst="rect">
            <a:avLst/>
          </a:prstGeom>
          <a:ln w="0">
            <a:noFill/>
          </a:ln>
        </p:spPr>
      </p:pic>
      <p:sp>
        <p:nvSpPr>
          <p:cNvPr id="545"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
          <p:cNvPicPr/>
          <p:nvPr/>
        </p:nvPicPr>
        <p:blipFill>
          <a:blip r:embed="rId2"/>
          <a:stretch/>
        </p:blipFill>
        <p:spPr>
          <a:xfrm>
            <a:off x="3714840" y="3284640"/>
            <a:ext cx="1714320" cy="1714320"/>
          </a:xfrm>
          <a:prstGeom prst="rect">
            <a:avLst/>
          </a:prstGeom>
          <a:ln w="0">
            <a:noFill/>
          </a:ln>
        </p:spPr>
      </p:pic>
      <p:sp>
        <p:nvSpPr>
          <p:cNvPr id="547"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0" descr=""/>
          <p:cNvPicPr/>
          <p:nvPr/>
        </p:nvPicPr>
        <p:blipFill>
          <a:blip r:embed="rId3"/>
          <a:stretch/>
        </p:blipFill>
        <p:spPr>
          <a:xfrm>
            <a:off x="390600" y="4581360"/>
            <a:ext cx="2178000" cy="1274760"/>
          </a:xfrm>
          <a:prstGeom prst="rect">
            <a:avLst/>
          </a:prstGeom>
          <a:ln w="0">
            <a:noFill/>
          </a:ln>
        </p:spPr>
      </p:pic>
      <p:pic>
        <p:nvPicPr>
          <p:cNvPr id="549" name="Picture 11" descr=""/>
          <p:cNvPicPr/>
          <p:nvPr/>
        </p:nvPicPr>
        <p:blipFill>
          <a:blip r:embed="rId4"/>
          <a:stretch/>
        </p:blipFill>
        <p:spPr>
          <a:xfrm>
            <a:off x="6073920" y="4005360"/>
            <a:ext cx="2628720" cy="1334880"/>
          </a:xfrm>
          <a:prstGeom prst="rect">
            <a:avLst/>
          </a:prstGeom>
          <a:ln w="0">
            <a:noFill/>
          </a:ln>
        </p:spPr>
      </p:pic>
      <p:pic>
        <p:nvPicPr>
          <p:cNvPr id="550"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Fluit-van der Molen, Gerda</cp:lastModifiedBy>
  <dcterms:modified xsi:type="dcterms:W3CDTF">2021-02-08T12:37:58Z</dcterms:modified>
  <cp:revision>186</cp:revision>
  <dc:subject/>
  <dc:title>Dia 1</dc:title>
</cp:coreProperties>
</file>