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10B8-C4F4-4480-A5A7-E09E8D3E8B7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0CCC-2E84-4535-B29E-4A9C7D6EB9D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E2609-A572-43DA-AAA6-50BAEE5D7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CE95F-1BF2-48F7-B28A-EC14D3010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1827B-1D05-4A20-B459-006D19402C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22C1B-5A57-4C7A-888C-032A6BC1C0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FD459-E544-416C-8113-8955363E55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97943-3DFC-4E03-9BE1-FBCADAFE5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8B27D-0930-429E-8FFC-223C8E7BC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9E59A-2E9A-4A7A-98DA-B8F08CA9D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2D9231-89C2-4EFE-B5D8-BE5D50CBA5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C7B7B9-822B-4ED8-AC1F-72FFAC2BD3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0C504B-58BD-4DBA-8355-B9F14F9164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57C3BE-C0F5-42C9-80B7-AF70C6738FC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527F5-898F-4C45-925A-9BA45967F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889BDD-0841-4ECB-BA3C-BBD631964D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390C2D-C5A5-4F7F-94E3-E2EC5D8A25C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2A5219-4C1A-4067-B7BE-11AFF54078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65A40F-0559-4BAC-BEE1-49378AD4E12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785330-EC21-4A44-B8A5-04BE6500F0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E26053-2F76-42CF-94ED-FE9505ACDD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8007B6-618F-4C59-9A08-C5E96E5189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CC5066-6C6A-4654-8A74-E7A10B792F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EB4199-7634-4307-B16D-750067AEFB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F850A6-E35A-4A81-8A3D-F55057E558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91F24-BFE7-4DA0-983D-6B64F75A9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1DC56C-5C76-40BA-AC18-B32482B4B1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50F9BD-E716-442C-A85F-51E18550B4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1A3CC0-D85B-42C9-B3CD-806D9DC94F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AC1DA5-24FC-49E4-B4C7-B7CE49E7DA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80DFB2-49C5-4E62-A48F-3666F82D01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0C47BD-400B-4488-A67E-C0D140EFB6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500362-B10D-4E78-BD7F-8C44B2CC1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01F19B-CCBB-472E-B9F7-4B5B82C7A9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095278-7027-40D2-8E4A-A229B7AC40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F724FC-E5CA-4562-9A1A-80FADAA8ED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090F1-AB1A-4C37-8CBF-6B8ABB4DA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15E6B5-84E7-4BBA-A77C-14142F9A40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D95BB3-E2F8-494B-A9BA-38B741FB3B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450ED7-102F-4B6D-BB2D-BAFD3FF0EC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85F35E-6697-4B19-949C-2EF12B1BCE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EC236CD-6059-4875-86C4-38EFC2F2CB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7C12F5-EF9A-4F29-847F-81D2ED95E5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EB71F0-CCB4-418D-8C87-F40F79D298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624B67-1A18-4990-8943-3F594FE516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B44A7B-3A4D-4914-A991-15734D6EFC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2F5C53-3379-45BF-858E-0E52ACED58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D70BD-B0C6-4133-AD18-42B40C876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041EA7-55B4-41E5-9DA6-9EA2D60343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9D9818-672E-4FDC-9E32-CB4FB9E329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5351BA-7350-4D24-B720-96F49FBB67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F8F0B29-D075-4115-84D7-FBE89E9AA3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8AD088B-31B9-4960-BBF6-16296BB465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21A6A-595C-4AE5-851B-A6DC0D1A6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29AF87-743C-4BC6-8DCF-3C200D98B3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98E6F-242C-400C-91C2-A08AE0965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18072-48CD-4640-8987-B076D7279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5BB00-6DAD-423B-A81C-1FDAC49DC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217B-80A4-468C-877C-F4ACE04EE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32636-D46D-4677-B188-AB24D8701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E756B-FB6B-40A3-B550-C52A3D54A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4C9B-68BA-42E7-BC27-60398F3E2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9EF83-6EEA-4E71-95CA-162BA2DAF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10C5C-BBF0-4266-9EC9-E6BE32065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467E52-DAA1-4FE5-A9D2-390617011B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31E8F-7E78-47E6-AFE1-4118403B2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D3BC1E-895B-4A6B-8686-166099036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525C7-11D3-4AF6-81D6-80E982594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3E0B04-870D-4ABC-8BDE-3815A7308B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2E4B8-4145-47E8-8A27-103ADCFF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5EDAD-1C49-46E1-96D5-993A6D550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F90719-E1BE-49BA-8A8C-00A5B6710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86EBF-4AAA-4705-A7B3-1FFA023CC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1AB34-4789-429F-BB62-B82C1D672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7270F-D202-497A-9230-F196157D4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C982C0-E5FC-4620-B128-D53F8F3A08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69A3FA-C17A-47DC-9983-CB938EA7A8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B1B46-A551-4117-918B-CC53A17DD7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7C0B3-25DD-4F15-AFE2-A7D8DF1F6A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3438E-27C9-4959-8499-0016B12DF3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FCCF4-DD8B-4DDF-8DC9-BF28B53B9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17188-F527-493D-B030-39B91F5C7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8E7B8-F816-4609-B98E-371B020E6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CC7C2A-BCB7-4EA9-86A0-CE2AF3343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1499D-9314-4165-95AB-E4BF64B9E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D1EC1-31A1-48E6-9EBD-AF019F71C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39B4B-9D59-45A7-83D0-160AF4B91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4009A-3559-4039-88C4-17D46849B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28532C-4EEE-47B2-8559-39A74676B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ECACCE-A282-406A-88CE-4A9DD1253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E4EADF-85C0-41C4-99EA-505EEA873E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64080-E2ED-4C5F-9275-358465676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C1829B-4F27-4698-B7A2-ED9D63053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A42FF1-EE2A-400B-AC43-8EC4DEE705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AD3C5F-8B4C-4245-AC1C-916846ECB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11760-0EBD-48B8-A15D-1CF780F6B0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4510A7-D72B-4CCE-8C0F-FCC08AAEC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1EBA3-A128-470E-A919-35FF6E119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FD484-BDAC-44A4-9191-3DDA3A454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3F72C-9E86-4BCF-A20D-9B234B269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50250-183A-484A-83D0-163C45F90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6977F-E8A4-4B3F-9E74-9A67790FD9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3EA33-6DDC-4326-83A0-66DED964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F50D52-D538-49A4-AC5A-08A7B2C9EF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9AA924-77D0-4CAB-B7C6-FA6497D29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85AF20-642B-46EF-A9E9-2ACF4381F3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3F1EFB-9810-4B80-BD6D-20996B6EC1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BDF5F-DD09-43E6-A2C6-48E97B079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0F3D0-A11F-46F2-86AA-D2710E981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89BB69-613F-40A4-883A-D259FFDE4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A6FFA-2AEC-4954-BB87-18A0AC91C2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E5C1A-7E47-4B5B-886D-EF4BED486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123CC7-7195-42E8-A0DF-E061AB234F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6A4E7-2E94-4DF9-BBA4-2B2325C0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7A2D6-6E43-4C5F-AC94-2E7CFBAD82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4E56B-DE1A-40C6-8B07-36C9346814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C412E8-A385-4069-BECE-57F38D7C3F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EB5079-2C1D-455C-A1BA-29C347FCDB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9EBCD-54EE-4A5E-BC59-3CD883415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0B7B1-856C-4D9D-943F-56AF37BA9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7AC0F7-9FE3-431F-8F0B-B5852C8A79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AD7B8-7BDD-4CF1-A8E6-2B2B34BD3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005BAF-EB0C-449F-A62A-E70CFF5E3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C67450-B217-4FEB-8D07-6F0B5DBD9F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70690-7C99-43BC-86A9-22FD07968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694CB-6503-4FA9-8FFC-0E3302C30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08860E-87BB-435D-AB12-157180A7B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09767-140E-4C76-81C6-DEBE43B565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D4A00E-BDFF-4533-85E3-E4F5414787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F12AC4-8851-4354-9880-5918C5F54C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673FB5-810D-439F-90E8-A7DA9AD875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517F55-FBBE-4611-92FE-294A430AC6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EBE3D-0B71-4ACF-9DC7-9FC6496BA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EA3A7F-3630-4F5A-8757-2BB96835E7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86FE6-C82E-4937-A758-AFE9F6DD5E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EA71-BA9D-4577-993F-432BA6F9D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BF8CBB-1B28-4CD4-9B05-FB00C14F9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BC355-EC33-42FE-A012-4D1EBE51E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C22B2-A5F4-4E38-A4E5-3E496D70FC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09AE54-7F4A-43DF-BA6A-5C464A411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B287AD-F2C3-4E3B-836D-5D99476729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F895A3-E212-4D99-AED8-0BC74702B4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A085606-E970-4F78-915C-A48CD694E1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972251-2ADD-491B-BCC9-4BF5CF1CCFA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595C78-5E4B-434E-8160-1DF96DB092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24E776-4CDD-45DF-BC76-286C3627B6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5C4F-9242-449E-8BBC-12598EAEFF92}"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0ED0-AFD7-4412-ABE9-A575E65CB4DE}"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6040-2CD9-4858-9A93-F960AF32992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7727-6EAD-4CE3-8D98-C3454F1B4D9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A88B-3CF7-4092-ABD7-AB9164A99E49}"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A419-F3C0-4F5F-B957-1A0CFC13B93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E62A-234B-4B2C-B826-FFBFC061ACD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D179-FEBC-421A-B05C-4E8D3F4E257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A824-7E21-49F7-AA0A-8B72D6D05FF2}"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1268-1A4A-4465-8743-637DB65368E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0D0F-7A9E-4BFE-8301-7C1BF0700A8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94B4-6D26-4877-957F-90D802C0F7F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173E-9B43-4BD6-8C46-45A632063CE9}"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9EB7-4C03-4462-85E4-3B2F82EBC5D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F862-E244-44EF-8AA4-5D7B3AE9CA2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CEDB-3244-4DD0-BD40-F82B962DF66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911A-CDB2-4EE3-A066-27D25A16CC0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08B9-2792-47B8-A40E-01131BED0AD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8868-8255-4B13-A6DC-857FB4DBF644}"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E9E0-DD8B-4401-B44F-62F0291E9B0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9E91-2B6A-4309-93A8-7F905ED5B49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323DB-8DA4-4ADA-B026-307576484C8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F2E76-FCB7-4877-A7A0-606F38A7AE1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A244-3795-47C6-825F-CA22D319D13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3)</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3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213C-4EE6-46F1-BEAE-6AD3496BF12F}"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4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4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E3B2-4C01-4A18-BDE0-CA9E703773E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273C-FBAC-4E22-9346-3A895535630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5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55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523B-2AF1-415B-99E5-CE19F1A6741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5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5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E0C6-AF5A-4B83-8C49-1A198F284A1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6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56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0D6C-06D8-4790-A850-9E1C8AD800D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6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6E36-8993-4536-A10A-C7CED073331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65"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3795-E3CC-4427-B99E-5DECF305B71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7570800" y="1494000"/>
            <a:ext cx="1243080" cy="722160"/>
          </a:xfrm>
          <a:prstGeom prst="rect">
            <a:avLst/>
          </a:prstGeom>
          <a:ln w="0">
            <a:noFill/>
          </a:ln>
        </p:spPr>
      </p:pic>
      <p:sp>
        <p:nvSpPr>
          <p:cNvPr id="51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67"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BA5D-35FC-4671-985C-E06B82F12CC8}"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9"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7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7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05D8-D64A-443C-8B01-030C4685B96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3"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57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6727-49BE-49A0-8E26-E8E2F475106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7" name="Picture 5" descr=""/>
          <p:cNvPicPr/>
          <p:nvPr/>
        </p:nvPicPr>
        <p:blipFill>
          <a:blip r:embed="rId1"/>
          <a:stretch/>
        </p:blipFill>
        <p:spPr>
          <a:xfrm>
            <a:off x="4427640" y="2133720"/>
            <a:ext cx="3543120" cy="1143000"/>
          </a:xfrm>
          <a:prstGeom prst="rect">
            <a:avLst/>
          </a:prstGeom>
          <a:ln w="0">
            <a:noFill/>
          </a:ln>
        </p:spPr>
      </p:pic>
      <p:pic>
        <p:nvPicPr>
          <p:cNvPr id="578"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9713-8D74-4C91-AF26-35E51E7F706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52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52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8286-6A8F-477C-86D6-F2E2EB6B947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2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4F50-15D3-4851-A267-440788810801}"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3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5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1D0D0-1A38-424D-85ED-D3B4A9EDDD5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53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53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2:36:09Z</dcterms:modified>
  <cp:revision>185</cp:revision>
  <dc:subject/>
  <dc:title>Dia 1</dc:title>
</cp:coreProperties>
</file>