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31AF2-D0C5-4596-AD91-B7B6ED86802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7753-851A-4955-BD5D-7F95B36069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5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04A0-1B19-4DFA-A671-5B530CA342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54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6F19-3C22-4F36-A2E9-B3C46D3DD6A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B78C-8B52-474C-8CE9-0ACABCBE458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AA05-A63E-4956-A2E7-90ABC552C5E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988E8-D0A3-42B2-921C-A46456979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15968-80F6-4F19-AA4D-593F6099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711A07-EDF5-485A-BE0C-D52591C9F4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8EBF60-79DE-4E78-8EF3-51B86234AE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49FAC4-D2C2-4314-8589-04B2B11285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B5AAEE-FFEA-4772-98FA-1B4B2FF1C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57396-DE5A-4EA7-89F6-7671188EE9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3B475C-6374-4BDC-8736-E33774CECE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C1EC4B-B470-4DA1-93FA-C5EB4A4BC9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8C17D5-50E5-4B76-B7C9-6DC84C5CD2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D2073A-CE68-4848-B01F-056797E12B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5FDD0A4-EF0B-497F-81E1-EE38912B5D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93F4E-7813-488D-9F92-7D0ACACBB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387022-DF8B-4FCD-8FEE-51D1F74B85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9BBE7A-3A3B-40F7-9ED6-825BD0DE82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142CC2-EC6C-4243-8CA3-3DDAC2CC4C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A255B0-12A5-4B9C-9B3E-C5C5241819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AF462A-D6E3-491E-9281-22E74FFD38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C034CC-327B-4C81-8796-046922337C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A43375-8479-4659-B0BB-D10D22F4EC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A2DF56-A84B-4DD6-AEEA-C6FEF41A2E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661752-BFF1-495B-A4F0-5532B3EBD5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1FD588-EB09-4B77-9A13-10E15C54DE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394A6-1877-4F8C-80A3-4E6059EE3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2AC0F9-5C15-4E6E-85F8-222D252B61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EAF4A0-7AFB-4112-9ECC-CA15CBAC09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78EFAA-1BB8-423C-9F9B-F6C3775A52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7C07C0-F244-4047-9087-DCD42C9604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D941EF-C5AB-4A51-BC45-56297FF64A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78FF7D-8932-4EB5-95F3-444AA3DBBF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07136E-1ED5-4055-BC12-EF96A33720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F92FEC-9B7E-47B3-A61F-881B068B6A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0BC5FB-BA5E-4F20-9104-BAF7B4034C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DE03DE-4045-40BB-8F61-F6D723CA05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5F722-CE57-4FEB-A5DF-BBFC76F58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6EC9D7-3F96-417D-B7C0-7E1588CA97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ED3E95-5A80-4024-8C08-7B2BAD929A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37BB35-7EA6-483B-87B7-6D8ECACAAF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96C6EFC-A887-4AB0-BF91-C24223EFFE7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CCB90C-33C2-4FB7-BE3B-445EFDF7DB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63BF63-1D1E-4903-9633-66DEF013C0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41E752-979A-4EFE-B809-E32170A759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05240E-B480-4B00-A944-C7AA255CBA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3071EE-AA8C-44EF-8079-EBA78E352B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BEECE8-9D62-487C-8A4F-60E6194AA2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174A1-140B-4857-9B44-6308DFE59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46E8E0-FA11-4AAC-93B5-36283C4903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74356C-D6B5-4A08-8314-AA4735F15B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33B06A7-41E2-4C2B-8181-4EA4FCA383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C2BAF72-FE05-4257-9591-4FE42EBCCB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D3F4124-7805-49CD-9FFE-F33F079F5B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6BA4EF-5327-4422-A931-0E6854B04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0448D-2797-4BE1-86CC-BD9D03D7A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CF961-6EA0-4E92-9FC5-75D377185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14C59-7079-4DB2-BFB9-01C225697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F4E6A-684B-4591-B87C-ABE467B31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7377D-D8A7-479C-94AD-57B63BACF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8A6FB-2F56-4A9D-AC7E-90C0EFD1C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EF78A-4463-47F9-85CB-7B8A1F8B0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70675-B6A7-4347-97B0-230964E2B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12E13-A0E3-4D4E-9EA2-D3FCA27A0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528624-D8F2-4DA9-BB47-F0EFB70C0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C15DF9-13BB-4AF5-A85F-1A33FAFB2D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F6DE58-AC7E-4517-B9AD-8745677B44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B87D95-561E-4F55-9B74-3D5B8F66D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FC7A9-4043-4849-9692-76B503743F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A7C4E-0344-4F26-AB51-877B10D157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B851-85E2-4A42-AF8A-47ED1FC38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04D072-31E1-4400-BC49-EE7E15EE0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90C06-253D-4903-B883-BF839EE20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881A1-8ED5-48C7-B664-144BFC877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BBFF5-51DF-49A3-9523-62A2987E1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0DE85-D1B3-4DCC-9121-4DB54B6D3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38C6DC-E87C-471A-9270-1FE50BFCAA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D62F1D-2CB8-4A40-B7AC-BA0590441C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78D36A-45B2-488E-BD14-6DE71702C4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B6AC0B-B549-455A-B18A-75AE5A17D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A0C1B7-7AF1-4A90-8B97-F2A999E9D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18787-D089-4B6D-9F1E-CD5E2D817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F9C5D-C1E6-42BB-A614-E72583090B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22B129-E963-44DC-84E9-75AF5CD988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0468F2-1FB8-461B-BD63-7329F3E55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AC568-C210-4B50-9399-5E6720E029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DF600-ABEE-4DC9-9BCB-8BB5C74BE7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170370-DC31-4A79-A2DE-017C17C32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DF442D-7916-4453-A10B-8DA3CA20BE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DD6851-C470-4768-8CDB-3030D68BEE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069A09-FBA4-4CD1-82D2-723A9B625B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5AF3B4-D416-4651-9A9E-0061711F65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5FF3C-FCD9-4DDE-B99E-B82D239B9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DD82A9-B916-4C29-8385-F31C8F9D5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CE0E49-165B-4776-B2ED-572EC9242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F916AE-711F-4F7E-A3FA-3E2D2CD12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C99424-A0C6-43D3-8F77-6E86FDAE2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2CF52A-6531-4167-B3EA-A0B9A7B50A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F76E6A-2394-4FC0-BBC4-DD6BE77CB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F01FE6-273A-42A0-A1CD-F23186134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20252-0731-4017-B9BE-06D01C0EB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9CA1FA-5000-4C74-AFB4-E211EA0AB9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5A5E17-18BC-4B3B-BB29-A6A932E221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53646-BDCC-492E-AEBB-894845B5A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B8EAD0-97FB-474E-AC72-672B35420E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DB205D-B484-4B02-A9F9-9C604AD26F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E7F368-9EF0-4A2B-B927-37E58E512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019E41-40EC-4410-AF2C-9E7D2EAE57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E502F-245B-47F4-94B8-C2AB2AC5B9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DECE2E-E7EC-4A37-B7B3-E39D7BDD8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E06684-738F-4168-A913-8C5CA30E1F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088E2-4D28-4AA6-8636-3B9014AE5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F565F4-3CA1-4D4B-82E3-2CA68D37A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AACDFD-CC11-46F5-B52D-D10DCF5111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64617-43E6-444B-A32F-3CC49EAB7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FEF42A-768C-4FB0-9CD8-0A65D80F44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5F66CB-5D76-4A1D-8F08-5B166066E2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A627EB-0000-43FE-BFE9-D8426CC48F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1847E4-89BB-43E4-BFFB-212E9B28DF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9B971E-3621-4143-A81B-2C68C33BB8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7AAE8F-CAAF-4166-A82B-3A8D2C69FA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FEA4E6-1E24-4EB5-8F2C-4ACF7D468B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01D2CB-AE5A-44FC-A71E-52A3AE9185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EA8655-17D6-47BB-AD01-75D80320B1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C853A-DC11-4666-A049-66759899D2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C2007-D30F-43FE-BEBB-53065B0F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222C8-1E2B-4457-B5B6-235967132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116DBF-2010-4609-8132-B8E8C1780D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2691FD-A53E-4476-A857-29DF1CA645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4157C6-5E76-4630-A72A-948D722D5B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1CD758-8B49-4091-B6F9-434BFE2E8A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A9DFA0-9B38-499A-ACE2-5575178274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D1A06B-6D7B-4859-9E6F-5BAFDC8F42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D774F6-B7E3-48FD-9335-7C5AAF83F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3D23A8-C775-421B-9690-C76B8B3946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689EA1-7F58-4DA1-AF0E-65DE037192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4FFCA-D220-4021-B548-84EF46FC9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7A4CF7-6220-4A51-87EE-0B5683B8AC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3C1529-BA9E-4D67-9562-2364CCB352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CF1C85-59C1-4959-9C96-7977B3B74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016ECC-569E-41B2-AFC0-ED3AA87E2C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8A0C22-8386-4434-9F7F-8495FE9E47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78B577-57FB-453C-A482-F8C29C2CAE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5CEE9B-4630-48E7-81C8-F03EE1A05D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8B0C3EB-4541-47D1-896E-AE4041A03A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070045-88A5-42F8-906E-E890BB9AF8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260916-CFC4-4AC5-B071-B467530DB9E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wenckebachinstituut.n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2D67-1457-4535-B0BA-9E4B08B265EB}" type="datetime">
              <a:rPr b="0" lang="nl-NL" sz="1200" spc="-1" strike="noStrike">
                <a:solidFill>
                  <a:srgbClr val="f77f00"/>
                </a:solidFill>
                <a:latin typeface="Calibri"/>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5109-561A-4D00-8249-194D83C8EC0B}"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8A37-3886-4F84-BE89-73F817F34A5D}"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5D3E2-0655-4F20-B253-04A8F5C26F7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2003-35AB-4931-AC13-9DD52EE666BF}"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B144-F7DD-4B3A-B3D5-23AF7485C95C}"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E6B05-AAE7-417C-B148-3C237942A28F}"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7AB9-AE37-4772-ABB8-5AF15CA5A35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a:hlinkClick r:id="rId3"/>
          </p:cNvPr>
          <p:cNvPicPr/>
          <p:nvPr/>
        </p:nvPicPr>
        <p:blipFill>
          <a:blip r:embed="rId4"/>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95F0-478B-4E8C-BDB4-B1D3DBE8A0FA}"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144F-D3DD-4130-8415-CA9CB787BF0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384B-7438-48B4-8095-11EB61F62CAB}"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DE4F-824C-421F-9E9C-3320D321D79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4BF2-0177-425C-95EC-1AE6DD4B830B}"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F347-0AC3-4AA2-9FFF-8B209D82B09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B4C9-0944-403A-967A-42DB4127C1C6}"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87F4-F894-459D-A9C4-CAED82815DC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F8CB-B367-4FBD-A3F9-FF93FDE57B1E}"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BB71-4A79-4A91-B418-FD7A6B9D2C06}"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19F8-C9C3-4DB7-9495-E6526FD1A6BC}"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15CD-0304-48C7-ACA0-94881E27D67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F6D3-E57A-4895-AAD0-8E9C4C3A7A3E}"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9AAC-EC52-4C56-86E5-CBE27A07AE1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AF92-4663-4DD7-9DB5-A55ED3CA4E24}"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8F1D-B7A8-4761-B2D8-5C5126917D7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3819600" y="65088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1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1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A181-1631-4FD9-A4B7-53A7EC679D8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17" name="Picture 2" descr=""/>
          <p:cNvPicPr/>
          <p:nvPr/>
        </p:nvPicPr>
        <p:blipFill>
          <a:blip r:embed="rId1"/>
          <a:stretch/>
        </p:blipFill>
        <p:spPr>
          <a:xfrm>
            <a:off x="2556000" y="2637000"/>
            <a:ext cx="3456000" cy="3456000"/>
          </a:xfrm>
          <a:prstGeom prst="rect">
            <a:avLst/>
          </a:prstGeom>
          <a:ln w="0">
            <a:noFill/>
          </a:ln>
        </p:spPr>
      </p:pic>
      <p:sp>
        <p:nvSpPr>
          <p:cNvPr id="518"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8">
                                            <p:txEl>
                                              <p:pRg st="0" end="0"/>
                                            </p:txEl>
                                          </p:spTgt>
                                        </p:tgtEl>
                                        <p:attrNameLst>
                                          <p:attrName>style.visibility</p:attrName>
                                        </p:attrNameLst>
                                      </p:cBhvr>
                                      <p:to>
                                        <p:strVal val="visible"/>
                                      </p:to>
                                    </p:set>
                                    <p:anim calcmode="lin" valueType="num">
                                      <p:cBhvr additive="base">
                                        <p:cTn id="7"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8">
                                            <p:txEl>
                                              <p:pRg st="1" end="1"/>
                                            </p:txEl>
                                          </p:spTgt>
                                        </p:tgtEl>
                                        <p:attrNameLst>
                                          <p:attrName>style.visibility</p:attrName>
                                        </p:attrNameLst>
                                      </p:cBhvr>
                                      <p:to>
                                        <p:strVal val="visible"/>
                                      </p:to>
                                    </p:set>
                                    <p:anim calcmode="lin" valueType="num">
                                      <p:cBhvr additive="base">
                                        <p:cTn id="13" dur="5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8">
                                            <p:txEl>
                                              <p:pRg st="2" end="2"/>
                                            </p:txEl>
                                          </p:spTgt>
                                        </p:tgtEl>
                                        <p:attrNameLst>
                                          <p:attrName>style.visibility</p:attrName>
                                        </p:attrNameLst>
                                      </p:cBhvr>
                                      <p:to>
                                        <p:strVal val="visible"/>
                                      </p:to>
                                    </p:set>
                                    <p:anim calcmode="lin" valueType="num">
                                      <p:cBhvr additive="base">
                                        <p:cTn id="19" dur="500" fill="hold"/>
                                        <p:tgtEl>
                                          <p:spTgt spid="51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18">
                                            <p:txEl>
                                              <p:pRg st="3" end="3"/>
                                            </p:txEl>
                                          </p:spTgt>
                                        </p:tgtEl>
                                        <p:attrNameLst>
                                          <p:attrName>style.visibility</p:attrName>
                                        </p:attrNameLst>
                                      </p:cBhvr>
                                      <p:to>
                                        <p:strVal val="visible"/>
                                      </p:to>
                                    </p:set>
                                    <p:anim calcmode="lin" valueType="num">
                                      <p:cBhvr additive="base">
                                        <p:cTn id="23" dur="500" fill="hold"/>
                                        <p:tgtEl>
                                          <p:spTgt spid="51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definitie</a:t>
            </a:r>
            <a:endParaRPr b="1" lang="en-US" sz="4400" spc="-1" strike="noStrike">
              <a:solidFill>
                <a:srgbClr val="1a2b76"/>
              </a:solidFill>
              <a:latin typeface="Calibri"/>
            </a:endParaRPr>
          </a:p>
        </p:txBody>
      </p:sp>
      <p:sp>
        <p:nvSpPr>
          <p:cNvPr id="52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r>
              <a:rPr b="0" lang="nl-NL" sz="1800" spc="-1" strike="noStrike">
                <a:solidFill>
                  <a:srgbClr val="1a2b76"/>
                </a:solidFill>
                <a:latin typeface="Calibri"/>
              </a:rPr>
              <a:t>Kuiper et al. (2004), Cox et al (2004) in navolging van Sackett:</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r>
              <a:rPr b="0" lang="nl-NL" sz="1800" spc="-1" strike="noStrike">
                <a:solidFill>
                  <a:srgbClr val="1a2b76"/>
                </a:solidFill>
                <a:latin typeface="Calibri"/>
              </a:rPr>
              <a:t>Bij EBP gaat het om klinische beslissingen op basis van het best beschikbare bewijs, in combinatie met de kennis en ervaring van de behandelaar en de waarden en voorkeuren van de individuele patiënt.</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endParaRPr b="0" lang="en-US" sz="18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2"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B4D8-20D1-4973-A178-0258A0D02362}" type="datetime">
              <a:rPr b="0" lang="nl-NL" sz="800" spc="-1" strike="noStrike">
                <a:solidFill>
                  <a:srgbClr val="ffffff"/>
                </a:solidFill>
                <a:latin typeface="Arial"/>
                <a:ea typeface="ＭＳ Ｐゴシック"/>
              </a:rPr>
              <a:t>28-07-26</a:t>
            </a:fld>
            <a:endParaRPr b="0" lang="en-US" sz="800" spc="-1" strike="noStrike">
              <a:solidFill>
                <a:srgbClr val="000000"/>
              </a:solidFill>
              <a:latin typeface="Arial"/>
            </a:endParaRPr>
          </a:p>
        </p:txBody>
      </p:sp>
      <p:sp>
        <p:nvSpPr>
          <p:cNvPr id="523"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4"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25"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26"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27"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28"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2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3"/>
                                        </p:tgtEl>
                                        <p:attrNameLst>
                                          <p:attrName>style.visibility</p:attrName>
                                        </p:attrNameLst>
                                      </p:cBhvr>
                                      <p:to>
                                        <p:strVal val="visible"/>
                                      </p:to>
                                    </p:set>
                                    <p:animEffect filter="blinds(horizontal)" transition="in">
                                      <p:cBhvr additive="repl">
                                        <p:cTn id="35" dur="500"/>
                                        <p:tgtEl>
                                          <p:spTgt spid="523"/>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25"/>
                                        </p:tgtEl>
                                        <p:attrNameLst>
                                          <p:attrName>style.visibility</p:attrName>
                                        </p:attrNameLst>
                                      </p:cBhvr>
                                      <p:to>
                                        <p:strVal val="visible"/>
                                      </p:to>
                                    </p:set>
                                    <p:animEffect filter="blinds(horizontal)" transition="in">
                                      <p:cBhvr additive="repl">
                                        <p:cTn id="40" dur="500"/>
                                        <p:tgtEl>
                                          <p:spTgt spid="52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4"/>
                                        </p:tgtEl>
                                        <p:attrNameLst>
                                          <p:attrName>style.visibility</p:attrName>
                                        </p:attrNameLst>
                                      </p:cBhvr>
                                      <p:to>
                                        <p:strVal val="visible"/>
                                      </p:to>
                                    </p:set>
                                    <p:animEffect filter="blinds(horizontal)" transition="in">
                                      <p:cBhvr additive="repl">
                                        <p:cTn id="45" dur="500"/>
                                        <p:tgtEl>
                                          <p:spTgt spid="524"/>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26"/>
                                        </p:tgtEl>
                                        <p:attrNameLst>
                                          <p:attrName>style.visibility</p:attrName>
                                        </p:attrNameLst>
                                      </p:cBhvr>
                                      <p:to>
                                        <p:strVal val="visible"/>
                                      </p:to>
                                    </p:set>
                                    <p:animEffect filter="blinds(horizontal)" transition="in">
                                      <p:cBhvr additive="repl">
                                        <p:cTn id="50"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D7FD-0687-4FA1-9635-600CC06C64B6}" type="datetime">
              <a:rPr b="0" lang="nl-NL" sz="800" spc="-1" strike="noStrike">
                <a:solidFill>
                  <a:srgbClr val="ffffff"/>
                </a:solidFill>
                <a:latin typeface="Arial"/>
                <a:ea typeface="ＭＳ Ｐゴシック"/>
              </a:rPr>
              <a:t>28-07-26</a:t>
            </a:fld>
            <a:endParaRPr b="0" lang="en-US" sz="800" spc="-1" strike="noStrike">
              <a:solidFill>
                <a:srgbClr val="000000"/>
              </a:solidFill>
              <a:latin typeface="Arial"/>
            </a:endParaRPr>
          </a:p>
        </p:txBody>
      </p:sp>
      <p:sp>
        <p:nvSpPr>
          <p:cNvPr id="530"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F8A2CE73-2CE9-4588-A055-686F9D90EAD9}"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1"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2"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3"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4"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35"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36"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7"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38"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3183"/>
                </a:solidFill>
                <a:latin typeface="Calibri"/>
              </a:rPr>
              <a:t>Toepassing EBP in klinische praktijk</a:t>
            </a:r>
            <a:endParaRPr b="1" lang="en-US" sz="3000" spc="-1" strike="noStrike">
              <a:solidFill>
                <a:srgbClr val="1a2b76"/>
              </a:solidFill>
              <a:latin typeface="Calibri"/>
            </a:endParaRPr>
          </a:p>
        </p:txBody>
      </p:sp>
      <p:sp>
        <p:nvSpPr>
          <p:cNvPr id="540" name=""/>
          <p:cNvSpPr txBox="1"/>
          <p:nvPr/>
        </p:nvSpPr>
        <p:spPr>
          <a:xfrm>
            <a:off x="628560" y="1825200"/>
            <a:ext cx="7886880" cy="4351320"/>
          </a:xfrm>
          <a:prstGeom prst="rect">
            <a:avLst/>
          </a:prstGeom>
          <a:noFill/>
          <a:ln w="0">
            <a:noFill/>
          </a:ln>
        </p:spPr>
        <p:txBody>
          <a:bodyPr anchor="t">
            <a:normAutofit/>
          </a:bodyPr>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Klinisch probleem vertalen naar een beantwoordbare vraag in de praktijk</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Zoeken naar evidence (beste bewijsmateriaal)</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oordelen (wegen) van evidence</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slissing nemen op basis van evidence, voorkeur patiënt en expertise hulpverlener</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valuatie van dit proces</a:t>
            </a:r>
            <a:endParaRPr b="0" lang="en-US" sz="28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Fluit-van der Molen, Gerda</cp:lastModifiedBy>
  <dcterms:modified xsi:type="dcterms:W3CDTF">2021-02-08T10:19:23Z</dcterms:modified>
  <cp:revision>184</cp:revision>
  <dc:subject/>
  <dc:title>Dia 1</dc:title>
</cp:coreProperties>
</file>