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1D7-9A4A-49C8-924B-0E9B9617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446-8136-42F5-9E9D-5920CC3C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D66F-615E-48E5-A96E-75717E97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B85-FA93-4680-96A9-DF59C497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998D-22FC-48AF-8241-3D91DB03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A589-2D51-424B-AC89-1477B251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60C4-452D-4315-A37C-87435648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F400-91BB-422E-80C1-70BBBF19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A61E-9D3C-4CB9-8CC0-89D2A345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66D5-17A8-4A5E-A517-8ABF126E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07AE-58BD-4F3C-A6DA-DA862984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694-D68F-4E59-9AD2-95C6C29D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9175-7827-4FE7-B529-A1F69BAF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66E7-F7C9-4DCD-B802-1D8761E2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6C6C-157F-440A-9633-DE3D3CD0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DD94-8E2D-42F9-B6E1-30F25DFF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B8F2-00FD-48E9-8E5E-BF6C8305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87D-721C-46F5-AE73-FC6210BE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98B-A939-4233-8719-C3F15263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407-DAA6-47B5-B15E-2F06BAE0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833-0C00-4F51-B280-106FDB14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2F1-971F-4829-B580-CBF03FD0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4E6-332F-4527-86FF-5F98CD67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BF20-422C-43F6-B758-18149B5B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E12F-9804-4B50-8AD6-80B35053E68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55D2-9C56-4469-8D39-0A0CAB5476F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os.nl/artikel/2038381-zorgen-om-charlie-charlie-rage-op-internet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2 - Occultis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rige 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etekent transcend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ageer op de stelling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sten bestaan niet!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alt er allemaal onder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ier wordt verschillend over gedach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agie, voorspelling, hekserij, paranormale werkelijkhei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Conclusie: het bovennatuurlijke/niet zintuiglijk waarneemba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tterlijk: verborgen of gehei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ovennatuurlijk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gaat dus over niet zien, maar er wel zij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kan het goede en het kwade aanwen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ewuste beïnvlo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 alle tij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ijbel: Saul in End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op verschillende plaatsen (Opdracht 3 en 4 van les 2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iddeleeuwen: hekserij, weerwolv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s occultisme gevaarlij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pdracht 2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antwoord de vragen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nos.nl/artikel/2038381-zorgen-om-charlie-charlie-rage-op-internet.htm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vind jij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spreken vraag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ind jij de Charlie-Charlie challenge gevaarlijk? (vraag 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uisw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eksten opzoek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at zijn lastige opdracht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oe dit in tweetall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Windows-gebruiker</cp:lastModifiedBy>
  <dcterms:modified xsi:type="dcterms:W3CDTF">2021-09-10T06:14:13Z</dcterms:modified>
  <cp:revision>12</cp:revision>
  <dc:subject/>
  <dc:title>Inleiding Occultisme</dc:title>
</cp:coreProperties>
</file>