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5631-9455-45A0-B72F-28520B30D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9E23-DC86-4BA0-93F5-3DD33B379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10F4-9DEB-4CE2-AE3A-72716BE47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6E45-6AEB-4263-AFF1-955D65A01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A6420-4E2E-4E3A-84E2-569740C55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0952D-E398-4C01-9BC0-673A797A4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F55CF-B305-4AFE-A39F-AB2D7234F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2BE99-962C-46F5-BDF2-40EBD6631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D9E77-5E9F-4355-87BA-98B02D9EF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772B7-B154-4758-B05D-2F7A47C04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0752D-4A50-4AD7-9D52-1448C4B8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D181-8A04-4B89-8006-A1BA5E282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20AF8-AFF8-4A46-A68B-AD141019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506C1-5DDB-42B6-82C0-3A3EFC77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63B4D-3853-4F7D-BA0C-A0C423C15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F49AA-6C27-41FD-8DA1-E30F3F467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06408-B416-4F83-B89D-5D7AE30A2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68CB-C5E1-46E6-B0B2-F6ED1458A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E8FA-E4B9-432B-8DB2-58A253D4C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202E-3FE6-4010-81AF-51E9A021D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B9E3-C0DD-4954-B731-59E6BF6A0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E05D-C21D-4F8E-86AE-31B1160AD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737D-BFAF-49FD-A7D8-74F3ED74C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756D-BC28-473E-BFF2-56BA2D15E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75777-7BAF-44DE-9B2A-BC0A9938FCB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94AB5-9C2A-46B3-A473-C527163A8DB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qN8YS1VNYyc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Verdana"/>
              </a:rPr>
              <a:t>Les 4 - Hallowee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Afbeelding 1" descr=""/>
          <p:cNvPicPr/>
          <p:nvPr/>
        </p:nvPicPr>
        <p:blipFill>
          <a:blip r:embed="rId1"/>
          <a:stretch/>
        </p:blipFill>
        <p:spPr>
          <a:xfrm>
            <a:off x="1187280" y="2644920"/>
            <a:ext cx="6697800" cy="420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Hallowe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Feest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Samhain: 31 oktober: dank aan goden voor oogst en hulp vragen voor de winte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Denken vanuit donke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Lijkt op feesten Wicca (hekserij)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Hallowe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zegt de Bijbel erover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Lev. 19:31: Raadpleeg geen geesten en schimmen van doden. Wie zich tot hen wendt, verontreinigt zichzelf. Ik ben de HEER, jullie God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Wat zegt deze tekst over Halloween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Halloween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Heeft Halloween te maken met occultisme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Is Halloween vieren gevaarlijk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Wat leer ik vandaag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66280" y="1752120"/>
            <a:ext cx="8001000" cy="48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ar komt Halloween vandaan? Wat was het begin erva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arom wordt Halloween gevierd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nneer wordt Halloween gevierd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t heeft de pompoen ermee te make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t is trick or treat en Sint Maart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t heeft Halloween met occultisme te m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Hallowe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000000"/>
                </a:solidFill>
                <a:latin typeface="Verdana"/>
              </a:rPr>
              <a:t>Halloween 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000000"/>
                </a:solidFill>
                <a:latin typeface="Verdana"/>
              </a:rPr>
              <a:t>vieren is 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000000"/>
                </a:solidFill>
                <a:latin typeface="Verdana"/>
              </a:rPr>
              <a:t>gevaarlijk!!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79240" y="1699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s://www.youtube.com/watch?v=qN8YS1VNYyc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000000"/>
                </a:solidFill>
                <a:latin typeface="Verdana"/>
              </a:rPr>
              <a:t>Halloween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000000"/>
                </a:solidFill>
                <a:latin typeface="Verdana"/>
              </a:rPr>
              <a:t>vieren is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000000"/>
                </a:solidFill>
                <a:latin typeface="Verdana"/>
              </a:rPr>
              <a:t>gevaarlijk!!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Wat leer ik vandaag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66280" y="1752120"/>
            <a:ext cx="8001000" cy="48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ar komt Halloween vandaan? Wat was het begin erva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arom wordt Halloween gevierd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nneer wordt Halloween gevierd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t heeft de pompoen ermee te make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t is trick or treat en Sint Maart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t heeft Halloween met occultisme te m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Hallowe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ar komt Halloween vandaan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Keltisch fees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Kelten: stammen en volken in Europa (vooral in Ierland en Schotland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Goden dien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Afbeelding 1" descr=""/>
          <p:cNvPicPr/>
          <p:nvPr/>
        </p:nvPicPr>
        <p:blipFill>
          <a:blip r:embed="rId1"/>
          <a:stretch/>
        </p:blipFill>
        <p:spPr>
          <a:xfrm>
            <a:off x="4932360" y="3645000"/>
            <a:ext cx="38163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Waarom wordt het gevierd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Heeft te maken met de feestkalende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Offers aan de gode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Hulp vragen voor komende winte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Afbeelding 5" descr=""/>
          <p:cNvPicPr/>
          <p:nvPr/>
        </p:nvPicPr>
        <p:blipFill>
          <a:blip r:embed="rId1"/>
          <a:stretch/>
        </p:blipFill>
        <p:spPr>
          <a:xfrm>
            <a:off x="2627280" y="3408480"/>
            <a:ext cx="3422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Wanneer wordt het gevierd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t wordt op 1 en 2 november gevierd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arom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Allerheiligen en allerziele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Ook in RK kerk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Oud engels: All Hallow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Afbeelding 3" descr=""/>
          <p:cNvPicPr/>
          <p:nvPr/>
        </p:nvPicPr>
        <p:blipFill>
          <a:blip r:embed="rId1"/>
          <a:stretch/>
        </p:blipFill>
        <p:spPr>
          <a:xfrm>
            <a:off x="5319720" y="4869000"/>
            <a:ext cx="382428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De pompoen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Verschillende verklaringe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Jack de dronkaard en bedriege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Aan de boom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Gloeiend houtj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Afbeelding 3" descr=""/>
          <p:cNvPicPr/>
          <p:nvPr/>
        </p:nvPicPr>
        <p:blipFill>
          <a:blip r:embed="rId1"/>
          <a:stretch/>
        </p:blipFill>
        <p:spPr>
          <a:xfrm>
            <a:off x="2340000" y="4040280"/>
            <a:ext cx="435600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Hallowe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Trick ‘n tre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Lijkt op St. Maart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Verkleed langs de deu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Treat: tevreden stellen van druïd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Het heeft te maken met de doo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4T08:07:06Z</dcterms:created>
  <dc:creator>Nuborgh College</dc:creator>
  <dc:description/>
  <dc:language>en-US</dc:language>
  <cp:lastModifiedBy>Windows-gebruiker</cp:lastModifiedBy>
  <dcterms:modified xsi:type="dcterms:W3CDTF">2015-09-02T06:48:14Z</dcterms:modified>
  <cp:revision>7</cp:revision>
  <dc:subject/>
  <dc:title>Halloween</dc:title>
</cp:coreProperties>
</file>