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BD0-3AE7-45A6-97B6-1E09B628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B4AD-A603-433E-B747-9232712A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A56-3EEE-4397-AA57-BBDDC8AF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075-7B39-4794-84FF-F40D26D6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B846-D039-4F17-83A9-D993BB39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E986-7267-4D90-A796-420233FE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7416-C01E-44F3-AB58-20F2BA88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D1C9-E1AC-4BC9-9859-DD7835CC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9614-9288-4100-AF01-C5628637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1409-880C-472C-BE68-40736AA7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733E-164A-4B1A-BE2E-4B0E5318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097-57E4-4F34-916B-D1CB3BFB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FCF0-4C50-4694-9770-C974E79B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5406-E8CC-4B2E-AB8B-2ABE9AF6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2B93-585C-46BB-B517-24EA236D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3BE1-2B97-4E0B-9A15-562F078C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C3CE-028F-4567-B7E1-BDDBCC61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53A-8C0C-40A7-822E-723A8521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355-602D-4E39-8C6A-46E17B0D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A34-2D92-482C-A445-58B05618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CC61-F032-4D7A-8FFA-024476F3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DD1-4455-40F3-93C1-E26BC77E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C36-7DAA-4CFF-8560-8DEEC0E6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96E-5AE2-4C1A-A7A7-018FA621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91F9-6ADB-4714-A5E3-2B8EF98E1CF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6FB1-734C-4283-98D9-35D7A3FFF7C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ncyclo.nl/lokaal/10442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Godsdien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lke periode een them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1: Occultisme (5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2: Het leven/Ethiek (12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3: Wereldgodsdienst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ijf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 moet elke periode Voldoende afronden door je portfolio in te leveren via de E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ortfolio wordt beoordeel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Reageer op de volgende stelling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k niet kan zien, dat bestaat ook niet’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anscend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e grens van de zintuiglijk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neming te boven gaan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(Van Da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Met andere woorden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t bovennatuurlijke, buiten d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rvaringswereld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2">
            <a:hlinkClick r:id="rId1"/>
          </p:cNvPr>
          <p:cNvSpPr/>
          <p:nvPr/>
        </p:nvSpPr>
        <p:spPr>
          <a:xfrm>
            <a:off x="36360" y="109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42920" y="1609560"/>
            <a:ext cx="705816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Charlie</cp:lastModifiedBy>
  <dcterms:modified xsi:type="dcterms:W3CDTF">2021-09-02T07:00:38Z</dcterms:modified>
  <cp:revision>11</cp:revision>
  <dc:subject/>
  <dc:title>Inleiding Occultisme</dc:title>
</cp:coreProperties>
</file>