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E7DC-F79B-42AE-A166-F80A14959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283F-CA32-4CA8-977A-B21E8A30F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3884-9FC1-4217-A143-6ECB1F5EA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A971-4BD2-4998-9A90-8F50CCA33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F8649-9443-42DE-BECE-E80F2A21F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4F612-48F8-49F7-B098-F31A18448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F9B8A-AD93-4AEF-861F-329FFF19A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8E9DF-A751-453B-9090-350F5100C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93E8E-7E1E-467D-90E3-07FF0C7E2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E37BF-0576-4C60-93BA-4171FD8C2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C5774-62EA-4AD0-AF16-01378402E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3A8B-9090-468D-85AE-E7B5940EA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7FE80-AC07-4F3D-881D-B2263447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79F90-4885-4297-A9BC-6AC5A7022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6324D-8E0D-47B1-B1F4-984A24DD3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05975-E7D3-4729-9BDD-609CD4057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49A41-65D3-4D38-8AFC-B36538BE6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09E2-8919-4614-813A-0997875F0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6E3E-5BED-4789-8533-1BA2C42A6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32FD-B5B0-4B66-AA90-A52654EE0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C736-D236-4679-9DFA-2FD0B1DAF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1B68-4520-41B9-B3D6-334D47F68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4854-915E-46C1-872F-12C9BDB96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999C-06FB-4662-8BE9-53EBF1DA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313B8-3C6F-4006-9840-8CE3FB8087C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D6153-E707-4184-8A21-61A39117579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nos.nl/artikel/2038381-zorgen-om-charlie-charlie-rage-op-internet.html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Verdana"/>
              </a:rPr>
              <a:t>Les 2 - Occultism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Wat leer je vandaag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betekent occult of occultisme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vind jij van occultisme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Geef je antwoord op de vraag of occultisme gevaarlijk is of niet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Occultis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Vorige le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Wat betekent transcendent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Het verschil tussen zichtbare en onzichtbare wereld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Wat leer je vandaag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betekent occult of occultisme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vind jij van occultisme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Geef je antwoord op de vraag of occultisme gevaarlijk is of niet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Occultis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Reageer op de stelling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Geesten bestaan niet!!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valt er allemaal onder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Hier wordt verschillend over gedach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Magie, voorspelling, hekserij, paranormale werkelijkhei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Conclusie: het bovennatuurlijke/niet zintuiglijk waarneembaa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Occultis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betekent Occultisme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Letterlijk: verborgen of geheim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Bovennatuurlijk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Het gaat dus over niet zien, maar er wel zij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Het kan het goede en het kwade aanwend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Bewuste beïnvloed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Occultis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Van alle tijde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Bijbel: Saul in Endo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Paulus op verschillende plaatsen (Opdracht 3 en 4 van les 2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Middeleeuwen: hekserij, weerwolv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s occultisme gevaarlij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Opdracht 2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Beantwoord de vragen 3, 4 en 5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nos.nl/artikel/2038381-zorgen-om-charlie-charlie-rage-op-internet.htm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Wat vind jij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Bespreken vraag 3, 4 en 5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Vind jij de Charlie-Charlie challenge gevaarlijk? (vraag 5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Huiswer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Teksten opzoeke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Dat zijn lastige opdrachte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Doe dit in tweetallen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3T12:17:47Z</dcterms:created>
  <dc:creator>Nuborgh College</dc:creator>
  <dc:description/>
  <dc:language>en-US</dc:language>
  <cp:lastModifiedBy>Windows-gebruiker</cp:lastModifiedBy>
  <dcterms:modified xsi:type="dcterms:W3CDTF">2021-09-10T06:14:13Z</dcterms:modified>
  <cp:revision>12</cp:revision>
  <dc:subject/>
  <dc:title>Inleiding Occultisme</dc:title>
</cp:coreProperties>
</file>