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2F5-75C6-41AE-BBD2-74E4F597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277-1579-41EA-B136-577E0795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492-3EFB-4562-87DC-B256F561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3F9-4300-41C0-8577-478FF04B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ABB2-F5CF-4C2D-90C1-51B4EB34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394A-1C4C-4A9B-99AB-7B8C6A93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3F5B-A116-4875-BB70-0929D29C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6BCA-A091-4365-BBA7-B7EBFF5A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BD4E-0CD4-4E81-BA84-F0D9D93B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5398-6788-4D5D-9887-ABA66821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AEA3-8BE1-4308-A01D-63FDF57B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DA4-73A1-4830-A270-375804A6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C1E3-D3BD-4CE1-B9AD-CC7800F2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51B2-D89F-48B8-9F50-8D951040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BA74-530E-4F7D-91A9-6827120D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B69F-8DC0-42F0-9B8B-12B242A2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8D28-4AFE-4088-A2A5-81FCE7E9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021-AF96-4642-B26D-56A17075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7C3-2DD1-4CFE-8528-FC58C54E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6B4-FA25-4E0A-9946-E74735CE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210-944E-462C-9DF2-1EFA454E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F4B-764A-431A-9EE2-E9A9AC28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C04-F9E2-4014-8B09-5AE19AFD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C0B-B0D3-41BA-AF34-7EBE249F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7DB1-A7D1-49B3-B5E0-666EB389189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3541-3C0B-48A7-BCEC-1D6DE8D442C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qN8YS1VNYy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4 - Hallowe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Afbeelding 1" descr=""/>
          <p:cNvPicPr/>
          <p:nvPr/>
        </p:nvPicPr>
        <p:blipFill>
          <a:blip r:embed="rId1"/>
          <a:stretch/>
        </p:blipFill>
        <p:spPr>
          <a:xfrm>
            <a:off x="1187280" y="2644920"/>
            <a:ext cx="6697800" cy="42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ees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mhain: 31 oktober: dank aan goden voor oogst en hulp vragen voor de win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nken vanuit donk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feesten Wicca (hekserij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egt de Bijbel erover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v. 19:31: Raadpleeg geen geesten en schimmen van doden. Wie zich tot hen wendt, verontreinigt zichzelf. Ik ben de HEER, jullie Go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zegt deze tekst over Hallowee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Halloween te maken met occultism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s Halloween vieren gevaarlij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24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s://www.youtube.com/watch?v=qN8YS1VNYy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 komt Halloween vandaa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isch fee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en: stammen en volken in Europa (vooral in Ierland en Schotlan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oden di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arom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te maken met de feestkalend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ffers aan de go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ulp vragen voor komende wint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5" descr=""/>
          <p:cNvPicPr/>
          <p:nvPr/>
        </p:nvPicPr>
        <p:blipFill>
          <a:blip r:embed="rId1"/>
          <a:stretch/>
        </p:blipFill>
        <p:spPr>
          <a:xfrm>
            <a:off x="2627280" y="3408480"/>
            <a:ext cx="342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nneer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wordt op 1 en 2 november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lerheiligen en allerziel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ok in RK ke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ud engels: All Ha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Afbeelding 3" descr=""/>
          <p:cNvPicPr/>
          <p:nvPr/>
        </p:nvPicPr>
        <p:blipFill>
          <a:blip r:embed="rId1"/>
          <a:stretch/>
        </p:blipFill>
        <p:spPr>
          <a:xfrm>
            <a:off x="5319720" y="4869000"/>
            <a:ext cx="3824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 pompoen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erschillende verklarin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ack de dronkaard en bedrieg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an de boo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loeiend houtj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Afbeelding 3" descr=""/>
          <p:cNvPicPr/>
          <p:nvPr/>
        </p:nvPicPr>
        <p:blipFill>
          <a:blip r:embed="rId1"/>
          <a:stretch/>
        </p:blipFill>
        <p:spPr>
          <a:xfrm>
            <a:off x="2340000" y="4040280"/>
            <a:ext cx="4356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ick ‘n tre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St. Maar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erkleed langs de deu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Treat: tevreden stellen van druï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heeft te maken me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8:07:06Z</dcterms:created>
  <dc:creator>Nuborgh College</dc:creator>
  <dc:description/>
  <dc:language>en-US</dc:language>
  <cp:lastModifiedBy>Windows-gebruiker</cp:lastModifiedBy>
  <dcterms:modified xsi:type="dcterms:W3CDTF">2015-09-02T06:48:14Z</dcterms:modified>
  <cp:revision>7</cp:revision>
  <dc:subject/>
  <dc:title>Halloween</dc:title>
</cp:coreProperties>
</file>