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E2DA-94DD-4E26-B07F-FD4CABD98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8D4B-156F-4AE1-80E4-E16BB77F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06DD-6BFD-4AD1-AEB6-8D62EED03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D8B0-CAFD-4788-A557-97648F775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0648-2F16-4DC0-AF5D-50C505614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EB16-07D0-4409-ACDD-82E096D6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E4CC-83D7-48C9-838B-34F9BE8A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B3F3-D10A-4CF8-8A30-6D3B8BA2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F2B9-1395-4815-A9CF-4C57F4AD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B867-D620-4EFB-A6F5-867BE70D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32BF-0851-4B03-9551-A10D3A9D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E1D9-1589-4B5E-A934-368A7F35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00E2-6FC1-4B08-9CAE-DF06A573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4816-5D13-43AE-9F2D-72B3716C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2D77-7CD5-48E4-95C1-604BA2CB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C6F4-E9B6-420A-BA6A-01CEA6B56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F1FB-26BC-4A7A-95A4-6E32FD4E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4D14-0AB5-40B9-9D43-05D1C01E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9402-F766-4272-8E87-CF18B0C6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9CF2-6842-4C8C-8F66-3920F75F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2E4A-ECE0-4C4A-A599-D0DBBB23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246D-98CF-436D-B637-7B6DEC85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AE58-5AEF-477C-8DE3-393A5418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3E1E-1349-4877-91B4-26A6016A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4E22-C0E8-425E-B7A8-F8BE3EA40A9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8A66-34A4-45A8-B741-B8DCCE39539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ncyclo.nl/lokaal/10442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Inleid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Godsdien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Elke periode een them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er. 1: Occultisme (5 weke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er. 2: Het leven/Ethiek (12 weke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er. 3: Wereldgodsdienst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Cijf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Je moet elke periode Voldoende afronden door je portfolio in te leveren via de EL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ortfolio wordt beoordeel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Verdana"/>
              </a:rPr>
              <a:t>Reageer op de volgende stelling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ik niet kan zien, dat bestaat ook niet’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Je leert vandaa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bovennatuurlijk is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verschil tussen zichtbare en onzichtbare werel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ranscend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De grens van de zintuiglijke 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arneming te boven gaand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(Van Dal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Met andere woorden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t bovennatuurlijke, buiten de 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ervaringswereld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AutoShape 2">
            <a:hlinkClick r:id="rId1"/>
          </p:cNvPr>
          <p:cNvSpPr/>
          <p:nvPr/>
        </p:nvSpPr>
        <p:spPr>
          <a:xfrm>
            <a:off x="36360" y="1094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1042920" y="1609560"/>
            <a:ext cx="7058160" cy="45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Je leert vandaa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bovennatuurlijk is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verschil tussen zichtbare en onzichtbare werel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2:17:47Z</dcterms:created>
  <dc:creator>Nuborgh College</dc:creator>
  <dc:description/>
  <dc:language>en-US</dc:language>
  <cp:lastModifiedBy>Charlie</cp:lastModifiedBy>
  <dcterms:modified xsi:type="dcterms:W3CDTF">2021-09-02T07:00:38Z</dcterms:modified>
  <cp:revision>11</cp:revision>
  <dc:subject/>
  <dc:title>Inleiding Occultisme</dc:title>
</cp:coreProperties>
</file>