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ED5F-7B71-47FF-9487-2B02C90DB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C6C8-8079-427E-89AB-DA572561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30F6-BE68-4443-8685-0C519575F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B6F7-5BAC-4937-A5B3-482DCABDC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1A01-BBF5-4DE1-8408-C662E3EF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E593-F873-4F41-B791-FF52A201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666E-0B56-42FA-9E97-E10CDA19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BEE3-EBF0-42B3-A49C-41891D3A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0233-88D6-4B46-9EB6-88D84621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6BCB-CA2D-4882-B4F4-BA4C4B26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0FB0-8234-4121-BF3B-6A2F561E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2850-D4EF-49FB-B261-F53EA9A4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FAFD-62B7-4BF2-9B98-3AF101FE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5588-57D5-4AC8-BE3A-AE385A6A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1B80-B534-4C24-934F-71C57753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1A5D-EAC5-4F2A-AE40-A9C8D1AB3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56F7-D6F3-4357-A2DA-88CE9095A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7FAA-6609-415D-812E-36CCFC6D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2D03-C616-4283-BD8C-1CB8C2A2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A12A-7BD7-404E-99B1-EAE49751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9829-E7D9-416C-951E-5F14C2D0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AC99-C0E8-4F21-B327-66E89F60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5078-1FAC-4A7E-B16C-42ADCB95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4738-C899-49CE-990E-C914F063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8E7B-ED59-4A4A-A342-1DA5B5D2B1D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63F7-61AC-47EB-9D3D-DE1DEB070E9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qN8YS1VNYyc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Les 4 - Hallowee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Afbeelding 1" descr=""/>
          <p:cNvPicPr/>
          <p:nvPr/>
        </p:nvPicPr>
        <p:blipFill>
          <a:blip r:embed="rId1"/>
          <a:stretch/>
        </p:blipFill>
        <p:spPr>
          <a:xfrm>
            <a:off x="1187280" y="2644920"/>
            <a:ext cx="6697800" cy="42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Feest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Samhain: 31 oktober: dank aan goden voor oogst en hulp vragen voor de wint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nken vanuit donk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ijkt op feesten Wicca (hekserij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zegt de Bijbel erover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ev. 19:31: Raadpleeg geen geesten en schimmen van doden. Wie zich tot hen wendt, verontreinigt zichzelf. Ik ben de HEER, jullie Go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zegt deze tekst over Hallowee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eft Halloween te maken met occultisme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Is Halloween vieren gevaarlijk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leer ik vandaa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66280" y="1752120"/>
            <a:ext cx="800100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 komt Halloween vandaan? Wat was het begin erva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om wordt Halloween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nneer wordt Halloween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heeft de pompoen ermee te make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is trick or treat en Sint Maar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heeft Halloween met occultisme te m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Verdana"/>
              </a:rPr>
              <a:t>Halloween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Verdana"/>
              </a:rPr>
              <a:t>vieren is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Verdana"/>
              </a:rPr>
              <a:t>gevaarlijk!!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7924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s://www.youtube.com/watch?v=qN8YS1VNYy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000000"/>
                </a:solidFill>
                <a:latin typeface="Verdana"/>
              </a:rPr>
              <a:t>Halloween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000000"/>
                </a:solidFill>
                <a:latin typeface="Verdana"/>
              </a:rPr>
              <a:t>vieren is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000000"/>
                </a:solidFill>
                <a:latin typeface="Verdana"/>
              </a:rPr>
              <a:t>gevaarlijk!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leer ik vandaa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66280" y="1752120"/>
            <a:ext cx="800100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 komt Halloween vandaan? Wat was het begin erva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om wordt Halloween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nneer wordt Halloween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heeft de pompoen ermee te make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is trick or treat en Sint Maar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heeft Halloween met occultisme te m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ar komt Halloween vandaa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Keltisch fee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Kelten: stammen en volken in Europa (vooral in Ierland en Schotland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Goden dien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Afbeelding 1" descr=""/>
          <p:cNvPicPr/>
          <p:nvPr/>
        </p:nvPicPr>
        <p:blipFill>
          <a:blip r:embed="rId1"/>
          <a:stretch/>
        </p:blipFill>
        <p:spPr>
          <a:xfrm>
            <a:off x="4932360" y="3645000"/>
            <a:ext cx="3816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arom wordt het gevierd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eft te maken met de feestkalend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Offers aan de god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ulp vragen voor komende wint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Afbeelding 5" descr=""/>
          <p:cNvPicPr/>
          <p:nvPr/>
        </p:nvPicPr>
        <p:blipFill>
          <a:blip r:embed="rId1"/>
          <a:stretch/>
        </p:blipFill>
        <p:spPr>
          <a:xfrm>
            <a:off x="2627280" y="3408480"/>
            <a:ext cx="3422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nneer wordt het gevierd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wordt op 1 en 2 november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om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llerheiligen en allerziele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ok in RK ker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ud engels: All Hallow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Afbeelding 3" descr=""/>
          <p:cNvPicPr/>
          <p:nvPr/>
        </p:nvPicPr>
        <p:blipFill>
          <a:blip r:embed="rId1"/>
          <a:stretch/>
        </p:blipFill>
        <p:spPr>
          <a:xfrm>
            <a:off x="5319720" y="4869000"/>
            <a:ext cx="382428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De pompoen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erschillende verklaring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Jack de dronkaard en bedrieg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Aan de boom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loeiend houtj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Afbeelding 3" descr=""/>
          <p:cNvPicPr/>
          <p:nvPr/>
        </p:nvPicPr>
        <p:blipFill>
          <a:blip r:embed="rId1"/>
          <a:stretch/>
        </p:blipFill>
        <p:spPr>
          <a:xfrm>
            <a:off x="2340000" y="4040280"/>
            <a:ext cx="435600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rick ‘n tre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ijkt op St. Maart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Verkleed langs de deu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Treat: tevreden stellen van druïd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heeft te maken met de doo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08:07:06Z</dcterms:created>
  <dc:creator>Nuborgh College</dc:creator>
  <dc:description/>
  <dc:language>en-US</dc:language>
  <cp:lastModifiedBy>Windows-gebruiker</cp:lastModifiedBy>
  <dcterms:modified xsi:type="dcterms:W3CDTF">2015-09-02T06:48:14Z</dcterms:modified>
  <cp:revision>7</cp:revision>
  <dc:subject/>
  <dc:title>Halloween</dc:title>
</cp:coreProperties>
</file>