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F872-4249-484A-97EB-A028539A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16E0-A5B8-4455-9FB6-7425722C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ADE9-2120-469A-8298-13E55B72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CAD-9E89-4A52-B3A5-0976C1B4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9C63-A5D7-40B7-AA3F-96740533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DFF2-CF2B-474B-8190-F6C912488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5F60-B4F9-46E3-9097-9685DB81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C757-3954-4B9A-ABA3-AFE01D5A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9EF0F-0FA6-4333-BC68-13FAB43E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2674-A9C1-4E67-8503-6EE05D54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5D5A-EDCE-447B-BCFC-FCF88B92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5C8-9406-4E36-8A00-90741D05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89D8-5040-439C-BCD4-F2067622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149A-1E63-4B14-A01D-60016C1D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9185-EFDF-4427-8068-6E2DEC0A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A19D-621E-40F1-8C16-AB02C671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0337-F2B7-4F1E-9893-9AF0DF06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450-19CC-4195-9C7A-ABEBD8484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A0D-513B-4A92-A1BC-A3A22A73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44B5-4D69-4B8A-83CA-2C98B79B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D3E-A640-4E72-BC82-64406E3A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6FC3-24D1-43BB-A62B-85A18DCD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98B-E582-404D-B8CE-471BEE78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5E4A-182B-42C6-8BD0-4DEC780F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D2D4-1B1E-4341-84CB-5526C455E8A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3D67-C35D-44A5-8709-8B410D1CCC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qN8YS1VNYy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4 - Hallowee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Afbeelding 1" descr=""/>
          <p:cNvPicPr/>
          <p:nvPr/>
        </p:nvPicPr>
        <p:blipFill>
          <a:blip r:embed="rId1"/>
          <a:stretch/>
        </p:blipFill>
        <p:spPr>
          <a:xfrm>
            <a:off x="1187280" y="2644920"/>
            <a:ext cx="6697800" cy="42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ees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mhain: 31 oktober: dank aan goden voor oogst en hulp vragen voor de wint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nken vanuit donke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feesten Wicca (hekserij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zegt de Bijbel erover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v. 19:31: Raadpleeg geen geesten en schimmen van doden. Wie zich tot hen wendt, verontreinigt zichzelf. Ik ben de HEER, jullie Go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zegt deze tekst over Hallowee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Halloween te maken met occultis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s Halloween vieren gevaarlijk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924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s://www.youtube.com/watch?v=qN8YS1VNYy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Halloween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vieren is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Verdana"/>
              </a:rPr>
              <a:t>gevaarlijk!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ik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6280" y="1752120"/>
            <a:ext cx="8001000" cy="48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 komt Halloween vandaan? Wat was het begin erva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nneer wordt Halloween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de pompoen ermee te make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is trick or treat en Sint Maar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t heeft Halloween met occultisme te m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 komt Halloween vandaa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isch fee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Kelten: stammen en volken in Europa (vooral in Ierland en Schotland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oden di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Afbeelding 1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81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arom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eft te maken met de feestkalend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ffers aan de go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ulp vragen voor komende wint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5" descr=""/>
          <p:cNvPicPr/>
          <p:nvPr/>
        </p:nvPicPr>
        <p:blipFill>
          <a:blip r:embed="rId1"/>
          <a:stretch/>
        </p:blipFill>
        <p:spPr>
          <a:xfrm>
            <a:off x="2627280" y="3408480"/>
            <a:ext cx="342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nneer wordt het gevier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wordt op 1 en 2 november gevier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aarom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lerheiligen en allerziel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ok in RK ker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ud engels: All Hallow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Afbeelding 3" descr=""/>
          <p:cNvPicPr/>
          <p:nvPr/>
        </p:nvPicPr>
        <p:blipFill>
          <a:blip r:embed="rId1"/>
          <a:stretch/>
        </p:blipFill>
        <p:spPr>
          <a:xfrm>
            <a:off x="5319720" y="4869000"/>
            <a:ext cx="38242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 pompoen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erschillende verklaring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ack de dronkaard en bedriege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an de boom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loeiend houtj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Afbeelding 3" descr=""/>
          <p:cNvPicPr/>
          <p:nvPr/>
        </p:nvPicPr>
        <p:blipFill>
          <a:blip r:embed="rId1"/>
          <a:stretch/>
        </p:blipFill>
        <p:spPr>
          <a:xfrm>
            <a:off x="2340000" y="4040280"/>
            <a:ext cx="435600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allowe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ick ‘n tre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ijkt op St. Maart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Verkleed langs de deu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Treat: tevreden stellen van druï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heeft te maken me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08:07:06Z</dcterms:created>
  <dc:creator>Nuborgh College</dc:creator>
  <dc:description/>
  <dc:language>en-US</dc:language>
  <cp:lastModifiedBy>Windows-gebruiker</cp:lastModifiedBy>
  <dcterms:modified xsi:type="dcterms:W3CDTF">2015-09-02T06:48:14Z</dcterms:modified>
  <cp:revision>7</cp:revision>
  <dc:subject/>
  <dc:title>Halloween</dc:title>
</cp:coreProperties>
</file>