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0895-F3DE-4D64-A463-A9816C919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E8D8-DC88-4965-BDDD-1CE3BCE7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0D53-9FA9-4AEE-9B4B-9A6431841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E966-F510-4819-A14D-A8919DD1E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11AA2-C903-48C5-84F5-FA87F955C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E1536-25E5-4D34-BA8E-02D207998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D9AF2-CAEF-4219-82FE-F8C0603A7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53302-D054-4264-9F3E-3D5F75687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7296F-A77E-4A8A-BFC2-367828F7D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88825-839A-4911-8ADE-F285F0D90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2AB5F-BF94-494F-AE1C-884E3C8D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5B19-B2D2-45DE-BEB4-75A3E0AE9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BEC60-F06D-44DD-A416-28030168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4E468-1CFF-427E-9D27-C42B4C90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2D0B9-FFDC-417D-8BEF-436D2BCF6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048E1-A81C-403B-95F1-41EFDA7DD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CD584-208E-4868-9685-F7937A302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AFB9-6508-4585-8273-C47D0B678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FA06-FE90-46CB-8B52-C673F1AD0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4321-EE9C-4C51-BD4B-8B78B2E3C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09EB-FAF9-495B-9BA8-CD40FFF9B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DF23-43A3-411E-9BEA-A2B64441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2E93-EE7F-44A7-8FB3-4ACCB1C4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55E8-1A20-44A9-88AA-3A53C449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CB41C-F45C-4250-ACC7-DC35BE20CA0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216FD-8631-419D-8D95-50930DA4E27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nos.nl/artikel/2038381-zorgen-om-charlie-charlie-rage-op-internet.html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Verdana"/>
              </a:rPr>
              <a:t>Les 2 - Occultism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Wat leer je vandaag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betekent occult of occultism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vind jij van occultism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Geef je antwoord op de vraag of occultisme gevaarlijk is of niet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Vorige l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Wat betekent transcendent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Het verschil tussen zichtbare en onzichtbare wereld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Wat leer je vandaag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betekent occult of occultism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vind jij van occultism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Geef je antwoord op de vraag of occultisme gevaarlijk is of niet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Reageer op de stelling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Geesten bestaan niet!!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valt er allemaal onder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Hier wordt verschillend over gedach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Magie, voorspelling, hekserij, paranormale werkelijkhei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Conclusie: het bovennatuurlijke/niet zintuiglijk waarneembaa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betekent Occultism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Letterlijk: verborgen of gehei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Bovennatuurlijk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Het gaat dus over niet zien, maar er wel zij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Het kan het goede en het kwade aanwend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Bewuste beïnvloed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Van alle tijde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Bijbel: Saul in Endo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Paulus op verschillende plaatsen (Opdracht 3 en 4 van les 2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Middeleeuwen: hekserij, weerwolv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s occultisme gevaarlij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Opdracht 2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Beantwoord de vragen 3, 4 en 5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nos.nl/artikel/2038381-zorgen-om-charlie-charlie-rage-op-internet.htm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Wat vind jij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Bespreken vraag 3, 4 en 5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Vind jij de Charlie-Charlie challenge gevaarlijk? (vraag 5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Huiswer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Teksten opzoeke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Dat zijn lastige opdrachte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Doe dit in tweetallen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3T12:17:47Z</dcterms:created>
  <dc:creator>Nuborgh College</dc:creator>
  <dc:description/>
  <dc:language>en-US</dc:language>
  <cp:lastModifiedBy>Windows-gebruiker</cp:lastModifiedBy>
  <dcterms:modified xsi:type="dcterms:W3CDTF">2021-09-10T06:14:13Z</dcterms:modified>
  <cp:revision>12</cp:revision>
  <dc:subject/>
  <dc:title>Inleiding Occultisme</dc:title>
</cp:coreProperties>
</file>