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1FA6-8691-4ADF-8FC4-7F80E05B6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DA8C-0820-4A8C-8D9A-B3572EBA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2889-B84B-4FDA-A6EB-066C1B1E1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1BB2-93D3-43C3-9045-F657C65AC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AC72-91A9-4422-8868-FAA1D647C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0137-0907-4FDF-9BC1-60ECB2A6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EADA-BBDC-48D8-B920-1012E378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A5FB-58DF-47B4-A703-E3D24551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8AD5-B5A4-40AE-BE98-6759D72D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FF2BD-7E5A-4EF4-9AE7-F8694720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8113-242B-4656-98CA-FA168491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E460-E243-4539-B8A7-0400B9F9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F7CB-8481-407E-BDBD-4C244A8F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8BD2-06A0-4135-95D3-82A54EAB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3D6F-8EF8-46EB-876F-11A7B88D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251E-EEAB-4AC0-9E02-BC4327AD6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564C-E3D0-4261-9CAC-C06EF7D7B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94B4-2D95-4B9A-8F7F-221B3A7F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54CB-8B04-4E4D-B61B-70821C51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A403-AC8A-4501-9932-C60E1D91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EC3E-CA8E-45D5-80FA-F9C49542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A9B3-4917-4A27-A590-1BEE12E6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6576-6490-42BE-BAF3-C5F04BDD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C88F-16D5-4717-82D8-DC867D0C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A31C-715D-4A00-B275-ECA62B0A14B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1A62-0132-47B2-BEC5-467E486E90C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qN8YS1VNYyc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Les 4 - Hallowee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Afbeelding 1" descr=""/>
          <p:cNvPicPr/>
          <p:nvPr/>
        </p:nvPicPr>
        <p:blipFill>
          <a:blip r:embed="rId1"/>
          <a:stretch/>
        </p:blipFill>
        <p:spPr>
          <a:xfrm>
            <a:off x="1187280" y="2644920"/>
            <a:ext cx="6697800" cy="42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Feest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Samhain: 31 oktober: dank aan goden voor oogst en hulp vragen voor de wint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nken vanuit donk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ijkt op feesten Wicca (hekserij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zegt de Bijbel erover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ev. 19:31: Raadpleeg geen geesten en schimmen van doden. Wie zich tot hen wendt, verontreinigt zichzelf. Ik ben de HEER, jullie Go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zegt deze tekst over Hallowee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eft Halloween te maken met occultisme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Is Halloween vieren gevaarlijk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leer ik vandaa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66280" y="1752120"/>
            <a:ext cx="800100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 komt Halloween vandaan? Wat was het begin erva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om wordt Halloween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nneer wordt Halloween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heeft de pompoen ermee te make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is trick or treat en Sint Maar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heeft Halloween met occultisme te m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Verdana"/>
              </a:rPr>
              <a:t>Halloween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Verdana"/>
              </a:rPr>
              <a:t>vieren is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Verdana"/>
              </a:rPr>
              <a:t>gevaarlijk!!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7924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s://www.youtube.com/watch?v=qN8YS1VNYy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000000"/>
                </a:solidFill>
                <a:latin typeface="Verdana"/>
              </a:rPr>
              <a:t>Halloween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000000"/>
                </a:solidFill>
                <a:latin typeface="Verdana"/>
              </a:rPr>
              <a:t>vieren is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000000"/>
                </a:solidFill>
                <a:latin typeface="Verdana"/>
              </a:rPr>
              <a:t>gevaarlijk!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leer ik vandaa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66280" y="1752120"/>
            <a:ext cx="800100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 komt Halloween vandaan? Wat was het begin erva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om wordt Halloween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nneer wordt Halloween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heeft de pompoen ermee te make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is trick or treat en Sint Maar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heeft Halloween met occultisme te m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ar komt Halloween vandaa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Keltisch fee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Kelten: stammen en volken in Europa (vooral in Ierland en Schotland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Goden dien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Afbeelding 1" descr=""/>
          <p:cNvPicPr/>
          <p:nvPr/>
        </p:nvPicPr>
        <p:blipFill>
          <a:blip r:embed="rId1"/>
          <a:stretch/>
        </p:blipFill>
        <p:spPr>
          <a:xfrm>
            <a:off x="4932360" y="3645000"/>
            <a:ext cx="3816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arom wordt het gevierd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eft te maken met de feestkalend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Offers aan de god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ulp vragen voor komende wint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Afbeelding 5" descr=""/>
          <p:cNvPicPr/>
          <p:nvPr/>
        </p:nvPicPr>
        <p:blipFill>
          <a:blip r:embed="rId1"/>
          <a:stretch/>
        </p:blipFill>
        <p:spPr>
          <a:xfrm>
            <a:off x="2627280" y="3408480"/>
            <a:ext cx="3422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nneer wordt het gevierd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wordt op 1 en 2 november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om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llerheiligen en allerziele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ok in RK ker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ud engels: All Hallow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Afbeelding 3" descr=""/>
          <p:cNvPicPr/>
          <p:nvPr/>
        </p:nvPicPr>
        <p:blipFill>
          <a:blip r:embed="rId1"/>
          <a:stretch/>
        </p:blipFill>
        <p:spPr>
          <a:xfrm>
            <a:off x="5319720" y="4869000"/>
            <a:ext cx="382428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De pompoen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erschillende verklaring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Jack de dronkaard en bedrieg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Aan de boom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loeiend houtj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Afbeelding 3" descr=""/>
          <p:cNvPicPr/>
          <p:nvPr/>
        </p:nvPicPr>
        <p:blipFill>
          <a:blip r:embed="rId1"/>
          <a:stretch/>
        </p:blipFill>
        <p:spPr>
          <a:xfrm>
            <a:off x="2340000" y="4040280"/>
            <a:ext cx="435600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rick ‘n tre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ijkt op St. Maart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Verkleed langs de deu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Treat: tevreden stellen van druïd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heeft te maken met de doo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08:07:06Z</dcterms:created>
  <dc:creator>Nuborgh College</dc:creator>
  <dc:description/>
  <dc:language>en-US</dc:language>
  <cp:lastModifiedBy>Windows-gebruiker</cp:lastModifiedBy>
  <dcterms:modified xsi:type="dcterms:W3CDTF">2015-09-02T06:48:14Z</dcterms:modified>
  <cp:revision>7</cp:revision>
  <dc:subject/>
  <dc:title>Halloween</dc:title>
</cp:coreProperties>
</file>