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AB193-B6CB-40C6-B0AD-9914AD050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ECDCB-E79C-4E3D-83F2-CD760DFD9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853F4-E4C1-4CBA-B731-466D8EA20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23526-A430-4DF4-9C95-B2560FD82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F574F-F998-457B-9531-B97E445C9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C4433-C1A9-4179-A704-2D49FF17B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7CA7E-6008-4AB6-AE80-57CDFE226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F4D2D-F446-445B-B075-D678EB2A8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A1248-A261-4200-92AB-E24D5DD4D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21DF1-2FB3-420A-A26D-200DC32B1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830F0-F6BC-41B0-8427-AA0988344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D8058-E916-4423-9458-FEED890EC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59A83-38D6-4E3A-B827-8FB47C6B1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30679-6252-4EDE-8797-D35841020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E3593-268B-4747-A43E-D68AEB730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4FB62-9115-4EB3-940B-8105C74CC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893CD-EFB5-4AA7-8293-321CEF0BE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4C893-B352-4A4E-B952-D56466CB3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C7FCE-9E6A-4435-927E-03103E8FF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96B9C-6764-4ABF-9C1E-66C824BCD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DBF11-CD5B-4AFB-B396-09AF1C433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EEFD3-ACCB-480A-AC87-7AAC8D25A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70E1D-2C92-41E8-B72F-99D762D6C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BE8BE-9857-41E7-B807-5865C0DC0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E8057-6F58-4575-B9DE-64646FB50F93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F4F4A-423F-4427-855C-BBDFDF037865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ncyclo.nl/lokaal/10442" TargetMode="Externa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Verdana"/>
              </a:rPr>
              <a:t>Inleiding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Inleiding Godsdiens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Elke periode een thema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Per. 1: Occultisme (5 weke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Per. 2: Het leven/Ethiek (12 weke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Per. 3: Wereldgodsdienste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Inleiding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Cijfe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Je moet elke periode Voldoende afronden door je portfolio in te leveren via de ELO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Portfolio wordt beoordeeld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Inleiding Occultism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000000"/>
                </a:solidFill>
                <a:latin typeface="Verdana"/>
              </a:rPr>
              <a:t>Reageer op de volgende stelling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‘</a:t>
            </a: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Wat ik niet kan zien, dat bestaat ook niet’!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Inleiding Occultism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Je leert vandaa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Wat bovennatuurlijk is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Het verschil tussen zichtbare en onzichtbare wereld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Inleiding Occultism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Transcendent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De grens van de zintuiglijke </a:t>
            </a: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waarneming te boven gaand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(Van Dale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Met andere woorden: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Het bovennatuurlijke, buiten de </a:t>
            </a: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ervaringswereld,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AutoShape 2">
            <a:hlinkClick r:id="rId1"/>
          </p:cNvPr>
          <p:cNvSpPr/>
          <p:nvPr/>
        </p:nvSpPr>
        <p:spPr>
          <a:xfrm>
            <a:off x="36360" y="10944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Inleiding Occultism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9" name="Tijdelijke aanduiding voor inhoud 4" descr=""/>
          <p:cNvPicPr/>
          <p:nvPr/>
        </p:nvPicPr>
        <p:blipFill>
          <a:blip r:embed="rId1"/>
          <a:stretch/>
        </p:blipFill>
        <p:spPr>
          <a:xfrm>
            <a:off x="1042920" y="1609560"/>
            <a:ext cx="7058160" cy="45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Inleiding Occultism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Je leert vandaa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Wat bovennatuurlijk is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Het verschil tussen zichtbare en onzichtbare wereld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3T12:17:47Z</dcterms:created>
  <dc:creator>Nuborgh College</dc:creator>
  <dc:description/>
  <dc:language>en-US</dc:language>
  <cp:lastModifiedBy>Charlie</cp:lastModifiedBy>
  <dcterms:modified xsi:type="dcterms:W3CDTF">2021-09-02T07:00:38Z</dcterms:modified>
  <cp:revision>11</cp:revision>
  <dc:subject/>
  <dc:title>Inleiding Occultisme</dc:title>
</cp:coreProperties>
</file>