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79A3-2438-4B59-AD9B-ECFB31B4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A4BE-7C56-4997-B27E-3227DE50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956B-3463-4804-ADB8-B3919059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7E0E-304F-4413-BAD8-F96230F8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8088-F803-4FF5-8D47-37DA62FB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2C81-31C6-406D-9253-D21EF835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4BBE-4EA1-4F64-8EF3-C56EF335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E732-0028-4A97-81E0-D555266F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6701-81CE-408C-88D6-152BF818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3D3F-F031-4089-B199-6EFFFB16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F9C4-71D6-4333-A75F-D67181FA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8BF7-975E-4819-BE4D-F0B2B408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B5FD-D990-40B6-AFAF-6512B0ED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D005-E6EF-4E8A-A7CD-23540275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FACA-EA91-4DFF-8B6D-353E90AA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C939-F88D-4534-B724-9CFA05E4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DE70-96E3-4AF7-9F57-2C4FE5F6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583-A477-4B46-B2D4-788F0CA8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90D3-ED3A-41AC-92A9-F93813AC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1A92-DFB6-4683-B1EE-140E2CFA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4503-DC76-43CE-AB78-EF36B7DE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FBD0-199B-4847-A492-A55E5D17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3BA4-8B8A-452F-867C-AD241FFD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F95F-A3B9-4182-81FB-41FD3ECF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DF7E-98DD-4325-9E5C-3D794EAAABD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C69E-52D7-41D8-AE62-F514BDB26A5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qN8YS1VNYy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4 - Hallowe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Afbeelding 1" descr=""/>
          <p:cNvPicPr/>
          <p:nvPr/>
        </p:nvPicPr>
        <p:blipFill>
          <a:blip r:embed="rId1"/>
          <a:stretch/>
        </p:blipFill>
        <p:spPr>
          <a:xfrm>
            <a:off x="1187280" y="2644920"/>
            <a:ext cx="6697800" cy="42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Fees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amhain: 31 oktober: dank aan goden voor oogst en hulp vragen voor de wint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nken vanuit donk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ijkt op feesten Wicca (hekserij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zegt de Bijbel erover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ev. 19:31: Raadpleeg geen geesten en schimmen van doden. Wie zich tot hen wendt, verontreinigt zichzelf. Ik ben de HEER, jullie Go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zegt deze tekst over Hallowee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ft Halloween te maken met occultisme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s Halloween vieren gevaarlij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ik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66280" y="1752120"/>
            <a:ext cx="8001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 komt Halloween vandaan? Wat was het begin erva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nneer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de pompoen ermee te mak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is trick or treat en Sint Maar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Halloween met occultisme te m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vieren is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gevaarlijk!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924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s://www.youtube.com/watch?v=qN8YS1VNYy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vieren is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gevaarlijk!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ik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1752120"/>
            <a:ext cx="8001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 komt Halloween vandaan? Wat was het begin erva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nneer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de pompoen ermee te mak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is trick or treat en Sint Maar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Halloween met occultisme te m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 komt Halloween vandaa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ltisch fee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lten: stammen en volken in Europa (vooral in Ierland en Schotlan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oden di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Afbeelding 1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81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arom wordt het gevier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ft te maken met de feestkalend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Offers aan de god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ulp vragen voor komende wint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5" descr=""/>
          <p:cNvPicPr/>
          <p:nvPr/>
        </p:nvPicPr>
        <p:blipFill>
          <a:blip r:embed="rId1"/>
          <a:stretch/>
        </p:blipFill>
        <p:spPr>
          <a:xfrm>
            <a:off x="2627280" y="3408480"/>
            <a:ext cx="342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nneer wordt het gevier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wordt op 1 en 2 november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lerheiligen en allerziel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ok in RK ker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ud engels: All Hallo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Afbeelding 3" descr=""/>
          <p:cNvPicPr/>
          <p:nvPr/>
        </p:nvPicPr>
        <p:blipFill>
          <a:blip r:embed="rId1"/>
          <a:stretch/>
        </p:blipFill>
        <p:spPr>
          <a:xfrm>
            <a:off x="5319720" y="4869000"/>
            <a:ext cx="38242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 pompoen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erschillende verklaring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ack de dronkaard en bedrieg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an de boom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loeiend houtj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Afbeelding 3" descr=""/>
          <p:cNvPicPr/>
          <p:nvPr/>
        </p:nvPicPr>
        <p:blipFill>
          <a:blip r:embed="rId1"/>
          <a:stretch/>
        </p:blipFill>
        <p:spPr>
          <a:xfrm>
            <a:off x="2340000" y="4040280"/>
            <a:ext cx="4356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rick ‘n tre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ijkt op St. Maart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Verkleed langs de deu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Treat: tevreden stellen van druï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heeft te maken met de d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8:07:06Z</dcterms:created>
  <dc:creator>Nuborgh College</dc:creator>
  <dc:description/>
  <dc:language>en-US</dc:language>
  <cp:lastModifiedBy>Windows-gebruiker</cp:lastModifiedBy>
  <dcterms:modified xsi:type="dcterms:W3CDTF">2015-09-02T06:48:14Z</dcterms:modified>
  <cp:revision>7</cp:revision>
  <dc:subject/>
  <dc:title>Halloween</dc:title>
</cp:coreProperties>
</file>