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E379-6783-43A8-869F-45305A34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8B0-E339-4E6F-8BA5-CECB5EB7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A40-0294-4F57-A63F-0F351C9D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605-65FA-49AD-9CB8-BC56A0F8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4225-CA30-4F0C-ABD5-483C967E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4713-D4B4-4E78-9A05-B1514A7F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04D0-3801-48A5-9019-771E3889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E073-BC77-4D9C-B032-D24EE0B8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91D0-7F95-476E-A485-50367229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F260-A494-4407-BA3E-27946939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00A4-E6B7-4E3C-AEBC-14500E15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54B-22AA-46E8-BCDD-C088A548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0441-BD06-4883-BD6B-4EE63B4E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22CA-83FA-4CB7-B3DD-86BAFFFF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8D5C-A960-4C7D-B6EE-40CE0ABA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4A97-FB25-44DC-8BAD-4FD0B3D2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1BA2-9258-4622-B89F-5DE70480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4A8-8E1B-415B-AE55-E9A0A044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F80-6BB6-45DE-BCF4-450196EA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87F-5813-4006-B1C1-00468C0A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B97-0789-4FA3-BC2B-60C34D90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F47-BF62-4B3A-BF4B-E70CCE78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26E-B4F6-4F7F-8F3D-3FC236FA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883-E785-4364-B825-2B426FF2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461A-BF31-46AD-A690-97B65716BE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C264-DE08-4B8F-97E8-08B78B0C2FA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qN8YS1VNYy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4 - Hallowe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Afbeelding 1" descr=""/>
          <p:cNvPicPr/>
          <p:nvPr/>
        </p:nvPicPr>
        <p:blipFill>
          <a:blip r:embed="rId1"/>
          <a:stretch/>
        </p:blipFill>
        <p:spPr>
          <a:xfrm>
            <a:off x="1187280" y="2644920"/>
            <a:ext cx="6697800" cy="42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ees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mhain: 31 oktober: dank aan goden voor oogst en hulp vragen voor de win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nken vanuit donk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feesten Wicca (hekserij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egt de Bijbel erover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v. 19:31: Raadpleeg geen geesten en schimmen van doden. Wie zich tot hen wendt, verontreinigt zichzelf. Ik ben de HEER, jullie Go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zegt deze tekst over Hallowee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Halloween te maken met occultism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s Halloween vieren gevaarlij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24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s://www.youtube.com/watch?v=qN8YS1VNYy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 komt Halloween vandaa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isch fee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en: stammen en volken in Europa (vooral in Ierland en Schotlan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oden di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arom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te maken met de feestkalend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ffers aan de go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ulp vragen voor komende wint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5" descr=""/>
          <p:cNvPicPr/>
          <p:nvPr/>
        </p:nvPicPr>
        <p:blipFill>
          <a:blip r:embed="rId1"/>
          <a:stretch/>
        </p:blipFill>
        <p:spPr>
          <a:xfrm>
            <a:off x="2627280" y="3408480"/>
            <a:ext cx="342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nneer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wordt op 1 en 2 november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lerheiligen en allerziel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ok in RK ke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ud engels: All Ha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Afbeelding 3" descr=""/>
          <p:cNvPicPr/>
          <p:nvPr/>
        </p:nvPicPr>
        <p:blipFill>
          <a:blip r:embed="rId1"/>
          <a:stretch/>
        </p:blipFill>
        <p:spPr>
          <a:xfrm>
            <a:off x="5319720" y="4869000"/>
            <a:ext cx="3824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 pompoen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erschillende verklarin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ack de dronkaard en bedrieg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an de boo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loeiend houtj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Afbeelding 3" descr=""/>
          <p:cNvPicPr/>
          <p:nvPr/>
        </p:nvPicPr>
        <p:blipFill>
          <a:blip r:embed="rId1"/>
          <a:stretch/>
        </p:blipFill>
        <p:spPr>
          <a:xfrm>
            <a:off x="2340000" y="4040280"/>
            <a:ext cx="4356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ick ‘n tre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St. Maar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erkleed langs de deu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Treat: tevreden stellen van druï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heeft te maken me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07:06Z</dcterms:created>
  <dc:creator>Nuborgh College</dc:creator>
  <dc:description/>
  <dc:language>en-US</dc:language>
  <cp:lastModifiedBy>Windows-gebruiker</cp:lastModifiedBy>
  <dcterms:modified xsi:type="dcterms:W3CDTF">2015-09-02T06:48:14Z</dcterms:modified>
  <cp:revision>7</cp:revision>
  <dc:subject/>
  <dc:title>Halloween</dc:title>
</cp:coreProperties>
</file>