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A0A6-2748-4676-A71A-B1F952AC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BA04-13D2-464E-8E31-92935EE4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76C8-8BA5-484A-8ED0-F7DBCA1E8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3A57-F5B7-402A-865D-36687AAF3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8DDD-CEEB-47EC-B83A-13AB68081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3CB6-40BB-4089-8A3B-2CB7FFCC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0059-F347-4A87-AA51-C347295B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D3EB-BF95-47A3-A551-BC7D423D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7546-F5A0-404A-B6CB-E44D2C8A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B300-2713-4B5F-9958-38982189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C3F5-A0C0-416F-89FF-744F5316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CEC0-395C-498F-BF74-A9B3201B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CAD2-F407-40AA-A263-F2808EAE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B9FE-B052-4199-B74A-680A700B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86E2-D674-4B05-834C-4A54A3A9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8AE5-915B-4F24-8EFA-CF41A0BF2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B562-EA35-49AC-A433-6661C6BE9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4221-811A-4732-8653-7930E07D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9A8E-DD86-4A4E-8D88-7633D905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62DC-4801-4873-8D43-8807DD22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E3FD-3114-4462-B25E-3B045FBE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F838-2C35-4890-94A2-BC05865E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FF97-FA60-4A48-8552-37B697DF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9A91-CA71-4C74-A0FC-B4DD17D6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D9C7-B9CB-4B28-9B23-3ADEE4D02F8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5E64-4BF4-497A-BD5B-82B909FA741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ncyclo.nl/lokaal/10442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Inleid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Godsdien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Elke periode een them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er. 1: Occultisme (5 weke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er. 2: Het leven/Ethiek (12 weke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er. 3: Wereldgodsdienst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Cijf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Je moet elke periode Voldoende afronden door je portfolio in te leveren via de EL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ortfolio wordt beoordeel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Reageer op de volgende stelling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ik niet kan zien, dat bestaat ook niet’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Je leert vandaa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bovennatuurlijk is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verschil tussen zichtbare en onzichtbare werel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ranscend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e grens van de zintuiglijke 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arneming te boven gaand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(Van Dal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Met andere woorden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t bovennatuurlijke, buiten de 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ervaringswereld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2">
            <a:hlinkClick r:id="rId1"/>
          </p:cNvPr>
          <p:cNvSpPr/>
          <p:nvPr/>
        </p:nvSpPr>
        <p:spPr>
          <a:xfrm>
            <a:off x="36360" y="1094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042920" y="1609560"/>
            <a:ext cx="7058160" cy="45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Je leert vandaa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bovennatuurlijk is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verschil tussen zichtbare en onzichtbare werel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7:47Z</dcterms:created>
  <dc:creator>Nuborgh College</dc:creator>
  <dc:description/>
  <dc:language>en-US</dc:language>
  <cp:lastModifiedBy>Charlie</cp:lastModifiedBy>
  <dcterms:modified xsi:type="dcterms:W3CDTF">2021-09-02T07:00:38Z</dcterms:modified>
  <cp:revision>11</cp:revision>
  <dc:subject/>
  <dc:title>Inleiding Occultisme</dc:title>
</cp:coreProperties>
</file>