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3C08-BE64-4396-A49F-B051A937F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3A2C-9C99-495A-A38F-54873584D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173E-1819-48D9-AE74-3F04919EB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20B8-B48A-4116-A310-DB3AE1F39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D9C21-430A-4575-B878-91DF8973C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3CCD3-73C4-4CA1-9C3E-E6AA55C56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BDCA8-82F1-4A6F-B5D4-20E84460F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EC0FF-9DF0-4CAC-8420-DEEB51E51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667DD-92B9-44C6-8F4E-5C8FB4894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16A40-7A84-4A36-A962-551EE99ED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D4B6A-9B67-4A4C-878D-CF133A0EB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D759-53BF-4728-9B0E-BDA388C53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C7530-F185-488C-8CD8-2670A927D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A653B-B03A-4818-AC9A-1F438A183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E54E7-2020-4CDD-9FEC-00E891932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3F301-2574-4A6A-849D-BEF07C853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9917B-1FFB-4334-AC30-7F29E0DBD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3A12-0FA7-4B2C-BF74-FFFDC264E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CA7C-C5D0-4524-A59B-B845CEFE9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F6A4-9FFF-4D76-8630-EBB57E921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BBE3-5979-4C97-866E-91EA05638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FB0C-FDA9-4CFE-AE53-2940A68E5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29B5-3807-4F88-AB8F-D63A9067F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6C7F-CD90-49A7-A2DF-1339AADF0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59E11-B7C1-4DE2-9564-E66144295A10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899CB-4294-4225-91C6-A0D2DE2EA3F9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nos.nl/artikel/2038381-zorgen-om-charlie-charlie-rage-op-internet.html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Verdana"/>
              </a:rPr>
              <a:t>Les 2 - Occultism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Wat leer je vandaag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Wat betekent occult of occultisme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Wat vind jij van occultisme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Geef je antwoord op de vraag of occultisme gevaarlijk is of niet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Inleiding Occultism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Vorige les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Wat betekent transcendent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Het verschil tussen zichtbare en onzichtbare wereld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Wat leer je vandaag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Wat betekent occult of occultisme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Wat vind jij van occultisme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Geef je antwoord op de vraag of occultisme gevaarlijk is of niet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Inleiding Occultism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50720" indent="-45072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Reageer op de stelling: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Geesten bestaan niet!!!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Wat valt er allemaal onder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41868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Hier wordt verschillend over gedach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41868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Magie, voorspelling, hekserij, paranormale werkelijkheid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41868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Conclusie: het bovennatuurlijke/niet zintuiglijk waarneembaar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Inleiding Occultism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Wat betekent Occultisme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Letterlijk: verborgen of geheim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Bovennatuurlijk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Het gaat dus over niet zien, maar er wel zij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Het kan het goede en het kwade aanwende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Bewuste beïnvloede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Inleiding Occultism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Van alle tijde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Bijbel: Saul in Endor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Paulus op verschillende plaatsen (Opdracht 3 en 4 van les 2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Middeleeuwen: hekserij, weerwolve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Is occultisme gevaarlijk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Opdracht 2,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Beantwoord de vragen 3, 4 en 5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http://nos.nl/artikel/2038381-zorgen-om-charlie-charlie-rage-op-internet.htm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Wat vind jij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Bespreken vraag 3, 4 en 5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Vind jij de Charlie-Charlie challenge gevaarlijk? (vraag 5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Huiswerk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Teksten opzoeke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Dat zijn lastige opdrachte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Doe dit in tweetallen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3T12:17:47Z</dcterms:created>
  <dc:creator>Nuborgh College</dc:creator>
  <dc:description/>
  <dc:language>en-US</dc:language>
  <cp:lastModifiedBy>Windows-gebruiker</cp:lastModifiedBy>
  <dcterms:modified xsi:type="dcterms:W3CDTF">2021-09-10T06:14:13Z</dcterms:modified>
  <cp:revision>12</cp:revision>
  <dc:subject/>
  <dc:title>Inleiding Occultisme</dc:title>
</cp:coreProperties>
</file>