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CC9B-FEC6-4755-94CA-103E86BE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CF18-18C5-4A01-8059-AF1E502C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782A-D229-46B6-AA47-F1C73BFEA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58BE-3C9B-4F56-B508-AA4724960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30AA-6140-437A-A7BF-8DDE71156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6F48-691D-4363-9F5F-EEA977B5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F2F2-4900-4DA7-B2CE-647BDB38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32CA-2590-447C-B8B3-FEE11FB2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4533-4C64-42A0-AFB8-56FE6AA9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6AB7-2232-4B69-8036-A9BC8F10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FDE1-2BEC-4C4C-9C94-D5000887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3684-6FC9-4251-A7A4-E101CCA8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5FBA-BF56-4872-AC84-0F2B2073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987D-FE66-42DA-BA41-6B16397C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2892-183A-4F5D-8CE9-04BC9584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E4B8-109D-4401-8AFE-0FA2F6B5C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F168-B07F-4F27-A6F8-DA9E20C01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3495-4035-4B45-8F3A-199A6DF7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1B65-40B5-4251-8BBE-6C4F2512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86D0-C8BB-4F55-83D9-2B164827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004B-4700-4255-9B19-135E7335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3D4C-E0F1-4CA6-BF36-4C617CCC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CFC9-1681-4B10-83C3-24C10E63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C9BE-99B5-452F-BC99-B4234DAC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E511-FA4E-4894-B963-E9AB726EC43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A296-AA4E-4DB6-8CB0-08786220DDB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ncyclo.nl/lokaal/10442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Inleid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Godsdien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Elke periode een them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er. 1: Occultisme (5 weke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er. 2: Het leven/Ethiek (12 weke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er. 3: Wereldgodsdienst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Cijf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Je moet elke periode Voldoende afronden door je portfolio in te leveren via de EL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ortfolio wordt beoordeel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Verdana"/>
              </a:rPr>
              <a:t>Reageer op de volgende stelling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ik niet kan zien, dat bestaat ook niet’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Je leert vandaa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bovennatuurlijk is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verschil tussen zichtbare en onzichtbare werel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ranscend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De grens van de zintuiglijke 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arneming te boven gaand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(Van Dal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Met andere woorden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t bovennatuurlijke, buiten de 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ervaringswereld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AutoShape 2">
            <a:hlinkClick r:id="rId1"/>
          </p:cNvPr>
          <p:cNvSpPr/>
          <p:nvPr/>
        </p:nvSpPr>
        <p:spPr>
          <a:xfrm>
            <a:off x="36360" y="1094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1042920" y="1609560"/>
            <a:ext cx="7058160" cy="45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Je leert vandaa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bovennatuurlijk is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verschil tussen zichtbare en onzichtbare werel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2:17:47Z</dcterms:created>
  <dc:creator>Nuborgh College</dc:creator>
  <dc:description/>
  <dc:language>en-US</dc:language>
  <cp:lastModifiedBy>Charlie</cp:lastModifiedBy>
  <dcterms:modified xsi:type="dcterms:W3CDTF">2021-09-02T07:00:38Z</dcterms:modified>
  <cp:revision>11</cp:revision>
  <dc:subject/>
  <dc:title>Inleiding Occultisme</dc:title>
</cp:coreProperties>
</file>