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9ED-BDC0-4A2F-B7BD-A3844871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B21-4CD5-4CD3-8764-59342CFB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4EC-A10B-4784-8818-8BCEC360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B96-F7CD-4815-B3D1-494CB455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8751-4EEE-4B0C-9D83-54AEF80A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79E2-14E2-4DDD-AF87-713BE3F8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7048-098F-44E5-9FCB-8C687A4E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7CB9-BF51-4DE6-820A-C6BD91DC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7A6A-3E6A-43DE-992C-676C91BC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4B94-2069-41ED-A445-89885AF4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66FE-8819-4770-A3FD-C3192690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134-E0C8-42BC-A21C-C503DAA9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4D6D-9483-4A88-8791-A3EF1B47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B95A-B1E4-4A7D-A48E-89529E55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3DDC-6DEA-4652-8BC0-1C0E9FD0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C3E1-685A-4CA7-B36F-5F4A2B26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0233-37D0-4448-AEC1-AE4AF6AE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13F-9F2A-4A38-BA58-B613A85F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4B7-F98D-4726-AC12-0DF52D25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9DA-4053-4E88-82E2-E47CE25E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6DA-DC08-4E5D-91C7-AAD5A736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EBC-E093-4926-9035-811E0271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490-4C61-43AF-918F-26537636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926-44C1-4898-A16C-FA2C5C55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299E-C63D-4306-9C43-58EF516A348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C3F6-6178-4FF3-A11F-1C04B15D6B8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cyclo.nl/lokaal/10442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Godsdien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lke periode een them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1: Occultisme (5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2: Het leven/Ethiek (12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3: Wereldgodsdienst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ijf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 moet elke periode Voldoende afronden door je portfolio in te leveren via de E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ortfolio wordt beoordeel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Reageer op de volgende stelling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k niet kan zien, dat bestaat ook niet’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anscend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 grens van de zintuiglijk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neming te boven ga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(Van Da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Met andere woorden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t bovennatuurlijke, buiten d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rvaringswereld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">
            <a:hlinkClick r:id="rId1"/>
          </p:cNvPr>
          <p:cNvSpPr/>
          <p:nvPr/>
        </p:nvSpPr>
        <p:spPr>
          <a:xfrm>
            <a:off x="36360" y="109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42920" y="1609560"/>
            <a:ext cx="70581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Charlie</cp:lastModifiedBy>
  <dcterms:modified xsi:type="dcterms:W3CDTF">2021-09-02T07:00:38Z</dcterms:modified>
  <cp:revision>11</cp:revision>
  <dc:subject/>
  <dc:title>Inleiding Occultisme</dc:title>
</cp:coreProperties>
</file>