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2B4-77DC-4F59-AF06-C3B6759F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5D8A-594E-4B04-B499-9DDA4E05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7E56-8F69-44E2-94A6-676213E7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ED7-C495-4F24-AF25-09EA1CB9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F067-4F3F-4527-9550-9957D1DF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2764-CEF9-49E2-B1A3-92A71A88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4CE8-7C5C-4D0A-AF80-7D8F07D9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9887-F65D-4C10-97C7-F98BB2FE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264E-84BB-421D-81CF-8C72501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6794-4F64-4C5B-A6A0-8D673018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8F36D-9FF6-4824-9881-A0C23AFE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669E-34AE-4A5D-9FE6-9E04438F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D980-EDB7-4AE4-A0E0-FA4758BB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FF3B-002E-4514-9548-7C4A2878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5359-5049-454C-9F2E-DAA6C272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39CC-B75C-4B18-B04F-B69BE2D5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B5E8-603A-4067-8FA1-43E9C9EC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6366-D46C-4057-ADDB-A8F9B6C8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86E-AF0C-4A84-8606-0C8E1E81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722-B927-4B76-8970-D6ABB889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BD40-FAF0-4FE2-AAB5-F2ED6FCE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796-101E-496F-BDEF-02D2BAB7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ADF6-0CDD-47BF-B36C-9093696F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464-67B9-4C36-B3B7-2C7F8CB6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5D47-E3E7-47B7-9A90-66668C70802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F28D-9BC6-4D64-B1D5-C08F70E4C23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ncyclo.nl/lokaal/10442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Godsdien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lke periode een them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1: Occultisme (5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2: Het leven/Ethiek (12 weke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er. 3: Wereldgodsdienst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ijf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 moet elke periode Voldoende afronden door je portfolio in te leveren via de EL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ortfolio wordt beoordeel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Reageer op de volgende stelling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ik niet kan zien, dat bestaat ook niet’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ranscend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De grens van de zintuiglijk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arneming te boven gaan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(Van Dal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Met andere woorden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t bovennatuurlijke, buiten de 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rvaringswereld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2">
            <a:hlinkClick r:id="rId1"/>
          </p:cNvPr>
          <p:cNvSpPr/>
          <p:nvPr/>
        </p:nvSpPr>
        <p:spPr>
          <a:xfrm>
            <a:off x="36360" y="1094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1042920" y="1609560"/>
            <a:ext cx="705816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Inleiding Occultis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Je leert vandaa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bovennatuurlijk i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t verschil tussen zichtbare en onzichtbare werel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12:17:47Z</dcterms:created>
  <dc:creator>Nuborgh College</dc:creator>
  <dc:description/>
  <dc:language>en-US</dc:language>
  <cp:lastModifiedBy>Charlie</cp:lastModifiedBy>
  <dcterms:modified xsi:type="dcterms:W3CDTF">2021-09-02T07:00:38Z</dcterms:modified>
  <cp:revision>11</cp:revision>
  <dc:subject/>
  <dc:title>Inleiding Occultisme</dc:title>
</cp:coreProperties>
</file>