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6700-302A-4C38-9E7D-59875DE7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17B9-761F-4D23-9920-A4699457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0E93-93BB-4BDD-BF8E-A6125920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15BC-600A-4045-9A66-4173522B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3486-0AA1-4914-96C7-74402FE8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6082-6E3B-4904-B54C-5DFA036B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BA5C-278C-4164-84E9-3CE94CD8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A6EF-0985-4D9A-BD46-76361853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AB78-3B10-407E-8E29-69F8282C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D5A9-229E-45BE-B9E8-0079E23F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680C-FA66-45C9-A28F-8D83968F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71DF-6FD2-4642-93A4-D0AE7DBB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15B1-6E4E-434F-BBC5-EFE86443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971C-0CCD-4D5A-B765-35D4ACAC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165E-F5CD-4583-8CFF-AC1D8C93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F91D-09AA-4D5C-94EB-F469982F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EFD2-3047-4A2C-BA3C-C19D75DA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265B28-8B40-41F7-B692-817AC3EC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B7FF0-5103-4561-ADF2-67E88828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4B5655-1119-4394-90A1-2E62D8DD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1D9825-E928-4DCC-9532-839C6666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061645-0DA2-46BD-940B-8AFBA09E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89C6-7C7F-4F7F-8111-BD1AB467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59D1B3-9523-4800-9CBD-73820A1A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F7C208-8A52-4992-A017-5657E4C7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53AC4-83AD-40D5-AE3A-2BCE6834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7E934E-ADA5-490E-A2E7-A1782E48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DF2F2-857C-4A65-B54E-35E1BD69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A7FCDF-3AD6-4D59-97B2-4C0B4987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09C5A5-2F63-4CFA-9AB7-A2D7FE9E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808C7B-486F-4A33-9DDD-209CF362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39A635-8A96-4A38-AD7A-B54C7ACB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1A08BA-A176-46BF-BC14-7D2EBCD4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7281-384F-41F0-ABD5-6CA50BF2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9C1509-908C-49AB-8763-09234FC5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B6C56D-A5C6-4AEC-9610-03BB2881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E8DD63-0F92-4DE3-A733-AB4F7DD8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07F411-9EC3-4D01-9D1E-4D0DC3F2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8A891D-006E-42F1-87E8-C76F0F53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D524D9-82D8-4B17-A736-1217E73B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48B504-9729-4C4E-B537-88145941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06DCA8-5ED0-4785-8E4B-94BB0B49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5EED7E-52C8-48E9-A01F-268B1480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5585DC-4567-4934-AC52-BA450038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9A7-5925-4E18-B911-F8BF9B88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86CE28-ACE3-4DCB-9794-CC5F831B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C71545-2453-4A39-A2CA-C223180B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AE9C9F-8B89-43E9-BE24-5E5FFC94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6350A2-1DCA-4DAD-89F4-F4D9E5EA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B3CC01-E244-4A1B-9629-BAC4E697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6041D0-D7EC-479A-B6CE-C7DC6238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D95765-D908-4E2D-97DD-892A8FB3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8D3B0E-BA38-41C3-A68D-8705C5CB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1D260A-0A9D-4456-B647-8FB492BC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A98A02-0D62-44F6-B795-EA085591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95C4-3F36-45C4-87EC-40B5BA68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7DA783-7A5E-43E8-8BCD-B1A4C1914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528A0-1631-4355-99B4-96CF5927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D4629-0421-4266-9E55-B71C420F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F6AC9-43E9-4AD8-83EA-0534777A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759B4-E503-4572-9571-8FF8030A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EBE48-DB47-4447-8CA6-8E8B44E6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776F5-C935-48C1-913C-315993C0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21DAC-9A19-41AF-82C0-1A3933CE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B0C94-5333-4551-8884-33379203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A239D-A45F-40BE-84A7-717F1819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1E9F-5A05-4463-9D40-B337F717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1D5A4-B46B-462B-8BC0-D513BB69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72890-FC4E-4E5D-9B79-04E2074E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4A203-4DAE-47D5-8D48-6A1F9BDD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B54E59-9621-4AC6-85BD-2345F983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CD4730-00CB-42E4-A6B3-1B60CA23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701894-CE8C-43F0-BECB-4A56697A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0D3F4D-4E85-40C6-9AED-3BD0D4D3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65A129-6429-4666-835A-9ADF649B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AC1D9D-AB66-482B-811D-D0DE23DE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43875F-DBCF-4828-AD47-A72072E6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5199-2E00-4C9E-A037-F6ED6BE9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EE8F4E-5CC0-4A44-9128-D8FE176E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63582B-6BE5-4065-98DC-6EE4ECBF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866A11-2FF2-45CA-BE6A-52F35DBC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1A5BB1-AE9B-422A-96F7-B1394233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E0679A-F707-44D9-96D5-9E1B6C2F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C3363-E8BC-464E-8975-90509C47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E8744-1B47-404C-9BE1-9C56C7FE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D9C8F-930E-46F1-9EEC-D6211246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533A7-BF9A-43C7-8B09-61519F6A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9E015-7C3F-4359-8E75-33BF7F17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0108-5D3C-4C6E-9E3C-FECD550A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BF33D-901E-49B4-A730-DB12BD71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60EFB-FDC7-4E02-A54A-16A8535B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53F40-37B8-47D5-BAD9-68561DC1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EFA2F-1028-4CE5-8C14-538991ED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7A0E5-0C63-4132-A465-4AEF06B7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E2A67-A875-431A-8D0F-1F61DF92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3AEFC-6035-42AA-B16F-146E27EC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80F4-2CF3-4468-9AD5-8E26F8D64D8A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456F-0CAC-453F-BA3E-10A23D807130}" type="slidenum">
              <a:rPr b="1" lang="nl-NL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hoe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hoe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2E89-3BB3-4370-A97D-87F982018B2E}" type="slidenum"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CC5E-E430-4C5F-B33B-31E53A601B8D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AB83-FE60-49EC-AF1E-35D53E294040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6A31-E709-47BE-9727-C681373B187D}" type="slidenum">
              <a:rPr b="1" lang="nl-NL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hoe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hoe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hoe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hoe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AF6E-2474-47D7-A369-9B63279FFEAE}" type="slidenum"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hoe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3571-01E7-416A-A714-FDFC3F3740CF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WERKOMSCHRIJVING</a:t>
            </a:r>
            <a:br>
              <a:rPr sz="54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&amp;</a:t>
            </a:r>
            <a:br>
              <a:rPr sz="44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BESTEK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ebddc3"/>
                </a:solidFill>
                <a:latin typeface="Tw Cen MT"/>
              </a:rPr>
              <a:t>NIVEAU 4</a:t>
            </a:r>
            <a:br>
              <a:rPr sz="3600"/>
            </a:b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isen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actuele gelijkwaardig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Uitvoeringswijze en machinekeuze is vrijgela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duidige bestekinform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houd en omvang van project is correct beschre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erichte inform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 en voorwaarden duidelijk verwoord in beste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Kostenhomogeniteit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e de geleverde productie en meer- en minderwerk te meten en te verreken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pbouw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1 Bestek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2 Inschrijvingsstaa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3 Inschrijvingsbilje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1 Bestek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onderverdeeld in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1 Algeme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ie, wat, waar, wanneer en ho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2 Be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el 2.1 Algemene gegeve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Tekeningen, hoogtes, peil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Besteksposten, resultaatverplichtin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3 Standaardbepalin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Vastgestelde bepalin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passingen en verandering van bepalin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Bestekspostnumm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Geen vaste codes, aannemer past aa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atalogusnumm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ofdc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oor CROW vastgestelde cod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Uniformitei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fic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oor CROW vastgestelde cod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euzes bepalen cod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Indien keuze niet vermeld; nummer 9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w Cen MT"/>
              </a:rPr>
              <a:t>CROW: kenniscentrum voor verkeer, vervoer en infrastructuu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m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Toelichting op resultaa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Arial"/>
              </a:rPr>
              <a:t>¹, m², m³, stuks, rol, zak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resultaatverp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baar (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verrekenbaar (N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accorderen (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resultaatverp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baar (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achteraf vaststell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en door omstandigheden is gro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verrekenbaar (N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voor aanbesteding controleerbaa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 is niet aanwezi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accorderen (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na opdracht en voor uitvoering op papier controleerbaar vaststellen in overle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 t.g.v. uittrekfout is gro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ter in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leveren (L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e aannemer leve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r beschikking stellen (TB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e opdrachtgever leve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2 Inschrijvingsstaa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Samenvatting van bestekspost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Aannemer geeft per bestekpost de prijs per eenheid en de totaalprij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3 Inschrijvingsbilje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actdocument voor aanbi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gevens aanneme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neemso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prijs meer- en minderwer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penbare aanbest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lgemene bekendmak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voor iedere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Aanbesteding met selec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lgemene bekendmak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melding voor iedere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oor één of meer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HOU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Werkom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ventarisatie en analys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nodigde informat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Bestek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Funct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bouw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uropese aanbeste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handse aanbest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oor twee tot zes uitgeno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handse aanbesteding met selec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melding op uitnodiging van minimaal twee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an één of meer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kelvoudige uitnodig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ijsaanbieding op uitnodiging door één uitgenodig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rkwijze geregeld in het Uniform Aanbestedings-Regelement (UA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Genoemd in dagen, betekent kalenderdage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w Cen MT"/>
              </a:rPr>
              <a:t>Werkwijze bij openbare aanbesteding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Advertentie geplaatst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aximaal 10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Verkrijgen bestek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  minimaal 36 dage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inimaal 19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Inlichtin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Inzage nota van inlichtin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inimaal 7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Aanbesteding 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aximaal 30 dage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Opdracht na aanbesteding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otiveren afwijzing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binnen 14 dagen na 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ontvangst verzoek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w Cen MT"/>
              </a:rPr>
              <a:t>Nota van inlichtingen is aanvullende informatie op bestek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Werkwijz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Inschrijvingsbiljet wordt voor een bepaalde datum ingeleverd in een bus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et openen van de bus is stipt op de aangekondigde datum en tijdstip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veloppen worden geteld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penen enveloppen en noemen van namen en bedrage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Laagste bedrag krijgt opdracht, indien er geen onregelmatigheden zijn voorgekome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Van toepassing op overheidsinstellin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inister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vinc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meen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Van toepassing op publiekrechtelijke organisati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utssecto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nergiebedrij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terschapp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enbaar vervoerbedrij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rempelbedrag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Uitschrijven van een opdracht boven het onderstaande bedrag verplicht Europees Aanbestede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en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everingen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iens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entrale overheid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4.84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2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25.00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centrale overheid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4.84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93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93.00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Regels geldend voor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elijke behandel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lke aanbesteding is gelij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Transparan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dure moet controleerbaar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Regels geldend voor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Proportionalitei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 aan aannemer moeten in verhouding met de opdracht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Wederzijdse erkenn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idstaten van de EU moeten goederen en diensten van ondernemingen van andere lidstaten toelaten indien de goederen en diensten gelijkwaardig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Stappenplan van e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aard van de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rk, levering of diens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bestedingsvor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totale geraamde waarde van de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ostenraming ivm drempelbedra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aanbestedingsproced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bestedingsprocedure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Stappenplan van e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4. Aankondiging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dracht melden Europese Gemeenschap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publiceerd in publicatieblad van E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5. Keuze selectie- en gunningscriter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Financiële-economische en technische minimumeis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aagste prijs of economisch voordeligste aanbie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6. Gunning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kend gemaakt in publicatieblad E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s verbaa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Alle werkzaamheden die nodig zij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m het project aan te leggen of te onderhoude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p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Tw Cen MT"/>
              </a:rPr>
              <a:t>volgorde van uitvoer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s verba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am en adres aanbestedende diens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et onderwerp en de waarde van de opdrach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men van de uitgekozen gegadig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men van de uitgesloten gegadig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am van de gegadigde aan wie de opdracht is gegund met motiv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FORMATI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stekken in de grond-, water- en wegenbouw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CROW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ISBN: 90 11 07536 6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ww.europeseaanbesteding.e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basis van een werkomschrijving is de inventarisatie en analyse van het project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Tips voor de inventarisati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Werk nauwkeurig en systematisch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Noteer de gegevens per hoeveelheid (m</a:t>
            </a:r>
            <a:r>
              <a:rPr b="0" lang="nl-NL" sz="2300" spc="-1" strike="noStrike">
                <a:solidFill>
                  <a:srgbClr val="000000"/>
                </a:solidFill>
                <a:latin typeface="Tw Cen MT"/>
                <a:ea typeface="Arial"/>
              </a:rPr>
              <a:t>², m³, stuk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  <a:ea typeface="Arial"/>
              </a:rPr>
              <a:t>Gebruik standaard inventarisatielijst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benodigde informati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te verwerken material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Bereikbaar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rondsoor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Fas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z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werkwijze voor het opstellen van een werkomschrijv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Inventariseren van de werkzaam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roeperen op werkvolgord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tailleren per werkzaamheid op: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eveelhe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enhe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achin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meth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en beschrijving van het werk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daarbij behorende tekeningen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voor het werk gestelde voorwaarden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nota van inlichtinge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n proces verbaal van aanwijz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schreven bij grote projec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Funct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Zakelijke en juridisch bewij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ontrac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Rechten, plichten en risico’s van beide partijen benoem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mmunicatiemid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formatiestroom benoemd</a:t>
            </a: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Uitgangspunt verantwoorde raming en calcul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stek geeft de benodigde informatie voor de calculat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Funct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Leidraad uitvo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Resultaat is beschre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at wil de opdrachtgever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lke materialen worden gebruikt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lke voorwaarden zijn er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Prestatiebe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uidelijke en eenduidig beschrijving op resultaat en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op 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olemiddel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oldoen aan de gestelde voorwaar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ontrole tussentijds en na oplever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2:50:01Z</dcterms:created>
  <dc:creator>Wellantcollege</dc:creator>
  <dc:description/>
  <dc:language>en-US</dc:language>
  <cp:lastModifiedBy>jan van der wiele</cp:lastModifiedBy>
  <dcterms:modified xsi:type="dcterms:W3CDTF">2014-09-08T18:55:43Z</dcterms:modified>
  <cp:revision>38</cp:revision>
  <dc:subject/>
  <dc:title>WERKOMSCHRIJVING &amp; BESTEK</dc:title>
</cp:coreProperties>
</file>