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F41A-932B-4C50-864F-DCBC35BE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88D-1D75-464F-8ADE-53035D1A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053-5802-4ED3-A47B-70DCD8C7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5035-68CF-46EB-826B-B3270896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4646-6285-4750-8294-E10D23F7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9E74-9DD6-4498-BEEA-EA63C434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7C56-5907-45B5-8917-D4CA165D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405C-1379-499D-AF9A-EA5EBA33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5746-05E9-4193-BDF2-20AFA521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8DAC-2735-42DB-AF87-778B56BB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B322-7591-4F5B-8A3E-2CFDE700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678C-E898-4560-B45D-22650A1C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D98E-91F8-4847-830A-05717109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E647-964B-4750-85A5-14E6A6FC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AD6F-D1C7-493B-939C-17959841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2D5E-C42B-4AB9-918C-50674A9B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2C18-F41E-46DA-B905-7481BA23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76C31-6208-4891-AAFB-EEFD3FDA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9D9808-962D-4FC0-AB90-EA620AA7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A5C43-145F-4328-A5CA-0181486D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E656F-C1AC-4224-B906-C8887E6F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750B7-604C-4D5A-BC91-FD70A90B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1A8-C51E-40CC-BA06-7949E56B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8F6EC-438A-4446-9920-478C2322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B77F9-AB89-488E-903C-A25554C8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357A1-EE58-47BF-B337-E07AE6D0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001140-4534-4F43-BD82-060383C6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F15FD-F6E1-4095-9DB9-86214E9E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B6C90-B246-4B89-B8EF-B55ED480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7D8C9-AF17-4605-8B32-6F20948C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1DA969-B883-43C8-81D0-00B55C16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BD60B7-7D7D-41AD-8703-9B635E67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E57EC2-4BA6-406D-902E-B164C3DF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96FE-EBB0-46BD-ACE8-488E5A3E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182442-E102-4E89-B761-7FEE1C2B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4706C8-E124-46A5-AE10-BE676080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7A21F7-4340-41A7-BAB1-F2953F62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9C6D2F-1158-4834-9FBD-E38CB671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7A3C13-866D-4A9B-8F1E-D0768949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3B546D-A084-40D3-92A7-5887AD04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0512F7-B969-48B1-BEA5-10EB12DF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43BEA5-21D9-4C95-BDFC-42D9E475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A9067A-34FE-4E93-8604-45C2BDB0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ADD9D2-0866-4FF8-A8FC-CEE5928B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9F9-E468-4111-9702-4E7A390A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4887F-DD7B-4C16-A4E8-90923AA5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472669-1EF7-49B1-A6B5-2260E393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266DEF-3ADE-4424-9FEB-D8E67C35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1925F-C499-4299-88AE-BA75112D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61A9EF-9E1A-43AF-96CE-7813E6CB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E2F09B-C613-4815-ADD8-E780642A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4364B-F8CC-4FAB-8A93-2ED64E9F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2576F-AF71-4EE6-A45B-393C4103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6EDAE5-DBEE-4228-805E-7B85F26B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7AB837-99C0-4244-A846-9AE5D168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9A7-D080-49E1-B801-980FD0C2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0FD19F-8FCD-4684-B810-9AD05A83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ABA31-439D-403C-8F98-150E9540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D015F-D0F4-4EA4-B41F-87E9D1F5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57085-E9F3-496E-8BEF-00CC11F3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21929-9E95-4F38-9D2A-51DFCCFA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C6286-AE72-49C9-A163-91A1A904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C42B4-C8B0-4A0A-83B3-5AC43310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12B66-F29D-4003-B958-4C0DED9E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AD1EE-2E2D-41AC-9EE8-72AFFBF9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1807A-752C-4F6C-BB00-AAB4B624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69F-30CE-448D-86AE-FA9B4EEB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6F088-0BA0-44FD-80D0-5017CF85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0DCFD-D41D-4F3E-8E5E-482EB2C8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6F47E-0501-4541-9E7B-6957B760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5713E9-0D67-452E-98DC-93305620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D31F78-EB0C-4CE4-95A0-311CA70F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311F53-5E73-4C17-8000-4910DCE9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2F65C-DFF3-4DFF-9B9F-A8E850DF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83F41E-86AF-4DA0-A78F-EB90D737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A11205-F913-4C46-8F5E-E2423B0C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6AA788-9238-42F8-8B41-F4030DCC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AD41-394E-41CB-A636-5C150D79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5F1744-92B9-4B69-B0EC-F0B83BA0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E96E3D-F86B-4CFC-8583-F17DF3D5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4EB6C-673B-4FED-B584-7A48BDC2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773199-149C-4DE3-8AFC-ADCCA85A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B9E74E-BDC6-4818-991A-84B1155D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5CCC9-C111-4854-868F-4D58CC1F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CE7F5-CE7A-4B91-9673-F01234A6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676DF-D59E-4660-B960-41C6E7C3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410C7-7DF6-4A4E-B7F1-D5D2F3A5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6C5A3-3CF1-4F63-B52A-3F784D74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70D-252E-4420-8142-BD717D88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14B41-98D9-44AA-92C5-DBCF68E4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8A8EC-8FBA-40E0-8561-179A8F32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24C28-F921-41C9-A88C-CC7D8617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66322-DC83-4EB8-ABA6-B6614D28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770B7-F544-476C-9101-13E51A28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C588D-7B56-4B14-8C76-C9922257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268EF-06F6-4A54-9249-3A9776B0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9539-9747-4D93-8017-6C25E7B51F4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9033-0BC5-4A40-A7C4-C8BBE20C31BE}" type="slidenum">
              <a:rPr b="1" lang="nl-NL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DF5F-0587-439D-A6F2-B6B2DD9CC67D}" type="slidenum"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1F19-7945-4706-925A-EE667966715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A5E0-182A-4986-B3EE-7B5AE8833A9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751F-BC07-4F94-80D8-5FAB01F6C27A}" type="slidenum">
              <a:rPr b="1" lang="nl-NL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B7D3-B843-424A-8F9C-30F9D652FF1F}" type="slidenum"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7879-88D6-4BC5-86A5-6FC14FA4D03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WERKOMSCHRIJVING</a:t>
            </a:r>
            <a:br>
              <a:rPr sz="5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&amp;</a:t>
            </a:r>
            <a:br>
              <a:rPr sz="4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BESTEK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ddc3"/>
                </a:solidFill>
                <a:latin typeface="Tw Cen MT"/>
              </a:rPr>
              <a:t>NIVEAU 4</a:t>
            </a:r>
            <a:br>
              <a:rPr sz="3600"/>
            </a:b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ise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uele gelijkwaardig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Uitvoeringswijze en machinekeuze is vrijgela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duidige bestek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houd en omvang van project is correct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richte 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en voorwaarden duidelijk verwoord in beste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Kostenhomogeniteit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 de geleverde productie en meer- en minderwerk te meten en te verreken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bouw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1 Bestek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1 Bestek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onderverdeeld i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1 Algeme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ie, wat, waar, wanneer en ho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2 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1 Algemene gegeve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ekeningen, hoogtes, pei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Besteksposten, resultaatverplicht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3 Standaardbepa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Vastgestelde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passingen en verandering van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stekspost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Geen vaste codes, aannemer past aa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atalogus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ofd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Uniformitei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fi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euzes bepalen cod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Indien keuze niet vermeld; nummer 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w Cen MT"/>
              </a:rPr>
              <a:t>CROW: kenniscentrum voor verkeer, vervoer en infrastructuu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m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oelichting op resultaa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¹, m², m³, stuks, rol, zak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achteraf vaststel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en door omstandigheden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voor aanbesteding controleerbaa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is niet aanwezi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na opdracht en voor uitvoering op papier controleerbaar vaststellen in overle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t.g.v. uittrekfout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ter in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leveren (L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aannem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r beschikking stellen (TB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opdrachtgev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Samenvatting van bestekspo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nemer geeft per bestekpost de prijs per eenheid en de totaalpr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document voor aanbi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gevens aannem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neemso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prijs meer- en minderwe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bar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HOU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om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ventarisatie en analy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nodigde inform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Beste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unc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bou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twee tot zes uitgeno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op uitnodiging van minimaal twee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an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kelvoudige uitnodig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ijsaanbieding op uitnodiging door één uitgenodig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rkwijze geregeld in het Uniform Aanbestedings-Regelement (UA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Genoemd in dagen, betekent kalenderdage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w Cen MT"/>
              </a:rPr>
              <a:t>Werkwijze bij openbare aanbesteding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dvertentie geplaatst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10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Verkrijgen bestek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  minimaal 36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19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zage nota van 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7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anbesteding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30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pdracht na aanbested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otiveren afwijz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binnen 14 dagen na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ntvangst verzoek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w Cen MT"/>
              </a:rPr>
              <a:t>Nota van inlichtingen is aanvullende informatie op bestek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wijz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schrijvingsbiljet wordt voor een bepaalde datum ingeleverd in een bu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penen van de bus is stipt op de aangekondigde datum en tijdstip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veloppen worden getel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en enveloppen en noemen van namen en bedrag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aagste bedrag krijgt opdracht, indien er geen onregelmatigheden zijn voorgekom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overheidsinstel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inister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vinc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meen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publiekrechtelijke organisati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utssecto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nergie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erschapp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enbaar vervoer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rempelbedrag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Uitschrijven van een opdracht boven het onderstaande bedrag verplicht Europees Aanbestede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evering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iens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lijke behandel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lke aanbesteding is gelij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Transparan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 moet controleerbaar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oportionalitei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aan aannemer moeten in verhouding met de opdracht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derzijdse erkenn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idstaten van de EU moeten goederen en diensten van ondernemingen van andere lidstaten toelaten indien de goederen en diensten gelijkwaardig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rd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rk, levering of diens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vor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totale geraamde waarde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ostenraming ivm drempelbedra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nbestedingsproced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procedure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4. Aankondig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dracht melden Europese Gemeenscha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publiceerd in publicatieblad van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5. Keuze selectie- en gunningscriter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inanciële-economische en technische minimumei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aagste prijs of economisch voordeligste aanbi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6. Gunn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kend gemaakt in publicatieblad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lle werkzaamheden die nodig zij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m het project aan te leggen of te onderhoud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Tw Cen MT"/>
              </a:rPr>
              <a:t>volgorde van uitvoer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en adres aanbestedende diens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nderwerp en de waarde van de opdrach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koz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slot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van de gegadigde aan wie de opdracht is gegund met motiv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FORMATI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stekken in de grond-, water- en wegenbou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CRO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ISBN: 90 11 07536 6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ww.europeseaanbesteding.e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asis van een werkomschrijving is de inventarisatie en analyse van het projec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Tips voor de inventaris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rk nauwkeurig en systematisch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Noteer de gegevens per hoeveelheid (m</a:t>
            </a: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², m³, stuk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Gebruik standaard inventarisatielij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enodigde inform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te verwerken material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reikbaar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ndsoor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Fas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z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werkwijze voor het opstellen van een werkomschrijv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ventariseren van de werkzaam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eperen op werkvolgord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tailleren per werkzaamheid op: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achin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meth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en beschrijving van het werk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daarbij behorende tekening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voor het werk gestelde voorwaard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nota van inlichting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n proces verbaal van aanwijz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schreven bij grote projec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Zakelijke en juridisch bew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ac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chten, plichten en risico’s van beide partijen benoem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mmunicatiemid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formatiestroom benoemd</a:t>
            </a: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Uitgangspunt verantwoorde raming en calcul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stek geeft de benodigde informatie voor de calcul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eidraad uitvo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sultaat is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at wil de opdrachtgev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materialen worden gebruikt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voorwaarden zijn 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estatie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uidelijke en eenduidig beschrijving op resultaat en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op 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olemiddel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ldoen aan de gestelde voorwaar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ole tussentijds en na opleve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50:01Z</dcterms:created>
  <dc:creator>Wellantcollege</dc:creator>
  <dc:description/>
  <dc:language>en-US</dc:language>
  <cp:lastModifiedBy>jan van der wiele</cp:lastModifiedBy>
  <dcterms:modified xsi:type="dcterms:W3CDTF">2014-09-08T18:55:43Z</dcterms:modified>
  <cp:revision>38</cp:revision>
  <dc:subject/>
  <dc:title>WERKOMSCHRIJVING &amp; BESTEK</dc:title>
</cp:coreProperties>
</file>