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B66-72A7-4B27-8F20-6F7B63E95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923E-E225-401A-BEA5-29634178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B0C94-2C5D-4B3B-A1C4-B8425FAC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F99B2-C323-4F62-8211-F6203F02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C04B7B-2AB3-4E7E-9000-2C09672F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644D5-4985-4965-B767-C6526C7B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10D077-9EAD-46E8-A98D-6D6E276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F9F28A-80C0-406E-97DC-42585BC57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55384-DA23-41C9-96CF-5D316F8E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D6C57-DCED-488B-8B79-EC9DA4FD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953EA6-74F4-4964-B986-401B45FE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E560AD-D6E6-4650-B081-581845A6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59D0-8C1C-46D9-B0B4-4C1F18AD5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4D357-7355-42DA-9CA3-A19D220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66371-4AFD-42E0-902A-651DC2AA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A43E5-97B7-45BD-AE00-A3C49063D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E47A3-0CF4-46D2-A35C-F733225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D651E-F42B-4F52-B72D-E27B7406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C98AA4-847D-467E-BF2C-BCC07F1E2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0A1254-BD21-4A4C-96A2-81C84D0B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FE746-6B0A-472F-B852-4A4B48E6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E17702-A56F-4EEA-A005-4D2C75E8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CB696-E558-46E4-B570-89EE56C45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1A1-D1E5-4DA1-B774-8BCC97DE5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4D91A7-EA02-4939-8A5D-4E8C9385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396FB-E0D8-495C-8621-C0832A1FB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2B235-0CAE-4BFD-9C4C-A8770395D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EBD68-01C2-46A0-BE7F-4900708F0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8AF980-B33A-4FF0-9553-CC21797C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58C1A-0575-4AF3-9B8E-48BDB783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3A4F2-852A-48AB-9FFA-CF00074D7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D1D16D-32BF-4843-8B8E-DDD57521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5DCE7-D08B-4C00-9A60-3BFA379C4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FFEC4-E531-4EEA-91AB-D1301AAE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ED51-3F69-4C22-B419-CC84D1C5A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FBB4EB-C90A-4CC1-B849-58BA77D3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48A805-9F78-4FBF-9F5F-B776E58AB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E167A-06CF-4626-B391-9653DF875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637B2-9764-46C8-BA7F-301FE4A4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147DFB-2397-45CC-A724-1D942B98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7F540-EB41-4FA1-8B51-E64A2584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006D2-2E54-403A-9BCF-316D62C66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0A17E1-ADA9-47EC-9D44-AD6A125CE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5A67D9-0D98-44BC-8F8E-1E9A608D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B8AEC-B40D-4396-A03E-9327DA39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BD1ED-2180-4AB1-A386-2BE55655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9865C-7B65-4117-B102-AD8A074E0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2C904-3314-44E1-B322-5474648D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79F49D-A597-47F1-B396-7A897BBE1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E05C4-C6FC-4E27-AE05-41BA4F0CC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12BE4-8C50-4ACB-83B2-980655F87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D8373B-39FB-45A8-A7E3-D420D1EB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AAAA0-8967-4C20-90CF-6E5BB45E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767A2A-0280-4BFB-9840-C0B53F93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21098-68C0-4196-B07F-356B976D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8F453-96EB-4E47-B102-175FF924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AF90F-1641-4309-BB5B-6E230A074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033CCA-22AB-46A1-8FF0-F50C66F8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52B0D-B73B-4EAA-909B-F73E6C98C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13514F-2A85-4300-8E89-FD977FFE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5BFA5-4688-4F28-B23A-B67C78B5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E7A91E-D3FE-4198-887B-F596DBA2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AD0922-8583-413E-8C5F-137F36A87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F1E03-ECB2-48A0-8A60-81CB76275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250992-C441-43BA-8C55-9545C1178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77CB17-B92D-4E77-B29B-8C6224A5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4A9EDC-467A-4809-A3EE-40AD2E36B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298C9-8DFE-421C-B58E-94BB34EE2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17B353-753A-455D-8466-B10C993B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0BB47-026F-45B8-85E3-3A29E2D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8F8856-E5EA-4007-8DE7-F83EB8A5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672F0B-3070-4941-9C31-831CF85E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411561-0FE9-4A34-B314-ADB07012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C5D9C6-3FDD-427E-B1B0-AD9D51031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3A0BA-AB9C-4F1A-B303-F373F809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09DE90-27E1-469A-934C-BD145686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5DB3C-E1FF-445C-80A9-89A9EAA59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DD65A2-2123-4AC8-B535-855D4515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577D8-98E8-4CBB-B518-654164E00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38B679-9B85-4DDB-B22E-942C8B4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E2DA1-F02F-4EF5-98CA-40F1C811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4FCAEB-8CEC-4982-8EC5-437EB93DD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7FD7E-28E2-4D0D-B102-7F5A8C234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38BEC6-B152-4F5C-B6D7-45D4225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E2D99B-6FAA-4EEA-91FB-EC9EA2DC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76D0A9-4654-474D-B128-F0759AFC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94C1C9-74A3-4F53-ABF6-6EAA0EDD7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379898-D541-48F9-9FC4-542C99CE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2C1C4-D9E0-44E4-8C30-D6E3CAFD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7B53A-5756-4497-8459-1D7F04DE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67476D-1A52-4D7D-BF9E-006BC5084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CCC189-577B-4981-BC77-D0E6996A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D609A0-C59A-4E0F-BBB2-2C313A7A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19959-35C2-4EF7-8F88-7F23884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B328CA-C060-45A7-B334-D58600F73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4469CC-7B23-40DA-9879-4A4C55EE0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3DEA5-555C-4F31-B922-647DA167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FDA564-AA27-43EA-8769-812621AE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00FB07-FC13-4388-A7FE-E10E7BB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A3EC42-4C14-4D94-A72B-718E1157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8793-5A12-4D49-BAF3-A8268F3A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8BD01D-7F8F-4660-8E37-47A82227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EE13AD-3810-453C-BC68-FA3AAADFA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DA77B-1C61-4BF0-A809-203A1D5B1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B89891-2222-4CC0-992A-0102D5005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D0593-799A-461F-BD62-27C49592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B9950E-0F48-434E-8CC0-BD303CC1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660F6A-6AB3-439C-BDEB-C0E9BB8C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142CF9-29B1-4F3B-969D-5630FEB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780E7-7669-4F42-981A-D3652FB2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AD7D8E-1A4F-4B51-BDE4-16CDD5B6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2C6-30E8-439B-A6BD-AA73F69A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09CB-ADE4-445B-868C-180CB460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A4BDBA-9D91-4C76-B03E-74CE4422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FA5005-5D82-4369-A354-845208334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5BC68-93A0-4D2C-8D4F-B7FAD1D2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C1FDA6-9F5F-4673-A0F9-9F120122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26076-1D3A-4C7F-BA28-79D77C20A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57F690-FCCD-48B2-BA02-71E753C99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4F5854-7D64-449D-9BAD-E913FDE7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8D4DCE-A70B-4549-8028-666061906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9851B6-F55C-4058-98C8-3CDAA328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20DEF9-A768-49D7-8341-B5254C43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400E-8463-472A-BA79-3CEF06FC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D6863D-6A05-4CE0-B0D6-B4A85DD26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998B8-82BA-40C0-8577-B683D6FD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F83B72-EBDA-45E5-94D6-8DE6AD2F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C9AA1E-A911-4E08-B4F7-7C96B052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C55A5D-181F-459A-BF53-74AF3CE3B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F3D2C-4047-4096-8860-84481567B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C2793-ED69-4B0B-883B-B236727FB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6EE36-70BA-47E1-A667-24438260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6C79-71CC-4026-BF7B-C93F239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2339-091D-4BB5-BEA6-7F355980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7651E-F063-4050-AD45-37E3C26B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9530D-656A-4D7E-9F2D-9EC87D60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F70F2-8B0F-48EB-B4D0-DA619160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87CE8-AE0C-4F20-AAB6-E4D5A868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0FAB6-F13C-49D0-96E4-1420BB91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4C9-B6B4-4508-933A-8B83EB55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D05A7-ADC3-4685-917D-CE3863D1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A9F91-98DE-4F5C-BB54-4BA785BA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E830-5DB1-49CF-85BB-EC9A42C3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5EB0F-2AA8-4940-B304-6FD07561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7E2D5-8433-4B2A-910F-2824BE4C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FD8E0-D471-4F26-BBF1-CEC583295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B01E0-6126-470A-A06C-72B0C098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0DE84-B5C2-465E-97D1-F29C4345C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600E6-A16A-4F5B-A14C-827E9790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F5CE4-7F1A-49D2-990F-7C296830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8E9-DC07-408E-8D90-034DD0CD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E550-C820-4B86-B170-E3E100FF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EA954-4113-4B56-A37E-EBBD5303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9970-8500-47E9-A96F-024A3842E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5315-9F15-4FE2-BB50-411391F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019CA-0372-4EB8-BD98-A790B9B9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91DD-1D62-409D-9CFE-E114D885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07338-7E73-4B19-B8F8-97536043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307C3-E07E-4F22-A4C9-3A24409E8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11BD-B2D5-40B0-A283-A6C8AC84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3E68E-0044-41E7-9670-351B28DC6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8DEF-12D4-4B81-BD18-2AA3F6F5C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C6BE5-0413-49D0-AD71-460484BF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84F6B-2E0D-48F2-9CC5-78ABF9737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4EFDC6-1856-4054-B820-487B52E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C39C3-4818-4280-A15F-4AAB5809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04963-7F0F-4568-AC2C-C3B966D3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EF492-8998-4308-B2B8-D1B48A6E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694D9-11E1-49F6-A9C7-EAFE5EC2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EE7AF-B2C8-437C-8FCA-B7672158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4D3D16-3F93-4CD0-B794-69164E6D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01659-4221-47F6-9EB1-F3657A735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DB9-2EEC-4DC9-91E5-2020FAE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6C7AF-282F-46BF-AFF4-3CC14E033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78572-E12F-491C-BFD3-760CC28D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43DDE-8F9E-456D-A717-314CE9048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596CC-2A06-4D4A-B78E-9206883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9BD5E-5D88-4059-A5AC-3E2440E9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4EFB27-5BBD-412D-A73B-F711977C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468CD-7760-4AA8-B9C0-42E7DDC8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CB90A-11D3-4E4E-A78C-4D69A013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BE38D0-EF65-4DC5-B87E-95837958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761790-5944-43AC-BEFD-B760A1B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881-4B70-4794-8E66-462060BF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9F875B-4E32-4E38-BCA3-AD398726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5DA9E-072E-4FDD-A67F-20A318B08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B10C2F-BDFA-4D05-B439-018E88EA4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FEC6C-4F70-41DE-ACC1-0162148DC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6DE4C-D7B3-45AB-8633-1DC78A605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B2CE82-2043-4379-8BA9-E94365D2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A9D17-E923-4619-AE4F-64D0D15A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CCE44-C31A-497F-B55E-E003E901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4FEC-6FFB-45D2-8186-4AD52E38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4CFC5-CCDD-47BE-8D2E-9305FBBF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C945-CB5E-4359-91AF-15992080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D9136-9F9F-4764-895A-981CB48A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37E4C-F8BE-4215-80A7-91478C7F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B2CAE-24CB-418E-A9AB-886ACFF5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27E980-B919-4C20-8FE6-7A5B79DF3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23979-ECF9-4A2C-AF45-BFD6E59A7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D80FC3-0B34-4FFB-AD21-D9D30EF4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1E86C7-AAEE-49D9-ABA1-64B8E2E3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E1FA3-06A3-4CC5-886F-C0CD66E8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DF27FE-4D6F-458E-B1DD-872C8F78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6D290-21B9-4354-B8F7-D2C512B1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883B-289C-4963-B21E-39AD114C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558F6-DCCD-4AE7-BC59-19D5B9409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9DAE43-BDF3-48EF-A9C7-9B248401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BA630-F048-4E1A-92F5-A1CA47EA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CEAD9-524E-4A1B-B9C5-1E527608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4AAD12-F5A1-4BB5-847E-619356E7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40457-E6BB-4B71-B5E1-8D8551BAC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7D0FA0-ADB0-4ED1-9E5B-E1511EA8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A64105-D60E-4494-A023-284A1D127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FF53A-9AF3-4F6F-B9AD-A8E6E424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89A79-92D2-4AA1-A739-B9C38521B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7DC6E6-7BAC-45AD-9AC9-03E734CA830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2934AC-3D2F-4AB3-805C-F803A47BE5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76C6AB-6A90-4EEA-89B0-7EF3CEDBB47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38013D-5D6E-4A59-AF37-C13CFFAE355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12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8" name="TextBox 13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2B03A2-9D83-4120-A079-CE57DC7D86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F5799F-682A-4B93-9490-D51AA8DB71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29266C-7D21-4CFD-8FBD-88F30774202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CC6903-C5B7-407A-9FEE-7F07D076D9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FCF43-0EF9-47C3-A035-53BC5451C8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3EFBA-2B24-4E0D-983C-5567637496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51C00-DEBF-4320-8FFF-3B9436B8D9F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343D7-9A8A-459C-ADE1-E302DC552B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37A22-3DB7-41F9-B1F7-028B88AC05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0E4C94-291E-4C09-B4E4-E339A2B579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C6745F-F274-4568-838F-DABD18EEDB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FB983-DCEC-4D86-BB04-2BAA18E7B3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BBC2C-E243-42C2-AD8D-CD18AD88664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262756-266A-4A5E-9BB0-DB42A004146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750680" y="1299960"/>
            <a:ext cx="8690040" cy="250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ffff"/>
                </a:solidFill>
                <a:latin typeface="Tw Cen MT"/>
              </a:rPr>
              <a:t>BURGERSCHAPSVORMING</a:t>
            </a:r>
            <a:endParaRPr b="0" lang="en-US" sz="48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1750680" y="3886200"/>
            <a:ext cx="8690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bfbfbf"/>
                </a:solidFill>
                <a:latin typeface="Tw Cen MT"/>
              </a:rPr>
              <a:t>MARKLANDUU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914400" y="619200"/>
            <a:ext cx="503568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THEMA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914040" y="2367000"/>
            <a:ext cx="53960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HELDEN, IDOLEN EN VOORBEELDE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FEESTDAGEN: KONINGSDAG, SINTERKLA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RACISME, SLAVERNIJ EN DISCRIMINATI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79" name="Afbeelding 3" descr=""/>
          <p:cNvPicPr/>
          <p:nvPr/>
        </p:nvPicPr>
        <p:blipFill>
          <a:blip r:embed="rId1"/>
          <a:stretch/>
        </p:blipFill>
        <p:spPr>
          <a:xfrm>
            <a:off x="6172200" y="968400"/>
            <a:ext cx="43815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3490920" cy="15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Tw Cen MT"/>
              </a:rPr>
              <a:t>VIDEO’S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914400" y="2367000"/>
            <a:ext cx="4076640" cy="34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PLITSING KLA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EERST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WERKSTUKJE MET VIDEO’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TWEEDE HELF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SOCRATIVE.COM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w Cen MT"/>
              </a:rPr>
              <a:t>CODE: F609C0D1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782" name="Afbeelding 3" descr=""/>
          <p:cNvPicPr/>
          <p:nvPr/>
        </p:nvPicPr>
        <p:blipFill>
          <a:blip r:embed="rId1"/>
          <a:stretch/>
        </p:blipFill>
        <p:spPr>
          <a:xfrm>
            <a:off x="4991040" y="993600"/>
            <a:ext cx="720108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31T19:13:54Z</dcterms:created>
  <dc:creator>Adela van Stiphout</dc:creator>
  <dc:description/>
  <dc:language>en-US</dc:language>
  <cp:lastModifiedBy>Adela van Stiphout</cp:lastModifiedBy>
  <dcterms:modified xsi:type="dcterms:W3CDTF">2021-05-31T19:49:53Z</dcterms:modified>
  <cp:revision>2</cp:revision>
  <dc:subject/>
  <dc:title>burgerschapsvorming</dc:title>
</cp:coreProperties>
</file>