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488C-5736-448F-BA76-59807DF5D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E03-8144-4ACF-AE73-63DFF510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E0FC1-E455-4746-85E5-357FD0CD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28ACB-8A53-4F4B-B4F0-7DB11661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107C2-C19B-4E8E-8096-DF08317C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5E0CF-9F19-4899-8FC0-52AB2C49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F5B01-54D8-4291-A730-D5DF679E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12915-0072-4D4C-8E94-54B9A6D9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3BE44-1163-4CE1-97FF-CC8C76D6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C6ADB-56E5-4A3E-AF13-53E21A62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CFACF-D92C-4AAA-B5DA-A3E82A05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B7A5D-A926-4894-82C3-702A99A7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959E-BF23-45A8-88BB-682E3930F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E5E09-1A2A-405A-844A-19162A0B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2C305-2E1B-4092-A7FC-5B57F4D8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0B3E1-083C-4F38-A02F-754170F6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E5ECE-8DEB-4CE0-9761-67DC82E2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8C05B-DD94-44D4-9B9D-A721FC58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E18EC0-B985-4A76-AC67-92635E18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89558C-99A1-47D6-A3F5-1F4AC191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45436-C42B-4F97-9941-D9560AFB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A7795-1ABD-411B-9CC7-C620815F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D16023-91B7-46CE-AD96-692AC8DC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9F76-A01D-43D1-86B7-0F600B88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E463A-02DA-470D-AE33-57079198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AD3B1-A874-4E95-B364-95DE11A3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66B1D-CF78-4CD2-B8E3-0B629849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D3060-DD62-42A7-8B86-FD7BC51D6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8332E-5B3E-4402-A516-2591C62F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81FD1-3656-4242-9EC7-FF424F6C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06613-70BE-4598-94C3-14050909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19E01-06C4-4107-8204-8D0B9178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9DB4F-B6E1-4864-BBB0-D01FD60D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8516F-4B4A-46B2-8463-A301B9D9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F768-5859-4C79-A9E5-FA824A68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DE8BA-AD9F-4B43-A005-9A1352636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31311-A826-4067-AEE2-74304CDD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D7955-1530-4B8C-B470-847F6A0DE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112E6-D57C-4D55-B3D5-59616E68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4EB9B-51A6-4AA5-8C44-71A2058A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52662-1AC8-4BA5-9012-E9E31C7A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9BE32B-C48D-43C6-B6A2-C409A170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DFFBF-5A7C-44E7-9955-1ADE1547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C3921-8AA4-4D16-AC56-27C4D457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FFD30-3858-4ECD-9D96-350F11DC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34A4-EF81-4045-A810-63526824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FE73F1-A582-4C2B-8CAB-7399DB0E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26C60-E91C-4A97-BAD7-7848DAD3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35C16-34F7-4445-AA28-F4532016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A5C93-AFC6-4622-9CC2-DE210840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5CB81-DB58-4138-B951-E78144BE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763AD-B82E-4D7C-BBE6-1E3F5ABE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46DB3-7EB4-4115-8615-FE0F38ED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3EE09-07F0-4312-9F27-D88593F4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8B4DC-87F4-4433-B575-8967920B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79BA3-7DBB-439D-9091-A0388302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7FA1-8550-45B8-AE03-C6A338FD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32CD59-9CEE-4109-8CF4-ED114CAD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D390FE-AA8E-484D-BBF7-33549C20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49DA5-83F2-47A3-9AD7-6ACDE419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99D07-FA98-4A48-B39F-DEF3BCA3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651EB1-9051-4B15-9F1F-170612BD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FCCCAD-AF22-44E6-AD66-E35A4736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2250C8-4471-43AE-B2F3-C3B90F894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4B3B04-4513-4FF2-BC69-01C85DC3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944B40-219E-480F-A66A-D60E8843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779EBF-EC97-4107-804E-B529FF24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651E-0B96-4570-A092-FD80B2F7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BEB04F-5530-445A-A608-F42462813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50B1F-5690-4197-85F8-A23BCAD5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A75351-DECD-4264-87D7-4311B3D5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D3D3C6-56A0-42AF-851D-D1CD7130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A5E5D7-6115-4049-8E9C-E0890D4A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E2C78-BED2-404C-8CF6-891000C8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2BC15-1EA8-4854-8033-A1AB8F6E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32BA38-E469-40A6-94E1-7457E5CA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084BD-4D2C-4686-B216-B54842C5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039AC2-1281-46DB-B707-1AF6CC939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1DB67-70F8-4BA0-A0EB-36CC4BC4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967133-0873-475D-8E55-B4D36BCB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0BA11D-F5EF-45A5-B74C-72CE216D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3E512E-164F-4C90-9F85-BB4815684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72B916-902C-485F-A0AF-30E05920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EEA9BD-071D-4E47-B6B9-7B0DBF90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D2DD6A-5552-43E7-9D95-251DBC4B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84CD27-C10B-4C67-8DE7-A5F13AE4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D0F25B-C34F-4711-96F3-68ABD179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DD897-21A6-4FB5-BC53-67FC199B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C356E3-294B-4A8E-9BDB-1B203F18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E18C-E2B7-47F9-A4FA-2332C011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38E07-6EBA-49FA-9970-171007A6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9080ED-E840-4124-81FE-915042E2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DBB269-519C-4409-A5A5-F2D2C5FF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4CA8E4-EC08-48E6-BAA2-1523842A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8C80E0-83A7-4C1B-84AB-FD4C83D4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FCEA6A-0480-41DC-B21B-2834619B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A3ACA-51F1-4EEE-85CA-9A1CD64A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0264BC-B78F-4F39-83B4-35E3DDC2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19B334-F329-4545-BA4A-F3679F31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141344-10A2-4AFA-ACEA-2AE1DE35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F06F-1EAF-4131-BC75-30EE7D3C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E1800-145E-41D9-82D9-8D9D9C82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8A83CF-6D0D-4163-A5E2-CD703FAC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399E7A-C0B0-479C-B94B-861F44FA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48448D-82F6-4288-9E59-41783106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76FA22-2FB3-4801-9E10-E2AD7902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D9BE86-7E21-4501-9C2C-419F8119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27F44E-A671-4D0B-9AF3-A4D1B2A1C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AD2CC6-F802-4C27-B8D1-7B6A73550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177945-E0B0-481D-BF9A-5133DF70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B740F2-1C37-4F1B-A506-3D9E933E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DD5-B9B8-4AD2-A73E-15D658ED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67F1-31CC-443F-9EC2-760DFA99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B768AE-3B6E-4A4C-AA4E-0A98BD83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D2F4F8-143A-4693-B02B-EBB8E397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60AED9-FF67-401B-9726-01C00620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E4D39E-8C2C-439C-8236-7314C4D0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6015F6-2FF9-4B88-8A3F-33FBD1F3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4CC588-8200-414B-ACB3-CD4348BC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908703-65E4-42C7-AD11-2367B3BB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03F385-58F8-4D44-B10F-D2B9A25C0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1D560E-C082-4422-965A-158E5B3B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47EB38-0B2E-4D97-9433-328D004F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DE20C-AF60-43EA-8D39-49780910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CAB517-1B8F-41E6-8C59-B2C6964D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8A2F27-A9D6-45A7-80B1-1A1D8936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B3B323-21C1-4D0B-9029-3AE845AF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6C5B5A-638D-4459-A26C-9D600CA8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FAE3A8-D9DF-4313-9F66-4BCD4CC0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60D6B-CB44-4F13-B122-407A9465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B7247F-C24E-4B51-8D9B-568B58F12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58B1-5638-43C3-A82F-2ABE76C3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804B-F3D8-4444-BC7B-2F249087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E18B-FAAB-483A-9574-D26459A4A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FA6EA-66CF-4D44-B974-1E11845E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04485-F37D-48A0-A6DE-04E4AB46F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6D06C-BB06-4749-B10C-A20495F6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42481-34D5-4716-9C76-F0C6D37A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01C2E-6262-4B0F-BF68-28304B45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1862-8C57-407A-998B-92AD1B68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1689E-DB1C-46E0-B569-D0AE188F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9BD6E-1AF3-4E64-97D7-C2126245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89CE-6BA4-48DE-90CA-8F1F5453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AF199-EF79-4124-8B83-A47AFD6A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44C39-AED8-46EC-966A-8D766535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0B968-D527-4EF9-9D04-ED050A399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B678E-3525-4139-A321-C3510498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734EF-5B08-45C0-9A14-126E096E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6521B-78A2-46C5-B899-CBE9E530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C4E93-739A-4858-9E49-ED6C6DEC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7587-E434-44D3-A549-80F71565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D041A-971C-41F0-80FC-8B52DD09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8F1A2-26B1-4EB1-904E-20F2622E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B6B53-9002-4946-A020-28B735DF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56887-E947-43A7-A29F-8063039E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3097C-ACC6-4286-ADD6-E44462B7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5FD8D-3A16-413E-9FAF-5F80ABF71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D9B72-5EA0-42E1-992A-4C3EF65E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64CD5-2EAF-4D63-A084-DF1481C70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D9236-D035-4A3C-A694-91B7F922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8E09A-A441-4515-A67E-4AF9AFA2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31A5-6B41-42AB-9A86-97BBF3D4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2456A-927D-4727-B6FF-2BB42983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3370E-405B-48F2-884E-F5D8357A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9D32C-6BC8-4ADB-A571-3057CC67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EED81-4AAC-4A56-90DD-E4C4E350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F9256-0F3E-445B-9D7C-74C1ED9B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93B01-201B-4541-ABDE-3659F9BF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8A98D-BF5C-4EEB-9CBB-4EF9B866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07346-6B8C-4109-B076-B754036C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88E4D-AF42-481D-BBE0-15D5D21C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9DCBE-D9BF-4131-ABCC-56D950E4D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0B1A-1D6B-42AF-A074-F15A4B78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BA2D7-24BC-4A7E-A794-F9E4BD659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A6A36-2E79-4F85-B7D6-C621C98A8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82CB0-74E9-4CA1-915F-8683D380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9DF05-43A1-4EC4-8670-7015B7C3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970A5-9105-412D-916C-A5C59BCF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B01B4-3EAD-4305-AC94-EEA8C550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4B7EE-ADF4-41EC-8628-0F694512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47182-C011-452B-87C8-189268D2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D44B9-471F-4C69-A7D3-755CA7F8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4E774-CE49-4981-A34D-4C566F5F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8ED-6A58-4295-A23A-4860BA9D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5262B-5293-40F8-807C-AA06F4F7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5668C-14A2-492D-9310-8684E06B4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A3309-1422-4386-AE0A-01653366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714F1-C979-4191-9FBC-7BC31211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B9E9E-9D50-4663-9D09-200BBC08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80EE9-F8E8-4BD9-9666-6AECF1D7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2EF99-B727-48E8-86C2-5263E705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3E217-E443-4F03-A9AD-7C27A8AE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3F3CE-3567-451A-8EE2-74E6DA5A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42695-FF7A-4D7A-BE7B-919AB13D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CC46-A163-43A3-84F0-48697074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2BA02-2AEC-4F4E-B168-651EE257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14113-C604-482E-A6C2-3300C0E5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D7894-CE25-47DB-8F0E-53EAD0B4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A0893-F4C4-4AC4-A782-A9C60E6D4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AE5C8-4621-48EC-9D22-EB96CA6E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089EF-9303-4782-9FE9-D8316C305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33A0B-8F66-44AC-B243-ED6A2A6E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7E57A-7EAD-4A19-B15E-615FA2DC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72B7F-101C-47FD-9370-E90F25C8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6D888-E85E-4BC6-8965-04403749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F699-FC18-4236-8737-FFE079DA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8611D9-34E0-41B1-B952-E0EA7169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FC2F8-F493-4B4D-9E23-FD5E05B3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08CBA-D258-4579-AABB-66CFA959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94563-BDB8-4039-9A11-FC134395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2E500-A752-40D1-B552-ACE99444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D34F1-E715-48C4-9B85-3053390A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9C176-749C-4178-A71D-F64C785D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2EB8C-A132-4A44-BB04-34B43320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477129-4E4F-407C-94CC-4B86D200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37788-3C75-4D52-BD72-46AB609D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6FCBE-2453-478E-8610-5BF07851AF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35181-AA09-439F-B12E-BEE422A714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DF4C8-8DFA-49D1-BCB0-2F4D184BF4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9052F5-D499-4AFE-8DDC-C502029239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2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FA1230-61B2-415E-B7A8-6B55EA030A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D1FD27-B8F6-4C6A-8E74-706C8259E5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B31391-3639-4A9A-8570-047EB8234D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53DC7-C0E2-4764-91BF-BF69076804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129BD-CD02-43ED-B7C3-12B75A9F03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6838DE-75BE-4496-912E-93A3F88171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E5344-0AC9-4FBC-AA10-84F955F818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E77897-149B-49E7-9B14-3DCD5F5EB0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F6B51D-FBC1-4901-855F-D13C97D337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5FECB-4D80-49C5-8167-F0602AD7FC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41BF07-7111-46CE-B17E-A3F280C42B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D050BF-BAD3-4F3F-B490-BE8F9434D0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20BAB7-3F0D-4EF6-8716-7D2F1DAC4E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804A4-8D14-4F6F-A8B0-771A208591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1299960"/>
            <a:ext cx="8690040" cy="25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BURGERSCHAPSVORMING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750680" y="3886200"/>
            <a:ext cx="869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bfbfbf"/>
                </a:solidFill>
                <a:latin typeface="Tw Cen MT"/>
              </a:rPr>
              <a:t>MARKLANDUUR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503568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THEMA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914040" y="2367000"/>
            <a:ext cx="53960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HELDEN, IDOLEN EN VOORBEELD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FEESTDAGEN: KONINGSDAG, SINTERKLA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RACISME, SLAVERNIJ EN DISCRIMINATI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79" name="Afbeelding 3" descr=""/>
          <p:cNvPicPr/>
          <p:nvPr/>
        </p:nvPicPr>
        <p:blipFill>
          <a:blip r:embed="rId1"/>
          <a:stretch/>
        </p:blipFill>
        <p:spPr>
          <a:xfrm>
            <a:off x="6172200" y="96840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34909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VIDEO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914400" y="2367000"/>
            <a:ext cx="40766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PLITSING KL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EERST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WERKSTUKJE MET VIDEO’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TWEED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OCRATIVE.COM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CODE: F609C0D1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82" name="Afbeelding 3" descr=""/>
          <p:cNvPicPr/>
          <p:nvPr/>
        </p:nvPicPr>
        <p:blipFill>
          <a:blip r:embed="rId1"/>
          <a:stretch/>
        </p:blipFill>
        <p:spPr>
          <a:xfrm>
            <a:off x="4991040" y="993600"/>
            <a:ext cx="720108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31T19:13:54Z</dcterms:created>
  <dc:creator>Adela van Stiphout</dc:creator>
  <dc:description/>
  <dc:language>en-US</dc:language>
  <cp:lastModifiedBy>Adela van Stiphout</cp:lastModifiedBy>
  <dcterms:modified xsi:type="dcterms:W3CDTF">2021-05-31T19:49:53Z</dcterms:modified>
  <cp:revision>2</cp:revision>
  <dc:subject/>
  <dc:title>burgerschapsvorming</dc:title>
</cp:coreProperties>
</file>