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D2A9-55D3-40BF-A822-8D355C6EB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72E2-7B0D-4678-9A35-8A2790A9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51FD95-CD07-4A73-BB82-BD85145E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527AC2-1C15-4AD9-AAAC-040FE57A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C653E7-E4DD-4C0C-902A-52502812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59DCE8-494E-4E8E-A754-0DCB42C2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06D2B9-15AB-4D42-A194-91C326AD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CF547D-C8A4-4215-9C69-0F8877E4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61CE38-4BF4-4D84-A797-43B9C333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4F75C8-9168-4501-9787-85D3CF808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2A676E-7336-48FA-BB02-9F13F84C5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C755D1-173A-4FCD-BF57-C04FA9943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78C4-C7EB-41CA-874E-C57A8777C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EC958A-101C-4E52-9187-D465B0A4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5385B0-1339-465A-8E9A-E1D73130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C2BBAF-4FC3-4662-A8C6-C49F6EA2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02187B-0845-4968-B2BF-A0CB8F9C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DC67F3-3A4D-4E1E-B03C-6B4EA7BD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921AD2-AB70-4522-978F-118F36F4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43166D-23BF-4390-B56E-A0B22F47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10FBD5-AFB6-4C59-B116-BC95B75C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45A4DA-7EA7-4661-8E70-356EFA66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52BDB1-38EA-4285-839A-33AB94793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A284-BF44-48E7-A658-7161D199F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D388E1-BCC9-46E1-82FB-22DB97E63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E257B-CFE7-414F-8672-9E07E47CC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753832-2259-4361-AA05-4B85F2B4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84D82-C9DD-426A-AF7A-9012FE58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C7348-1A13-4B01-ACBF-3B5A870A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BBC71-6BDC-4078-BF28-BA96E5FE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2DA9D-FEE3-4AA6-B431-DFCE44DD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F22153-ECA4-4A93-B528-0C71C52D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51172-82FB-493D-A7DB-E0D18042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E665FB-C9C7-48FA-9A70-C2C3D314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72A81-2987-4006-93FD-90FFD079F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696DF3-E70F-4239-B55D-6D40DF6B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D636D4-431E-4508-A7FE-C60762D18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E5917D-6D08-4393-8087-8F2D06E40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9EF79B-32BF-4607-B627-4E2622DA3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72143B-2622-4779-90BB-4675F750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EF5FE8-4E5C-4B66-A835-DCA5EAAA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A53360-646E-4630-BA05-BA98431F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874598-F489-48DC-AA04-DF8466AB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35A719-DAE1-4E72-B245-36A39F7B3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681576-667F-4318-A5F9-FB47F607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5941-C7F4-4F5D-ACE6-DD59B423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2AED09-69C0-4139-92A6-5FCA0AFD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02109E-7E06-4D98-8998-2BFB2A14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635813-5A8F-462E-8312-1839EA56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94D19D-4036-4DF7-B53C-C104D7F01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F33F62-0B8A-4E27-B4ED-4B6DFA1FB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C64EAA-960A-4407-9C34-14DDA1D08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235AF8-B934-4A62-B2D2-05891D90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B8409D-6F8B-4AB4-8F99-C1ABAFE9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C89CC8-6130-4055-9C4C-87E5BC25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ADFEA7-9E74-4284-A277-EBE375C4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E95A-EEE9-4D0D-9D1F-503B9947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8B2649-4C88-4887-A2CA-EDA98E32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7A06C0-280C-4F73-BDCC-FF9256C9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63CF0A-3948-4CAC-A7AC-6D6E841A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CDC0A7-0160-45CB-A779-6771005E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3A06EE-FA0F-4AA2-8AE6-B96E41D7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3B8CA1-325D-450F-A268-D94446ED8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7FD11E-A938-4450-BD3C-010948345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86112D-4B40-4039-B5BC-F757FA5F2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A83F11-712A-4444-AE26-1A21F32B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674182-C2BB-493D-A59B-60D89DCE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C1A3-CBF7-4D73-BAE6-7E0789F6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6CB996-5409-47EE-811F-DC75C81F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CC0990-A9D1-41B0-8CF0-20FA4DC7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27F773-687F-4559-9F14-AB040925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5EB19E-3674-425A-BEE2-1E89B00B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52D236-0C08-446A-B081-D75BB08F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2D7F88-9953-4E57-865C-C6C094F6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B13FA5-9714-41A0-8B39-9B21B92E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48B3C2-D015-46D3-BFE0-E6484B697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E38F39-EBDB-47B1-8EF2-4E63EC3C0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028079-03B5-462B-B093-32B1B037B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6C26-F126-4DD9-8C55-22E46337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5DDC3C-6A2B-468B-AEA4-8BF36E72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25FA2C-317C-45AC-B8F9-18052827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B897B3-D72A-43FD-BA5B-60549A9E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B65745-8E8E-44C2-93BF-58A2D098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CFB21E-6C49-4EC9-82CC-0A09DF3B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0D5DDE-9FF5-4EB8-95DB-AB4CFFA0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E794F9-B9C6-4AAF-BBDA-72727E03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2BEF33-6BA1-40B9-95C7-6C9B220F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0327F4-02B8-43C6-9B42-9571B977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B09660-CF78-4EE3-86AF-A90F2E4AD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C52DD-28C6-4132-96DC-396CB3E7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DDB54B-FFBF-4AA6-B1D6-50ACC7FA6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E91CEC-D89F-4A35-A0F9-D30FF8D22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18FD89-D08C-47D8-8EA2-341305E9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1E7B52-7393-4C0E-B3B2-B3E1C64D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3CBE51-7B05-4C04-8F6B-0913EEEC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2A5494-8AB3-48C6-B121-8B79433F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6F6936-40D2-41E2-A92D-FDFF3A90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ECD4A6-6E19-4495-8DC3-662B9AE8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D9367C-3EA4-48A6-86A3-27D70B16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DF0DC8-83F5-4252-A866-70D4E1AD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71C5-EB1B-4692-97BC-5789B1FA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AE04DC-3973-41F5-B821-C67E938B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6943BE-F005-49C8-8320-0CE37E9A2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03E44C-FF57-440F-9960-A9BB12C15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72E060-B651-42AB-9A42-EC1BEA49E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691AC8-D47E-4ED6-A6B5-FAA012BA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0798B5-DCFF-4A6A-8538-1CFEA9BB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223B01-A654-4896-A409-F89649C5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32F2F4-50AA-4D30-A6F6-E711FDFE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442B52-9670-4318-A331-136D128C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F92BFF-C763-4A31-8B42-48204C14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908F-4EA5-4BBE-9104-58C2015C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E9C1-0449-4F76-828D-5217FFEC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4F02BF-B217-4201-81F1-01186CF0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825670-6806-45A8-A88C-ADEF7BB1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B16206-88CC-4215-B99B-2221DD2B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159E73-85EC-4C30-B515-0EB3E4C63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ED28AE-5819-4246-A953-00A7DBC92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2F3CA1-6747-413B-9818-525CADE5E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679D67-7338-42AF-9EC0-41993A65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BAAF07-9CB3-4ECC-9AE6-10CA3C7A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3549B9-054C-4427-BE29-753D6CF6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684AA8-FA33-4D44-A83E-0977E315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BCA0C-DE4F-4215-83DF-1C635FC5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1A8E0A-82F4-409F-9E6C-C0715132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35D500-84B0-4ED8-96B2-481448E8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75FC07-CC3F-40C5-B820-484838DD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C3A3AC-6FDA-492A-AD81-517880C3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3153CB-338C-4EC0-8B63-1485FFFD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FC53CD-EF23-4B0B-9657-7AD371195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47061C-011E-43DE-B97F-A608B1478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8D82-B385-447F-8C1F-EBC7F55E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8BC3-C793-4CB0-8063-2A80E15C7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38C2E-981A-4243-8F82-57D227706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FF3D0-365F-4453-8F0A-072A1BF0A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64478-7496-40C4-B91D-13C11420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29710-211F-4E50-8453-B54A75A1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07E08-AC0D-4BA3-A78D-9A055E61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D8976-0046-40D5-ACF3-6721FF29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4F38-9281-4A2F-B4D1-C83ABAD4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D41F4-D08D-4ABB-A036-5B3D8017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D4C73-55E5-4F28-90D5-DAC6348F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D0F11-2FB2-4527-8B74-8955906F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98C16-A95B-4469-B285-78FB0D58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706C1-DD37-4DA7-B122-5D080E9E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9426F-D120-403A-A9A9-448E69754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37111-D0B2-4C75-981F-9EFCB42CB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F2828-AE92-4CCE-B79A-EDE0BFDFD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96B4F-7BDF-4BBC-BCCD-7954FB4F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0A9FA-025D-4A45-98AE-160419E3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0E3B-9568-459A-B3BC-DEAEA979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0F3C6-2BB3-4450-A30D-6114C1F4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F2898-6839-4CD6-A341-8C038C72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B6823-754E-4C60-94E1-B55E2F16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169C3-7A31-4EC1-A83C-9A30A841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FE995-1CE6-46EA-A55E-9024736B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80EEB-0906-4825-936C-8A7D79BF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1D200-A946-477F-A96E-FD263BC3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1A960-E54A-4DD8-8987-0EF0C9A61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0B84E-76B4-4859-BE5A-B512575BD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9EEFA-7EA8-477E-A5D4-3DD96DC70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BEF6-2D11-4087-95A7-ED129938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2AB0C-3F07-4D03-AA78-0844EE91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3D46D-2EC0-4844-9FF7-4F080081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F2AF6-1CF5-4380-902E-CBD231DE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CA18F-3ECC-40D3-805F-1577D53F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2BA40-C449-436C-A9E4-A5637B85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F414A-9C3A-4B8E-A37C-0CB5CD2E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14FB8-5F4E-49D2-9C9F-052209DB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13468-64BB-4828-B4B7-293E0B79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0F40F-4B7E-43F5-8810-F68F6F218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A1028-1F68-4637-B32E-4C30E4B12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AA6F-3083-4EAB-A67A-D84F834D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CB629-6EE8-41DD-B216-22E28360A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8E1E5-E3F0-4AC7-8461-FA8653DBE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43CF6-4747-415F-A35B-99B7E5F9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A670C-54F8-4226-8FD8-4D10F63C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E73F2-5EF9-496A-BC63-E0771FA3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8CE3B-CAEA-41F0-8E5D-2D5E8E73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ABB37-5D6D-4BA1-803A-318E723D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C9B63-D19F-4BB9-810E-0C623D50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623EC-83C3-4F81-88D2-2213C5F3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7A942-150C-4FDB-9732-B8BF4FA2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45F7-EE59-4D43-8FA9-5D79738D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5F519-4B8F-4085-A054-D458B026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5D530-FABF-4234-B35A-01766F96C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9571A-E7C4-44F3-8778-AD74FA8AC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44A9F-95B7-4E71-B9DE-3ED3806D3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1CA98-47A5-4C54-9159-4CA5E5F4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077A6-81E3-46E0-BAD8-1C3D3C70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98275-2C2D-403B-A6EC-95567566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11FFC-08F0-4CFA-AE43-1355876D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875B3-922B-4CA9-888D-61F061EB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93779-ADC8-4356-9197-108C2299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A745-23A5-4F81-B6D8-E775E8ED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0AC87-44DE-4B04-8A26-D7FE6DFC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10A45-2346-4AAE-9D30-1B0B9723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AFC95-4287-4F3D-BD87-EEFEDF21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6E22B-4F2F-4211-A779-F44BEB123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A63BA-AA42-45BA-ABDB-E017CDED7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E773C-89E0-4C47-B4FB-D76CD1EF1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F15D3-0C77-402B-BDC3-AC1F7F4D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D9C17-FC64-4BE4-A784-35EDFB45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67133-6727-48D1-B921-E5D4F965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8BF74-3F4E-419D-AD12-5E747E4C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7C8D-8569-4E59-AAFC-22C27BDD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9DC2F-9476-4D0C-A71B-0E6B7461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E7DD5-E079-4A7C-A00F-48B4D3AA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ACFE2-94DA-4959-BC78-AEA69984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5A2F3-C186-43DD-9AA8-FC3220C4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928B2-CD6B-4F98-9C10-7407DAE2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CC9E9-FC3B-47ED-8584-D7AF2E338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48228-7C4F-4815-ABFB-1A352ED08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DB4CE6-5C60-45E6-B1FD-E70D64FF5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AF9D75-1CE6-48EB-9911-660E9647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5350B9-75E8-4E78-AF80-EF4BAED4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D4FFC7-0868-4AD2-AEC4-C0E9BF0C6E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2875DB-98CF-425A-815D-66678AE1FD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A2ED81-FA2F-4FC8-B57C-468C622D1E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F7FD0E-4404-4CD7-9AC2-F1B84168F9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0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12"/>
          <p:cNvSpPr/>
          <p:nvPr/>
        </p:nvSpPr>
        <p:spPr>
          <a:xfrm>
            <a:off x="1001880" y="75420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w Cen MT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8" name="TextBox 13"/>
          <p:cNvSpPr/>
          <p:nvPr/>
        </p:nvSpPr>
        <p:spPr>
          <a:xfrm>
            <a:off x="10557000" y="299412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w Cen MT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D31EEC-0739-4C81-8E25-BE43EE4B57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282925-8B44-492B-84C5-92F999FA5C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2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014A9D-2B97-4AEB-AA85-E4C27862FD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5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895865-EDF7-4C48-A3CA-5BD887844F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705854-8971-482F-9493-05CC3856D5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8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CC4E95-9E0C-49B3-A9FE-0CFE13F5AD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Droplets-HD-Title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105D97-701B-4FEB-844B-4208A334D4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95F065-D81B-4299-9D19-AEC09198E9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7BE074-A9F5-4CCF-87E0-FE63382397C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40F18E-D2F4-434B-A47A-F45C2CA4E5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87E05C-14E0-4153-B82B-08BE24CD75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6E8334-268F-43C8-90F6-AE3BC97ADA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8B9A7D-BD0F-4CF4-8A2C-1BE188CAE8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0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ADFF74-581B-4275-BFDA-7F03A401A8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750680" y="1299960"/>
            <a:ext cx="8690040" cy="250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ffffff"/>
                </a:solidFill>
                <a:latin typeface="Tw Cen MT"/>
              </a:rPr>
              <a:t>BURGERSCHAPSVORMING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ubTitle"/>
          </p:nvPr>
        </p:nvSpPr>
        <p:spPr>
          <a:xfrm>
            <a:off x="1750680" y="3886200"/>
            <a:ext cx="8690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bfbfbf"/>
                </a:solidFill>
                <a:latin typeface="Tw Cen MT"/>
              </a:rPr>
              <a:t>MARKLANDUUR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914400" y="619200"/>
            <a:ext cx="503568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w Cen MT"/>
              </a:rPr>
              <a:t>THEMA’S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914040" y="2367000"/>
            <a:ext cx="539604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HELDEN, IDOLEN EN VOORBEELDE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FEESTDAGEN: KONINGSDAG, SINTERKLAA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RACISME, SLAVERNIJ EN DISCRIMINATIE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779" name="Afbeelding 3" descr=""/>
          <p:cNvPicPr/>
          <p:nvPr/>
        </p:nvPicPr>
        <p:blipFill>
          <a:blip r:embed="rId1"/>
          <a:stretch/>
        </p:blipFill>
        <p:spPr>
          <a:xfrm>
            <a:off x="6172200" y="968400"/>
            <a:ext cx="438156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349092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w Cen MT"/>
              </a:rPr>
              <a:t>VIDEO’S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914400" y="2367000"/>
            <a:ext cx="407664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SPLITSING KLA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EERSTE HELF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WERKSTUKJE MET VIDEO’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TWEEDE HELF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SOCRATIVE.COM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CODE: F609C0D1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782" name="Afbeelding 3" descr=""/>
          <p:cNvPicPr/>
          <p:nvPr/>
        </p:nvPicPr>
        <p:blipFill>
          <a:blip r:embed="rId1"/>
          <a:stretch/>
        </p:blipFill>
        <p:spPr>
          <a:xfrm>
            <a:off x="4991040" y="993600"/>
            <a:ext cx="720108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5-31T19:13:54Z</dcterms:created>
  <dc:creator>Adela van Stiphout</dc:creator>
  <dc:description/>
  <dc:language>en-US</dc:language>
  <cp:lastModifiedBy>Adela van Stiphout</cp:lastModifiedBy>
  <dcterms:modified xsi:type="dcterms:W3CDTF">2021-05-31T19:49:53Z</dcterms:modified>
  <cp:revision>2</cp:revision>
  <dc:subject/>
  <dc:title>burgerschapsvorming</dc:title>
</cp:coreProperties>
</file>