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00E-C3EB-4D13-B842-304550C2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EA0-0DFA-476D-AE9F-18320873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1E925-6BA1-4A4F-8979-387484E7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D05C5-4835-41C5-82D3-0D41E9E2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1577B-EE73-4BAF-AE5D-F1E0644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6BBCC-869D-482C-8CCA-EB1C47BF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BDC49-823C-4531-8D06-E3DEB315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198F9-7B71-4257-8CE2-ACF46ED0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7C64F-1FD5-4584-A3DB-D3AB3748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6583F-C001-48E8-BAFF-6E6D9667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1AA35-3DAA-40FB-9AE3-E04DBDEE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9FE19-40CB-4FDA-9A0B-385B8440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08E-BCE5-40B5-91D5-294B7187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42986-9F73-42AA-9AD3-657D92FE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77403-9CE4-468B-9C25-5452A66C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B1BFD-9139-4261-94FC-64A115A5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7E208-3BD5-4D51-8B34-11229D88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72FE6-80EC-4976-84F4-6981B5E5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93FD9-4E4E-4EF1-9248-572DD18E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EE3CA-B57B-4595-83D1-2C8E1B13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D12EB-9B61-43FF-A6CA-C7A4B95F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CB021-676E-4269-8A91-C9D3BC5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3DC76-DBAB-45C5-845F-2B0E6FC1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BB8-DEC2-4D4B-8DB8-6ABAD6F4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4478B-71B5-4CDD-843C-D4E76810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8C276-A1ED-45F0-92C3-390192C4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21B8D-431F-48C5-91B9-648A0A1A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F63F3-28F2-417E-921F-53F63F70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329E4-11D1-4CAF-8DBA-6A0333A1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4FE83-EFC6-4F34-96F4-96A893DB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A7EFF-26FC-4981-ADE4-71C6C5A0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88961-A77D-491D-810D-34803039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2B9B0-9D24-45C5-B49E-6BCC57A5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30632-5857-476D-9036-6999BCE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6468-F6C6-47D4-AE49-4F58CE5A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BF04B-DE83-4EFF-988F-85339624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156B1-7EC2-4173-B895-B99DC6CE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82F7F-8FF0-493F-8C0C-28EB53BD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A414E-49B0-49D5-9829-E102DCAF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01CBB-C5BD-41B3-B217-81476AA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67A8B-E022-4120-88DC-DB7C6D19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81FB5-7959-466A-914D-1D6F421D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126AB-B0C8-4A19-9665-72CC413D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39262-47D9-4D6E-9636-79229BEB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6CCC6-2FDF-435D-8E54-2A8390E4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333A-8569-475E-8306-F970A45A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8564C-85F7-4A08-B333-D6B9FF65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8D56E-BCD1-440B-BF18-4EF27844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73EEC-1492-45CA-8E45-42E0E416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9FA69-AD89-4F7A-B10A-1211985A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4A369-B71E-4634-A3CF-6EBF1960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B4305-0A95-42AD-B17C-F7C0ABCD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3E9FA-28DF-45A0-A570-61E1ABAE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01BA6-AACD-456C-91E4-2BBD351C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E9AA5-54E9-4340-8236-7684636E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BB16E-9050-4593-9399-8D96560F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9C91-2438-4905-A5D3-E0B1B0DF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2EBED-F05F-4436-898A-963AFED2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48991-C6BF-41C6-BF6C-EDD2B2E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C4595-EFE9-40D7-B95E-CEFEC93C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2E128-15B0-4E79-8660-588E553A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D16CD-464B-421A-8CC1-E3584CA1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A992C-F3A8-439A-8C97-4412A6D3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CBB15-4F67-4283-9738-62B8436D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C3D97-FDF7-4884-9E40-0650A7DE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C8CA7-9115-4663-854D-E6506482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CBEDE-5D3D-464D-BE87-B9B4B9C2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C486-0B38-487F-95AB-E9A8CFD4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0663F-99B6-4EF5-A7A7-DA2DF7CF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C7154-55DB-4FD4-A926-FC2AA11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F251D-2815-4347-9735-0E7588C4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B4906-244D-470F-94F3-BD936FE3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5238C-FBE3-4CEA-9531-4BD7AEB3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54B8B-1418-4112-A10A-743A12F3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351C3-201E-4A0F-916D-0A0E0C78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F8353-77C1-43D7-ACD4-16C53BB9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B476E-B16A-4685-BB5B-45EF8B0F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AAE4F-34F7-4B6F-8BDC-48E29157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7615-3495-4ACC-A195-EBC1849A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8CB16-CCE5-4B4B-A045-46F359BF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537C9-245E-449E-AFBD-F29B647C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4BD23-6F4B-4D70-B6FF-33D99C6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CE0805-7075-44E1-8BD3-62CD3FF3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1ED69-7027-4BF2-A526-4F60C6AD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5FA2B-3077-45D1-A208-3D04B98F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5A8D3-59FF-4C37-9216-AB9804EE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FDE5B-66C3-4365-845F-13CA5C42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23787-ADFF-4C2D-9B2C-4C12FD3A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4ED78-E43F-452E-B891-302FF7E1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9D23-0A19-44AE-BBEF-88C1B653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31D78-1B48-49C0-BF87-18107E79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2B244-02EB-4CBB-B3C8-FCDC3241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9CC27-F3E4-4A0B-8D4C-2D3DACD4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4FD9FB-10F2-44C6-8F49-1A85CEE0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7C410-ADC4-4F2D-8002-3DF71F8D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5BF41-E77E-41E0-B50C-AF2DC0D4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B138D-E5FA-4BC1-B2EB-FB0835DB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DEFC2-29B2-4C00-AD60-7759C95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E4635-79A2-41AF-B386-E37498FD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67830-1DAA-4AFC-815D-B62BCC85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7016-4028-49D9-A4F9-83923A35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D7E41-6162-4A67-962E-A6BF155D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A7DCA-53FD-432A-818F-32EF20C8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48917-DF73-4E7C-9615-6C2E5E74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A58C1-022A-4C93-94F9-6EFE41F9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C1666-9B10-4B7D-BA93-8BC2DA10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2888F-EDC8-4451-AE07-4EF75ED4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FD1EA-1F82-475D-9345-CDC270CF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25DA1-9A7B-4E3F-8929-9FD6296E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BA0BA-C636-4377-AEB0-9EB12B1C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666624-CAEB-45B6-859E-27B584D0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075-BB6A-4535-8A93-AB970B54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6101-4774-4340-89DC-D1F088D3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6F278-0DDC-4403-A78F-B0F380B9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12D8DC-B27A-487A-8B27-294F4B43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4AF37-496A-423A-95DE-CDC927D6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FBAF3-FA0F-4BDB-8C18-732CA804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657D0-78F1-429E-9AEF-6BBB2D19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A23C8-D5B8-4E2C-91E4-2C0D76A4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DA6113-F78D-4170-85D0-4382CFD5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092FF1-9483-44EB-B42E-68BF4535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0222A-03BB-4194-8F24-F62D600A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032AA-68D7-4196-88CB-E6C4D249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F8A9-FCB8-4C56-A737-0C0E04BC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5165D-E975-4A73-8598-0F4B03E3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45712-1E88-4929-94B6-60669BD5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1CB7DB-3DB8-40F6-B923-2384DE23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7A803-43B6-44A1-B289-74A8C945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313D6-6D43-4A02-B8B1-89A8B18A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98341-5689-4EF9-A77D-33D8945A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D8EF38-D9EE-4765-9BB6-5DD2AF73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6C7A-5DA7-4313-B277-686C1F6E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0767-12E0-483F-B079-5F318050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5F3C-648E-4947-BFBB-271E4702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2733-9C18-490D-AEBF-075AE4A6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36E3-1700-4D6B-91ED-874B9197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AF44-A8EE-4B53-BD05-6139807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755A-6133-43DF-A648-E51D8967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2929-1AF6-4D8D-95D5-169DF654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24E-1C1D-4326-87D0-07F6CF0D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AD9E9-EA24-4502-9D7E-EEC0A023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B1FA-4018-4373-A8F6-8D2021BD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6705-3292-4369-AADB-E835B583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20E5-DD74-4C6C-B8A2-828428F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9C80-2EDB-43ED-854B-AA1577A6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CEA2-BE8D-42DA-9750-5E5FDE5D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2BC3-C90F-4539-9BEF-3589A7F5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F5BD-219B-4197-B897-D2785A3B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6B77B-CFC1-4060-89AD-FB04F019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8710E-BA1E-4492-BC59-6563DE15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39F-3B9B-4579-827D-E6B2720D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40337-EDD0-4F03-BCC8-3BE30B00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59E87-36C2-4A48-B9A5-BE4B11D9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655DF-AAFC-4EF7-96CE-42C5A611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04EED-2433-4976-B6A5-DA77FE4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538F1-88B2-4902-A088-924C8F4B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55F9E-214A-4E0D-85D2-E2D7AC73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21690-3A4A-4D69-93C7-50577F4B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E5A12-13CB-4491-BE64-6B02FB8B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7DE3-C101-4A87-90DF-EC5547D7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FFB69-80EE-4BE7-8DAD-BFAC931E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747-F846-4B9F-9D1D-DA3A0A06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EEC28-52A5-4423-A35B-5CDE272D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58306-4DB4-4DFA-AF94-47A27922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A12B0-65B6-43B1-8FDD-D40330CA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7A34E-7F8C-4010-A6B0-1418003D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B4653-5D37-4EF6-9021-01D5D544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3EEAD-2464-4162-ACBA-D920B887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DC89B-8C1C-4228-BC66-1B86336B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8A11-22CD-4C65-8B0C-E2BCA550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1C9F-D705-4703-9C4D-2D571384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5F78C-CC52-4CFD-8CAA-E943C233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C9C-908E-4EFD-8574-D00A1C58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52048-155C-4E47-8552-12840506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ECF7F-4AE5-4ADC-83D9-27B20E26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50EC-6F81-417F-B413-00343579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F7E17-9BB4-4189-8F71-BE6EFE5D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42531-F142-48F8-867A-652D3CC1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048C-2611-4B4F-BA51-9B0A7FA5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1FF85-C936-4F3E-AD54-2E9E548C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248E-3E3E-4846-882F-4EB2C09F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CB875-3CCA-4B7A-978E-1B849868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008C-BF54-4544-ABCA-5645842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2B3-057C-44B7-AAB7-C82A27AA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D995-CC59-48BC-8CAB-2E37D646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0A8E1-50C8-45AD-9DB2-018360EF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B48A7-9FFC-44E7-9B24-B566976B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3603F-913C-4923-A2F1-089C6C3C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AF02A-4B1F-4835-9D34-E28935D5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C7705-782B-439A-825C-F8FE414C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1A563-BA0A-4044-BFDF-6A9EC7DF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C9982-D78D-4CE6-9C96-4DF2A479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FCEE5-038B-4C2D-B6EB-1DF386DF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4C03B-E73B-45F8-BC67-A727626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861-750A-49CE-8480-199280CF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F869-AEB4-421D-9F04-6952B5A2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045A0-D1F9-4800-9CE4-64697394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9559B-2CEA-41AD-B686-7879D880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CFCD8-0867-4388-A333-679A3F37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F481A-8EE3-4604-AAD7-BDD20505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9F181-5F97-41DA-8CE2-0F45839C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92F97-06BA-4E92-AC7F-C209EC4B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3F9AA-53D3-4B12-97FD-9E50DD4D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64AA3-4DFE-4DC0-AB84-CD2D2FB5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DD365-1DE9-4E1E-B676-E42E555D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0FA-98BE-4778-8491-1FFCB8F6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160B5-6F80-4AA9-A0A5-AE70E24C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97339-0C92-475B-92FB-078A62F5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E9417-A145-4B73-91D3-D90EF504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88082-A217-49A0-8ABC-5A2FB873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E650D-A4DE-46D3-BF18-BDEB96ED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78848-3566-4D7E-827F-4B8E42D4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2ECB9-9660-4C24-9091-30360505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0DACD-7007-4BC3-ACD1-D2CAD018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3B7B3-5223-4694-B203-07E14B9C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830F9-F5C2-4DF9-A533-24E70614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60875-44C0-43C3-A185-F710E2B0F2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3987C-78C2-4D75-BC50-BD060A321E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6DEEB-336C-400A-96AD-DBD4A50A9E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BCFBD-A272-4F84-940A-73206FCD76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D4119-E4FE-47BE-8A56-D9F627F708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5C64B-CA55-48A1-AEAB-897D6FA9CD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4AFB1-97A1-4E9C-9191-2B249CC57D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1B1F2-9C46-44EA-BB57-7877202354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3A2D5-2AA1-4C2E-866D-09E8E5615E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1FAB3-6F0E-4663-A171-748D381DE3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4ADB2-A694-471D-B644-421677887B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99120-D9A1-4306-9251-837B2DB9FD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20F6E-3300-4033-9CD4-EE7FD95A2D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0DD0C-582E-4825-8C61-8558A48052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6CC2F-C8D1-4AFE-83DA-534A60E56A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44BDE-3D44-4E38-AEB5-A6B92C5E04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709A7-90A3-4658-8969-2198E0D260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63963-143B-4A04-8F47-BF5C50B3E6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BURGERSCHAPSVORMING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bfbfbf"/>
                </a:solidFill>
                <a:latin typeface="Tw Cen MT"/>
              </a:rPr>
              <a:t>MARKLANDUU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503568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THEMA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53960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ELDEN, IDOLEN EN VOORBEEL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FEESTDAGEN: KONINGSDAG, SINTERKLA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RACISME, SLAVERNIJ EN DISCRIMINATI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79" name="Afbeelding 3" descr=""/>
          <p:cNvPicPr/>
          <p:nvPr/>
        </p:nvPicPr>
        <p:blipFill>
          <a:blip r:embed="rId1"/>
          <a:stretch/>
        </p:blipFill>
        <p:spPr>
          <a:xfrm>
            <a:off x="6172200" y="9684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34909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IDEO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400" y="2367000"/>
            <a:ext cx="40766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PLITSING K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EERST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WERKSTUKJE MET VIDEO’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TWEED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OCRATIVE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CODE: F609C0D1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2" name="Afbeelding 3" descr=""/>
          <p:cNvPicPr/>
          <p:nvPr/>
        </p:nvPicPr>
        <p:blipFill>
          <a:blip r:embed="rId1"/>
          <a:stretch/>
        </p:blipFill>
        <p:spPr>
          <a:xfrm>
            <a:off x="4991040" y="993600"/>
            <a:ext cx="72010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1T19:13:54Z</dcterms:created>
  <dc:creator>Adela van Stiphout</dc:creator>
  <dc:description/>
  <dc:language>en-US</dc:language>
  <cp:lastModifiedBy>Adela van Stiphout</cp:lastModifiedBy>
  <dcterms:modified xsi:type="dcterms:W3CDTF">2021-05-31T19:49:53Z</dcterms:modified>
  <cp:revision>2</cp:revision>
  <dc:subject/>
  <dc:title>burgerschapsvorming</dc:title>
</cp:coreProperties>
</file>