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C2C-3D82-4F65-BFBA-A8F51391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A9F-5132-4887-AEEE-2F146BBF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2E374-40A4-4E60-9022-5EAB89DA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0A14F-021E-467F-B215-8F045D60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C1500-E182-41AD-8759-DF3E5C29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1A0BC-84E3-476D-AE64-759CFD71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B4D24-BCFF-4F4D-B157-5CFE424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93FBE-6CA3-4152-832C-15DA6102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4F384-CA44-4323-B862-2744A1C3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CFA5D-CED5-41F0-9313-23D80492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AEF4E-FBC8-44EB-88DF-36031302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21009-9E02-4141-8BA0-B5B8F35D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B38-DE7D-42F3-A1C2-DF67FC73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959BD-F803-4404-B3EA-764CEE88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35B1E-A4F4-4A2E-9546-F49DA574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2B64F-CA6F-40EF-A6C2-E77A2863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6C661-79E6-4F4F-A35B-9DC03AC6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58CB6-1298-44AA-898C-372FD0F7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96EDB-A4BF-41F2-A42B-178950A0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F55D0-518A-40B3-B1A6-489B4C70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F7AE6-F81B-47D3-9341-67734D33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4B07D-99EE-47F0-95AB-8D66DB87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9CD39-8E79-478A-B740-96C7FB6A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CD0-C873-4976-A60D-47B35AD8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8D494-0CBA-4074-8A24-DB4B9FD7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B2D83-B139-40A5-A12B-AEFF0706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D500A-A835-414C-9832-595F10C0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AB31C-B911-4850-8612-4205B981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87B41-490F-4DC2-9AD6-A326DD15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5C09A-846C-4286-BB79-126C8CE6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2FDE5-7A01-4494-AA1C-D41F590B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BFE43-66A1-4F33-A113-99C643C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C2F9B-CE7D-46F6-9B21-799B795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582F7-9878-444E-BDDC-BEDB4E79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8FBA-2CCF-4118-9CEF-1D22FD05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C5035-D9EC-485C-A7FD-7A1DB2A7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D8AAA-6BDD-4D37-97E7-5DBCF422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3C564-F40F-410F-8F4B-0B66A010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B7A57-67B9-439A-9432-715758A1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FB096-F17B-4F1E-A903-56C57366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46E91-D117-4009-ACC6-29E74B8F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24BD6-1352-4157-B135-F66610A3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B6135-E297-48DB-BA1E-E848BB07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96324-3A63-4B4D-84DA-4B7B4170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5B10F-C49B-4DBD-A6EE-E8D229F9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9624-D3A6-47C7-9A40-4F9EA4EF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E1716-1C62-4CB1-A6FB-81C631D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2CF6F-FBB1-4222-A150-9561CC10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14901-BD4C-48A2-A713-F8A69718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BF7D4-7AE0-4BD0-A182-43B32737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7BF99-33C8-4B7E-A8C6-3536F954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6969B-8695-4C18-8C6B-5D2F8FD0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445CC-B0FC-4706-987E-8E43A2B9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4387D-BE89-402F-B435-67E01AC8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3C8E6-B01F-4583-8B20-A78AEA0B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D4AC4-1E08-4B7B-9792-FBCC4FDD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44EA-E0DC-46E7-94FF-9AFE74AA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12403-1250-42BD-9E43-0368A6C6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65599-29D6-4BEA-B564-20735DE3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AD622-FB5B-4B69-A83F-7FCFE69B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C6A70-A065-4C3F-89B9-A3FC97E9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685C9-8C4A-4F07-8734-707FC30D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416D3-6285-4FAD-84F1-B866690C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2B138-3CDF-4201-ACDB-AC7E3BBF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6E6BE-68A5-4D2B-BFDA-E084E2FC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F4588-7D17-4BAD-B95A-DF602F97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102C3-0590-4078-AAAE-A4E531A8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3B70-8A7A-4D16-9770-BFA1D3EE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2A98B-8F5F-4F75-8E09-8676917A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091F9-D4DA-4D82-A287-E97F4E52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4CDF7-5A64-4442-AA57-E9552086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B30AB-4A0A-4791-B6FA-BB2439D7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FAA85-B2F0-4FD8-AE24-4CF16DB0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53005-9570-42A2-A069-66D3036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CD7A7-F15A-4434-AC25-648CF750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F14F0-B965-464F-A784-01AEBC72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ACA6F-CDBF-4053-8375-53262BF0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DBEB9-334E-45EF-965E-B3CC6155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9B07-2874-406E-992D-3B8ED06D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43BDE-E70B-4B47-AA11-9D1AD04B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29EE7-3AA0-4C45-B260-A0BE2509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FF415-CF53-4A78-86B5-0347A83F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5BE38-C23E-4714-85B5-93B3FDC5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FBC44-C3D4-4D04-BB54-2713050A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74D302-7090-4760-9853-FA09844D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2A92C-28AB-4710-8E13-7E46AFAE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B8FF0-F3A6-4E71-8CB9-F029D0D6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89097-544F-43D0-B983-E9B3C738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26B14-2E22-4D47-9DFD-7E835615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1F0C-4CFD-4526-A876-47455EBB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4DF8D-2949-4FA4-821A-8F286129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A3779-DD66-4E5F-A6F5-329FD803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07825-3DD3-4DA9-9DAC-CFCB85C8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27D72-F31C-4CC8-B18C-2861E9D4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C6919-2424-4D3E-A7E6-1589677C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C4F2E-26BB-4C2D-AABE-C624A993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EF3E2-F6A7-4739-AE9C-5C0682DA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73ABC-9031-4278-8B0C-59EDDD2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56F270-E9D5-4C61-8A0E-9D947CEE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D2B4D-A5FD-498B-833F-1215878E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70C9-BDB1-461C-ACEB-42164DD9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49329-2352-4D65-86D6-6E6D4DC5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FDCF50-1B0B-4853-BF35-84D7B3B1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A1CAD-9D67-4AF3-AF5F-4D684409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28B59F-0757-4ED0-A31A-448BA8C5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6F2C1-4B1D-46BB-8F6B-C6307131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99ECC-73C9-4AF0-AD98-34C71A69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2BC9F-05FF-43C2-8DD6-79025DEF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6EFD8-D003-40B6-82E3-B7E67234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7A03E-081E-41F8-B468-8C6C04F2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3EFBC-5BED-46B6-9837-51B5B32F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D3E-3E2E-4C83-9806-BB7A2D0A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5C8F-3047-479A-BAE4-0713AE62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7D02C0-C975-453E-8576-2E6C2061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E7152A-F796-4A35-A6CA-DF216CD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B9BADC-1C13-41C9-A189-C1AA051C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CFA56-4EF7-4217-B06E-DA0828BC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A6C4E-3559-414B-ABC1-CA2EA4A3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686DF5-8CBA-4740-BBE1-06A6100A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636E05-8476-4F25-9B20-E56495B0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C8EE0-1E2C-4D51-90AA-731BD98A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DE363-FDA3-4CCA-A13D-8916C444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3DFC9-9A30-4711-91D5-3D877D48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7B28-2073-42B1-A301-A3C81A7B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0A420-2D45-4F34-821B-86CC231E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EA75AF-82DE-4329-8CFD-0F1304F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CBB0A-CBBE-40F3-874A-70857DCF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FFE10-A95E-4F7D-8341-F69F633D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DF863-6C2E-4DF7-A5D9-FC6C008D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354414-9C0D-4109-8B6A-86F03151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4076E-6CBD-4FF6-A8A1-855AAB86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663A-36EF-4611-8325-C0F3FC60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D3FE-2B97-45F7-BBE8-B34B443F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650D-89F2-4F04-8D34-27A6CD1A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B6CDF-A43A-43F0-BF5F-9582A2A1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FF6D-E722-4067-804E-920A0A37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4774-9513-4399-A11F-8D5FCCD6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0F372-8B5A-4F34-9732-3B34EC87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AFAF-BEC4-451D-8A91-44B0C17C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844-95F7-4C52-8350-053E0A0C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B1E3-2A39-40B9-96C6-1E8B441A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614D-A31C-4188-A592-CC53341C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447A-0962-4317-A2E9-18EB4153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2E024-4F52-4933-A310-4CF3ED44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0323-4511-4F6F-82FE-0139A99B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5AE3E-3969-4B7D-B260-B5051B24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9BF6-B3D9-4ED5-93FD-3B0FC1B6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549E-2E63-4237-BB31-B3D2E322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5B1C8-DFB7-425E-9AC0-9A90BB69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9CF39-E58D-445C-A61E-1E3245E7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02D-81B5-49EC-8486-E3AA9FA9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27FA9-ED36-4A20-820D-7B5D5257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156C-546F-4C0D-8E03-B0B0C87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960C-6D7A-4E93-BC17-8D2E79DA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F7F7-78C4-4C47-8C32-49ADC4B0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C97E-E0EE-4BC0-80B1-C9E81857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16DF9-D4A1-4032-88F5-A0A0CF84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CA640-4A15-438B-81E6-13815919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5A529-4B6D-4838-8269-C5CE98F4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C772-1991-4F6D-81BD-6087B13F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5CA3-5888-42D6-ADAC-64CB9F75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583-6B54-49BB-990F-6D437262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E69A-7AF8-4103-86D5-5AD22211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88519-9F1D-49F8-88D6-2E6CE467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A37FD-500A-49C6-9B1B-B44B05B6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B0C4D-CC56-41B0-A716-AD1625AB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E948D-92CB-4C39-9F02-BD750756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E4CB6-90F8-4E81-8293-ECD76638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6842D-674B-4001-99A2-A1CFCD38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BEE1F-89E9-44D4-AE1A-9B2BEA75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325B0-7D08-450A-AFD5-F9CA40EB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2ACB8-DF67-4E76-9D2A-5A3413A0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9CA-60BA-40BD-A63C-F31CE223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88C6-0303-49D2-B580-AD950CF2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CFF68-6FEB-4A3E-B98B-DA16316B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88180-9B6D-46B2-95C2-0CD9737D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DF260-1B06-4E84-A906-C2E7D693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85BBE-18C8-417C-AE9D-783C2ED1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F66D9-2C10-4FFE-B688-EEA8580B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A5A93-C476-47AE-9BB2-2FA23C49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48E8-4964-47BC-AD8E-A83BB653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7E7A2-B9DA-49C0-AAA9-9CC40F1F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16460-1E4E-4F1D-ABC1-99E1034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487-2CE4-4DBE-AAC9-633D1D71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03AAB-DE06-4289-B411-686E4F39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C143B-3783-43CA-B9C4-D14B203E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74C17-F092-463D-BDEB-07A400DE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9F758-249B-4E73-83E2-871B7B16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EFE3C-EAE0-412E-A6DD-4D15694F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20645-0F8D-41A4-A824-4B6B3E97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5EEA8-0160-48A8-9A8B-5104B0D5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A4C61-99FD-4D45-BF56-690F5B0E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539FF-D727-4B03-829F-8786E94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7339B-1EA8-4442-9949-710645BD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7D9-7D8D-4303-AC9C-D81F3EF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15756-951F-4323-A50B-0E8FCC6B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61C47-5C17-48C9-941C-8351170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030B4-A957-4F94-AED5-FD046176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48F3B-0BA6-4C55-BC6F-4542CE55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70D18-9661-4B69-831A-2D054192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AE05B-3129-4778-BDD4-74A9C99C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3EB90-1A99-4C35-8E53-EC53A371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70882-333E-4D64-9A7B-4544C1E6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C7DA4-999C-4428-874D-1D55D4C1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21B43-1BD1-4156-95A8-56AAB531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465-A3CD-425F-87BA-101A2C0C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51A3B-73DF-48A3-A6C6-4246B158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FD943-FB18-4CAE-BC2B-91F4F36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F3BFE-FC09-4911-B9F9-3A92C6F2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770D9-AD60-413E-9584-65869815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7D3B6-AE2F-44CD-8893-9AA51071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92F54-CD96-49C2-9314-1213186D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3A9B5-B394-41E6-BD45-21B93F34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B2B19-7B1D-45CB-AF6A-6EE88A40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18BE3-A32F-4A01-872F-77A54267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F7AA7-E452-48A4-B203-6A1FE323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117EB-E7D8-4538-BAE5-712B65D793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87616-0740-4D69-8C47-47B4AEEE3A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E5507-94E9-4B7B-8D3D-3C2A0CD24E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1BAF5-5EBD-437B-8916-784AA6882D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5BF08-FF5D-4BE3-857A-B2BEFE51A2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99F0F-330B-461E-BC5B-B7A8F49FD5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1F991-C17D-4F87-912F-B919766945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904B4-1D20-40D3-B4D9-ACDBB8262E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A4775-2E13-41F1-A4C2-EC6564C0C8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411D2-2280-4A1E-8A30-DF3FA455B4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AAF9F-1D98-4120-9B27-A7E7C9FA0C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D83A5-A059-4957-BC60-1E8C32CF19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412FE-AA07-4AE8-AB5A-9AC4A5A75F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2FA01-2007-4D61-B966-49E30B7F57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2FE9A-0F6B-481C-A24C-9CFACB3BA6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FA94E-A0C3-4E08-8291-BF3A930DD9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E4FC1-56F9-4EC4-A1B4-C7C190140F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B6F82-4580-4904-8A6F-B749C59149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BURGERSCHAPSVORMING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bfbfbf"/>
                </a:solidFill>
                <a:latin typeface="Tw Cen MT"/>
              </a:rPr>
              <a:t>MARKLANDUU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503568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THEMA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53960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ELDEN, IDOLEN EN VOORBEEL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FEESTDAGEN: KONINGSDAG, SINTERKLA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RACISME, SLAVERNIJ EN DISCRIMINATI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79" name="Afbeelding 3" descr=""/>
          <p:cNvPicPr/>
          <p:nvPr/>
        </p:nvPicPr>
        <p:blipFill>
          <a:blip r:embed="rId1"/>
          <a:stretch/>
        </p:blipFill>
        <p:spPr>
          <a:xfrm>
            <a:off x="6172200" y="9684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34909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IDEO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400" y="2367000"/>
            <a:ext cx="40766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PLITSING K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EERST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WERKSTUKJE MET VIDEO’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TWEED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OCRATIVE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CODE: F609C0D1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2" name="Afbeelding 3" descr=""/>
          <p:cNvPicPr/>
          <p:nvPr/>
        </p:nvPicPr>
        <p:blipFill>
          <a:blip r:embed="rId1"/>
          <a:stretch/>
        </p:blipFill>
        <p:spPr>
          <a:xfrm>
            <a:off x="4991040" y="993600"/>
            <a:ext cx="72010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1T19:13:54Z</dcterms:created>
  <dc:creator>Adela van Stiphout</dc:creator>
  <dc:description/>
  <dc:language>en-US</dc:language>
  <cp:lastModifiedBy>Adela van Stiphout</cp:lastModifiedBy>
  <dcterms:modified xsi:type="dcterms:W3CDTF">2021-05-31T19:49:53Z</dcterms:modified>
  <cp:revision>2</cp:revision>
  <dc:subject/>
  <dc:title>burgerschapsvorming</dc:title>
</cp:coreProperties>
</file>