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CCC3-A363-49B6-8049-6DE977C3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2B1-8CFF-42CE-9830-0E00109A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0CDF-6CEF-414E-B7FE-32A2B29E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52E-18F5-46A5-BAAC-781886AD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0672-DECB-42A8-9903-9B18F769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12EA-A33B-4E48-94FA-04D3DCE8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B0F6-0B09-4017-809E-1F090C14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F0CF-2443-41BD-9C30-BC05660C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5F37-F2C6-4CDF-B7C8-8517ED89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AE4C-C88F-411A-AB5C-BF2AAD39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3D5E-9FD7-445B-8622-0AF2386F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0CE5-B260-4E9B-8787-89AED63F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1237-9438-4147-AC30-F12F9622481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Rectangle 3"/>
          <p:cNvSpPr/>
          <p:nvPr/>
        </p:nvSpPr>
        <p:spPr>
          <a:xfrm>
            <a:off x="0" y="487692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oolbox graafcampag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3048120" y="533520"/>
            <a:ext cx="2943000" cy="4267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3"/>
          <p:cNvSpPr/>
          <p:nvPr/>
        </p:nvSpPr>
        <p:spPr>
          <a:xfrm>
            <a:off x="0" y="167652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kunnen gevolgen van graafschade zij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soonlijk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veiligheid en gezondheid machin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e schad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an kabels en leidingen: van krassen tot bre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volgschade door onderbreking ener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mensen, maatschappij, economie, milieu / omgeving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3"/>
          <p:cNvSpPr/>
          <p:nvPr/>
        </p:nvSpPr>
        <p:spPr>
          <a:xfrm>
            <a:off x="0" y="9144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gedruk transportgasleiding van Gasunie heeft 8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uk: gevolg is dat de machine letterlijk de lucht in vli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 brand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ril 2005: in Zuidbroek langs Winschoter Diep 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sleiding van Essent van 8 bar kapot bij dam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laan. Machinist gewond en graafmachine volle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itgebr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uli 2004: in Ghislenghein in België hogedruk gas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 dertig dodelijke slachtoffers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3"/>
          <p:cNvSpPr/>
          <p:nvPr/>
        </p:nvSpPr>
        <p:spPr>
          <a:xfrm>
            <a:off x="0" y="1600200"/>
            <a:ext cx="9144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veel is de schade in euro’s als gevolg 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schade, voor bijvoorbeeld personenbedrijven,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nkels, spoorwege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3"/>
          <p:cNvSpPr/>
          <p:nvPr/>
        </p:nvSpPr>
        <p:spPr>
          <a:xfrm>
            <a:off x="0" y="1066680"/>
            <a:ext cx="91440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4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bekend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orbeelden van ‘gevolgschade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Vrieskist met etenswaren ontdoo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Trein staat stil op r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Bedrijf zonder telef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Wijk zonder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Stad 24 uur zonder stroom (gevolg: geboortegol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3"/>
          <p:cNvSpPr/>
          <p:nvPr/>
        </p:nvSpPr>
        <p:spPr>
          <a:xfrm>
            <a:off x="0" y="914400"/>
            <a:ext cx="914400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Opdra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rzin zelf een aantal voorbeelden van gevolgen va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derbreking van stroom, gas, water, telefoon, tv-kabel,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3"/>
          <p:cNvSpPr/>
          <p:nvPr/>
        </p:nvSpPr>
        <p:spPr>
          <a:xfrm>
            <a:off x="0" y="1295280"/>
            <a:ext cx="914400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Is graafschade altijd gevaarlijk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ef veil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lef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er (lage dr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TV-k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uliere verbind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bijvoorbeeld tussen kantoorgebouw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Rectangle 3"/>
          <p:cNvSpPr/>
          <p:nvPr/>
        </p:nvSpPr>
        <p:spPr>
          <a:xfrm>
            <a:off x="0" y="1295280"/>
            <a:ext cx="914400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Is graafschade altijd gevaarlijk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vaarlijk voor machinist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s; van lagedruk (1 bar) tot hogedruk (80 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ktriciteit; van huisaansluiting (220 V) tot 10 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andstof (olie/kerosine/naf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3"/>
          <p:cNvSpPr/>
          <p:nvPr/>
        </p:nvSpPr>
        <p:spPr>
          <a:xfrm>
            <a:off x="-228600" y="685800"/>
            <a:ext cx="93726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gebeurt er om graafschade te voorkom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chinist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kmanschap, opleiding,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orgvuldig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chinist/ opzicht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oed samenspel bij graa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zichter / uitvoerd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bestuder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Kloppen ze wel?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Hoofd)aannemer/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werk melden bij K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bedrijf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3"/>
          <p:cNvSpPr/>
          <p:nvPr/>
        </p:nvSpPr>
        <p:spPr>
          <a:xfrm>
            <a:off x="-457200" y="685800"/>
            <a:ext cx="93726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gebeurt er om graafschade te voorkom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LIC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graafplek opvr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j kabel- en leidingbehee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bel- leidingbeheerders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afdrukken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stu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drachtgev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et bij opdracht verstrekk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angeven dat er bij graafwerk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kening met kabels en leiding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dt ge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3"/>
          <a:stretch/>
        </p:blipFill>
        <p:spPr>
          <a:xfrm>
            <a:off x="2362320" y="2590920"/>
            <a:ext cx="4419360" cy="15793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3"/>
          <p:cNvSpPr/>
          <p:nvPr/>
        </p:nvSpPr>
        <p:spPr>
          <a:xfrm>
            <a:off x="0" y="294804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Modu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 is kabel- en leidingschade en wat doet KL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3"/>
          <p:cNvSpPr/>
          <p:nvPr/>
        </p:nvSpPr>
        <p:spPr>
          <a:xfrm>
            <a:off x="0" y="1752480"/>
            <a:ext cx="914400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ar staan de letters KLIC v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Kabel- en Leidingen informatiecen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Klachten Inzake Code-deel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Kabel- en Leiding Informatie Commiss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266688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5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Kabel- en Leidingen InformatieCentr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3"/>
          <p:cNvSpPr/>
          <p:nvPr/>
        </p:nvSpPr>
        <p:spPr>
          <a:xfrm>
            <a:off x="0" y="1066680"/>
            <a:ext cx="91440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is / doet KL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erstrekt informatie over ligging kabels en leid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 opgericht door kabel- en leidingbehee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rijgt de melding van ‘grondroering’ binn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de ‘KLIC-melding’: 135.000 per ja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elt de locatie van het graafwerk va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aarschuwt vervolgens alle netbeheerders in graafgeb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richt terug aan de KLIC-melder welke netbeheerders zij heef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waarschu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organiseert campagn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'Graafschade voorkomen we samen'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3"/>
          <p:cNvSpPr/>
          <p:nvPr/>
        </p:nvSpPr>
        <p:spPr>
          <a:xfrm>
            <a:off x="0" y="1600200"/>
            <a:ext cx="914400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nneer moet je de KLIC-melding do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j alle werkzaamheden in 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diep maakt daarbij niet 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gaat niet alleen om graafwerkzaamheden …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Deelnemers laten discussiëren ov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nneer een KLIC-melding nodig is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3"/>
          <p:cNvSpPr/>
          <p:nvPr/>
        </p:nvSpPr>
        <p:spPr>
          <a:xfrm>
            <a:off x="0" y="990720"/>
            <a:ext cx="914400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De KLIC-melding gaat niet alleen om graafwerkzaamheden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ven’ als verzamelwoord (ook) vo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pplo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gg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ine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ten van b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laatsen van verkeersbo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graven vuil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kken ze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fdekken van kuilh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innen én buiten de bebouwde k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3"/>
          <p:cNvSpPr/>
          <p:nvPr/>
        </p:nvSpPr>
        <p:spPr>
          <a:xfrm>
            <a:off x="0" y="1143000"/>
            <a:ext cx="914400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moet je doen na ontvangst van bevestiging van de KLIC-meld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eer of alle netbeheerders leidingbehee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arten of informatie hebben verstr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tbreekt er informatie, neem dan contact op m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netbeheerder (niet met KLIC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en reactie van een netbeheerder?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 er dan NIET van uit dat er niets lig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ld foute telefoonnummers of namen v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personen bij netbeheerders bij K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8" descr=""/>
          <p:cNvPicPr/>
          <p:nvPr/>
        </p:nvPicPr>
        <p:blipFill>
          <a:blip r:embed="rId3"/>
          <a:stretch/>
        </p:blipFill>
        <p:spPr>
          <a:xfrm>
            <a:off x="2971800" y="914400"/>
            <a:ext cx="2943360" cy="42670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9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campagnelogo met de slo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3"/>
          <p:cNvSpPr/>
          <p:nvPr/>
        </p:nvSpPr>
        <p:spPr>
          <a:xfrm>
            <a:off x="-380880" y="990720"/>
            <a:ext cx="92962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Hoezo 'Graafschade voorkomen we samen'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ndelijke campag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gezet door ‘campagnepartners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netbeheerders, KLIC, CUMELA Nederla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Zwarte Corps, E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l meer schadevrij graa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or betere samenwerking alle spelers graafk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or werken volgens ‘Graafcod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el publiciteit over schadevrij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ter begrip voor vakwerk machinis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8" descr=""/>
          <p:cNvPicPr/>
          <p:nvPr/>
        </p:nvPicPr>
        <p:blipFill>
          <a:blip r:embed="rId3"/>
          <a:stretch/>
        </p:blipFill>
        <p:spPr>
          <a:xfrm>
            <a:off x="7848720" y="4495680"/>
            <a:ext cx="1100160" cy="15955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7" descr="De Graafcode"/>
          <p:cNvPicPr/>
          <p:nvPr/>
        </p:nvPicPr>
        <p:blipFill>
          <a:blip r:embed="rId3"/>
          <a:stretch/>
        </p:blipFill>
        <p:spPr>
          <a:xfrm>
            <a:off x="2666880" y="1295280"/>
            <a:ext cx="4065840" cy="45356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2666880" y="6094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graaf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Text Box 5"/>
          <p:cNvSpPr/>
          <p:nvPr/>
        </p:nvSpPr>
        <p:spPr>
          <a:xfrm>
            <a:off x="762120" y="2819520"/>
            <a:ext cx="792468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Kort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aven is een leuk en mooi va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r wel een hoop gedoe tegenwoordig.’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-152280" y="0"/>
            <a:ext cx="9296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3"/>
          <p:cNvSpPr/>
          <p:nvPr/>
        </p:nvSpPr>
        <p:spPr>
          <a:xfrm>
            <a:off x="0" y="294804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maak je als machinist / graver zoal me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groepsgesprek]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3"/>
          <p:cNvSpPr/>
          <p:nvPr/>
        </p:nvSpPr>
        <p:spPr>
          <a:xfrm>
            <a:off x="0" y="3429000"/>
            <a:ext cx="91440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Einde modu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ar module 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bedrijf, (hoofd)aannemer en opdrachtgever &gt;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9" descr=""/>
          <p:cNvPicPr/>
          <p:nvPr/>
        </p:nvPicPr>
        <p:blipFill>
          <a:blip r:embed="rId3"/>
          <a:stretch/>
        </p:blipFill>
        <p:spPr>
          <a:xfrm>
            <a:off x="3809880" y="914400"/>
            <a:ext cx="1576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3"/>
          <p:cNvSpPr/>
          <p:nvPr/>
        </p:nvSpPr>
        <p:spPr>
          <a:xfrm>
            <a:off x="0" y="1676520"/>
            <a:ext cx="914400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 is de totale lengte van alle kabels en leidi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de Nederlandse gron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7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17,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,7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3"/>
          <p:cNvSpPr/>
          <p:nvPr/>
        </p:nvSpPr>
        <p:spPr>
          <a:xfrm>
            <a:off x="0" y="1447920"/>
            <a:ext cx="9144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1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,75 miljoen kil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er vergelijk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t is bijna 45 keer de aarde ro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s jouw auto 25 duizend km per jaar rijdt,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e je zeventig jaar over 1,75 miljoen k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3"/>
          <p:cNvSpPr/>
          <p:nvPr/>
        </p:nvSpPr>
        <p:spPr>
          <a:xfrm>
            <a:off x="0" y="1676520"/>
            <a:ext cx="914400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vaak per dag wordt machinaal de grond geroer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Gemiddeld in Nederl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5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0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266688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2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0.000 x per d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 zijn meer dan 15.000 graafmachines i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derland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3"/>
          <p:cNvSpPr/>
          <p:nvPr/>
        </p:nvSpPr>
        <p:spPr>
          <a:xfrm>
            <a:off x="0" y="1676520"/>
            <a:ext cx="914400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veel kabel- en leidingschadegevallen gebeuren 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middeld per werkdag?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5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200 ke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144792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3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x 200 werkdagen = 40.000 schadegevallen per j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ke graafschade kost gemiddeld € 1.000,- 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Directe schade aan de kabel of lei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schadegevallen per dag x € 1.000,- per ke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€ 200.000 per dag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5:10:12Z</dcterms:created>
  <dc:creator>van Nimwegen &amp; Partners</dc:creator>
  <dc:description/>
  <dc:language>en-US</dc:language>
  <cp:lastModifiedBy>Stephan de Wit</cp:lastModifiedBy>
  <dcterms:modified xsi:type="dcterms:W3CDTF">2019-09-17T09:39:43Z</dcterms:modified>
  <cp:revision>35</cp:revision>
  <dc:subject/>
  <dc:title>PowerPoint-presentatie</dc:title>
</cp:coreProperties>
</file>