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DC9-66EB-43DF-B576-19DD2425E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661-73D6-48F7-9496-E66ADDB0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2361-FB7B-4B7A-B292-F9D32FB4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6F5-267E-4415-9997-3569F92C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ADC3-733A-41ED-ACE0-F076049F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40A-9922-4259-8B23-ECFF4404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077-DB16-4367-B58F-C6666BBF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E466-FF05-4D3F-8DC0-82342990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651-6C0C-469B-AFB9-9EE7A861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75F6-9E98-447E-82AA-FB0A9F5A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9D47-1C35-4492-9C39-6087C358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6FB-0A7F-4C5D-8A96-F92FA35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7258-4CA0-4347-BAF6-A82E482B7C3E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Rectangle 3"/>
          <p:cNvSpPr/>
          <p:nvPr/>
        </p:nvSpPr>
        <p:spPr>
          <a:xfrm>
            <a:off x="0" y="487692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oolbox graafcampagn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3048120" y="533520"/>
            <a:ext cx="2943000" cy="4267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3"/>
          <p:cNvSpPr/>
          <p:nvPr/>
        </p:nvSpPr>
        <p:spPr>
          <a:xfrm>
            <a:off x="0" y="167652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kunnen gevolgen van graafschade zij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soonlijke sch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veiligheid en gezondheid machi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recte schad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aan kabels en leidingen: van krassen tot bre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olgschade door onderbreking ener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mensen, maatschappij, economie, milieu / omgeving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3"/>
          <p:cNvSpPr/>
          <p:nvPr/>
        </p:nvSpPr>
        <p:spPr>
          <a:xfrm>
            <a:off x="0" y="9144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Voorbeel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gedruk transportgasleiding van Gasunie heeft 80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uk: gevolg is dat de machine letterlijk de lucht in vlie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 brand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ril 2005: in Zuidbroek langs Winschoter Diep g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leiding van Essent van 8 bar kapot bij dam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laan. Machinist gewond en graafmachine volled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itgebr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uli 2004: in Ghislenghein in België hogedruk gaslei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t dertig dodelijke slachtoffers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3"/>
          <p:cNvSpPr/>
          <p:nvPr/>
        </p:nvSpPr>
        <p:spPr>
          <a:xfrm>
            <a:off x="0" y="1600200"/>
            <a:ext cx="91440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veel is de schade in euro’s als gevolg 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schade, voor bijvoorbeeld personenbedrijven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nkels, spoorwege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3"/>
          <p:cNvSpPr/>
          <p:nvPr/>
        </p:nvSpPr>
        <p:spPr>
          <a:xfrm>
            <a:off x="0" y="1066680"/>
            <a:ext cx="914400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4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bekend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oorbeelden van ‘gevolgschade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rieskist met etenswaren ontdoo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Trein staat stil op 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Bedrijf zonder 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Wijk zonder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Stad 24 uur zonder stroom (gevolg: geboortegol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3"/>
          <p:cNvSpPr/>
          <p:nvPr/>
        </p:nvSpPr>
        <p:spPr>
          <a:xfrm>
            <a:off x="0" y="914400"/>
            <a:ext cx="914400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Opdra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rzin zelf een aantal voorbeelden van gevolgen va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derbreking van stroom, gas, water, telefoon, tv-kabel,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3"/>
          <p:cNvSpPr/>
          <p:nvPr/>
        </p:nvSpPr>
        <p:spPr>
          <a:xfrm>
            <a:off x="0" y="1295280"/>
            <a:ext cx="914400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ef veilig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lefo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er (lage dr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TV-k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uliere verbindin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bijvoorbeeld tussen kantoorgebouw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3"/>
          <p:cNvSpPr/>
          <p:nvPr/>
        </p:nvSpPr>
        <p:spPr>
          <a:xfrm>
            <a:off x="0" y="129528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Is graafschade altijd gevaarlijk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vaarlijk voor machinist zij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s; van lagedruk (1 bar) tot hogedruk (80 b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ktriciteit; van huisaansluiting (220 V) tot 10 k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ndstof (olie/kerosine/naf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3"/>
          <p:cNvSpPr/>
          <p:nvPr/>
        </p:nvSpPr>
        <p:spPr>
          <a:xfrm>
            <a:off x="-228600" y="685800"/>
            <a:ext cx="937260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kmanschap, opleiding,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orgvuldig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chinist/ opzicht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ed samenspel b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zichter / uitvoerd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bestuder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Kloppen ze wel?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Hoofd)aannemer/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werk melden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3"/>
          <p:cNvSpPr/>
          <p:nvPr/>
        </p:nvSpPr>
        <p:spPr>
          <a:xfrm>
            <a:off x="-457200" y="685800"/>
            <a:ext cx="93726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gebeurt er om graafschade te voorkom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LIC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graafplek opvra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kabel- en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bel- leidingbeheerders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keningen afdrukken 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stu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drachtgever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et bij opdracht verstrekk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angeven dat er bij graafwer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kening met kabels en leiding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t gehou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7" descr=""/>
          <p:cNvPicPr/>
          <p:nvPr/>
        </p:nvPicPr>
        <p:blipFill>
          <a:blip r:embed="rId3"/>
          <a:stretch/>
        </p:blipFill>
        <p:spPr>
          <a:xfrm>
            <a:off x="2362320" y="2590920"/>
            <a:ext cx="4419360" cy="15793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94804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kabel- en leidingschade en wat doet KLI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1752480"/>
            <a:ext cx="9144000" cy="37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ar staan de letters KLIC v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Klachten Inzake Code-deelne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Kabel- en Leiding Informatie Commiss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266688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5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Kabel- en Leidingen InformatieCen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3"/>
          <p:cNvSpPr/>
          <p:nvPr/>
        </p:nvSpPr>
        <p:spPr>
          <a:xfrm>
            <a:off x="0" y="106668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is / doet KL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erstrekt informatie over ligging kabels en leidi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opgericht door kabel- en leidingbehee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rijgt de melding van ‘grondroering’ binn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de ‘KLIC-melding’: 135.000 per ja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lt de locatie van het graafwerk v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arschuwt vervolgens alle netbeheerders in graafgeb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LIC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ericht terug aan de KLIC-melder welke netbeheerders zij heef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ewaarschu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organiseert campagn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'Graafschade voorkomen we samen'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3"/>
          <p:cNvSpPr/>
          <p:nvPr/>
        </p:nvSpPr>
        <p:spPr>
          <a:xfrm>
            <a:off x="0" y="160020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nneer moet je de KLIC-melding doe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j alle werkzaamheden in de gr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diep maakt daarbij niet 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gaat niet alleen om graafwerkzaamheden …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Deelnemers laten discussiëren ov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nneer een KLIC-melding nodig is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3"/>
          <p:cNvSpPr/>
          <p:nvPr/>
        </p:nvSpPr>
        <p:spPr>
          <a:xfrm>
            <a:off x="0" y="990720"/>
            <a:ext cx="914400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De KLIC-melding gaat niet alleen om graafwerkzaamheden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ven’ als verzamelwoord (ook) vo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epploe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gg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iner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ten van bo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laatsen van verkeersb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graven vuilcontai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ekken zet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fdekken van kuilh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innen én buiten de bebouwde k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8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Rectangle 3"/>
          <p:cNvSpPr/>
          <p:nvPr/>
        </p:nvSpPr>
        <p:spPr>
          <a:xfrm>
            <a:off x="0" y="1143000"/>
            <a:ext cx="914400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oet je doen na ontvangst van bevestiging van de KLIC-meld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er of alle netbeheerders leidingbehee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aarten of informatie hebben verstre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breekt er informatie, neem dan contact op m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netbeheerder (niet met KLIC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en reactie van een netbeheerder?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a er dan NIET van uit dat er niets lig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ld foute telefoonnummers of namen v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actpersonen bij netbeheerders bij KLI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7543800" y="380880"/>
            <a:ext cx="1371600" cy="49068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8" descr=""/>
          <p:cNvPicPr/>
          <p:nvPr/>
        </p:nvPicPr>
        <p:blipFill>
          <a:blip r:embed="rId3"/>
          <a:stretch/>
        </p:blipFill>
        <p:spPr>
          <a:xfrm>
            <a:off x="2971800" y="914400"/>
            <a:ext cx="2943360" cy="426708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9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campagnelogo met de slo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3"/>
          <p:cNvSpPr/>
          <p:nvPr/>
        </p:nvSpPr>
        <p:spPr>
          <a:xfrm>
            <a:off x="-380880" y="990720"/>
            <a:ext cx="929628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oezo 'Graafschade voorkomen we samen'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ndelijke campag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gezet door ‘campagnepartners’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etbeheerders, KLIC, CUMELA Nederla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t Zwarte Corps, E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l meer schadevrij graaf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betere samenwerking alle spelers graafke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or werken volgens ‘Graafcod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el publiciteit over schadevrij gr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ter begrip voor vakwerk machinis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7848720" y="4495680"/>
            <a:ext cx="1100160" cy="15955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68136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De Graafcode"/>
          <p:cNvPicPr/>
          <p:nvPr/>
        </p:nvPicPr>
        <p:blipFill>
          <a:blip r:embed="rId3"/>
          <a:stretch/>
        </p:blipFill>
        <p:spPr>
          <a:xfrm>
            <a:off x="2666880" y="1295280"/>
            <a:ext cx="4065840" cy="45356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2666880" y="609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 graaf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5"/>
          <p:cNvSpPr/>
          <p:nvPr/>
        </p:nvSpPr>
        <p:spPr>
          <a:xfrm>
            <a:off x="762120" y="2819520"/>
            <a:ext cx="79246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Kort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aven is een leuk en mooi vak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wel een hoop gedoe tegenwoordig.’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-152280" y="0"/>
            <a:ext cx="9296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3"/>
          <p:cNvSpPr/>
          <p:nvPr/>
        </p:nvSpPr>
        <p:spPr>
          <a:xfrm>
            <a:off x="0" y="294804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t maak je als machinist / graver zoal me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groepsgesprek]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Rectangle 3"/>
          <p:cNvSpPr/>
          <p:nvPr/>
        </p:nvSpPr>
        <p:spPr>
          <a:xfrm>
            <a:off x="0" y="3429000"/>
            <a:ext cx="91440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Einde modul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ar module 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afbedrijf, (hoofd)aannemer en opdrachtgever &gt;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763120" y="0"/>
            <a:ext cx="380880" cy="685800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9" descr=""/>
          <p:cNvPicPr/>
          <p:nvPr/>
        </p:nvPicPr>
        <p:blipFill>
          <a:blip r:embed="rId3"/>
          <a:stretch/>
        </p:blipFill>
        <p:spPr>
          <a:xfrm>
            <a:off x="3809880" y="914400"/>
            <a:ext cx="1576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t is de totale lengte van alle kabels en leiding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de Nederlandse gron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17,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3"/>
          <p:cNvSpPr/>
          <p:nvPr/>
        </p:nvSpPr>
        <p:spPr>
          <a:xfrm>
            <a:off x="0" y="144792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1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,75 miljoen kilo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r vergelijk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t is bijna 45 keer de aarde ron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s jouw auto 25 duizend km per jaar rijdt,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 je zeventig jaar over 1,75 miljoen k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Rectangle 3"/>
          <p:cNvSpPr/>
          <p:nvPr/>
        </p:nvSpPr>
        <p:spPr>
          <a:xfrm>
            <a:off x="0" y="1676520"/>
            <a:ext cx="9144000" cy="40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aak per dag wordt machinaal de grond geroerd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Gemiddeld in Nederl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2666880"/>
            <a:ext cx="9144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2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10.000 x per da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 zijn meer dan 15.000 graafmachines i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derland.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Rectangle 3"/>
          <p:cNvSpPr/>
          <p:nvPr/>
        </p:nvSpPr>
        <p:spPr>
          <a:xfrm>
            <a:off x="0" y="1676520"/>
            <a:ext cx="91440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Waar hebben we het eigenlijk over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izvraag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e veel kabel- en leidingschadegevallen gebeuren er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middeld per werkdag?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. 1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 5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3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200 ke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Rectangle 3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242040"/>
            <a:ext cx="9144000" cy="609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44792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	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Antwoord quizvraag 3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ke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x 200 werkdagen = 40.000 schadegevallen per 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ke graafschade kost gemiddeld € 1.000,- 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Directe schade aan de kabel of lei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 schadegevallen per dag x € 1.000,- per ke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€ 200.000 per da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0" y="64008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Toolbox Graafschade voorkomen we samen/ modu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5:10:12Z</dcterms:created>
  <dc:creator>van Nimwegen &amp; Partners</dc:creator>
  <dc:description/>
  <dc:language>en-US</dc:language>
  <cp:lastModifiedBy>Stephan de Wit</cp:lastModifiedBy>
  <dcterms:modified xsi:type="dcterms:W3CDTF">2019-09-17T09:39:43Z</dcterms:modified>
  <cp:revision>35</cp:revision>
  <dc:subject/>
  <dc:title>PowerPoint-presentatie</dc:title>
</cp:coreProperties>
</file>