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2.wmf" ContentType="image/x-wmf"/>
  <Override PartName="/ppt/media/image11.jpeg" ContentType="image/jpeg"/>
  <Override PartName="/ppt/media/image9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7850-F24D-4891-98EA-825E98D11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06BE-4813-4D73-B1BE-3DA1E82EB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B92E-0FD9-4C48-A508-284D0DC3D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B655-B2E6-4F8B-A270-D83E02F86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97D94-2215-48A1-B626-9A67ABCBF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31ECA-A1D6-4F2C-8820-7BD1F4BAF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F486F-E143-4DF4-8A5A-E03C48860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59252-ED32-4388-8A7F-BF3666A72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0E377-1CF4-44EB-B1E7-C51371345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1BB55-2F01-4685-84EA-C1F71062A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45422-2A64-4D8B-A26F-B6CE9A4A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9EF6-9BDB-4C76-8941-23607F767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39FE5-E3E0-4CCC-A5D3-7ADE7704C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84BF5-201F-4E69-84CE-7D2FD7BF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A2606-58F0-49B1-9F8D-61E6EC6F5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D2A34-304B-4EB5-B4A5-FE33E2F0D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840CC-9D58-4160-98DB-139FE0D1E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87DC-CCE8-4854-8B0B-902684F9F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DB01-1EF9-49BA-BB6F-61279D085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A40D-D770-4DFA-856E-3AB9EB8FD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9A38-A065-498E-A5C7-E5515CCBF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B964-543F-4E41-B4C2-939FB50BB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5472-9346-4286-836D-18A1EADB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C74C-95BC-4830-817A-8CB345AC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D01A0-FC00-4A71-9A94-849BE7EE758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32D06-2893-4C94-8A89-460B7D2DAC19}" type="slidenum">
              <a:rPr b="0" lang="nl-B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nat.vu.nl/~jo/quantum/node19.html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D:/Chemieprogramma&apos;s/Atomos/Schr&#246;dinger.exe" TargetMode="External"/><Relationship Id="rId2" Type="http://schemas.openxmlformats.org/officeDocument/2006/relationships/hyperlink" Target="file:///D:/Chemieprogramma&apos;s/Orbital%20Viewer" TargetMode="External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hmchem.cubicsci.com/docs/movies/movieindex.htm" TargetMode="External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webelements.com/webelements/elements/text/B/econ.html" TargetMode="Externa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cwx.prenhall.com/petrucci/medialib/media_portfolio/text_images/043_ElectronConfig.MOV" TargetMode="External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" Target="slide27.xml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Elektronenmantel Sommerfeld+ golfmechanisch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3200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395280" y="260280"/>
            <a:ext cx="874872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Erwin </a:t>
            </a:r>
            <a:r>
              <a:rPr b="1" lang="nl-NL" sz="2000" spc="-1" strike="noStrike">
                <a:solidFill>
                  <a:srgbClr val="000000"/>
                </a:solidFill>
                <a:latin typeface="Verdana"/>
              </a:rPr>
              <a:t>Schrödinger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: ontwikkeling van de zogenaamde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Verdana"/>
              </a:rPr>
              <a:t>golfmechanica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                              of </a:t>
            </a:r>
            <a:r>
              <a:rPr b="1" lang="nl-NL" sz="2000" spc="-1" strike="noStrike">
                <a:solidFill>
                  <a:srgbClr val="000000"/>
                </a:solidFill>
                <a:latin typeface="Verdana"/>
              </a:rPr>
              <a:t>kwantummechanica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3"/>
          <p:cNvGrpSpPr/>
          <p:nvPr/>
        </p:nvGrpSpPr>
        <p:grpSpPr>
          <a:xfrm>
            <a:off x="684360" y="1844640"/>
            <a:ext cx="1657080" cy="2600640"/>
            <a:chOff x="684360" y="1844640"/>
            <a:chExt cx="1657080" cy="2600640"/>
          </a:xfrm>
        </p:grpSpPr>
        <p:pic>
          <p:nvPicPr>
            <p:cNvPr id="157" name="Picture 4" descr=""/>
            <p:cNvPicPr/>
            <p:nvPr/>
          </p:nvPicPr>
          <p:blipFill>
            <a:blip r:embed="rId1"/>
            <a:stretch/>
          </p:blipFill>
          <p:spPr>
            <a:xfrm>
              <a:off x="684360" y="1844640"/>
              <a:ext cx="1601640" cy="21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5"/>
            <p:cNvSpPr/>
            <p:nvPr/>
          </p:nvSpPr>
          <p:spPr>
            <a:xfrm>
              <a:off x="684360" y="4077000"/>
              <a:ext cx="165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Verdana"/>
                </a:rPr>
                <a:t>1887 - 1961</a:t>
              </a: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Text Box 6"/>
          <p:cNvSpPr/>
          <p:nvPr/>
        </p:nvSpPr>
        <p:spPr>
          <a:xfrm>
            <a:off x="2484360" y="5661000"/>
            <a:ext cx="665964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voor de wiskundefreaks: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zie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www.nat.vu.nl/~jo/quantum/node19.html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7" descr=""/>
          <p:cNvPicPr/>
          <p:nvPr/>
        </p:nvPicPr>
        <p:blipFill>
          <a:blip r:embed="rId3"/>
          <a:stretch/>
        </p:blipFill>
        <p:spPr>
          <a:xfrm>
            <a:off x="3059280" y="1484280"/>
            <a:ext cx="421776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Arial"/>
              </a:rPr>
              <a:t>Schrödinger (192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786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Een kansberekening  (plaats waar elektronen zich </a:t>
            </a:r>
            <a:r>
              <a:rPr b="0" lang="nl-BE" sz="2800" spc="-1" strike="noStrike" u="sng">
                <a:solidFill>
                  <a:srgbClr val="333399"/>
                </a:solidFill>
                <a:uFillTx/>
                <a:latin typeface="Arial"/>
              </a:rPr>
              <a:t>kunnen</a:t>
            </a: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 bevinden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Stippen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Orbitaal als ruimte waar een grote kans is elektronen aan te treff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s-orbitaal, p-orbitaal, (d-orbitaal f-orbita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:\Chemieprogramma's\Ato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D:\Chemieprogramma's\Orbital Vie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Object 4"/>
          <p:cNvGraphicFramePr/>
          <p:nvPr/>
        </p:nvGraphicFramePr>
        <p:xfrm>
          <a:off x="5902200" y="4581360"/>
          <a:ext cx="270216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02200" y="4581360"/>
                    <a:ext cx="2702160" cy="13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468360" y="476280"/>
            <a:ext cx="8064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t schrödingervergelijking kon de </a:t>
            </a:r>
            <a:r>
              <a:rPr b="1" lang="nl-NL" sz="2400" spc="-1" strike="noStrike" u="sng">
                <a:solidFill>
                  <a:srgbClr val="3333cc"/>
                </a:solidFill>
                <a:uFillTx/>
                <a:latin typeface="Arial"/>
              </a:rPr>
              <a:t>waarschijnlijkheid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berekend word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om een elektron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op een bepaalde plaats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rond de atoomkern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an te treff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chrödinger bakende zo gebieden af met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90% kans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een elektron aan te treff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ze trefkansgebieden noemde hij </a:t>
            </a:r>
            <a:r>
              <a:rPr b="1" lang="nl-NL" sz="2400" spc="-1" strike="noStrike">
                <a:solidFill>
                  <a:srgbClr val="0066ff"/>
                </a:solidFill>
                <a:latin typeface="Arial"/>
              </a:rPr>
              <a:t>orbital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3300"/>
                </a:solidFill>
                <a:latin typeface="Arial"/>
              </a:rPr>
              <a:t>Een orbitaal is het ‘denkbeeldige’ gebied waarbinnen de waarschijnlijkheid om een elektron aan te treffen 90%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5"/>
          <p:cNvSpPr/>
          <p:nvPr/>
        </p:nvSpPr>
        <p:spPr>
          <a:xfrm>
            <a:off x="468360" y="361800"/>
            <a:ext cx="8280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ke orbitaal he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nl-NL" sz="2400" spc="-1" strike="noStrike" u="sng">
                <a:solidFill>
                  <a:srgbClr val="ff3300"/>
                </a:solidFill>
                <a:uFillTx/>
                <a:latin typeface="Arial"/>
              </a:rPr>
              <a:t>een typische </a:t>
            </a:r>
            <a:r>
              <a:rPr b="1" lang="nl-NL" sz="2400" spc="-1" strike="noStrike" u="sng">
                <a:solidFill>
                  <a:srgbClr val="ff3300"/>
                </a:solidFill>
                <a:uFillTx/>
                <a:latin typeface="Arial"/>
              </a:rPr>
              <a:t>vorm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of oriëntatie in de ruimte rond de k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9900"/>
                </a:solidFill>
                <a:latin typeface="Arial"/>
              </a:rPr>
              <a:t>s-orbitaal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bolvormig : slechts één oriëntatie: geen opsplit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9900"/>
                </a:solidFill>
                <a:latin typeface="Arial"/>
              </a:rPr>
              <a:t>p-orbitaal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haltervormig: knooppunt in atoomkern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3 oriëntaties in magnetisch veld : px, py en p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9900"/>
                </a:solidFill>
                <a:latin typeface="Arial"/>
              </a:rPr>
              <a:t>d-orbital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ingewikkelde vormen :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oriënta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9900"/>
                </a:solidFill>
                <a:latin typeface="Arial"/>
              </a:rPr>
              <a:t>f-orbital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: ingewikkelde vormen :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oriënta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 u="sng">
                <a:solidFill>
                  <a:srgbClr val="ff3300"/>
                </a:solidFill>
                <a:uFillTx/>
                <a:latin typeface="Arial"/>
              </a:rPr>
              <a:t>een bepaalde </a:t>
            </a:r>
            <a:r>
              <a:rPr b="1" lang="nl-NL" sz="2400" spc="-1" strike="noStrike" u="sng">
                <a:solidFill>
                  <a:srgbClr val="ff3300"/>
                </a:solidFill>
                <a:uFillTx/>
                <a:latin typeface="Arial"/>
              </a:rPr>
              <a:t>groott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: een s-orbitaal van de K-schil is kleiner dan een s-orbitaal van de L-schil  :    1s   &lt;  2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1403280" y="44280"/>
            <a:ext cx="6697800" cy="620568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3"/>
          <p:cNvSpPr/>
          <p:nvPr/>
        </p:nvSpPr>
        <p:spPr>
          <a:xfrm>
            <a:off x="179280" y="6218280"/>
            <a:ext cx="83534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Op volgende site kan je AVI-filmpjes bekijken van de 3D-structuren van bovenstaande orbitalen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hmchem.cubicsci.com/docs/movies/movieindex.htm</a:t>
            </a: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684360" y="44280"/>
            <a:ext cx="7920000" cy="22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Opdrach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Teken de elektronenwolk van een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Ne-atoom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volgens Bohr, volgens Sommerfeld en volgens de golfmechanica. Gebruik verschillende kleuren om de verschillende onderdelen te tekenen. Benoem die onderdelen in de overeenkomstige kleur.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 baseline="-25000">
                <a:solidFill>
                  <a:srgbClr val="000000"/>
                </a:solidFill>
                <a:latin typeface="Verdana"/>
              </a:rPr>
              <a:t>10</a:t>
            </a:r>
            <a:r>
              <a:rPr b="0" lang="nl-BE" sz="2800" spc="-1" strike="noStrike">
                <a:solidFill>
                  <a:srgbClr val="000000"/>
                </a:solidFill>
                <a:latin typeface="Verdana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3"/>
          <p:cNvGrpSpPr/>
          <p:nvPr/>
        </p:nvGrpSpPr>
        <p:grpSpPr>
          <a:xfrm>
            <a:off x="5729040" y="2068560"/>
            <a:ext cx="3522600" cy="3535560"/>
            <a:chOff x="5729040" y="2068560"/>
            <a:chExt cx="3522600" cy="3535560"/>
          </a:xfrm>
        </p:grpSpPr>
        <p:grpSp>
          <p:nvGrpSpPr>
            <p:cNvPr id="171" name="Group 4"/>
            <p:cNvGrpSpPr/>
            <p:nvPr/>
          </p:nvGrpSpPr>
          <p:grpSpPr>
            <a:xfrm>
              <a:off x="5729040" y="2068560"/>
              <a:ext cx="3522600" cy="3037680"/>
              <a:chOff x="5729040" y="2068560"/>
              <a:chExt cx="3522600" cy="3037680"/>
            </a:xfrm>
          </p:grpSpPr>
          <p:grpSp>
            <p:nvGrpSpPr>
              <p:cNvPr id="172" name="Group 5"/>
              <p:cNvGrpSpPr/>
              <p:nvPr/>
            </p:nvGrpSpPr>
            <p:grpSpPr>
              <a:xfrm>
                <a:off x="5729040" y="2530800"/>
                <a:ext cx="2834640" cy="2575440"/>
                <a:chOff x="5729040" y="2530800"/>
                <a:chExt cx="2834640" cy="2575440"/>
              </a:xfrm>
            </p:grpSpPr>
            <p:sp>
              <p:nvSpPr>
                <p:cNvPr id="173" name="Freeform 6"/>
                <p:cNvSpPr/>
                <p:nvPr/>
              </p:nvSpPr>
              <p:spPr>
                <a:xfrm flipV="1" rot="2937000">
                  <a:off x="7320240" y="2676600"/>
                  <a:ext cx="809640" cy="1420560"/>
                </a:xfrm>
                <a:custGeom>
                  <a:avLst/>
                  <a:gdLst/>
                  <a:ahLst/>
                  <a:rect l="l" t="t" r="r" b="b"/>
                  <a:pathLst>
                    <a:path w="599" h="939">
                      <a:moveTo>
                        <a:pt x="297" y="0"/>
                      </a:moveTo>
                      <a:lnTo>
                        <a:pt x="329" y="9"/>
                      </a:lnTo>
                      <a:lnTo>
                        <a:pt x="359" y="27"/>
                      </a:lnTo>
                      <a:lnTo>
                        <a:pt x="387" y="57"/>
                      </a:lnTo>
                      <a:lnTo>
                        <a:pt x="415" y="96"/>
                      </a:lnTo>
                      <a:lnTo>
                        <a:pt x="444" y="142"/>
                      </a:lnTo>
                      <a:lnTo>
                        <a:pt x="468" y="193"/>
                      </a:lnTo>
                      <a:lnTo>
                        <a:pt x="495" y="251"/>
                      </a:lnTo>
                      <a:lnTo>
                        <a:pt x="518" y="313"/>
                      </a:lnTo>
                      <a:lnTo>
                        <a:pt x="537" y="378"/>
                      </a:lnTo>
                      <a:lnTo>
                        <a:pt x="555" y="442"/>
                      </a:lnTo>
                      <a:lnTo>
                        <a:pt x="571" y="506"/>
                      </a:lnTo>
                      <a:lnTo>
                        <a:pt x="583" y="571"/>
                      </a:lnTo>
                      <a:lnTo>
                        <a:pt x="592" y="631"/>
                      </a:lnTo>
                      <a:lnTo>
                        <a:pt x="596" y="688"/>
                      </a:lnTo>
                      <a:lnTo>
                        <a:pt x="599" y="739"/>
                      </a:lnTo>
                      <a:lnTo>
                        <a:pt x="594" y="780"/>
                      </a:lnTo>
                      <a:lnTo>
                        <a:pt x="583" y="818"/>
                      </a:lnTo>
                      <a:lnTo>
                        <a:pt x="564" y="848"/>
                      </a:lnTo>
                      <a:lnTo>
                        <a:pt x="532" y="877"/>
                      </a:lnTo>
                      <a:lnTo>
                        <a:pt x="495" y="900"/>
                      </a:lnTo>
                      <a:lnTo>
                        <a:pt x="451" y="916"/>
                      </a:lnTo>
                      <a:lnTo>
                        <a:pt x="403" y="928"/>
                      </a:lnTo>
                      <a:lnTo>
                        <a:pt x="352" y="935"/>
                      </a:lnTo>
                      <a:lnTo>
                        <a:pt x="297" y="939"/>
                      </a:lnTo>
                      <a:lnTo>
                        <a:pt x="248" y="935"/>
                      </a:lnTo>
                      <a:lnTo>
                        <a:pt x="196" y="928"/>
                      </a:lnTo>
                      <a:lnTo>
                        <a:pt x="147" y="916"/>
                      </a:lnTo>
                      <a:lnTo>
                        <a:pt x="104" y="900"/>
                      </a:lnTo>
                      <a:lnTo>
                        <a:pt x="66" y="877"/>
                      </a:lnTo>
                      <a:lnTo>
                        <a:pt x="36" y="848"/>
                      </a:lnTo>
                      <a:lnTo>
                        <a:pt x="14" y="818"/>
                      </a:lnTo>
                      <a:lnTo>
                        <a:pt x="2" y="780"/>
                      </a:lnTo>
                      <a:lnTo>
                        <a:pt x="0" y="739"/>
                      </a:lnTo>
                      <a:lnTo>
                        <a:pt x="2" y="688"/>
                      </a:lnTo>
                      <a:lnTo>
                        <a:pt x="7" y="631"/>
                      </a:lnTo>
                      <a:lnTo>
                        <a:pt x="14" y="571"/>
                      </a:lnTo>
                      <a:lnTo>
                        <a:pt x="27" y="506"/>
                      </a:lnTo>
                      <a:lnTo>
                        <a:pt x="43" y="442"/>
                      </a:lnTo>
                      <a:lnTo>
                        <a:pt x="60" y="378"/>
                      </a:lnTo>
                      <a:lnTo>
                        <a:pt x="81" y="313"/>
                      </a:lnTo>
                      <a:lnTo>
                        <a:pt x="104" y="251"/>
                      </a:lnTo>
                      <a:lnTo>
                        <a:pt x="129" y="193"/>
                      </a:lnTo>
                      <a:lnTo>
                        <a:pt x="156" y="142"/>
                      </a:lnTo>
                      <a:lnTo>
                        <a:pt x="184" y="96"/>
                      </a:lnTo>
                      <a:lnTo>
                        <a:pt x="210" y="57"/>
                      </a:lnTo>
                      <a:lnTo>
                        <a:pt x="239" y="27"/>
                      </a:lnTo>
                      <a:lnTo>
                        <a:pt x="271" y="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99cc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4" name="Group 7"/>
                <p:cNvGrpSpPr/>
                <p:nvPr/>
              </p:nvGrpSpPr>
              <p:grpSpPr>
                <a:xfrm>
                  <a:off x="6719760" y="2530800"/>
                  <a:ext cx="906120" cy="2533680"/>
                  <a:chOff x="6719760" y="2530800"/>
                  <a:chExt cx="906120" cy="2533680"/>
                </a:xfrm>
              </p:grpSpPr>
              <p:sp>
                <p:nvSpPr>
                  <p:cNvPr id="175" name="Freeform 8"/>
                  <p:cNvSpPr/>
                  <p:nvPr/>
                </p:nvSpPr>
                <p:spPr>
                  <a:xfrm>
                    <a:off x="6719760" y="3792960"/>
                    <a:ext cx="906120" cy="1271520"/>
                  </a:xfrm>
                  <a:custGeom>
                    <a:avLst/>
                    <a:gdLst/>
                    <a:ahLst/>
                    <a:rect l="l" t="t" r="r" b="b"/>
                    <a:pathLst>
                      <a:path w="599" h="939">
                        <a:moveTo>
                          <a:pt x="297" y="0"/>
                        </a:moveTo>
                        <a:lnTo>
                          <a:pt x="329" y="9"/>
                        </a:lnTo>
                        <a:lnTo>
                          <a:pt x="359" y="27"/>
                        </a:lnTo>
                        <a:lnTo>
                          <a:pt x="387" y="57"/>
                        </a:lnTo>
                        <a:lnTo>
                          <a:pt x="415" y="96"/>
                        </a:lnTo>
                        <a:lnTo>
                          <a:pt x="444" y="142"/>
                        </a:lnTo>
                        <a:lnTo>
                          <a:pt x="468" y="193"/>
                        </a:lnTo>
                        <a:lnTo>
                          <a:pt x="495" y="251"/>
                        </a:lnTo>
                        <a:lnTo>
                          <a:pt x="518" y="313"/>
                        </a:lnTo>
                        <a:lnTo>
                          <a:pt x="537" y="378"/>
                        </a:lnTo>
                        <a:lnTo>
                          <a:pt x="555" y="442"/>
                        </a:lnTo>
                        <a:lnTo>
                          <a:pt x="571" y="506"/>
                        </a:lnTo>
                        <a:lnTo>
                          <a:pt x="583" y="571"/>
                        </a:lnTo>
                        <a:lnTo>
                          <a:pt x="592" y="631"/>
                        </a:lnTo>
                        <a:lnTo>
                          <a:pt x="596" y="688"/>
                        </a:lnTo>
                        <a:lnTo>
                          <a:pt x="599" y="739"/>
                        </a:lnTo>
                        <a:lnTo>
                          <a:pt x="594" y="780"/>
                        </a:lnTo>
                        <a:lnTo>
                          <a:pt x="583" y="818"/>
                        </a:lnTo>
                        <a:lnTo>
                          <a:pt x="564" y="848"/>
                        </a:lnTo>
                        <a:lnTo>
                          <a:pt x="532" y="877"/>
                        </a:lnTo>
                        <a:lnTo>
                          <a:pt x="495" y="900"/>
                        </a:lnTo>
                        <a:lnTo>
                          <a:pt x="451" y="916"/>
                        </a:lnTo>
                        <a:lnTo>
                          <a:pt x="403" y="928"/>
                        </a:lnTo>
                        <a:lnTo>
                          <a:pt x="352" y="935"/>
                        </a:lnTo>
                        <a:lnTo>
                          <a:pt x="297" y="939"/>
                        </a:lnTo>
                        <a:lnTo>
                          <a:pt x="248" y="935"/>
                        </a:lnTo>
                        <a:lnTo>
                          <a:pt x="196" y="928"/>
                        </a:lnTo>
                        <a:lnTo>
                          <a:pt x="147" y="916"/>
                        </a:lnTo>
                        <a:lnTo>
                          <a:pt x="104" y="900"/>
                        </a:lnTo>
                        <a:lnTo>
                          <a:pt x="66" y="877"/>
                        </a:lnTo>
                        <a:lnTo>
                          <a:pt x="36" y="848"/>
                        </a:lnTo>
                        <a:lnTo>
                          <a:pt x="14" y="818"/>
                        </a:lnTo>
                        <a:lnTo>
                          <a:pt x="2" y="780"/>
                        </a:lnTo>
                        <a:lnTo>
                          <a:pt x="0" y="739"/>
                        </a:lnTo>
                        <a:lnTo>
                          <a:pt x="2" y="688"/>
                        </a:lnTo>
                        <a:lnTo>
                          <a:pt x="7" y="631"/>
                        </a:lnTo>
                        <a:lnTo>
                          <a:pt x="14" y="571"/>
                        </a:lnTo>
                        <a:lnTo>
                          <a:pt x="27" y="506"/>
                        </a:lnTo>
                        <a:lnTo>
                          <a:pt x="43" y="442"/>
                        </a:lnTo>
                        <a:lnTo>
                          <a:pt x="60" y="378"/>
                        </a:lnTo>
                        <a:lnTo>
                          <a:pt x="81" y="313"/>
                        </a:lnTo>
                        <a:lnTo>
                          <a:pt x="104" y="251"/>
                        </a:lnTo>
                        <a:lnTo>
                          <a:pt x="129" y="193"/>
                        </a:lnTo>
                        <a:lnTo>
                          <a:pt x="156" y="142"/>
                        </a:lnTo>
                        <a:lnTo>
                          <a:pt x="184" y="96"/>
                        </a:lnTo>
                        <a:lnTo>
                          <a:pt x="210" y="57"/>
                        </a:lnTo>
                        <a:lnTo>
                          <a:pt x="239" y="27"/>
                        </a:lnTo>
                        <a:lnTo>
                          <a:pt x="271" y="9"/>
                        </a:lnTo>
                        <a:lnTo>
                          <a:pt x="297" y="0"/>
                        </a:lnTo>
                        <a:close/>
                      </a:path>
                    </a:pathLst>
                  </a:custGeom>
                  <a:solidFill>
                    <a:srgbClr val="99cc00"/>
                  </a:solidFill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9"/>
                  <p:cNvSpPr/>
                  <p:nvPr/>
                </p:nvSpPr>
                <p:spPr>
                  <a:xfrm>
                    <a:off x="6719760" y="2530800"/>
                    <a:ext cx="906120" cy="1262160"/>
                  </a:xfrm>
                  <a:custGeom>
                    <a:avLst/>
                    <a:gdLst/>
                    <a:ahLst/>
                    <a:rect l="l" t="t" r="r" b="b"/>
                    <a:pathLst>
                      <a:path w="599" h="933">
                        <a:moveTo>
                          <a:pt x="297" y="933"/>
                        </a:moveTo>
                        <a:lnTo>
                          <a:pt x="329" y="930"/>
                        </a:lnTo>
                        <a:lnTo>
                          <a:pt x="359" y="910"/>
                        </a:lnTo>
                        <a:lnTo>
                          <a:pt x="387" y="884"/>
                        </a:lnTo>
                        <a:lnTo>
                          <a:pt x="415" y="841"/>
                        </a:lnTo>
                        <a:lnTo>
                          <a:pt x="444" y="795"/>
                        </a:lnTo>
                        <a:lnTo>
                          <a:pt x="468" y="746"/>
                        </a:lnTo>
                        <a:lnTo>
                          <a:pt x="495" y="686"/>
                        </a:lnTo>
                        <a:lnTo>
                          <a:pt x="518" y="626"/>
                        </a:lnTo>
                        <a:lnTo>
                          <a:pt x="537" y="562"/>
                        </a:lnTo>
                        <a:lnTo>
                          <a:pt x="555" y="495"/>
                        </a:lnTo>
                        <a:lnTo>
                          <a:pt x="571" y="431"/>
                        </a:lnTo>
                        <a:lnTo>
                          <a:pt x="583" y="368"/>
                        </a:lnTo>
                        <a:lnTo>
                          <a:pt x="592" y="306"/>
                        </a:lnTo>
                        <a:lnTo>
                          <a:pt x="596" y="249"/>
                        </a:lnTo>
                        <a:lnTo>
                          <a:pt x="599" y="202"/>
                        </a:lnTo>
                        <a:lnTo>
                          <a:pt x="594" y="156"/>
                        </a:lnTo>
                        <a:lnTo>
                          <a:pt x="583" y="120"/>
                        </a:lnTo>
                        <a:lnTo>
                          <a:pt x="564" y="89"/>
                        </a:lnTo>
                        <a:lnTo>
                          <a:pt x="532" y="60"/>
                        </a:lnTo>
                        <a:lnTo>
                          <a:pt x="495" y="41"/>
                        </a:lnTo>
                        <a:lnTo>
                          <a:pt x="451" y="23"/>
                        </a:lnTo>
                        <a:lnTo>
                          <a:pt x="403" y="11"/>
                        </a:lnTo>
                        <a:lnTo>
                          <a:pt x="352" y="2"/>
                        </a:lnTo>
                        <a:lnTo>
                          <a:pt x="297" y="0"/>
                        </a:lnTo>
                        <a:lnTo>
                          <a:pt x="248" y="2"/>
                        </a:lnTo>
                        <a:lnTo>
                          <a:pt x="196" y="11"/>
                        </a:lnTo>
                        <a:lnTo>
                          <a:pt x="147" y="23"/>
                        </a:lnTo>
                        <a:lnTo>
                          <a:pt x="104" y="41"/>
                        </a:lnTo>
                        <a:lnTo>
                          <a:pt x="66" y="60"/>
                        </a:lnTo>
                        <a:lnTo>
                          <a:pt x="36" y="89"/>
                        </a:lnTo>
                        <a:lnTo>
                          <a:pt x="14" y="120"/>
                        </a:lnTo>
                        <a:lnTo>
                          <a:pt x="2" y="156"/>
                        </a:lnTo>
                        <a:lnTo>
                          <a:pt x="0" y="202"/>
                        </a:lnTo>
                        <a:lnTo>
                          <a:pt x="2" y="249"/>
                        </a:lnTo>
                        <a:lnTo>
                          <a:pt x="7" y="306"/>
                        </a:lnTo>
                        <a:lnTo>
                          <a:pt x="14" y="368"/>
                        </a:lnTo>
                        <a:lnTo>
                          <a:pt x="27" y="431"/>
                        </a:lnTo>
                        <a:lnTo>
                          <a:pt x="43" y="495"/>
                        </a:lnTo>
                        <a:lnTo>
                          <a:pt x="60" y="562"/>
                        </a:lnTo>
                        <a:lnTo>
                          <a:pt x="81" y="626"/>
                        </a:lnTo>
                        <a:lnTo>
                          <a:pt x="104" y="686"/>
                        </a:lnTo>
                        <a:lnTo>
                          <a:pt x="129" y="746"/>
                        </a:lnTo>
                        <a:lnTo>
                          <a:pt x="156" y="795"/>
                        </a:lnTo>
                        <a:lnTo>
                          <a:pt x="184" y="841"/>
                        </a:lnTo>
                        <a:lnTo>
                          <a:pt x="210" y="884"/>
                        </a:lnTo>
                        <a:lnTo>
                          <a:pt x="239" y="910"/>
                        </a:lnTo>
                        <a:lnTo>
                          <a:pt x="271" y="930"/>
                        </a:lnTo>
                        <a:lnTo>
                          <a:pt x="297" y="933"/>
                        </a:lnTo>
                        <a:close/>
                      </a:path>
                    </a:pathLst>
                  </a:custGeom>
                  <a:solidFill>
                    <a:srgbClr val="99cc00"/>
                  </a:solidFill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" name="Group 10"/>
                <p:cNvGrpSpPr/>
                <p:nvPr/>
              </p:nvGrpSpPr>
              <p:grpSpPr>
                <a:xfrm>
                  <a:off x="5729040" y="3399120"/>
                  <a:ext cx="2834640" cy="811080"/>
                  <a:chOff x="5729040" y="3399120"/>
                  <a:chExt cx="2834640" cy="811080"/>
                </a:xfrm>
              </p:grpSpPr>
              <p:sp>
                <p:nvSpPr>
                  <p:cNvPr id="178" name="Freeform 11"/>
                  <p:cNvSpPr/>
                  <p:nvPr/>
                </p:nvSpPr>
                <p:spPr>
                  <a:xfrm rot="5400000">
                    <a:off x="6034680" y="3093480"/>
                    <a:ext cx="811080" cy="1422360"/>
                  </a:xfrm>
                  <a:custGeom>
                    <a:avLst/>
                    <a:gdLst/>
                    <a:ahLst/>
                    <a:rect l="l" t="t" r="r" b="b"/>
                    <a:pathLst>
                      <a:path w="599" h="939">
                        <a:moveTo>
                          <a:pt x="297" y="0"/>
                        </a:moveTo>
                        <a:lnTo>
                          <a:pt x="329" y="9"/>
                        </a:lnTo>
                        <a:lnTo>
                          <a:pt x="359" y="27"/>
                        </a:lnTo>
                        <a:lnTo>
                          <a:pt x="387" y="57"/>
                        </a:lnTo>
                        <a:lnTo>
                          <a:pt x="415" y="96"/>
                        </a:lnTo>
                        <a:lnTo>
                          <a:pt x="444" y="142"/>
                        </a:lnTo>
                        <a:lnTo>
                          <a:pt x="468" y="193"/>
                        </a:lnTo>
                        <a:lnTo>
                          <a:pt x="495" y="251"/>
                        </a:lnTo>
                        <a:lnTo>
                          <a:pt x="518" y="313"/>
                        </a:lnTo>
                        <a:lnTo>
                          <a:pt x="537" y="378"/>
                        </a:lnTo>
                        <a:lnTo>
                          <a:pt x="555" y="442"/>
                        </a:lnTo>
                        <a:lnTo>
                          <a:pt x="571" y="506"/>
                        </a:lnTo>
                        <a:lnTo>
                          <a:pt x="583" y="571"/>
                        </a:lnTo>
                        <a:lnTo>
                          <a:pt x="592" y="631"/>
                        </a:lnTo>
                        <a:lnTo>
                          <a:pt x="596" y="688"/>
                        </a:lnTo>
                        <a:lnTo>
                          <a:pt x="599" y="739"/>
                        </a:lnTo>
                        <a:lnTo>
                          <a:pt x="594" y="780"/>
                        </a:lnTo>
                        <a:lnTo>
                          <a:pt x="583" y="818"/>
                        </a:lnTo>
                        <a:lnTo>
                          <a:pt x="564" y="848"/>
                        </a:lnTo>
                        <a:lnTo>
                          <a:pt x="532" y="877"/>
                        </a:lnTo>
                        <a:lnTo>
                          <a:pt x="495" y="900"/>
                        </a:lnTo>
                        <a:lnTo>
                          <a:pt x="451" y="916"/>
                        </a:lnTo>
                        <a:lnTo>
                          <a:pt x="403" y="928"/>
                        </a:lnTo>
                        <a:lnTo>
                          <a:pt x="352" y="935"/>
                        </a:lnTo>
                        <a:lnTo>
                          <a:pt x="297" y="939"/>
                        </a:lnTo>
                        <a:lnTo>
                          <a:pt x="248" y="935"/>
                        </a:lnTo>
                        <a:lnTo>
                          <a:pt x="196" y="928"/>
                        </a:lnTo>
                        <a:lnTo>
                          <a:pt x="147" y="916"/>
                        </a:lnTo>
                        <a:lnTo>
                          <a:pt x="104" y="900"/>
                        </a:lnTo>
                        <a:lnTo>
                          <a:pt x="66" y="877"/>
                        </a:lnTo>
                        <a:lnTo>
                          <a:pt x="36" y="848"/>
                        </a:lnTo>
                        <a:lnTo>
                          <a:pt x="14" y="818"/>
                        </a:lnTo>
                        <a:lnTo>
                          <a:pt x="2" y="780"/>
                        </a:lnTo>
                        <a:lnTo>
                          <a:pt x="0" y="739"/>
                        </a:lnTo>
                        <a:lnTo>
                          <a:pt x="2" y="688"/>
                        </a:lnTo>
                        <a:lnTo>
                          <a:pt x="7" y="631"/>
                        </a:lnTo>
                        <a:lnTo>
                          <a:pt x="14" y="571"/>
                        </a:lnTo>
                        <a:lnTo>
                          <a:pt x="27" y="506"/>
                        </a:lnTo>
                        <a:lnTo>
                          <a:pt x="43" y="442"/>
                        </a:lnTo>
                        <a:lnTo>
                          <a:pt x="60" y="378"/>
                        </a:lnTo>
                        <a:lnTo>
                          <a:pt x="81" y="313"/>
                        </a:lnTo>
                        <a:lnTo>
                          <a:pt x="104" y="251"/>
                        </a:lnTo>
                        <a:lnTo>
                          <a:pt x="129" y="193"/>
                        </a:lnTo>
                        <a:lnTo>
                          <a:pt x="156" y="142"/>
                        </a:lnTo>
                        <a:lnTo>
                          <a:pt x="184" y="96"/>
                        </a:lnTo>
                        <a:lnTo>
                          <a:pt x="210" y="57"/>
                        </a:lnTo>
                        <a:lnTo>
                          <a:pt x="239" y="27"/>
                        </a:lnTo>
                        <a:lnTo>
                          <a:pt x="271" y="9"/>
                        </a:lnTo>
                        <a:lnTo>
                          <a:pt x="297" y="0"/>
                        </a:lnTo>
                        <a:close/>
                      </a:path>
                    </a:pathLst>
                  </a:custGeom>
                  <a:solidFill>
                    <a:srgbClr val="99cc00"/>
                  </a:solidFill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Freeform 12"/>
                  <p:cNvSpPr/>
                  <p:nvPr/>
                </p:nvSpPr>
                <p:spPr>
                  <a:xfrm rot="5400000">
                    <a:off x="7452000" y="3098520"/>
                    <a:ext cx="811080" cy="1412280"/>
                  </a:xfrm>
                  <a:custGeom>
                    <a:avLst/>
                    <a:gdLst/>
                    <a:ahLst/>
                    <a:rect l="l" t="t" r="r" b="b"/>
                    <a:pathLst>
                      <a:path w="599" h="933">
                        <a:moveTo>
                          <a:pt x="297" y="933"/>
                        </a:moveTo>
                        <a:lnTo>
                          <a:pt x="329" y="930"/>
                        </a:lnTo>
                        <a:lnTo>
                          <a:pt x="359" y="910"/>
                        </a:lnTo>
                        <a:lnTo>
                          <a:pt x="387" y="884"/>
                        </a:lnTo>
                        <a:lnTo>
                          <a:pt x="415" y="841"/>
                        </a:lnTo>
                        <a:lnTo>
                          <a:pt x="444" y="795"/>
                        </a:lnTo>
                        <a:lnTo>
                          <a:pt x="468" y="746"/>
                        </a:lnTo>
                        <a:lnTo>
                          <a:pt x="495" y="686"/>
                        </a:lnTo>
                        <a:lnTo>
                          <a:pt x="518" y="626"/>
                        </a:lnTo>
                        <a:lnTo>
                          <a:pt x="537" y="562"/>
                        </a:lnTo>
                        <a:lnTo>
                          <a:pt x="555" y="495"/>
                        </a:lnTo>
                        <a:lnTo>
                          <a:pt x="571" y="431"/>
                        </a:lnTo>
                        <a:lnTo>
                          <a:pt x="583" y="368"/>
                        </a:lnTo>
                        <a:lnTo>
                          <a:pt x="592" y="306"/>
                        </a:lnTo>
                        <a:lnTo>
                          <a:pt x="596" y="249"/>
                        </a:lnTo>
                        <a:lnTo>
                          <a:pt x="599" y="202"/>
                        </a:lnTo>
                        <a:lnTo>
                          <a:pt x="594" y="156"/>
                        </a:lnTo>
                        <a:lnTo>
                          <a:pt x="583" y="120"/>
                        </a:lnTo>
                        <a:lnTo>
                          <a:pt x="564" y="89"/>
                        </a:lnTo>
                        <a:lnTo>
                          <a:pt x="532" y="60"/>
                        </a:lnTo>
                        <a:lnTo>
                          <a:pt x="495" y="41"/>
                        </a:lnTo>
                        <a:lnTo>
                          <a:pt x="451" y="23"/>
                        </a:lnTo>
                        <a:lnTo>
                          <a:pt x="403" y="11"/>
                        </a:lnTo>
                        <a:lnTo>
                          <a:pt x="352" y="2"/>
                        </a:lnTo>
                        <a:lnTo>
                          <a:pt x="297" y="0"/>
                        </a:lnTo>
                        <a:lnTo>
                          <a:pt x="248" y="2"/>
                        </a:lnTo>
                        <a:lnTo>
                          <a:pt x="196" y="11"/>
                        </a:lnTo>
                        <a:lnTo>
                          <a:pt x="147" y="23"/>
                        </a:lnTo>
                        <a:lnTo>
                          <a:pt x="104" y="41"/>
                        </a:lnTo>
                        <a:lnTo>
                          <a:pt x="66" y="60"/>
                        </a:lnTo>
                        <a:lnTo>
                          <a:pt x="36" y="89"/>
                        </a:lnTo>
                        <a:lnTo>
                          <a:pt x="14" y="120"/>
                        </a:lnTo>
                        <a:lnTo>
                          <a:pt x="2" y="156"/>
                        </a:lnTo>
                        <a:lnTo>
                          <a:pt x="0" y="202"/>
                        </a:lnTo>
                        <a:lnTo>
                          <a:pt x="2" y="249"/>
                        </a:lnTo>
                        <a:lnTo>
                          <a:pt x="7" y="306"/>
                        </a:lnTo>
                        <a:lnTo>
                          <a:pt x="14" y="368"/>
                        </a:lnTo>
                        <a:lnTo>
                          <a:pt x="27" y="431"/>
                        </a:lnTo>
                        <a:lnTo>
                          <a:pt x="43" y="495"/>
                        </a:lnTo>
                        <a:lnTo>
                          <a:pt x="60" y="562"/>
                        </a:lnTo>
                        <a:lnTo>
                          <a:pt x="81" y="626"/>
                        </a:lnTo>
                        <a:lnTo>
                          <a:pt x="104" y="686"/>
                        </a:lnTo>
                        <a:lnTo>
                          <a:pt x="129" y="746"/>
                        </a:lnTo>
                        <a:lnTo>
                          <a:pt x="156" y="795"/>
                        </a:lnTo>
                        <a:lnTo>
                          <a:pt x="184" y="841"/>
                        </a:lnTo>
                        <a:lnTo>
                          <a:pt x="210" y="884"/>
                        </a:lnTo>
                        <a:lnTo>
                          <a:pt x="239" y="910"/>
                        </a:lnTo>
                        <a:lnTo>
                          <a:pt x="271" y="930"/>
                        </a:lnTo>
                        <a:lnTo>
                          <a:pt x="297" y="933"/>
                        </a:lnTo>
                        <a:close/>
                      </a:path>
                    </a:pathLst>
                  </a:custGeom>
                  <a:solidFill>
                    <a:srgbClr val="99cc00"/>
                  </a:solidFill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0" name="Freeform 13"/>
                <p:cNvSpPr/>
                <p:nvPr/>
              </p:nvSpPr>
              <p:spPr>
                <a:xfrm rot="2463000">
                  <a:off x="6243480" y="3694320"/>
                  <a:ext cx="906120" cy="1270080"/>
                </a:xfrm>
                <a:custGeom>
                  <a:avLst/>
                  <a:gdLst/>
                  <a:ahLst/>
                  <a:rect l="l" t="t" r="r" b="b"/>
                  <a:pathLst>
                    <a:path w="599" h="939">
                      <a:moveTo>
                        <a:pt x="297" y="0"/>
                      </a:moveTo>
                      <a:lnTo>
                        <a:pt x="329" y="9"/>
                      </a:lnTo>
                      <a:lnTo>
                        <a:pt x="359" y="27"/>
                      </a:lnTo>
                      <a:lnTo>
                        <a:pt x="387" y="57"/>
                      </a:lnTo>
                      <a:lnTo>
                        <a:pt x="415" y="96"/>
                      </a:lnTo>
                      <a:lnTo>
                        <a:pt x="444" y="142"/>
                      </a:lnTo>
                      <a:lnTo>
                        <a:pt x="468" y="193"/>
                      </a:lnTo>
                      <a:lnTo>
                        <a:pt x="495" y="251"/>
                      </a:lnTo>
                      <a:lnTo>
                        <a:pt x="518" y="313"/>
                      </a:lnTo>
                      <a:lnTo>
                        <a:pt x="537" y="378"/>
                      </a:lnTo>
                      <a:lnTo>
                        <a:pt x="555" y="442"/>
                      </a:lnTo>
                      <a:lnTo>
                        <a:pt x="571" y="506"/>
                      </a:lnTo>
                      <a:lnTo>
                        <a:pt x="583" y="571"/>
                      </a:lnTo>
                      <a:lnTo>
                        <a:pt x="592" y="631"/>
                      </a:lnTo>
                      <a:lnTo>
                        <a:pt x="596" y="688"/>
                      </a:lnTo>
                      <a:lnTo>
                        <a:pt x="599" y="739"/>
                      </a:lnTo>
                      <a:lnTo>
                        <a:pt x="594" y="780"/>
                      </a:lnTo>
                      <a:lnTo>
                        <a:pt x="583" y="818"/>
                      </a:lnTo>
                      <a:lnTo>
                        <a:pt x="564" y="848"/>
                      </a:lnTo>
                      <a:lnTo>
                        <a:pt x="532" y="877"/>
                      </a:lnTo>
                      <a:lnTo>
                        <a:pt x="495" y="900"/>
                      </a:lnTo>
                      <a:lnTo>
                        <a:pt x="451" y="916"/>
                      </a:lnTo>
                      <a:lnTo>
                        <a:pt x="403" y="928"/>
                      </a:lnTo>
                      <a:lnTo>
                        <a:pt x="352" y="935"/>
                      </a:lnTo>
                      <a:lnTo>
                        <a:pt x="297" y="939"/>
                      </a:lnTo>
                      <a:lnTo>
                        <a:pt x="248" y="935"/>
                      </a:lnTo>
                      <a:lnTo>
                        <a:pt x="196" y="928"/>
                      </a:lnTo>
                      <a:lnTo>
                        <a:pt x="147" y="916"/>
                      </a:lnTo>
                      <a:lnTo>
                        <a:pt x="104" y="900"/>
                      </a:lnTo>
                      <a:lnTo>
                        <a:pt x="66" y="877"/>
                      </a:lnTo>
                      <a:lnTo>
                        <a:pt x="36" y="848"/>
                      </a:lnTo>
                      <a:lnTo>
                        <a:pt x="14" y="818"/>
                      </a:lnTo>
                      <a:lnTo>
                        <a:pt x="2" y="780"/>
                      </a:lnTo>
                      <a:lnTo>
                        <a:pt x="0" y="739"/>
                      </a:lnTo>
                      <a:lnTo>
                        <a:pt x="2" y="688"/>
                      </a:lnTo>
                      <a:lnTo>
                        <a:pt x="7" y="631"/>
                      </a:lnTo>
                      <a:lnTo>
                        <a:pt x="14" y="571"/>
                      </a:lnTo>
                      <a:lnTo>
                        <a:pt x="27" y="506"/>
                      </a:lnTo>
                      <a:lnTo>
                        <a:pt x="43" y="442"/>
                      </a:lnTo>
                      <a:lnTo>
                        <a:pt x="60" y="378"/>
                      </a:lnTo>
                      <a:lnTo>
                        <a:pt x="81" y="313"/>
                      </a:lnTo>
                      <a:lnTo>
                        <a:pt x="104" y="251"/>
                      </a:lnTo>
                      <a:lnTo>
                        <a:pt x="129" y="193"/>
                      </a:lnTo>
                      <a:lnTo>
                        <a:pt x="156" y="142"/>
                      </a:lnTo>
                      <a:lnTo>
                        <a:pt x="184" y="96"/>
                      </a:lnTo>
                      <a:lnTo>
                        <a:pt x="210" y="57"/>
                      </a:lnTo>
                      <a:lnTo>
                        <a:pt x="239" y="27"/>
                      </a:lnTo>
                      <a:lnTo>
                        <a:pt x="271" y="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99cc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Freeform 14"/>
              <p:cNvSpPr/>
              <p:nvPr/>
            </p:nvSpPr>
            <p:spPr>
              <a:xfrm>
                <a:off x="6068880" y="2740320"/>
                <a:ext cx="2192040" cy="2195280"/>
              </a:xfrm>
              <a:custGeom>
                <a:avLst/>
                <a:gdLst/>
                <a:ahLst/>
                <a:rect l="l" t="t" r="r" b="b"/>
                <a:pathLst>
                  <a:path w="356" h="355">
                    <a:moveTo>
                      <a:pt x="223" y="7"/>
                    </a:moveTo>
                    <a:lnTo>
                      <a:pt x="262" y="21"/>
                    </a:lnTo>
                    <a:lnTo>
                      <a:pt x="296" y="41"/>
                    </a:lnTo>
                    <a:lnTo>
                      <a:pt x="320" y="65"/>
                    </a:lnTo>
                    <a:lnTo>
                      <a:pt x="338" y="95"/>
                    </a:lnTo>
                    <a:lnTo>
                      <a:pt x="350" y="125"/>
                    </a:lnTo>
                    <a:lnTo>
                      <a:pt x="356" y="157"/>
                    </a:lnTo>
                    <a:lnTo>
                      <a:pt x="356" y="191"/>
                    </a:lnTo>
                    <a:lnTo>
                      <a:pt x="350" y="223"/>
                    </a:lnTo>
                    <a:lnTo>
                      <a:pt x="338" y="254"/>
                    </a:lnTo>
                    <a:lnTo>
                      <a:pt x="322" y="283"/>
                    </a:lnTo>
                    <a:lnTo>
                      <a:pt x="301" y="307"/>
                    </a:lnTo>
                    <a:lnTo>
                      <a:pt x="274" y="329"/>
                    </a:lnTo>
                    <a:lnTo>
                      <a:pt x="244" y="345"/>
                    </a:lnTo>
                    <a:lnTo>
                      <a:pt x="211" y="353"/>
                    </a:lnTo>
                    <a:lnTo>
                      <a:pt x="174" y="355"/>
                    </a:lnTo>
                    <a:lnTo>
                      <a:pt x="133" y="348"/>
                    </a:lnTo>
                    <a:lnTo>
                      <a:pt x="92" y="334"/>
                    </a:lnTo>
                    <a:lnTo>
                      <a:pt x="61" y="313"/>
                    </a:lnTo>
                    <a:lnTo>
                      <a:pt x="36" y="288"/>
                    </a:lnTo>
                    <a:lnTo>
                      <a:pt x="18" y="260"/>
                    </a:lnTo>
                    <a:lnTo>
                      <a:pt x="6" y="230"/>
                    </a:lnTo>
                    <a:lnTo>
                      <a:pt x="0" y="196"/>
                    </a:lnTo>
                    <a:lnTo>
                      <a:pt x="0" y="164"/>
                    </a:lnTo>
                    <a:lnTo>
                      <a:pt x="6" y="132"/>
                    </a:lnTo>
                    <a:lnTo>
                      <a:pt x="18" y="101"/>
                    </a:lnTo>
                    <a:lnTo>
                      <a:pt x="34" y="71"/>
                    </a:lnTo>
                    <a:lnTo>
                      <a:pt x="55" y="46"/>
                    </a:lnTo>
                    <a:lnTo>
                      <a:pt x="80" y="26"/>
                    </a:lnTo>
                    <a:lnTo>
                      <a:pt x="110" y="11"/>
                    </a:lnTo>
                    <a:lnTo>
                      <a:pt x="145" y="2"/>
                    </a:lnTo>
                    <a:lnTo>
                      <a:pt x="182" y="0"/>
                    </a:lnTo>
                    <a:lnTo>
                      <a:pt x="223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be0e3">
                      <a:alpha val="49019"/>
                    </a:srgbClr>
                  </a:gs>
                  <a:gs pos="100000">
                    <a:srgbClr val="576869">
                      <a:alpha val="48235"/>
                    </a:srgbClr>
                  </a:gs>
                </a:gsLst>
                <a:lin ang="5400000"/>
              </a:gra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15"/>
              <p:cNvSpPr/>
              <p:nvPr/>
            </p:nvSpPr>
            <p:spPr>
              <a:xfrm>
                <a:off x="6619680" y="3272040"/>
                <a:ext cx="1079280" cy="1079640"/>
              </a:xfrm>
              <a:custGeom>
                <a:avLst/>
                <a:gdLst/>
                <a:ahLst/>
                <a:rect l="l" t="t" r="r" b="b"/>
                <a:pathLst>
                  <a:path w="356" h="355">
                    <a:moveTo>
                      <a:pt x="223" y="7"/>
                    </a:moveTo>
                    <a:lnTo>
                      <a:pt x="262" y="21"/>
                    </a:lnTo>
                    <a:lnTo>
                      <a:pt x="296" y="41"/>
                    </a:lnTo>
                    <a:lnTo>
                      <a:pt x="320" y="65"/>
                    </a:lnTo>
                    <a:lnTo>
                      <a:pt x="338" y="95"/>
                    </a:lnTo>
                    <a:lnTo>
                      <a:pt x="350" y="125"/>
                    </a:lnTo>
                    <a:lnTo>
                      <a:pt x="356" y="157"/>
                    </a:lnTo>
                    <a:lnTo>
                      <a:pt x="356" y="191"/>
                    </a:lnTo>
                    <a:lnTo>
                      <a:pt x="350" y="223"/>
                    </a:lnTo>
                    <a:lnTo>
                      <a:pt x="338" y="254"/>
                    </a:lnTo>
                    <a:lnTo>
                      <a:pt x="322" y="283"/>
                    </a:lnTo>
                    <a:lnTo>
                      <a:pt x="301" y="307"/>
                    </a:lnTo>
                    <a:lnTo>
                      <a:pt x="274" y="329"/>
                    </a:lnTo>
                    <a:lnTo>
                      <a:pt x="244" y="345"/>
                    </a:lnTo>
                    <a:lnTo>
                      <a:pt x="211" y="353"/>
                    </a:lnTo>
                    <a:lnTo>
                      <a:pt x="174" y="355"/>
                    </a:lnTo>
                    <a:lnTo>
                      <a:pt x="133" y="348"/>
                    </a:lnTo>
                    <a:lnTo>
                      <a:pt x="92" y="334"/>
                    </a:lnTo>
                    <a:lnTo>
                      <a:pt x="61" y="313"/>
                    </a:lnTo>
                    <a:lnTo>
                      <a:pt x="36" y="288"/>
                    </a:lnTo>
                    <a:lnTo>
                      <a:pt x="18" y="260"/>
                    </a:lnTo>
                    <a:lnTo>
                      <a:pt x="6" y="230"/>
                    </a:lnTo>
                    <a:lnTo>
                      <a:pt x="0" y="196"/>
                    </a:lnTo>
                    <a:lnTo>
                      <a:pt x="0" y="164"/>
                    </a:lnTo>
                    <a:lnTo>
                      <a:pt x="6" y="132"/>
                    </a:lnTo>
                    <a:lnTo>
                      <a:pt x="18" y="101"/>
                    </a:lnTo>
                    <a:lnTo>
                      <a:pt x="34" y="71"/>
                    </a:lnTo>
                    <a:lnTo>
                      <a:pt x="55" y="46"/>
                    </a:lnTo>
                    <a:lnTo>
                      <a:pt x="80" y="26"/>
                    </a:lnTo>
                    <a:lnTo>
                      <a:pt x="110" y="11"/>
                    </a:lnTo>
                    <a:lnTo>
                      <a:pt x="145" y="2"/>
                    </a:lnTo>
                    <a:lnTo>
                      <a:pt x="182" y="0"/>
                    </a:lnTo>
                    <a:lnTo>
                      <a:pt x="223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33">
                      <a:alpha val="52156"/>
                    </a:srgbClr>
                  </a:gs>
                  <a:gs pos="100000">
                    <a:srgbClr val="764718">
                      <a:alpha val="45098"/>
                    </a:srgbClr>
                  </a:gs>
                </a:gsLst>
                <a:lin ang="5400000"/>
              </a:gra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Oval 16"/>
              <p:cNvSpPr/>
              <p:nvPr/>
            </p:nvSpPr>
            <p:spPr>
              <a:xfrm>
                <a:off x="7073640" y="3733920"/>
                <a:ext cx="179280" cy="179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17"/>
              <p:cNvSpPr/>
              <p:nvPr/>
            </p:nvSpPr>
            <p:spPr>
              <a:xfrm>
                <a:off x="5964120" y="2740320"/>
                <a:ext cx="550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2400" spc="-1" strike="noStrike">
                    <a:solidFill>
                      <a:srgbClr val="000000"/>
                    </a:solidFill>
                    <a:latin typeface="Times New Roman"/>
                  </a:rPr>
                  <a:t>2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18"/>
              <p:cNvSpPr/>
              <p:nvPr/>
            </p:nvSpPr>
            <p:spPr>
              <a:xfrm>
                <a:off x="7554960" y="3735720"/>
                <a:ext cx="550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2400" spc="-1" strike="noStrike">
                    <a:solidFill>
                      <a:srgbClr val="000000"/>
                    </a:solidFill>
                    <a:latin typeface="Times New Roman"/>
                  </a:rPr>
                  <a:t>1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19"/>
              <p:cNvSpPr/>
              <p:nvPr/>
            </p:nvSpPr>
            <p:spPr>
              <a:xfrm>
                <a:off x="8442360" y="3544920"/>
                <a:ext cx="809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2400" spc="-1" strike="noStrike">
                    <a:solidFill>
                      <a:srgbClr val="000000"/>
                    </a:solidFill>
                    <a:latin typeface="Times New Roman"/>
                  </a:rPr>
                  <a:t>2p</a:t>
                </a:r>
                <a:r>
                  <a:rPr b="0" lang="nl-N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20"/>
              <p:cNvSpPr/>
              <p:nvPr/>
            </p:nvSpPr>
            <p:spPr>
              <a:xfrm>
                <a:off x="8047080" y="2525760"/>
                <a:ext cx="809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2400" spc="-1" strike="noStrike">
                    <a:solidFill>
                      <a:srgbClr val="000000"/>
                    </a:solidFill>
                    <a:latin typeface="Times New Roman"/>
                  </a:rPr>
                  <a:t>2p</a:t>
                </a:r>
                <a:r>
                  <a:rPr b="0" lang="nl-N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21"/>
              <p:cNvSpPr/>
              <p:nvPr/>
            </p:nvSpPr>
            <p:spPr>
              <a:xfrm>
                <a:off x="6816600" y="2068560"/>
                <a:ext cx="809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2400" spc="-1" strike="noStrike">
                    <a:solidFill>
                      <a:srgbClr val="000000"/>
                    </a:solidFill>
                    <a:latin typeface="Times New Roman"/>
                  </a:rPr>
                  <a:t>2p</a:t>
                </a:r>
                <a:r>
                  <a:rPr b="0" lang="nl-N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Text Box 22"/>
            <p:cNvSpPr/>
            <p:nvPr/>
          </p:nvSpPr>
          <p:spPr>
            <a:xfrm>
              <a:off x="6156360" y="5235840"/>
              <a:ext cx="27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golfmechanisch mod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23"/>
          <p:cNvGrpSpPr/>
          <p:nvPr/>
        </p:nvGrpSpPr>
        <p:grpSpPr>
          <a:xfrm>
            <a:off x="179280" y="2565360"/>
            <a:ext cx="2448000" cy="3985200"/>
            <a:chOff x="179280" y="2565360"/>
            <a:chExt cx="2448000" cy="3985200"/>
          </a:xfrm>
        </p:grpSpPr>
        <p:grpSp>
          <p:nvGrpSpPr>
            <p:cNvPr id="191" name="Group 24"/>
            <p:cNvGrpSpPr/>
            <p:nvPr/>
          </p:nvGrpSpPr>
          <p:grpSpPr>
            <a:xfrm>
              <a:off x="179280" y="2565360"/>
              <a:ext cx="2303640" cy="2745000"/>
              <a:chOff x="179280" y="2565360"/>
              <a:chExt cx="2303640" cy="2745000"/>
            </a:xfrm>
          </p:grpSpPr>
          <p:grpSp>
            <p:nvGrpSpPr>
              <p:cNvPr id="192" name="Group 25"/>
              <p:cNvGrpSpPr/>
              <p:nvPr/>
            </p:nvGrpSpPr>
            <p:grpSpPr>
              <a:xfrm>
                <a:off x="179280" y="2565360"/>
                <a:ext cx="2303640" cy="2168640"/>
                <a:chOff x="179280" y="2565360"/>
                <a:chExt cx="2303640" cy="2168640"/>
              </a:xfrm>
            </p:grpSpPr>
            <p:sp>
              <p:nvSpPr>
                <p:cNvPr id="193" name="Oval 26"/>
                <p:cNvSpPr/>
                <p:nvPr/>
              </p:nvSpPr>
              <p:spPr>
                <a:xfrm>
                  <a:off x="898560" y="3214800"/>
                  <a:ext cx="863640" cy="865080"/>
                </a:xfrm>
                <a:prstGeom prst="ellipse">
                  <a:avLst/>
                </a:prstGeom>
                <a:noFill/>
                <a:ln w="2844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Oval 27"/>
                <p:cNvSpPr/>
                <p:nvPr/>
              </p:nvSpPr>
              <p:spPr>
                <a:xfrm>
                  <a:off x="250920" y="2565360"/>
                  <a:ext cx="2158920" cy="2158920"/>
                </a:xfrm>
                <a:prstGeom prst="ellipse">
                  <a:avLst/>
                </a:prstGeom>
                <a:noFill/>
                <a:ln w="2844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Text Box 28"/>
                <p:cNvSpPr/>
                <p:nvPr/>
              </p:nvSpPr>
              <p:spPr>
                <a:xfrm>
                  <a:off x="324000" y="4365720"/>
                  <a:ext cx="360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BE" sz="1800" spc="-1" strike="noStrike">
                      <a:solidFill>
                        <a:srgbClr val="000000"/>
                      </a:solidFill>
                      <a:latin typeface="Verdana"/>
                    </a:rPr>
                    <a:t>L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Oval 29"/>
                <p:cNvSpPr/>
                <p:nvPr/>
              </p:nvSpPr>
              <p:spPr>
                <a:xfrm>
                  <a:off x="1317600" y="3573360"/>
                  <a:ext cx="85680" cy="86040"/>
                </a:xfrm>
                <a:prstGeom prst="ellipse">
                  <a:avLst/>
                </a:prstGeom>
                <a:solidFill>
                  <a:srgbClr val="ff3300"/>
                </a:solidFill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040" bIns="14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Text Box 30"/>
                <p:cNvSpPr/>
                <p:nvPr/>
              </p:nvSpPr>
              <p:spPr>
                <a:xfrm>
                  <a:off x="755640" y="3070440"/>
                  <a:ext cx="360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BE" sz="1800" spc="-1" strike="noStrike">
                      <a:solidFill>
                        <a:srgbClr val="000000"/>
                      </a:solidFill>
                      <a:latin typeface="Verdana"/>
                    </a:rPr>
                    <a:t>K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Oval 31"/>
                <p:cNvSpPr/>
                <p:nvPr/>
              </p:nvSpPr>
              <p:spPr>
                <a:xfrm>
                  <a:off x="179280" y="3502080"/>
                  <a:ext cx="71640" cy="71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Oval 32"/>
                <p:cNvSpPr/>
                <p:nvPr/>
              </p:nvSpPr>
              <p:spPr>
                <a:xfrm>
                  <a:off x="179280" y="3718080"/>
                  <a:ext cx="71640" cy="71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Oval 33"/>
                <p:cNvSpPr/>
                <p:nvPr/>
              </p:nvSpPr>
              <p:spPr>
                <a:xfrm>
                  <a:off x="2411280" y="3502080"/>
                  <a:ext cx="71640" cy="71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Oval 34"/>
                <p:cNvSpPr/>
                <p:nvPr/>
              </p:nvSpPr>
              <p:spPr>
                <a:xfrm>
                  <a:off x="2340000" y="3718080"/>
                  <a:ext cx="71280" cy="71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Oval 35"/>
                <p:cNvSpPr/>
                <p:nvPr/>
              </p:nvSpPr>
              <p:spPr>
                <a:xfrm>
                  <a:off x="1332000" y="3213000"/>
                  <a:ext cx="71280" cy="71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Oval 36"/>
                <p:cNvSpPr/>
                <p:nvPr/>
              </p:nvSpPr>
              <p:spPr>
                <a:xfrm>
                  <a:off x="1547640" y="3286080"/>
                  <a:ext cx="71640" cy="71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Oval 37"/>
                <p:cNvSpPr/>
                <p:nvPr/>
              </p:nvSpPr>
              <p:spPr>
                <a:xfrm>
                  <a:off x="1258920" y="4654440"/>
                  <a:ext cx="71280" cy="71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Oval 38"/>
                <p:cNvSpPr/>
                <p:nvPr/>
              </p:nvSpPr>
              <p:spPr>
                <a:xfrm>
                  <a:off x="1476360" y="4654440"/>
                  <a:ext cx="71280" cy="71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Oval 39"/>
                <p:cNvSpPr/>
                <p:nvPr/>
              </p:nvSpPr>
              <p:spPr>
                <a:xfrm>
                  <a:off x="1187280" y="2565360"/>
                  <a:ext cx="71640" cy="71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Oval 40"/>
                <p:cNvSpPr/>
                <p:nvPr/>
              </p:nvSpPr>
              <p:spPr>
                <a:xfrm>
                  <a:off x="1332000" y="2565360"/>
                  <a:ext cx="71280" cy="71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8" name="Text Box 41"/>
              <p:cNvSpPr/>
              <p:nvPr/>
            </p:nvSpPr>
            <p:spPr>
              <a:xfrm>
                <a:off x="826920" y="4942080"/>
                <a:ext cx="100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800" spc="-1" strike="noStrike">
                    <a:solidFill>
                      <a:srgbClr val="000000"/>
                    </a:solidFill>
                    <a:latin typeface="Verdana"/>
                  </a:rPr>
                  <a:t>Boh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Text Box 42"/>
            <p:cNvSpPr/>
            <p:nvPr/>
          </p:nvSpPr>
          <p:spPr>
            <a:xfrm>
              <a:off x="250920" y="5727600"/>
              <a:ext cx="2376360" cy="8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1" lang="nl-BE" sz="1800" spc="-1" strike="noStrike">
                  <a:solidFill>
                    <a:srgbClr val="000000"/>
                  </a:solidFill>
                  <a:latin typeface="Verdana"/>
                </a:rPr>
                <a:t>K</a:t>
              </a:r>
              <a:r>
                <a:rPr b="1" lang="nl-BE" sz="18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1" lang="nl-BE" sz="1800" spc="-1" strike="noStrike">
                  <a:solidFill>
                    <a:srgbClr val="000000"/>
                  </a:solidFill>
                  <a:latin typeface="Verdana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800" spc="-1" strike="noStrike" baseline="-25000">
                  <a:solidFill>
                    <a:srgbClr val="000000"/>
                  </a:solidFill>
                  <a:latin typeface="Verdana"/>
                </a:rPr>
                <a:t>10</a:t>
              </a:r>
              <a:r>
                <a:rPr b="1" lang="nl-BE" sz="1800" spc="-1" strike="noStrike">
                  <a:solidFill>
                    <a:srgbClr val="000000"/>
                  </a:solidFill>
                  <a:latin typeface="Verdana"/>
                </a:rPr>
                <a:t>Ne     </a:t>
              </a:r>
              <a:r>
                <a:rPr b="1" lang="nl-BE" sz="1800" spc="-1" strike="noStrike">
                  <a:solidFill>
                    <a:srgbClr val="ff9933"/>
                  </a:solidFill>
                  <a:latin typeface="Verdana"/>
                </a:rPr>
                <a:t>2</a:t>
              </a:r>
              <a:r>
                <a:rPr b="1" lang="nl-BE" sz="1800" spc="-1" strike="noStrike">
                  <a:solidFill>
                    <a:srgbClr val="000000"/>
                  </a:solidFill>
                  <a:latin typeface="Verdana"/>
                </a:rPr>
                <a:t>         </a:t>
              </a:r>
              <a:r>
                <a:rPr b="1" lang="nl-BE" sz="1800" spc="-1" strike="noStrike">
                  <a:solidFill>
                    <a:srgbClr val="bbe0e3"/>
                  </a:solidFill>
                  <a:latin typeface="Verdana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oup 43"/>
          <p:cNvGrpSpPr/>
          <p:nvPr/>
        </p:nvGrpSpPr>
        <p:grpSpPr>
          <a:xfrm>
            <a:off x="2987640" y="2565360"/>
            <a:ext cx="2952720" cy="3985200"/>
            <a:chOff x="2987640" y="2565360"/>
            <a:chExt cx="2952720" cy="3985200"/>
          </a:xfrm>
        </p:grpSpPr>
        <p:grpSp>
          <p:nvGrpSpPr>
            <p:cNvPr id="211" name="Group 44"/>
            <p:cNvGrpSpPr/>
            <p:nvPr/>
          </p:nvGrpSpPr>
          <p:grpSpPr>
            <a:xfrm>
              <a:off x="2987640" y="2565360"/>
              <a:ext cx="2448000" cy="2815920"/>
              <a:chOff x="2987640" y="2565360"/>
              <a:chExt cx="2448000" cy="2815920"/>
            </a:xfrm>
          </p:grpSpPr>
          <p:grpSp>
            <p:nvGrpSpPr>
              <p:cNvPr id="212" name="Group 45"/>
              <p:cNvGrpSpPr/>
              <p:nvPr/>
            </p:nvGrpSpPr>
            <p:grpSpPr>
              <a:xfrm>
                <a:off x="2987640" y="2565360"/>
                <a:ext cx="2160720" cy="2160000"/>
                <a:chOff x="2987640" y="2565360"/>
                <a:chExt cx="2160720" cy="2160000"/>
              </a:xfrm>
            </p:grpSpPr>
            <p:grpSp>
              <p:nvGrpSpPr>
                <p:cNvPr id="213" name="Group 46"/>
                <p:cNvGrpSpPr/>
                <p:nvPr/>
              </p:nvGrpSpPr>
              <p:grpSpPr>
                <a:xfrm>
                  <a:off x="2989440" y="2565360"/>
                  <a:ext cx="2158560" cy="2158200"/>
                  <a:chOff x="2989440" y="2565360"/>
                  <a:chExt cx="2158560" cy="2158200"/>
                </a:xfrm>
              </p:grpSpPr>
              <p:grpSp>
                <p:nvGrpSpPr>
                  <p:cNvPr id="214" name="Group 47"/>
                  <p:cNvGrpSpPr/>
                  <p:nvPr/>
                </p:nvGrpSpPr>
                <p:grpSpPr>
                  <a:xfrm>
                    <a:off x="2989440" y="2565360"/>
                    <a:ext cx="2158560" cy="2158200"/>
                    <a:chOff x="2989440" y="2565360"/>
                    <a:chExt cx="2158560" cy="2158200"/>
                  </a:xfrm>
                </p:grpSpPr>
                <p:sp>
                  <p:nvSpPr>
                    <p:cNvPr id="215" name="Oval 48"/>
                    <p:cNvSpPr/>
                    <p:nvPr/>
                  </p:nvSpPr>
                  <p:spPr>
                    <a:xfrm>
                      <a:off x="3636720" y="3214800"/>
                      <a:ext cx="864000" cy="86364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ff99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" name="Oval 49"/>
                    <p:cNvSpPr/>
                    <p:nvPr/>
                  </p:nvSpPr>
                  <p:spPr>
                    <a:xfrm>
                      <a:off x="3203640" y="2781720"/>
                      <a:ext cx="1728000" cy="172764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bbe0e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" name="Oval 50"/>
                    <p:cNvSpPr/>
                    <p:nvPr/>
                  </p:nvSpPr>
                  <p:spPr>
                    <a:xfrm>
                      <a:off x="2989440" y="2565360"/>
                      <a:ext cx="2158560" cy="215820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bbe0e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18" name="Oval 51"/>
                  <p:cNvSpPr/>
                  <p:nvPr/>
                </p:nvSpPr>
                <p:spPr>
                  <a:xfrm>
                    <a:off x="4054320" y="3632040"/>
                    <a:ext cx="86040" cy="8532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9" name="Oval 52"/>
                <p:cNvSpPr/>
                <p:nvPr/>
              </p:nvSpPr>
              <p:spPr>
                <a:xfrm>
                  <a:off x="3924360" y="3212640"/>
                  <a:ext cx="71280" cy="71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Oval 53"/>
                <p:cNvSpPr/>
                <p:nvPr/>
              </p:nvSpPr>
              <p:spPr>
                <a:xfrm>
                  <a:off x="4932360" y="2997000"/>
                  <a:ext cx="71280" cy="70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Oval 54"/>
                <p:cNvSpPr/>
                <p:nvPr/>
              </p:nvSpPr>
              <p:spPr>
                <a:xfrm>
                  <a:off x="5076720" y="3141360"/>
                  <a:ext cx="71640" cy="70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Oval 55"/>
                <p:cNvSpPr/>
                <p:nvPr/>
              </p:nvSpPr>
              <p:spPr>
                <a:xfrm>
                  <a:off x="4067280" y="4654080"/>
                  <a:ext cx="71280" cy="71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Oval 56"/>
                <p:cNvSpPr/>
                <p:nvPr/>
              </p:nvSpPr>
              <p:spPr>
                <a:xfrm>
                  <a:off x="4140360" y="3214440"/>
                  <a:ext cx="71280" cy="70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Oval 57"/>
                <p:cNvSpPr/>
                <p:nvPr/>
              </p:nvSpPr>
              <p:spPr>
                <a:xfrm>
                  <a:off x="4067280" y="2781000"/>
                  <a:ext cx="71280" cy="70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Oval 58"/>
                <p:cNvSpPr/>
                <p:nvPr/>
              </p:nvSpPr>
              <p:spPr>
                <a:xfrm>
                  <a:off x="4284720" y="2781000"/>
                  <a:ext cx="71280" cy="70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Oval 59"/>
                <p:cNvSpPr/>
                <p:nvPr/>
              </p:nvSpPr>
              <p:spPr>
                <a:xfrm>
                  <a:off x="4284720" y="4654080"/>
                  <a:ext cx="71280" cy="71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Oval 60"/>
                <p:cNvSpPr/>
                <p:nvPr/>
              </p:nvSpPr>
              <p:spPr>
                <a:xfrm>
                  <a:off x="2987640" y="3501720"/>
                  <a:ext cx="71640" cy="70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Oval 61"/>
                <p:cNvSpPr/>
                <p:nvPr/>
              </p:nvSpPr>
              <p:spPr>
                <a:xfrm>
                  <a:off x="2987640" y="3285720"/>
                  <a:ext cx="71640" cy="71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9" name="Text Box 62"/>
              <p:cNvSpPr/>
              <p:nvPr/>
            </p:nvSpPr>
            <p:spPr>
              <a:xfrm>
                <a:off x="3635280" y="3789000"/>
                <a:ext cx="50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800" spc="-1" strike="noStrike">
                    <a:solidFill>
                      <a:srgbClr val="000000"/>
                    </a:solidFill>
                    <a:latin typeface="Verdana"/>
                  </a:rPr>
                  <a:t>1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Text Box 63"/>
              <p:cNvSpPr/>
              <p:nvPr/>
            </p:nvSpPr>
            <p:spPr>
              <a:xfrm>
                <a:off x="4356000" y="2854080"/>
                <a:ext cx="50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800" spc="-1" strike="noStrike">
                    <a:solidFill>
                      <a:srgbClr val="000000"/>
                    </a:solidFill>
                    <a:latin typeface="Verdana"/>
                  </a:rPr>
                  <a:t>2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Text Box 64"/>
              <p:cNvSpPr/>
              <p:nvPr/>
            </p:nvSpPr>
            <p:spPr>
              <a:xfrm>
                <a:off x="4932360" y="3573000"/>
                <a:ext cx="50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800" spc="-1" strike="noStrike">
                    <a:solidFill>
                      <a:srgbClr val="000000"/>
                    </a:solidFill>
                    <a:latin typeface="Verdana"/>
                  </a:rPr>
                  <a:t>2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Text Box 65"/>
              <p:cNvSpPr/>
              <p:nvPr/>
            </p:nvSpPr>
            <p:spPr>
              <a:xfrm>
                <a:off x="3348000" y="5013000"/>
                <a:ext cx="1728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800" spc="-1" strike="noStrike">
                    <a:solidFill>
                      <a:srgbClr val="000000"/>
                    </a:solidFill>
                    <a:latin typeface="Verdana"/>
                  </a:rPr>
                  <a:t>Sommerfel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3" name="Text Box 66"/>
            <p:cNvSpPr/>
            <p:nvPr/>
          </p:nvSpPr>
          <p:spPr>
            <a:xfrm>
              <a:off x="3132000" y="5727600"/>
              <a:ext cx="2808360" cy="8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1" lang="nl-BE" sz="1800" spc="-1" strike="noStrike">
                  <a:solidFill>
                    <a:srgbClr val="000000"/>
                  </a:solidFill>
                  <a:latin typeface="Verdana"/>
                </a:rPr>
                <a:t>K         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800" spc="-1" strike="noStrike" baseline="-25000">
                  <a:solidFill>
                    <a:srgbClr val="000000"/>
                  </a:solidFill>
                  <a:latin typeface="Verdana"/>
                </a:rPr>
                <a:t>10</a:t>
              </a:r>
              <a:r>
                <a:rPr b="1" lang="nl-BE" sz="1800" spc="-1" strike="noStrike">
                  <a:solidFill>
                    <a:srgbClr val="000000"/>
                  </a:solidFill>
                  <a:latin typeface="Verdana"/>
                </a:rPr>
                <a:t>Ne   </a:t>
              </a:r>
              <a:r>
                <a:rPr b="1" lang="nl-BE" sz="1800" spc="-1" strike="noStrike">
                  <a:solidFill>
                    <a:srgbClr val="ff9933"/>
                  </a:solidFill>
                  <a:latin typeface="Verdana"/>
                </a:rPr>
                <a:t>1s</a:t>
              </a:r>
              <a:r>
                <a:rPr b="1" lang="nl-BE" sz="1800" spc="-1" strike="noStrike" baseline="30000">
                  <a:solidFill>
                    <a:srgbClr val="ff9933"/>
                  </a:solidFill>
                  <a:latin typeface="Verdana"/>
                </a:rPr>
                <a:t>2</a:t>
              </a:r>
              <a:r>
                <a:rPr b="1" lang="nl-BE" sz="18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1" lang="nl-BE" sz="1800" spc="-1" strike="noStrike">
                  <a:solidFill>
                    <a:srgbClr val="bbe0e3"/>
                  </a:solidFill>
                  <a:latin typeface="Verdana"/>
                </a:rPr>
                <a:t>2s</a:t>
              </a:r>
              <a:r>
                <a:rPr b="1" lang="nl-BE" sz="1800" spc="-1" strike="noStrike" baseline="30000">
                  <a:solidFill>
                    <a:srgbClr val="bbe0e3"/>
                  </a:solidFill>
                  <a:latin typeface="Verdana"/>
                </a:rPr>
                <a:t>2</a:t>
              </a:r>
              <a:r>
                <a:rPr b="1" lang="nl-BE" sz="1800" spc="-1" strike="noStrike">
                  <a:solidFill>
                    <a:srgbClr val="bbe0e3"/>
                  </a:solidFill>
                  <a:latin typeface="Verdana"/>
                </a:rPr>
                <a:t> 2p</a:t>
              </a:r>
              <a:r>
                <a:rPr b="1" lang="nl-BE" sz="1800" spc="-1" strike="noStrike" baseline="30000">
                  <a:solidFill>
                    <a:srgbClr val="bbe0e3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/>
          <p:cNvSpPr/>
          <p:nvPr/>
        </p:nvSpPr>
        <p:spPr>
          <a:xfrm>
            <a:off x="250920" y="44280"/>
            <a:ext cx="8893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400" spc="-1" strike="noStrike">
                <a:solidFill>
                  <a:srgbClr val="333399"/>
                </a:solidFill>
                <a:latin typeface="Verdana"/>
              </a:rPr>
              <a:t>ENERGIENIVEAUS – ELEKTRONENCONFIGURATIES  p.6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6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8"/>
          <p:cNvSpPr/>
          <p:nvPr/>
        </p:nvSpPr>
        <p:spPr>
          <a:xfrm>
            <a:off x="324000" y="1628640"/>
            <a:ext cx="88200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3333ff"/>
                </a:solidFill>
                <a:latin typeface="Verdana"/>
              </a:rPr>
              <a:t>Elektronenconfiguratie</a:t>
            </a: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 = 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vertaling van atoommodel in </a:t>
            </a:r>
            <a:r>
              <a:rPr b="1" lang="nl-BE" sz="1800" spc="-1" strike="noStrike">
                <a:solidFill>
                  <a:srgbClr val="3333ff"/>
                </a:solidFill>
                <a:latin typeface="Verdana"/>
              </a:rPr>
              <a:t>symbolische voorstelling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van de verdeling van de elektronen ov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de schil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de subnivea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de orbita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9"/>
          <p:cNvSpPr/>
          <p:nvPr/>
        </p:nvSpPr>
        <p:spPr>
          <a:xfrm>
            <a:off x="1979640" y="4149720"/>
            <a:ext cx="6913440" cy="24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Dit elektron bevindt zich meestal (90% ka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op de </a:t>
            </a:r>
            <a:r>
              <a:rPr b="0" lang="nl-BE" sz="1800" spc="-1" strike="noStrike">
                <a:solidFill>
                  <a:srgbClr val="0000ff"/>
                </a:solidFill>
                <a:latin typeface="Verdana"/>
                <a:ea typeface="Times New Roman"/>
              </a:rPr>
              <a:t>2de schil (L-schi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in een </a:t>
            </a:r>
            <a:r>
              <a:rPr b="0" lang="nl-BE" sz="1800" spc="-1" strike="noStrike">
                <a:solidFill>
                  <a:srgbClr val="ff00ff"/>
                </a:solidFill>
                <a:latin typeface="Verdana"/>
                <a:ea typeface="Times New Roman"/>
              </a:rPr>
              <a:t>p-subnive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buClr>
                <a:srgbClr val="ff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00ff"/>
                </a:solidFill>
                <a:latin typeface="Verdana"/>
                <a:ea typeface="Times New Roman"/>
              </a:rPr>
              <a:t> </a:t>
            </a:r>
            <a:r>
              <a:rPr b="0" lang="nl-BE" sz="1800" spc="-1" strike="noStrike">
                <a:solidFill>
                  <a:srgbClr val="ff00ff"/>
                </a:solidFill>
                <a:latin typeface="Verdana"/>
                <a:ea typeface="Times New Roman"/>
              </a:rPr>
              <a:t>in een 2p</a:t>
            </a:r>
            <a:r>
              <a:rPr b="0" lang="nl-BE" sz="1800" spc="-1" strike="noStrike" baseline="-25000">
                <a:solidFill>
                  <a:srgbClr val="ff00ff"/>
                </a:solidFill>
                <a:latin typeface="Verdana"/>
                <a:ea typeface="Times New Roman"/>
              </a:rPr>
              <a:t>y</a:t>
            </a:r>
            <a:r>
              <a:rPr b="0" lang="nl-BE" sz="1800" spc="-1" strike="noStrike">
                <a:solidFill>
                  <a:srgbClr val="ff00ff"/>
                </a:solidFill>
                <a:latin typeface="Verdana"/>
                <a:ea typeface="Times New Roman"/>
              </a:rPr>
              <a:t>-orbitaal  </a:t>
            </a:r>
            <a:r>
              <a:rPr b="0" lang="nl-BE" sz="1200" spc="-1" strike="noStrike">
                <a:solidFill>
                  <a:srgbClr val="ff00ff"/>
                </a:solidFill>
                <a:latin typeface="Verdana"/>
                <a:ea typeface="Times New Roman"/>
              </a:rPr>
              <a:t>(geörienteerd volgens de y-a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buClr>
                <a:srgbClr val="008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8000"/>
                </a:solidFill>
                <a:latin typeface="Verdana"/>
                <a:ea typeface="Times New Roman"/>
              </a:rPr>
              <a:t> </a:t>
            </a:r>
            <a:r>
              <a:rPr b="0" lang="nl-BE" sz="1800" spc="-1" strike="noStrike">
                <a:solidFill>
                  <a:srgbClr val="008000"/>
                </a:solidFill>
                <a:latin typeface="Verdana"/>
                <a:ea typeface="Times New Roman"/>
              </a:rPr>
              <a:t>met een spin up </a:t>
            </a:r>
            <a:r>
              <a:rPr b="0" lang="nl-BE" sz="1800" spc="-1" strike="noStrike">
                <a:solidFill>
                  <a:srgbClr val="008000"/>
                </a:solidFill>
                <a:latin typeface="Symbol"/>
                <a:ea typeface="Symbol"/>
              </a:rPr>
              <a:t></a:t>
            </a:r>
            <a:r>
              <a:rPr b="0" lang="nl-BE" sz="1800" spc="-1" strike="noStrike">
                <a:solidFill>
                  <a:srgbClr val="ff00ff"/>
                </a:solidFill>
                <a:latin typeface="Verdana"/>
                <a:ea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ff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10"/>
          <p:cNvGrpSpPr/>
          <p:nvPr/>
        </p:nvGrpSpPr>
        <p:grpSpPr>
          <a:xfrm>
            <a:off x="611280" y="3789360"/>
            <a:ext cx="2222280" cy="2892600"/>
            <a:chOff x="611280" y="3789360"/>
            <a:chExt cx="2222280" cy="2892600"/>
          </a:xfrm>
        </p:grpSpPr>
        <p:pic>
          <p:nvPicPr>
            <p:cNvPr id="242" name="Picture 11" descr=""/>
            <p:cNvPicPr/>
            <p:nvPr/>
          </p:nvPicPr>
          <p:blipFill>
            <a:blip r:embed="rId1"/>
            <a:stretch/>
          </p:blipFill>
          <p:spPr>
            <a:xfrm>
              <a:off x="611280" y="3789360"/>
              <a:ext cx="2222280" cy="289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Text Box 12"/>
            <p:cNvSpPr/>
            <p:nvPr/>
          </p:nvSpPr>
          <p:spPr>
            <a:xfrm>
              <a:off x="1005480" y="5095080"/>
              <a:ext cx="52560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5c00"/>
                  </a:solidFill>
                  <a:latin typeface="Verdana"/>
                </a:rPr>
                <a:t>  </a:t>
              </a:r>
              <a:r>
                <a:rPr b="1" lang="nl-BE" sz="16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3"/>
          <p:cNvGrpSpPr/>
          <p:nvPr/>
        </p:nvGrpSpPr>
        <p:grpSpPr>
          <a:xfrm>
            <a:off x="684360" y="2453400"/>
            <a:ext cx="8316000" cy="1765800"/>
            <a:chOff x="684360" y="2453400"/>
            <a:chExt cx="8316000" cy="1765800"/>
          </a:xfrm>
        </p:grpSpPr>
        <p:grpSp>
          <p:nvGrpSpPr>
            <p:cNvPr id="245" name="Group 14"/>
            <p:cNvGrpSpPr/>
            <p:nvPr/>
          </p:nvGrpSpPr>
          <p:grpSpPr>
            <a:xfrm>
              <a:off x="684360" y="2453400"/>
              <a:ext cx="8316000" cy="1765800"/>
              <a:chOff x="684360" y="2453400"/>
              <a:chExt cx="8316000" cy="1765800"/>
            </a:xfrm>
          </p:grpSpPr>
          <p:sp>
            <p:nvSpPr>
              <p:cNvPr id="246" name="Rectangle 15"/>
              <p:cNvSpPr/>
              <p:nvPr/>
            </p:nvSpPr>
            <p:spPr>
              <a:xfrm>
                <a:off x="684360" y="2453400"/>
                <a:ext cx="7993080" cy="102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r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2800" spc="-1" strike="noStrike" baseline="-30000">
                    <a:solidFill>
                      <a:srgbClr val="000000"/>
                    </a:solidFill>
                    <a:latin typeface="Arial"/>
                    <a:ea typeface="Times New Roman"/>
                  </a:rPr>
                  <a:t>	</a:t>
                </a:r>
                <a:r>
                  <a:rPr b="0" lang="nl-NL" sz="2800" spc="-1" strike="noStrike" baseline="-30000">
                    <a:solidFill>
                      <a:srgbClr val="000000"/>
                    </a:solidFill>
                    <a:latin typeface="Arial"/>
                    <a:ea typeface="Times New Roman"/>
                  </a:rPr>
                  <a:t>	</a:t>
                </a:r>
                <a:r>
                  <a:rPr b="0" lang="nl-NL" sz="2800" spc="-1" strike="noStrike" baseline="-30000">
                    <a:solidFill>
                      <a:srgbClr val="000000"/>
                    </a:solidFill>
                    <a:latin typeface="Arial"/>
                    <a:ea typeface="Times New Roman"/>
                  </a:rPr>
                  <a:t>7</a:t>
                </a:r>
                <a:r>
                  <a:rPr b="0" lang="nl-NL" sz="2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N :          </a:t>
                </a:r>
                <a:r>
                  <a:rPr b="0" lang="nl-NL" sz="2800" spc="-1" strike="noStrike">
                    <a:solidFill>
                      <a:srgbClr val="0000ff"/>
                    </a:solidFill>
                    <a:latin typeface="Arial"/>
                    <a:ea typeface="Times New Roman"/>
                  </a:rPr>
                  <a:t>1</a:t>
                </a:r>
                <a:r>
                  <a:rPr b="0" lang="nl-NL" sz="2800" spc="-1" strike="noStrike">
                    <a:solidFill>
                      <a:srgbClr val="f66a0a"/>
                    </a:solidFill>
                    <a:latin typeface="Arial"/>
                    <a:ea typeface="Times New Roman"/>
                  </a:rPr>
                  <a:t>s</a:t>
                </a:r>
                <a:r>
                  <a:rPr b="0" lang="nl-NL" sz="28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²</a:t>
                </a:r>
                <a:r>
                  <a:rPr b="0" lang="nl-NL" sz="2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nl-NL" sz="2800" spc="-1" strike="noStrike">
                    <a:solidFill>
                      <a:srgbClr val="0000ff"/>
                    </a:solidFill>
                    <a:latin typeface="Arial"/>
                    <a:ea typeface="Times New Roman"/>
                  </a:rPr>
                  <a:t>2</a:t>
                </a:r>
                <a:r>
                  <a:rPr b="0" lang="nl-NL" sz="2800" spc="-1" strike="noStrike">
                    <a:solidFill>
                      <a:srgbClr val="f66a0a"/>
                    </a:solidFill>
                    <a:latin typeface="Arial"/>
                    <a:ea typeface="Times New Roman"/>
                  </a:rPr>
                  <a:t>s</a:t>
                </a:r>
                <a:r>
                  <a:rPr b="0" lang="nl-NL" sz="28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²</a:t>
                </a:r>
                <a:r>
                  <a:rPr b="0" lang="nl-NL" sz="2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       </a:t>
                </a:r>
                <a:r>
                  <a:rPr b="0" lang="nl-NL" sz="2800" spc="-1" strike="noStrike">
                    <a:solidFill>
                      <a:srgbClr val="0000ff"/>
                    </a:solidFill>
                    <a:latin typeface="Arial"/>
                    <a:ea typeface="Times New Roman"/>
                  </a:rPr>
                  <a:t>2</a:t>
                </a:r>
                <a:r>
                  <a:rPr b="0" lang="nl-NL" sz="2800" spc="-1" strike="noStrike">
                    <a:solidFill>
                      <a:srgbClr val="ff00ff"/>
                    </a:solidFill>
                    <a:latin typeface="Arial"/>
                    <a:ea typeface="Times New Roman"/>
                  </a:rPr>
                  <a:t>p</a:t>
                </a:r>
                <a:r>
                  <a:rPr b="0" lang="nl-NL" sz="28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³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r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7" name="Group 16"/>
              <p:cNvGrpSpPr/>
              <p:nvPr/>
            </p:nvGrpSpPr>
            <p:grpSpPr>
              <a:xfrm>
                <a:off x="4032360" y="3211560"/>
                <a:ext cx="4968000" cy="1007640"/>
                <a:chOff x="4032360" y="3211560"/>
                <a:chExt cx="4968000" cy="1007640"/>
              </a:xfrm>
            </p:grpSpPr>
            <p:sp>
              <p:nvSpPr>
                <p:cNvPr id="248" name="AutoShape 17"/>
                <p:cNvSpPr/>
                <p:nvPr/>
              </p:nvSpPr>
              <p:spPr>
                <a:xfrm>
                  <a:off x="7511760" y="3211560"/>
                  <a:ext cx="511200" cy="437760"/>
                </a:xfrm>
                <a:prstGeom prst="flowChartConnector">
                  <a:avLst/>
                </a:prstGeom>
                <a:noFill/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9" name="Group 18"/>
                <p:cNvGrpSpPr/>
                <p:nvPr/>
              </p:nvGrpSpPr>
              <p:grpSpPr>
                <a:xfrm>
                  <a:off x="4032360" y="3211560"/>
                  <a:ext cx="4968000" cy="1007640"/>
                  <a:chOff x="4032360" y="3211560"/>
                  <a:chExt cx="4968000" cy="1007640"/>
                </a:xfrm>
              </p:grpSpPr>
              <p:sp>
                <p:nvSpPr>
                  <p:cNvPr id="250" name="Text Box 19"/>
                  <p:cNvSpPr/>
                  <p:nvPr/>
                </p:nvSpPr>
                <p:spPr>
                  <a:xfrm>
                    <a:off x="4032360" y="3211560"/>
                    <a:ext cx="834840" cy="509400"/>
                  </a:xfrm>
                  <a:prstGeom prst="rect">
                    <a:avLst/>
                  </a:prstGeom>
                  <a:noFill/>
                  <a:ln w="12600">
                    <a:solidFill>
                      <a:srgbClr val="f7690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nl-NL" sz="2800" spc="-1" strike="noStrike">
                        <a:solidFill>
                          <a:srgbClr val="008000"/>
                        </a:solidFill>
                        <a:latin typeface="Wingdings 3"/>
                        <a:ea typeface="Wingdings 3"/>
                      </a:rPr>
                      <a:t>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Text Box 20"/>
                  <p:cNvSpPr/>
                  <p:nvPr/>
                </p:nvSpPr>
                <p:spPr>
                  <a:xfrm>
                    <a:off x="5240880" y="3211560"/>
                    <a:ext cx="835200" cy="509400"/>
                  </a:xfrm>
                  <a:prstGeom prst="rect">
                    <a:avLst/>
                  </a:prstGeom>
                  <a:noFill/>
                  <a:ln w="12600">
                    <a:solidFill>
                      <a:srgbClr val="f7690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nl-NL" sz="2800" spc="-1" strike="noStrike">
                        <a:solidFill>
                          <a:srgbClr val="008000"/>
                        </a:solidFill>
                        <a:latin typeface="Wingdings 3"/>
                        <a:ea typeface="Wingdings 3"/>
                      </a:rPr>
                      <a:t>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Text Box 21"/>
                  <p:cNvSpPr/>
                  <p:nvPr/>
                </p:nvSpPr>
                <p:spPr>
                  <a:xfrm>
                    <a:off x="6494040" y="3212640"/>
                    <a:ext cx="835200" cy="509400"/>
                  </a:xfrm>
                  <a:prstGeom prst="rect">
                    <a:avLst/>
                  </a:prstGeom>
                  <a:noFill/>
                  <a:ln w="12600">
                    <a:solidFill>
                      <a:srgbClr val="9933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nl-NL" sz="2800" spc="-1" strike="noStrike">
                        <a:solidFill>
                          <a:srgbClr val="008000"/>
                        </a:solidFill>
                        <a:latin typeface="Wingdings 3"/>
                        <a:ea typeface="Wingdings 3"/>
                      </a:rPr>
                      <a:t>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Text Box 22"/>
                  <p:cNvSpPr/>
                  <p:nvPr/>
                </p:nvSpPr>
                <p:spPr>
                  <a:xfrm>
                    <a:off x="7315200" y="3211560"/>
                    <a:ext cx="835200" cy="509400"/>
                  </a:xfrm>
                  <a:prstGeom prst="rect">
                    <a:avLst/>
                  </a:prstGeom>
                  <a:noFill/>
                  <a:ln w="12600">
                    <a:solidFill>
                      <a:srgbClr val="9933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nl-NL" sz="2800" spc="-1" strike="noStrike">
                        <a:solidFill>
                          <a:srgbClr val="008000"/>
                        </a:solidFill>
                        <a:latin typeface="Wingdings 3"/>
                        <a:ea typeface="Wingdings 3"/>
                      </a:rPr>
                      <a:t>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Text Box 23"/>
                  <p:cNvSpPr/>
                  <p:nvPr/>
                </p:nvSpPr>
                <p:spPr>
                  <a:xfrm>
                    <a:off x="8165160" y="3211560"/>
                    <a:ext cx="835200" cy="509400"/>
                  </a:xfrm>
                  <a:prstGeom prst="rect">
                    <a:avLst/>
                  </a:prstGeom>
                  <a:noFill/>
                  <a:ln w="12600">
                    <a:solidFill>
                      <a:srgbClr val="9933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nl-NL" sz="2800" spc="-1" strike="noStrike">
                        <a:solidFill>
                          <a:srgbClr val="008000"/>
                        </a:solidFill>
                        <a:latin typeface="Wingdings 3"/>
                        <a:ea typeface="Wingdings 3"/>
                      </a:rPr>
                      <a:t>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Line 24"/>
                  <p:cNvSpPr/>
                  <p:nvPr/>
                </p:nvSpPr>
                <p:spPr>
                  <a:xfrm>
                    <a:off x="7757280" y="3713760"/>
                    <a:ext cx="0" cy="50544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56" name="Text Box 25"/>
            <p:cNvSpPr/>
            <p:nvPr/>
          </p:nvSpPr>
          <p:spPr>
            <a:xfrm>
              <a:off x="6659640" y="3645000"/>
              <a:ext cx="2233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ff00ff"/>
                  </a:solidFill>
                  <a:latin typeface="Verdana"/>
                </a:rPr>
                <a:t>2p</a:t>
              </a:r>
              <a:r>
                <a:rPr b="0" lang="nl-BE" sz="1800" spc="-1" strike="noStrike" baseline="-25000">
                  <a:solidFill>
                    <a:srgbClr val="ff00ff"/>
                  </a:solidFill>
                  <a:latin typeface="Verdana"/>
                </a:rPr>
                <a:t>x</a:t>
              </a:r>
              <a:r>
                <a:rPr b="0" lang="nl-BE" sz="1800" spc="-1" strike="noStrike">
                  <a:solidFill>
                    <a:srgbClr val="ff00ff"/>
                  </a:solidFill>
                  <a:latin typeface="Verdana"/>
                </a:rPr>
                <a:t>        2p</a:t>
              </a:r>
              <a:r>
                <a:rPr b="0" lang="nl-BE" sz="1800" spc="-1" strike="noStrike" baseline="-25000">
                  <a:solidFill>
                    <a:srgbClr val="ff00ff"/>
                  </a:solidFill>
                  <a:latin typeface="Verdana"/>
                </a:rPr>
                <a:t>y</a:t>
              </a:r>
              <a:r>
                <a:rPr b="0" lang="nl-BE" sz="1800" spc="-1" strike="noStrike">
                  <a:solidFill>
                    <a:srgbClr val="ff00ff"/>
                  </a:solidFill>
                  <a:latin typeface="Verdana"/>
                </a:rPr>
                <a:t>   2p</a:t>
              </a:r>
              <a:r>
                <a:rPr b="0" lang="nl-BE" sz="1800" spc="-1" strike="noStrike" baseline="-25000">
                  <a:solidFill>
                    <a:srgbClr val="ff00ff"/>
                  </a:solidFill>
                  <a:latin typeface="Verdana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250920" y="260280"/>
            <a:ext cx="7920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Verdana"/>
              </a:rPr>
              <a:t>SYMBOLISCHE VOORSTELLING VAN </a:t>
            </a:r>
            <a:br>
              <a:rPr sz="2800"/>
            </a:br>
            <a:r>
              <a:rPr b="0" lang="nl-BE" sz="2800" spc="-1" strike="noStrike">
                <a:solidFill>
                  <a:srgbClr val="000000"/>
                </a:solidFill>
                <a:latin typeface="Verdana"/>
              </a:rPr>
              <a:t>      DE ELEKTRONENCONFIGUR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324000" y="1125360"/>
            <a:ext cx="8243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Verdana"/>
              </a:rPr>
              <a:t>Werkwij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468360" y="1484280"/>
            <a:ext cx="8351640" cy="35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Orbitaal voorgesteld als </a:t>
            </a: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code     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bvb.</a:t>
            </a: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nl-BE" sz="2400" spc="-1" strike="noStrike">
                <a:solidFill>
                  <a:srgbClr val="000000"/>
                </a:solidFill>
                <a:latin typeface="Verdana"/>
              </a:rPr>
              <a:t>1s</a:t>
            </a:r>
            <a:r>
              <a:rPr b="1" lang="nl-BE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1ste cijfer : hoofdniveau (schi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de letter :   subniveau  (orbitaal</a:t>
            </a: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type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2de cijfer :  aantal elektronen in orbita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Bvb.   </a:t>
            </a:r>
            <a:r>
              <a:rPr b="1" lang="nl-BE" sz="1800" spc="-1" strike="noStrike" baseline="-25000">
                <a:solidFill>
                  <a:srgbClr val="3333ff"/>
                </a:solidFill>
                <a:latin typeface="Verdana"/>
              </a:rPr>
              <a:t>11</a:t>
            </a:r>
            <a:r>
              <a:rPr b="1" lang="nl-BE" sz="1800" spc="-1" strike="noStrike">
                <a:solidFill>
                  <a:srgbClr val="3333ff"/>
                </a:solidFill>
                <a:latin typeface="Verdana"/>
              </a:rPr>
              <a:t>Na :   1s</a:t>
            </a:r>
            <a:r>
              <a:rPr b="1" lang="nl-BE" sz="1800" spc="-1" strike="noStrike" baseline="30000">
                <a:solidFill>
                  <a:srgbClr val="3333ff"/>
                </a:solidFill>
                <a:latin typeface="Verdana"/>
              </a:rPr>
              <a:t>2</a:t>
            </a:r>
            <a:r>
              <a:rPr b="1" lang="nl-BE" sz="1800" spc="-1" strike="noStrike">
                <a:solidFill>
                  <a:srgbClr val="3333ff"/>
                </a:solidFill>
                <a:latin typeface="Verdana"/>
              </a:rPr>
              <a:t>    2s</a:t>
            </a:r>
            <a:r>
              <a:rPr b="1" lang="nl-BE" sz="1800" spc="-1" strike="noStrike" baseline="30000">
                <a:solidFill>
                  <a:srgbClr val="3333ff"/>
                </a:solidFill>
                <a:latin typeface="Verdana"/>
              </a:rPr>
              <a:t>2</a:t>
            </a:r>
            <a:r>
              <a:rPr b="1" lang="nl-BE" sz="1800" spc="-1" strike="noStrike">
                <a:solidFill>
                  <a:srgbClr val="3333ff"/>
                </a:solidFill>
                <a:latin typeface="Verdana"/>
              </a:rPr>
              <a:t>    2p</a:t>
            </a:r>
            <a:r>
              <a:rPr b="1" lang="nl-BE" sz="1800" spc="-1" strike="noStrike" baseline="30000">
                <a:solidFill>
                  <a:srgbClr val="3333ff"/>
                </a:solidFill>
                <a:latin typeface="Verdana"/>
              </a:rPr>
              <a:t>6</a:t>
            </a:r>
            <a:r>
              <a:rPr b="1" lang="nl-BE" sz="1800" spc="-1" strike="noStrike">
                <a:solidFill>
                  <a:srgbClr val="3333ff"/>
                </a:solidFill>
                <a:latin typeface="Verdana"/>
              </a:rPr>
              <a:t>    3s</a:t>
            </a:r>
            <a:r>
              <a:rPr b="1" lang="nl-BE" sz="1800" spc="-1" strike="noStrike" baseline="30000">
                <a:solidFill>
                  <a:srgbClr val="3333ff"/>
                </a:solidFill>
                <a:latin typeface="Verdana"/>
              </a:rPr>
              <a:t>1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Iedere </a:t>
            </a: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orbitaal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(magnetisch niveau) voorgesteld door een  </a:t>
            </a: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vakje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, met één of twee </a:t>
            </a: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pijltjes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(elektronen) : 2 gepaarde elektronen in een orbitaal hebben tegengestelde spin: pijltjes in tegengestelde zi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5"/>
          <p:cNvGrpSpPr/>
          <p:nvPr/>
        </p:nvGrpSpPr>
        <p:grpSpPr>
          <a:xfrm>
            <a:off x="1116000" y="5229360"/>
            <a:ext cx="6696000" cy="1015920"/>
            <a:chOff x="1116000" y="5229360"/>
            <a:chExt cx="6696000" cy="1015920"/>
          </a:xfrm>
        </p:grpSpPr>
        <p:sp>
          <p:nvSpPr>
            <p:cNvPr id="261" name="Text Box 6"/>
            <p:cNvSpPr/>
            <p:nvPr/>
          </p:nvSpPr>
          <p:spPr>
            <a:xfrm>
              <a:off x="1397160" y="5734080"/>
              <a:ext cx="817560" cy="509760"/>
            </a:xfrm>
            <a:prstGeom prst="rect">
              <a:avLst/>
            </a:prstGeom>
            <a:noFill/>
            <a:ln w="12600">
              <a:solidFill>
                <a:srgbClr val="f769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800" spc="-1" strike="noStrike">
                  <a:solidFill>
                    <a:srgbClr val="008000"/>
                  </a:solidFill>
                  <a:latin typeface="Wingdings 3"/>
                  <a:ea typeface="Wingdings 3"/>
                </a:rPr>
                <a:t>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7"/>
            <p:cNvSpPr/>
            <p:nvPr/>
          </p:nvSpPr>
          <p:spPr>
            <a:xfrm>
              <a:off x="2581200" y="5734080"/>
              <a:ext cx="817560" cy="509760"/>
            </a:xfrm>
            <a:prstGeom prst="rect">
              <a:avLst/>
            </a:prstGeom>
            <a:noFill/>
            <a:ln w="1260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800" spc="-1" strike="noStrike">
                  <a:solidFill>
                    <a:srgbClr val="008000"/>
                  </a:solidFill>
                  <a:latin typeface="Wingdings 3"/>
                  <a:ea typeface="Wingdings 3"/>
                </a:rPr>
                <a:t>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8"/>
            <p:cNvSpPr/>
            <p:nvPr/>
          </p:nvSpPr>
          <p:spPr>
            <a:xfrm>
              <a:off x="3807360" y="5735880"/>
              <a:ext cx="817200" cy="509400"/>
            </a:xfrm>
            <a:prstGeom prst="rect">
              <a:avLst/>
            </a:prstGeom>
            <a:noFill/>
            <a:ln w="1260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800" spc="-1" strike="noStrike">
                  <a:solidFill>
                    <a:srgbClr val="008000"/>
                  </a:solidFill>
                  <a:latin typeface="Wingdings 3"/>
                  <a:ea typeface="Wingdings 3"/>
                </a:rPr>
                <a:t>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9"/>
            <p:cNvSpPr/>
            <p:nvPr/>
          </p:nvSpPr>
          <p:spPr>
            <a:xfrm>
              <a:off x="4610520" y="5734080"/>
              <a:ext cx="817560" cy="509760"/>
            </a:xfrm>
            <a:prstGeom prst="rect">
              <a:avLst/>
            </a:prstGeom>
            <a:noFill/>
            <a:ln w="1260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800" spc="-1" strike="noStrike">
                  <a:solidFill>
                    <a:srgbClr val="008000"/>
                  </a:solidFill>
                  <a:latin typeface="Wingdings 3"/>
                  <a:ea typeface="Wingdings 3"/>
                </a:rPr>
                <a:t>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10"/>
            <p:cNvSpPr/>
            <p:nvPr/>
          </p:nvSpPr>
          <p:spPr>
            <a:xfrm>
              <a:off x="5443560" y="5734080"/>
              <a:ext cx="817200" cy="509760"/>
            </a:xfrm>
            <a:prstGeom prst="rect">
              <a:avLst/>
            </a:prstGeom>
            <a:noFill/>
            <a:ln w="1260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800" spc="-1" strike="noStrike">
                  <a:solidFill>
                    <a:srgbClr val="008000"/>
                  </a:solidFill>
                  <a:latin typeface="Wingdings 3"/>
                  <a:ea typeface="Wingdings 3"/>
                </a:rPr>
                <a:t>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11"/>
            <p:cNvSpPr/>
            <p:nvPr/>
          </p:nvSpPr>
          <p:spPr>
            <a:xfrm>
              <a:off x="6753600" y="5734080"/>
              <a:ext cx="817560" cy="509760"/>
            </a:xfrm>
            <a:prstGeom prst="rect">
              <a:avLst/>
            </a:prstGeom>
            <a:noFill/>
            <a:ln w="1260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800" spc="-1" strike="noStrike">
                  <a:solidFill>
                    <a:srgbClr val="008000"/>
                  </a:solidFill>
                  <a:latin typeface="Wingdings 3"/>
                  <a:ea typeface="Wingdings 3"/>
                </a:rPr>
                <a:t>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12"/>
            <p:cNvSpPr/>
            <p:nvPr/>
          </p:nvSpPr>
          <p:spPr>
            <a:xfrm>
              <a:off x="1116000" y="5229360"/>
              <a:ext cx="669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ff3300"/>
                  </a:solidFill>
                  <a:latin typeface="Verdana"/>
                </a:rPr>
                <a:t>     </a:t>
              </a:r>
              <a:r>
                <a:rPr b="0" lang="nl-BE" sz="1800" spc="-1" strike="noStrike">
                  <a:solidFill>
                    <a:srgbClr val="ff3300"/>
                  </a:solidFill>
                  <a:latin typeface="Verdana"/>
                </a:rPr>
                <a:t>1</a:t>
              </a: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s</a:t>
              </a:r>
              <a:r>
                <a:rPr b="0" lang="nl-BE" sz="1800" spc="-1" strike="noStrike" baseline="30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          </a:t>
              </a:r>
              <a:r>
                <a:rPr b="0" lang="nl-BE" sz="1800" spc="-1" strike="noStrike">
                  <a:solidFill>
                    <a:srgbClr val="9933ff"/>
                  </a:solidFill>
                  <a:latin typeface="Verdana"/>
                </a:rPr>
                <a:t>2</a:t>
              </a: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s</a:t>
              </a:r>
              <a:r>
                <a:rPr b="0" lang="nl-BE" sz="1800" spc="-1" strike="noStrike" baseline="30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                    </a:t>
              </a:r>
              <a:r>
                <a:rPr b="0" lang="nl-BE" sz="1800" spc="-1" strike="noStrike">
                  <a:solidFill>
                    <a:srgbClr val="9933ff"/>
                  </a:solidFill>
                  <a:latin typeface="Verdana"/>
                </a:rPr>
                <a:t>2</a:t>
              </a: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r>
                <a:rPr b="0" lang="nl-BE" sz="1800" spc="-1" strike="noStrike" baseline="30000">
                  <a:solidFill>
                    <a:srgbClr val="000000"/>
                  </a:solidFill>
                  <a:latin typeface="Verdana"/>
                </a:rPr>
                <a:t>6</a:t>
              </a: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                       </a:t>
              </a:r>
              <a:r>
                <a:rPr b="0" lang="nl-BE" sz="1800" spc="-1" strike="noStrike">
                  <a:solidFill>
                    <a:srgbClr val="cc3300"/>
                  </a:solidFill>
                  <a:latin typeface="Verdana"/>
                </a:rPr>
                <a:t>3</a:t>
              </a: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s</a:t>
              </a:r>
              <a:r>
                <a:rPr b="0" lang="nl-BE" sz="1800" spc="-1" strike="noStrike" baseline="30000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Text Box 13"/>
          <p:cNvSpPr/>
          <p:nvPr/>
        </p:nvSpPr>
        <p:spPr>
          <a:xfrm>
            <a:off x="250920" y="5229360"/>
            <a:ext cx="971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nl-BE" sz="1800" spc="-1" strike="noStrike" baseline="-25000">
                <a:solidFill>
                  <a:srgbClr val="3333ff"/>
                </a:solidFill>
                <a:latin typeface="Verdana"/>
              </a:rPr>
              <a:t>11</a:t>
            </a:r>
            <a:r>
              <a:rPr b="1" lang="nl-BE" sz="1800" spc="-1" strike="noStrike">
                <a:solidFill>
                  <a:srgbClr val="3333ff"/>
                </a:solidFill>
                <a:latin typeface="Verdana"/>
              </a:rPr>
              <a:t>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/>
          <p:cNvSpPr/>
          <p:nvPr/>
        </p:nvSpPr>
        <p:spPr>
          <a:xfrm>
            <a:off x="250920" y="260280"/>
            <a:ext cx="8243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Verdana"/>
              </a:rPr>
              <a:t>Opvulling van de energienivea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324000" y="765000"/>
            <a:ext cx="8820000" cy="21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3300"/>
                </a:solidFill>
                <a:latin typeface="Verdana"/>
              </a:rPr>
              <a:t>Regel van de minimale ener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333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3333ff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3333ff"/>
                </a:solidFill>
                <a:latin typeface="Verdana"/>
              </a:rPr>
              <a:t>e</a:t>
            </a:r>
            <a:r>
              <a:rPr b="0" lang="nl-BE" sz="2000" spc="-1" strike="noStrike" baseline="30000">
                <a:solidFill>
                  <a:srgbClr val="3333ff"/>
                </a:solidFill>
                <a:latin typeface="Verdana"/>
              </a:rPr>
              <a:t>-</a:t>
            </a:r>
            <a:r>
              <a:rPr b="0" lang="nl-BE" sz="2000" spc="-1" strike="noStrike">
                <a:solidFill>
                  <a:srgbClr val="3333ff"/>
                </a:solidFill>
                <a:latin typeface="Verdana"/>
              </a:rPr>
              <a:t> in </a:t>
            </a:r>
            <a:r>
              <a:rPr b="1" lang="nl-BE" sz="2000" spc="-1" strike="noStrike">
                <a:solidFill>
                  <a:srgbClr val="3333ff"/>
                </a:solidFill>
                <a:latin typeface="Verdana"/>
              </a:rPr>
              <a:t>grondtoestand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steeds </a:t>
            </a:r>
            <a:r>
              <a:rPr b="1" lang="nl-BE" sz="2000" spc="-1" strike="noStrike">
                <a:solidFill>
                  <a:srgbClr val="000000"/>
                </a:solidFill>
                <a:latin typeface="Verdana"/>
              </a:rPr>
              <a:t>laagst mogelijk                    energienive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erst opvulling orbitalen met lagere energie-inhoud, dan pas aanvulling orbitalen met hogere energie-inh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memotechnisch middeltje: </a:t>
            </a:r>
            <a:r>
              <a:rPr b="1" lang="nl-BE" sz="1800" spc="-1" strike="noStrike">
                <a:solidFill>
                  <a:srgbClr val="ff3300"/>
                </a:solidFill>
                <a:latin typeface="Verdana"/>
              </a:rPr>
              <a:t>diagonaalregel </a:t>
            </a:r>
            <a:r>
              <a:rPr b="0" lang="nl-BE" sz="1000" spc="-1" strike="noStrike">
                <a:solidFill>
                  <a:srgbClr val="ff3300"/>
                </a:solidFill>
                <a:latin typeface="Verdana"/>
              </a:rPr>
              <a:t>(vanuit berekening energieë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5"/>
          <p:cNvGrpSpPr/>
          <p:nvPr/>
        </p:nvGrpSpPr>
        <p:grpSpPr>
          <a:xfrm>
            <a:off x="250920" y="3500280"/>
            <a:ext cx="3600360" cy="3359160"/>
            <a:chOff x="250920" y="3500280"/>
            <a:chExt cx="3600360" cy="3359160"/>
          </a:xfrm>
        </p:grpSpPr>
        <p:grpSp>
          <p:nvGrpSpPr>
            <p:cNvPr id="272" name="Group 6"/>
            <p:cNvGrpSpPr/>
            <p:nvPr/>
          </p:nvGrpSpPr>
          <p:grpSpPr>
            <a:xfrm>
              <a:off x="250920" y="3500280"/>
              <a:ext cx="2832120" cy="2828880"/>
              <a:chOff x="250920" y="3500280"/>
              <a:chExt cx="2832120" cy="2828880"/>
            </a:xfrm>
          </p:grpSpPr>
          <p:pic>
            <p:nvPicPr>
              <p:cNvPr id="273" name="Picture 7" descr=""/>
              <p:cNvPicPr/>
              <p:nvPr/>
            </p:nvPicPr>
            <p:blipFill>
              <a:blip r:embed="rId1"/>
              <a:stretch/>
            </p:blipFill>
            <p:spPr>
              <a:xfrm>
                <a:off x="250920" y="3500280"/>
                <a:ext cx="2832120" cy="282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4" name="Text Box 8"/>
              <p:cNvSpPr/>
              <p:nvPr/>
            </p:nvSpPr>
            <p:spPr>
              <a:xfrm>
                <a:off x="539640" y="3520800"/>
                <a:ext cx="679680" cy="22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800" spc="-1" strike="noStrike">
                    <a:solidFill>
                      <a:srgbClr val="000000"/>
                    </a:solidFill>
                    <a:latin typeface="Verdana"/>
                  </a:rPr>
                  <a:t>Energi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5" name="Text Box 9"/>
            <p:cNvSpPr/>
            <p:nvPr/>
          </p:nvSpPr>
          <p:spPr>
            <a:xfrm>
              <a:off x="250920" y="6308640"/>
              <a:ext cx="3600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Rangschikking van de schillen (links) en van de subniveaus (rechts) tot en met schilnummer 4 volgens energie-inhoud.</a:t>
              </a:r>
              <a:r>
                <a:rPr b="0" lang="nl-BE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10"/>
          <p:cNvGrpSpPr/>
          <p:nvPr/>
        </p:nvGrpSpPr>
        <p:grpSpPr>
          <a:xfrm>
            <a:off x="4427640" y="3573360"/>
            <a:ext cx="4032000" cy="3305160"/>
            <a:chOff x="4427640" y="3573360"/>
            <a:chExt cx="4032000" cy="3305160"/>
          </a:xfrm>
        </p:grpSpPr>
        <p:pic>
          <p:nvPicPr>
            <p:cNvPr id="277" name="Picture 11" descr=""/>
            <p:cNvPicPr/>
            <p:nvPr/>
          </p:nvPicPr>
          <p:blipFill>
            <a:blip r:embed="rId2"/>
            <a:srcRect l="0" t="0" r="0" b="6997"/>
            <a:stretch/>
          </p:blipFill>
          <p:spPr>
            <a:xfrm>
              <a:off x="4500720" y="3573360"/>
              <a:ext cx="2603520" cy="2808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78" name="Text Box 12"/>
            <p:cNvSpPr/>
            <p:nvPr/>
          </p:nvSpPr>
          <p:spPr>
            <a:xfrm>
              <a:off x="4427640" y="6327720"/>
              <a:ext cx="4032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Hieruit kan de volgorde van opvullen van de subniveaus worden afgeleid:1s  </a:t>
              </a:r>
              <a:r>
                <a:rPr b="0" lang="nl-NL" sz="1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</a:t>
              </a: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  2s  </a:t>
              </a:r>
              <a:r>
                <a:rPr b="0" lang="nl-NL" sz="1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</a:t>
              </a: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  2p  </a:t>
              </a:r>
              <a:r>
                <a:rPr b="0" lang="nl-NL" sz="1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</a:t>
              </a: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  3s  </a:t>
              </a:r>
              <a:r>
                <a:rPr b="0" lang="nl-NL" sz="1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</a:t>
              </a: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  3p  </a:t>
              </a:r>
              <a:r>
                <a:rPr b="0" lang="nl-NL" sz="1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</a:t>
              </a: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  4s  </a:t>
              </a:r>
              <a:r>
                <a:rPr b="0" lang="nl-NL" sz="1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</a:t>
              </a: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  3d  </a:t>
              </a:r>
              <a:r>
                <a:rPr b="0" lang="nl-NL" sz="1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</a:t>
              </a: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  4p  </a:t>
              </a:r>
              <a:r>
                <a:rPr b="0" lang="nl-NL" sz="1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</a:t>
              </a: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  5s  </a:t>
              </a:r>
              <a:r>
                <a:rPr b="0" lang="nl-NL" sz="1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</a:t>
              </a: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  4d  </a:t>
              </a:r>
              <a:r>
                <a:rPr b="0" lang="nl-NL" sz="1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</a:t>
              </a: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  5p  </a:t>
              </a:r>
              <a:r>
                <a:rPr b="0" lang="nl-NL" sz="1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</a:t>
              </a: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  6s  </a:t>
              </a:r>
              <a:r>
                <a:rPr b="0" lang="nl-NL" sz="1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</a:t>
              </a: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  …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ebelements  elektronenconfigur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3" descr=""/>
          <p:cNvPicPr/>
          <p:nvPr/>
        </p:nvPicPr>
        <p:blipFill>
          <a:blip r:embed="rId2"/>
          <a:srcRect l="0" t="15977" r="20606" b="13054"/>
          <a:stretch/>
        </p:blipFill>
        <p:spPr>
          <a:xfrm>
            <a:off x="1193760" y="2016000"/>
            <a:ext cx="640260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324000" y="18900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3333cc"/>
                </a:solidFill>
                <a:latin typeface="Verdana"/>
              </a:rPr>
              <a:t>Magnetische nivea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1477800" y="2800440"/>
            <a:ext cx="1943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1477800" y="2800440"/>
            <a:ext cx="1908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1477800" y="2800440"/>
            <a:ext cx="2337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0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7885080" cy="4170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3" name="Text Box 11"/>
          <p:cNvSpPr/>
          <p:nvPr/>
        </p:nvSpPr>
        <p:spPr>
          <a:xfrm>
            <a:off x="611280" y="765000"/>
            <a:ext cx="74880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In magnetisch veld </a:t>
            </a:r>
            <a:r>
              <a:rPr b="1" lang="nl-BE" sz="2000" spc="-1" strike="noStrike">
                <a:solidFill>
                  <a:srgbClr val="000000"/>
                </a:solidFill>
                <a:latin typeface="Verdana"/>
              </a:rPr>
              <a:t>opsplitsing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van s- ,p- , d- en f-subniveau</a:t>
            </a:r>
            <a:r>
              <a:rPr b="1" lang="nl-BE" sz="2000" spc="-1" strike="noStrike">
                <a:solidFill>
                  <a:srgbClr val="000000"/>
                </a:solidFill>
                <a:latin typeface="Verdana"/>
              </a:rPr>
              <a:t> in resp. </a:t>
            </a:r>
            <a:br>
              <a:rPr sz="2000"/>
            </a:br>
            <a:r>
              <a:rPr b="1" lang="nl-BE" sz="2000" spc="-1" strike="noStrike">
                <a:solidFill>
                  <a:srgbClr val="000000"/>
                </a:solidFill>
                <a:latin typeface="Verdana"/>
              </a:rPr>
              <a:t>  1, 3, 5 en 7 ‘magnetische’ niveaus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met dezelfde energie-inhou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In ieder magnetisch niveau: </a:t>
            </a:r>
            <a:r>
              <a:rPr b="1" lang="nl-BE" sz="2000" spc="-1" strike="noStrike">
                <a:solidFill>
                  <a:srgbClr val="000000"/>
                </a:solidFill>
                <a:latin typeface="Verdana"/>
              </a:rPr>
              <a:t>maximaal 2 elektr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2"/>
          <p:cNvSpPr/>
          <p:nvPr/>
        </p:nvSpPr>
        <p:spPr>
          <a:xfrm>
            <a:off x="324000" y="333360"/>
            <a:ext cx="8820000" cy="41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Verdana"/>
              </a:rPr>
              <a:t>Spreidingsregel van </a:t>
            </a:r>
            <a:r>
              <a:rPr b="1" lang="nl-BE" sz="2000" spc="-1" strike="noStrike">
                <a:solidFill>
                  <a:srgbClr val="3333ff"/>
                </a:solidFill>
                <a:latin typeface="Verdana"/>
              </a:rPr>
              <a:t>H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te bezetten subniveau met laagste energie-inhoud: 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 steeds </a:t>
            </a:r>
            <a:r>
              <a:rPr b="1" lang="nl-BE" sz="2000" spc="-1" strike="noStrike">
                <a:solidFill>
                  <a:srgbClr val="000000"/>
                </a:solidFill>
                <a:latin typeface="Verdana"/>
              </a:rPr>
              <a:t>maximaal aantal ongepaarde elektr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elektronen in eenzelfde subniveau: 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 ongepaard, tenzij niet anders k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in magnetische niveaus in een subniveau: 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 eerst 1 elektron, en dan pas doubletvor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ongepaarde elektronen steeds dezelfde spin (spin up </a:t>
            </a:r>
            <a:r>
              <a:rPr b="0" lang="nl-BE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Bvb. </a:t>
            </a:r>
            <a:r>
              <a:rPr b="1" lang="nl-BE" sz="1800" spc="-1" strike="noStrike" baseline="-25000">
                <a:solidFill>
                  <a:srgbClr val="000000"/>
                </a:solidFill>
                <a:latin typeface="Verdana"/>
              </a:rPr>
              <a:t>6</a:t>
            </a: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3"/>
          <p:cNvGrpSpPr/>
          <p:nvPr/>
        </p:nvGrpSpPr>
        <p:grpSpPr>
          <a:xfrm>
            <a:off x="7308720" y="476280"/>
            <a:ext cx="1519200" cy="2434680"/>
            <a:chOff x="7308720" y="476280"/>
            <a:chExt cx="1519200" cy="2434680"/>
          </a:xfrm>
        </p:grpSpPr>
        <p:pic>
          <p:nvPicPr>
            <p:cNvPr id="283" name="Picture 4" descr=""/>
            <p:cNvPicPr/>
            <p:nvPr/>
          </p:nvPicPr>
          <p:blipFill>
            <a:blip r:embed="rId1"/>
            <a:stretch/>
          </p:blipFill>
          <p:spPr>
            <a:xfrm>
              <a:off x="7308720" y="476280"/>
              <a:ext cx="1519200" cy="206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Text Box 5"/>
            <p:cNvSpPr/>
            <p:nvPr/>
          </p:nvSpPr>
          <p:spPr>
            <a:xfrm>
              <a:off x="7450200" y="2542680"/>
              <a:ext cx="129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Verdana"/>
                </a:rPr>
                <a:t>1896-1997</a:t>
              </a: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Text Box 6"/>
          <p:cNvSpPr/>
          <p:nvPr/>
        </p:nvSpPr>
        <p:spPr>
          <a:xfrm>
            <a:off x="250920" y="4292640"/>
            <a:ext cx="8893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baseline="-25000">
                <a:solidFill>
                  <a:srgbClr val="000000"/>
                </a:solidFill>
                <a:latin typeface="Verdana"/>
              </a:rPr>
              <a:t>6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C:  1s²    2s²         2p²                 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NIET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       1s²    2s²          2p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7"/>
          <p:cNvGrpSpPr/>
          <p:nvPr/>
        </p:nvGrpSpPr>
        <p:grpSpPr>
          <a:xfrm>
            <a:off x="900000" y="4724280"/>
            <a:ext cx="2879640" cy="376200"/>
            <a:chOff x="900000" y="4724280"/>
            <a:chExt cx="2879640" cy="376200"/>
          </a:xfrm>
        </p:grpSpPr>
        <p:sp>
          <p:nvSpPr>
            <p:cNvPr id="287" name="Text Box 8"/>
            <p:cNvSpPr/>
            <p:nvPr/>
          </p:nvSpPr>
          <p:spPr>
            <a:xfrm>
              <a:off x="900000" y="4724280"/>
              <a:ext cx="50328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9"/>
            <p:cNvSpPr/>
            <p:nvPr/>
          </p:nvSpPr>
          <p:spPr>
            <a:xfrm>
              <a:off x="1547640" y="4724280"/>
              <a:ext cx="50328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9" name="Group 10"/>
            <p:cNvGrpSpPr/>
            <p:nvPr/>
          </p:nvGrpSpPr>
          <p:grpSpPr>
            <a:xfrm>
              <a:off x="2268360" y="4724280"/>
              <a:ext cx="1511280" cy="376200"/>
              <a:chOff x="2268360" y="4724280"/>
              <a:chExt cx="1511280" cy="376200"/>
            </a:xfrm>
          </p:grpSpPr>
          <p:sp>
            <p:nvSpPr>
              <p:cNvPr id="290" name="Text Box 11"/>
              <p:cNvSpPr/>
              <p:nvPr/>
            </p:nvSpPr>
            <p:spPr>
              <a:xfrm>
                <a:off x="2268360" y="4724280"/>
                <a:ext cx="503280" cy="36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Text Box 12"/>
              <p:cNvSpPr/>
              <p:nvPr/>
            </p:nvSpPr>
            <p:spPr>
              <a:xfrm>
                <a:off x="2771640" y="4724280"/>
                <a:ext cx="503280" cy="36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Text Box 13"/>
              <p:cNvSpPr/>
              <p:nvPr/>
            </p:nvSpPr>
            <p:spPr>
              <a:xfrm>
                <a:off x="3276360" y="4724280"/>
                <a:ext cx="503280" cy="376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3" name="Group 14"/>
          <p:cNvGrpSpPr/>
          <p:nvPr/>
        </p:nvGrpSpPr>
        <p:grpSpPr>
          <a:xfrm>
            <a:off x="5796000" y="4724280"/>
            <a:ext cx="2879640" cy="376200"/>
            <a:chOff x="5796000" y="4724280"/>
            <a:chExt cx="2879640" cy="376200"/>
          </a:xfrm>
        </p:grpSpPr>
        <p:sp>
          <p:nvSpPr>
            <p:cNvPr id="294" name="Text Box 15"/>
            <p:cNvSpPr/>
            <p:nvPr/>
          </p:nvSpPr>
          <p:spPr>
            <a:xfrm>
              <a:off x="5796000" y="4724280"/>
              <a:ext cx="50328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16"/>
            <p:cNvSpPr/>
            <p:nvPr/>
          </p:nvSpPr>
          <p:spPr>
            <a:xfrm>
              <a:off x="6443640" y="4724280"/>
              <a:ext cx="50328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6" name="Group 17"/>
            <p:cNvGrpSpPr/>
            <p:nvPr/>
          </p:nvGrpSpPr>
          <p:grpSpPr>
            <a:xfrm>
              <a:off x="7164360" y="4724280"/>
              <a:ext cx="1511280" cy="376200"/>
              <a:chOff x="7164360" y="4724280"/>
              <a:chExt cx="1511280" cy="376200"/>
            </a:xfrm>
          </p:grpSpPr>
          <p:sp>
            <p:nvSpPr>
              <p:cNvPr id="297" name="Text Box 18"/>
              <p:cNvSpPr/>
              <p:nvPr/>
            </p:nvSpPr>
            <p:spPr>
              <a:xfrm>
                <a:off x="7164360" y="4724280"/>
                <a:ext cx="503280" cy="36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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Text Box 19"/>
              <p:cNvSpPr/>
              <p:nvPr/>
            </p:nvSpPr>
            <p:spPr>
              <a:xfrm>
                <a:off x="7667640" y="4724280"/>
                <a:ext cx="503280" cy="376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Text Box 20"/>
              <p:cNvSpPr/>
              <p:nvPr/>
            </p:nvSpPr>
            <p:spPr>
              <a:xfrm>
                <a:off x="8172360" y="4724280"/>
                <a:ext cx="503280" cy="376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0" name="Group 21"/>
          <p:cNvGrpSpPr/>
          <p:nvPr/>
        </p:nvGrpSpPr>
        <p:grpSpPr>
          <a:xfrm>
            <a:off x="7019640" y="4149720"/>
            <a:ext cx="1800360" cy="1584360"/>
            <a:chOff x="7019640" y="4149720"/>
            <a:chExt cx="1800360" cy="1584360"/>
          </a:xfrm>
        </p:grpSpPr>
        <p:sp>
          <p:nvSpPr>
            <p:cNvPr id="301" name="Line 22"/>
            <p:cNvSpPr/>
            <p:nvPr/>
          </p:nvSpPr>
          <p:spPr>
            <a:xfrm>
              <a:off x="7164360" y="4149720"/>
              <a:ext cx="1655640" cy="1584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23"/>
            <p:cNvSpPr/>
            <p:nvPr/>
          </p:nvSpPr>
          <p:spPr>
            <a:xfrm flipH="1">
              <a:off x="7019640" y="4149720"/>
              <a:ext cx="1655640" cy="1584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324000" y="333360"/>
            <a:ext cx="8208720" cy="56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Verdana"/>
              </a:rPr>
              <a:t>Verbodsregel van </a:t>
            </a:r>
            <a:r>
              <a:rPr b="1" lang="nl-BE" sz="2000" spc="-1" strike="noStrike">
                <a:solidFill>
                  <a:srgbClr val="3333ff"/>
                </a:solidFill>
                <a:latin typeface="Verdana"/>
              </a:rPr>
              <a:t>PAU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In éénzelfde atoom kunnen 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nl-BE" sz="2000" spc="-1" strike="noStrike">
                <a:solidFill>
                  <a:srgbClr val="3333ff"/>
                </a:solidFill>
                <a:latin typeface="Verdana"/>
              </a:rPr>
              <a:t>geen twee dezelfde elektronen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gevonden wo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Elektronen verschillen in minstens één van de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 vier karakteristiek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hoofdnive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subnive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magnetisch niveau (orbita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sp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0" lang="nl-BE" sz="2400" spc="-1" strike="noStrike">
                <a:solidFill>
                  <a:srgbClr val="ff3300"/>
                </a:solidFill>
                <a:latin typeface="Verdana"/>
              </a:rPr>
              <a:t>Dus maximaal 2 elektronen in één orbita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0" lang="nl-BE" sz="2400" spc="-1" strike="noStrike">
                <a:solidFill>
                  <a:srgbClr val="ff3300"/>
                </a:solidFill>
                <a:latin typeface="Verdana"/>
              </a:rPr>
              <a:t>2 elektronen in eenzelfde orbitaal hebben dus steeds</a:t>
            </a:r>
            <a:br>
              <a:rPr sz="2400"/>
            </a:br>
            <a:r>
              <a:rPr b="0" lang="nl-BE" sz="2400" spc="-1" strike="noStrike">
                <a:solidFill>
                  <a:srgbClr val="ff3300"/>
                </a:solidFill>
                <a:latin typeface="Verdana"/>
              </a:rPr>
              <a:t>  een verschillende spintoestand; ze vormen een</a:t>
            </a:r>
            <a:br>
              <a:rPr sz="2400"/>
            </a:br>
            <a:r>
              <a:rPr b="0" lang="nl-BE" sz="2400" spc="-1" strike="noStrike">
                <a:solidFill>
                  <a:srgbClr val="ff3300"/>
                </a:solidFill>
                <a:latin typeface="Verdana"/>
              </a:rPr>
              <a:t>  </a:t>
            </a:r>
            <a:r>
              <a:rPr b="1" lang="nl-BE" sz="2400" spc="-1" strike="noStrike">
                <a:solidFill>
                  <a:srgbClr val="ff3300"/>
                </a:solidFill>
                <a:latin typeface="Verdana"/>
              </a:rPr>
              <a:t>doublet</a:t>
            </a:r>
            <a:r>
              <a:rPr b="0" lang="nl-BE" sz="2400" spc="-1" strike="noStrike">
                <a:solidFill>
                  <a:srgbClr val="ff3300"/>
                </a:solidFill>
                <a:latin typeface="Verdana"/>
              </a:rPr>
              <a:t> of gepaarde elektr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3"/>
          <p:cNvGrpSpPr/>
          <p:nvPr/>
        </p:nvGrpSpPr>
        <p:grpSpPr>
          <a:xfrm>
            <a:off x="6948360" y="333360"/>
            <a:ext cx="2022120" cy="2909520"/>
            <a:chOff x="6948360" y="333360"/>
            <a:chExt cx="2022120" cy="2909520"/>
          </a:xfrm>
        </p:grpSpPr>
        <p:pic>
          <p:nvPicPr>
            <p:cNvPr id="305" name="Picture 4" descr=""/>
            <p:cNvPicPr/>
            <p:nvPr/>
          </p:nvPicPr>
          <p:blipFill>
            <a:blip r:embed="rId1"/>
            <a:stretch/>
          </p:blipFill>
          <p:spPr>
            <a:xfrm>
              <a:off x="6948360" y="333360"/>
              <a:ext cx="2022120" cy="249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Rectangle 5"/>
            <p:cNvSpPr/>
            <p:nvPr/>
          </p:nvSpPr>
          <p:spPr>
            <a:xfrm>
              <a:off x="7089120" y="2874600"/>
              <a:ext cx="165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nl-NL" sz="1800" spc="-1" strike="noStrike">
                  <a:solidFill>
                    <a:srgbClr val="000000"/>
                  </a:solidFill>
                  <a:latin typeface="Verdana"/>
                </a:rPr>
                <a:t>1900 - 1958</a:t>
              </a: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2"/>
          <p:cNvSpPr/>
          <p:nvPr/>
        </p:nvSpPr>
        <p:spPr>
          <a:xfrm>
            <a:off x="179280" y="333360"/>
            <a:ext cx="8785440" cy="62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Stabiliteitsreg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Bepaalde elektronenconfiguraties geven extra stabilit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24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de </a:t>
            </a:r>
            <a:r>
              <a:rPr b="1" lang="nl-NL" sz="1800" spc="-1" strike="noStrike">
                <a:solidFill>
                  <a:srgbClr val="3333ff"/>
                </a:solidFill>
                <a:latin typeface="Verdana"/>
              </a:rPr>
              <a:t>edelgasconfiguratie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: 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ns</a:t>
            </a:r>
            <a:r>
              <a:rPr b="1" lang="nl-NL" sz="1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 np</a:t>
            </a:r>
            <a:r>
              <a:rPr b="1" lang="nl-NL" sz="1800" spc="-1" strike="noStrike" baseline="30000">
                <a:solidFill>
                  <a:srgbClr val="000000"/>
                </a:solidFill>
                <a:latin typeface="Verdana"/>
              </a:rPr>
              <a:t>6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(octet) </a:t>
            </a: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(een zeer stabiele configuratie)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24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een </a:t>
            </a:r>
            <a:r>
              <a:rPr b="1" lang="nl-NL" sz="1800" spc="-1" strike="noStrike">
                <a:solidFill>
                  <a:srgbClr val="3333ff"/>
                </a:solidFill>
                <a:latin typeface="Verdana"/>
              </a:rPr>
              <a:t>volledig bezet subniveau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een toestand d</a:t>
            </a:r>
            <a:r>
              <a:rPr b="1" lang="nl-NL" sz="1600" spc="-1" strike="noStrike" baseline="30000">
                <a:solidFill>
                  <a:srgbClr val="000000"/>
                </a:solidFill>
                <a:latin typeface="Verdana"/>
              </a:rPr>
              <a:t>10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is stabieler dan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een toestand d</a:t>
            </a:r>
            <a:r>
              <a:rPr b="1" lang="nl-NL" sz="1600" spc="-1" strike="noStrike" baseline="30000">
                <a:solidFill>
                  <a:srgbClr val="000000"/>
                </a:solidFill>
                <a:latin typeface="Verdana"/>
              </a:rPr>
              <a:t>9</a:t>
            </a:r>
            <a:r>
              <a:rPr b="1" lang="nl-NL" sz="16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24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een </a:t>
            </a:r>
            <a:r>
              <a:rPr b="1" lang="nl-NL" sz="1800" spc="-1" strike="noStrike">
                <a:solidFill>
                  <a:srgbClr val="3333ff"/>
                </a:solidFill>
                <a:latin typeface="Verdana"/>
              </a:rPr>
              <a:t>halfbezet subniveau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een toestand d</a:t>
            </a:r>
            <a:r>
              <a:rPr b="1" lang="nl-NL" sz="1800" spc="-1" strike="noStrike" baseline="30000">
                <a:solidFill>
                  <a:srgbClr val="000000"/>
                </a:solidFill>
                <a:latin typeface="Verdana"/>
              </a:rPr>
              <a:t>5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is stabieler da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                                                  een toestand d</a:t>
            </a:r>
            <a:r>
              <a:rPr b="1" lang="nl-NL" sz="1800" spc="-1" strike="noStrike" baseline="30000">
                <a:solidFill>
                  <a:srgbClr val="000000"/>
                </a:solidFill>
                <a:latin typeface="Verdana"/>
              </a:rPr>
              <a:t>4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of d</a:t>
            </a:r>
            <a:r>
              <a:rPr b="1" lang="nl-NL" sz="1800" spc="-1" strike="noStrike" baseline="30000">
                <a:solidFill>
                  <a:srgbClr val="000000"/>
                </a:solidFill>
                <a:latin typeface="Verdana"/>
              </a:rPr>
              <a:t>6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Enkele voorbeelde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24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 baseline="-25000">
                <a:solidFill>
                  <a:srgbClr val="000000"/>
                </a:solidFill>
                <a:latin typeface="Verdana"/>
              </a:rPr>
              <a:t>  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Verdana"/>
              </a:rPr>
              <a:t>42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Mo: </a:t>
            </a:r>
            <a:r>
              <a:rPr b="0" lang="nl-NL" sz="16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Verdana"/>
              </a:rPr>
              <a:t>36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Kr</a:t>
            </a:r>
            <a:r>
              <a:rPr b="0" lang="nl-NL" sz="16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5s</a:t>
            </a:r>
            <a:r>
              <a:rPr b="1" lang="nl-NL" sz="1600" spc="-1" strike="noStrike" baseline="30000">
                <a:solidFill>
                  <a:srgbClr val="000000"/>
                </a:solidFill>
                <a:latin typeface="Verdana"/>
              </a:rPr>
              <a:t>1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4d</a:t>
            </a:r>
            <a:r>
              <a:rPr b="1" lang="nl-NL" sz="1600" spc="-1" strike="noStrike" baseline="30000">
                <a:solidFill>
                  <a:srgbClr val="000000"/>
                </a:solidFill>
                <a:latin typeface="Verdana"/>
              </a:rPr>
              <a:t>5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  twee halfbezette subniveaus i.p.v  </a:t>
            </a:r>
            <a:r>
              <a:rPr b="0" lang="nl-NL" sz="16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Verdana"/>
              </a:rPr>
              <a:t>36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Kr</a:t>
            </a:r>
            <a:r>
              <a:rPr b="0" lang="nl-NL" sz="16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5s</a:t>
            </a:r>
            <a:r>
              <a:rPr b="1" lang="nl-NL" sz="16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4d</a:t>
            </a:r>
            <a:r>
              <a:rPr b="1" lang="nl-NL" sz="1600" spc="-1" strike="noStrike" baseline="30000">
                <a:solidFill>
                  <a:srgbClr val="000000"/>
                </a:solidFill>
                <a:latin typeface="Verdana"/>
              </a:rPr>
              <a:t>4</a:t>
            </a:r>
            <a:r>
              <a:rPr b="1" lang="nl-NL" sz="16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24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 baseline="-25000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Verdana"/>
              </a:rPr>
              <a:t>43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Tc: </a:t>
            </a:r>
            <a:r>
              <a:rPr b="0" lang="nl-NL" sz="16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Verdana"/>
              </a:rPr>
              <a:t>36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Kr</a:t>
            </a:r>
            <a:r>
              <a:rPr b="0" lang="nl-NL" sz="16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5s</a:t>
            </a:r>
            <a:r>
              <a:rPr b="1" lang="nl-NL" sz="16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4d</a:t>
            </a:r>
            <a:r>
              <a:rPr b="1" lang="nl-NL" sz="1600" spc="-1" strike="noStrike" baseline="30000">
                <a:solidFill>
                  <a:srgbClr val="000000"/>
                </a:solidFill>
                <a:latin typeface="Verdana"/>
              </a:rPr>
              <a:t>5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  een volledig bezet en een halfbezet subniveau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24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Verdana"/>
              </a:rPr>
              <a:t>46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Pd :  </a:t>
            </a:r>
            <a:r>
              <a:rPr b="0" lang="nl-NL" sz="16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Verdana"/>
              </a:rPr>
              <a:t>36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Kr</a:t>
            </a:r>
            <a:r>
              <a:rPr b="0" lang="nl-NL" sz="16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4d</a:t>
            </a:r>
            <a:r>
              <a:rPr b="1" lang="nl-NL" sz="1600" spc="-1" strike="noStrike" baseline="30000">
                <a:solidFill>
                  <a:srgbClr val="000000"/>
                </a:solidFill>
                <a:latin typeface="Verdana"/>
              </a:rPr>
              <a:t>10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      volzet subniveau i.p.v. </a:t>
            </a:r>
            <a:r>
              <a:rPr b="0" lang="nl-NL" sz="16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Verdana"/>
              </a:rPr>
              <a:t>36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Kr</a:t>
            </a:r>
            <a:r>
              <a:rPr b="0" lang="nl-NL" sz="16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5s</a:t>
            </a:r>
            <a:r>
              <a:rPr b="1" lang="nl-NL" sz="16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4d</a:t>
            </a:r>
            <a:r>
              <a:rPr b="1" lang="nl-NL" sz="16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 u="sng">
                <a:solidFill>
                  <a:srgbClr val="000000"/>
                </a:solidFill>
                <a:uFillTx/>
                <a:latin typeface="Verdana"/>
              </a:rPr>
              <a:t>Opmerking</a:t>
            </a: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Soms gebruikt men bij het noteren van elektronenconfiguraties een </a:t>
            </a:r>
            <a:r>
              <a:rPr b="1" lang="nl-NL" sz="1200" spc="-1" strike="noStrike">
                <a:solidFill>
                  <a:srgbClr val="ff3300"/>
                </a:solidFill>
                <a:latin typeface="Verdana"/>
              </a:rPr>
              <a:t>vereenvoudigde notatiewijze</a:t>
            </a: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 (zie bovenstaande voorbeelden). Men noteert daarbij tussen rechthoekige haakjes het symbool van het voorafgaandelijk edelgas gevolgd door de normale notatiewijze voor de overige bezette orbitale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Voorbeeld :  </a:t>
            </a:r>
            <a:r>
              <a:rPr b="0" lang="nl-NL" sz="1200" spc="-1" strike="noStrike" baseline="-25000">
                <a:solidFill>
                  <a:srgbClr val="000000"/>
                </a:solidFill>
                <a:latin typeface="Verdana"/>
              </a:rPr>
              <a:t>20</a:t>
            </a: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Ca : </a:t>
            </a:r>
            <a:r>
              <a:rPr b="0" lang="nl-NL" sz="12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nl-NL" sz="1200" spc="-1" strike="noStrike" baseline="-25000">
                <a:solidFill>
                  <a:srgbClr val="000000"/>
                </a:solidFill>
                <a:latin typeface="Verdana"/>
              </a:rPr>
              <a:t> 18</a:t>
            </a: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Ar</a:t>
            </a:r>
            <a:r>
              <a:rPr b="0" lang="nl-NL" sz="12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 4s</a:t>
            </a:r>
            <a:r>
              <a:rPr b="1" lang="nl-NL" sz="1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"/>
          <p:cNvGraphicFramePr/>
          <p:nvPr/>
        </p:nvGraphicFramePr>
        <p:xfrm>
          <a:off x="468360" y="260280"/>
          <a:ext cx="7927920" cy="5943600"/>
        </p:xfrm>
        <a:graphic>
          <a:graphicData uri="http://schemas.openxmlformats.org/drawingml/2006/table">
            <a:tbl>
              <a:tblPr/>
              <a:tblGrid>
                <a:gridCol w="7927920"/>
              </a:tblGrid>
              <a:tr h="597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en aantal interessante websites in verband met de elektronenconfigura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Quicktime moviefile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:werkwijze voor het opstellen van de elektronenconfiguratie in beeld (Engel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 u="sng">
                          <a:solidFill>
                            <a:srgbClr val="009999"/>
                          </a:solidFill>
                          <a:uFillTx/>
                          <a:latin typeface="Verdana"/>
                          <a:ea typeface="Times New Roman"/>
                          <a:hlinkClick r:id="rId1"/>
                        </a:rPr>
                        <a:t>http://cwx.prenhall.com/petrucci/medialib/media_portfolio/text_images/043_ElectronConfig.MOV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pbouwprincipe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door willekeurig ergens op het scherm te klikken), vertrekkende bij het waterstofatoom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ttp://intro.chem.okstate.edu/WorkshopFolder/Electronconfnew.htm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teractieve periodieke systemen (PSE)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elektronenconfiguratie met eventuele eigenschappen en dergelijke. Een paar voorbeelden hiervan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ttp://chemlab.pc.maricopa.edu/period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ttp://www.chemistrycoach.com/periodic_tables.h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ttp://www.thecatalyst.org/m03ptabl.ht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 laatste 2 geven een overzicht van wat er rond dit onderwerp op het web te vinden i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2"/>
          <p:cNvSpPr/>
          <p:nvPr/>
        </p:nvSpPr>
        <p:spPr>
          <a:xfrm>
            <a:off x="468360" y="260280"/>
            <a:ext cx="867564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Opga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1 De elektronenconfiguratie van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vanadium (V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A Schrijf de voorstelling van de elektronenconfiguratie in symbolenta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B Teken daaronder de voorstelling van de elektronenconfiguratie via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 het vakjesdiagram en nummer de elektronen volgens volgorde va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 opvu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250920" y="2781360"/>
            <a:ext cx="8642160" cy="13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nl-BE" sz="1800" spc="-1" strike="noStrike">
                <a:solidFill>
                  <a:srgbClr val="ff3300"/>
                </a:solidFill>
                <a:latin typeface="Verdana"/>
              </a:rPr>
              <a:t>K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nl-BE" sz="1800" spc="-1" strike="noStrike">
                <a:solidFill>
                  <a:srgbClr val="3333ff"/>
                </a:solidFill>
                <a:latin typeface="Verdana"/>
              </a:rPr>
              <a:t>L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                    </a:t>
            </a:r>
            <a:r>
              <a:rPr b="0" lang="nl-BE" sz="1800" spc="-1" strike="noStrike">
                <a:solidFill>
                  <a:srgbClr val="9933ff"/>
                </a:solidFill>
                <a:latin typeface="Verdana"/>
              </a:rPr>
              <a:t> M 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                         </a:t>
            </a:r>
            <a:r>
              <a:rPr b="0" lang="nl-BE" sz="1800" spc="-1" strike="noStrike">
                <a:solidFill>
                  <a:srgbClr val="009900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 baseline="-25000">
                <a:solidFill>
                  <a:srgbClr val="000000"/>
                </a:solidFill>
                <a:latin typeface="Verdana"/>
              </a:rPr>
              <a:t>23</a:t>
            </a:r>
            <a:r>
              <a:rPr b="1" lang="nl-BE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nl-BE" sz="1800" spc="-1" strike="noStrike">
                <a:solidFill>
                  <a:srgbClr val="ff3300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nl-BE" sz="1800" spc="-1" strike="noStrike">
                <a:solidFill>
                  <a:srgbClr val="3333ff"/>
                </a:solidFill>
                <a:latin typeface="Verdana"/>
              </a:rPr>
              <a:t>8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                    </a:t>
            </a:r>
            <a:r>
              <a:rPr b="0" lang="nl-BE" sz="1800" spc="-1" strike="noStrike">
                <a:solidFill>
                  <a:srgbClr val="9933ff"/>
                </a:solidFill>
                <a:latin typeface="Verdana"/>
              </a:rPr>
              <a:t>11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                           </a:t>
            </a:r>
            <a:r>
              <a:rPr b="0" lang="nl-BE" sz="1800" spc="-1" strike="noStrike">
                <a:solidFill>
                  <a:srgbClr val="009900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nl-BE" sz="1800" spc="-1" strike="noStrike">
                <a:solidFill>
                  <a:srgbClr val="ff3300"/>
                </a:solidFill>
                <a:latin typeface="Verdana"/>
              </a:rPr>
              <a:t>1s</a:t>
            </a:r>
            <a:r>
              <a:rPr b="0" lang="nl-BE" sz="1800" spc="-1" strike="noStrike" baseline="30000">
                <a:solidFill>
                  <a:srgbClr val="ff3300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nl-BE" sz="1800" spc="-1" strike="noStrike">
                <a:solidFill>
                  <a:srgbClr val="3333ff"/>
                </a:solidFill>
                <a:latin typeface="Verdana"/>
              </a:rPr>
              <a:t>2s</a:t>
            </a:r>
            <a:r>
              <a:rPr b="0" lang="nl-BE" sz="1800" spc="-1" strike="noStrike" baseline="30000">
                <a:solidFill>
                  <a:srgbClr val="3333ff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3333ff"/>
                </a:solidFill>
                <a:latin typeface="Verdana"/>
              </a:rPr>
              <a:t>    2p</a:t>
            </a:r>
            <a:r>
              <a:rPr b="0" lang="nl-BE" sz="1800" spc="-1" strike="noStrike" baseline="30000">
                <a:solidFill>
                  <a:srgbClr val="3333ff"/>
                </a:solidFill>
                <a:latin typeface="Verdana"/>
              </a:rPr>
              <a:t>6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nl-BE" sz="1800" spc="-1" strike="noStrike">
                <a:solidFill>
                  <a:srgbClr val="9933ff"/>
                </a:solidFill>
                <a:latin typeface="Verdana"/>
              </a:rPr>
              <a:t>3s</a:t>
            </a:r>
            <a:r>
              <a:rPr b="0" lang="nl-BE" sz="1800" spc="-1" strike="noStrike" baseline="30000">
                <a:solidFill>
                  <a:srgbClr val="9933ff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9933ff"/>
                </a:solidFill>
                <a:latin typeface="Verdana"/>
              </a:rPr>
              <a:t>     3p</a:t>
            </a:r>
            <a:r>
              <a:rPr b="0" lang="nl-BE" sz="1800" spc="-1" strike="noStrike" baseline="30000">
                <a:solidFill>
                  <a:srgbClr val="9933ff"/>
                </a:solidFill>
                <a:latin typeface="Verdana"/>
              </a:rPr>
              <a:t>6</a:t>
            </a:r>
            <a:r>
              <a:rPr b="0" lang="nl-BE" sz="1800" spc="-1" strike="noStrike">
                <a:solidFill>
                  <a:srgbClr val="9933ff"/>
                </a:solidFill>
                <a:latin typeface="Verdana"/>
              </a:rPr>
              <a:t>        3d</a:t>
            </a:r>
            <a:r>
              <a:rPr b="0" lang="nl-BE" sz="1800" spc="-1" strike="noStrike" baseline="30000">
                <a:solidFill>
                  <a:srgbClr val="9933ff"/>
                </a:solidFill>
                <a:latin typeface="Verdana"/>
              </a:rPr>
              <a:t>3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r>
              <a:rPr b="0" lang="nl-BE" sz="1800" spc="-1" strike="noStrike">
                <a:solidFill>
                  <a:srgbClr val="009900"/>
                </a:solidFill>
                <a:latin typeface="Verdana"/>
              </a:rPr>
              <a:t>4s</a:t>
            </a:r>
            <a:r>
              <a:rPr b="0" lang="nl-BE" sz="1800" spc="-1" strike="noStrike" baseline="30000">
                <a:solidFill>
                  <a:srgbClr val="0099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5724360" y="4292640"/>
          <a:ext cx="1656000" cy="228600"/>
        </p:xfrm>
        <a:graphic>
          <a:graphicData uri="http://schemas.openxmlformats.org/drawingml/2006/table">
            <a:tbl>
              <a:tblPr/>
              <a:tblGrid>
                <a:gridCol w="331920"/>
                <a:gridCol w="331920"/>
                <a:gridCol w="271440"/>
                <a:gridCol w="388800"/>
                <a:gridCol w="33192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9933ff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9933ff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9933ff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1187280" y="4292640"/>
          <a:ext cx="331920" cy="228600"/>
        </p:xfrm>
        <a:graphic>
          <a:graphicData uri="http://schemas.openxmlformats.org/drawingml/2006/table">
            <a:tbl>
              <a:tblPr/>
              <a:tblGrid>
                <a:gridCol w="33192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ff3300"/>
                          </a:solidFill>
                          <a:latin typeface="Symbol"/>
                          <a:ea typeface="Symbol"/>
                        </a:rPr>
                        <a:t>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3" name=""/>
          <p:cNvGraphicFramePr/>
          <p:nvPr/>
        </p:nvGraphicFramePr>
        <p:xfrm>
          <a:off x="1908000" y="4292640"/>
          <a:ext cx="331920" cy="230040"/>
        </p:xfrm>
        <a:graphic>
          <a:graphicData uri="http://schemas.openxmlformats.org/drawingml/2006/table">
            <a:tbl>
              <a:tblPr/>
              <a:tblGrid>
                <a:gridCol w="33192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3333ff"/>
                          </a:solidFill>
                          <a:latin typeface="Symbol"/>
                          <a:ea typeface="Symbol"/>
                        </a:rPr>
                        <a:t>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4" name=""/>
          <p:cNvGraphicFramePr/>
          <p:nvPr/>
        </p:nvGraphicFramePr>
        <p:xfrm>
          <a:off x="2411280" y="4292640"/>
          <a:ext cx="1152720" cy="230040"/>
        </p:xfrm>
        <a:graphic>
          <a:graphicData uri="http://schemas.openxmlformats.org/drawingml/2006/table">
            <a:tbl>
              <a:tblPr/>
              <a:tblGrid>
                <a:gridCol w="382680"/>
                <a:gridCol w="385920"/>
                <a:gridCol w="38412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3333ff"/>
                          </a:solidFill>
                          <a:latin typeface="Symbol"/>
                          <a:ea typeface="Symbol"/>
                        </a:rPr>
                        <a:t>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3333ff"/>
                          </a:solidFill>
                          <a:latin typeface="Symbol"/>
                          <a:ea typeface="Symbol"/>
                        </a:rPr>
                        <a:t>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3333ff"/>
                          </a:solidFill>
                          <a:latin typeface="Symbol"/>
                          <a:ea typeface="Symbol"/>
                        </a:rPr>
                        <a:t>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5" name=""/>
          <p:cNvGraphicFramePr/>
          <p:nvPr/>
        </p:nvGraphicFramePr>
        <p:xfrm>
          <a:off x="3995640" y="4281480"/>
          <a:ext cx="331920" cy="228600"/>
        </p:xfrm>
        <a:graphic>
          <a:graphicData uri="http://schemas.openxmlformats.org/drawingml/2006/table">
            <a:tbl>
              <a:tblPr/>
              <a:tblGrid>
                <a:gridCol w="33192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9933ff"/>
                          </a:solidFill>
                          <a:latin typeface="Symbol"/>
                          <a:ea typeface="Symbol"/>
                        </a:rPr>
                        <a:t>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6" name=""/>
          <p:cNvGraphicFramePr/>
          <p:nvPr/>
        </p:nvGraphicFramePr>
        <p:xfrm>
          <a:off x="4427640" y="4292640"/>
          <a:ext cx="1152360" cy="228600"/>
        </p:xfrm>
        <a:graphic>
          <a:graphicData uri="http://schemas.openxmlformats.org/drawingml/2006/table">
            <a:tbl>
              <a:tblPr/>
              <a:tblGrid>
                <a:gridCol w="382320"/>
                <a:gridCol w="385920"/>
                <a:gridCol w="38412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9933ff"/>
                          </a:solidFill>
                          <a:latin typeface="Symbol"/>
                          <a:ea typeface="Symbol"/>
                        </a:rPr>
                        <a:t>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9933ff"/>
                          </a:solidFill>
                          <a:latin typeface="Symbol"/>
                          <a:ea typeface="Symbol"/>
                        </a:rPr>
                        <a:t>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9933ff"/>
                          </a:solidFill>
                          <a:latin typeface="Symbol"/>
                          <a:ea typeface="Symbol"/>
                        </a:rPr>
                        <a:t>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7956720" y="4292640"/>
          <a:ext cx="331560" cy="228600"/>
        </p:xfrm>
        <a:graphic>
          <a:graphicData uri="http://schemas.openxmlformats.org/drawingml/2006/table">
            <a:tbl>
              <a:tblPr/>
              <a:tblGrid>
                <a:gridCol w="33156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009900"/>
                          </a:solidFill>
                          <a:latin typeface="Symbol"/>
                          <a:ea typeface="Symbol"/>
                        </a:rPr>
                        <a:t>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8" name="Text Box 62"/>
          <p:cNvSpPr/>
          <p:nvPr/>
        </p:nvSpPr>
        <p:spPr>
          <a:xfrm>
            <a:off x="755640" y="4653000"/>
            <a:ext cx="806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nl-BE" sz="800" spc="-1" strike="noStrike">
                <a:solidFill>
                  <a:srgbClr val="000000"/>
                </a:solidFill>
                <a:latin typeface="Verdana"/>
              </a:rPr>
              <a:t>1,2                 3, 4        5, 8      6, 9    7,10               11,12    13,16  14,17   15,18      21      22      23                                       19,20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63"/>
          <p:cNvSpPr/>
          <p:nvPr/>
        </p:nvSpPr>
        <p:spPr>
          <a:xfrm>
            <a:off x="324000" y="4221000"/>
            <a:ext cx="8569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2"/>
          <p:cNvSpPr/>
          <p:nvPr/>
        </p:nvSpPr>
        <p:spPr>
          <a:xfrm>
            <a:off x="611280" y="404640"/>
            <a:ext cx="8137440" cy="58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De elektronenconfiguratie van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magnesium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in symbolenta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De elektronenconfiguratie van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argon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in symbolentaal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De elektronenconfiguratie van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ijzer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in symbolentaal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De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beknopte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elektronenconfiguratie van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ijzer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in symbolentaal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De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beknopte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elektronenconfiguratie van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palladium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in symbolenta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1042920" y="836640"/>
            <a:ext cx="554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 baseline="-25000">
                <a:solidFill>
                  <a:srgbClr val="000000"/>
                </a:solidFill>
                <a:latin typeface="Verdana"/>
              </a:rPr>
              <a:t>12</a:t>
            </a: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Mg:     </a:t>
            </a:r>
            <a:r>
              <a:rPr b="0" lang="nl-BE" sz="1800" spc="-1" strike="noStrike">
                <a:solidFill>
                  <a:srgbClr val="ff3300"/>
                </a:solidFill>
                <a:latin typeface="Verdana"/>
              </a:rPr>
              <a:t> 1s</a:t>
            </a:r>
            <a:r>
              <a:rPr b="0" lang="nl-BE" sz="1800" spc="-1" strike="noStrike" baseline="30000">
                <a:solidFill>
                  <a:srgbClr val="ff3300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nl-BE" sz="1800" spc="-1" strike="noStrike">
                <a:solidFill>
                  <a:srgbClr val="3333ff"/>
                </a:solidFill>
                <a:latin typeface="Verdana"/>
              </a:rPr>
              <a:t>2s</a:t>
            </a:r>
            <a:r>
              <a:rPr b="0" lang="nl-BE" sz="1800" spc="-1" strike="noStrike" baseline="30000">
                <a:solidFill>
                  <a:srgbClr val="3333ff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3333ff"/>
                </a:solidFill>
                <a:latin typeface="Verdana"/>
              </a:rPr>
              <a:t>    2p</a:t>
            </a:r>
            <a:r>
              <a:rPr b="0" lang="nl-BE" sz="1800" spc="-1" strike="noStrike" baseline="30000">
                <a:solidFill>
                  <a:srgbClr val="3333ff"/>
                </a:solidFill>
                <a:latin typeface="Verdana"/>
              </a:rPr>
              <a:t>6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nl-BE" sz="1800" spc="-1" strike="noStrike">
                <a:solidFill>
                  <a:srgbClr val="9933ff"/>
                </a:solidFill>
                <a:latin typeface="Verdana"/>
              </a:rPr>
              <a:t>3s</a:t>
            </a:r>
            <a:r>
              <a:rPr b="0" lang="nl-BE" sz="1800" spc="-1" strike="noStrike" baseline="30000">
                <a:solidFill>
                  <a:srgbClr val="ff33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1116000" y="1989000"/>
            <a:ext cx="554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 baseline="-25000">
                <a:solidFill>
                  <a:srgbClr val="000000"/>
                </a:solidFill>
                <a:latin typeface="Verdana"/>
              </a:rPr>
              <a:t>18</a:t>
            </a: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Ar:     </a:t>
            </a:r>
            <a:r>
              <a:rPr b="0" lang="nl-BE" sz="1800" spc="-1" strike="noStrike">
                <a:solidFill>
                  <a:srgbClr val="ff3300"/>
                </a:solidFill>
                <a:latin typeface="Verdana"/>
              </a:rPr>
              <a:t> 1s</a:t>
            </a:r>
            <a:r>
              <a:rPr b="0" lang="nl-BE" sz="1800" spc="-1" strike="noStrike" baseline="30000">
                <a:solidFill>
                  <a:srgbClr val="ff3300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nl-BE" sz="1800" spc="-1" strike="noStrike">
                <a:solidFill>
                  <a:srgbClr val="3333ff"/>
                </a:solidFill>
                <a:latin typeface="Verdana"/>
              </a:rPr>
              <a:t>2s</a:t>
            </a:r>
            <a:r>
              <a:rPr b="0" lang="nl-BE" sz="1800" spc="-1" strike="noStrike" baseline="30000">
                <a:solidFill>
                  <a:srgbClr val="3333ff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3333ff"/>
                </a:solidFill>
                <a:latin typeface="Verdana"/>
              </a:rPr>
              <a:t>    2p</a:t>
            </a:r>
            <a:r>
              <a:rPr b="0" lang="nl-BE" sz="1800" spc="-1" strike="noStrike" baseline="30000">
                <a:solidFill>
                  <a:srgbClr val="3333ff"/>
                </a:solidFill>
                <a:latin typeface="Verdana"/>
              </a:rPr>
              <a:t>6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nl-BE" sz="1800" spc="-1" strike="noStrike">
                <a:solidFill>
                  <a:srgbClr val="9933ff"/>
                </a:solidFill>
                <a:latin typeface="Verdana"/>
              </a:rPr>
              <a:t>3s</a:t>
            </a:r>
            <a:r>
              <a:rPr b="0" lang="nl-BE" sz="1800" spc="-1" strike="noStrike" baseline="30000">
                <a:solidFill>
                  <a:srgbClr val="9933ff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9933ff"/>
                </a:solidFill>
                <a:latin typeface="Verdana"/>
              </a:rPr>
              <a:t>    3p</a:t>
            </a:r>
            <a:r>
              <a:rPr b="0" lang="nl-BE" sz="1800" spc="-1" strike="noStrike" baseline="30000">
                <a:solidFill>
                  <a:srgbClr val="9933ff"/>
                </a:solidFill>
                <a:latin typeface="Verdana"/>
              </a:rPr>
              <a:t>6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1116000" y="3357720"/>
            <a:ext cx="684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 baseline="-25000">
                <a:solidFill>
                  <a:srgbClr val="000000"/>
                </a:solidFill>
                <a:latin typeface="Verdana"/>
              </a:rPr>
              <a:t>26</a:t>
            </a: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Fe:     </a:t>
            </a:r>
            <a:r>
              <a:rPr b="0" lang="nl-BE" sz="1800" spc="-1" strike="noStrike">
                <a:solidFill>
                  <a:srgbClr val="ff3300"/>
                </a:solidFill>
                <a:latin typeface="Verdana"/>
              </a:rPr>
              <a:t> 1s</a:t>
            </a:r>
            <a:r>
              <a:rPr b="0" lang="nl-BE" sz="1800" spc="-1" strike="noStrike" baseline="30000">
                <a:solidFill>
                  <a:srgbClr val="ff3300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nl-BE" sz="1800" spc="-1" strike="noStrike">
                <a:solidFill>
                  <a:srgbClr val="3333ff"/>
                </a:solidFill>
                <a:latin typeface="Verdana"/>
              </a:rPr>
              <a:t>2s</a:t>
            </a:r>
            <a:r>
              <a:rPr b="0" lang="nl-BE" sz="1800" spc="-1" strike="noStrike" baseline="30000">
                <a:solidFill>
                  <a:srgbClr val="3333ff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3333ff"/>
                </a:solidFill>
                <a:latin typeface="Verdana"/>
              </a:rPr>
              <a:t>    2p</a:t>
            </a:r>
            <a:r>
              <a:rPr b="0" lang="nl-BE" sz="1800" spc="-1" strike="noStrike" baseline="30000">
                <a:solidFill>
                  <a:srgbClr val="3333ff"/>
                </a:solidFill>
                <a:latin typeface="Verdana"/>
              </a:rPr>
              <a:t>6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nl-BE" sz="1800" spc="-1" strike="noStrike">
                <a:solidFill>
                  <a:srgbClr val="9933ff"/>
                </a:solidFill>
                <a:latin typeface="Verdana"/>
              </a:rPr>
              <a:t>3s</a:t>
            </a:r>
            <a:r>
              <a:rPr b="0" lang="nl-BE" sz="1800" spc="-1" strike="noStrike" baseline="30000">
                <a:solidFill>
                  <a:srgbClr val="9933ff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9933ff"/>
                </a:solidFill>
                <a:latin typeface="Verdana"/>
              </a:rPr>
              <a:t>    3p</a:t>
            </a:r>
            <a:r>
              <a:rPr b="0" lang="nl-BE" sz="1800" spc="-1" strike="noStrike" baseline="30000">
                <a:solidFill>
                  <a:srgbClr val="9933ff"/>
                </a:solidFill>
                <a:latin typeface="Verdana"/>
              </a:rPr>
              <a:t>6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nl-BE" sz="1800" spc="-1" strike="noStrike">
                <a:solidFill>
                  <a:srgbClr val="009900"/>
                </a:solidFill>
                <a:latin typeface="Verdana"/>
              </a:rPr>
              <a:t>4s</a:t>
            </a:r>
            <a:r>
              <a:rPr b="0" lang="nl-BE" sz="1800" spc="-1" strike="noStrike" baseline="30000">
                <a:solidFill>
                  <a:srgbClr val="009900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BE" sz="1800" spc="-1" strike="noStrike">
                <a:solidFill>
                  <a:srgbClr val="9933ff"/>
                </a:solidFill>
                <a:latin typeface="Verdana"/>
              </a:rPr>
              <a:t>3d</a:t>
            </a:r>
            <a:r>
              <a:rPr b="0" lang="nl-BE" sz="1800" spc="-1" strike="noStrike" baseline="30000">
                <a:solidFill>
                  <a:srgbClr val="9933ff"/>
                </a:solidFill>
                <a:latin typeface="Verdan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1332000" y="4365720"/>
            <a:ext cx="431964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baseline="-25000">
                <a:solidFill>
                  <a:srgbClr val="009900"/>
                </a:solidFill>
                <a:latin typeface="Verdana"/>
              </a:rPr>
              <a:t>26</a:t>
            </a:r>
            <a:r>
              <a:rPr b="1" lang="nl-NL" sz="1800" spc="-1" strike="noStrike">
                <a:solidFill>
                  <a:srgbClr val="009900"/>
                </a:solidFill>
                <a:latin typeface="Verdana"/>
              </a:rPr>
              <a:t>Fe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: </a:t>
            </a:r>
            <a:r>
              <a:rPr b="0" lang="nl-NL" sz="1800" spc="-1" strike="noStrike">
                <a:solidFill>
                  <a:srgbClr val="009900"/>
                </a:solidFill>
                <a:latin typeface="Symbol"/>
                <a:ea typeface="Symbol"/>
              </a:rPr>
              <a:t>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0" lang="nl-NL" sz="1800" spc="-1" strike="noStrike" baseline="-25000">
                <a:solidFill>
                  <a:srgbClr val="009900"/>
                </a:solidFill>
                <a:latin typeface="Verdana"/>
              </a:rPr>
              <a:t>18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Ar</a:t>
            </a:r>
            <a:r>
              <a:rPr b="0" lang="nl-NL" sz="1800" spc="-1" strike="noStrike">
                <a:solidFill>
                  <a:srgbClr val="009900"/>
                </a:solidFill>
                <a:latin typeface="Symbol"/>
                <a:ea typeface="Symbol"/>
              </a:rPr>
              <a:t>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4s</a:t>
            </a:r>
            <a:r>
              <a:rPr b="0" lang="nl-NL" sz="1800" spc="-1" strike="noStrike" baseline="30000">
                <a:solidFill>
                  <a:srgbClr val="009900"/>
                </a:solidFill>
                <a:latin typeface="Verdana"/>
              </a:rPr>
              <a:t>2  </a:t>
            </a:r>
            <a:r>
              <a:rPr b="0" lang="nl-NL" sz="1800" spc="-1" strike="noStrike" baseline="-25000">
                <a:solidFill>
                  <a:srgbClr val="009900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3d</a:t>
            </a:r>
            <a:r>
              <a:rPr b="0" lang="nl-NL" sz="1800" spc="-1" strike="noStrike" baseline="30000">
                <a:solidFill>
                  <a:srgbClr val="009900"/>
                </a:solidFill>
                <a:latin typeface="Verdan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1332000" y="5734080"/>
            <a:ext cx="4319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baseline="-25000">
                <a:solidFill>
                  <a:srgbClr val="009900"/>
                </a:solidFill>
                <a:latin typeface="Verdana"/>
              </a:rPr>
              <a:t>46</a:t>
            </a:r>
            <a:r>
              <a:rPr b="1" lang="nl-NL" sz="1800" spc="-1" strike="noStrike">
                <a:solidFill>
                  <a:srgbClr val="009900"/>
                </a:solidFill>
                <a:latin typeface="Verdana"/>
              </a:rPr>
              <a:t>Pd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: </a:t>
            </a:r>
            <a:r>
              <a:rPr b="0" lang="nl-NL" sz="1800" spc="-1" strike="noStrike">
                <a:solidFill>
                  <a:srgbClr val="009900"/>
                </a:solidFill>
                <a:latin typeface="Symbol"/>
                <a:ea typeface="Symbol"/>
              </a:rPr>
              <a:t>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0" lang="nl-NL" sz="1800" spc="-1" strike="noStrike" baseline="-25000">
                <a:solidFill>
                  <a:srgbClr val="009900"/>
                </a:solidFill>
                <a:latin typeface="Verdana"/>
              </a:rPr>
              <a:t>36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Kr</a:t>
            </a:r>
            <a:r>
              <a:rPr b="0" lang="nl-NL" sz="1800" spc="-1" strike="noStrike">
                <a:solidFill>
                  <a:srgbClr val="009900"/>
                </a:solidFill>
                <a:latin typeface="Symbol"/>
                <a:ea typeface="Symbol"/>
              </a:rPr>
              <a:t>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4d</a:t>
            </a:r>
            <a:r>
              <a:rPr b="0" lang="nl-NL" sz="1800" spc="-1" strike="noStrike" baseline="30000">
                <a:solidFill>
                  <a:srgbClr val="009900"/>
                </a:solidFill>
                <a:latin typeface="Verdan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2"/>
          <p:cNvSpPr/>
          <p:nvPr/>
        </p:nvSpPr>
        <p:spPr>
          <a:xfrm>
            <a:off x="755640" y="620640"/>
            <a:ext cx="7272360" cy="35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De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beknopte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elektronenconfiguratie van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chroom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in symbolentaal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De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beknopte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elektronenconfiguratie van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zilver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in symbolenta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1332000" y="1268280"/>
            <a:ext cx="431964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baseline="-25000">
                <a:solidFill>
                  <a:srgbClr val="009900"/>
                </a:solidFill>
                <a:latin typeface="Verdana"/>
              </a:rPr>
              <a:t>24</a:t>
            </a:r>
            <a:r>
              <a:rPr b="1" lang="nl-NL" sz="1800" spc="-1" strike="noStrike">
                <a:solidFill>
                  <a:srgbClr val="009900"/>
                </a:solidFill>
                <a:latin typeface="Verdana"/>
              </a:rPr>
              <a:t>Cr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: </a:t>
            </a:r>
            <a:r>
              <a:rPr b="0" lang="nl-NL" sz="1800" spc="-1" strike="noStrike">
                <a:solidFill>
                  <a:srgbClr val="009900"/>
                </a:solidFill>
                <a:latin typeface="Symbol"/>
                <a:ea typeface="Symbol"/>
              </a:rPr>
              <a:t>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0" lang="nl-NL" sz="1800" spc="-1" strike="noStrike" baseline="-25000">
                <a:solidFill>
                  <a:srgbClr val="009900"/>
                </a:solidFill>
                <a:latin typeface="Verdana"/>
              </a:rPr>
              <a:t>18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Ar</a:t>
            </a:r>
            <a:r>
              <a:rPr b="0" lang="nl-NL" sz="1800" spc="-1" strike="noStrike">
                <a:solidFill>
                  <a:srgbClr val="009900"/>
                </a:solidFill>
                <a:latin typeface="Symbol"/>
                <a:ea typeface="Symbol"/>
              </a:rPr>
              <a:t>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4s</a:t>
            </a:r>
            <a:r>
              <a:rPr b="0" lang="nl-NL" sz="1800" spc="-1" strike="noStrike" baseline="30000">
                <a:solidFill>
                  <a:srgbClr val="009900"/>
                </a:solidFill>
                <a:latin typeface="Verdana"/>
              </a:rPr>
              <a:t>1  </a:t>
            </a:r>
            <a:r>
              <a:rPr b="0" lang="nl-NL" sz="1800" spc="-1" strike="noStrike" baseline="-25000">
                <a:solidFill>
                  <a:srgbClr val="009900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3d</a:t>
            </a:r>
            <a:r>
              <a:rPr b="0" lang="nl-NL" sz="1800" spc="-1" strike="noStrike" baseline="30000">
                <a:solidFill>
                  <a:srgbClr val="009900"/>
                </a:solidFill>
                <a:latin typeface="Verdan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1258920" y="3213000"/>
            <a:ext cx="4319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baseline="-25000">
                <a:solidFill>
                  <a:srgbClr val="009900"/>
                </a:solidFill>
                <a:latin typeface="Verdana"/>
              </a:rPr>
              <a:t>47</a:t>
            </a:r>
            <a:r>
              <a:rPr b="1" lang="nl-NL" sz="1800" spc="-1" strike="noStrike">
                <a:solidFill>
                  <a:srgbClr val="009900"/>
                </a:solidFill>
                <a:latin typeface="Verdana"/>
              </a:rPr>
              <a:t>Ag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: </a:t>
            </a:r>
            <a:r>
              <a:rPr b="0" lang="nl-NL" sz="1800" spc="-1" strike="noStrike">
                <a:solidFill>
                  <a:srgbClr val="009900"/>
                </a:solidFill>
                <a:latin typeface="Symbol"/>
                <a:ea typeface="Symbol"/>
              </a:rPr>
              <a:t>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0" lang="nl-NL" sz="1800" spc="-1" strike="noStrike" baseline="-25000">
                <a:solidFill>
                  <a:srgbClr val="009900"/>
                </a:solidFill>
                <a:latin typeface="Verdana"/>
              </a:rPr>
              <a:t>36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Kr</a:t>
            </a:r>
            <a:r>
              <a:rPr b="0" lang="nl-NL" sz="1800" spc="-1" strike="noStrike">
                <a:solidFill>
                  <a:srgbClr val="009900"/>
                </a:solidFill>
                <a:latin typeface="Symbol"/>
                <a:ea typeface="Symbol"/>
              </a:rPr>
              <a:t>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5s</a:t>
            </a:r>
            <a:r>
              <a:rPr b="0" lang="nl-NL" sz="1800" spc="-1" strike="noStrike" baseline="30000">
                <a:solidFill>
                  <a:srgbClr val="009900"/>
                </a:solidFill>
                <a:latin typeface="Verdana"/>
              </a:rPr>
              <a:t>1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4d</a:t>
            </a:r>
            <a:r>
              <a:rPr b="0" lang="nl-NL" sz="1800" spc="-1" strike="noStrike" baseline="30000">
                <a:solidFill>
                  <a:srgbClr val="009900"/>
                </a:solidFill>
                <a:latin typeface="Verdana"/>
              </a:rPr>
              <a:t>1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2"/>
          <p:cNvSpPr/>
          <p:nvPr/>
        </p:nvSpPr>
        <p:spPr>
          <a:xfrm>
            <a:off x="684360" y="404640"/>
            <a:ext cx="7704000" cy="20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33399"/>
                </a:solidFill>
                <a:latin typeface="Verdana"/>
              </a:rPr>
              <a:t>Overzicht van de elektronenconfiguratie van de atomen in de grondtoest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Verdana"/>
              </a:rPr>
              <a:t>Zie boek p.6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250920" y="260280"/>
            <a:ext cx="8713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Verdana"/>
              </a:rPr>
              <a:t>2.3 VERBAND ELEKTRONENCONFIGURATIE EN </a:t>
            </a:r>
            <a:br>
              <a:rPr sz="2800"/>
            </a:br>
            <a:r>
              <a:rPr b="0" lang="nl-BE" sz="2800" spc="-1" strike="noStrike">
                <a:solidFill>
                  <a:srgbClr val="000000"/>
                </a:solidFill>
                <a:latin typeface="Verdana"/>
              </a:rPr>
              <a:t>      OPBOUW VAN HET PERIODIEK SYSTE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3"/>
          <p:cNvSpPr/>
          <p:nvPr/>
        </p:nvSpPr>
        <p:spPr>
          <a:xfrm>
            <a:off x="395280" y="1484280"/>
            <a:ext cx="8352000" cy="43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Rangschikking van elementen volg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tijgend atoomnum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tijgend aantal prot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Chemisch gedrag van de elementen hangt af v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aantal elektronen van buitenste sch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lementen met eenzelfde aantal valentie-elektronen hebben analoge eigenschap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Hierdoor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indeling volgens massa en eigenschapp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indeling volgens elektronenconfigura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3559320" y="2719440"/>
            <a:ext cx="2025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5" descr=""/>
          <p:cNvPicPr/>
          <p:nvPr/>
        </p:nvPicPr>
        <p:blipFill>
          <a:blip r:embed="rId1"/>
          <a:stretch/>
        </p:blipFill>
        <p:spPr>
          <a:xfrm>
            <a:off x="6586560" y="1116000"/>
            <a:ext cx="2449440" cy="1881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4" name=""/>
          <p:cNvGraphicFramePr/>
          <p:nvPr/>
        </p:nvGraphicFramePr>
        <p:xfrm>
          <a:off x="6794640" y="2971800"/>
          <a:ext cx="2025360" cy="457200"/>
        </p:xfrm>
        <a:graphic>
          <a:graphicData uri="http://schemas.openxmlformats.org/drawingml/2006/table">
            <a:tbl>
              <a:tblPr/>
              <a:tblGrid>
                <a:gridCol w="202536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l-NL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mitri Mendelejev (1834- 1907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ereeuwigd op een Russische postzege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324000" y="189000"/>
            <a:ext cx="8497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333399"/>
                </a:solidFill>
                <a:latin typeface="Verdana"/>
              </a:rPr>
              <a:t>De spin van een elektron (1912)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1" lang="nl-BE" sz="2000" spc="-1" strike="noStrike">
                <a:solidFill>
                  <a:srgbClr val="333399"/>
                </a:solidFill>
                <a:latin typeface="Verdana"/>
              </a:rPr>
              <a:t>(</a:t>
            </a:r>
            <a:r>
              <a:rPr b="1" lang="nl-BE" sz="2000" spc="-1" strike="noStrike">
                <a:solidFill>
                  <a:srgbClr val="333399"/>
                </a:solidFill>
                <a:latin typeface="Arial"/>
              </a:rPr>
              <a:t>maximaal 2 elektronen per magnetisch nivea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1477800" y="2800440"/>
            <a:ext cx="1943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1477800" y="2800440"/>
            <a:ext cx="1908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1477800" y="2800440"/>
            <a:ext cx="2337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0" descr=""/>
          <p:cNvPicPr/>
          <p:nvPr/>
        </p:nvPicPr>
        <p:blipFill>
          <a:blip r:embed="rId1"/>
          <a:stretch/>
        </p:blipFill>
        <p:spPr>
          <a:xfrm>
            <a:off x="214200" y="3241800"/>
            <a:ext cx="5365800" cy="3211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03" name="Group 11"/>
          <p:cNvGrpSpPr/>
          <p:nvPr/>
        </p:nvGrpSpPr>
        <p:grpSpPr>
          <a:xfrm>
            <a:off x="5724360" y="2997360"/>
            <a:ext cx="3240000" cy="2620080"/>
            <a:chOff x="5724360" y="2997360"/>
            <a:chExt cx="3240000" cy="2620080"/>
          </a:xfrm>
        </p:grpSpPr>
        <p:pic>
          <p:nvPicPr>
            <p:cNvPr id="104" name="Picture 12" descr=""/>
            <p:cNvPicPr/>
            <p:nvPr/>
          </p:nvPicPr>
          <p:blipFill>
            <a:blip r:embed="rId2"/>
            <a:srcRect l="0" t="0" r="0" b="13751"/>
            <a:stretch/>
          </p:blipFill>
          <p:spPr>
            <a:xfrm>
              <a:off x="5724360" y="2997360"/>
              <a:ext cx="3095640" cy="1568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05" name="Text Box 13"/>
            <p:cNvSpPr/>
            <p:nvPr/>
          </p:nvSpPr>
          <p:spPr>
            <a:xfrm>
              <a:off x="7524720" y="4557600"/>
              <a:ext cx="143964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In wijzerz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spin down  </a:t>
              </a:r>
              <a:r>
                <a:rPr b="1" lang="nl-B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4"/>
            <p:cNvSpPr/>
            <p:nvPr/>
          </p:nvSpPr>
          <p:spPr>
            <a:xfrm>
              <a:off x="5724360" y="4557600"/>
              <a:ext cx="187308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In tegenwijzerz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spin up  </a:t>
              </a:r>
              <a:r>
                <a:rPr b="1" lang="nl-B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15"/>
          <p:cNvGrpSpPr/>
          <p:nvPr/>
        </p:nvGrpSpPr>
        <p:grpSpPr>
          <a:xfrm>
            <a:off x="5543640" y="5877000"/>
            <a:ext cx="3600360" cy="368280"/>
            <a:chOff x="5543640" y="5877000"/>
            <a:chExt cx="3600360" cy="368280"/>
          </a:xfrm>
        </p:grpSpPr>
        <p:sp>
          <p:nvSpPr>
            <p:cNvPr id="108" name="Text Box 16"/>
            <p:cNvSpPr/>
            <p:nvPr/>
          </p:nvSpPr>
          <p:spPr>
            <a:xfrm>
              <a:off x="5543640" y="5877000"/>
              <a:ext cx="5760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r>
                <a:rPr b="1" lang="nl-BE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nl-B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7"/>
            <p:cNvSpPr/>
            <p:nvPr/>
          </p:nvSpPr>
          <p:spPr>
            <a:xfrm>
              <a:off x="6264360" y="5877000"/>
              <a:ext cx="287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doublet = elektronenpaa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21"/>
          <p:cNvGrpSpPr/>
          <p:nvPr/>
        </p:nvGrpSpPr>
        <p:grpSpPr>
          <a:xfrm>
            <a:off x="5543640" y="6365880"/>
            <a:ext cx="3600360" cy="368280"/>
            <a:chOff x="5543640" y="6365880"/>
            <a:chExt cx="3600360" cy="368280"/>
          </a:xfrm>
        </p:grpSpPr>
        <p:sp>
          <p:nvSpPr>
            <p:cNvPr id="111" name="Text Box 22"/>
            <p:cNvSpPr/>
            <p:nvPr/>
          </p:nvSpPr>
          <p:spPr>
            <a:xfrm>
              <a:off x="5543640" y="6365880"/>
              <a:ext cx="5760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23"/>
            <p:cNvSpPr/>
            <p:nvPr/>
          </p:nvSpPr>
          <p:spPr>
            <a:xfrm>
              <a:off x="6264360" y="6365880"/>
              <a:ext cx="287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ongepaard elektr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 Box 24"/>
          <p:cNvSpPr/>
          <p:nvPr/>
        </p:nvSpPr>
        <p:spPr>
          <a:xfrm>
            <a:off x="395280" y="1197000"/>
            <a:ext cx="835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Negatieve ladingen stoten elkaar a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Een extra </a:t>
            </a:r>
            <a:r>
              <a:rPr b="0" lang="nl-BE" sz="2400" spc="-1" strike="noStrike">
                <a:solidFill>
                  <a:srgbClr val="333399"/>
                </a:solidFill>
                <a:latin typeface="Arial"/>
              </a:rPr>
              <a:t>magnetische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  kracht compenseert echter die afstotingskrach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elektronen draaien (tollen – to 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spin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) rond hun eigen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Hierdoor ontstaan kleine magneetj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395280" y="981000"/>
            <a:ext cx="8497800" cy="47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atoommodellen, met elektronen op banen rond de kern, : 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  voldoen om tal van eigenschappen te verkla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emissiespectra,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analoge eigenschappe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max. aantal bindings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nl-BE" sz="2400" spc="-1" strike="noStrike">
                <a:solidFill>
                  <a:srgbClr val="ff3300"/>
                </a:solidFill>
                <a:latin typeface="Verdana"/>
              </a:rPr>
              <a:t>Maar....</a:t>
            </a:r>
            <a:r>
              <a:rPr b="1" lang="nl-BE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333399"/>
                </a:solidFill>
                <a:latin typeface="Arial"/>
              </a:rPr>
              <a:t>Bewegende elektrische ladingen =    </a:t>
            </a:r>
            <a:r>
              <a:rPr b="1" lang="nl-BE" sz="2400" spc="-1" strike="noStrike">
                <a:solidFill>
                  <a:srgbClr val="009999"/>
                </a:solidFill>
                <a:latin typeface="Arial"/>
              </a:rPr>
              <a:t>elektrische stro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333399"/>
                </a:solidFill>
                <a:latin typeface="Arial"/>
              </a:rPr>
              <a:t>Schijfvormige atomen    </a:t>
            </a:r>
            <a:r>
              <a:rPr b="1" lang="nl-BE" sz="2400" spc="-1" strike="noStrike">
                <a:solidFill>
                  <a:srgbClr val="009999"/>
                </a:solidFill>
                <a:latin typeface="Arial"/>
              </a:rPr>
              <a:t>i.p.v. boll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9999"/>
                </a:solidFill>
                <a:latin typeface="Arial"/>
              </a:rPr>
              <a:t>Ruimtelijke ordening</a:t>
            </a:r>
            <a:r>
              <a:rPr b="1" lang="nl-BE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nl-BE" sz="2400" spc="-1" strike="noStrike">
                <a:solidFill>
                  <a:srgbClr val="333399"/>
                </a:solidFill>
                <a:latin typeface="Arial"/>
              </a:rPr>
              <a:t>van bindingspartners rond een atoom in een molecu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3300"/>
                </a:solidFill>
                <a:latin typeface="Verdana"/>
              </a:rPr>
              <a:t>Daarom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3300"/>
                </a:solidFill>
                <a:latin typeface="Verdana"/>
              </a:rPr>
              <a:t>is een verdere verfijning van atoommodel nod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324000" y="260280"/>
            <a:ext cx="8243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333399"/>
                </a:solidFill>
                <a:latin typeface="Verdana"/>
              </a:rPr>
              <a:t>Het golfmechanisch atoommodel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1477800" y="2800440"/>
            <a:ext cx="1943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1477800" y="2800440"/>
            <a:ext cx="1908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1477800" y="2800440"/>
            <a:ext cx="2337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1468440" y="2774880"/>
            <a:ext cx="1211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468360" y="404640"/>
          <a:ext cx="8280360" cy="5851800"/>
        </p:xfrm>
        <a:graphic>
          <a:graphicData uri="http://schemas.openxmlformats.org/drawingml/2006/table">
            <a:tbl>
              <a:tblPr/>
              <a:tblGrid>
                <a:gridCol w="2590920"/>
                <a:gridCol w="5689440"/>
              </a:tblGrid>
              <a:tr h="58518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892 - 19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3333cc"/>
                          </a:solidFill>
                          <a:latin typeface="Verdana"/>
                          <a:ea typeface="Times New Roman"/>
                        </a:rPr>
                        <a:t>Louis de Broglie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1924): </a:t>
                      </a:r>
                      <a:r>
                        <a:rPr b="1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dualiteitsprinci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en bewegend elektron heef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en 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eltjeskarakter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é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en 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golfkarakter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gekenmerkt doo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en bepaalde </a:t>
                      </a:r>
                      <a:r>
                        <a:rPr b="1" i="1" lang="nl-NL" sz="2000" spc="-1" strike="noStrike">
                          <a:solidFill>
                            <a:srgbClr val="ff6600"/>
                          </a:solidFill>
                          <a:latin typeface="Verdana"/>
                          <a:ea typeface="Times New Roman"/>
                        </a:rPr>
                        <a:t>golflengte</a:t>
                      </a:r>
                      <a:r>
                        <a:rPr b="0" lang="nl-NL" sz="2000" spc="-1" strike="noStrike">
                          <a:solidFill>
                            <a:srgbClr val="ff66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en bepaalde </a:t>
                      </a:r>
                      <a:r>
                        <a:rPr b="1" i="1" lang="nl-NL" sz="2000" spc="-1" strike="noStrike">
                          <a:solidFill>
                            <a:srgbClr val="99cc00"/>
                          </a:solidFill>
                          <a:latin typeface="Verdana"/>
                          <a:ea typeface="Times New Roman"/>
                        </a:rPr>
                        <a:t>snelheid</a:t>
                      </a:r>
                      <a:r>
                        <a:rPr b="0" lang="nl-NL" sz="2000" spc="-1" strike="noStrike">
                          <a:solidFill>
                            <a:srgbClr val="99cc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or combinatie van de wetten van Einstein (E=m.c²) en Planck (E=h.f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t het verband tussen golflengte en frequentie (v=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f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‘</a:t>
                      </a:r>
                      <a:r>
                        <a:rPr b="1" lang="nl-NL" sz="2000" spc="-1" strike="noStrike" u="sng">
                          <a:solidFill>
                            <a:srgbClr val="3333cc"/>
                          </a:solidFill>
                          <a:uFillTx/>
                          <a:latin typeface="Verdana"/>
                          <a:ea typeface="Times New Roman"/>
                        </a:rPr>
                        <a:t>de Broglierelatie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’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Picture 10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2135160" cy="2664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6" name="Object 11"/>
              <p:cNvSpPr txBox="1"/>
              <p:nvPr/>
            </p:nvSpPr>
            <p:spPr>
              <a:xfrm>
                <a:off x="4932360" y="5229360"/>
                <a:ext cx="13683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Arial"/>
              </a:rPr>
              <a:t>De Broglie (192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4960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Elektronen vertonen </a:t>
            </a:r>
            <a:r>
              <a:rPr b="1" lang="nl-BE" sz="2400" spc="-1" strike="noStrike">
                <a:solidFill>
                  <a:srgbClr val="333399"/>
                </a:solidFill>
                <a:latin typeface="Arial"/>
              </a:rPr>
              <a:t>(net zoals licht)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 zowel een deeltjes als een golfkarak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Experiment met cd en laserli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2268360" y="2417760"/>
            <a:ext cx="4788000" cy="44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1979640" y="3284640"/>
            <a:ext cx="4464000" cy="309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1" name="Rectangle 3"/>
          <p:cNvSpPr/>
          <p:nvPr/>
        </p:nvSpPr>
        <p:spPr>
          <a:xfrm>
            <a:off x="250920" y="189000"/>
            <a:ext cx="82296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Verdana"/>
              </a:rPr>
              <a:t>Energie van li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324000" y="765000"/>
            <a:ext cx="748800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wet van </a:t>
            </a:r>
            <a:r>
              <a:rPr b="1" lang="nl-BE" sz="2000" spc="-1" strike="noStrike">
                <a:solidFill>
                  <a:srgbClr val="000000"/>
                </a:solidFill>
                <a:latin typeface="Verdana"/>
              </a:rPr>
              <a:t>Planck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 : </a:t>
            </a:r>
            <a:r>
              <a:rPr b="1" lang="nl-BE" sz="2000" spc="-1" strike="noStrike">
                <a:solidFill>
                  <a:srgbClr val="000000"/>
                </a:solidFill>
                <a:latin typeface="Verdana"/>
              </a:rPr>
              <a:t>E = h.f = </a:t>
            </a:r>
            <a:r>
              <a:rPr b="1" lang="nl-BE" sz="2000" spc="-1" strike="noStrike" u="sng">
                <a:solidFill>
                  <a:srgbClr val="000000"/>
                </a:solidFill>
                <a:uFillTx/>
                <a:latin typeface="Verdana"/>
              </a:rPr>
              <a:t>h.c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                    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l-GR" sz="2000" spc="-1" strike="noStrike">
                <a:solidFill>
                  <a:srgbClr val="000000"/>
                </a:solidFill>
                <a:latin typeface="Verdana"/>
              </a:rPr>
              <a:t>λ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De energie is omgekeerd evenredig met golflengte (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λ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De energie is recht evenredig met frequentie (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66ff"/>
                </a:solidFill>
                <a:latin typeface="Verdana"/>
              </a:rPr>
              <a:t>blauw licht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grotere energieinhoud dan </a:t>
            </a:r>
            <a:r>
              <a:rPr b="0" lang="nl-BE" sz="2000" spc="-1" strike="noStrike">
                <a:solidFill>
                  <a:srgbClr val="ff3300"/>
                </a:solidFill>
                <a:latin typeface="Verdana"/>
              </a:rPr>
              <a:t>rood licht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5"/>
          <p:cNvGrpSpPr/>
          <p:nvPr/>
        </p:nvGrpSpPr>
        <p:grpSpPr>
          <a:xfrm>
            <a:off x="7020000" y="3068640"/>
            <a:ext cx="1778040" cy="2332080"/>
            <a:chOff x="7020000" y="3068640"/>
            <a:chExt cx="1778040" cy="2332080"/>
          </a:xfrm>
        </p:grpSpPr>
        <p:pic>
          <p:nvPicPr>
            <p:cNvPr id="134" name="Picture 6" descr=""/>
            <p:cNvPicPr/>
            <p:nvPr/>
          </p:nvPicPr>
          <p:blipFill>
            <a:blip r:embed="rId2"/>
            <a:srcRect l="9268" t="8324" r="7893" b="0"/>
            <a:stretch/>
          </p:blipFill>
          <p:spPr>
            <a:xfrm>
              <a:off x="7020000" y="3068640"/>
              <a:ext cx="1778040" cy="18554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35" name="Text Box 7"/>
            <p:cNvSpPr/>
            <p:nvPr/>
          </p:nvSpPr>
          <p:spPr>
            <a:xfrm>
              <a:off x="7378560" y="4941720"/>
              <a:ext cx="1150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200" spc="-1" strike="noStrike">
                  <a:solidFill>
                    <a:srgbClr val="000000"/>
                  </a:solidFill>
                  <a:latin typeface="Verdana"/>
                </a:rPr>
                <a:t>Planck 1858-194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AutoShape 8">
            <a:hlinkClick r:id="rId3" action="ppaction://hlinksldjump"/>
          </p:cNvPr>
          <p:cNvSpPr/>
          <p:nvPr/>
        </p:nvSpPr>
        <p:spPr>
          <a:xfrm>
            <a:off x="468360" y="6165720"/>
            <a:ext cx="431640" cy="35892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72" h="21600">
                <a:moveTo>
                  <a:pt x="0" y="0"/>
                </a:moveTo>
                <a:lnTo>
                  <a:pt x="25972" y="0"/>
                </a:lnTo>
                <a:lnTo>
                  <a:pt x="25972" y="21600"/>
                </a:lnTo>
                <a:lnTo>
                  <a:pt x="0" y="21600"/>
                </a:lnTo>
                <a:close/>
              </a:path>
              <a:path fill="lightenLess" w="25972" h="21600">
                <a:moveTo>
                  <a:pt x="0" y="0"/>
                </a:moveTo>
                <a:lnTo>
                  <a:pt x="25972" y="0"/>
                </a:lnTo>
                <a:lnTo>
                  <a:pt x="24572" y="1400"/>
                </a:lnTo>
                <a:lnTo>
                  <a:pt x="1400" y="1400"/>
                </a:lnTo>
                <a:close/>
              </a:path>
              <a:path fill="darken" w="25972" h="21600">
                <a:moveTo>
                  <a:pt x="25972" y="0"/>
                </a:moveTo>
                <a:lnTo>
                  <a:pt x="25972" y="21600"/>
                </a:lnTo>
                <a:lnTo>
                  <a:pt x="24572" y="20200"/>
                </a:lnTo>
                <a:lnTo>
                  <a:pt x="24572" y="1400"/>
                </a:lnTo>
                <a:close/>
              </a:path>
              <a:path fill="darkenLess" w="25972" h="21600">
                <a:moveTo>
                  <a:pt x="25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2" y="20200"/>
                </a:lnTo>
                <a:close/>
              </a:path>
              <a:path fill="lighten" w="25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2" h="21600">
                <a:moveTo>
                  <a:pt x="5979" y="10800"/>
                </a:moveTo>
                <a:lnTo>
                  <a:pt x="19992" y="3794"/>
                </a:lnTo>
                <a:lnTo>
                  <a:pt x="19992" y="1780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324000" y="4581360"/>
            <a:ext cx="158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nl-BE" sz="1800" spc="-1" strike="noStrike" baseline="-25000">
                <a:solidFill>
                  <a:srgbClr val="000000"/>
                </a:solidFill>
                <a:latin typeface="Verdana"/>
              </a:rPr>
              <a:t>(a)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&lt; E</a:t>
            </a:r>
            <a:r>
              <a:rPr b="0" lang="nl-BE" sz="1800" spc="-1" strike="noStrike" baseline="-25000">
                <a:solidFill>
                  <a:srgbClr val="000000"/>
                </a:solidFill>
                <a:latin typeface="Verdana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6443640" y="765000"/>
            <a:ext cx="27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(h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= 6,626.10-34 J.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395280" y="907920"/>
          <a:ext cx="8353440" cy="5211720"/>
        </p:xfrm>
        <a:graphic>
          <a:graphicData uri="http://schemas.openxmlformats.org/drawingml/2006/table">
            <a:tbl>
              <a:tblPr/>
              <a:tblGrid>
                <a:gridCol w="2160720"/>
                <a:gridCol w="6192720"/>
              </a:tblGrid>
              <a:tr h="5216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901 - 19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3333cc"/>
                          </a:solidFill>
                          <a:latin typeface="Verdana"/>
                          <a:ea typeface="Times New Roman"/>
                        </a:rPr>
                        <a:t>Werner </a:t>
                      </a:r>
                      <a:r>
                        <a:rPr b="1" lang="nl-NL" sz="2000" spc="-1" strike="noStrike">
                          <a:solidFill>
                            <a:srgbClr val="3333cc"/>
                          </a:solidFill>
                          <a:latin typeface="Verdana"/>
                          <a:ea typeface="Times New Roman"/>
                        </a:rPr>
                        <a:t>Heisenberg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926): 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nzekerheidsbeginsel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m de 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eweging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van een elektron in een atoom zo exact mogelijk te kunnen beschrijven, moet op elk ogenblik </a:t>
                      </a:r>
                      <a:r>
                        <a:rPr b="0" i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gelijktijdig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 </a:t>
                      </a:r>
                      <a:r>
                        <a:rPr b="1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plaats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en 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 </a:t>
                      </a:r>
                      <a:r>
                        <a:rPr b="1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snelheid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van het elektron in het atoom gekend zijn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eisenberg stelt in zijn beginsel dat dit </a:t>
                      </a:r>
                      <a:r>
                        <a:rPr b="1" lang="nl-NL" sz="2000" spc="-1" strike="noStrike">
                          <a:solidFill>
                            <a:srgbClr val="ff3300"/>
                          </a:solidFill>
                          <a:latin typeface="Verdana"/>
                          <a:ea typeface="Times New Roman"/>
                        </a:rPr>
                        <a:t>niet mogelijk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is!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 fout op de plaats  vermenigvuldigd met de fout op de impuls is een constan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Rectangle 10"/>
          <p:cNvSpPr/>
          <p:nvPr/>
        </p:nvSpPr>
        <p:spPr>
          <a:xfrm>
            <a:off x="1468440" y="2851200"/>
            <a:ext cx="1211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1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2017800" cy="230364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1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13"/>
              <p:cNvSpPr txBox="1"/>
              <p:nvPr/>
            </p:nvSpPr>
            <p:spPr>
              <a:xfrm>
                <a:off x="4500720" y="4287960"/>
                <a:ext cx="1871640" cy="12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x</m:t>
                        </m:r>
                        <m:r>
                          <m:t xml:space="preserve">⋅</m:t>
                        </m:r>
                        <m:r>
                          <m:t xml:space="preserve">mΔ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324000" y="476280"/>
            <a:ext cx="8820000" cy="31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Vanuit deze nieuwe inzichten kon het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elekt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niet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langer beschouwd worden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als een deeltje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in een baan rond de ker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ma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nl-NL" sz="1800" spc="-1" strike="noStrike">
                <a:solidFill>
                  <a:srgbClr val="3333cc"/>
                </a:solidFill>
                <a:latin typeface="Verdana"/>
              </a:rPr>
              <a:t>als een negatieve ladingswolk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, driedimensioneel uitgesmeerd rond die kern.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Hierdoor afbakening binnen het atoom van een </a:t>
            </a:r>
            <a:r>
              <a:rPr b="1" lang="nl-NL" sz="1800" spc="-1" strike="noStrike">
                <a:solidFill>
                  <a:srgbClr val="3333cc"/>
                </a:solidFill>
                <a:latin typeface="Verdana"/>
              </a:rPr>
              <a:t>onzekerheidsband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  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  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nl-NL" sz="1800" spc="-1" strike="noStrike">
                <a:solidFill>
                  <a:srgbClr val="ff3300"/>
                </a:solidFill>
                <a:latin typeface="Verdana"/>
              </a:rPr>
              <a:t>in plaats van een elektronenbaan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voor het elektr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3"/>
          <p:cNvGrpSpPr/>
          <p:nvPr/>
        </p:nvGrpSpPr>
        <p:grpSpPr>
          <a:xfrm>
            <a:off x="1258920" y="4149720"/>
            <a:ext cx="6846840" cy="2300400"/>
            <a:chOff x="1258920" y="4149720"/>
            <a:chExt cx="6846840" cy="2300400"/>
          </a:xfrm>
        </p:grpSpPr>
        <p:pic>
          <p:nvPicPr>
            <p:cNvPr id="146" name="Picture 4" descr=""/>
            <p:cNvPicPr/>
            <p:nvPr/>
          </p:nvPicPr>
          <p:blipFill>
            <a:blip r:embed="rId1"/>
            <a:stretch/>
          </p:blipFill>
          <p:spPr>
            <a:xfrm>
              <a:off x="3235320" y="4149720"/>
              <a:ext cx="2711520" cy="23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AutoShape 5"/>
            <p:cNvSpPr/>
            <p:nvPr/>
          </p:nvSpPr>
          <p:spPr>
            <a:xfrm>
              <a:off x="3497400" y="4203720"/>
              <a:ext cx="2152440" cy="2152800"/>
            </a:xfrm>
            <a:custGeom>
              <a:avLst/>
              <a:gdLst>
                <a:gd name="textAreaLeft" fmla="*/ 315720 w 2152440"/>
                <a:gd name="textAreaRight" fmla="*/ 1836720 w 2152440"/>
                <a:gd name="textAreaTop" fmla="*/ 315720 h 2152800"/>
                <a:gd name="textAreaBottom" fmla="*/ 1837080 h 2152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2761" y="10800"/>
                  </a:moveTo>
                  <a:cubicBezTo>
                    <a:pt x="2761" y="15240"/>
                    <a:pt x="6360" y="18839"/>
                    <a:pt x="10800" y="18839"/>
                  </a:cubicBezTo>
                  <a:cubicBezTo>
                    <a:pt x="15240" y="18839"/>
                    <a:pt x="18839" y="15240"/>
                    <a:pt x="18839" y="10800"/>
                  </a:cubicBezTo>
                  <a:cubicBezTo>
                    <a:pt x="18839" y="6360"/>
                    <a:pt x="15240" y="2761"/>
                    <a:pt x="10800" y="2761"/>
                  </a:cubicBezTo>
                  <a:cubicBezTo>
                    <a:pt x="6360" y="2761"/>
                    <a:pt x="2761" y="6360"/>
                    <a:pt x="2761" y="10800"/>
                  </a:cubicBezTo>
                  <a:close/>
                </a:path>
              </a:pathLst>
            </a:custGeom>
            <a:solidFill>
              <a:srgbClr val="bbf2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6"/>
            <p:cNvSpPr/>
            <p:nvPr/>
          </p:nvSpPr>
          <p:spPr>
            <a:xfrm>
              <a:off x="3670200" y="4348440"/>
              <a:ext cx="1882800" cy="1885680"/>
            </a:xfrm>
            <a:prstGeom prst="flowChartConnector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7"/>
            <p:cNvSpPr/>
            <p:nvPr/>
          </p:nvSpPr>
          <p:spPr>
            <a:xfrm>
              <a:off x="5546880" y="5504040"/>
              <a:ext cx="730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8"/>
            <p:cNvSpPr/>
            <p:nvPr/>
          </p:nvSpPr>
          <p:spPr>
            <a:xfrm>
              <a:off x="6300720" y="5373720"/>
              <a:ext cx="13669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200" spc="-1" strike="noStrike">
                  <a:solidFill>
                    <a:srgbClr val="ff0000"/>
                  </a:solidFill>
                  <a:latin typeface="Verdana"/>
                </a:rPr>
                <a:t>Bohrse ba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9"/>
            <p:cNvSpPr/>
            <p:nvPr/>
          </p:nvSpPr>
          <p:spPr>
            <a:xfrm>
              <a:off x="5180040" y="4408560"/>
              <a:ext cx="914400" cy="0"/>
            </a:xfrm>
            <a:prstGeom prst="line">
              <a:avLst/>
            </a:prstGeom>
            <a:ln w="9360">
              <a:solidFill>
                <a:srgbClr val="75e5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10"/>
            <p:cNvSpPr/>
            <p:nvPr/>
          </p:nvSpPr>
          <p:spPr>
            <a:xfrm>
              <a:off x="5911920" y="4226040"/>
              <a:ext cx="219384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200" spc="-1" strike="noStrike">
                  <a:solidFill>
                    <a:srgbClr val="00ccff"/>
                  </a:solidFill>
                  <a:latin typeface="Verdana"/>
                </a:rPr>
                <a:t>   </a:t>
              </a:r>
              <a:r>
                <a:rPr b="0" lang="nl-BE" sz="1200" spc="-1" strike="noStrike">
                  <a:solidFill>
                    <a:srgbClr val="00ccff"/>
                  </a:solidFill>
                  <a:latin typeface="Verdana"/>
                </a:rPr>
                <a:t>Onzekerheidsb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11"/>
            <p:cNvSpPr/>
            <p:nvPr/>
          </p:nvSpPr>
          <p:spPr>
            <a:xfrm flipH="1">
              <a:off x="3036600" y="4957920"/>
              <a:ext cx="615960" cy="0"/>
            </a:xfrm>
            <a:prstGeom prst="line">
              <a:avLst/>
            </a:prstGeom>
            <a:ln w="9360">
              <a:solidFill>
                <a:srgbClr val="0093b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12"/>
            <p:cNvSpPr/>
            <p:nvPr/>
          </p:nvSpPr>
          <p:spPr>
            <a:xfrm>
              <a:off x="1258920" y="4797360"/>
              <a:ext cx="16574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200" spc="-1" strike="noStrike">
                  <a:solidFill>
                    <a:srgbClr val="0090b2"/>
                  </a:solidFill>
                  <a:latin typeface="Verdana"/>
                </a:rPr>
                <a:t> </a:t>
              </a:r>
              <a:r>
                <a:rPr b="0" lang="nl-BE" sz="1200" spc="-1" strike="noStrike">
                  <a:solidFill>
                    <a:srgbClr val="0090b2"/>
                  </a:solidFill>
                  <a:latin typeface="Verdana"/>
                </a:rPr>
                <a:t>golftoestand van elektr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2T18:48:51Z</dcterms:created>
  <dc:creator>Guido Story</dc:creator>
  <dc:description/>
  <dc:language>en-US</dc:language>
  <cp:lastModifiedBy>Microsoft Office-gebruiker</cp:lastModifiedBy>
  <dcterms:modified xsi:type="dcterms:W3CDTF">2020-09-01T05:03:28Z</dcterms:modified>
  <cp:revision>13</cp:revision>
  <dc:subject/>
  <dc:title>Dia 1</dc:title>
</cp:coreProperties>
</file>