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C73-C4F1-44DC-B3F6-81585ECC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D93-5E8E-4698-93B3-66E1589D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B0B-D8A4-47D2-9797-A7562180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C6D-842C-44F1-80AA-C977CC58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1199-BA88-4849-A68E-BE4EDB2C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CE38-7492-4316-A1A0-62E31D51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F1FA-8D7A-4036-941E-D62DAF88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B4E4-E721-408F-AB82-59A1F91E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FAAC-3B83-4B8F-B3C3-DD0C53A1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86C3-EBFB-438E-B5B1-704710EA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32D9-95A6-4B2C-9B71-67D7B686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9646-1522-45DF-8427-93434A0A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78F2-A495-46E0-AF37-41EF4E66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79EE-8C3C-4AE5-A979-4D21C2E1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BB6C-4A48-4E8F-BD52-A2528DB3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D7E2-B5A1-49B3-9AF4-C3608C97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1F25-C4F6-44AB-8C1B-93135BF5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54AA-A22B-466E-BEBE-C03CDAA6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6708-5178-44A4-A236-DE49D2C6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5CB3-E2CF-495D-BB98-2705A8B4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FAA9-81C3-46A3-A607-6CD26F28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1F0E-2E51-470D-98C5-08E5F529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AC55-9451-4EA1-824D-4AEDD17F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245F-4E61-4478-999A-CD5DDEAE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7632-D971-4708-91BA-E8A3C920F9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7DDF-B33A-4BC8-8435-F3DFB1F49F11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nat.vu.nl/~jo/quantum/node19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D:/Chemieprogramma&apos;s/Atomos/Schr&#246;dinger.exe" TargetMode="External"/><Relationship Id="rId2" Type="http://schemas.openxmlformats.org/officeDocument/2006/relationships/hyperlink" Target="file:///D:/Chemieprogramma&apos;s/Orbital%20Viewer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hmchem.cubicsci.com/docs/movies/movieindex.htm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ebelements.com/webelements/elements/text/B/econ.html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wx.prenhall.com/petrucci/medialib/media_portfolio/text_images/043_ElectronConfig.MOV" TargetMode="Externa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" Target="slide27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Elektronenmantel Sommerfeld+ golfmechanisch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95280" y="260280"/>
            <a:ext cx="87487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rwin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Schrödinger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: ontwikkeling van de zogenaamde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golfmechanica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                           of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kwantummechanica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684360" y="1844640"/>
            <a:ext cx="1657080" cy="2600640"/>
            <a:chOff x="684360" y="1844640"/>
            <a:chExt cx="1657080" cy="2600640"/>
          </a:xfrm>
        </p:grpSpPr>
        <p:pic>
          <p:nvPicPr>
            <p:cNvPr id="157" name="Picture 4" descr=""/>
            <p:cNvPicPr/>
            <p:nvPr/>
          </p:nvPicPr>
          <p:blipFill>
            <a:blip r:embed="rId1"/>
            <a:stretch/>
          </p:blipFill>
          <p:spPr>
            <a:xfrm>
              <a:off x="684360" y="1844640"/>
              <a:ext cx="16016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5"/>
            <p:cNvSpPr/>
            <p:nvPr/>
          </p:nvSpPr>
          <p:spPr>
            <a:xfrm>
              <a:off x="684360" y="407700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1887 - 1961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6"/>
          <p:cNvSpPr/>
          <p:nvPr/>
        </p:nvSpPr>
        <p:spPr>
          <a:xfrm>
            <a:off x="2484360" y="5661000"/>
            <a:ext cx="66596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oor de wiskundefreaks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i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nat.vu.nl/~jo/quantum/node19.html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3"/>
          <a:stretch/>
        </p:blipFill>
        <p:spPr>
          <a:xfrm>
            <a:off x="3059280" y="1484280"/>
            <a:ext cx="42177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Schrödinger (19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Een kansberekening  (plaats waar elektronen zich </a:t>
            </a:r>
            <a:r>
              <a:rPr b="0" lang="nl-BE" sz="2800" spc="-1" strike="noStrike" u="sng">
                <a:solidFill>
                  <a:srgbClr val="333399"/>
                </a:solidFill>
                <a:uFillTx/>
                <a:latin typeface="Arial"/>
              </a:rPr>
              <a:t>kunnen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bevinde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tippen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rbitaal als ruimte waar een grote kans is elektronen aan te tr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-orbitaal, p-orbitaal, (d-orbitaal f-orbit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:\Chemieprogramma's\Ato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:\Chemieprogramma's\Orbital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5902200" y="4581360"/>
          <a:ext cx="270216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2200" y="4581360"/>
                    <a:ext cx="270216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468360" y="476280"/>
            <a:ext cx="80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schrödingervergelijking kon de </a:t>
            </a:r>
            <a:r>
              <a:rPr b="1" lang="nl-NL" sz="2400" spc="-1" strike="noStrike" u="sng">
                <a:solidFill>
                  <a:srgbClr val="3333cc"/>
                </a:solidFill>
                <a:uFillTx/>
                <a:latin typeface="Arial"/>
              </a:rPr>
              <a:t>waarschijnlijkhei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berekend word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elektro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een bepaalde plaat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rond de atoomker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 te treff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ödinger bakende zo gebieden af met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90% kan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en elektron aan te tref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ze trefkansgebieden noemde hij </a:t>
            </a:r>
            <a:r>
              <a:rPr b="1" lang="nl-NL" sz="2400" spc="-1" strike="noStrike">
                <a:solidFill>
                  <a:srgbClr val="0066ff"/>
                </a:solidFill>
                <a:latin typeface="Arial"/>
              </a:rPr>
              <a:t>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Een orbitaal is het ‘denkbeeldige’ gebied waarbinnen de waarschijnlijkheid om een elektron aan te treffen 90%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468360" y="36180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e orbitaal 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een typische </a:t>
            </a:r>
            <a:r>
              <a:rPr b="1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vorm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f oriëntatie in de ruimte rond de k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s-orbi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olvormig : slechts één oriëntatie: geen opsplit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p-orbi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haltervormig: knooppunt in atoomker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3 oriëntaties in magnetisch veld : px, py en p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d-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ngewikkelde vormen 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riënt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f-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: ingewikkelde vormen 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riënt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een bepaalde </a:t>
            </a:r>
            <a:r>
              <a:rPr b="1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groott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: een s-orbitaal van de K-schil is kleiner dan een s-orbitaal van de L-schil  :    1s   &lt;  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403280" y="44280"/>
            <a:ext cx="6697800" cy="62056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79280" y="6218280"/>
            <a:ext cx="8353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Op volgende site kan je AVI-filmpjes bekijken van de 3D-structuren van bovenstaande orbitalen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hmchem.cubicsci.com/docs/movies/movieindex.htm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684360" y="44280"/>
            <a:ext cx="79200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drac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Teken de elektronenwolk van ee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e-atoo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volgens Bohr, volgens Sommerfeld en volgens de golfmechanica. Gebruik verschillende kleuren om de verschillende onderdelen te tekenen. Benoem die onderdelen in de overeenkomstige kleur.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5729040" y="2068560"/>
            <a:ext cx="3522600" cy="3535560"/>
            <a:chOff x="5729040" y="2068560"/>
            <a:chExt cx="3522600" cy="3535560"/>
          </a:xfrm>
        </p:grpSpPr>
        <p:grpSp>
          <p:nvGrpSpPr>
            <p:cNvPr id="171" name="Group 4"/>
            <p:cNvGrpSpPr/>
            <p:nvPr/>
          </p:nvGrpSpPr>
          <p:grpSpPr>
            <a:xfrm>
              <a:off x="5729040" y="2068560"/>
              <a:ext cx="3522600" cy="3037680"/>
              <a:chOff x="5729040" y="2068560"/>
              <a:chExt cx="3522600" cy="3037680"/>
            </a:xfrm>
          </p:grpSpPr>
          <p:grpSp>
            <p:nvGrpSpPr>
              <p:cNvPr id="172" name="Group 5"/>
              <p:cNvGrpSpPr/>
              <p:nvPr/>
            </p:nvGrpSpPr>
            <p:grpSpPr>
              <a:xfrm>
                <a:off x="5729040" y="2530800"/>
                <a:ext cx="2834640" cy="2575440"/>
                <a:chOff x="5729040" y="2530800"/>
                <a:chExt cx="2834640" cy="2575440"/>
              </a:xfrm>
            </p:grpSpPr>
            <p:sp>
              <p:nvSpPr>
                <p:cNvPr id="173" name="Freeform 6"/>
                <p:cNvSpPr/>
                <p:nvPr/>
              </p:nvSpPr>
              <p:spPr>
                <a:xfrm flipV="1" rot="2937000">
                  <a:off x="7320240" y="2676600"/>
                  <a:ext cx="809640" cy="1420560"/>
                </a:xfrm>
                <a:custGeom>
                  <a:avLst/>
                  <a:gdLst/>
                  <a:ahLst/>
                  <a:rect l="l" t="t" r="r" b="b"/>
                  <a:pathLst>
                    <a:path w="599" h="939">
                      <a:moveTo>
                        <a:pt x="297" y="0"/>
                      </a:moveTo>
                      <a:lnTo>
                        <a:pt x="329" y="9"/>
                      </a:lnTo>
                      <a:lnTo>
                        <a:pt x="359" y="27"/>
                      </a:lnTo>
                      <a:lnTo>
                        <a:pt x="387" y="57"/>
                      </a:lnTo>
                      <a:lnTo>
                        <a:pt x="415" y="96"/>
                      </a:lnTo>
                      <a:lnTo>
                        <a:pt x="444" y="142"/>
                      </a:lnTo>
                      <a:lnTo>
                        <a:pt x="468" y="193"/>
                      </a:lnTo>
                      <a:lnTo>
                        <a:pt x="495" y="251"/>
                      </a:lnTo>
                      <a:lnTo>
                        <a:pt x="518" y="313"/>
                      </a:lnTo>
                      <a:lnTo>
                        <a:pt x="537" y="378"/>
                      </a:lnTo>
                      <a:lnTo>
                        <a:pt x="555" y="442"/>
                      </a:lnTo>
                      <a:lnTo>
                        <a:pt x="571" y="506"/>
                      </a:lnTo>
                      <a:lnTo>
                        <a:pt x="583" y="571"/>
                      </a:lnTo>
                      <a:lnTo>
                        <a:pt x="592" y="631"/>
                      </a:lnTo>
                      <a:lnTo>
                        <a:pt x="596" y="688"/>
                      </a:lnTo>
                      <a:lnTo>
                        <a:pt x="599" y="739"/>
                      </a:lnTo>
                      <a:lnTo>
                        <a:pt x="594" y="780"/>
                      </a:lnTo>
                      <a:lnTo>
                        <a:pt x="583" y="818"/>
                      </a:lnTo>
                      <a:lnTo>
                        <a:pt x="564" y="848"/>
                      </a:lnTo>
                      <a:lnTo>
                        <a:pt x="532" y="877"/>
                      </a:lnTo>
                      <a:lnTo>
                        <a:pt x="495" y="900"/>
                      </a:lnTo>
                      <a:lnTo>
                        <a:pt x="451" y="916"/>
                      </a:lnTo>
                      <a:lnTo>
                        <a:pt x="403" y="928"/>
                      </a:lnTo>
                      <a:lnTo>
                        <a:pt x="352" y="935"/>
                      </a:lnTo>
                      <a:lnTo>
                        <a:pt x="297" y="939"/>
                      </a:lnTo>
                      <a:lnTo>
                        <a:pt x="248" y="935"/>
                      </a:lnTo>
                      <a:lnTo>
                        <a:pt x="196" y="928"/>
                      </a:lnTo>
                      <a:lnTo>
                        <a:pt x="147" y="916"/>
                      </a:lnTo>
                      <a:lnTo>
                        <a:pt x="104" y="900"/>
                      </a:lnTo>
                      <a:lnTo>
                        <a:pt x="66" y="877"/>
                      </a:lnTo>
                      <a:lnTo>
                        <a:pt x="36" y="848"/>
                      </a:lnTo>
                      <a:lnTo>
                        <a:pt x="14" y="818"/>
                      </a:lnTo>
                      <a:lnTo>
                        <a:pt x="2" y="780"/>
                      </a:lnTo>
                      <a:lnTo>
                        <a:pt x="0" y="739"/>
                      </a:lnTo>
                      <a:lnTo>
                        <a:pt x="2" y="688"/>
                      </a:lnTo>
                      <a:lnTo>
                        <a:pt x="7" y="631"/>
                      </a:lnTo>
                      <a:lnTo>
                        <a:pt x="14" y="571"/>
                      </a:lnTo>
                      <a:lnTo>
                        <a:pt x="27" y="506"/>
                      </a:lnTo>
                      <a:lnTo>
                        <a:pt x="43" y="442"/>
                      </a:lnTo>
                      <a:lnTo>
                        <a:pt x="60" y="378"/>
                      </a:lnTo>
                      <a:lnTo>
                        <a:pt x="81" y="313"/>
                      </a:lnTo>
                      <a:lnTo>
                        <a:pt x="104" y="251"/>
                      </a:lnTo>
                      <a:lnTo>
                        <a:pt x="129" y="193"/>
                      </a:lnTo>
                      <a:lnTo>
                        <a:pt x="156" y="142"/>
                      </a:lnTo>
                      <a:lnTo>
                        <a:pt x="184" y="96"/>
                      </a:lnTo>
                      <a:lnTo>
                        <a:pt x="210" y="57"/>
                      </a:lnTo>
                      <a:lnTo>
                        <a:pt x="239" y="27"/>
                      </a:lnTo>
                      <a:lnTo>
                        <a:pt x="271" y="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7"/>
                <p:cNvGrpSpPr/>
                <p:nvPr/>
              </p:nvGrpSpPr>
              <p:grpSpPr>
                <a:xfrm>
                  <a:off x="6719760" y="2530800"/>
                  <a:ext cx="906120" cy="2533680"/>
                  <a:chOff x="6719760" y="2530800"/>
                  <a:chExt cx="906120" cy="2533680"/>
                </a:xfrm>
              </p:grpSpPr>
              <p:sp>
                <p:nvSpPr>
                  <p:cNvPr id="175" name="Freeform 8"/>
                  <p:cNvSpPr/>
                  <p:nvPr/>
                </p:nvSpPr>
                <p:spPr>
                  <a:xfrm>
                    <a:off x="6719760" y="3792960"/>
                    <a:ext cx="906120" cy="127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9">
                        <a:moveTo>
                          <a:pt x="297" y="0"/>
                        </a:moveTo>
                        <a:lnTo>
                          <a:pt x="329" y="9"/>
                        </a:lnTo>
                        <a:lnTo>
                          <a:pt x="359" y="27"/>
                        </a:lnTo>
                        <a:lnTo>
                          <a:pt x="387" y="57"/>
                        </a:lnTo>
                        <a:lnTo>
                          <a:pt x="415" y="96"/>
                        </a:lnTo>
                        <a:lnTo>
                          <a:pt x="444" y="142"/>
                        </a:lnTo>
                        <a:lnTo>
                          <a:pt x="468" y="193"/>
                        </a:lnTo>
                        <a:lnTo>
                          <a:pt x="495" y="251"/>
                        </a:lnTo>
                        <a:lnTo>
                          <a:pt x="518" y="313"/>
                        </a:lnTo>
                        <a:lnTo>
                          <a:pt x="537" y="378"/>
                        </a:lnTo>
                        <a:lnTo>
                          <a:pt x="555" y="442"/>
                        </a:lnTo>
                        <a:lnTo>
                          <a:pt x="571" y="506"/>
                        </a:lnTo>
                        <a:lnTo>
                          <a:pt x="583" y="571"/>
                        </a:lnTo>
                        <a:lnTo>
                          <a:pt x="592" y="631"/>
                        </a:lnTo>
                        <a:lnTo>
                          <a:pt x="596" y="688"/>
                        </a:lnTo>
                        <a:lnTo>
                          <a:pt x="599" y="739"/>
                        </a:lnTo>
                        <a:lnTo>
                          <a:pt x="594" y="780"/>
                        </a:lnTo>
                        <a:lnTo>
                          <a:pt x="583" y="818"/>
                        </a:lnTo>
                        <a:lnTo>
                          <a:pt x="564" y="848"/>
                        </a:lnTo>
                        <a:lnTo>
                          <a:pt x="532" y="877"/>
                        </a:lnTo>
                        <a:lnTo>
                          <a:pt x="495" y="900"/>
                        </a:lnTo>
                        <a:lnTo>
                          <a:pt x="451" y="916"/>
                        </a:lnTo>
                        <a:lnTo>
                          <a:pt x="403" y="928"/>
                        </a:lnTo>
                        <a:lnTo>
                          <a:pt x="352" y="935"/>
                        </a:lnTo>
                        <a:lnTo>
                          <a:pt x="297" y="939"/>
                        </a:lnTo>
                        <a:lnTo>
                          <a:pt x="248" y="935"/>
                        </a:lnTo>
                        <a:lnTo>
                          <a:pt x="196" y="928"/>
                        </a:lnTo>
                        <a:lnTo>
                          <a:pt x="147" y="916"/>
                        </a:lnTo>
                        <a:lnTo>
                          <a:pt x="104" y="900"/>
                        </a:lnTo>
                        <a:lnTo>
                          <a:pt x="66" y="877"/>
                        </a:lnTo>
                        <a:lnTo>
                          <a:pt x="36" y="848"/>
                        </a:lnTo>
                        <a:lnTo>
                          <a:pt x="14" y="818"/>
                        </a:lnTo>
                        <a:lnTo>
                          <a:pt x="2" y="780"/>
                        </a:lnTo>
                        <a:lnTo>
                          <a:pt x="0" y="739"/>
                        </a:lnTo>
                        <a:lnTo>
                          <a:pt x="2" y="688"/>
                        </a:lnTo>
                        <a:lnTo>
                          <a:pt x="7" y="631"/>
                        </a:lnTo>
                        <a:lnTo>
                          <a:pt x="14" y="571"/>
                        </a:lnTo>
                        <a:lnTo>
                          <a:pt x="27" y="506"/>
                        </a:lnTo>
                        <a:lnTo>
                          <a:pt x="43" y="442"/>
                        </a:lnTo>
                        <a:lnTo>
                          <a:pt x="60" y="378"/>
                        </a:lnTo>
                        <a:lnTo>
                          <a:pt x="81" y="313"/>
                        </a:lnTo>
                        <a:lnTo>
                          <a:pt x="104" y="251"/>
                        </a:lnTo>
                        <a:lnTo>
                          <a:pt x="129" y="193"/>
                        </a:lnTo>
                        <a:lnTo>
                          <a:pt x="156" y="142"/>
                        </a:lnTo>
                        <a:lnTo>
                          <a:pt x="184" y="96"/>
                        </a:lnTo>
                        <a:lnTo>
                          <a:pt x="210" y="57"/>
                        </a:lnTo>
                        <a:lnTo>
                          <a:pt x="239" y="27"/>
                        </a:lnTo>
                        <a:lnTo>
                          <a:pt x="271" y="9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9"/>
                  <p:cNvSpPr/>
                  <p:nvPr/>
                </p:nvSpPr>
                <p:spPr>
                  <a:xfrm>
                    <a:off x="6719760" y="2530800"/>
                    <a:ext cx="906120" cy="126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3">
                        <a:moveTo>
                          <a:pt x="297" y="933"/>
                        </a:moveTo>
                        <a:lnTo>
                          <a:pt x="329" y="930"/>
                        </a:lnTo>
                        <a:lnTo>
                          <a:pt x="359" y="910"/>
                        </a:lnTo>
                        <a:lnTo>
                          <a:pt x="387" y="884"/>
                        </a:lnTo>
                        <a:lnTo>
                          <a:pt x="415" y="841"/>
                        </a:lnTo>
                        <a:lnTo>
                          <a:pt x="444" y="795"/>
                        </a:lnTo>
                        <a:lnTo>
                          <a:pt x="468" y="746"/>
                        </a:lnTo>
                        <a:lnTo>
                          <a:pt x="495" y="686"/>
                        </a:lnTo>
                        <a:lnTo>
                          <a:pt x="518" y="626"/>
                        </a:lnTo>
                        <a:lnTo>
                          <a:pt x="537" y="562"/>
                        </a:lnTo>
                        <a:lnTo>
                          <a:pt x="555" y="495"/>
                        </a:lnTo>
                        <a:lnTo>
                          <a:pt x="571" y="431"/>
                        </a:lnTo>
                        <a:lnTo>
                          <a:pt x="583" y="368"/>
                        </a:lnTo>
                        <a:lnTo>
                          <a:pt x="592" y="306"/>
                        </a:lnTo>
                        <a:lnTo>
                          <a:pt x="596" y="249"/>
                        </a:lnTo>
                        <a:lnTo>
                          <a:pt x="599" y="202"/>
                        </a:lnTo>
                        <a:lnTo>
                          <a:pt x="594" y="156"/>
                        </a:lnTo>
                        <a:lnTo>
                          <a:pt x="583" y="120"/>
                        </a:lnTo>
                        <a:lnTo>
                          <a:pt x="564" y="89"/>
                        </a:lnTo>
                        <a:lnTo>
                          <a:pt x="532" y="60"/>
                        </a:lnTo>
                        <a:lnTo>
                          <a:pt x="495" y="41"/>
                        </a:lnTo>
                        <a:lnTo>
                          <a:pt x="451" y="23"/>
                        </a:lnTo>
                        <a:lnTo>
                          <a:pt x="403" y="11"/>
                        </a:lnTo>
                        <a:lnTo>
                          <a:pt x="352" y="2"/>
                        </a:lnTo>
                        <a:lnTo>
                          <a:pt x="297" y="0"/>
                        </a:lnTo>
                        <a:lnTo>
                          <a:pt x="248" y="2"/>
                        </a:lnTo>
                        <a:lnTo>
                          <a:pt x="196" y="11"/>
                        </a:lnTo>
                        <a:lnTo>
                          <a:pt x="147" y="23"/>
                        </a:lnTo>
                        <a:lnTo>
                          <a:pt x="104" y="41"/>
                        </a:lnTo>
                        <a:lnTo>
                          <a:pt x="66" y="60"/>
                        </a:lnTo>
                        <a:lnTo>
                          <a:pt x="36" y="89"/>
                        </a:lnTo>
                        <a:lnTo>
                          <a:pt x="14" y="120"/>
                        </a:lnTo>
                        <a:lnTo>
                          <a:pt x="2" y="156"/>
                        </a:lnTo>
                        <a:lnTo>
                          <a:pt x="0" y="202"/>
                        </a:lnTo>
                        <a:lnTo>
                          <a:pt x="2" y="249"/>
                        </a:lnTo>
                        <a:lnTo>
                          <a:pt x="7" y="306"/>
                        </a:lnTo>
                        <a:lnTo>
                          <a:pt x="14" y="368"/>
                        </a:lnTo>
                        <a:lnTo>
                          <a:pt x="27" y="431"/>
                        </a:lnTo>
                        <a:lnTo>
                          <a:pt x="43" y="495"/>
                        </a:lnTo>
                        <a:lnTo>
                          <a:pt x="60" y="562"/>
                        </a:lnTo>
                        <a:lnTo>
                          <a:pt x="81" y="626"/>
                        </a:lnTo>
                        <a:lnTo>
                          <a:pt x="104" y="686"/>
                        </a:lnTo>
                        <a:lnTo>
                          <a:pt x="129" y="746"/>
                        </a:lnTo>
                        <a:lnTo>
                          <a:pt x="156" y="795"/>
                        </a:lnTo>
                        <a:lnTo>
                          <a:pt x="184" y="841"/>
                        </a:lnTo>
                        <a:lnTo>
                          <a:pt x="210" y="884"/>
                        </a:lnTo>
                        <a:lnTo>
                          <a:pt x="239" y="910"/>
                        </a:lnTo>
                        <a:lnTo>
                          <a:pt x="271" y="930"/>
                        </a:lnTo>
                        <a:lnTo>
                          <a:pt x="297" y="933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10"/>
                <p:cNvGrpSpPr/>
                <p:nvPr/>
              </p:nvGrpSpPr>
              <p:grpSpPr>
                <a:xfrm>
                  <a:off x="5729040" y="3399120"/>
                  <a:ext cx="2834640" cy="811080"/>
                  <a:chOff x="5729040" y="3399120"/>
                  <a:chExt cx="2834640" cy="811080"/>
                </a:xfrm>
              </p:grpSpPr>
              <p:sp>
                <p:nvSpPr>
                  <p:cNvPr id="178" name="Freeform 11"/>
                  <p:cNvSpPr/>
                  <p:nvPr/>
                </p:nvSpPr>
                <p:spPr>
                  <a:xfrm rot="5400000">
                    <a:off x="6034680" y="3093480"/>
                    <a:ext cx="811080" cy="1422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9">
                        <a:moveTo>
                          <a:pt x="297" y="0"/>
                        </a:moveTo>
                        <a:lnTo>
                          <a:pt x="329" y="9"/>
                        </a:lnTo>
                        <a:lnTo>
                          <a:pt x="359" y="27"/>
                        </a:lnTo>
                        <a:lnTo>
                          <a:pt x="387" y="57"/>
                        </a:lnTo>
                        <a:lnTo>
                          <a:pt x="415" y="96"/>
                        </a:lnTo>
                        <a:lnTo>
                          <a:pt x="444" y="142"/>
                        </a:lnTo>
                        <a:lnTo>
                          <a:pt x="468" y="193"/>
                        </a:lnTo>
                        <a:lnTo>
                          <a:pt x="495" y="251"/>
                        </a:lnTo>
                        <a:lnTo>
                          <a:pt x="518" y="313"/>
                        </a:lnTo>
                        <a:lnTo>
                          <a:pt x="537" y="378"/>
                        </a:lnTo>
                        <a:lnTo>
                          <a:pt x="555" y="442"/>
                        </a:lnTo>
                        <a:lnTo>
                          <a:pt x="571" y="506"/>
                        </a:lnTo>
                        <a:lnTo>
                          <a:pt x="583" y="571"/>
                        </a:lnTo>
                        <a:lnTo>
                          <a:pt x="592" y="631"/>
                        </a:lnTo>
                        <a:lnTo>
                          <a:pt x="596" y="688"/>
                        </a:lnTo>
                        <a:lnTo>
                          <a:pt x="599" y="739"/>
                        </a:lnTo>
                        <a:lnTo>
                          <a:pt x="594" y="780"/>
                        </a:lnTo>
                        <a:lnTo>
                          <a:pt x="583" y="818"/>
                        </a:lnTo>
                        <a:lnTo>
                          <a:pt x="564" y="848"/>
                        </a:lnTo>
                        <a:lnTo>
                          <a:pt x="532" y="877"/>
                        </a:lnTo>
                        <a:lnTo>
                          <a:pt x="495" y="900"/>
                        </a:lnTo>
                        <a:lnTo>
                          <a:pt x="451" y="916"/>
                        </a:lnTo>
                        <a:lnTo>
                          <a:pt x="403" y="928"/>
                        </a:lnTo>
                        <a:lnTo>
                          <a:pt x="352" y="935"/>
                        </a:lnTo>
                        <a:lnTo>
                          <a:pt x="297" y="939"/>
                        </a:lnTo>
                        <a:lnTo>
                          <a:pt x="248" y="935"/>
                        </a:lnTo>
                        <a:lnTo>
                          <a:pt x="196" y="928"/>
                        </a:lnTo>
                        <a:lnTo>
                          <a:pt x="147" y="916"/>
                        </a:lnTo>
                        <a:lnTo>
                          <a:pt x="104" y="900"/>
                        </a:lnTo>
                        <a:lnTo>
                          <a:pt x="66" y="877"/>
                        </a:lnTo>
                        <a:lnTo>
                          <a:pt x="36" y="848"/>
                        </a:lnTo>
                        <a:lnTo>
                          <a:pt x="14" y="818"/>
                        </a:lnTo>
                        <a:lnTo>
                          <a:pt x="2" y="780"/>
                        </a:lnTo>
                        <a:lnTo>
                          <a:pt x="0" y="739"/>
                        </a:lnTo>
                        <a:lnTo>
                          <a:pt x="2" y="688"/>
                        </a:lnTo>
                        <a:lnTo>
                          <a:pt x="7" y="631"/>
                        </a:lnTo>
                        <a:lnTo>
                          <a:pt x="14" y="571"/>
                        </a:lnTo>
                        <a:lnTo>
                          <a:pt x="27" y="506"/>
                        </a:lnTo>
                        <a:lnTo>
                          <a:pt x="43" y="442"/>
                        </a:lnTo>
                        <a:lnTo>
                          <a:pt x="60" y="378"/>
                        </a:lnTo>
                        <a:lnTo>
                          <a:pt x="81" y="313"/>
                        </a:lnTo>
                        <a:lnTo>
                          <a:pt x="104" y="251"/>
                        </a:lnTo>
                        <a:lnTo>
                          <a:pt x="129" y="193"/>
                        </a:lnTo>
                        <a:lnTo>
                          <a:pt x="156" y="142"/>
                        </a:lnTo>
                        <a:lnTo>
                          <a:pt x="184" y="96"/>
                        </a:lnTo>
                        <a:lnTo>
                          <a:pt x="210" y="57"/>
                        </a:lnTo>
                        <a:lnTo>
                          <a:pt x="239" y="27"/>
                        </a:lnTo>
                        <a:lnTo>
                          <a:pt x="271" y="9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12"/>
                  <p:cNvSpPr/>
                  <p:nvPr/>
                </p:nvSpPr>
                <p:spPr>
                  <a:xfrm rot="5400000">
                    <a:off x="7452000" y="3098520"/>
                    <a:ext cx="811080" cy="141228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3">
                        <a:moveTo>
                          <a:pt x="297" y="933"/>
                        </a:moveTo>
                        <a:lnTo>
                          <a:pt x="329" y="930"/>
                        </a:lnTo>
                        <a:lnTo>
                          <a:pt x="359" y="910"/>
                        </a:lnTo>
                        <a:lnTo>
                          <a:pt x="387" y="884"/>
                        </a:lnTo>
                        <a:lnTo>
                          <a:pt x="415" y="841"/>
                        </a:lnTo>
                        <a:lnTo>
                          <a:pt x="444" y="795"/>
                        </a:lnTo>
                        <a:lnTo>
                          <a:pt x="468" y="746"/>
                        </a:lnTo>
                        <a:lnTo>
                          <a:pt x="495" y="686"/>
                        </a:lnTo>
                        <a:lnTo>
                          <a:pt x="518" y="626"/>
                        </a:lnTo>
                        <a:lnTo>
                          <a:pt x="537" y="562"/>
                        </a:lnTo>
                        <a:lnTo>
                          <a:pt x="555" y="495"/>
                        </a:lnTo>
                        <a:lnTo>
                          <a:pt x="571" y="431"/>
                        </a:lnTo>
                        <a:lnTo>
                          <a:pt x="583" y="368"/>
                        </a:lnTo>
                        <a:lnTo>
                          <a:pt x="592" y="306"/>
                        </a:lnTo>
                        <a:lnTo>
                          <a:pt x="596" y="249"/>
                        </a:lnTo>
                        <a:lnTo>
                          <a:pt x="599" y="202"/>
                        </a:lnTo>
                        <a:lnTo>
                          <a:pt x="594" y="156"/>
                        </a:lnTo>
                        <a:lnTo>
                          <a:pt x="583" y="120"/>
                        </a:lnTo>
                        <a:lnTo>
                          <a:pt x="564" y="89"/>
                        </a:lnTo>
                        <a:lnTo>
                          <a:pt x="532" y="60"/>
                        </a:lnTo>
                        <a:lnTo>
                          <a:pt x="495" y="41"/>
                        </a:lnTo>
                        <a:lnTo>
                          <a:pt x="451" y="23"/>
                        </a:lnTo>
                        <a:lnTo>
                          <a:pt x="403" y="11"/>
                        </a:lnTo>
                        <a:lnTo>
                          <a:pt x="352" y="2"/>
                        </a:lnTo>
                        <a:lnTo>
                          <a:pt x="297" y="0"/>
                        </a:lnTo>
                        <a:lnTo>
                          <a:pt x="248" y="2"/>
                        </a:lnTo>
                        <a:lnTo>
                          <a:pt x="196" y="11"/>
                        </a:lnTo>
                        <a:lnTo>
                          <a:pt x="147" y="23"/>
                        </a:lnTo>
                        <a:lnTo>
                          <a:pt x="104" y="41"/>
                        </a:lnTo>
                        <a:lnTo>
                          <a:pt x="66" y="60"/>
                        </a:lnTo>
                        <a:lnTo>
                          <a:pt x="36" y="89"/>
                        </a:lnTo>
                        <a:lnTo>
                          <a:pt x="14" y="120"/>
                        </a:lnTo>
                        <a:lnTo>
                          <a:pt x="2" y="156"/>
                        </a:lnTo>
                        <a:lnTo>
                          <a:pt x="0" y="202"/>
                        </a:lnTo>
                        <a:lnTo>
                          <a:pt x="2" y="249"/>
                        </a:lnTo>
                        <a:lnTo>
                          <a:pt x="7" y="306"/>
                        </a:lnTo>
                        <a:lnTo>
                          <a:pt x="14" y="368"/>
                        </a:lnTo>
                        <a:lnTo>
                          <a:pt x="27" y="431"/>
                        </a:lnTo>
                        <a:lnTo>
                          <a:pt x="43" y="495"/>
                        </a:lnTo>
                        <a:lnTo>
                          <a:pt x="60" y="562"/>
                        </a:lnTo>
                        <a:lnTo>
                          <a:pt x="81" y="626"/>
                        </a:lnTo>
                        <a:lnTo>
                          <a:pt x="104" y="686"/>
                        </a:lnTo>
                        <a:lnTo>
                          <a:pt x="129" y="746"/>
                        </a:lnTo>
                        <a:lnTo>
                          <a:pt x="156" y="795"/>
                        </a:lnTo>
                        <a:lnTo>
                          <a:pt x="184" y="841"/>
                        </a:lnTo>
                        <a:lnTo>
                          <a:pt x="210" y="884"/>
                        </a:lnTo>
                        <a:lnTo>
                          <a:pt x="239" y="910"/>
                        </a:lnTo>
                        <a:lnTo>
                          <a:pt x="271" y="930"/>
                        </a:lnTo>
                        <a:lnTo>
                          <a:pt x="297" y="933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Freeform 13"/>
                <p:cNvSpPr/>
                <p:nvPr/>
              </p:nvSpPr>
              <p:spPr>
                <a:xfrm rot="2463000">
                  <a:off x="6243480" y="3694320"/>
                  <a:ext cx="906120" cy="1270080"/>
                </a:xfrm>
                <a:custGeom>
                  <a:avLst/>
                  <a:gdLst/>
                  <a:ahLst/>
                  <a:rect l="l" t="t" r="r" b="b"/>
                  <a:pathLst>
                    <a:path w="599" h="939">
                      <a:moveTo>
                        <a:pt x="297" y="0"/>
                      </a:moveTo>
                      <a:lnTo>
                        <a:pt x="329" y="9"/>
                      </a:lnTo>
                      <a:lnTo>
                        <a:pt x="359" y="27"/>
                      </a:lnTo>
                      <a:lnTo>
                        <a:pt x="387" y="57"/>
                      </a:lnTo>
                      <a:lnTo>
                        <a:pt x="415" y="96"/>
                      </a:lnTo>
                      <a:lnTo>
                        <a:pt x="444" y="142"/>
                      </a:lnTo>
                      <a:lnTo>
                        <a:pt x="468" y="193"/>
                      </a:lnTo>
                      <a:lnTo>
                        <a:pt x="495" y="251"/>
                      </a:lnTo>
                      <a:lnTo>
                        <a:pt x="518" y="313"/>
                      </a:lnTo>
                      <a:lnTo>
                        <a:pt x="537" y="378"/>
                      </a:lnTo>
                      <a:lnTo>
                        <a:pt x="555" y="442"/>
                      </a:lnTo>
                      <a:lnTo>
                        <a:pt x="571" y="506"/>
                      </a:lnTo>
                      <a:lnTo>
                        <a:pt x="583" y="571"/>
                      </a:lnTo>
                      <a:lnTo>
                        <a:pt x="592" y="631"/>
                      </a:lnTo>
                      <a:lnTo>
                        <a:pt x="596" y="688"/>
                      </a:lnTo>
                      <a:lnTo>
                        <a:pt x="599" y="739"/>
                      </a:lnTo>
                      <a:lnTo>
                        <a:pt x="594" y="780"/>
                      </a:lnTo>
                      <a:lnTo>
                        <a:pt x="583" y="818"/>
                      </a:lnTo>
                      <a:lnTo>
                        <a:pt x="564" y="848"/>
                      </a:lnTo>
                      <a:lnTo>
                        <a:pt x="532" y="877"/>
                      </a:lnTo>
                      <a:lnTo>
                        <a:pt x="495" y="900"/>
                      </a:lnTo>
                      <a:lnTo>
                        <a:pt x="451" y="916"/>
                      </a:lnTo>
                      <a:lnTo>
                        <a:pt x="403" y="928"/>
                      </a:lnTo>
                      <a:lnTo>
                        <a:pt x="352" y="935"/>
                      </a:lnTo>
                      <a:lnTo>
                        <a:pt x="297" y="939"/>
                      </a:lnTo>
                      <a:lnTo>
                        <a:pt x="248" y="935"/>
                      </a:lnTo>
                      <a:lnTo>
                        <a:pt x="196" y="928"/>
                      </a:lnTo>
                      <a:lnTo>
                        <a:pt x="147" y="916"/>
                      </a:lnTo>
                      <a:lnTo>
                        <a:pt x="104" y="900"/>
                      </a:lnTo>
                      <a:lnTo>
                        <a:pt x="66" y="877"/>
                      </a:lnTo>
                      <a:lnTo>
                        <a:pt x="36" y="848"/>
                      </a:lnTo>
                      <a:lnTo>
                        <a:pt x="14" y="818"/>
                      </a:lnTo>
                      <a:lnTo>
                        <a:pt x="2" y="780"/>
                      </a:lnTo>
                      <a:lnTo>
                        <a:pt x="0" y="739"/>
                      </a:lnTo>
                      <a:lnTo>
                        <a:pt x="2" y="688"/>
                      </a:lnTo>
                      <a:lnTo>
                        <a:pt x="7" y="631"/>
                      </a:lnTo>
                      <a:lnTo>
                        <a:pt x="14" y="571"/>
                      </a:lnTo>
                      <a:lnTo>
                        <a:pt x="27" y="506"/>
                      </a:lnTo>
                      <a:lnTo>
                        <a:pt x="43" y="442"/>
                      </a:lnTo>
                      <a:lnTo>
                        <a:pt x="60" y="378"/>
                      </a:lnTo>
                      <a:lnTo>
                        <a:pt x="81" y="313"/>
                      </a:lnTo>
                      <a:lnTo>
                        <a:pt x="104" y="251"/>
                      </a:lnTo>
                      <a:lnTo>
                        <a:pt x="129" y="193"/>
                      </a:lnTo>
                      <a:lnTo>
                        <a:pt x="156" y="142"/>
                      </a:lnTo>
                      <a:lnTo>
                        <a:pt x="184" y="96"/>
                      </a:lnTo>
                      <a:lnTo>
                        <a:pt x="210" y="57"/>
                      </a:lnTo>
                      <a:lnTo>
                        <a:pt x="239" y="27"/>
                      </a:lnTo>
                      <a:lnTo>
                        <a:pt x="271" y="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14"/>
              <p:cNvSpPr/>
              <p:nvPr/>
            </p:nvSpPr>
            <p:spPr>
              <a:xfrm>
                <a:off x="6068880" y="2740320"/>
                <a:ext cx="2192040" cy="2195280"/>
              </a:xfrm>
              <a:custGeom>
                <a:avLst/>
                <a:gdLst/>
                <a:ahLst/>
                <a:rect l="l" t="t" r="r" b="b"/>
                <a:pathLst>
                  <a:path w="356" h="355">
                    <a:moveTo>
                      <a:pt x="223" y="7"/>
                    </a:moveTo>
                    <a:lnTo>
                      <a:pt x="262" y="21"/>
                    </a:lnTo>
                    <a:lnTo>
                      <a:pt x="296" y="41"/>
                    </a:lnTo>
                    <a:lnTo>
                      <a:pt x="320" y="65"/>
                    </a:lnTo>
                    <a:lnTo>
                      <a:pt x="338" y="95"/>
                    </a:lnTo>
                    <a:lnTo>
                      <a:pt x="350" y="125"/>
                    </a:lnTo>
                    <a:lnTo>
                      <a:pt x="356" y="157"/>
                    </a:lnTo>
                    <a:lnTo>
                      <a:pt x="356" y="191"/>
                    </a:lnTo>
                    <a:lnTo>
                      <a:pt x="350" y="223"/>
                    </a:lnTo>
                    <a:lnTo>
                      <a:pt x="338" y="254"/>
                    </a:lnTo>
                    <a:lnTo>
                      <a:pt x="322" y="283"/>
                    </a:lnTo>
                    <a:lnTo>
                      <a:pt x="301" y="307"/>
                    </a:lnTo>
                    <a:lnTo>
                      <a:pt x="274" y="329"/>
                    </a:lnTo>
                    <a:lnTo>
                      <a:pt x="244" y="345"/>
                    </a:lnTo>
                    <a:lnTo>
                      <a:pt x="211" y="353"/>
                    </a:lnTo>
                    <a:lnTo>
                      <a:pt x="174" y="355"/>
                    </a:lnTo>
                    <a:lnTo>
                      <a:pt x="133" y="348"/>
                    </a:lnTo>
                    <a:lnTo>
                      <a:pt x="92" y="334"/>
                    </a:lnTo>
                    <a:lnTo>
                      <a:pt x="61" y="313"/>
                    </a:lnTo>
                    <a:lnTo>
                      <a:pt x="36" y="288"/>
                    </a:lnTo>
                    <a:lnTo>
                      <a:pt x="18" y="260"/>
                    </a:lnTo>
                    <a:lnTo>
                      <a:pt x="6" y="230"/>
                    </a:lnTo>
                    <a:lnTo>
                      <a:pt x="0" y="196"/>
                    </a:lnTo>
                    <a:lnTo>
                      <a:pt x="0" y="164"/>
                    </a:lnTo>
                    <a:lnTo>
                      <a:pt x="6" y="132"/>
                    </a:lnTo>
                    <a:lnTo>
                      <a:pt x="18" y="101"/>
                    </a:lnTo>
                    <a:lnTo>
                      <a:pt x="34" y="71"/>
                    </a:lnTo>
                    <a:lnTo>
                      <a:pt x="55" y="46"/>
                    </a:lnTo>
                    <a:lnTo>
                      <a:pt x="80" y="26"/>
                    </a:lnTo>
                    <a:lnTo>
                      <a:pt x="110" y="11"/>
                    </a:lnTo>
                    <a:lnTo>
                      <a:pt x="145" y="2"/>
                    </a:lnTo>
                    <a:lnTo>
                      <a:pt x="182" y="0"/>
                    </a:lnTo>
                    <a:lnTo>
                      <a:pt x="22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49019"/>
                    </a:srgbClr>
                  </a:gs>
                  <a:gs pos="100000">
                    <a:srgbClr val="576869">
                      <a:alpha val="48235"/>
                    </a:srgbClr>
                  </a:gs>
                </a:gsLst>
                <a:lin ang="54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6619680" y="3272040"/>
                <a:ext cx="1079280" cy="1079640"/>
              </a:xfrm>
              <a:custGeom>
                <a:avLst/>
                <a:gdLst/>
                <a:ahLst/>
                <a:rect l="l" t="t" r="r" b="b"/>
                <a:pathLst>
                  <a:path w="356" h="355">
                    <a:moveTo>
                      <a:pt x="223" y="7"/>
                    </a:moveTo>
                    <a:lnTo>
                      <a:pt x="262" y="21"/>
                    </a:lnTo>
                    <a:lnTo>
                      <a:pt x="296" y="41"/>
                    </a:lnTo>
                    <a:lnTo>
                      <a:pt x="320" y="65"/>
                    </a:lnTo>
                    <a:lnTo>
                      <a:pt x="338" y="95"/>
                    </a:lnTo>
                    <a:lnTo>
                      <a:pt x="350" y="125"/>
                    </a:lnTo>
                    <a:lnTo>
                      <a:pt x="356" y="157"/>
                    </a:lnTo>
                    <a:lnTo>
                      <a:pt x="356" y="191"/>
                    </a:lnTo>
                    <a:lnTo>
                      <a:pt x="350" y="223"/>
                    </a:lnTo>
                    <a:lnTo>
                      <a:pt x="338" y="254"/>
                    </a:lnTo>
                    <a:lnTo>
                      <a:pt x="322" y="283"/>
                    </a:lnTo>
                    <a:lnTo>
                      <a:pt x="301" y="307"/>
                    </a:lnTo>
                    <a:lnTo>
                      <a:pt x="274" y="329"/>
                    </a:lnTo>
                    <a:lnTo>
                      <a:pt x="244" y="345"/>
                    </a:lnTo>
                    <a:lnTo>
                      <a:pt x="211" y="353"/>
                    </a:lnTo>
                    <a:lnTo>
                      <a:pt x="174" y="355"/>
                    </a:lnTo>
                    <a:lnTo>
                      <a:pt x="133" y="348"/>
                    </a:lnTo>
                    <a:lnTo>
                      <a:pt x="92" y="334"/>
                    </a:lnTo>
                    <a:lnTo>
                      <a:pt x="61" y="313"/>
                    </a:lnTo>
                    <a:lnTo>
                      <a:pt x="36" y="288"/>
                    </a:lnTo>
                    <a:lnTo>
                      <a:pt x="18" y="260"/>
                    </a:lnTo>
                    <a:lnTo>
                      <a:pt x="6" y="230"/>
                    </a:lnTo>
                    <a:lnTo>
                      <a:pt x="0" y="196"/>
                    </a:lnTo>
                    <a:lnTo>
                      <a:pt x="0" y="164"/>
                    </a:lnTo>
                    <a:lnTo>
                      <a:pt x="6" y="132"/>
                    </a:lnTo>
                    <a:lnTo>
                      <a:pt x="18" y="101"/>
                    </a:lnTo>
                    <a:lnTo>
                      <a:pt x="34" y="71"/>
                    </a:lnTo>
                    <a:lnTo>
                      <a:pt x="55" y="46"/>
                    </a:lnTo>
                    <a:lnTo>
                      <a:pt x="80" y="26"/>
                    </a:lnTo>
                    <a:lnTo>
                      <a:pt x="110" y="11"/>
                    </a:lnTo>
                    <a:lnTo>
                      <a:pt x="145" y="2"/>
                    </a:lnTo>
                    <a:lnTo>
                      <a:pt x="182" y="0"/>
                    </a:lnTo>
                    <a:lnTo>
                      <a:pt x="22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>
                      <a:alpha val="52156"/>
                    </a:srgbClr>
                  </a:gs>
                  <a:gs pos="100000">
                    <a:srgbClr val="764718">
                      <a:alpha val="45098"/>
                    </a:srgbClr>
                  </a:gs>
                </a:gsLst>
                <a:lin ang="54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16"/>
              <p:cNvSpPr/>
              <p:nvPr/>
            </p:nvSpPr>
            <p:spPr>
              <a:xfrm>
                <a:off x="7073640" y="3733920"/>
                <a:ext cx="179280" cy="17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7"/>
              <p:cNvSpPr/>
              <p:nvPr/>
            </p:nvSpPr>
            <p:spPr>
              <a:xfrm>
                <a:off x="5964120" y="2740320"/>
                <a:ext cx="55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18"/>
              <p:cNvSpPr/>
              <p:nvPr/>
            </p:nvSpPr>
            <p:spPr>
              <a:xfrm>
                <a:off x="7554960" y="3735720"/>
                <a:ext cx="55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1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9"/>
              <p:cNvSpPr/>
              <p:nvPr/>
            </p:nvSpPr>
            <p:spPr>
              <a:xfrm>
                <a:off x="8442360" y="354492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20"/>
              <p:cNvSpPr/>
              <p:nvPr/>
            </p:nvSpPr>
            <p:spPr>
              <a:xfrm>
                <a:off x="8047080" y="252576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1"/>
              <p:cNvSpPr/>
              <p:nvPr/>
            </p:nvSpPr>
            <p:spPr>
              <a:xfrm>
                <a:off x="6816600" y="206856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 Box 22"/>
            <p:cNvSpPr/>
            <p:nvPr/>
          </p:nvSpPr>
          <p:spPr>
            <a:xfrm>
              <a:off x="6156360" y="523584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golfmechanisch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3"/>
          <p:cNvGrpSpPr/>
          <p:nvPr/>
        </p:nvGrpSpPr>
        <p:grpSpPr>
          <a:xfrm>
            <a:off x="179280" y="2565360"/>
            <a:ext cx="2448000" cy="3985200"/>
            <a:chOff x="179280" y="2565360"/>
            <a:chExt cx="2448000" cy="3985200"/>
          </a:xfrm>
        </p:grpSpPr>
        <p:grpSp>
          <p:nvGrpSpPr>
            <p:cNvPr id="191" name="Group 24"/>
            <p:cNvGrpSpPr/>
            <p:nvPr/>
          </p:nvGrpSpPr>
          <p:grpSpPr>
            <a:xfrm>
              <a:off x="179280" y="2565360"/>
              <a:ext cx="2303640" cy="2745000"/>
              <a:chOff x="179280" y="2565360"/>
              <a:chExt cx="2303640" cy="2745000"/>
            </a:xfrm>
          </p:grpSpPr>
          <p:grpSp>
            <p:nvGrpSpPr>
              <p:cNvPr id="192" name="Group 25"/>
              <p:cNvGrpSpPr/>
              <p:nvPr/>
            </p:nvGrpSpPr>
            <p:grpSpPr>
              <a:xfrm>
                <a:off x="179280" y="2565360"/>
                <a:ext cx="2303640" cy="2168640"/>
                <a:chOff x="179280" y="2565360"/>
                <a:chExt cx="2303640" cy="2168640"/>
              </a:xfrm>
            </p:grpSpPr>
            <p:sp>
              <p:nvSpPr>
                <p:cNvPr id="193" name="Oval 26"/>
                <p:cNvSpPr/>
                <p:nvPr/>
              </p:nvSpPr>
              <p:spPr>
                <a:xfrm>
                  <a:off x="898560" y="3214800"/>
                  <a:ext cx="863640" cy="865080"/>
                </a:xfrm>
                <a:prstGeom prst="ellipse">
                  <a:avLst/>
                </a:prstGeom>
                <a:noFill/>
                <a:ln w="2844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27"/>
                <p:cNvSpPr/>
                <p:nvPr/>
              </p:nvSpPr>
              <p:spPr>
                <a:xfrm>
                  <a:off x="250920" y="2565360"/>
                  <a:ext cx="2158920" cy="2158920"/>
                </a:xfrm>
                <a:prstGeom prst="ellipse">
                  <a:avLst/>
                </a:prstGeom>
                <a:noFill/>
                <a:ln w="2844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8"/>
                <p:cNvSpPr/>
                <p:nvPr/>
              </p:nvSpPr>
              <p:spPr>
                <a:xfrm>
                  <a:off x="324000" y="436572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800" spc="-1" strike="noStrike">
                      <a:solidFill>
                        <a:srgbClr val="000000"/>
                      </a:solidFill>
                      <a:latin typeface="Verdana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"/>
                <p:cNvSpPr/>
                <p:nvPr/>
              </p:nvSpPr>
              <p:spPr>
                <a:xfrm>
                  <a:off x="1317600" y="3573360"/>
                  <a:ext cx="85680" cy="8604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30"/>
                <p:cNvSpPr/>
                <p:nvPr/>
              </p:nvSpPr>
              <p:spPr>
                <a:xfrm>
                  <a:off x="755640" y="307044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800" spc="-1" strike="noStrike">
                      <a:solidFill>
                        <a:srgbClr val="000000"/>
                      </a:solidFill>
                      <a:latin typeface="Verdana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31"/>
                <p:cNvSpPr/>
                <p:nvPr/>
              </p:nvSpPr>
              <p:spPr>
                <a:xfrm>
                  <a:off x="179280" y="3502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32"/>
                <p:cNvSpPr/>
                <p:nvPr/>
              </p:nvSpPr>
              <p:spPr>
                <a:xfrm>
                  <a:off x="179280" y="3718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33"/>
                <p:cNvSpPr/>
                <p:nvPr/>
              </p:nvSpPr>
              <p:spPr>
                <a:xfrm>
                  <a:off x="2411280" y="3502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34"/>
                <p:cNvSpPr/>
                <p:nvPr/>
              </p:nvSpPr>
              <p:spPr>
                <a:xfrm>
                  <a:off x="2340000" y="3718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35"/>
                <p:cNvSpPr/>
                <p:nvPr/>
              </p:nvSpPr>
              <p:spPr>
                <a:xfrm>
                  <a:off x="1332000" y="321300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36"/>
                <p:cNvSpPr/>
                <p:nvPr/>
              </p:nvSpPr>
              <p:spPr>
                <a:xfrm>
                  <a:off x="1547640" y="3286080"/>
                  <a:ext cx="7164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37"/>
                <p:cNvSpPr/>
                <p:nvPr/>
              </p:nvSpPr>
              <p:spPr>
                <a:xfrm>
                  <a:off x="1258920" y="465444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38"/>
                <p:cNvSpPr/>
                <p:nvPr/>
              </p:nvSpPr>
              <p:spPr>
                <a:xfrm>
                  <a:off x="1476360" y="465444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39"/>
                <p:cNvSpPr/>
                <p:nvPr/>
              </p:nvSpPr>
              <p:spPr>
                <a:xfrm>
                  <a:off x="1187280" y="2565360"/>
                  <a:ext cx="7164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40"/>
                <p:cNvSpPr/>
                <p:nvPr/>
              </p:nvSpPr>
              <p:spPr>
                <a:xfrm>
                  <a:off x="1332000" y="256536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Text Box 41"/>
              <p:cNvSpPr/>
              <p:nvPr/>
            </p:nvSpPr>
            <p:spPr>
              <a:xfrm>
                <a:off x="826920" y="4942080"/>
                <a:ext cx="100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Boh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 Box 42"/>
            <p:cNvSpPr/>
            <p:nvPr/>
          </p:nvSpPr>
          <p:spPr>
            <a:xfrm>
              <a:off x="250920" y="5727600"/>
              <a:ext cx="2376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Ne     </a:t>
              </a:r>
              <a:r>
                <a:rPr b="1" lang="nl-BE" sz="1800" spc="-1" strike="noStrike">
                  <a:solidFill>
                    <a:srgbClr val="ff993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        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3"/>
          <p:cNvGrpSpPr/>
          <p:nvPr/>
        </p:nvGrpSpPr>
        <p:grpSpPr>
          <a:xfrm>
            <a:off x="2987640" y="2565360"/>
            <a:ext cx="2952720" cy="3985200"/>
            <a:chOff x="2987640" y="2565360"/>
            <a:chExt cx="2952720" cy="3985200"/>
          </a:xfrm>
        </p:grpSpPr>
        <p:grpSp>
          <p:nvGrpSpPr>
            <p:cNvPr id="211" name="Group 44"/>
            <p:cNvGrpSpPr/>
            <p:nvPr/>
          </p:nvGrpSpPr>
          <p:grpSpPr>
            <a:xfrm>
              <a:off x="2987640" y="2565360"/>
              <a:ext cx="2448000" cy="2815920"/>
              <a:chOff x="2987640" y="2565360"/>
              <a:chExt cx="2448000" cy="2815920"/>
            </a:xfrm>
          </p:grpSpPr>
          <p:grpSp>
            <p:nvGrpSpPr>
              <p:cNvPr id="212" name="Group 45"/>
              <p:cNvGrpSpPr/>
              <p:nvPr/>
            </p:nvGrpSpPr>
            <p:grpSpPr>
              <a:xfrm>
                <a:off x="2987640" y="2565360"/>
                <a:ext cx="2160720" cy="2160000"/>
                <a:chOff x="2987640" y="2565360"/>
                <a:chExt cx="2160720" cy="2160000"/>
              </a:xfrm>
            </p:grpSpPr>
            <p:grpSp>
              <p:nvGrpSpPr>
                <p:cNvPr id="213" name="Group 46"/>
                <p:cNvGrpSpPr/>
                <p:nvPr/>
              </p:nvGrpSpPr>
              <p:grpSpPr>
                <a:xfrm>
                  <a:off x="2989440" y="2565360"/>
                  <a:ext cx="2158560" cy="2158200"/>
                  <a:chOff x="2989440" y="2565360"/>
                  <a:chExt cx="2158560" cy="2158200"/>
                </a:xfrm>
              </p:grpSpPr>
              <p:grpSp>
                <p:nvGrpSpPr>
                  <p:cNvPr id="214" name="Group 47"/>
                  <p:cNvGrpSpPr/>
                  <p:nvPr/>
                </p:nvGrpSpPr>
                <p:grpSpPr>
                  <a:xfrm>
                    <a:off x="2989440" y="2565360"/>
                    <a:ext cx="2158560" cy="2158200"/>
                    <a:chOff x="2989440" y="2565360"/>
                    <a:chExt cx="2158560" cy="2158200"/>
                  </a:xfrm>
                </p:grpSpPr>
                <p:sp>
                  <p:nvSpPr>
                    <p:cNvPr id="215" name="Oval 48"/>
                    <p:cNvSpPr/>
                    <p:nvPr/>
                  </p:nvSpPr>
                  <p:spPr>
                    <a:xfrm>
                      <a:off x="3636720" y="3214800"/>
                      <a:ext cx="864000" cy="863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99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Oval 49"/>
                    <p:cNvSpPr/>
                    <p:nvPr/>
                  </p:nvSpPr>
                  <p:spPr>
                    <a:xfrm>
                      <a:off x="3203640" y="2781720"/>
                      <a:ext cx="1728000" cy="1727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bbe0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Oval 50"/>
                    <p:cNvSpPr/>
                    <p:nvPr/>
                  </p:nvSpPr>
                  <p:spPr>
                    <a:xfrm>
                      <a:off x="2989440" y="2565360"/>
                      <a:ext cx="2158560" cy="21582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bbe0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8" name="Oval 51"/>
                  <p:cNvSpPr/>
                  <p:nvPr/>
                </p:nvSpPr>
                <p:spPr>
                  <a:xfrm>
                    <a:off x="4054320" y="3632040"/>
                    <a:ext cx="86040" cy="853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9" name="Oval 52"/>
                <p:cNvSpPr/>
                <p:nvPr/>
              </p:nvSpPr>
              <p:spPr>
                <a:xfrm>
                  <a:off x="3924360" y="321264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53"/>
                <p:cNvSpPr/>
                <p:nvPr/>
              </p:nvSpPr>
              <p:spPr>
                <a:xfrm>
                  <a:off x="4932360" y="2997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54"/>
                <p:cNvSpPr/>
                <p:nvPr/>
              </p:nvSpPr>
              <p:spPr>
                <a:xfrm>
                  <a:off x="5076720" y="3141360"/>
                  <a:ext cx="7164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55"/>
                <p:cNvSpPr/>
                <p:nvPr/>
              </p:nvSpPr>
              <p:spPr>
                <a:xfrm>
                  <a:off x="4067280" y="4654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Oval 56"/>
                <p:cNvSpPr/>
                <p:nvPr/>
              </p:nvSpPr>
              <p:spPr>
                <a:xfrm>
                  <a:off x="4140360" y="321444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57"/>
                <p:cNvSpPr/>
                <p:nvPr/>
              </p:nvSpPr>
              <p:spPr>
                <a:xfrm>
                  <a:off x="4067280" y="2781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58"/>
                <p:cNvSpPr/>
                <p:nvPr/>
              </p:nvSpPr>
              <p:spPr>
                <a:xfrm>
                  <a:off x="4284720" y="2781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59"/>
                <p:cNvSpPr/>
                <p:nvPr/>
              </p:nvSpPr>
              <p:spPr>
                <a:xfrm>
                  <a:off x="4284720" y="4654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60"/>
                <p:cNvSpPr/>
                <p:nvPr/>
              </p:nvSpPr>
              <p:spPr>
                <a:xfrm>
                  <a:off x="2987640" y="3501720"/>
                  <a:ext cx="7164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61"/>
                <p:cNvSpPr/>
                <p:nvPr/>
              </p:nvSpPr>
              <p:spPr>
                <a:xfrm>
                  <a:off x="2987640" y="328572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2"/>
              <p:cNvSpPr/>
              <p:nvPr/>
            </p:nvSpPr>
            <p:spPr>
              <a:xfrm>
                <a:off x="3635280" y="37890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1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63"/>
              <p:cNvSpPr/>
              <p:nvPr/>
            </p:nvSpPr>
            <p:spPr>
              <a:xfrm>
                <a:off x="4356000" y="28540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2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64"/>
              <p:cNvSpPr/>
              <p:nvPr/>
            </p:nvSpPr>
            <p:spPr>
              <a:xfrm>
                <a:off x="4932360" y="35730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2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65"/>
              <p:cNvSpPr/>
              <p:nvPr/>
            </p:nvSpPr>
            <p:spPr>
              <a:xfrm>
                <a:off x="3348000" y="501300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Sommerf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66"/>
            <p:cNvSpPr/>
            <p:nvPr/>
          </p:nvSpPr>
          <p:spPr>
            <a:xfrm>
              <a:off x="3132000" y="5727600"/>
              <a:ext cx="2808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K        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Ne   </a:t>
              </a:r>
              <a:r>
                <a:rPr b="1" lang="nl-BE" sz="1800" spc="-1" strike="noStrike">
                  <a:solidFill>
                    <a:srgbClr val="ff9933"/>
                  </a:solidFill>
                  <a:latin typeface="Verdana"/>
                </a:rPr>
                <a:t>1s</a:t>
              </a:r>
              <a:r>
                <a:rPr b="1" lang="nl-BE" sz="1800" spc="-1" strike="noStrike" baseline="30000">
                  <a:solidFill>
                    <a:srgbClr val="ff993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2s</a:t>
              </a:r>
              <a:r>
                <a:rPr b="1" lang="nl-BE" sz="1800" spc="-1" strike="noStrike" baseline="30000">
                  <a:solidFill>
                    <a:srgbClr val="bbe0e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 2p</a:t>
              </a:r>
              <a:r>
                <a:rPr b="1" lang="nl-BE" sz="1800" spc="-1" strike="noStrike" baseline="30000">
                  <a:solidFill>
                    <a:srgbClr val="bbe0e3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250920" y="44280"/>
            <a:ext cx="889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333399"/>
                </a:solidFill>
                <a:latin typeface="Verdana"/>
              </a:rPr>
              <a:t>ENERGIENIVEAUS – ELEKTRONENCONFIGURATIES  p.6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324000" y="1628640"/>
            <a:ext cx="8820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Elektronenconfiguratie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 =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vertaling van atoommodel in 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symbolische voorstelling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van de verdeling van de elektronen o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schi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subnive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orbit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1979640" y="4149720"/>
            <a:ext cx="691344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it elektron bevindt zich meestal (90% k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op de </a:t>
            </a:r>
            <a:r>
              <a:rPr b="0" lang="nl-BE" sz="1800" spc="-1" strike="noStrike">
                <a:solidFill>
                  <a:srgbClr val="0000ff"/>
                </a:solidFill>
                <a:latin typeface="Verdana"/>
                <a:ea typeface="Times New Roman"/>
              </a:rPr>
              <a:t>2de schil (L-sch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 een 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p-subniv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 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in een 2p</a:t>
            </a:r>
            <a:r>
              <a:rPr b="0" lang="nl-BE" sz="1800" spc="-1" strike="noStrike" baseline="-25000">
                <a:solidFill>
                  <a:srgbClr val="ff00ff"/>
                </a:solidFill>
                <a:latin typeface="Verdana"/>
                <a:ea typeface="Times New Roman"/>
              </a:rPr>
              <a:t>y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-orbitaal  </a:t>
            </a:r>
            <a:r>
              <a:rPr b="0" lang="nl-BE" sz="1200" spc="-1" strike="noStrike">
                <a:solidFill>
                  <a:srgbClr val="ff00ff"/>
                </a:solidFill>
                <a:latin typeface="Verdana"/>
                <a:ea typeface="Times New Roman"/>
              </a:rPr>
              <a:t>(geörienteerd volgens de y-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8000"/>
                </a:solidFill>
                <a:latin typeface="Verdana"/>
                <a:ea typeface="Times New Roman"/>
              </a:rPr>
              <a:t> </a:t>
            </a:r>
            <a:r>
              <a:rPr b="0" lang="nl-BE" sz="1800" spc="-1" strike="noStrike">
                <a:solidFill>
                  <a:srgbClr val="008000"/>
                </a:solidFill>
                <a:latin typeface="Verdana"/>
                <a:ea typeface="Times New Roman"/>
              </a:rPr>
              <a:t>met een spin up </a:t>
            </a:r>
            <a:r>
              <a:rPr b="0" lang="nl-BE" sz="1800" spc="-1" strike="noStrike">
                <a:solidFill>
                  <a:srgbClr val="008000"/>
                </a:solidFill>
                <a:latin typeface="Symbol"/>
                <a:ea typeface="Symbol"/>
              </a:rPr>
              <a:t>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611280" y="3789360"/>
            <a:ext cx="2222280" cy="2892600"/>
            <a:chOff x="611280" y="3789360"/>
            <a:chExt cx="2222280" cy="2892600"/>
          </a:xfrm>
        </p:grpSpPr>
        <p:pic>
          <p:nvPicPr>
            <p:cNvPr id="242" name="Picture 11" descr=""/>
            <p:cNvPicPr/>
            <p:nvPr/>
          </p:nvPicPr>
          <p:blipFill>
            <a:blip r:embed="rId1"/>
            <a:stretch/>
          </p:blipFill>
          <p:spPr>
            <a:xfrm>
              <a:off x="611280" y="3789360"/>
              <a:ext cx="2222280" cy="28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2"/>
            <p:cNvSpPr/>
            <p:nvPr/>
          </p:nvSpPr>
          <p:spPr>
            <a:xfrm>
              <a:off x="1005480" y="5095080"/>
              <a:ext cx="525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5c00"/>
                  </a:solidFill>
                  <a:latin typeface="Verdana"/>
                </a:rPr>
                <a:t>  </a:t>
              </a:r>
              <a:r>
                <a:rPr b="1" lang="nl-BE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3"/>
          <p:cNvGrpSpPr/>
          <p:nvPr/>
        </p:nvGrpSpPr>
        <p:grpSpPr>
          <a:xfrm>
            <a:off x="684360" y="2453400"/>
            <a:ext cx="8316000" cy="1765800"/>
            <a:chOff x="684360" y="2453400"/>
            <a:chExt cx="8316000" cy="1765800"/>
          </a:xfrm>
        </p:grpSpPr>
        <p:grpSp>
          <p:nvGrpSpPr>
            <p:cNvPr id="245" name="Group 14"/>
            <p:cNvGrpSpPr/>
            <p:nvPr/>
          </p:nvGrpSpPr>
          <p:grpSpPr>
            <a:xfrm>
              <a:off x="684360" y="2453400"/>
              <a:ext cx="8316000" cy="1765800"/>
              <a:chOff x="684360" y="2453400"/>
              <a:chExt cx="8316000" cy="1765800"/>
            </a:xfrm>
          </p:grpSpPr>
          <p:sp>
            <p:nvSpPr>
              <p:cNvPr id="246" name="Rectangle 15"/>
              <p:cNvSpPr/>
              <p:nvPr/>
            </p:nvSpPr>
            <p:spPr>
              <a:xfrm>
                <a:off x="684360" y="2453400"/>
                <a:ext cx="79930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r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7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N :   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1</a:t>
                </a:r>
                <a:r>
                  <a:rPr b="0" lang="nl-NL" sz="2800" spc="-1" strike="noStrike">
                    <a:solidFill>
                      <a:srgbClr val="f66a0a"/>
                    </a:solidFill>
                    <a:latin typeface="Arial"/>
                    <a:ea typeface="Times New Roman"/>
                  </a:rPr>
                  <a:t>s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²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2</a:t>
                </a:r>
                <a:r>
                  <a:rPr b="0" lang="nl-NL" sz="2800" spc="-1" strike="noStrike">
                    <a:solidFill>
                      <a:srgbClr val="f66a0a"/>
                    </a:solidFill>
                    <a:latin typeface="Arial"/>
                    <a:ea typeface="Times New Roman"/>
                  </a:rPr>
                  <a:t>s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²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2</a:t>
                </a:r>
                <a:r>
                  <a:rPr b="0" lang="nl-NL" sz="2800" spc="-1" strike="noStrike">
                    <a:solidFill>
                      <a:srgbClr val="ff00ff"/>
                    </a:solidFill>
                    <a:latin typeface="Arial"/>
                    <a:ea typeface="Times New Roman"/>
                  </a:rPr>
                  <a:t>p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r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Group 16"/>
              <p:cNvGrpSpPr/>
              <p:nvPr/>
            </p:nvGrpSpPr>
            <p:grpSpPr>
              <a:xfrm>
                <a:off x="4032360" y="3211560"/>
                <a:ext cx="4968000" cy="1007640"/>
                <a:chOff x="4032360" y="3211560"/>
                <a:chExt cx="4968000" cy="1007640"/>
              </a:xfrm>
            </p:grpSpPr>
            <p:sp>
              <p:nvSpPr>
                <p:cNvPr id="248" name="AutoShape 17"/>
                <p:cNvSpPr/>
                <p:nvPr/>
              </p:nvSpPr>
              <p:spPr>
                <a:xfrm>
                  <a:off x="7511760" y="3211560"/>
                  <a:ext cx="511200" cy="437760"/>
                </a:xfrm>
                <a:prstGeom prst="flowChartConnector">
                  <a:avLst/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" name="Group 18"/>
                <p:cNvGrpSpPr/>
                <p:nvPr/>
              </p:nvGrpSpPr>
              <p:grpSpPr>
                <a:xfrm>
                  <a:off x="4032360" y="3211560"/>
                  <a:ext cx="4968000" cy="1007640"/>
                  <a:chOff x="4032360" y="3211560"/>
                  <a:chExt cx="4968000" cy="1007640"/>
                </a:xfrm>
              </p:grpSpPr>
              <p:sp>
                <p:nvSpPr>
                  <p:cNvPr id="250" name="Text Box 19"/>
                  <p:cNvSpPr/>
                  <p:nvPr/>
                </p:nvSpPr>
                <p:spPr>
                  <a:xfrm>
                    <a:off x="4032360" y="3211560"/>
                    <a:ext cx="83484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f7690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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Text Box 20"/>
                  <p:cNvSpPr/>
                  <p:nvPr/>
                </p:nvSpPr>
                <p:spPr>
                  <a:xfrm>
                    <a:off x="524088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f7690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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Text Box 21"/>
                  <p:cNvSpPr/>
                  <p:nvPr/>
                </p:nvSpPr>
                <p:spPr>
                  <a:xfrm>
                    <a:off x="6494040" y="321264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Text Box 22"/>
                  <p:cNvSpPr/>
                  <p:nvPr/>
                </p:nvSpPr>
                <p:spPr>
                  <a:xfrm>
                    <a:off x="731520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 Box 23"/>
                  <p:cNvSpPr/>
                  <p:nvPr/>
                </p:nvSpPr>
                <p:spPr>
                  <a:xfrm>
                    <a:off x="816516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24"/>
                  <p:cNvSpPr/>
                  <p:nvPr/>
                </p:nvSpPr>
                <p:spPr>
                  <a:xfrm>
                    <a:off x="7757280" y="3713760"/>
                    <a:ext cx="0" cy="50544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6" name="Text Box 25"/>
            <p:cNvSpPr/>
            <p:nvPr/>
          </p:nvSpPr>
          <p:spPr>
            <a:xfrm>
              <a:off x="6659640" y="3645000"/>
              <a:ext cx="22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x</a:t>
              </a: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        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y</a:t>
              </a: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   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50920" y="260280"/>
            <a:ext cx="792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SYMBOLISCHE VOORSTELLING VAN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      DE ELEKTRONENCONFIGU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24000" y="1125360"/>
            <a:ext cx="824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Wer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468360" y="1484280"/>
            <a:ext cx="835164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Orbitaal voorgesteld als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ode    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vb.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1s</a:t>
            </a:r>
            <a:r>
              <a:rPr b="1" lang="nl-BE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1ste cijfer : hoofdniveau (sch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letter :   subniveau  (orbitaal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2de cijfer :  aantal elektronen in orbi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vb.   </a:t>
            </a:r>
            <a:r>
              <a:rPr b="1" lang="nl-BE" sz="1800" spc="-1" strike="noStrike" baseline="-25000">
                <a:solidFill>
                  <a:srgbClr val="3333ff"/>
                </a:solidFill>
                <a:latin typeface="Verdana"/>
              </a:rPr>
              <a:t>11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Na :   1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2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3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1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edere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orbitaal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(magnetisch niveau) voorgesteld door een 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vakje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, met één of twee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pijltjes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(elektronen) : 2 gepaarde elektronen in een orbitaal hebben tegengestelde spin: pijltjes in tegengestelde z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1116000" y="5229360"/>
            <a:ext cx="6696000" cy="1015920"/>
            <a:chOff x="1116000" y="5229360"/>
            <a:chExt cx="6696000" cy="1015920"/>
          </a:xfrm>
        </p:grpSpPr>
        <p:sp>
          <p:nvSpPr>
            <p:cNvPr id="261" name="Text Box 6"/>
            <p:cNvSpPr/>
            <p:nvPr/>
          </p:nvSpPr>
          <p:spPr>
            <a:xfrm>
              <a:off x="139716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f769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7"/>
            <p:cNvSpPr/>
            <p:nvPr/>
          </p:nvSpPr>
          <p:spPr>
            <a:xfrm>
              <a:off x="258120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8"/>
            <p:cNvSpPr/>
            <p:nvPr/>
          </p:nvSpPr>
          <p:spPr>
            <a:xfrm>
              <a:off x="3807360" y="5735880"/>
              <a:ext cx="817200" cy="50940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9"/>
            <p:cNvSpPr/>
            <p:nvPr/>
          </p:nvSpPr>
          <p:spPr>
            <a:xfrm>
              <a:off x="461052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0"/>
            <p:cNvSpPr/>
            <p:nvPr/>
          </p:nvSpPr>
          <p:spPr>
            <a:xfrm>
              <a:off x="5443560" y="5734080"/>
              <a:ext cx="81720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1"/>
            <p:cNvSpPr/>
            <p:nvPr/>
          </p:nvSpPr>
          <p:spPr>
            <a:xfrm>
              <a:off x="675360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2"/>
            <p:cNvSpPr/>
            <p:nvPr/>
          </p:nvSpPr>
          <p:spPr>
            <a:xfrm>
              <a:off x="1116000" y="5229360"/>
              <a:ext cx="669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3300"/>
                  </a:solidFill>
                  <a:latin typeface="Verdana"/>
                </a:rPr>
                <a:t>     </a:t>
              </a:r>
              <a:r>
                <a:rPr b="0" lang="nl-BE" sz="1800" spc="-1" strike="noStrike">
                  <a:solidFill>
                    <a:srgbClr val="ff3300"/>
                  </a:solidFill>
                  <a:latin typeface="Verdana"/>
                </a:rPr>
                <a:t>1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</a:t>
              </a:r>
              <a:r>
                <a:rPr b="0" lang="nl-BE" sz="1800" spc="-1" strike="noStrike">
                  <a:solidFill>
                    <a:srgbClr val="9933ff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          </a:t>
              </a:r>
              <a:r>
                <a:rPr b="0" lang="nl-BE" sz="1800" spc="-1" strike="noStrike">
                  <a:solidFill>
                    <a:srgbClr val="9933ff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0" lang="nl-BE" sz="1800" spc="-1" strike="noStrike">
                  <a:solidFill>
                    <a:srgbClr val="cc3300"/>
                  </a:solidFill>
                  <a:latin typeface="Verdana"/>
                </a:rPr>
                <a:t>3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13"/>
          <p:cNvSpPr/>
          <p:nvPr/>
        </p:nvSpPr>
        <p:spPr>
          <a:xfrm>
            <a:off x="250920" y="5229360"/>
            <a:ext cx="97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1800" spc="-1" strike="noStrike" baseline="-25000">
                <a:solidFill>
                  <a:srgbClr val="3333ff"/>
                </a:solidFill>
                <a:latin typeface="Verdana"/>
              </a:rPr>
              <a:t>11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50920" y="260280"/>
            <a:ext cx="824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Opvulling van de energieniv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24000" y="765000"/>
            <a:ext cx="8820000" cy="21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3300"/>
                </a:solidFill>
                <a:latin typeface="Verdana"/>
              </a:rPr>
              <a:t>Regel van de minimale e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e</a:t>
            </a:r>
            <a:r>
              <a:rPr b="0" lang="nl-BE" sz="2000" spc="-1" strike="noStrike" baseline="30000">
                <a:solidFill>
                  <a:srgbClr val="3333ff"/>
                </a:solidFill>
                <a:latin typeface="Verdana"/>
              </a:rPr>
              <a:t>-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 i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grondtoestand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teeds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laagst mogelijk                    energie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erst opvulling orbitalen met lagere energie-inhoud, dan pas aanvulling orbitalen met hogere energie-inh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memotechnisch middeltje: </a:t>
            </a:r>
            <a:r>
              <a:rPr b="1" lang="nl-BE" sz="1800" spc="-1" strike="noStrike">
                <a:solidFill>
                  <a:srgbClr val="ff3300"/>
                </a:solidFill>
                <a:latin typeface="Verdana"/>
              </a:rPr>
              <a:t>diagonaalregel </a:t>
            </a:r>
            <a:r>
              <a:rPr b="0" lang="nl-BE" sz="1000" spc="-1" strike="noStrike">
                <a:solidFill>
                  <a:srgbClr val="ff3300"/>
                </a:solidFill>
                <a:latin typeface="Verdana"/>
              </a:rPr>
              <a:t>(vanuit berekening energieë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50920" y="3500280"/>
            <a:ext cx="3600360" cy="3359160"/>
            <a:chOff x="250920" y="3500280"/>
            <a:chExt cx="3600360" cy="3359160"/>
          </a:xfrm>
        </p:grpSpPr>
        <p:grpSp>
          <p:nvGrpSpPr>
            <p:cNvPr id="272" name="Group 6"/>
            <p:cNvGrpSpPr/>
            <p:nvPr/>
          </p:nvGrpSpPr>
          <p:grpSpPr>
            <a:xfrm>
              <a:off x="250920" y="3500280"/>
              <a:ext cx="2832120" cy="2828880"/>
              <a:chOff x="250920" y="3500280"/>
              <a:chExt cx="2832120" cy="2828880"/>
            </a:xfrm>
          </p:grpSpPr>
          <p:pic>
            <p:nvPicPr>
              <p:cNvPr id="273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3500280"/>
                <a:ext cx="2832120" cy="282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8"/>
              <p:cNvSpPr/>
              <p:nvPr/>
            </p:nvSpPr>
            <p:spPr>
              <a:xfrm>
                <a:off x="539640" y="3520800"/>
                <a:ext cx="67968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800" spc="-1" strike="noStrike">
                    <a:solidFill>
                      <a:srgbClr val="000000"/>
                    </a:solidFill>
                    <a:latin typeface="Verdana"/>
                  </a:rPr>
                  <a:t>Energi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Text Box 9"/>
            <p:cNvSpPr/>
            <p:nvPr/>
          </p:nvSpPr>
          <p:spPr>
            <a:xfrm>
              <a:off x="250920" y="6308640"/>
              <a:ext cx="360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Rangschikking van de schillen (links) en van de subniveaus (rechts) tot en met schilnummer 4 volgens energie-inhoud.</a:t>
              </a:r>
              <a:r>
                <a:rPr b="0" lang="nl-BE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4427640" y="3573360"/>
            <a:ext cx="4032000" cy="3305160"/>
            <a:chOff x="4427640" y="3573360"/>
            <a:chExt cx="4032000" cy="3305160"/>
          </a:xfrm>
        </p:grpSpPr>
        <p:pic>
          <p:nvPicPr>
            <p:cNvPr id="277" name="Picture 11" descr=""/>
            <p:cNvPicPr/>
            <p:nvPr/>
          </p:nvPicPr>
          <p:blipFill>
            <a:blip r:embed="rId2"/>
            <a:srcRect l="0" t="0" r="0" b="6997"/>
            <a:stretch/>
          </p:blipFill>
          <p:spPr>
            <a:xfrm>
              <a:off x="4500720" y="3573360"/>
              <a:ext cx="2603520" cy="2808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78" name="Text Box 12"/>
            <p:cNvSpPr/>
            <p:nvPr/>
          </p:nvSpPr>
          <p:spPr>
            <a:xfrm>
              <a:off x="4427640" y="6327720"/>
              <a:ext cx="403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Hieruit kan de volgorde van opvullen van de subniveaus worden afgeleid:1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2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2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d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5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d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5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6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…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ebelements  elektronenconfigur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2"/>
          <a:srcRect l="0" t="15977" r="20606" b="13054"/>
          <a:stretch/>
        </p:blipFill>
        <p:spPr>
          <a:xfrm>
            <a:off x="1193760" y="2016000"/>
            <a:ext cx="64026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24000" y="189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cc"/>
                </a:solidFill>
                <a:latin typeface="Verdana"/>
              </a:rPr>
              <a:t>Magnetische niv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7885080" cy="417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Text Box 11"/>
          <p:cNvSpPr/>
          <p:nvPr/>
        </p:nvSpPr>
        <p:spPr>
          <a:xfrm>
            <a:off x="611280" y="765000"/>
            <a:ext cx="7488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magnetisch veld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opsplitsing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van s- ,p- , d- en f-subniveau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 in resp. 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  1, 3, 5 en 7 ‘magnetische’ niveaus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et dezelfde energie-inho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ieder magnetisch niveau: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maximaal 2 elektr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324000" y="333360"/>
            <a:ext cx="882000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Spreidingsregel va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H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te bezetten subniveau met laagste energie-inhoud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steeds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maximaal aantal ongepaarde elektr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lektronen in eenzelfde subniveau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ongepaard, tenzij niet anders 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magnetische niveaus in een subniveau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eerst 1 elektron, en dan pas doubletvo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ongepaarde elektronen steeds dezelfde spin (spin up </a:t>
            </a:r>
            <a:r>
              <a:rPr b="0" lang="nl-BE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Bvb. </a:t>
            </a: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7308720" y="476280"/>
            <a:ext cx="1519200" cy="2434680"/>
            <a:chOff x="7308720" y="476280"/>
            <a:chExt cx="1519200" cy="2434680"/>
          </a:xfrm>
        </p:grpSpPr>
        <p:pic>
          <p:nvPicPr>
            <p:cNvPr id="283" name="Picture 4" descr=""/>
            <p:cNvPicPr/>
            <p:nvPr/>
          </p:nvPicPr>
          <p:blipFill>
            <a:blip r:embed="rId1"/>
            <a:stretch/>
          </p:blipFill>
          <p:spPr>
            <a:xfrm>
              <a:off x="7308720" y="476280"/>
              <a:ext cx="1519200" cy="206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5"/>
            <p:cNvSpPr/>
            <p:nvPr/>
          </p:nvSpPr>
          <p:spPr>
            <a:xfrm>
              <a:off x="7450200" y="2542680"/>
              <a:ext cx="12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Verdana"/>
                </a:rPr>
                <a:t>1896-1997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6"/>
          <p:cNvSpPr/>
          <p:nvPr/>
        </p:nvSpPr>
        <p:spPr>
          <a:xfrm>
            <a:off x="250920" y="4292640"/>
            <a:ext cx="88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:  1s²    2s²         2p²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IET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     1s²    2s²          2p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7"/>
          <p:cNvGrpSpPr/>
          <p:nvPr/>
        </p:nvGrpSpPr>
        <p:grpSpPr>
          <a:xfrm>
            <a:off x="900000" y="4724280"/>
            <a:ext cx="2879640" cy="376200"/>
            <a:chOff x="900000" y="4724280"/>
            <a:chExt cx="2879640" cy="376200"/>
          </a:xfrm>
        </p:grpSpPr>
        <p:sp>
          <p:nvSpPr>
            <p:cNvPr id="287" name="Text Box 8"/>
            <p:cNvSpPr/>
            <p:nvPr/>
          </p:nvSpPr>
          <p:spPr>
            <a:xfrm>
              <a:off x="90000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154764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10"/>
            <p:cNvGrpSpPr/>
            <p:nvPr/>
          </p:nvGrpSpPr>
          <p:grpSpPr>
            <a:xfrm>
              <a:off x="2268360" y="4724280"/>
              <a:ext cx="1511280" cy="376200"/>
              <a:chOff x="2268360" y="4724280"/>
              <a:chExt cx="1511280" cy="376200"/>
            </a:xfrm>
          </p:grpSpPr>
          <p:sp>
            <p:nvSpPr>
              <p:cNvPr id="290" name="Text Box 11"/>
              <p:cNvSpPr/>
              <p:nvPr/>
            </p:nvSpPr>
            <p:spPr>
              <a:xfrm>
                <a:off x="226836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12"/>
              <p:cNvSpPr/>
              <p:nvPr/>
            </p:nvSpPr>
            <p:spPr>
              <a:xfrm>
                <a:off x="277164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13"/>
              <p:cNvSpPr/>
              <p:nvPr/>
            </p:nvSpPr>
            <p:spPr>
              <a:xfrm>
                <a:off x="327636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Group 14"/>
          <p:cNvGrpSpPr/>
          <p:nvPr/>
        </p:nvGrpSpPr>
        <p:grpSpPr>
          <a:xfrm>
            <a:off x="5796000" y="4724280"/>
            <a:ext cx="2879640" cy="376200"/>
            <a:chOff x="5796000" y="4724280"/>
            <a:chExt cx="2879640" cy="376200"/>
          </a:xfrm>
        </p:grpSpPr>
        <p:sp>
          <p:nvSpPr>
            <p:cNvPr id="294" name="Text Box 15"/>
            <p:cNvSpPr/>
            <p:nvPr/>
          </p:nvSpPr>
          <p:spPr>
            <a:xfrm>
              <a:off x="579600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6"/>
            <p:cNvSpPr/>
            <p:nvPr/>
          </p:nvSpPr>
          <p:spPr>
            <a:xfrm>
              <a:off x="644364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7"/>
            <p:cNvGrpSpPr/>
            <p:nvPr/>
          </p:nvGrpSpPr>
          <p:grpSpPr>
            <a:xfrm>
              <a:off x="7164360" y="4724280"/>
              <a:ext cx="1511280" cy="376200"/>
              <a:chOff x="7164360" y="4724280"/>
              <a:chExt cx="1511280" cy="376200"/>
            </a:xfrm>
          </p:grpSpPr>
          <p:sp>
            <p:nvSpPr>
              <p:cNvPr id="297" name="Text Box 18"/>
              <p:cNvSpPr/>
              <p:nvPr/>
            </p:nvSpPr>
            <p:spPr>
              <a:xfrm>
                <a:off x="716436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19"/>
              <p:cNvSpPr/>
              <p:nvPr/>
            </p:nvSpPr>
            <p:spPr>
              <a:xfrm>
                <a:off x="766764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0"/>
              <p:cNvSpPr/>
              <p:nvPr/>
            </p:nvSpPr>
            <p:spPr>
              <a:xfrm>
                <a:off x="817236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21"/>
          <p:cNvGrpSpPr/>
          <p:nvPr/>
        </p:nvGrpSpPr>
        <p:grpSpPr>
          <a:xfrm>
            <a:off x="7019640" y="4149720"/>
            <a:ext cx="1800360" cy="1584360"/>
            <a:chOff x="7019640" y="4149720"/>
            <a:chExt cx="1800360" cy="1584360"/>
          </a:xfrm>
        </p:grpSpPr>
        <p:sp>
          <p:nvSpPr>
            <p:cNvPr id="301" name="Line 22"/>
            <p:cNvSpPr/>
            <p:nvPr/>
          </p:nvSpPr>
          <p:spPr>
            <a:xfrm>
              <a:off x="7164360" y="4149720"/>
              <a:ext cx="1655640" cy="158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 flipH="1">
              <a:off x="7019640" y="4149720"/>
              <a:ext cx="1655640" cy="158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24000" y="333360"/>
            <a:ext cx="820872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Verbodsregel va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PAU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éénzelfde atoom kunnen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geen twee dezelfde elektronen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gevonden w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lektronen verschillen in minstens één van d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vier karakteristiek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hoofd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ub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agnetisch niveau (orbita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p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Dus maximaal 2 elektronen in één orbita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2 elektronen in eenzelfde orbitaal hebben dus steeds</a:t>
            </a:r>
            <a:br>
              <a:rPr sz="2400"/>
            </a:b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 een verschillende spintoestand; ze vormen een</a:t>
            </a:r>
            <a:br>
              <a:rPr sz="2400"/>
            </a:b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doublet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of gepaarde elektr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6948360" y="333360"/>
            <a:ext cx="2022120" cy="2909520"/>
            <a:chOff x="6948360" y="333360"/>
            <a:chExt cx="2022120" cy="2909520"/>
          </a:xfrm>
        </p:grpSpPr>
        <p:pic>
          <p:nvPicPr>
            <p:cNvPr id="305" name="Picture 4" descr=""/>
            <p:cNvPicPr/>
            <p:nvPr/>
          </p:nvPicPr>
          <p:blipFill>
            <a:blip r:embed="rId1"/>
            <a:stretch/>
          </p:blipFill>
          <p:spPr>
            <a:xfrm>
              <a:off x="6948360" y="333360"/>
              <a:ext cx="2022120" cy="24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Rectangle 5"/>
            <p:cNvSpPr/>
            <p:nvPr/>
          </p:nvSpPr>
          <p:spPr>
            <a:xfrm>
              <a:off x="7089120" y="287460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1900 - 1958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179280" y="333360"/>
            <a:ext cx="878544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Stabiliteitsreg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epaalde elektronenconfiguraties geven extra stabil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edelgasconfigurati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s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np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(octet) 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(een zeer stabiele configuratie)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volledig bezet subniveau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en toestand 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is stabieler da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een toestand 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halfbezet subniveau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toestand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s stabieler da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een toestand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of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nkele voorbeeld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o: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twee halfbezette subniveaus i.p.v 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3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Tc: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een volledig bezet en een halfbezet subniveau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Pd : 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    volzet subniveau i.p.v.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0000"/>
                </a:solidFill>
                <a:uFillTx/>
                <a:latin typeface="Verdana"/>
              </a:rPr>
              <a:t>Opmerking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Soms gebruikt men bij het noteren van elektronenconfiguraties een </a:t>
            </a:r>
            <a:r>
              <a:rPr b="1" lang="nl-NL" sz="1200" spc="-1" strike="noStrike">
                <a:solidFill>
                  <a:srgbClr val="ff3300"/>
                </a:solidFill>
                <a:latin typeface="Verdana"/>
              </a:rPr>
              <a:t>vereenvoudigde notatiewijze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(zie bovenstaande voorbeelden). Men noteert daarbij tussen rechthoekige haakjes het symbool van het voorafgaandelijk edelgas gevolgd door de normale notatiewijze voor de overige bezette orbital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Voorbeeld :  </a:t>
            </a:r>
            <a:r>
              <a:rPr b="0" lang="nl-NL" sz="1200" spc="-1" strike="noStrike" baseline="-25000">
                <a:solidFill>
                  <a:srgbClr val="000000"/>
                </a:solidFill>
                <a:latin typeface="Verdana"/>
              </a:rPr>
              <a:t>20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Ca : 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200" spc="-1" strike="noStrike" baseline="-25000">
                <a:solidFill>
                  <a:srgbClr val="000000"/>
                </a:solidFill>
                <a:latin typeface="Verdana"/>
              </a:rPr>
              <a:t> 18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Ar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4s</a:t>
            </a:r>
            <a:r>
              <a:rPr b="1" lang="nl-NL" sz="1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468360" y="260280"/>
          <a:ext cx="7927920" cy="5943600"/>
        </p:xfrm>
        <a:graphic>
          <a:graphicData uri="http://schemas.openxmlformats.org/drawingml/2006/table">
            <a:tbl>
              <a:tblPr/>
              <a:tblGrid>
                <a:gridCol w="7927920"/>
              </a:tblGrid>
              <a:tr h="59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aantal interessante websites in verband met de elektronenconfigura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uicktime moviefil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:werkwijze voor het opstellen van de elektronenconfiguratie in beeld (Enge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ea typeface="Times New Roman"/>
                          <a:hlinkClick r:id="rId1"/>
                        </a:rPr>
                        <a:t>http://cwx.prenhall.com/petrucci/medialib/media_portfolio/text_images/043_ElectronConfig.MOV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bouwprincip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door willekeurig ergens op het scherm te klikken), vertrekkende bij het waterstofatoom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intro.chem.okstate.edu/WorkshopFolder/Electronconfnew.htm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eractieve periodieke systemen (PSE)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lektronenconfiguratie met eventuele eigenschappen en dergelijke. Een paar voorbeelden hierva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chemlab.pc.maricopa.edu/period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www.chemistrycoach.com/periodic_tables.h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www.thecatalyst.org/m03ptabl.ht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laatste 2 geven een overzicht van wat er rond dit onderwerp op het web te vinden 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468360" y="260280"/>
            <a:ext cx="8675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Op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 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vanadium (V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 Schrijf de voorstelling van de elektronenconfiguratie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 Teken daaronder de voorstelling van de elektronenconfiguratie via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het vakjesdiagram en nummer de elektronen volgens volgorde va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opvu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50920" y="2781360"/>
            <a:ext cx="864216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K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L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M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 baseline="-25000">
                <a:solidFill>
                  <a:srgbClr val="000000"/>
                </a:solidFill>
                <a:latin typeface="Verdana"/>
              </a:rPr>
              <a:t>23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8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11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    3d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3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4s</a:t>
            </a:r>
            <a:r>
              <a:rPr b="0" lang="nl-BE" sz="1800" spc="-1" strike="noStrike" baseline="30000">
                <a:solidFill>
                  <a:srgbClr val="0099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724360" y="4292640"/>
          <a:ext cx="1656000" cy="228600"/>
        </p:xfrm>
        <a:graphic>
          <a:graphicData uri="http://schemas.openxmlformats.org/drawingml/2006/table">
            <a:tbl>
              <a:tblPr/>
              <a:tblGrid>
                <a:gridCol w="331920"/>
                <a:gridCol w="331920"/>
                <a:gridCol w="271440"/>
                <a:gridCol w="388800"/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1187280" y="4292640"/>
          <a:ext cx="331920" cy="22860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1908000" y="4292640"/>
          <a:ext cx="331920" cy="23004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411280" y="4292640"/>
          <a:ext cx="1152720" cy="230040"/>
        </p:xfrm>
        <a:graphic>
          <a:graphicData uri="http://schemas.openxmlformats.org/drawingml/2006/table">
            <a:tbl>
              <a:tblPr/>
              <a:tblGrid>
                <a:gridCol w="382680"/>
                <a:gridCol w="385920"/>
                <a:gridCol w="3841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3995640" y="4281480"/>
          <a:ext cx="331920" cy="22860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4427640" y="4292640"/>
          <a:ext cx="1152360" cy="228600"/>
        </p:xfrm>
        <a:graphic>
          <a:graphicData uri="http://schemas.openxmlformats.org/drawingml/2006/table">
            <a:tbl>
              <a:tblPr/>
              <a:tblGrid>
                <a:gridCol w="382320"/>
                <a:gridCol w="385920"/>
                <a:gridCol w="3841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7956720" y="4292640"/>
          <a:ext cx="331560" cy="228600"/>
        </p:xfrm>
        <a:graphic>
          <a:graphicData uri="http://schemas.openxmlformats.org/drawingml/2006/table">
            <a:tbl>
              <a:tblPr/>
              <a:tblGrid>
                <a:gridCol w="3315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0099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Text Box 62"/>
          <p:cNvSpPr/>
          <p:nvPr/>
        </p:nvSpPr>
        <p:spPr>
          <a:xfrm>
            <a:off x="755640" y="4653000"/>
            <a:ext cx="806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nl-BE" sz="800" spc="-1" strike="noStrike">
                <a:solidFill>
                  <a:srgbClr val="000000"/>
                </a:solidFill>
                <a:latin typeface="Verdana"/>
              </a:rPr>
              <a:t>1,2                 3, 4        5, 8      6, 9    7,10               11,12    13,16  14,17   15,18      21      22      23                                       19,2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3"/>
          <p:cNvSpPr/>
          <p:nvPr/>
        </p:nvSpPr>
        <p:spPr>
          <a:xfrm>
            <a:off x="324000" y="4221000"/>
            <a:ext cx="8569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611280" y="404640"/>
            <a:ext cx="8137440" cy="58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magnesiu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argon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ijz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ijz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palladiu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42920" y="8366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Mg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116000" y="198900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18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Ar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116000" y="3357720"/>
            <a:ext cx="684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26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Fe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4s</a:t>
            </a:r>
            <a:r>
              <a:rPr b="0" lang="nl-BE" sz="1800" spc="-1" strike="noStrike" baseline="30000">
                <a:solidFill>
                  <a:srgbClr val="0099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d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332000" y="4365720"/>
            <a:ext cx="4319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26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Fe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18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A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2 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3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332000" y="5734080"/>
            <a:ext cx="431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46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Pd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36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K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755640" y="620640"/>
            <a:ext cx="7272360" cy="35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chroo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zilv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332000" y="1268280"/>
            <a:ext cx="4319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24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Cr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18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A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 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3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258920" y="3213000"/>
            <a:ext cx="431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47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Ag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36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K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5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404640"/>
            <a:ext cx="77040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Verdana"/>
              </a:rPr>
              <a:t>Overzicht van de elektronenconfiguratie van de atomen in de grondtoe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Verdana"/>
              </a:rPr>
              <a:t>Zie boek p.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50920" y="26028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2.3 VERBAND ELEKTRONENCONFIGURATIE EN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      OPBOUW VAN HET PERIODIEK SY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395280" y="1484280"/>
            <a:ext cx="83520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Rangschikking van elementen vol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tijgend atoomn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tijgend aantal prot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Chemisch gedrag van de elementen hangt af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aantal elektronen van buitenste sch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lementen met eenzelfde aantal valentie-elektronen hebben analoge eigenscha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Hierdoo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deling volgens massa en eigenschap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deling volgens elektronenconfigu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559320" y="2719440"/>
            <a:ext cx="2025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1"/>
          <a:stretch/>
        </p:blipFill>
        <p:spPr>
          <a:xfrm>
            <a:off x="6586560" y="1116000"/>
            <a:ext cx="2449440" cy="188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6794640" y="2971800"/>
          <a:ext cx="2025360" cy="457200"/>
        </p:xfrm>
        <a:graphic>
          <a:graphicData uri="http://schemas.openxmlformats.org/drawingml/2006/table">
            <a:tbl>
              <a:tblPr/>
              <a:tblGrid>
                <a:gridCol w="20253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itri Mendelejev (1834- 190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reeuwigd op een Russische postzeg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24000" y="189000"/>
            <a:ext cx="849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De spin van een elektron (1912)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1" lang="nl-BE" sz="2000" spc="-1" strike="noStrike">
                <a:solidFill>
                  <a:srgbClr val="333399"/>
                </a:solidFill>
                <a:latin typeface="Arial"/>
              </a:rPr>
              <a:t>maximaal 2 elektronen per magnetisch nivea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214200" y="3241800"/>
            <a:ext cx="5365800" cy="321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3" name="Group 11"/>
          <p:cNvGrpSpPr/>
          <p:nvPr/>
        </p:nvGrpSpPr>
        <p:grpSpPr>
          <a:xfrm>
            <a:off x="5724360" y="2997360"/>
            <a:ext cx="3240000" cy="2620080"/>
            <a:chOff x="5724360" y="2997360"/>
            <a:chExt cx="3240000" cy="2620080"/>
          </a:xfrm>
        </p:grpSpPr>
        <p:pic>
          <p:nvPicPr>
            <p:cNvPr id="104" name="Picture 12" descr=""/>
            <p:cNvPicPr/>
            <p:nvPr/>
          </p:nvPicPr>
          <p:blipFill>
            <a:blip r:embed="rId2"/>
            <a:srcRect l="0" t="0" r="0" b="13751"/>
            <a:stretch/>
          </p:blipFill>
          <p:spPr>
            <a:xfrm>
              <a:off x="5724360" y="2997360"/>
              <a:ext cx="3095640" cy="156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5" name="Text Box 13"/>
            <p:cNvSpPr/>
            <p:nvPr/>
          </p:nvSpPr>
          <p:spPr>
            <a:xfrm>
              <a:off x="7524720" y="4557600"/>
              <a:ext cx="143964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In wijzerz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pin down 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5724360" y="4557600"/>
              <a:ext cx="18730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In tegenwijzerz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pin up 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5"/>
          <p:cNvGrpSpPr/>
          <p:nvPr/>
        </p:nvGrpSpPr>
        <p:grpSpPr>
          <a:xfrm>
            <a:off x="5543640" y="5877000"/>
            <a:ext cx="3600360" cy="368280"/>
            <a:chOff x="5543640" y="5877000"/>
            <a:chExt cx="3600360" cy="368280"/>
          </a:xfrm>
        </p:grpSpPr>
        <p:sp>
          <p:nvSpPr>
            <p:cNvPr id="108" name="Text Box 16"/>
            <p:cNvSpPr/>
            <p:nvPr/>
          </p:nvSpPr>
          <p:spPr>
            <a:xfrm>
              <a:off x="5543640" y="5877000"/>
              <a:ext cx="5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7"/>
            <p:cNvSpPr/>
            <p:nvPr/>
          </p:nvSpPr>
          <p:spPr>
            <a:xfrm>
              <a:off x="6264360" y="5877000"/>
              <a:ext cx="28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doublet = elektronenpa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543640" y="6365880"/>
            <a:ext cx="3600360" cy="368280"/>
            <a:chOff x="5543640" y="6365880"/>
            <a:chExt cx="3600360" cy="368280"/>
          </a:xfrm>
        </p:grpSpPr>
        <p:sp>
          <p:nvSpPr>
            <p:cNvPr id="111" name="Text Box 22"/>
            <p:cNvSpPr/>
            <p:nvPr/>
          </p:nvSpPr>
          <p:spPr>
            <a:xfrm>
              <a:off x="5543640" y="6365880"/>
              <a:ext cx="5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6264360" y="6365880"/>
              <a:ext cx="28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ongepaard elekt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4"/>
          <p:cNvSpPr/>
          <p:nvPr/>
        </p:nvSpPr>
        <p:spPr>
          <a:xfrm>
            <a:off x="395280" y="1197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Negatieve ladingen stoten elkaar 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en extra </a:t>
            </a:r>
            <a:r>
              <a:rPr b="0" lang="nl-BE" sz="2400" spc="-1" strike="noStrike">
                <a:solidFill>
                  <a:srgbClr val="333399"/>
                </a:solidFill>
                <a:latin typeface="Arial"/>
              </a:rPr>
              <a:t>magnetische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kracht compenseert echter die afstotingskrac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lektronen draaien (tollen – to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pin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) rond hun eigen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Hierdoor ontstaan kleine magneet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95280" y="981000"/>
            <a:ext cx="849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atoommodellen, met elektronen op banen rond de kern, 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voldoen om tal van eigenschappen te verkl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missiespectra,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analoge eigenschapp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ax. aantal bindings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Maar....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Bewegende elektrische ladingen =    </a:t>
            </a: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elektrische stro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Schijfvormige atomen    </a:t>
            </a: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i.p.v. boll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Ruimtelijke ordening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van bindingspartners rond een atoom in een molec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Daarom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is een verdere verfijning van atoommodel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260280"/>
            <a:ext cx="824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Verdana"/>
              </a:rPr>
              <a:t>Het golfmechanisch atoommodel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1468440" y="2774880"/>
            <a:ext cx="121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68360" y="404640"/>
          <a:ext cx="8280360" cy="5851800"/>
        </p:xfrm>
        <a:graphic>
          <a:graphicData uri="http://schemas.openxmlformats.org/drawingml/2006/table">
            <a:tbl>
              <a:tblPr/>
              <a:tblGrid>
                <a:gridCol w="2590920"/>
                <a:gridCol w="5689440"/>
              </a:tblGrid>
              <a:tr h="58518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92 - 1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Louis de Brogli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924):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dualiteitsprinci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wegend elektron heef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eltjeskarakter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é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olfkarakter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gekenmerkt do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paalde </a:t>
                      </a:r>
                      <a:r>
                        <a:rPr b="1" i="1" lang="nl-NL" sz="2000" spc="-1" strike="noStrike">
                          <a:solidFill>
                            <a:srgbClr val="ff6600"/>
                          </a:solidFill>
                          <a:latin typeface="Verdana"/>
                          <a:ea typeface="Times New Roman"/>
                        </a:rPr>
                        <a:t>golflengte</a:t>
                      </a:r>
                      <a:r>
                        <a:rPr b="0" lang="nl-NL" sz="2000" spc="-1" strike="noStrike">
                          <a:solidFill>
                            <a:srgbClr val="ff66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paalde </a:t>
                      </a:r>
                      <a:r>
                        <a:rPr b="1" i="1" lang="nl-NL" sz="2000" spc="-1" strike="noStrike">
                          <a:solidFill>
                            <a:srgbClr val="99cc00"/>
                          </a:solidFill>
                          <a:latin typeface="Verdana"/>
                          <a:ea typeface="Times New Roman"/>
                        </a:rPr>
                        <a:t>snelheid</a:t>
                      </a:r>
                      <a:r>
                        <a:rPr b="0" lang="nl-NL" sz="2000" spc="-1" strike="noStrike">
                          <a:solidFill>
                            <a:srgbClr val="99cc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or combinatie van de wetten van Einstein (E=m.c²) en Planck (E=h.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 het verband tussen golflengte en frequentie (v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‘</a:t>
                      </a:r>
                      <a:r>
                        <a:rPr b="1" lang="nl-NL" sz="2000" spc="-1" strike="noStrike" u="sng">
                          <a:solidFill>
                            <a:srgbClr val="3333cc"/>
                          </a:solidFill>
                          <a:uFillTx/>
                          <a:latin typeface="Verdana"/>
                          <a:ea typeface="Times New Roman"/>
                        </a:rPr>
                        <a:t>de Broglierelati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’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135160" cy="2664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4932360" y="5229360"/>
                <a:ext cx="1368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De Broglie (192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lektronen vertonen </a:t>
            </a: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(net zoals licht)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zowel een deeltjes als een golf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xperiment met cd en laserl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268360" y="2417760"/>
            <a:ext cx="47880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979640" y="3284640"/>
            <a:ext cx="446400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Rectangle 3"/>
          <p:cNvSpPr/>
          <p:nvPr/>
        </p:nvSpPr>
        <p:spPr>
          <a:xfrm>
            <a:off x="250920" y="18900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Energie van 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4000" y="765000"/>
            <a:ext cx="748800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wet van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Planck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: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E = h.f = </a:t>
            </a:r>
            <a:r>
              <a:rPr b="1" lang="nl-BE" sz="2000" spc="-1" strike="noStrike" u="sng">
                <a:solidFill>
                  <a:srgbClr val="000000"/>
                </a:solidFill>
                <a:uFillTx/>
                <a:latin typeface="Verdana"/>
              </a:rPr>
              <a:t>h.c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De energie is omgekeerd evenredig met golflengte (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De energie is recht evenredig met frequentie 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66ff"/>
                </a:solidFill>
                <a:latin typeface="Verdana"/>
              </a:rPr>
              <a:t>blauw licht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grotere energieinhoud dan </a:t>
            </a:r>
            <a:r>
              <a:rPr b="0" lang="nl-BE" sz="2000" spc="-1" strike="noStrike">
                <a:solidFill>
                  <a:srgbClr val="ff3300"/>
                </a:solidFill>
                <a:latin typeface="Verdana"/>
              </a:rPr>
              <a:t>rood licht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5"/>
          <p:cNvGrpSpPr/>
          <p:nvPr/>
        </p:nvGrpSpPr>
        <p:grpSpPr>
          <a:xfrm>
            <a:off x="7020000" y="3068640"/>
            <a:ext cx="1778040" cy="2332080"/>
            <a:chOff x="7020000" y="3068640"/>
            <a:chExt cx="1778040" cy="2332080"/>
          </a:xfrm>
        </p:grpSpPr>
        <p:pic>
          <p:nvPicPr>
            <p:cNvPr id="134" name="Picture 6" descr=""/>
            <p:cNvPicPr/>
            <p:nvPr/>
          </p:nvPicPr>
          <p:blipFill>
            <a:blip r:embed="rId2"/>
            <a:srcRect l="9268" t="8324" r="7893" b="0"/>
            <a:stretch/>
          </p:blipFill>
          <p:spPr>
            <a:xfrm>
              <a:off x="7020000" y="3068640"/>
              <a:ext cx="1778040" cy="1855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35" name="Text Box 7"/>
            <p:cNvSpPr/>
            <p:nvPr/>
          </p:nvSpPr>
          <p:spPr>
            <a:xfrm>
              <a:off x="7378560" y="4941720"/>
              <a:ext cx="115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0000"/>
                  </a:solidFill>
                  <a:latin typeface="Verdana"/>
                </a:rPr>
                <a:t>Planck 1858-194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AutoShape 8">
            <a:hlinkClick r:id="rId3" action="ppaction://hlinksldjump"/>
          </p:cNvPr>
          <p:cNvSpPr/>
          <p:nvPr/>
        </p:nvSpPr>
        <p:spPr>
          <a:xfrm>
            <a:off x="46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24000" y="4581360"/>
            <a:ext cx="158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nl-BE" sz="1800" spc="-1" strike="noStrike" baseline="-25000">
                <a:solidFill>
                  <a:srgbClr val="000000"/>
                </a:solidFill>
                <a:latin typeface="Verdana"/>
              </a:rPr>
              <a:t>(a)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&lt; E</a:t>
            </a:r>
            <a:r>
              <a:rPr b="0" lang="nl-BE" sz="1800" spc="-1" strike="noStrike" baseline="-25000">
                <a:solidFill>
                  <a:srgbClr val="000000"/>
                </a:solidFill>
                <a:latin typeface="Verdana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443640" y="76500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= 6,626.10-34 J.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95280" y="907920"/>
          <a:ext cx="8353440" cy="5211720"/>
        </p:xfrm>
        <a:graphic>
          <a:graphicData uri="http://schemas.openxmlformats.org/drawingml/2006/table">
            <a:tbl>
              <a:tblPr/>
              <a:tblGrid>
                <a:gridCol w="2160720"/>
                <a:gridCol w="6192720"/>
              </a:tblGrid>
              <a:tr h="5216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01 - 1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Werner </a:t>
                      </a: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Heisenberg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26):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zekerheidsbeginsel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m de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weg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an een elektron in een atoom zo exact mogelijk te kunnen beschrijven, moet op elk ogenblik </a:t>
                      </a:r>
                      <a:r>
                        <a:rPr b="0" i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lijktijdi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plaats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snelheid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an het elektron in het atoom gekend zij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isenberg stelt in zijn beginsel dat dit </a:t>
                      </a:r>
                      <a:r>
                        <a:rPr b="1" lang="nl-NL" sz="20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niet mogelijk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s!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fout op de plaats  vermenigvuldigd met de fout op de impuls is een constan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10"/>
          <p:cNvSpPr/>
          <p:nvPr/>
        </p:nvSpPr>
        <p:spPr>
          <a:xfrm>
            <a:off x="1468440" y="2851200"/>
            <a:ext cx="121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2017800" cy="23036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3"/>
              <p:cNvSpPr txBox="1"/>
              <p:nvPr/>
            </p:nvSpPr>
            <p:spPr>
              <a:xfrm>
                <a:off x="4500720" y="4287960"/>
                <a:ext cx="18716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x</m:t>
                        </m:r>
                        <m:r>
                          <m:t xml:space="preserve">⋅</m:t>
                        </m:r>
                        <m:r>
                          <m:t xml:space="preserve">mΔ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24000" y="476280"/>
            <a:ext cx="88200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anuit deze nieuwe inzichten kon het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elek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iet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langer beschouwd worde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als een deeltj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een baan rond de ke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ma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800" spc="-1" strike="noStrike">
                <a:solidFill>
                  <a:srgbClr val="3333cc"/>
                </a:solidFill>
                <a:latin typeface="Verdana"/>
              </a:rPr>
              <a:t>als een negatieve ladingswolk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, driedimensioneel uitgesmeerd rond die kern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ierdoor afbakening binnen het atoom van een </a:t>
            </a:r>
            <a:r>
              <a:rPr b="1" lang="nl-NL" sz="1800" spc="-1" strike="noStrike">
                <a:solidFill>
                  <a:srgbClr val="3333cc"/>
                </a:solidFill>
                <a:latin typeface="Verdana"/>
              </a:rPr>
              <a:t>onzekerheidsband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NL" sz="1800" spc="-1" strike="noStrike">
                <a:solidFill>
                  <a:srgbClr val="ff3300"/>
                </a:solidFill>
                <a:latin typeface="Verdana"/>
              </a:rPr>
              <a:t>in plaats van een elektronenbaan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voor het elektr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258920" y="4149720"/>
            <a:ext cx="6846840" cy="2300400"/>
            <a:chOff x="1258920" y="4149720"/>
            <a:chExt cx="6846840" cy="2300400"/>
          </a:xfrm>
        </p:grpSpPr>
        <p:pic>
          <p:nvPicPr>
            <p:cNvPr id="146" name="Picture 4" descr=""/>
            <p:cNvPicPr/>
            <p:nvPr/>
          </p:nvPicPr>
          <p:blipFill>
            <a:blip r:embed="rId1"/>
            <a:stretch/>
          </p:blipFill>
          <p:spPr>
            <a:xfrm>
              <a:off x="3235320" y="4149720"/>
              <a:ext cx="2711520" cy="23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AutoShape 5"/>
            <p:cNvSpPr/>
            <p:nvPr/>
          </p:nvSpPr>
          <p:spPr>
            <a:xfrm>
              <a:off x="3497400" y="4203720"/>
              <a:ext cx="2152440" cy="2152800"/>
            </a:xfrm>
            <a:custGeom>
              <a:avLst/>
              <a:gdLst>
                <a:gd name="textAreaLeft" fmla="*/ 315720 w 2152440"/>
                <a:gd name="textAreaRight" fmla="*/ 1836720 w 2152440"/>
                <a:gd name="textAreaTop" fmla="*/ 315720 h 2152800"/>
                <a:gd name="textAreaBottom" fmla="*/ 1837080 h 215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761" y="10800"/>
                  </a:moveTo>
                  <a:cubicBezTo>
                    <a:pt x="2761" y="15240"/>
                    <a:pt x="6360" y="18839"/>
                    <a:pt x="10800" y="18839"/>
                  </a:cubicBezTo>
                  <a:cubicBezTo>
                    <a:pt x="15240" y="18839"/>
                    <a:pt x="18839" y="15240"/>
                    <a:pt x="18839" y="10800"/>
                  </a:cubicBezTo>
                  <a:cubicBezTo>
                    <a:pt x="18839" y="6360"/>
                    <a:pt x="15240" y="2761"/>
                    <a:pt x="10800" y="2761"/>
                  </a:cubicBezTo>
                  <a:cubicBezTo>
                    <a:pt x="6360" y="2761"/>
                    <a:pt x="2761" y="6360"/>
                    <a:pt x="2761" y="10800"/>
                  </a:cubicBezTo>
                  <a:close/>
                </a:path>
              </a:pathLst>
            </a:custGeom>
            <a:solidFill>
              <a:srgbClr val="bbf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>
              <a:off x="3670200" y="4348440"/>
              <a:ext cx="1882800" cy="1885680"/>
            </a:xfrm>
            <a:prstGeom prst="flowChartConnector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5546880" y="5504040"/>
              <a:ext cx="730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6300720" y="5373720"/>
              <a:ext cx="1366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ff0000"/>
                  </a:solidFill>
                  <a:latin typeface="Verdana"/>
                </a:rPr>
                <a:t>Bohrse ba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5180040" y="4408560"/>
              <a:ext cx="914400" cy="0"/>
            </a:xfrm>
            <a:prstGeom prst="line">
              <a:avLst/>
            </a:prstGeom>
            <a:ln w="9360">
              <a:solidFill>
                <a:srgbClr val="75e5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5911920" y="4226040"/>
              <a:ext cx="2193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ccff"/>
                  </a:solidFill>
                  <a:latin typeface="Verdana"/>
                </a:rPr>
                <a:t>   </a:t>
              </a:r>
              <a:r>
                <a:rPr b="0" lang="nl-BE" sz="1200" spc="-1" strike="noStrike">
                  <a:solidFill>
                    <a:srgbClr val="00ccff"/>
                  </a:solidFill>
                  <a:latin typeface="Verdana"/>
                </a:rPr>
                <a:t>Onzekerheidsb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1"/>
            <p:cNvSpPr/>
            <p:nvPr/>
          </p:nvSpPr>
          <p:spPr>
            <a:xfrm flipH="1">
              <a:off x="3036600" y="4957920"/>
              <a:ext cx="615960" cy="0"/>
            </a:xfrm>
            <a:prstGeom prst="line">
              <a:avLst/>
            </a:prstGeom>
            <a:ln w="9360">
              <a:solidFill>
                <a:srgbClr val="0093b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1258920" y="4797360"/>
              <a:ext cx="1657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90b2"/>
                  </a:solidFill>
                  <a:latin typeface="Verdana"/>
                </a:rPr>
                <a:t> </a:t>
              </a:r>
              <a:r>
                <a:rPr b="0" lang="nl-BE" sz="1200" spc="-1" strike="noStrike">
                  <a:solidFill>
                    <a:srgbClr val="0090b2"/>
                  </a:solidFill>
                  <a:latin typeface="Verdana"/>
                </a:rPr>
                <a:t>golftoestand van elekt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8:48:51Z</dcterms:created>
  <dc:creator>Guido Story</dc:creator>
  <dc:description/>
  <dc:language>en-US</dc:language>
  <cp:lastModifiedBy>Microsoft Office-gebruiker</cp:lastModifiedBy>
  <dcterms:modified xsi:type="dcterms:W3CDTF">2020-09-01T05:03:28Z</dcterms:modified>
  <cp:revision>13</cp:revision>
  <dc:subject/>
  <dc:title>Dia 1</dc:title>
</cp:coreProperties>
</file>