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003-1A1B-4BC4-98F4-67FD3409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71C-0F41-4D46-AAD0-AD984C72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0B7-8E3D-42DA-B6D4-244A7602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536-9B88-4632-8217-C3B67FB9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2BA0-7E64-44FC-B9C4-94381B04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6F22-6453-4A57-B9EF-599E3DAB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EBFB-1FDF-47C9-9A53-E5002308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DFE1-E940-476E-9B64-E902E8B2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B9AF-2FC7-48EF-ACB1-EF251091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5309-E738-45E1-85C3-8F33E270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A66-983A-47C0-A5DF-5A0C1377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4DE-C85D-426D-8C14-C7DCEF9A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C8AE-03F5-4704-8DA6-4F96DD3B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12D1-84D5-48AB-8F0F-5F0CDDD6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EDCB-144F-4B9D-9F84-4A9D1389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0CE2-F6E3-4327-BA91-6B50BB06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BA6C-FE83-40A5-A613-6A9A146F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518-DE13-413E-96FF-EEDCE499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CA6-6B06-4174-9E77-8CB00CA0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AAB-44BF-469D-93EA-C27530F5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165-9F4A-45FD-8304-A2FDC247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314-1A46-4D9E-88ED-B8B897AA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3D8-D75C-4A49-8671-8327F323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B93-CCD4-4CE1-86FD-177A5974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A7C7-A990-4BCD-AE94-D7080231C0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65DD-014C-44AC-9E35-738377FEB28B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t.vu.nl/~jo/quantum/node19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Chemieprogramma&apos;s/Atomos/Schr&#246;dinger.exe" TargetMode="External"/><Relationship Id="rId2" Type="http://schemas.openxmlformats.org/officeDocument/2006/relationships/hyperlink" Target="file:///D:/Chemieprogramma&apos;s/Orbital%20Viewer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mchem.cubicsci.com/docs/movies/movieindex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B/econ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wx.prenhall.com/petrucci/medialib/media_portfolio/text_images/043_ElectronConfig.MOV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lektronenmantel Sommerfeld+ golfmechanisc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60280"/>
            <a:ext cx="8748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win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Schröding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 ontwikkeling van de zogenaamde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golf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                           of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kwantum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684360" y="1844640"/>
            <a:ext cx="1657080" cy="2600640"/>
            <a:chOff x="684360" y="1844640"/>
            <a:chExt cx="1657080" cy="26006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601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684360" y="407700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887 - 196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484360" y="5661000"/>
            <a:ext cx="6659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oor de wiskundefreaks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at.vu.nl/~jo/quantum/node19.html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217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hrödinger (19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kansberekening  (plaats waar elektronen zich </a:t>
            </a:r>
            <a:r>
              <a:rPr b="0" lang="nl-BE" sz="2800" spc="-1" strike="noStrike" u="sng">
                <a:solidFill>
                  <a:srgbClr val="333399"/>
                </a:solidFill>
                <a:uFillTx/>
                <a:latin typeface="Arial"/>
              </a:rPr>
              <a:t>kunne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bevi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tippen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rbitaal als ruimte waar een grote kans is elektronen aan te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-orbitaal, p-orbitaal, (d-orbitaal f-orbit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Chemieprogramma's\A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:\Chemieprogramma's\Orbital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902200" y="4581360"/>
          <a:ext cx="270216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2200" y="4581360"/>
                    <a:ext cx="2702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68360" y="476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schrödingervergelijking kon de </a:t>
            </a:r>
            <a:r>
              <a:rPr b="1" lang="nl-NL" sz="2400" spc="-1" strike="noStrike" u="sng">
                <a:solidFill>
                  <a:srgbClr val="3333cc"/>
                </a:solidFill>
                <a:uFillTx/>
                <a:latin typeface="Arial"/>
              </a:rPr>
              <a:t>waarschijnlijkhei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berekend word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elektro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een bepaalde plaa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ond de atoomker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 te tre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ödinger bakende zo gebieden af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90% ka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elektron aan te tre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trefkansgebieden noemde hij </a:t>
            </a:r>
            <a:r>
              <a:rPr b="1" lang="nl-NL" sz="2400" spc="-1" strike="noStrike">
                <a:solidFill>
                  <a:srgbClr val="0066ff"/>
                </a:solidFill>
                <a:latin typeface="Arial"/>
              </a:rPr>
              <a:t>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orbitaal is het ‘denkbeeldige’ gebied waarbinnen de waarschijnlijkheid om een elektron aan te treffen 90%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468360" y="3618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orbitaal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typisch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vor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f oriëntatie in de ruimte rond de 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s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olvormig : slechts één oriëntatie: geen opsplit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p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haltervormig: knooppunt in atoomker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3 oriëntaties in magnetisch veld : px, py en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d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f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bepaald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groot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een s-orbitaal van de K-schil is kleiner dan een s-orbitaal van de L-schil  :    1s   &lt;  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6205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218280"/>
            <a:ext cx="835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 volgende site kan je AVI-filmpjes bekijken van de 3D-structuren van bovenstaande orbital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mchem.cubicsci.com/docs/movies/movieindex.htm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84360" y="44280"/>
            <a:ext cx="792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dra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ken de elektronenwolk van e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e-at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lgens Bohr, volgens Sommerfeld en volgens de golfmechanica. Gebruik verschillende kleuren om de verschillende onderdelen te tekenen. Benoem die onderdelen in de overeenkomstige kleur.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5729040" y="2068560"/>
            <a:ext cx="3522600" cy="3535560"/>
            <a:chOff x="5729040" y="2068560"/>
            <a:chExt cx="3522600" cy="3535560"/>
          </a:xfrm>
        </p:grpSpPr>
        <p:grpSp>
          <p:nvGrpSpPr>
            <p:cNvPr id="171" name="Group 4"/>
            <p:cNvGrpSpPr/>
            <p:nvPr/>
          </p:nvGrpSpPr>
          <p:grpSpPr>
            <a:xfrm>
              <a:off x="5729040" y="2068560"/>
              <a:ext cx="3522600" cy="3037680"/>
              <a:chOff x="5729040" y="2068560"/>
              <a:chExt cx="3522600" cy="30376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5729040" y="2530800"/>
                <a:ext cx="2834640" cy="2575440"/>
                <a:chOff x="5729040" y="2530800"/>
                <a:chExt cx="2834640" cy="2575440"/>
              </a:xfrm>
            </p:grpSpPr>
            <p:sp>
              <p:nvSpPr>
                <p:cNvPr id="173" name="Freeform 6"/>
                <p:cNvSpPr/>
                <p:nvPr/>
              </p:nvSpPr>
              <p:spPr>
                <a:xfrm flipV="1" rot="2937000">
                  <a:off x="7320240" y="2676600"/>
                  <a:ext cx="809640" cy="142056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7"/>
                <p:cNvGrpSpPr/>
                <p:nvPr/>
              </p:nvGrpSpPr>
              <p:grpSpPr>
                <a:xfrm>
                  <a:off x="6719760" y="2530800"/>
                  <a:ext cx="906120" cy="2533680"/>
                  <a:chOff x="6719760" y="2530800"/>
                  <a:chExt cx="906120" cy="2533680"/>
                </a:xfrm>
              </p:grpSpPr>
              <p:sp>
                <p:nvSpPr>
                  <p:cNvPr id="175" name="Freeform 8"/>
                  <p:cNvSpPr/>
                  <p:nvPr/>
                </p:nvSpPr>
                <p:spPr>
                  <a:xfrm>
                    <a:off x="6719760" y="3792960"/>
                    <a:ext cx="906120" cy="12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"/>
                  <p:cNvSpPr/>
                  <p:nvPr/>
                </p:nvSpPr>
                <p:spPr>
                  <a:xfrm>
                    <a:off x="6719760" y="2530800"/>
                    <a:ext cx="9061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10"/>
                <p:cNvGrpSpPr/>
                <p:nvPr/>
              </p:nvGrpSpPr>
              <p:grpSpPr>
                <a:xfrm>
                  <a:off x="5729040" y="3399120"/>
                  <a:ext cx="2834640" cy="811080"/>
                  <a:chOff x="5729040" y="3399120"/>
                  <a:chExt cx="2834640" cy="811080"/>
                </a:xfrm>
              </p:grpSpPr>
              <p:sp>
                <p:nvSpPr>
                  <p:cNvPr id="178" name="Freeform 11"/>
                  <p:cNvSpPr/>
                  <p:nvPr/>
                </p:nvSpPr>
                <p:spPr>
                  <a:xfrm rot="5400000">
                    <a:off x="6034680" y="3093480"/>
                    <a:ext cx="81108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2"/>
                  <p:cNvSpPr/>
                  <p:nvPr/>
                </p:nvSpPr>
                <p:spPr>
                  <a:xfrm rot="5400000">
                    <a:off x="7452000" y="3098520"/>
                    <a:ext cx="811080" cy="14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Freeform 13"/>
                <p:cNvSpPr/>
                <p:nvPr/>
              </p:nvSpPr>
              <p:spPr>
                <a:xfrm rot="2463000">
                  <a:off x="6243480" y="3694320"/>
                  <a:ext cx="906120" cy="127008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14"/>
              <p:cNvSpPr/>
              <p:nvPr/>
            </p:nvSpPr>
            <p:spPr>
              <a:xfrm>
                <a:off x="6068880" y="2740320"/>
                <a:ext cx="2192040" cy="219528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9019"/>
                    </a:srgbClr>
                  </a:gs>
                  <a:gs pos="100000">
                    <a:srgbClr val="576869">
                      <a:alpha val="4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619680" y="3272040"/>
                <a:ext cx="1079280" cy="107964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>
                      <a:alpha val="52156"/>
                    </a:srgbClr>
                  </a:gs>
                  <a:gs pos="100000">
                    <a:srgbClr val="764718">
                      <a:alpha val="45098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7073640" y="3733920"/>
                <a:ext cx="179280" cy="17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5964120" y="27403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8"/>
              <p:cNvSpPr/>
              <p:nvPr/>
            </p:nvSpPr>
            <p:spPr>
              <a:xfrm>
                <a:off x="7554960" y="37357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9"/>
              <p:cNvSpPr/>
              <p:nvPr/>
            </p:nvSpPr>
            <p:spPr>
              <a:xfrm>
                <a:off x="8442360" y="354492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8047080" y="25257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1"/>
              <p:cNvSpPr/>
              <p:nvPr/>
            </p:nvSpPr>
            <p:spPr>
              <a:xfrm>
                <a:off x="6816600" y="20685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22"/>
            <p:cNvSpPr/>
            <p:nvPr/>
          </p:nvSpPr>
          <p:spPr>
            <a:xfrm>
              <a:off x="6156360" y="52358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golfmechanisch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79280" y="2565360"/>
            <a:ext cx="2448000" cy="3985200"/>
            <a:chOff x="179280" y="2565360"/>
            <a:chExt cx="2448000" cy="3985200"/>
          </a:xfrm>
        </p:grpSpPr>
        <p:grpSp>
          <p:nvGrpSpPr>
            <p:cNvPr id="191" name="Group 24"/>
            <p:cNvGrpSpPr/>
            <p:nvPr/>
          </p:nvGrpSpPr>
          <p:grpSpPr>
            <a:xfrm>
              <a:off x="179280" y="2565360"/>
              <a:ext cx="2303640" cy="2745000"/>
              <a:chOff x="179280" y="2565360"/>
              <a:chExt cx="2303640" cy="274500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179280" y="2565360"/>
                <a:ext cx="2303640" cy="2168640"/>
                <a:chOff x="179280" y="2565360"/>
                <a:chExt cx="2303640" cy="2168640"/>
              </a:xfrm>
            </p:grpSpPr>
            <p:sp>
              <p:nvSpPr>
                <p:cNvPr id="193" name="Oval 26"/>
                <p:cNvSpPr/>
                <p:nvPr/>
              </p:nvSpPr>
              <p:spPr>
                <a:xfrm>
                  <a:off x="898560" y="3214800"/>
                  <a:ext cx="863640" cy="865080"/>
                </a:xfrm>
                <a:prstGeom prst="ellipse">
                  <a:avLst/>
                </a:prstGeom>
                <a:noFill/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7"/>
                <p:cNvSpPr/>
                <p:nvPr/>
              </p:nvSpPr>
              <p:spPr>
                <a:xfrm>
                  <a:off x="250920" y="2565360"/>
                  <a:ext cx="2158920" cy="2158920"/>
                </a:xfrm>
                <a:prstGeom prst="ellipse">
                  <a:avLst/>
                </a:prstGeom>
                <a:noFill/>
                <a:ln w="2844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324000" y="436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"/>
                <p:cNvSpPr/>
                <p:nvPr/>
              </p:nvSpPr>
              <p:spPr>
                <a:xfrm>
                  <a:off x="1317600" y="3573360"/>
                  <a:ext cx="85680" cy="86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0"/>
                <p:cNvSpPr/>
                <p:nvPr/>
              </p:nvSpPr>
              <p:spPr>
                <a:xfrm>
                  <a:off x="755640" y="3070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31"/>
                <p:cNvSpPr/>
                <p:nvPr/>
              </p:nvSpPr>
              <p:spPr>
                <a:xfrm>
                  <a:off x="179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2"/>
                <p:cNvSpPr/>
                <p:nvPr/>
              </p:nvSpPr>
              <p:spPr>
                <a:xfrm>
                  <a:off x="179280" y="3718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33"/>
                <p:cNvSpPr/>
                <p:nvPr/>
              </p:nvSpPr>
              <p:spPr>
                <a:xfrm>
                  <a:off x="2411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34"/>
                <p:cNvSpPr/>
                <p:nvPr/>
              </p:nvSpPr>
              <p:spPr>
                <a:xfrm>
                  <a:off x="2340000" y="3718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5"/>
                <p:cNvSpPr/>
                <p:nvPr/>
              </p:nvSpPr>
              <p:spPr>
                <a:xfrm>
                  <a:off x="1332000" y="321300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6"/>
                <p:cNvSpPr/>
                <p:nvPr/>
              </p:nvSpPr>
              <p:spPr>
                <a:xfrm>
                  <a:off x="1547640" y="328608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7"/>
                <p:cNvSpPr/>
                <p:nvPr/>
              </p:nvSpPr>
              <p:spPr>
                <a:xfrm>
                  <a:off x="125892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8"/>
                <p:cNvSpPr/>
                <p:nvPr/>
              </p:nvSpPr>
              <p:spPr>
                <a:xfrm>
                  <a:off x="147636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9"/>
                <p:cNvSpPr/>
                <p:nvPr/>
              </p:nvSpPr>
              <p:spPr>
                <a:xfrm>
                  <a:off x="1187280" y="256536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40"/>
                <p:cNvSpPr/>
                <p:nvPr/>
              </p:nvSpPr>
              <p:spPr>
                <a:xfrm>
                  <a:off x="1332000" y="25653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41"/>
              <p:cNvSpPr/>
              <p:nvPr/>
            </p:nvSpPr>
            <p:spPr>
              <a:xfrm>
                <a:off x="826920" y="49420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Bo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42"/>
            <p:cNvSpPr/>
            <p:nvPr/>
          </p:nvSpPr>
          <p:spPr>
            <a:xfrm>
              <a:off x="250920" y="5727600"/>
              <a:ext cx="237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2987640" y="2565360"/>
            <a:ext cx="2952720" cy="3985200"/>
            <a:chOff x="2987640" y="2565360"/>
            <a:chExt cx="2952720" cy="3985200"/>
          </a:xfrm>
        </p:grpSpPr>
        <p:grpSp>
          <p:nvGrpSpPr>
            <p:cNvPr id="211" name="Group 44"/>
            <p:cNvGrpSpPr/>
            <p:nvPr/>
          </p:nvGrpSpPr>
          <p:grpSpPr>
            <a:xfrm>
              <a:off x="2987640" y="2565360"/>
              <a:ext cx="2448000" cy="2815920"/>
              <a:chOff x="2987640" y="2565360"/>
              <a:chExt cx="2448000" cy="2815920"/>
            </a:xfrm>
          </p:grpSpPr>
          <p:grpSp>
            <p:nvGrpSpPr>
              <p:cNvPr id="212" name="Group 45"/>
              <p:cNvGrpSpPr/>
              <p:nvPr/>
            </p:nvGrpSpPr>
            <p:grpSpPr>
              <a:xfrm>
                <a:off x="2987640" y="2565360"/>
                <a:ext cx="2160720" cy="2160000"/>
                <a:chOff x="2987640" y="2565360"/>
                <a:chExt cx="2160720" cy="2160000"/>
              </a:xfrm>
            </p:grpSpPr>
            <p:grpSp>
              <p:nvGrpSpPr>
                <p:cNvPr id="213" name="Group 46"/>
                <p:cNvGrpSpPr/>
                <p:nvPr/>
              </p:nvGrpSpPr>
              <p:grpSpPr>
                <a:xfrm>
                  <a:off x="2989440" y="2565360"/>
                  <a:ext cx="2158560" cy="2158200"/>
                  <a:chOff x="2989440" y="2565360"/>
                  <a:chExt cx="2158560" cy="215820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989440" y="2565360"/>
                    <a:ext cx="2158560" cy="2158200"/>
                    <a:chOff x="2989440" y="2565360"/>
                    <a:chExt cx="2158560" cy="2158200"/>
                  </a:xfrm>
                </p:grpSpPr>
                <p:sp>
                  <p:nvSpPr>
                    <p:cNvPr id="215" name="Oval 48"/>
                    <p:cNvSpPr/>
                    <p:nvPr/>
                  </p:nvSpPr>
                  <p:spPr>
                    <a:xfrm>
                      <a:off x="3636720" y="3214800"/>
                      <a:ext cx="864000" cy="863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99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49"/>
                    <p:cNvSpPr/>
                    <p:nvPr/>
                  </p:nvSpPr>
                  <p:spPr>
                    <a:xfrm>
                      <a:off x="3203640" y="2781720"/>
                      <a:ext cx="1728000" cy="1727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50"/>
                    <p:cNvSpPr/>
                    <p:nvPr/>
                  </p:nvSpPr>
                  <p:spPr>
                    <a:xfrm>
                      <a:off x="2989440" y="2565360"/>
                      <a:ext cx="2158560" cy="21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51"/>
                  <p:cNvSpPr/>
                  <p:nvPr/>
                </p:nvSpPr>
                <p:spPr>
                  <a:xfrm>
                    <a:off x="4054320" y="3632040"/>
                    <a:ext cx="86040" cy="853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Oval 52"/>
                <p:cNvSpPr/>
                <p:nvPr/>
              </p:nvSpPr>
              <p:spPr>
                <a:xfrm>
                  <a:off x="3924360" y="3212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53"/>
                <p:cNvSpPr/>
                <p:nvPr/>
              </p:nvSpPr>
              <p:spPr>
                <a:xfrm>
                  <a:off x="4932360" y="2997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54"/>
                <p:cNvSpPr/>
                <p:nvPr/>
              </p:nvSpPr>
              <p:spPr>
                <a:xfrm>
                  <a:off x="5076720" y="314136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55"/>
                <p:cNvSpPr/>
                <p:nvPr/>
              </p:nvSpPr>
              <p:spPr>
                <a:xfrm>
                  <a:off x="406728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56"/>
                <p:cNvSpPr/>
                <p:nvPr/>
              </p:nvSpPr>
              <p:spPr>
                <a:xfrm>
                  <a:off x="4140360" y="321444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57"/>
                <p:cNvSpPr/>
                <p:nvPr/>
              </p:nvSpPr>
              <p:spPr>
                <a:xfrm>
                  <a:off x="406728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58"/>
                <p:cNvSpPr/>
                <p:nvPr/>
              </p:nvSpPr>
              <p:spPr>
                <a:xfrm>
                  <a:off x="428472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59"/>
                <p:cNvSpPr/>
                <p:nvPr/>
              </p:nvSpPr>
              <p:spPr>
                <a:xfrm>
                  <a:off x="428472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60"/>
                <p:cNvSpPr/>
                <p:nvPr/>
              </p:nvSpPr>
              <p:spPr>
                <a:xfrm>
                  <a:off x="2987640" y="35017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1"/>
                <p:cNvSpPr/>
                <p:nvPr/>
              </p:nvSpPr>
              <p:spPr>
                <a:xfrm>
                  <a:off x="2987640" y="328572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2"/>
              <p:cNvSpPr/>
              <p:nvPr/>
            </p:nvSpPr>
            <p:spPr>
              <a:xfrm>
                <a:off x="3635280" y="3789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3"/>
              <p:cNvSpPr/>
              <p:nvPr/>
            </p:nvSpPr>
            <p:spPr>
              <a:xfrm>
                <a:off x="4356000" y="2854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4"/>
              <p:cNvSpPr/>
              <p:nvPr/>
            </p:nvSpPr>
            <p:spPr>
              <a:xfrm>
                <a:off x="4932360" y="3573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5"/>
              <p:cNvSpPr/>
              <p:nvPr/>
            </p:nvSpPr>
            <p:spPr>
              <a:xfrm>
                <a:off x="3348000" y="50130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Sommerf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66"/>
            <p:cNvSpPr/>
            <p:nvPr/>
          </p:nvSpPr>
          <p:spPr>
            <a:xfrm>
              <a:off x="3132000" y="5727600"/>
              <a:ext cx="2808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        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1s</a:t>
              </a:r>
              <a:r>
                <a:rPr b="1" lang="nl-BE" sz="1800" spc="-1" strike="noStrike" baseline="30000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2s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 2p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0920" y="4428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333399"/>
                </a:solidFill>
                <a:latin typeface="Verdana"/>
              </a:rPr>
              <a:t>ENERGIENIVEAUS – ELEKTRONENCONFIGURATIES  p.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24000" y="1628640"/>
            <a:ext cx="88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Elektronenconfiguratie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vertaling van atoommodel in 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symbolische voorstelling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van de verdeling van de elektrone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chi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ubnive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orbi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979640" y="4149720"/>
            <a:ext cx="69134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it elektron bevindt zich meestal (90% k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p de </a:t>
            </a:r>
            <a:r>
              <a:rPr b="0" lang="nl-BE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2de schil (L-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 een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p-sub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in een 2p</a:t>
            </a:r>
            <a:r>
              <a:rPr b="0" lang="nl-BE" sz="1800" spc="-1" strike="noStrike" baseline="-25000">
                <a:solidFill>
                  <a:srgbClr val="ff00ff"/>
                </a:solidFill>
                <a:latin typeface="Verdana"/>
                <a:ea typeface="Times New Roman"/>
              </a:rPr>
              <a:t>y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-orbitaal  </a:t>
            </a:r>
            <a:r>
              <a:rPr b="0" lang="nl-BE" sz="1200" spc="-1" strike="noStrike">
                <a:solidFill>
                  <a:srgbClr val="ff00ff"/>
                </a:solidFill>
                <a:latin typeface="Verdana"/>
                <a:ea typeface="Times New Roman"/>
              </a:rPr>
              <a:t>(geörienteerd volgens de y-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met een spin up </a:t>
            </a:r>
            <a:r>
              <a:rPr b="0" lang="nl-BE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611280" y="3789360"/>
            <a:ext cx="2222280" cy="2892600"/>
            <a:chOff x="611280" y="3789360"/>
            <a:chExt cx="2222280" cy="2892600"/>
          </a:xfrm>
        </p:grpSpPr>
        <p:pic>
          <p:nvPicPr>
            <p:cNvPr id="242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3789360"/>
              <a:ext cx="222228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005480" y="5095080"/>
              <a:ext cx="525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5c00"/>
                  </a:solidFill>
                  <a:latin typeface="Verdana"/>
                </a:rPr>
                <a:t>  </a:t>
              </a:r>
              <a:r>
                <a:rPr b="1" lang="nl-BE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84360" y="2453400"/>
            <a:ext cx="8316000" cy="1765800"/>
            <a:chOff x="684360" y="2453400"/>
            <a:chExt cx="8316000" cy="1765800"/>
          </a:xfrm>
        </p:grpSpPr>
        <p:grpSp>
          <p:nvGrpSpPr>
            <p:cNvPr id="245" name="Group 14"/>
            <p:cNvGrpSpPr/>
            <p:nvPr/>
          </p:nvGrpSpPr>
          <p:grpSpPr>
            <a:xfrm>
              <a:off x="684360" y="2453400"/>
              <a:ext cx="8316000" cy="1765800"/>
              <a:chOff x="684360" y="2453400"/>
              <a:chExt cx="8316000" cy="1765800"/>
            </a:xfrm>
          </p:grpSpPr>
          <p:sp>
            <p:nvSpPr>
              <p:cNvPr id="246" name="Rectangle 15"/>
              <p:cNvSpPr/>
              <p:nvPr/>
            </p:nvSpPr>
            <p:spPr>
              <a:xfrm>
                <a:off x="684360" y="2453400"/>
                <a:ext cx="79930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7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 :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1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f00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6"/>
              <p:cNvGrpSpPr/>
              <p:nvPr/>
            </p:nvGrpSpPr>
            <p:grpSpPr>
              <a:xfrm>
                <a:off x="4032360" y="3211560"/>
                <a:ext cx="4968000" cy="1007640"/>
                <a:chOff x="4032360" y="3211560"/>
                <a:chExt cx="4968000" cy="1007640"/>
              </a:xfrm>
            </p:grpSpPr>
            <p:sp>
              <p:nvSpPr>
                <p:cNvPr id="248" name="AutoShape 17"/>
                <p:cNvSpPr/>
                <p:nvPr/>
              </p:nvSpPr>
              <p:spPr>
                <a:xfrm>
                  <a:off x="7511760" y="3211560"/>
                  <a:ext cx="511200" cy="437760"/>
                </a:xfrm>
                <a:prstGeom prst="flowChartConnector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8"/>
                <p:cNvGrpSpPr/>
                <p:nvPr/>
              </p:nvGrpSpPr>
              <p:grpSpPr>
                <a:xfrm>
                  <a:off x="4032360" y="3211560"/>
                  <a:ext cx="4968000" cy="1007640"/>
                  <a:chOff x="4032360" y="3211560"/>
                  <a:chExt cx="4968000" cy="1007640"/>
                </a:xfrm>
              </p:grpSpPr>
              <p:sp>
                <p:nvSpPr>
                  <p:cNvPr id="250" name="Text Box 19"/>
                  <p:cNvSpPr/>
                  <p:nvPr/>
                </p:nvSpPr>
                <p:spPr>
                  <a:xfrm>
                    <a:off x="4032360" y="3211560"/>
                    <a:ext cx="83484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20"/>
                  <p:cNvSpPr/>
                  <p:nvPr/>
                </p:nvSpPr>
                <p:spPr>
                  <a:xfrm>
                    <a:off x="524088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21"/>
                  <p:cNvSpPr/>
                  <p:nvPr/>
                </p:nvSpPr>
                <p:spPr>
                  <a:xfrm>
                    <a:off x="6494040" y="321264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22"/>
                  <p:cNvSpPr/>
                  <p:nvPr/>
                </p:nvSpPr>
                <p:spPr>
                  <a:xfrm>
                    <a:off x="731520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23"/>
                  <p:cNvSpPr/>
                  <p:nvPr/>
                </p:nvSpPr>
                <p:spPr>
                  <a:xfrm>
                    <a:off x="816516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24"/>
                  <p:cNvSpPr/>
                  <p:nvPr/>
                </p:nvSpPr>
                <p:spPr>
                  <a:xfrm>
                    <a:off x="7757280" y="3713760"/>
                    <a:ext cx="0" cy="5054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6" name="Text Box 25"/>
            <p:cNvSpPr/>
            <p:nvPr/>
          </p:nvSpPr>
          <p:spPr>
            <a:xfrm>
              <a:off x="6659640" y="3645000"/>
              <a:ext cx="22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x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  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y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26028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SYMBOLISCHE VOORSTELLING VA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DE ELEKTRONENCONFIGU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125360"/>
            <a:ext cx="824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Wer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1484280"/>
            <a:ext cx="83516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rbitaal voorgesteld als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ode    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1s</a:t>
            </a:r>
            <a:r>
              <a:rPr b="1" lang="nl-B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1ste cijfer : hoofdniveau (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letter :   subniveau  (orbitaal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2de cijfer :  aantal elektronen in orbi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  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 :   1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3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eder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orbitaa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magnetisch niveau) voorgesteld door een 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vakj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, met één of twe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pijltjes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elektronen) : 2 gepaarde elektronen in een orbitaal hebben tegengestelde spin: pijltjes in tegengestelde z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1116000" y="5229360"/>
            <a:ext cx="6696000" cy="1015920"/>
            <a:chOff x="1116000" y="5229360"/>
            <a:chExt cx="6696000" cy="1015920"/>
          </a:xfrm>
        </p:grpSpPr>
        <p:sp>
          <p:nvSpPr>
            <p:cNvPr id="261" name="Text Box 6"/>
            <p:cNvSpPr/>
            <p:nvPr/>
          </p:nvSpPr>
          <p:spPr>
            <a:xfrm>
              <a:off x="139716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f76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25812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807360" y="5735880"/>
              <a:ext cx="817200" cy="50940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461052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443560" y="5734080"/>
              <a:ext cx="81720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67536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1116000" y="5229360"/>
              <a:ext cx="66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     </a:t>
              </a: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nl-BE" sz="1800" spc="-1" strike="noStrike">
                  <a:solidFill>
                    <a:srgbClr val="cc3300"/>
                  </a:solidFill>
                  <a:latin typeface="Verdana"/>
                </a:rPr>
                <a:t>3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3"/>
          <p:cNvSpPr/>
          <p:nvPr/>
        </p:nvSpPr>
        <p:spPr>
          <a:xfrm>
            <a:off x="250920" y="5229360"/>
            <a:ext cx="97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5092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Opvulling van de energie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24000" y="765000"/>
            <a:ext cx="882000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Regel van de minimal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e</a:t>
            </a:r>
            <a:r>
              <a:rPr b="0" lang="nl-BE" sz="20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i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grondtoestand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laagst mogelijk                    energie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erst opvulling orbitalen met lagere energie-inhoud, dan pas aanvulling orbitalen met hogere energie-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emotechnisch middeltje: </a:t>
            </a: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diagonaalregel </a:t>
            </a:r>
            <a:r>
              <a:rPr b="0" lang="nl-BE" sz="1000" spc="-1" strike="noStrike">
                <a:solidFill>
                  <a:srgbClr val="ff3300"/>
                </a:solidFill>
                <a:latin typeface="Verdana"/>
              </a:rPr>
              <a:t>(vanuit berekening energieë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50920" y="3500280"/>
            <a:ext cx="3600360" cy="3359160"/>
            <a:chOff x="250920" y="3500280"/>
            <a:chExt cx="3600360" cy="3359160"/>
          </a:xfrm>
        </p:grpSpPr>
        <p:grpSp>
          <p:nvGrpSpPr>
            <p:cNvPr id="272" name="Group 6"/>
            <p:cNvGrpSpPr/>
            <p:nvPr/>
          </p:nvGrpSpPr>
          <p:grpSpPr>
            <a:xfrm>
              <a:off x="250920" y="3500280"/>
              <a:ext cx="2832120" cy="2828880"/>
              <a:chOff x="250920" y="3500280"/>
              <a:chExt cx="2832120" cy="2828880"/>
            </a:xfrm>
          </p:grpSpPr>
          <p:pic>
            <p:nvPicPr>
              <p:cNvPr id="27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500280"/>
                <a:ext cx="2832120" cy="28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8"/>
              <p:cNvSpPr/>
              <p:nvPr/>
            </p:nvSpPr>
            <p:spPr>
              <a:xfrm>
                <a:off x="539640" y="3520800"/>
                <a:ext cx="67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800" spc="-1" strike="noStrike">
                    <a:solidFill>
                      <a:srgbClr val="000000"/>
                    </a:solidFill>
                    <a:latin typeface="Verdana"/>
                  </a:rPr>
                  <a:t>Energi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9"/>
            <p:cNvSpPr/>
            <p:nvPr/>
          </p:nvSpPr>
          <p:spPr>
            <a:xfrm>
              <a:off x="250920" y="6308640"/>
              <a:ext cx="360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Rangschikking van de schillen (links) en van de subniveaus (rechts) tot en met schilnummer 4 volgens energie-inhoud.</a:t>
              </a:r>
              <a:r>
                <a:rPr b="0" lang="nl-BE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427640" y="3573360"/>
            <a:ext cx="4032000" cy="3305160"/>
            <a:chOff x="4427640" y="3573360"/>
            <a:chExt cx="4032000" cy="33051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rcRect l="0" t="0" r="0" b="6997"/>
            <a:stretch/>
          </p:blipFill>
          <p:spPr>
            <a:xfrm>
              <a:off x="4500720" y="3573360"/>
              <a:ext cx="2603520" cy="28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427640" y="6327720"/>
              <a:ext cx="40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Hieruit kan de volgorde van opvullen van de subniveaus worden afgeleid:1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6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…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elements  elektronenconfigu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rcRect l="0" t="15977" r="20606" b="13054"/>
          <a:stretch/>
        </p:blipFill>
        <p:spPr>
          <a:xfrm>
            <a:off x="1193760" y="2016000"/>
            <a:ext cx="6402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1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cc"/>
                </a:solidFill>
                <a:latin typeface="Verdana"/>
              </a:rPr>
              <a:t>Magnetische 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885080" cy="41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611280" y="765000"/>
            <a:ext cx="748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 veld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opsplitsing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van s- ,p- , d- en f-subniveau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in resp.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 1, 3, 5 en 7 ‘magnetische’ niveaus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et dezelfde energie-inh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ieder magnetisch niveau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2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333360"/>
            <a:ext cx="8820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Spreiding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 bezetten subniveau met laagste energie-inhoud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aantal ongepaarde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in eenzelfde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ongepaard, tenzij niet anders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e niveaus in een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eerst 1 elektron, en dan pas double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ngepaarde elektronen steeds dezelfde spin (spin up </a:t>
            </a:r>
            <a:r>
              <a:rPr b="0" lang="nl-BE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Bvb. </a:t>
            </a: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7308720" y="476280"/>
            <a:ext cx="1519200" cy="2434680"/>
            <a:chOff x="7308720" y="476280"/>
            <a:chExt cx="1519200" cy="24346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7308720" y="476280"/>
              <a:ext cx="1519200" cy="20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7450200" y="254268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Verdana"/>
                </a:rPr>
                <a:t>1896-1997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50920" y="429264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:  1s²    2s²         2p²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1s²    2s²          2p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900000" y="4724280"/>
            <a:ext cx="2879640" cy="376200"/>
            <a:chOff x="900000" y="4724280"/>
            <a:chExt cx="2879640" cy="376200"/>
          </a:xfrm>
        </p:grpSpPr>
        <p:sp>
          <p:nvSpPr>
            <p:cNvPr id="287" name="Text Box 8"/>
            <p:cNvSpPr/>
            <p:nvPr/>
          </p:nvSpPr>
          <p:spPr>
            <a:xfrm>
              <a:off x="900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547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2268360" y="4724280"/>
              <a:ext cx="1511280" cy="376200"/>
              <a:chOff x="2268360" y="4724280"/>
              <a:chExt cx="1511280" cy="376200"/>
            </a:xfrm>
          </p:grpSpPr>
          <p:sp>
            <p:nvSpPr>
              <p:cNvPr id="290" name="Text Box 11"/>
              <p:cNvSpPr/>
              <p:nvPr/>
            </p:nvSpPr>
            <p:spPr>
              <a:xfrm>
                <a:off x="2268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2"/>
              <p:cNvSpPr/>
              <p:nvPr/>
            </p:nvSpPr>
            <p:spPr>
              <a:xfrm>
                <a:off x="277164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3"/>
              <p:cNvSpPr/>
              <p:nvPr/>
            </p:nvSpPr>
            <p:spPr>
              <a:xfrm>
                <a:off x="3276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14"/>
          <p:cNvGrpSpPr/>
          <p:nvPr/>
        </p:nvGrpSpPr>
        <p:grpSpPr>
          <a:xfrm>
            <a:off x="5796000" y="4724280"/>
            <a:ext cx="2879640" cy="376200"/>
            <a:chOff x="5796000" y="4724280"/>
            <a:chExt cx="2879640" cy="376200"/>
          </a:xfrm>
        </p:grpSpPr>
        <p:sp>
          <p:nvSpPr>
            <p:cNvPr id="294" name="Text Box 15"/>
            <p:cNvSpPr/>
            <p:nvPr/>
          </p:nvSpPr>
          <p:spPr>
            <a:xfrm>
              <a:off x="5796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6443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7"/>
            <p:cNvGrpSpPr/>
            <p:nvPr/>
          </p:nvGrpSpPr>
          <p:grpSpPr>
            <a:xfrm>
              <a:off x="7164360" y="4724280"/>
              <a:ext cx="1511280" cy="376200"/>
              <a:chOff x="7164360" y="4724280"/>
              <a:chExt cx="1511280" cy="376200"/>
            </a:xfrm>
          </p:grpSpPr>
          <p:sp>
            <p:nvSpPr>
              <p:cNvPr id="297" name="Text Box 18"/>
              <p:cNvSpPr/>
              <p:nvPr/>
            </p:nvSpPr>
            <p:spPr>
              <a:xfrm>
                <a:off x="7164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766764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8172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21"/>
          <p:cNvGrpSpPr/>
          <p:nvPr/>
        </p:nvGrpSpPr>
        <p:grpSpPr>
          <a:xfrm>
            <a:off x="7019640" y="4149720"/>
            <a:ext cx="1800360" cy="1584360"/>
            <a:chOff x="7019640" y="4149720"/>
            <a:chExt cx="1800360" cy="1584360"/>
          </a:xfrm>
        </p:grpSpPr>
        <p:sp>
          <p:nvSpPr>
            <p:cNvPr id="301" name="Line 22"/>
            <p:cNvSpPr/>
            <p:nvPr/>
          </p:nvSpPr>
          <p:spPr>
            <a:xfrm>
              <a:off x="716436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701964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333360"/>
            <a:ext cx="82087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Verbod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P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éénzelfde atoom kunnen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geen twee dezelfde elektronen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gevonden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verschillen in minstens één van 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vier karakteristie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ofd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ub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gnetisch niveau (orbi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Dus maximaal 2 elektronen in één orbita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2 elektronen in eenzelfde orbitaal hebben dus steeds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een verschillende spintoestand; ze vormen een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oublet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of gepaarde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948360" y="333360"/>
            <a:ext cx="2022120" cy="2909520"/>
            <a:chOff x="6948360" y="333360"/>
            <a:chExt cx="2022120" cy="2909520"/>
          </a:xfrm>
        </p:grpSpPr>
        <p:pic>
          <p:nvPicPr>
            <p:cNvPr id="305" name="Picture 4" descr=""/>
            <p:cNvPicPr/>
            <p:nvPr/>
          </p:nvPicPr>
          <p:blipFill>
            <a:blip r:embed="rId1"/>
            <a:stretch/>
          </p:blipFill>
          <p:spPr>
            <a:xfrm>
              <a:off x="6948360" y="333360"/>
              <a:ext cx="202212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7089120" y="28746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900 - 1958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79280" y="333360"/>
            <a:ext cx="8785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tabiliteitsre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epaalde elektronenconfiguraties geven extra stabi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edelgasconfigurat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np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octet)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(een zeer stabiele configuratie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volledig 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s stabieler d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half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s stabieler d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of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kele voorbeeld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twee halfbezette subniveaus i.p.v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3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c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een volledig bezet en een halfbezet subniveau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d :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volzet subniveau i.p.v.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erdana"/>
              </a:rPr>
              <a:t>Opmerking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ms gebruikt men bij het noteren van elektronenconfiguraties een </a:t>
            </a:r>
            <a:r>
              <a:rPr b="1" lang="nl-NL" sz="1200" spc="-1" strike="noStrike">
                <a:solidFill>
                  <a:srgbClr val="ff3300"/>
                </a:solidFill>
                <a:latin typeface="Verdana"/>
              </a:rPr>
              <a:t>vereenvoudigde notatiewijze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(zie bovenstaande voorbeelden). Men noteert daarbij tussen rechthoekige haakjes het symbool van het voorafgaandelijk edelgas gevolgd door de normale notatiewijze voor de overige bezette orbital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Voorbeeld :  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 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 18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4s</a:t>
            </a:r>
            <a:r>
              <a:rPr b="1" lang="nl-NL" sz="1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260280"/>
          <a:ext cx="7927920" cy="5943600"/>
        </p:xfrm>
        <a:graphic>
          <a:graphicData uri="http://schemas.openxmlformats.org/drawingml/2006/table">
            <a:tbl>
              <a:tblPr/>
              <a:tblGrid>
                <a:gridCol w="7927920"/>
              </a:tblGrid>
              <a:tr h="59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aantal interessante websites in verband met de elektronenconfigu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icktime moviefil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:werkwijze voor het opstellen van de elektronenconfiguratie in beeld (Eng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cwx.prenhall.com/petrucci/medialib/media_portfolio/text_images/043_ElectronConfig.MOV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bouwprincip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door willekeurig ergens op het scherm te klikken), vertrekkende bij het waterstofat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intro.chem.okstate.edu/WorkshopFolder/Electronconfnew.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actieve periodieke systemen (PSE)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lektronenconfiguratie met eventuele eigenschappen en dergelijke. Een paar voorbeelden hierva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chemlab.pc.maricopa.edu/perio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chemistrycoach.com/periodic_table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thecatalyst.org/m03ptabl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atste 2 geven een overzicht van wat er rond dit onderwerp op het web te vinden 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260280"/>
            <a:ext cx="867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 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vanadium 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 Schrijf de voorstelling van de elektronenconfiguratie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 Teken daaronder de voorstelling van de elektronenconfiguratie vi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het vakjesdiagram en nummer de elektronen volgens volgorde v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opvu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50920" y="2781360"/>
            <a:ext cx="8642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M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1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   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724360" y="4292640"/>
          <a:ext cx="1656000" cy="228600"/>
        </p:xfrm>
        <a:graphic>
          <a:graphicData uri="http://schemas.openxmlformats.org/drawingml/2006/table">
            <a:tbl>
              <a:tblPr/>
              <a:tblGrid>
                <a:gridCol w="331920"/>
                <a:gridCol w="331920"/>
                <a:gridCol w="271440"/>
                <a:gridCol w="388800"/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187280" y="429264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908000" y="4292640"/>
          <a:ext cx="331920" cy="23004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411280" y="4292640"/>
          <a:ext cx="1152720" cy="230040"/>
        </p:xfrm>
        <a:graphic>
          <a:graphicData uri="http://schemas.openxmlformats.org/drawingml/2006/table">
            <a:tbl>
              <a:tblPr/>
              <a:tblGrid>
                <a:gridCol w="38268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95640" y="428148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427640" y="4292640"/>
          <a:ext cx="1152360" cy="228600"/>
        </p:xfrm>
        <a:graphic>
          <a:graphicData uri="http://schemas.openxmlformats.org/drawingml/2006/table">
            <a:tbl>
              <a:tblPr/>
              <a:tblGrid>
                <a:gridCol w="38232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956720" y="4292640"/>
          <a:ext cx="331560" cy="228600"/>
        </p:xfrm>
        <a:graphic>
          <a:graphicData uri="http://schemas.openxmlformats.org/drawingml/2006/table">
            <a:tbl>
              <a:tblPr/>
              <a:tblGrid>
                <a:gridCol w="3315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2"/>
          <p:cNvSpPr/>
          <p:nvPr/>
        </p:nvSpPr>
        <p:spPr>
          <a:xfrm>
            <a:off x="755640" y="465300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1,2                 3, 4        5, 8      6, 9    7,10               11,12    13,16  14,17   15,18      21      22      23                                       19,2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3"/>
          <p:cNvSpPr/>
          <p:nvPr/>
        </p:nvSpPr>
        <p:spPr>
          <a:xfrm>
            <a:off x="324000" y="4221000"/>
            <a:ext cx="856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11280" y="404640"/>
            <a:ext cx="8137440" cy="58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magnes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rgo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allad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8366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g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16000" y="1989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Ar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16000" y="335772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2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Fe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36572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Fe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2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32000" y="573408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Pd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55640" y="620640"/>
            <a:ext cx="727236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chr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zilv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32000" y="126828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4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Cr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58920" y="321300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7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Ag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5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404640"/>
            <a:ext cx="7704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Verdana"/>
              </a:rPr>
              <a:t>Overzicht van de elektronenconfiguratie van de atomen in de grond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</a:rPr>
              <a:t>Zie boek p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50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.3 VERBAND ELEKTRONENCONFIGURATIE E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OPBOUW VAN HET PERIODIEK 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484280"/>
            <a:ext cx="835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angschikking van elementen vol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toom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antal prot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hemisch gedrag van de elementen hangt af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antal elektronen van buitenste sch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lementen met eenzelfde aantal valentie-elektronen hebben analoge eig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Hierdo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massa en eigensc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elektronenconfigu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559320" y="2719440"/>
            <a:ext cx="202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6586560" y="1116000"/>
            <a:ext cx="2449440" cy="18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6794640" y="2971800"/>
          <a:ext cx="2025360" cy="457200"/>
        </p:xfrm>
        <a:graphic>
          <a:graphicData uri="http://schemas.openxmlformats.org/drawingml/2006/table">
            <a:tbl>
              <a:tblPr/>
              <a:tblGrid>
                <a:gridCol w="202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itri Mendelejev (1834- 19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eeuwigd op een Russische postzeg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189000"/>
            <a:ext cx="84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De spin van een elektron (1912)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nl-BE" sz="2000" spc="-1" strike="noStrike">
                <a:solidFill>
                  <a:srgbClr val="333399"/>
                </a:solidFill>
                <a:latin typeface="Arial"/>
              </a:rPr>
              <a:t>maximaal 2 elektronen per magnetisch nive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14200" y="3241800"/>
            <a:ext cx="536580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11"/>
          <p:cNvGrpSpPr/>
          <p:nvPr/>
        </p:nvGrpSpPr>
        <p:grpSpPr>
          <a:xfrm>
            <a:off x="5724360" y="2997360"/>
            <a:ext cx="3240000" cy="2620080"/>
            <a:chOff x="5724360" y="2997360"/>
            <a:chExt cx="3240000" cy="2620080"/>
          </a:xfrm>
        </p:grpSpPr>
        <p:pic>
          <p:nvPicPr>
            <p:cNvPr id="104" name="Picture 12" descr=""/>
            <p:cNvPicPr/>
            <p:nvPr/>
          </p:nvPicPr>
          <p:blipFill>
            <a:blip r:embed="rId2"/>
            <a:srcRect l="0" t="0" r="0" b="13751"/>
            <a:stretch/>
          </p:blipFill>
          <p:spPr>
            <a:xfrm>
              <a:off x="5724360" y="2997360"/>
              <a:ext cx="3095640" cy="156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7524720" y="4557600"/>
              <a:ext cx="1439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down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724360" y="4557600"/>
              <a:ext cx="187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tegen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up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543640" y="5877000"/>
            <a:ext cx="3600360" cy="368280"/>
            <a:chOff x="5543640" y="5877000"/>
            <a:chExt cx="3600360" cy="368280"/>
          </a:xfrm>
        </p:grpSpPr>
        <p:sp>
          <p:nvSpPr>
            <p:cNvPr id="108" name="Text Box 16"/>
            <p:cNvSpPr/>
            <p:nvPr/>
          </p:nvSpPr>
          <p:spPr>
            <a:xfrm>
              <a:off x="5543640" y="587700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6264360" y="587700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doublet = elektronenpa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543640" y="6365880"/>
            <a:ext cx="3600360" cy="368280"/>
            <a:chOff x="5543640" y="6365880"/>
            <a:chExt cx="3600360" cy="368280"/>
          </a:xfrm>
        </p:grpSpPr>
        <p:sp>
          <p:nvSpPr>
            <p:cNvPr id="111" name="Text Box 22"/>
            <p:cNvSpPr/>
            <p:nvPr/>
          </p:nvSpPr>
          <p:spPr>
            <a:xfrm>
              <a:off x="5543640" y="636588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64360" y="6365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ongepaard elek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gatieve ladingen stoten elkaar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extra </a:t>
            </a:r>
            <a:r>
              <a:rPr b="0" lang="nl-BE" sz="2400" spc="-1" strike="noStrike">
                <a:solidFill>
                  <a:srgbClr val="333399"/>
                </a:solidFill>
                <a:latin typeface="Arial"/>
              </a:rPr>
              <a:t>magnetisch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kracht compenseert echter die afstotingskr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lektronen draaien (tollen – to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) rond hun eig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ierdoor ontstaan kleine magne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81000"/>
            <a:ext cx="849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toommodellen, met elektronen op banen rond de kern, 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voldoen om tal van eigenschappen te verk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missiespectra,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naloge eigenschapp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x. aantal bindings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Maar....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Bewegende elektrische ladingen =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elektrische st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Schijfvormige atomen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i.p.v. bo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Ruimtelijke ordening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van bindingspartners rond een atoom in een 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aaro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is een verdere verfijning van atoommodel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Verdana"/>
              </a:rPr>
              <a:t>Het golfmechanisch atoommode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68440" y="277488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404640"/>
          <a:ext cx="8280360" cy="5851800"/>
        </p:xfrm>
        <a:graphic>
          <a:graphicData uri="http://schemas.openxmlformats.org/drawingml/2006/table">
            <a:tbl>
              <a:tblPr/>
              <a:tblGrid>
                <a:gridCol w="2590920"/>
                <a:gridCol w="5689440"/>
              </a:tblGrid>
              <a:tr h="58518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92 - 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Louis de Brogl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924):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ualiteitsprinci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wegend elektron hee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eltjes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é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olf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gekenmerkt do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golflengte</a:t>
                      </a:r>
                      <a:r>
                        <a:rPr b="0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or combinatie van de wetten van Einstein (E=m.c²) en Planck (E=h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 het verband tussen golflengte en frequentie (v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‘</a:t>
                      </a:r>
                      <a:r>
                        <a:rPr b="1" lang="nl-NL" sz="2000" spc="-1" strike="noStrike" u="sng">
                          <a:solidFill>
                            <a:srgbClr val="3333cc"/>
                          </a:solidFill>
                          <a:uFillTx/>
                          <a:latin typeface="Verdana"/>
                          <a:ea typeface="Times New Roman"/>
                        </a:rPr>
                        <a:t>de Broglierelat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’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3516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32360" y="522936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Broglie (19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lektronen vertonen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(net zoals lich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zowel een deeltjes als een golf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periment met cd en laser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68360" y="2417760"/>
            <a:ext cx="4788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4464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3"/>
          <p:cNvSpPr/>
          <p:nvPr/>
        </p:nvSpPr>
        <p:spPr>
          <a:xfrm>
            <a:off x="250920" y="18900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Energie van 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4000" y="765000"/>
            <a:ext cx="7488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et van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Planck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E = h.f = </a:t>
            </a:r>
            <a:r>
              <a:rPr b="1" lang="nl-BE" sz="2000" spc="-1" strike="noStrike" u="sng">
                <a:solidFill>
                  <a:srgbClr val="000000"/>
                </a:solidFill>
                <a:uFillTx/>
                <a:latin typeface="Verdana"/>
              </a:rPr>
              <a:t>h.c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omgekeerd evenredig met golflengte 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recht evenredig met frequenti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66ff"/>
                </a:solidFill>
                <a:latin typeface="Verdana"/>
              </a:rPr>
              <a:t>blauw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grotere energieinhoud dan </a:t>
            </a:r>
            <a:r>
              <a:rPr b="0" lang="nl-BE" sz="2000" spc="-1" strike="noStrike">
                <a:solidFill>
                  <a:srgbClr val="ff3300"/>
                </a:solidFill>
                <a:latin typeface="Verdana"/>
              </a:rPr>
              <a:t>rood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7020000" y="3068640"/>
            <a:ext cx="1778040" cy="2332080"/>
            <a:chOff x="7020000" y="3068640"/>
            <a:chExt cx="1778040" cy="2332080"/>
          </a:xfrm>
        </p:grpSpPr>
        <p:pic>
          <p:nvPicPr>
            <p:cNvPr id="134" name="Picture 6" descr=""/>
            <p:cNvPicPr/>
            <p:nvPr/>
          </p:nvPicPr>
          <p:blipFill>
            <a:blip r:embed="rId2"/>
            <a:srcRect l="9268" t="8324" r="7893" b="0"/>
            <a:stretch/>
          </p:blipFill>
          <p:spPr>
            <a:xfrm>
              <a:off x="7020000" y="3068640"/>
              <a:ext cx="1778040" cy="185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Text Box 7"/>
            <p:cNvSpPr/>
            <p:nvPr/>
          </p:nvSpPr>
          <p:spPr>
            <a:xfrm>
              <a:off x="7378560" y="4941720"/>
              <a:ext cx="115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0000"/>
                  </a:solidFill>
                  <a:latin typeface="Verdana"/>
                </a:rPr>
                <a:t>Planck 1858-19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4581360"/>
            <a:ext cx="15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a)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lt; 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6,626.10-34 J.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907920"/>
          <a:ext cx="8353440" cy="521172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5216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01 -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Werner </a:t>
                      </a: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Heisenberg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26):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zekerheidsbeginsel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m de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een elektron in een atoom zo exact mogelijk te kunnen beschrijven, moet op elk ogenblik </a:t>
                      </a: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lijktijdi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laats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het elektron in het atoom gekend zij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senberg stelt in zijn beginsel dat dit </a:t>
                      </a: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niet mogelijk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ut op de plaats  vermenigvuldigd met de fout op de impuls is een consta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0"/>
          <p:cNvSpPr/>
          <p:nvPr/>
        </p:nvSpPr>
        <p:spPr>
          <a:xfrm>
            <a:off x="1468440" y="285120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1780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500720" y="4287960"/>
                <a:ext cx="1871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⋅</m:t>
                        </m:r>
                        <m:r>
                          <m:t xml:space="preserve">m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476280"/>
            <a:ext cx="88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anuit deze nieuwe inzichten kon het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langer beschouwd word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ls een deeltj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een baan rond de k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als een negatieve ladingswolk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, driedimensioneel uitgesmeerd rond die ker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ierdoor afbakening binnen het atoom van een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onzekerheidsband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800" spc="-1" strike="noStrike">
                <a:solidFill>
                  <a:srgbClr val="ff3300"/>
                </a:solidFill>
                <a:latin typeface="Verdana"/>
              </a:rPr>
              <a:t>in plaats van een elektronenbaa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or het elek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58920" y="4149720"/>
            <a:ext cx="6846840" cy="2300400"/>
            <a:chOff x="1258920" y="4149720"/>
            <a:chExt cx="6846840" cy="230040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3235320" y="4149720"/>
              <a:ext cx="271152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5"/>
            <p:cNvSpPr/>
            <p:nvPr/>
          </p:nvSpPr>
          <p:spPr>
            <a:xfrm>
              <a:off x="3497400" y="4203720"/>
              <a:ext cx="2152440" cy="2152800"/>
            </a:xfrm>
            <a:custGeom>
              <a:avLst/>
              <a:gdLst>
                <a:gd name="textAreaLeft" fmla="*/ 315720 w 2152440"/>
                <a:gd name="textAreaRight" fmla="*/ 1836720 w 2152440"/>
                <a:gd name="textAreaTop" fmla="*/ 315720 h 2152800"/>
                <a:gd name="textAreaBottom" fmla="*/ 1837080 h 21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61" y="10800"/>
                  </a:moveTo>
                  <a:cubicBezTo>
                    <a:pt x="2761" y="15240"/>
                    <a:pt x="6360" y="18839"/>
                    <a:pt x="10800" y="18839"/>
                  </a:cubicBezTo>
                  <a:cubicBezTo>
                    <a:pt x="15240" y="18839"/>
                    <a:pt x="18839" y="15240"/>
                    <a:pt x="18839" y="10800"/>
                  </a:cubicBezTo>
                  <a:cubicBezTo>
                    <a:pt x="18839" y="6360"/>
                    <a:pt x="15240" y="2761"/>
                    <a:pt x="10800" y="2761"/>
                  </a:cubicBezTo>
                  <a:cubicBezTo>
                    <a:pt x="6360" y="2761"/>
                    <a:pt x="2761" y="6360"/>
                    <a:pt x="2761" y="10800"/>
                  </a:cubicBezTo>
                  <a:close/>
                </a:path>
              </a:pathLst>
            </a:custGeom>
            <a:solidFill>
              <a:srgbClr val="bb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670200" y="4348440"/>
              <a:ext cx="1882800" cy="1885680"/>
            </a:xfrm>
            <a:prstGeom prst="flowChartConnector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546880" y="5504040"/>
              <a:ext cx="730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6300720" y="5373720"/>
              <a:ext cx="13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ff0000"/>
                  </a:solidFill>
                  <a:latin typeface="Verdana"/>
                </a:rPr>
                <a:t>Bohrse 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5180040" y="4408560"/>
              <a:ext cx="914400" cy="0"/>
            </a:xfrm>
            <a:prstGeom prst="line">
              <a:avLst/>
            </a:prstGeom>
            <a:ln w="9360">
              <a:solidFill>
                <a:srgbClr val="75e5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911920" y="4226040"/>
              <a:ext cx="2193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   </a:t>
              </a: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Onzekerheid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3036600" y="4957920"/>
              <a:ext cx="615960" cy="0"/>
            </a:xfrm>
            <a:prstGeom prst="line">
              <a:avLst/>
            </a:prstGeom>
            <a:ln w="9360">
              <a:solidFill>
                <a:srgbClr val="0093b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258920" y="4797360"/>
              <a:ext cx="1657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 </a:t>
              </a: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golftoestand van elek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48:51Z</dcterms:created>
  <dc:creator>Guido Story</dc:creator>
  <dc:description/>
  <dc:language>en-US</dc:language>
  <cp:lastModifiedBy>Microsoft Office-gebruiker</cp:lastModifiedBy>
  <dcterms:modified xsi:type="dcterms:W3CDTF">2020-09-01T05:03:28Z</dcterms:modified>
  <cp:revision>13</cp:revision>
  <dc:subject/>
  <dc:title>Dia 1</dc:title>
</cp:coreProperties>
</file>