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9C01-31E9-4206-B77E-05C3FCDD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852-79DD-4A95-A6CC-94E89EA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5D2-6246-4937-95C4-0C9E6046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68B-FACB-45CF-8CB7-F62FAFE1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12C-6087-4DB9-AA82-BD906950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CC8C-BD35-4CA0-B4E8-F50D382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B25-20A7-4913-B174-471B04EE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7DF-3D96-4AE5-BDCF-ED60EEA9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9A4-13E0-4F7B-9DB2-791A823E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405-B248-4AB5-83E8-201E88B2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7006-E8E7-414C-99A6-759EB87F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C06-7718-4EBC-95A6-29D494C9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20B5-5F6F-46C5-88F7-FC96F987078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8351"/>
              <a:gd name="adj2" fmla="val 2702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je in de spiegel kijkt ze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81379"/>
              <a:gd name="adj2" fmla="val 111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t je tong uitste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niet eindeloos poseren voor de goede fo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4437000"/>
            <a:ext cx="3960720" cy="147024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het natuurlijk uiterlijk of innerlijk zien. Voor het uiterlijk maak je selfies, maar maakt het je innerlijk er zekerder o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1022400" y="2027160"/>
            <a:ext cx="252108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916360" cy="1289160"/>
          </a:xfrm>
          <a:prstGeom prst="wedgeRoundRectCallout">
            <a:avLst>
              <a:gd name="adj1" fmla="val 7874"/>
              <a:gd name="adj2" fmla="val 1187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mige oudere vrouwen laten hun lichaam verbouw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3456000" cy="1513080"/>
          </a:xfrm>
          <a:prstGeom prst="wedgeRoundRectCallout">
            <a:avLst>
              <a:gd name="adj1" fmla="val -120254"/>
              <a:gd name="adj2" fmla="val -76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zit je geluk eigenlijk i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at een pronken met een mooi lichaam? Eindeloos vissen naar complimentj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-6480" y="4815000"/>
            <a:ext cx="1265400" cy="2043000"/>
          </a:xfrm>
          <a:prstGeom prst="wedgeRoundRectCallout">
            <a:avLst>
              <a:gd name="adj1" fmla="val 49662"/>
              <a:gd name="adj2" fmla="val -106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om eigenlijk? Is dat allemaal het risico waar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Schoonheid en schoonheidsidea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1" descr=""/>
          <p:cNvPicPr/>
          <p:nvPr/>
        </p:nvPicPr>
        <p:blipFill>
          <a:blip r:embed="rId3"/>
          <a:stretch/>
        </p:blipFill>
        <p:spPr>
          <a:xfrm>
            <a:off x="3692520" y="0"/>
            <a:ext cx="54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12536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bben we soms oogkleppen op? Net zoals paarden? Dan zien we een heleboel gewoon niet. Eigenlijk kijken we te veel naar het uiterlij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8"/>
          <p:cNvSpPr/>
          <p:nvPr/>
        </p:nvSpPr>
        <p:spPr>
          <a:xfrm>
            <a:off x="5148360" y="5950080"/>
            <a:ext cx="37591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8-21T14:01:58Z</dcterms:modified>
  <cp:revision>348</cp:revision>
  <dc:subject/>
  <dc:title>Dia 1</dc:title>
</cp:coreProperties>
</file>