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C96-C77D-40B7-B5C2-2944AC464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42ED-5728-428F-91B1-1C6BCA90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04D4-0EED-4914-9CC1-8BB53B9B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663-3E9C-412E-80C1-1FA9D244E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E6D4-D58E-4FFC-98D4-BB688608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CD11-BFF3-4C8B-99E7-8CB0FD45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CD4-8BCC-4519-9352-9A3C5C82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A74-6021-4E84-BF09-BB9A2739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1F47-16D5-4734-ADB3-0FA1484C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9CA-C10B-44B8-A491-3D090A54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1CBB-7F02-4F00-890B-D290B5F3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6D3-5C0E-4AA6-9A09-62CCD733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7C4C-DB5C-491F-A933-175C5E167C66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nl/url?sa=i&amp;rct=j&amp;q=&amp;esrc=s&amp;frm=1&amp;source=images&amp;cd=&amp;cad=rja&amp;docid=6bmbnCauUZAEGM&amp;tbnid=7hTpWPUKYpSR0M:&amp;ved=0CAUQjRw&amp;url=http://animatiewinkel.crazy4us.com/t87-zodiac-anmaties&amp;ei=yhCiUaqJD4SQ0AWQ94BY&amp;psig=AFQjCNEDGjBJIlwHOfXRGRSGYZxY8df-bA&amp;ust=1369661995591704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aao6u_gjZRfPJM&amp;tbnid=WmBYVlpDn8LGtM:&amp;ved=0CAUQjRw&amp;url=http://www.alexmandossian.com/2009/04/16/got-affiliate-signup-access-on-your-blog/&amp;ei=Z0FYUYr0EqnE0QWtjYHICA&amp;bvm=bv.44442042,d.d2k&amp;psig=AFQjCNHR3D0gvLArmibrXOD1byha8Vi_aA&amp;ust=1364824795160493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fbeelding 3" descr=""/>
          <p:cNvPicPr/>
          <p:nvPr/>
        </p:nvPicPr>
        <p:blipFill>
          <a:blip r:embed="rId1"/>
          <a:stretch/>
        </p:blipFill>
        <p:spPr>
          <a:xfrm>
            <a:off x="4321080" y="-2052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kstvak 2"/>
          <p:cNvSpPr/>
          <p:nvPr/>
        </p:nvSpPr>
        <p:spPr>
          <a:xfrm>
            <a:off x="407880" y="262080"/>
            <a:ext cx="3816360" cy="19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  <a:ea typeface="Arial"/>
              </a:rPr>
              <a:t>Je mensbeeld en de invloed op je levensstij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kstvak 5"/>
          <p:cNvSpPr/>
          <p:nvPr/>
        </p:nvSpPr>
        <p:spPr>
          <a:xfrm>
            <a:off x="250920" y="6448320"/>
            <a:ext cx="2303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kstvak 7"/>
          <p:cNvSpPr/>
          <p:nvPr/>
        </p:nvSpPr>
        <p:spPr>
          <a:xfrm>
            <a:off x="6308640" y="6245280"/>
            <a:ext cx="2303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tijd goed spe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8"/>
          <p:cNvSpPr/>
          <p:nvPr/>
        </p:nvSpPr>
        <p:spPr>
          <a:xfrm>
            <a:off x="604800" y="2924280"/>
            <a:ext cx="2427480" cy="2952720"/>
          </a:xfrm>
          <a:prstGeom prst="wedgeRoundRectCallout">
            <a:avLst>
              <a:gd name="adj1" fmla="val 165675"/>
              <a:gd name="adj2" fmla="val -4730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rry…. Maar ik wil nou even iets anders dan voetbal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il videoclips en een quiz op socrative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5500800" y="7920"/>
            <a:ext cx="3624120" cy="2717640"/>
          </a:xfrm>
          <a:prstGeom prst="rect">
            <a:avLst/>
          </a:prstGeom>
          <a:ln w="0">
            <a:noFill/>
          </a:ln>
        </p:spPr>
      </p:pic>
      <p:sp>
        <p:nvSpPr>
          <p:cNvPr id="47" name="Toelichting met afgeronde rechthoek 3"/>
          <p:cNvSpPr/>
          <p:nvPr/>
        </p:nvSpPr>
        <p:spPr>
          <a:xfrm>
            <a:off x="144360" y="136440"/>
            <a:ext cx="1943280" cy="1224000"/>
          </a:xfrm>
          <a:prstGeom prst="wedgeRoundRectCallout">
            <a:avLst>
              <a:gd name="adj1" fmla="val -8351"/>
              <a:gd name="adj2" fmla="val 27023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sbeeld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oelichting met afgeronde rechthoek 4"/>
          <p:cNvSpPr/>
          <p:nvPr/>
        </p:nvSpPr>
        <p:spPr>
          <a:xfrm>
            <a:off x="1146240" y="1628640"/>
            <a:ext cx="1625400" cy="1382760"/>
          </a:xfrm>
          <a:prstGeom prst="wedgeRoundRectCallout">
            <a:avLst>
              <a:gd name="adj1" fmla="val -23004"/>
              <a:gd name="adj2" fmla="val 14879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je in de spiegel kijkt zek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oelichting met afgeronde rechthoek 5"/>
          <p:cNvSpPr/>
          <p:nvPr/>
        </p:nvSpPr>
        <p:spPr>
          <a:xfrm>
            <a:off x="2987640" y="1360440"/>
            <a:ext cx="2448000" cy="1852560"/>
          </a:xfrm>
          <a:prstGeom prst="wedgeRoundRectCallout">
            <a:avLst>
              <a:gd name="adj1" fmla="val -81379"/>
              <a:gd name="adj2" fmla="val 11186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t je tong uitste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niet eindeloos poseren voor de goede fo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oelichting met afgeronde rechthoek 7"/>
          <p:cNvSpPr/>
          <p:nvPr/>
        </p:nvSpPr>
        <p:spPr>
          <a:xfrm>
            <a:off x="4427640" y="4437000"/>
            <a:ext cx="3960720" cy="1470240"/>
          </a:xfrm>
          <a:prstGeom prst="wedgeRoundRectCallout">
            <a:avLst>
              <a:gd name="adj1" fmla="val -90787"/>
              <a:gd name="adj2" fmla="val -1856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Je kunt het natuurlijk uiterlijk of innerlijk zien. Voor het uiterlijk maak je selfies, maar maakt het je innerlijk er zekerder op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kstvak 8"/>
          <p:cNvSpPr/>
          <p:nvPr/>
        </p:nvSpPr>
        <p:spPr>
          <a:xfrm>
            <a:off x="7242120" y="2941560"/>
            <a:ext cx="1655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en vide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i877.photobucket.com/albums/ab333/Punkys_animaties/zodiac/mu9zt3.gif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24000" y="3860640"/>
            <a:ext cx="2808000" cy="2808360"/>
          </a:xfrm>
          <a:prstGeom prst="rect">
            <a:avLst/>
          </a:prstGeom>
          <a:ln w="0">
            <a:noFill/>
          </a:ln>
        </p:spPr>
      </p:pic>
      <p:sp>
        <p:nvSpPr>
          <p:cNvPr id="53" name="Toelichting met afgeronde rechthoek 11"/>
          <p:cNvSpPr/>
          <p:nvPr/>
        </p:nvSpPr>
        <p:spPr>
          <a:xfrm>
            <a:off x="3689280" y="117360"/>
            <a:ext cx="1728720" cy="1079640"/>
          </a:xfrm>
          <a:prstGeom prst="wedgeRoundRectCallout">
            <a:avLst>
              <a:gd name="adj1" fmla="val 116898"/>
              <a:gd name="adj2" fmla="val 2400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Hmmm… ik duik liever weer onder water…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www.alexmandossian.com/wp-content/uploads/2009/04/alex-point-up1.jpg">
            <a:hlinkClick r:id="rId1"/>
          </p:cNvPr>
          <p:cNvPicPr/>
          <p:nvPr/>
        </p:nvPicPr>
        <p:blipFill>
          <a:blip r:embed="rId2"/>
          <a:srcRect l="0" t="0" r="0" b="9403"/>
          <a:stretch/>
        </p:blipFill>
        <p:spPr>
          <a:xfrm>
            <a:off x="1022400" y="2027160"/>
            <a:ext cx="2521080" cy="48308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4"/>
          <p:cNvSpPr/>
          <p:nvPr/>
        </p:nvSpPr>
        <p:spPr>
          <a:xfrm>
            <a:off x="0" y="0"/>
            <a:ext cx="2916360" cy="1289160"/>
          </a:xfrm>
          <a:prstGeom prst="wedgeRoundRectCallout">
            <a:avLst>
              <a:gd name="adj1" fmla="val 7874"/>
              <a:gd name="adj2" fmla="val 11872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mige oudere vrouwen laten hun lichaam verbouw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5"/>
          <p:cNvSpPr/>
          <p:nvPr/>
        </p:nvSpPr>
        <p:spPr>
          <a:xfrm>
            <a:off x="5219640" y="3860640"/>
            <a:ext cx="3456000" cy="1513080"/>
          </a:xfrm>
          <a:prstGeom prst="wedgeRoundRectCallout">
            <a:avLst>
              <a:gd name="adj1" fmla="val -120254"/>
              <a:gd name="adj2" fmla="val -7645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zit je geluk eigenlijk i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dat een pronken met een mooi lichaam? Eindeloos vissen naar complimentje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6"/>
          <p:cNvSpPr/>
          <p:nvPr/>
        </p:nvSpPr>
        <p:spPr>
          <a:xfrm>
            <a:off x="-6480" y="4815000"/>
            <a:ext cx="1265400" cy="2043000"/>
          </a:xfrm>
          <a:prstGeom prst="wedgeRoundRectCallout">
            <a:avLst>
              <a:gd name="adj1" fmla="val 49662"/>
              <a:gd name="adj2" fmla="val -10686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om eigenlijk? Is dat allemaal het risico waar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7"/>
          <p:cNvSpPr/>
          <p:nvPr/>
        </p:nvSpPr>
        <p:spPr>
          <a:xfrm>
            <a:off x="5940360" y="6119640"/>
            <a:ext cx="302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Schoonheid en schoonheidsideal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Afbeelding 1" descr=""/>
          <p:cNvPicPr/>
          <p:nvPr/>
        </p:nvPicPr>
        <p:blipFill>
          <a:blip r:embed="rId3"/>
          <a:stretch/>
        </p:blipFill>
        <p:spPr>
          <a:xfrm>
            <a:off x="3692520" y="0"/>
            <a:ext cx="54514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lexmandossian.com/wp-content/uploads/2009/04/alex-point-up1.jpg"/>
          <p:cNvPicPr/>
          <p:nvPr/>
        </p:nvPicPr>
        <p:blipFill>
          <a:blip r:embed="rId1"/>
          <a:srcRect l="0" t="0" r="0" b="9403"/>
          <a:stretch/>
        </p:blipFill>
        <p:spPr>
          <a:xfrm>
            <a:off x="4500720" y="1751040"/>
            <a:ext cx="2663640" cy="5106960"/>
          </a:xfrm>
          <a:prstGeom prst="rect">
            <a:avLst/>
          </a:prstGeom>
          <a:ln w="0">
            <a:noFill/>
          </a:ln>
        </p:spPr>
      </p:pic>
      <p:sp>
        <p:nvSpPr>
          <p:cNvPr id="61" name="Toelichting met afgeronde rechthoek 4"/>
          <p:cNvSpPr/>
          <p:nvPr/>
        </p:nvSpPr>
        <p:spPr>
          <a:xfrm>
            <a:off x="3708360" y="0"/>
            <a:ext cx="5184720" cy="1125360"/>
          </a:xfrm>
          <a:prstGeom prst="wedgeRoundRectCallout">
            <a:avLst>
              <a:gd name="adj1" fmla="val -2870"/>
              <a:gd name="adj2" fmla="val 14800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bben we soms oogkleppen op? Net zoals paarden? Dan zien we een heleboel gewoon niet. Eigenlijk kijken we te veel naar het uiterlij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oelichting met afgeronde rechthoek 5"/>
          <p:cNvSpPr/>
          <p:nvPr/>
        </p:nvSpPr>
        <p:spPr>
          <a:xfrm>
            <a:off x="7237440" y="4402080"/>
            <a:ext cx="1728720" cy="1079640"/>
          </a:xfrm>
          <a:prstGeom prst="wedgeRoundRectCallout">
            <a:avLst>
              <a:gd name="adj1" fmla="val -75222"/>
              <a:gd name="adj2" fmla="val -2300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j maakte een vergelij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1763640" y="3933720"/>
            <a:ext cx="2664000" cy="2016360"/>
          </a:xfrm>
          <a:prstGeom prst="wedgeRoundRectCallout">
            <a:avLst>
              <a:gd name="adj1" fmla="val 92791"/>
              <a:gd name="adj2" fmla="val -6667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et is alsof we in een grot wonen en daardoor niet goed weten hoe de wereld echt in elkaar z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erger: we willen het niet we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kstvak 7"/>
          <p:cNvSpPr/>
          <p:nvPr/>
        </p:nvSpPr>
        <p:spPr>
          <a:xfrm>
            <a:off x="287280" y="6211800"/>
            <a:ext cx="2952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: Plato en de parabel van de gr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1" descr=""/>
          <p:cNvPicPr/>
          <p:nvPr/>
        </p:nvPicPr>
        <p:blipFill>
          <a:blip r:embed="rId2"/>
          <a:stretch/>
        </p:blipFill>
        <p:spPr>
          <a:xfrm>
            <a:off x="-34920" y="0"/>
            <a:ext cx="34545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"/>
          <p:cNvPicPr/>
          <p:nvPr/>
        </p:nvPicPr>
        <p:blipFill>
          <a:blip r:embed="rId1"/>
          <a:stretch/>
        </p:blipFill>
        <p:spPr>
          <a:xfrm>
            <a:off x="3603600" y="23760"/>
            <a:ext cx="5545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oelichting met afgeronde rechthoek 2"/>
          <p:cNvSpPr/>
          <p:nvPr/>
        </p:nvSpPr>
        <p:spPr>
          <a:xfrm>
            <a:off x="2216160" y="185760"/>
            <a:ext cx="3543120" cy="503280"/>
          </a:xfrm>
          <a:prstGeom prst="wedgeRoundRectCallout">
            <a:avLst>
              <a:gd name="adj1" fmla="val 66907"/>
              <a:gd name="adj2" fmla="val 16009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Ik zie er wat vaal u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oelichting met afgeronde rechthoek 3"/>
          <p:cNvSpPr/>
          <p:nvPr/>
        </p:nvSpPr>
        <p:spPr>
          <a:xfrm>
            <a:off x="237960" y="866880"/>
            <a:ext cx="3830760" cy="428400"/>
          </a:xfrm>
          <a:prstGeom prst="wedgeRoundRectCallout">
            <a:avLst>
              <a:gd name="adj1" fmla="val 93481"/>
              <a:gd name="adj2" fmla="val 9373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ook uit de Griekse tij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oelichting met afgeronde rechthoek 4"/>
          <p:cNvSpPr/>
          <p:nvPr/>
        </p:nvSpPr>
        <p:spPr>
          <a:xfrm>
            <a:off x="101520" y="1411200"/>
            <a:ext cx="3384720" cy="638280"/>
          </a:xfrm>
          <a:prstGeom prst="wedgeRoundRectCallout">
            <a:avLst>
              <a:gd name="adj1" fmla="val 78356"/>
              <a:gd name="adj2" fmla="val 5475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ze hebben toch een moderne video gemaak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5"/>
          <p:cNvSpPr/>
          <p:nvPr/>
        </p:nvSpPr>
        <p:spPr>
          <a:xfrm>
            <a:off x="46080" y="2938320"/>
            <a:ext cx="3240000" cy="613080"/>
          </a:xfrm>
          <a:prstGeom prst="wedgeRoundRectCallout">
            <a:avLst>
              <a:gd name="adj1" fmla="val 125125"/>
              <a:gd name="adj2" fmla="val -4124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vind dat we meer moeten genieten van ons lev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6"/>
          <p:cNvSpPr/>
          <p:nvPr/>
        </p:nvSpPr>
        <p:spPr>
          <a:xfrm>
            <a:off x="0" y="3943440"/>
            <a:ext cx="3603600" cy="718920"/>
          </a:xfrm>
          <a:prstGeom prst="wedgeRoundRectCallout">
            <a:avLst>
              <a:gd name="adj1" fmla="val 103847"/>
              <a:gd name="adj2" fmla="val -15448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met genieten heb ik het niet over korte termijn pleziertj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7"/>
          <p:cNvSpPr/>
          <p:nvPr/>
        </p:nvSpPr>
        <p:spPr>
          <a:xfrm>
            <a:off x="128520" y="5661000"/>
            <a:ext cx="4145040" cy="1062000"/>
          </a:xfrm>
          <a:prstGeom prst="wedgeRoundRectCallout">
            <a:avLst>
              <a:gd name="adj1" fmla="val 93537"/>
              <a:gd name="adj2" fmla="val -2614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Daarom vind ik echte vriendschappen en goede gesprekken heel belangrijk. En het gaat zeker niet om het hebben van veel gel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8"/>
          <p:cNvSpPr/>
          <p:nvPr/>
        </p:nvSpPr>
        <p:spPr>
          <a:xfrm>
            <a:off x="5148360" y="5950080"/>
            <a:ext cx="3759120" cy="907920"/>
          </a:xfrm>
          <a:prstGeom prst="wedgeRoundRectCallout">
            <a:avLst>
              <a:gd name="adj1" fmla="val 6120"/>
              <a:gd name="adj2" fmla="val -33597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een positief mensbeeld over  degene die zichzelf traint in het lange termijn gelu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9"/>
          <p:cNvSpPr/>
          <p:nvPr/>
        </p:nvSpPr>
        <p:spPr>
          <a:xfrm>
            <a:off x="30240" y="114480"/>
            <a:ext cx="1657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video over Epicu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8-21T14:01:58Z</dcterms:modified>
  <cp:revision>348</cp:revision>
  <dc:subject/>
  <dc:title>Dia 1</dc:title>
</cp:coreProperties>
</file>