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E7A-AF8B-4007-AD4F-2A3B8E40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7353-9256-4F9F-9417-32CD5D60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E97-0836-4967-A8B1-F39D3818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549E-2618-4A7B-9C7F-547C4DB6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1F6-6F7D-4B22-BFFA-FF28C10B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287-95F6-4C1E-8F81-5259C6AF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608-28FF-453E-87D3-FFF34C1F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F025-48BE-418D-97BA-77371680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EC4-9EF8-4E95-A6C3-2B791381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FCC-399B-47B5-9FC0-01F2A749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5B37-9770-40FC-803C-083EBA6A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FBF-2351-4365-B8D4-58268132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6300-2FEE-4032-94D8-439428BC8D2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8351"/>
              <a:gd name="adj2" fmla="val 27023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je in de spiegel kijkt ze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81379"/>
              <a:gd name="adj2" fmla="val 11186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t je tong uitste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niet eindeloos poseren voor de goede fo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4437000"/>
            <a:ext cx="3960720" cy="147024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het natuurlijk uiterlijk of innerlijk zien. Voor het uiterlijk maak je selfies, maar maakt het je innerlijk er zekerder op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vid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86064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1022400" y="2027160"/>
            <a:ext cx="252108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916360" cy="1289160"/>
          </a:xfrm>
          <a:prstGeom prst="wedgeRoundRectCallout">
            <a:avLst>
              <a:gd name="adj1" fmla="val 7874"/>
              <a:gd name="adj2" fmla="val 11872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mige oudere vrouwen laten hun lichaam verbouw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3456000" cy="1513080"/>
          </a:xfrm>
          <a:prstGeom prst="wedgeRoundRectCallout">
            <a:avLst>
              <a:gd name="adj1" fmla="val -120254"/>
              <a:gd name="adj2" fmla="val -7645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zit je geluk eigenlijk i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at een pronken met een mooi lichaam? Eindeloos vissen naar complimentj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-6480" y="4815000"/>
            <a:ext cx="1265400" cy="2043000"/>
          </a:xfrm>
          <a:prstGeom prst="wedgeRoundRectCallout">
            <a:avLst>
              <a:gd name="adj1" fmla="val 49662"/>
              <a:gd name="adj2" fmla="val -10686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om eigenlijk? Is dat allemaal het risico waar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Schoonheid en schoonheidsideal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1" descr=""/>
          <p:cNvPicPr/>
          <p:nvPr/>
        </p:nvPicPr>
        <p:blipFill>
          <a:blip r:embed="rId3"/>
          <a:stretch/>
        </p:blipFill>
        <p:spPr>
          <a:xfrm>
            <a:off x="3692520" y="0"/>
            <a:ext cx="54514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12536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bben we soms oogkleppen op? Net zoals paarden? Dan zien we een heleboel gewoon niet. Eigenlijk kijken we te veel naar het uiterlij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8"/>
          <p:cNvSpPr/>
          <p:nvPr/>
        </p:nvSpPr>
        <p:spPr>
          <a:xfrm>
            <a:off x="5148360" y="5950080"/>
            <a:ext cx="37591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8-21T14:01:58Z</dcterms:modified>
  <cp:revision>348</cp:revision>
  <dc:subject/>
  <dc:title>Dia 1</dc:title>
</cp:coreProperties>
</file>